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B0BE4-5A77-4E5D-A58D-D311AD78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14A59-5A97-4044-9A38-A4764619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64900-897E-49C3-937B-59B5C1BC8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B7BC-D57F-4118-A416-C92A82DCA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CD9ED-DEC6-41E2-B3E5-6DA6EA8BD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18CDC-A3AC-43E5-9BE7-6DED429F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96009-81CA-4BFE-908C-858198B55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6AE1C-A3AE-4068-9F7E-F68B3D0FE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06FB2-463B-4E4A-97A6-E9C762FEF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6C508-D01D-485F-AD93-A351B1AB9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673E9-FE6A-4D23-A629-047A7CC9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308B-AAB8-48BF-85C5-DB8CA5336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8F7D0-A1B8-4015-A1EB-DA38D460A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DCFEC-F0F4-4075-B7C3-B9124014C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D023F-D4D2-4A17-8D11-E993010FB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0789E-B8B2-4677-A789-15D10086F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1C297-43EF-48ED-A5AD-F2184BB3F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8523-92FE-4272-B888-8DFA652EF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D3CE-9F2D-4FBA-9C10-967284522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91F1-EFE5-449B-BF3A-BFBBBB154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3CBB-D242-4DC5-9489-CDC780FA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1DB9-865F-45F9-A4D3-25AA93A12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141E-D765-457D-A818-EC6FED933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EFB4-2A3D-456A-815C-4ACB67038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C17B-91FF-4A5E-989F-D899E6A74CAC}"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CA11-AE9A-4CD9-AD05-6A56EAAD680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NEUROMUSCULAR BLOCKADE</a:t>
            </a:r>
            <a:br>
              <a:rPr sz="4000"/>
            </a:br>
            <a:r>
              <a:rPr b="0" lang="en-US" sz="4000" spc="-1" strike="noStrike">
                <a:solidFill>
                  <a:srgbClr val="004c2b"/>
                </a:solidFill>
                <a:latin typeface="Times New Roman"/>
              </a:rPr>
              <a:t>IN THE ICU</a:t>
            </a:r>
            <a:endParaRPr b="0" lang="en-US" sz="4000" spc="-1" strike="noStrike">
              <a:solidFill>
                <a:srgbClr val="004c2b"/>
              </a:solidFill>
              <a:latin typeface="Times New Roman"/>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CU-Sheba medical center</a:t>
            </a:r>
            <a:endParaRPr b="0" lang="en-US" sz="3200" spc="-1" strike="noStrike">
              <a:solidFill>
                <a:srgbClr val="333333"/>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Dr. Cadri</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OCURONIUM</a:t>
            </a:r>
            <a:endParaRPr b="0" lang="en-US" sz="4400" spc="-1" strike="noStrike">
              <a:solidFill>
                <a:srgbClr val="004c2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Rapid onset.</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Slightly vagolytic at high do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Biliary elimin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10%-30% removed by the kidney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ncreased duration with liver or renal disea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xpensiv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APACURONIUM</a:t>
            </a:r>
            <a:endParaRPr b="0" lang="en-US" sz="4400" spc="-1" strike="noStrike">
              <a:solidFill>
                <a:srgbClr val="004c2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Fast acting.</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oderate vagolytic properties and histamine relea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xcreted in the bile and urin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xpensiv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XACURIUM</a:t>
            </a:r>
            <a:endParaRPr b="0" lang="en-US" sz="4400" spc="-1" strike="noStrike">
              <a:solidFill>
                <a:srgbClr val="004c2b"/>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No vagolytic or histamin releasing propertie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Renal clearanc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rolonged with renal failur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TRACURIUM</a:t>
            </a:r>
            <a:endParaRPr b="0" lang="en-US" sz="4400" spc="-1" strike="noStrike">
              <a:solidFill>
                <a:srgbClr val="004c2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t normal temperature and PH is degraded in the bloodstream by Hofmann elimination.</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 by product of Hofmann elimination is laudanosine excreted in the urine and bile-central nervous excitation.</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Histamine release at dose greater than 0.5mg/kg that are injected rapidl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ISATRACURIUM</a:t>
            </a:r>
            <a:endParaRPr b="0" lang="en-US" sz="4400" spc="-1" strike="noStrike">
              <a:solidFill>
                <a:srgbClr val="004c2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nfrequent histamine releasing propertie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liminated primarily by Hofmann elimin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Fast recovery after continuous infus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xpensiv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IVACURIUM</a:t>
            </a:r>
            <a:endParaRPr b="0" lang="en-US" sz="4400" spc="-1" strike="noStrike">
              <a:solidFill>
                <a:srgbClr val="004c2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hort half-life in the plasma due to extensive hydrolysis by plasma cholinesteras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sociated with histamine release particularly with rapid administr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ensiv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DVERSE EFFECTS</a:t>
            </a:r>
            <a:endParaRPr b="0" lang="en-US" sz="4400" spc="-1" strike="noStrike">
              <a:solidFill>
                <a:srgbClr val="004c2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omplications of prolonged bed rest.</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Muscle wasting and contractur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Decubitus ulcer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Deep venous thrombosis-pulmonary emboli.</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Decreased lymphatic flow.</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Nerve compression syndromes.</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Corneal drying and ulceration.</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mpaired ability to assess the patient.</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Awake paralyzed patien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Pai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Seizur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Acute neurologic  event-CVA.</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Anxiet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Reduction in protective reflexes and respiration.</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Asphyxiation from ventilator disconnection or accident extub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Retained secretions,atelectasis and pneumonia.</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Hypoventila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loss of protective reflexs such as cough.</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dverse effects of specific NMBA.</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Hypertension and tachycardia.</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histamine release resulting in hypotension ,bronchospasm and bradycardia.</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dication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euromuscular blocking agents and mode of action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dverse effect.</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itoring of neuromuscular blockad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rolonged paralysis and weaknes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Persistent neuromuscular blockad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Acute quadriplegic myopathy.</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PERSISTENT NEUROMUSCULAR BLOCKADE</a:t>
            </a:r>
            <a:endParaRPr b="0" lang="en-US" sz="4000" spc="-1" strike="noStrike">
              <a:solidFill>
                <a:srgbClr val="004c2b"/>
              </a:solidFill>
              <a:latin typeface="Times New Roman"/>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aused by accumulation of the NMBA or its active metabolit in the setting of renal failure or other metabolic conditions(electrolyte abnormalities,acidosis,hypothermia and underlying muscular disorders) or drugs that potentiate  drug effect(aminoglycosides,litium,cyclosporine and quinidine).</a:t>
            </a:r>
            <a:endParaRPr b="0" lang="en-US" sz="3200" spc="-1" strike="noStrike">
              <a:solidFill>
                <a:srgbClr val="333333"/>
              </a:solidFill>
              <a:latin typeface="Times New Roman"/>
            </a:endParaRPr>
          </a:p>
          <a:p>
            <a:pPr marL="335880" indent="-3358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Occur with aminosteroids based drugs.</a:t>
            </a:r>
            <a:endParaRPr b="0" lang="en-US" sz="3200" spc="-1" strike="noStrike">
              <a:solidFill>
                <a:srgbClr val="333333"/>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UTE QUADRIPLEGIC BLOCKADE</a:t>
            </a:r>
            <a:endParaRPr b="0" lang="en-US" sz="4400" spc="-1" strike="noStrike">
              <a:solidFill>
                <a:srgbClr val="004c2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First described in 1977 following treatment with NMBA and corticosteroids during mechanical ventilation for status ashmaticus</a:t>
            </a:r>
            <a:endParaRPr b="0" lang="en-US" sz="3200" spc="-1" strike="noStrike">
              <a:solidFill>
                <a:srgbClr val="333333"/>
              </a:solidFill>
              <a:latin typeface="Times New Roman"/>
            </a:endParaRPr>
          </a:p>
          <a:p>
            <a:pPr marL="291600" indent="-2916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Symmetric weakness of proximal and distal extremity muscles and trunk muscles with intact cranial nerve function.</a:t>
            </a:r>
            <a:endParaRPr b="0" lang="en-US" sz="3200" spc="-1" strike="noStrike">
              <a:solidFill>
                <a:srgbClr val="333333"/>
              </a:solidFill>
              <a:latin typeface="Times New Roman"/>
            </a:endParaRPr>
          </a:p>
          <a:p>
            <a:pPr marL="291600" indent="-2916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linically apparent as neuromuscular junction becomes normal.</a:t>
            </a:r>
            <a:endParaRPr b="0" lang="en-US" sz="3200" spc="-1" strike="noStrike">
              <a:solidFill>
                <a:srgbClr val="333333"/>
              </a:solidFill>
              <a:latin typeface="Times New Roman"/>
            </a:endParaRPr>
          </a:p>
          <a:p>
            <a:pPr marL="291600" indent="-2916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ncreased blood levels of CK.</a:t>
            </a:r>
            <a:endParaRPr b="0" lang="en-US" sz="3200" spc="-1" strike="noStrike">
              <a:solidFill>
                <a:srgbClr val="333333"/>
              </a:solidFill>
              <a:latin typeface="Times New Roman"/>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an be due either to the NMBA itself causing nerve,muscle,or neuromuscular injury or to concurrently administered corticosteroid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an occur with both families of NMBA-aminosteroids or benzylisoquinolinium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ay last for weeks to months.</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NEUROMUSCULAR BLOCKADE MONITORING</a:t>
            </a:r>
            <a:endParaRPr b="0" lang="en-US" sz="4000" spc="-1" strike="noStrike">
              <a:solidFill>
                <a:srgbClr val="004c2b"/>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sessment of measures intended to prevent complications of long-term muscle relax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etermination of adequate concomitant analgesia and sedation.</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nical evaluation to confirm that clinical end-point of NMB are being met.</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onfirm that excessive NMBA is not administered using peripheral nerve stimulation -TOF.</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easurement of the muscle enzyme creatine kinase(CK) in blood-early detection of acute necrotizing myopath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OF</a:t>
            </a:r>
            <a:endParaRPr b="0" lang="en-US" sz="4400" spc="-1" strike="noStrike">
              <a:solidFill>
                <a:srgbClr val="004c2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stimate the extent of NMB by peripheral nerve stimulation at the ulnar or facial nerve</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No response to any stimuli =blockage of &gt;90% of recepto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ontraction with all four stimuli=blockage of &lt;50%-75% of receptor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Titration of NMB so that one or two twitches are present is commonplace .</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NM_blockade0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NM_blockade0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RECOMMENDATIONS</a:t>
            </a:r>
            <a:endParaRPr b="0" lang="en-US" sz="4000" spc="-1" strike="noStrike">
              <a:solidFill>
                <a:srgbClr val="004c2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Use NMBA only after optimizing other therapy such sedetion and analgesia.</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Caution when using NMBA concomitantly with systemic corticosteroids.</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nticipate and prevent potential complications of NMB.</a:t>
            </a:r>
            <a:endParaRPr b="0" lang="en-US" sz="3200" spc="-1" strike="noStrike">
              <a:solidFill>
                <a:srgbClr val="333333"/>
              </a:solidFill>
              <a:latin typeface="Times New Roman"/>
            </a:endParaRPr>
          </a:p>
          <a:p>
            <a:pPr marL="325800" indent="-32580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stablish the indication and clinical end point and reevalate at least dail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DICATIONS</a:t>
            </a:r>
            <a:endParaRPr b="0" lang="en-US" sz="4400" spc="-1" strike="noStrike">
              <a:solidFill>
                <a:srgbClr val="004c2b"/>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333333"/>
                </a:solidFill>
                <a:latin typeface="Times New Roman"/>
              </a:rPr>
              <a:t>Facilitate mechanical ventilation.</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333333"/>
                </a:solidFill>
                <a:latin typeface="Times New Roman"/>
              </a:rPr>
              <a:t>Assist in control of increased ICP.</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333333"/>
                </a:solidFill>
                <a:latin typeface="Times New Roman"/>
              </a:rPr>
              <a:t>Reduce oxygen consumption.</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333333"/>
                </a:solidFill>
                <a:latin typeface="Times New Roman"/>
              </a:rPr>
              <a:t>Manage status epilepticus.</a:t>
            </a:r>
            <a:endParaRPr b="0" lang="en-US" sz="3600" spc="-1" strike="noStrike">
              <a:solidFill>
                <a:srgbClr val="333333"/>
              </a:solidFill>
              <a:latin typeface="Times New Roman"/>
            </a:endParaRPr>
          </a:p>
          <a:p>
            <a:pPr marL="343080" indent="-343080">
              <a:spcBef>
                <a:spcPts val="9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333333"/>
                </a:solidFill>
                <a:latin typeface="Times New Roman"/>
              </a:rPr>
              <a:t>Prevent muscle spasm.</a:t>
            </a: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38" name="PlaceHolder 2"/>
          <p:cNvSpPr>
            <a:spLocks noGrp="1"/>
          </p:cNvSpPr>
          <p:nvPr>
            <p:ph/>
          </p:nvPr>
        </p:nvSpPr>
        <p:spPr>
          <a:xfrm>
            <a:off x="762120" y="0"/>
            <a:ext cx="7772400" cy="739152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Select the best NBMA based upon patient characteristics and cost .</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Poor tolerance to tachycardia or hypertension-avoid pacuronium.</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Renal or hepatic dysfunction -avoid pacuronium and vecuronium and select atracurium.</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dequate sedative and analgesic medications.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once or twice daily dosage redution or cessation in NMBA to determining whether NMBA is needed and to perform physical and neurologic examination.</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40"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inimize duration of NMBA therapy,avoid exceeding 48h if possib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void use of medication that affect NMBA actions when possibl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Adjust NMBA dosage based upon achieving clinical end point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TOF every 4-8h to avoid overdosage by requiring TOF-1twitc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easure serum CK daily if corticosteroids are administered along with NMBA-aggressively attempt to discontinue NMBA if CK increases from baselin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NCLUSION</a:t>
            </a:r>
            <a:endParaRPr b="0" lang="en-US" sz="4400" spc="-1" strike="noStrike">
              <a:solidFill>
                <a:srgbClr val="004c2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s a reflection of the many potential complications, NMBA use only when it is absolutely necessary,after confirming the clinical indication and optimizing other therapy such as sedatives and analgesic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euromuscular junction</a:t>
            </a:r>
            <a:endParaRPr b="0" lang="en-US" sz="4400" spc="-1" strike="noStrike">
              <a:solidFill>
                <a:srgbClr val="004c2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rejunctional motor nerve ending-acetylcholin storage vesicle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ostjunctional membrane-acetylcholin receptor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Synaptic cleft-acetylcholinesterase enzy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neuromuscular-junction"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img024" descr=""/>
          <p:cNvPicPr/>
          <p:nvPr/>
        </p:nvPicPr>
        <p:blipFill>
          <a:blip r:embed="rId2"/>
          <a:stretch/>
        </p:blipFill>
        <p:spPr>
          <a:xfrm>
            <a:off x="4680" y="4680"/>
            <a:ext cx="9132840" cy="68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848720" cy="17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EUROMUSCULAR BLOCKING AGENTS</a:t>
            </a:r>
            <a:endParaRPr b="0" lang="en-US" sz="4400" spc="-1" strike="noStrike">
              <a:solidFill>
                <a:srgbClr val="004c2b"/>
              </a:solidFill>
              <a:latin typeface="Times New Roman"/>
            </a:endParaRPr>
          </a:p>
        </p:txBody>
      </p:sp>
      <p:sp>
        <p:nvSpPr>
          <p:cNvPr id="94"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312120" indent="-31212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ode of action</a:t>
            </a:r>
            <a:endParaRPr b="0" lang="en-US" sz="32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Depolarizing</a:t>
            </a:r>
            <a:endParaRPr b="0" lang="en-US" sz="2800" spc="-1" strike="noStrike">
              <a:solidFill>
                <a:srgbClr val="333333"/>
              </a:solidFill>
              <a:latin typeface="Times New Roman"/>
            </a:endParaRPr>
          </a:p>
          <a:p>
            <a:pPr lvl="2" marL="1040040" indent="-20772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33"/>
                </a:solidFill>
                <a:latin typeface="Times New Roman"/>
              </a:rPr>
              <a:t>Succinylcholine</a:t>
            </a:r>
            <a:endParaRPr b="0" lang="en-US" sz="2400" spc="-1" strike="noStrike">
              <a:solidFill>
                <a:srgbClr val="333333"/>
              </a:solidFill>
              <a:latin typeface="Times New Roman"/>
            </a:endParaRPr>
          </a:p>
          <a:p>
            <a:pPr lvl="1" marL="676080" indent="-25992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333333"/>
                </a:solidFill>
                <a:latin typeface="Times New Roman"/>
              </a:rPr>
              <a:t>Nondepolarizing</a:t>
            </a:r>
            <a:endParaRPr b="0" lang="en-US" sz="2800" spc="-1" strike="noStrike">
              <a:solidFill>
                <a:srgbClr val="333333"/>
              </a:solidFill>
              <a:latin typeface="Times New Roman"/>
            </a:endParaRPr>
          </a:p>
          <a:p>
            <a:pPr lvl="2" marL="1040040" indent="-20772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33"/>
                </a:solidFill>
                <a:latin typeface="Times New Roman"/>
              </a:rPr>
              <a:t>Aminosteroids</a:t>
            </a:r>
            <a:endParaRPr b="0" lang="en-US" sz="24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Long acting-Pancuronium</a:t>
            </a:r>
            <a:endParaRPr b="0" lang="en-US" sz="20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Intermediate acting-Vecuronium,Rocuronium</a:t>
            </a:r>
            <a:endParaRPr b="0" lang="en-US" sz="20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Short acting-Rapacuronium</a:t>
            </a:r>
            <a:endParaRPr b="0" lang="en-US" sz="2000" spc="-1" strike="noStrike">
              <a:solidFill>
                <a:srgbClr val="333333"/>
              </a:solidFill>
              <a:latin typeface="Times New Roman"/>
            </a:endParaRPr>
          </a:p>
          <a:p>
            <a:pPr lvl="2" marL="1040040" indent="-207720">
              <a:spcBef>
                <a:spcPts val="601"/>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33"/>
                </a:solidFill>
                <a:latin typeface="Times New Roman"/>
              </a:rPr>
              <a:t>Benzylisoquinoliniums</a:t>
            </a:r>
            <a:endParaRPr b="0" lang="en-US" sz="24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Long acting-Doxacurium</a:t>
            </a:r>
            <a:endParaRPr b="0" lang="en-US" sz="20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Intermediate acting-Atracurium,Cisatracurium</a:t>
            </a:r>
            <a:endParaRPr b="0" lang="en-US" sz="2000" spc="-1" strike="noStrike">
              <a:solidFill>
                <a:srgbClr val="333333"/>
              </a:solidFill>
              <a:latin typeface="Times New Roman"/>
            </a:endParaRPr>
          </a:p>
          <a:p>
            <a:pPr lvl="3" marL="1455840" indent="-207720">
              <a:spcBef>
                <a:spcPts val="499"/>
              </a:spcBef>
              <a:buClr>
                <a:srgbClr val="3333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33333"/>
                </a:solidFill>
                <a:latin typeface="Times New Roman"/>
              </a:rPr>
              <a:t>Short acting-Mivacurium</a:t>
            </a:r>
            <a:endParaRPr b="0" lang="en-US" sz="2000" spc="-1" strike="noStrike">
              <a:solidFill>
                <a:srgbClr val="333333"/>
              </a:solidFill>
              <a:latin typeface="Times New Roman"/>
            </a:endParaRPr>
          </a:p>
          <a:p>
            <a:pPr lvl="3" marL="1455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3" marL="1455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ANCURONIUM</a:t>
            </a:r>
            <a:endParaRPr b="0" lang="en-US" sz="4400" spc="-1" strike="noStrike">
              <a:solidFill>
                <a:srgbClr val="004c2b"/>
              </a:solidFill>
              <a:latin typeface="Times New Roman"/>
            </a:endParaRPr>
          </a:p>
        </p:txBody>
      </p:sp>
      <p:sp>
        <p:nvSpPr>
          <p:cNvPr id="9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8000"/>
          </a:bodyPr>
          <a:p>
            <a:pPr marL="301680" indent="-3016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Inexpensive.</a:t>
            </a:r>
            <a:endParaRPr b="0" lang="en-US" sz="3200" spc="-1" strike="noStrike">
              <a:solidFill>
                <a:srgbClr val="333333"/>
              </a:solidFill>
              <a:latin typeface="Times New Roman"/>
            </a:endParaRPr>
          </a:p>
          <a:p>
            <a:pPr marL="301680" indent="-3016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Vagolytic and sympathomimetic properties-tachycardia and increased blood pressure.</a:t>
            </a:r>
            <a:endParaRPr b="0" lang="en-US" sz="3200" spc="-1" strike="noStrike">
              <a:solidFill>
                <a:srgbClr val="333333"/>
              </a:solidFill>
              <a:latin typeface="Times New Roman"/>
            </a:endParaRPr>
          </a:p>
          <a:p>
            <a:pPr marL="301680" indent="-3016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Excreted largely unchanged in the urine-60%-80%.</a:t>
            </a:r>
            <a:endParaRPr b="0" lang="en-US" sz="3200" spc="-1" strike="noStrike">
              <a:solidFill>
                <a:srgbClr val="333333"/>
              </a:solidFill>
              <a:latin typeface="Times New Roman"/>
            </a:endParaRPr>
          </a:p>
          <a:p>
            <a:pPr marL="301680" indent="-3016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etabolized by the liver to 3-hydroxypancuronium.</a:t>
            </a:r>
            <a:endParaRPr b="0" lang="en-US" sz="3200" spc="-1" strike="noStrike">
              <a:solidFill>
                <a:srgbClr val="333333"/>
              </a:solidFill>
              <a:latin typeface="Times New Roman"/>
            </a:endParaRPr>
          </a:p>
          <a:p>
            <a:pPr marL="301680" indent="-3016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rolonged effects in renal failure,liver disease and elderly.</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ECURONIUM</a:t>
            </a:r>
            <a:endParaRPr b="0" lang="en-US" sz="4400" spc="-1" strike="noStrike">
              <a:solidFill>
                <a:srgbClr val="004c2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Minimal cardiovascular effects.</a:t>
            </a:r>
            <a:endParaRPr b="0" lang="en-US" sz="3200" spc="-1" strike="noStrike">
              <a:solidFill>
                <a:srgbClr val="333333"/>
              </a:solidFill>
              <a:latin typeface="Times New Roman"/>
            </a:endParaRPr>
          </a:p>
          <a:p>
            <a:pPr marL="329040" indent="-3290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Liver metabolism produce three compounds-eliminated by the kidneys.</a:t>
            </a:r>
            <a:endParaRPr b="0" lang="en-US" sz="3200" spc="-1" strike="noStrike">
              <a:solidFill>
                <a:srgbClr val="333333"/>
              </a:solidFill>
              <a:latin typeface="Times New Roman"/>
            </a:endParaRPr>
          </a:p>
          <a:p>
            <a:pPr marL="329040" indent="-3290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40%-80% of vecuronium excreted in th bile.</a:t>
            </a:r>
            <a:endParaRPr b="0" lang="en-US" sz="3200" spc="-1" strike="noStrike">
              <a:solidFill>
                <a:srgbClr val="333333"/>
              </a:solidFill>
              <a:latin typeface="Times New Roman"/>
            </a:endParaRPr>
          </a:p>
          <a:p>
            <a:pPr marL="329040" indent="-3290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Renal excretion accounts for 20%-30%.</a:t>
            </a:r>
            <a:endParaRPr b="0" lang="en-US" sz="3200" spc="-1" strike="noStrike">
              <a:solidFill>
                <a:srgbClr val="333333"/>
              </a:solidFill>
              <a:latin typeface="Times New Roman"/>
            </a:endParaRPr>
          </a:p>
          <a:p>
            <a:pPr marL="329040" indent="-32904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333333"/>
                </a:solidFill>
                <a:latin typeface="Times New Roman"/>
              </a:rPr>
              <a:t>Prolonged duration with liver and renal dysfunction.</a:t>
            </a:r>
            <a:endParaRPr b="0" lang="en-US" sz="3200" spc="-1" strike="noStrike">
              <a:solidFill>
                <a:srgbClr val="333333"/>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1T14:46:27Z</dcterms:created>
  <dc:creator>ד"ר קדר</dc:creator>
  <dc:description/>
  <dc:language>en-US</dc:language>
  <cp:lastModifiedBy>ד"ר קדר</cp:lastModifiedBy>
  <dcterms:modified xsi:type="dcterms:W3CDTF">2002-04-02T15:30:00Z</dcterms:modified>
  <cp:revision>66</cp:revision>
  <dc:subject/>
  <dc:title>NEUROMUSCULAR BLOCKADE IN THE ICU</dc:title>
</cp:coreProperties>
</file>