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0.wmf" ContentType="image/x-wmf"/>
  <Override PartName="/ppt/media/image1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806C2-8B5E-4CB8-936C-B22FCF667F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adults needs more than 20 ppm for attaining maximum reduction in PVR (even 50-60 pp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in Neonatal pulmonary hypertension is the only FDA-aproved appli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 Neonatal pulmonary hypertension is the only FDA-aproved application. In PPN hypoxemia results from left-to-right shunting via PFO or P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 in Neonatal pulmonary hypertension is the only FDA-aproved application. In PPN hypoxemia results from left-to-right shunting via PFO or P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sons for non-respondin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) Intact HPV response (Gust, AJRCCM 1999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) Decreased NO diffusion d/t thickened alveolo-capillary membrane(Shah, CCM 199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) Increased LPS-induced PDE activity (Holzmann, AJP 199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ntan physiology - CO is limited by increased pulmonary HT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air of L-to-R shunt abruptly decreases pulmonary blood flow, hence decreasing reflexively NO relae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ssel - Randomized double blind study on 40 pediatric patients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the comparative study with milrinone NO in 40 ppm had greater activity than 20 pp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eoperative pulmonary hypertension is a major  risk factor   for intraoperative and postoperative death - the new heart is not usual to high pa pressur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hibition of platelet aggregation - possible bleeding (downside), but also poosible therapy to limit pulmonary vascular obstruction, or even in seps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ect on reperfusion injury both in lung transplantation and on ischemic gu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e problem with L-NMMA and L-NAME - nonselective inhibition of NOS - also e-NOS: increases PVR and impairs tissue perfus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ucocorticoids are selective iNOS inhib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 evidence of increased oxygenation in COP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ed for daily checking of Met Hb. MetHb is incapable of binding oxygen, and shifts the dissociation curve to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nical relevance of effect on bleeding time (via effect on platelets) not show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roxynitrite is less toxic than superoxide - is it a scavenging mechanism 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000 ppm is also NO concentration in cigarette smoke- this is  asafety factor in case of a lea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longer contact time increase NO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David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David"/>
              </a:rPr>
              <a:t> but improves mix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cNOS - neuronal (brain, pain in spinal cord, NANC in AN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-endothelial - vasodilation. Activity increased by Ach, Bradykin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OS - induced by cytokines in leucocytes, hepatocytes, vascular smooth-muscle. At low concentrations promotes inflammation and wound heal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activation by Hb may account to vasospasm in subarachnoid hemmorh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b - Fe as +++ instead of ++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itrosoHb has less afinity to oxygen  - more release of oxygen in the tissu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activates guanylate cyclas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MP is degraded by phospodiesterase I and V. Sildenafil is a selective phosphodiesterase V inhibi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ylane Blue inhibits guanylate cycla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ortance of keeping on coronary perfusion pressure- RV get its blood supply in systo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ystemic vasodilators - worsen oxygenation - mitigate HP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50A7-297A-41D8-B27A-8B618A67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7AC0-30BF-4342-87A5-9F56BEE51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8B24-A759-4F03-B50D-44EF5AC0BD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431D-BA35-4E81-99EE-6FE3267DB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6DDB9-5E25-4387-987D-F2E0726EA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E857F-3970-4131-916F-2DC0E6AF7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24984-9CA7-42FC-89A1-9D9EC31AF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FAC5C-488A-4608-9BDE-67BEA457F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2856A-8814-4F3D-81E6-00DCC2786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DD4BA-5E92-4FE0-9C08-4698AB3CD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27D0A5-F69E-41C6-82C2-2CA646A41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1E49C-E704-4CC2-B2D6-C11A10A28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C0A0C-2049-4CB2-95FA-ED3888D7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DA195-BEAA-409D-B879-0B4135A40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CB46B-8927-4DD9-8CA0-F4FB3C65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56B61-EC7D-4F77-B87C-80B137B3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61872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46360" y="1828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90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61872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46360" y="3978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E58A0-CA0F-4C4E-BFC1-7B2330C48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3BD93-21D6-4A12-A360-763845BD7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1A1-D913-4AAF-81DB-EAF51CA41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05232-AE97-4F7A-BDD0-AB5D29498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9072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8BC55-73FE-4331-A01A-6CA610755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88AA-F870-4C02-A218-CE15E567B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3400" y="3978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D93E-7FB6-47C5-9FCC-C1A9648E4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3400" y="1828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90720" y="3978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60A6-E8B6-49DC-BCBB-4413A7F45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 (Hebrew)"/>
              </a:endParaRPr>
            </a:p>
          </p:txBody>
        </p:sp>
        <p:pic>
          <p:nvPicPr>
            <p:cNvPr id="2" name="minispir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 (Hebrew)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7F5C7-2A20-462D-8952-6309587177BE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 (Hebrew)"/>
              </a:endParaRPr>
            </a:p>
          </p:txBody>
        </p:sp>
        <p:pic>
          <p:nvPicPr>
            <p:cNvPr id="47" name="minispir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FE087-51E9-4E44-A59C-45B1C7771982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itric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Oxide - Murderer and Medicine</a:t>
            </a: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Dr. Shahar Bar-Yosef, General ICU,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‘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heba’ Medical Center</a:t>
            </a:r>
            <a:endParaRPr b="0" lang="en-US" sz="2400" spc="-1" strike="noStrike">
              <a:solidFill>
                <a:srgbClr val="a08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vs. IV Vasodilato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1604880" y="1828800"/>
            <a:ext cx="6319800" cy="44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Pharmacology of Inhaled NO-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807696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Dosage : - For reducing PVR in adults plateau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              usually at 20 ppm 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  - In children even 80 ppm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  - For hypoxemia : ED</a:t>
            </a:r>
            <a:r>
              <a:rPr b="0" lang="en-US" sz="28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50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is 1-2 ppm,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              max effect usualy at 3-5 ppm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Response starts after 2 min. , peaks at 6-10 min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No evidence of tolerance (even after 53 days)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Some don’t respond ( chronic anatomic changes- vessel fibrosis, chronic thromboemboly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ce9964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Synergism with PGI</a:t>
            </a:r>
            <a:r>
              <a:rPr b="0" lang="en-US" sz="28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and PDE V inhibitors , but not with NTG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in the ICU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9072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Pulmonary Hypertension- Pathophysiology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mportance of the RV in determining cardiac outpu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Elevated PVR is the most common mechanism for RV failur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creased RV systolic pressure decreases RV coronary perfus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ually the RV compensates by increased contractility and chamber dilatation (Starling mechanism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Effect of NO on pulmonary vessel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90360" y="190512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dilates both pulmonary arteries and vein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Vasodilatation is proportional to PVR - minimal effect in normal PVR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The NO/cGMP system plays a pivotal role in preventing pulmonary vascular remodelin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for Pulmonary Hypertens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621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The first description of  therapeutic use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Pepke-Zaba, The Lancet 1991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Evaluation of reversibility of pulmonary HT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Tried in all disease states associated with pulmonary hypertension (ARDS, PTE, COPD exacerbation, Post-lung transplant, Post-CPB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-30852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 ARDS : decreased PAP and increased RVEF, without change in CO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Rossaint et al, Intensive Care Med 1995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990720" y="15238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Reversal of increased PVR caused by permissive hypercapnia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Puybasset et al, Anesthesiology 1994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Treatment of hypoxemia secondary to intracardiac right-to-left shunt (PFO, ASD)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25800" indent="-32580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 newborn - Primary pulmonary hypertension - NO decreased need for ECMO, but not mortalit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Roberts et al. NEJM 1997; The National Inhaled Nitric Oxide Study Group, NEJM 1997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Use in Pulmonary HTN - 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children with PPHTN - the only approved indication in the U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adults - proved efficacy in reducing pulmonary artery pressure, </a:t>
            </a:r>
            <a:r>
              <a:rPr b="0" i="1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But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- Cardiac output is rarely limited by PV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Acute Respiratory Distress Syndrome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rst description of NO use by Rossaint et al. NEJM, 1993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utative benefits of NO in ARDS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creased pulmonary shunt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creased pulmonary hypertens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Decreased pulmonary capillary pressure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Inhibition of platelet aggregation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Anti-inflammatory effect on lung PMN’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Effect of NO on Oxygenation in ARD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60% of patients are responders (defined by &gt;20% increase in p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ddition of systemic vasoconstrictor (Almitrine) increases response rate to 80%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Payen et al. Anesthesiology, 1998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ecruitment (Peep, HFJV, Prone) increases the response to NO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Puybasset et al, AJRCCM 1995, Germann et al, Anesthesiology 1998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Nitric Oxide - Abridged History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5235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1967 - Clutton BJ, BJA - NO as toxic contamina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1987 - Palmer RMJ, NATURE - NO accounts for EDRF activity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1992 - SCIENCE - “Molecule of the Year”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1998 - Noble Prize given to  NO discoverers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spcAft>
                <a:spcPts val="7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Time-Dependency of NO effec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772400" cy="4114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1143000" y="6172200"/>
            <a:ext cx="701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402000"/>
                </a:solidFill>
                <a:latin typeface="Times New Roman (Hebrew)"/>
              </a:rPr>
              <a:t>(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 (Hebrew)"/>
              </a:rPr>
              <a:t>Michael  JR et al, AJRCCM 1998</a:t>
            </a:r>
            <a:r>
              <a:rPr b="0" i="1" lang="en-US" sz="2400" spc="-1" strike="noStrike">
                <a:solidFill>
                  <a:srgbClr val="402000"/>
                </a:solidFill>
                <a:latin typeface="Times New Roman (Hebrew)"/>
              </a:rPr>
              <a:t>)</a:t>
            </a:r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in ARDS -Randomized Controlled Studie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990720" y="1828800"/>
          <a:ext cx="8020080" cy="5943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828800"/>
                    <a:ext cx="802008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‘</a:t>
            </a: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ay No to NO ?’</a:t>
            </a:r>
            <a:br>
              <a:rPr sz="4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Matthay MA, CCM 1998)</a:t>
            </a:r>
            <a:endParaRPr b="0" lang="en-US" sz="2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n-homogenic study popul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ortality in ARDS is usually d/t MOSF and not hypoxem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Possible benefit to NO as part of multi-modal therap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Ullrich et al, Anesthesiology 1999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study investigated use of NO as ‘rescue therapy’ in extremely severe hypoxemia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in Anesthesia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990360" y="182880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spd="med">
    <p:dissolv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9072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Pediatric cardiac surge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4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CPB induces pulmonary endothelial dysfunction. Also heparin-protamine interaction increases PV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Decreased NO release after repair of  Left-to-Right shunt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 many case reports (VSD, TAPVR, TGA, Fontan) NO (up to 80 ppm) enabled weaning from CPB.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But- no effect on mortalit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Russel et al. Anesth Analg, 1998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Adult cardiac surge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MVR with previous pulmonary HT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BG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ual dose used 5-20 ppm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omparison with milrinone - greater increase in RVEF, lower HR, less requirements for vasopressors (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Solina A et al. J Cardiothorac Vasc Anesth, 2000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Heart Transpla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RV failure is a major concer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NO can be useful for pre-op assessmen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One series of 10 patients with pulmonary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  HTN after CPB treated with NO 10-40 ppm, 40% decrease in PVR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-29160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in patients with LVAD decreased the need for RVAD and increased filling of the LVAD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(Argenziano et al, Ann Thorac Surg 1998)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.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916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Lung Transplantation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X-clamp of pulmonary artery increases pulmonary HT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schemic-reperfusion damage causes pulmonary HTN and V/Q mismatch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-27756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Use of NO improved oxygenation and reduced pulmonary HTN, though did not affected need for ECMO or mortalit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Date et al, J Thorac Cardiovasc Surg, 1996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-27756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aution - role of NO in acute rejection.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2775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-Other physiologic eff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Weak bronchodilator - some reports of use in refractory asthma in children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Nakagawa TA et al, J Ped 2000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hibition of platelets aggregation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nti-inflammatory properties - inhibits neutrophil activity in BAL from ARDS patients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Chollet-Martin et al. AJRCCM 1996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32640" indent="-332640">
              <a:spcBef>
                <a:spcPts val="601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Amelioration of ischemia-reperfusion injury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(Murakami et al. AJRCCM 1997, Kubes et al, Am J Physiol 1999)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Cont...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In sepsis- NO accounts for refractory vasodilatation, myocardial depression, loss of HPV. Trials of NOS inhibitors (L-NAME, L-NMMA)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 and Pain mechanis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Four Lines Of Research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18288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 (Hebrew)"/>
              </a:rPr>
              <a:t>EDRF</a:t>
            </a:r>
            <a:endParaRPr b="0" lang="en-US" sz="28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2" name=""/>
          <p:cNvSpPr/>
          <p:nvPr/>
        </p:nvSpPr>
        <p:spPr>
          <a:xfrm>
            <a:off x="5867280" y="1676520"/>
            <a:ext cx="2895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 (Hebrew)"/>
              </a:rPr>
              <a:t>Mechanism of</a:t>
            </a:r>
            <a:r>
              <a:rPr b="0" lang="en-US" sz="2400" spc="-1" strike="noStrike">
                <a:solidFill>
                  <a:srgbClr val="402000"/>
                </a:solidFill>
                <a:latin typeface="Times New Roman (Hebrew)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 (Hebrew)"/>
              </a:rPr>
              <a:t>Nitrate Action</a:t>
            </a:r>
            <a:endParaRPr b="0" lang="en-US" sz="28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3" name=""/>
          <p:cNvSpPr/>
          <p:nvPr/>
        </p:nvSpPr>
        <p:spPr>
          <a:xfrm>
            <a:off x="1219320" y="548640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4" name=""/>
          <p:cNvSpPr/>
          <p:nvPr/>
        </p:nvSpPr>
        <p:spPr>
          <a:xfrm>
            <a:off x="990720" y="5562720"/>
            <a:ext cx="3581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 (Hebrew)"/>
              </a:rPr>
              <a:t>Macrophage cytotoxicity</a:t>
            </a:r>
            <a:endParaRPr b="0" lang="en-US" sz="28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57150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 (Hebrew)"/>
              </a:rPr>
              <a:t>NANC neurons</a:t>
            </a:r>
            <a:endParaRPr b="0" lang="en-US" sz="28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6" name=""/>
          <p:cNvSpPr/>
          <p:nvPr/>
        </p:nvSpPr>
        <p:spPr>
          <a:xfrm>
            <a:off x="2895480" y="3657600"/>
            <a:ext cx="381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d3333"/>
                </a:solidFill>
                <a:latin typeface="Times New Roman (Hebrew)"/>
              </a:rPr>
              <a:t>Nitric Oxide</a:t>
            </a:r>
            <a:endParaRPr b="0" lang="en-US" sz="32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7" name=""/>
          <p:cNvSpPr/>
          <p:nvPr/>
        </p:nvSpPr>
        <p:spPr>
          <a:xfrm>
            <a:off x="1828800" y="3581280"/>
            <a:ext cx="1752480" cy="2057400"/>
          </a:xfrm>
          <a:custGeom>
            <a:avLst/>
            <a:gdLst>
              <a:gd name="textAreaLeft" fmla="*/ 0 w 1752480"/>
              <a:gd name="textAreaRight" fmla="*/ 1752840 w 1752480"/>
              <a:gd name="textAreaTop" fmla="*/ 0 h 2057400"/>
              <a:gd name="textAreaBottom" fmla="*/ 205740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8" name=""/>
          <p:cNvSpPr/>
          <p:nvPr/>
        </p:nvSpPr>
        <p:spPr>
          <a:xfrm rot="5388600">
            <a:off x="3276720" y="1446840"/>
            <a:ext cx="1447920" cy="25160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516040"/>
              <a:gd name="textAreaBottom" fmla="*/ 2516400 h 25160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09" name=""/>
          <p:cNvSpPr/>
          <p:nvPr/>
        </p:nvSpPr>
        <p:spPr>
          <a:xfrm rot="10836600">
            <a:off x="6095880" y="2590200"/>
            <a:ext cx="1447920" cy="19810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1981080"/>
              <a:gd name="textAreaBottom" fmla="*/ 198144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4952880" y="3809880"/>
            <a:ext cx="1447920" cy="251460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ce9964"/>
          </a:solidFill>
          <a:ln w="93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Toxicity and Adverse Effects-1</a:t>
            </a:r>
            <a:br>
              <a:rPr sz="4400"/>
            </a:b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37720" y="1599840"/>
            <a:ext cx="8077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d3333"/>
                </a:solidFill>
                <a:latin typeface="Times New Roman"/>
                <a:ea typeface="David"/>
              </a:rPr>
              <a:t>Related to NO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Possible worsening of hypoxemia in COPD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Acute high-pressure pulmonary edema in pre-existing LV failure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Bocchi et al. Am J Cardiol, 1994)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Worsening of hypoxemia at higher concentrations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Methemoglobinemia (rarely beyond 5%)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Rebound effect upon discontinuation -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pulmonary HTN and hypoxemia 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(Lovoie et al. AJRCCM, 1996)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.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Mutagenic  effect in lab studies</a:t>
            </a:r>
            <a:br>
              <a:rPr sz="2800"/>
            </a:b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Toxicity and Adverse Effects-2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92504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d3333"/>
                </a:solidFill>
                <a:latin typeface="Times New Roman"/>
                <a:ea typeface="David"/>
              </a:rPr>
              <a:t>NO</a:t>
            </a:r>
            <a:r>
              <a:rPr b="0" i="1" lang="en-US" sz="3200" spc="-1" strike="noStrike" baseline="-25000">
                <a:solidFill>
                  <a:srgbClr val="cd3333"/>
                </a:solidFill>
                <a:latin typeface="Times New Roman"/>
                <a:ea typeface="David"/>
              </a:rPr>
              <a:t>2</a:t>
            </a:r>
            <a:r>
              <a:rPr b="0" i="1" lang="en-US" sz="3200" spc="-1" strike="noStrike">
                <a:solidFill>
                  <a:srgbClr val="cd3333"/>
                </a:solidFill>
                <a:latin typeface="Times New Roman"/>
                <a:ea typeface="David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5-20 times more toxic than NO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production depends on FI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, [NO] and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 contact time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pulmonary edema at high concentrations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 (10 ppm) 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at 2-3 ppm for 5 hours in humans -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 increased bronchial resistance, decreased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 DLCO, decreased cilia motility</a:t>
            </a:r>
            <a:br>
              <a:rPr sz="3200"/>
            </a:br>
            <a:r>
              <a:rPr b="1" i="1" lang="en-US" sz="3200" spc="-1" strike="noStrike">
                <a:solidFill>
                  <a:srgbClr val="cd3333"/>
                </a:solidFill>
                <a:latin typeface="Times New Roman"/>
                <a:ea typeface="David"/>
              </a:rPr>
              <a:t>Therefore -  keep below 1-2 ppm</a:t>
            </a:r>
            <a:br>
              <a:rPr sz="3200"/>
            </a:br>
            <a:r>
              <a:rPr b="1" i="1" lang="en-US" sz="3200" spc="-1" strike="noStrike">
                <a:solidFill>
                  <a:srgbClr val="cd3333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Toxicity and Adverse Effects-3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ce9964"/>
              </a:buClr>
              <a:buSzPct val="9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d3333"/>
                </a:solidFill>
                <a:latin typeface="Times New Roman"/>
                <a:ea typeface="David"/>
              </a:rPr>
              <a:t>OONO</a:t>
            </a:r>
            <a:r>
              <a:rPr b="0" i="1" lang="en-US" sz="3200" spc="-1" strike="noStrike" baseline="30000">
                <a:solidFill>
                  <a:srgbClr val="cd3333"/>
                </a:solidFill>
                <a:latin typeface="Times New Roman"/>
                <a:ea typeface="David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from superoxide anion and NO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free radica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reacts with H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+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to create the reactive radical OH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-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at low doses- microbicidal and tumoricidal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at higher levels - damage to surfactant, breakage of DNA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- not monitored !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4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 Toxicity - 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tretch/>
        </p:blipFill>
        <p:spPr>
          <a:xfrm>
            <a:off x="990720" y="1143000"/>
            <a:ext cx="77724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3000" y="3045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Technical Aspect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066680" y="16761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Cylinders of NO in N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, in concentration up to 1000 ppm. No PIS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Use Teflon tube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SodaLime - variable effect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Monitoring of NO/NO2 levels : Electrochemical vs.. Chemiluminescen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Environmental monitoring - probably superfluou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ransition>
    <p:checker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NO Delive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9072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Upstream vs. Downstream delivery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Continuous vs. Sequential administration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Continuous vs. changing ventilator flow rate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 insertion point-  recommendation is 40-80 cm from the Y-piece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spcAft>
                <a:spcPts val="799"/>
              </a:spcAft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teraction with ventilator settings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Influence on Ventilator Parameter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20629" r="0" b="0"/>
          <a:stretch/>
        </p:blipFill>
        <p:spPr>
          <a:xfrm>
            <a:off x="1447920" y="1981080"/>
            <a:ext cx="6781680" cy="42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295280" y="2057400"/>
            <a:ext cx="716292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 (Hebrew)"/>
              </a:rPr>
              <a:t>‘</a:t>
            </a:r>
            <a:r>
              <a:rPr b="0" lang="en-US" sz="3200" spc="-1" strike="noStrike">
                <a:solidFill>
                  <a:srgbClr val="402000"/>
                </a:solidFill>
                <a:latin typeface="Times New Roman (Hebrew)"/>
              </a:rPr>
              <a:t>It is hard to imagine that a drug with such wide and consistent physiologic benefit cannot find a niche in adult medicine’ </a:t>
            </a:r>
            <a:r>
              <a:rPr b="0" lang="en-US" sz="2400" spc="-1" strike="noStrike">
                <a:solidFill>
                  <a:srgbClr val="402000"/>
                </a:solidFill>
                <a:latin typeface="Times New Roman (Hebrew)"/>
              </a:rPr>
              <a:t>(Dellinger RP, Intensive Care Med 1999)</a:t>
            </a:r>
            <a:endParaRPr b="0" lang="en-US" sz="2400" spc="-1" strike="noStrike">
              <a:solidFill>
                <a:srgbClr val="402000"/>
              </a:solidFill>
              <a:latin typeface="Times New Roman (Hebrew)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In the Future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 and Pain mechanisms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 and Hypoxic Brain Damage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 and anesthetic actio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Synthesis of NO</a:t>
            </a:r>
            <a:br>
              <a:rPr sz="4400"/>
            </a:b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2884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2000"/>
                </a:solidFill>
                <a:latin typeface="Times New Roman"/>
                <a:ea typeface="David"/>
              </a:rPr>
              <a:t>Chemistry - Colorless gas, Water- &amp; Lipid- soluble, Free radical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402000"/>
                </a:solidFill>
                <a:latin typeface="Times New Roman"/>
                <a:ea typeface="David"/>
              </a:rPr>
              <a:t>Biosynthesis :</a:t>
            </a:r>
            <a:br>
              <a:rPr sz="3100"/>
            </a:br>
            <a:r>
              <a:rPr b="0" lang="en-US" sz="3100" spc="-1" strike="noStrike">
                <a:solidFill>
                  <a:srgbClr val="402000"/>
                </a:solidFill>
                <a:latin typeface="Times New Roman"/>
                <a:ea typeface="David"/>
              </a:rPr>
              <a:t> L-Arginine - NO pathway</a:t>
            </a:r>
            <a:endParaRPr b="0" lang="en-US" sz="31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Two kinds of  NOS - Constitutive and Inducible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1066680" y="1981080"/>
          <a:ext cx="396252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981080"/>
                    <a:ext cx="396252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Metabolism of NO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 gas/water : oxidation and  hydrolysis to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N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 </a:t>
            </a:r>
            <a:r>
              <a:rPr b="0" lang="en-US" sz="32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N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 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- </a:t>
            </a:r>
            <a:r>
              <a:rPr b="0" lang="en-US" sz="32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N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-  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or OONO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-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In blood :Hb </a:t>
            </a:r>
            <a:r>
              <a:rPr b="0" lang="en-US" sz="32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Nitrosyl-Hb </a:t>
            </a:r>
            <a:r>
              <a:rPr b="0" lang="en-US" sz="3200" spc="-1" strike="noStrike">
                <a:solidFill>
                  <a:srgbClr val="402000"/>
                </a:solidFill>
                <a:latin typeface="Symbol"/>
                <a:ea typeface="Symbol"/>
              </a:rPr>
              <a:t></a:t>
            </a:r>
            <a:br>
              <a:rPr sz="3200"/>
            </a:b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MetHb + NO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3</a:t>
            </a:r>
            <a:r>
              <a:rPr b="0" lang="en-US" sz="3200" spc="-1" strike="noStrike" baseline="30000">
                <a:solidFill>
                  <a:srgbClr val="402000"/>
                </a:solidFill>
                <a:latin typeface="Times New Roman"/>
                <a:ea typeface="David"/>
              </a:rPr>
              <a:t>- 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Also S-nitroso-albumin, S-nitroso-Angiotensin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T</a:t>
            </a:r>
            <a:r>
              <a:rPr b="0" lang="en-US" sz="32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1/2</a:t>
            </a: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 in blood : 3-30 seconds.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Pharmacological Activity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914400" y="1676520"/>
            <a:ext cx="777240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3045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  <a:ea typeface="David"/>
              </a:rPr>
              <a:t>Pharmacology of Inhaled NO-1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  <a:ea typeface="David"/>
              </a:rPr>
              <a:t>Double Selectivity :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Pulmonary vs.. Systemic :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Decreased Pulmonary artery pressu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No change in systemic blood pressu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Maintains coronary perfusion pressu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1" marL="668520" indent="-257040">
              <a:spcBef>
                <a:spcPts val="700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	</a:t>
            </a:r>
            <a:r>
              <a:rPr b="0" lang="en-US" sz="2800" spc="-1" strike="noStrike">
                <a:solidFill>
                  <a:srgbClr val="402000"/>
                </a:solidFill>
                <a:latin typeface="Times New Roman"/>
                <a:ea typeface="David"/>
              </a:rPr>
              <a:t>Ventilated alveoli : 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Decreased shunt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Increased PO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</a:t>
            </a: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/FIO</a:t>
            </a:r>
            <a:r>
              <a:rPr b="0" lang="en-US" sz="2400" spc="-1" strike="noStrike" baseline="-25000">
                <a:solidFill>
                  <a:srgbClr val="402000"/>
                </a:solidFill>
                <a:latin typeface="Times New Roman"/>
                <a:ea typeface="David"/>
              </a:rPr>
              <a:t>2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2" marL="1028520" indent="-205560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  <a:ea typeface="David"/>
              </a:rPr>
              <a:t>Decreased alveolar Vd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523880" y="1676520"/>
          <a:ext cx="6400800" cy="4419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3880" y="1676520"/>
                    <a:ext cx="6400800" cy="441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02000"/>
                </a:solidFill>
                <a:latin typeface="Times New Roman"/>
              </a:rPr>
              <a:t>NO-Physiological Effects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26" name="Uses%20of%20NO" descr=""/>
          <p:cNvPicPr/>
          <p:nvPr/>
        </p:nvPicPr>
        <p:blipFill>
          <a:blip r:embed="rId1"/>
          <a:stretch/>
        </p:blipFill>
        <p:spPr>
          <a:xfrm>
            <a:off x="2133720" y="1828800"/>
            <a:ext cx="54864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ivingstone</cp:lastModifiedBy>
  <dcterms:modified xsi:type="dcterms:W3CDTF">2001-06-08T10:41:05Z</dcterms:modified>
  <cp:revision>1</cp:revision>
  <dc:subject/>
  <dc:title>Nitric Oxide - Murderer and Medicine </dc:title>
</cp:coreProperties>
</file>