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0"/>
            <a:ext cx="1085760" cy="6845400"/>
            <a:chOff x="0" y="0"/>
            <a:chExt cx="1085760" cy="6845400"/>
          </a:xfrm>
        </p:grpSpPr>
        <p:sp>
          <p:nvSpPr>
            <p:cNvPr id="1" name=""/>
            <p:cNvSpPr/>
            <p:nvPr/>
          </p:nvSpPr>
          <p:spPr>
            <a:xfrm>
              <a:off x="0" y="0"/>
              <a:ext cx="1085760" cy="6845400"/>
            </a:xfrm>
            <a:prstGeom prst="rect">
              <a:avLst/>
            </a:prstGeom>
            <a:gradFill rotWithShape="0">
              <a:gsLst>
                <a:gs pos="0">
                  <a:srgbClr val="114ffb"/>
                </a:gs>
                <a:gs pos="50000">
                  <a:srgbClr val="030f32"/>
                </a:gs>
                <a:gs pos="100000">
                  <a:srgbClr val="114ffb"/>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 name=""/>
            <p:cNvGrpSpPr/>
            <p:nvPr/>
          </p:nvGrpSpPr>
          <p:grpSpPr>
            <a:xfrm>
              <a:off x="76320" y="162000"/>
              <a:ext cx="152280" cy="6543360"/>
              <a:chOff x="76320" y="162000"/>
              <a:chExt cx="152280" cy="6543360"/>
            </a:xfrm>
          </p:grpSpPr>
          <p:sp>
            <p:nvSpPr>
              <p:cNvPr id="3" name=""/>
              <p:cNvSpPr/>
              <p:nvPr/>
            </p:nvSpPr>
            <p:spPr>
              <a:xfrm>
                <a:off x="76320" y="17524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76320" y="19810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76320" y="22096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76320" y="24382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 name=""/>
              <p:cNvSpPr/>
              <p:nvPr/>
            </p:nvSpPr>
            <p:spPr>
              <a:xfrm>
                <a:off x="76320" y="26668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76320" y="28954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76320" y="31240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76320" y="33526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76320" y="35812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76320" y="38098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76320" y="40384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76320" y="42670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 name=""/>
              <p:cNvSpPr/>
              <p:nvPr/>
            </p:nvSpPr>
            <p:spPr>
              <a:xfrm>
                <a:off x="76320" y="44956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 name=""/>
              <p:cNvSpPr/>
              <p:nvPr/>
            </p:nvSpPr>
            <p:spPr>
              <a:xfrm>
                <a:off x="76320" y="47242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 name=""/>
              <p:cNvSpPr/>
              <p:nvPr/>
            </p:nvSpPr>
            <p:spPr>
              <a:xfrm>
                <a:off x="76320" y="49528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 name=""/>
              <p:cNvSpPr/>
              <p:nvPr/>
            </p:nvSpPr>
            <p:spPr>
              <a:xfrm>
                <a:off x="76320" y="51814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 name=""/>
              <p:cNvSpPr/>
              <p:nvPr/>
            </p:nvSpPr>
            <p:spPr>
              <a:xfrm>
                <a:off x="76320" y="54100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 name=""/>
              <p:cNvSpPr/>
              <p:nvPr/>
            </p:nvSpPr>
            <p:spPr>
              <a:xfrm>
                <a:off x="76320" y="56386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 name=""/>
              <p:cNvSpPr/>
              <p:nvPr/>
            </p:nvSpPr>
            <p:spPr>
              <a:xfrm>
                <a:off x="76320" y="58672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 name=""/>
              <p:cNvSpPr/>
              <p:nvPr/>
            </p:nvSpPr>
            <p:spPr>
              <a:xfrm>
                <a:off x="76320" y="60958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 name=""/>
              <p:cNvSpPr/>
              <p:nvPr/>
            </p:nvSpPr>
            <p:spPr>
              <a:xfrm>
                <a:off x="76320" y="63244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 name=""/>
              <p:cNvSpPr/>
              <p:nvPr/>
            </p:nvSpPr>
            <p:spPr>
              <a:xfrm>
                <a:off x="76320" y="655308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 name=""/>
              <p:cNvSpPr/>
              <p:nvPr/>
            </p:nvSpPr>
            <p:spPr>
              <a:xfrm>
                <a:off x="76320" y="16200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 name=""/>
              <p:cNvSpPr/>
              <p:nvPr/>
            </p:nvSpPr>
            <p:spPr>
              <a:xfrm>
                <a:off x="76320" y="39060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 name=""/>
              <p:cNvSpPr/>
              <p:nvPr/>
            </p:nvSpPr>
            <p:spPr>
              <a:xfrm>
                <a:off x="76320" y="61920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 name=""/>
              <p:cNvSpPr/>
              <p:nvPr/>
            </p:nvSpPr>
            <p:spPr>
              <a:xfrm>
                <a:off x="76320" y="84780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 name=""/>
              <p:cNvSpPr/>
              <p:nvPr/>
            </p:nvSpPr>
            <p:spPr>
              <a:xfrm>
                <a:off x="76320" y="107640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 name=""/>
              <p:cNvSpPr/>
              <p:nvPr/>
            </p:nvSpPr>
            <p:spPr>
              <a:xfrm>
                <a:off x="76320" y="130500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 name=""/>
              <p:cNvSpPr/>
              <p:nvPr/>
            </p:nvSpPr>
            <p:spPr>
              <a:xfrm>
                <a:off x="76320" y="1533600"/>
                <a:ext cx="15228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0" name=""/>
          <p:cNvSpPr txBox="1"/>
          <p:nvPr/>
        </p:nvSpPr>
        <p:spPr>
          <a:xfrm>
            <a:off x="762120" y="914400"/>
            <a:ext cx="7772400" cy="1143000"/>
          </a:xfrm>
          <a:prstGeom prst="rect">
            <a:avLst/>
          </a:prstGeom>
          <a:noFill/>
          <a:ln w="0">
            <a:noFill/>
          </a:ln>
        </p:spPr>
        <p:txBody>
          <a:bodyPr lIns="0" rIns="0" tIns="0" bIns="0" anchor="t">
            <a:noAutofit/>
          </a:bodyPr>
          <a:p>
            <a:pPr algn="ctr">
              <a:lnSpc>
                <a:spcPct val="100000"/>
              </a:lnSpc>
            </a:pPr>
            <a:r>
              <a:rPr b="1" lang="en-US" sz="8000" spc="-1" strike="noStrike" u="sng">
                <a:solidFill>
                  <a:srgbClr val="fafd00"/>
                </a:solidFill>
                <a:uFillTx/>
                <a:latin typeface="Times New Roman"/>
                <a:ea typeface="Times New Roman"/>
              </a:rPr>
              <a:t>Bible Class Atlas</a:t>
            </a:r>
            <a:endParaRPr b="0" lang="en-US" sz="8000" spc="-1" strike="noStrike">
              <a:solidFill>
                <a:srgbClr val="000000"/>
              </a:solidFill>
              <a:latin typeface="Arial"/>
            </a:endParaRPr>
          </a:p>
        </p:txBody>
      </p:sp>
      <p:sp>
        <p:nvSpPr>
          <p:cNvPr id="71" name=""/>
          <p:cNvSpPr txBox="1"/>
          <p:nvPr/>
        </p:nvSpPr>
        <p:spPr>
          <a:xfrm>
            <a:off x="1371600" y="2209680"/>
            <a:ext cx="6781680" cy="1752480"/>
          </a:xfrm>
          <a:prstGeom prst="rect">
            <a:avLst/>
          </a:prstGeom>
          <a:noFill/>
          <a:ln w="0">
            <a:noFill/>
          </a:ln>
        </p:spPr>
        <p:txBody>
          <a:bodyPr lIns="0" rIns="0" tIns="0" bIns="0" anchor="t">
            <a:noAutofit/>
          </a:bodyPr>
          <a:p>
            <a:pPr marL="343080" indent="-343080" algn="ctr">
              <a:lnSpc>
                <a:spcPct val="100000"/>
              </a:lnSpc>
            </a:pPr>
            <a:r>
              <a:rPr b="1" lang="en-US" sz="4800" spc="-1" strike="noStrike">
                <a:solidFill>
                  <a:srgbClr val="ffffff"/>
                </a:solidFill>
                <a:latin typeface="Times New Roman"/>
                <a:ea typeface="Times New Roman"/>
              </a:rPr>
              <a:t>Sunday School Maps for</a:t>
            </a:r>
            <a:endParaRPr b="0" lang="en-US" sz="4800" spc="-1" strike="noStrike">
              <a:solidFill>
                <a:srgbClr val="000000"/>
              </a:solidFill>
              <a:latin typeface="Arial"/>
            </a:endParaRPr>
          </a:p>
          <a:p>
            <a:pPr marL="343080" indent="-343080" algn="ctr">
              <a:lnSpc>
                <a:spcPct val="100000"/>
              </a:lnSpc>
            </a:pPr>
            <a:r>
              <a:rPr b="1" lang="en-US" sz="4800" spc="-1" strike="noStrike">
                <a:solidFill>
                  <a:srgbClr val="ffffff"/>
                </a:solidFill>
                <a:latin typeface="Times New Roman"/>
                <a:ea typeface="Times New Roman"/>
              </a:rPr>
              <a:t>Electronic Projectors</a:t>
            </a:r>
            <a:endParaRPr b="0" lang="en-US" sz="4800" spc="-1" strike="noStrike">
              <a:solidFill>
                <a:srgbClr val="000000"/>
              </a:solidFill>
              <a:latin typeface="Arial"/>
            </a:endParaRPr>
          </a:p>
        </p:txBody>
      </p:sp>
      <p:sp>
        <p:nvSpPr>
          <p:cNvPr id="72" name=""/>
          <p:cNvSpPr txBox="1"/>
          <p:nvPr/>
        </p:nvSpPr>
        <p:spPr>
          <a:xfrm>
            <a:off x="457200" y="4343400"/>
            <a:ext cx="8534520" cy="152388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ffffff"/>
                </a:solidFill>
                <a:latin typeface="Arial"/>
                <a:ea typeface="Arial"/>
              </a:rPr>
              <a:t>   </a:t>
            </a:r>
            <a:r>
              <a:rPr b="0" lang="en-US" sz="2000" spc="-1" strike="noStrike">
                <a:solidFill>
                  <a:srgbClr val="fafd00"/>
                </a:solidFill>
                <a:latin typeface="Arial"/>
                <a:ea typeface="Arial"/>
              </a:rPr>
              <a:t>This is </a:t>
            </a:r>
            <a:r>
              <a:rPr b="1" lang="en-US" sz="2000" spc="-1" strike="noStrike">
                <a:solidFill>
                  <a:srgbClr val="fafd00"/>
                </a:solidFill>
                <a:latin typeface="Arial"/>
                <a:ea typeface="Arial"/>
              </a:rPr>
              <a:t>FREEWARE</a:t>
            </a:r>
            <a:r>
              <a:rPr b="0" lang="en-US" sz="2000" spc="-1" strike="noStrike">
                <a:solidFill>
                  <a:srgbClr val="fafd00"/>
                </a:solidFill>
                <a:latin typeface="Arial"/>
                <a:ea typeface="Arial"/>
              </a:rPr>
              <a:t>.  </a:t>
            </a:r>
            <a:r>
              <a:rPr b="0" lang="en-US" sz="2000" spc="-1" strike="noStrike">
                <a:solidFill>
                  <a:srgbClr val="ffffff"/>
                </a:solidFill>
                <a:latin typeface="Arial"/>
                <a:ea typeface="Arial"/>
              </a:rPr>
              <a:t>Feel free to copy and give to your friends.   For more resources for Bible teachers who use the computer in the Sunday School visit the web site of  </a:t>
            </a:r>
            <a:r>
              <a:rPr b="1" lang="en-US" sz="2400" spc="-1" strike="noStrike">
                <a:solidFill>
                  <a:srgbClr val="ffffff"/>
                </a:solidFill>
                <a:latin typeface="Arial"/>
                <a:ea typeface="Arial"/>
              </a:rPr>
              <a:t>EBibleTeacher.com</a:t>
            </a:r>
            <a:r>
              <a:rPr b="0" lang="en-US" sz="2000" spc="-1" strike="noStrike">
                <a:solidFill>
                  <a:srgbClr val="ffffff"/>
                </a:solidFill>
                <a:latin typeface="Arial"/>
                <a:ea typeface="Arial"/>
              </a:rPr>
              <a:t>:</a:t>
            </a:r>
            <a:endParaRPr b="0" lang="en-US" sz="2000" spc="-1" strike="noStrike">
              <a:solidFill>
                <a:srgbClr val="000000"/>
              </a:solidFill>
              <a:latin typeface="Arial"/>
            </a:endParaRPr>
          </a:p>
          <a:p>
            <a:pPr algn="ctr">
              <a:lnSpc>
                <a:spcPct val="100000"/>
              </a:lnSpc>
              <a:spcBef>
                <a:spcPts val="1199"/>
              </a:spcBef>
            </a:pPr>
            <a:r>
              <a:rPr b="1" lang="en-US" sz="2000" spc="-1" strike="noStrike">
                <a:solidFill>
                  <a:srgbClr val="fafd00"/>
                </a:solidFill>
                <a:latin typeface="Arial"/>
                <a:ea typeface="Arial"/>
              </a:rPr>
              <a:t>www.ebibleteacher.com</a:t>
            </a:r>
            <a:r>
              <a:rPr b="0" lang="en-US" sz="2000" spc="-1" strike="noStrike">
                <a:solidFill>
                  <a:srgbClr val="fafd00"/>
                </a:solidFill>
                <a:latin typeface="Arial"/>
                <a:ea typeface="Arial"/>
              </a:rPr>
              <a:t>           </a:t>
            </a:r>
            <a:r>
              <a:rPr b="0" lang="en-US" sz="2000" spc="-1" strike="noStrike">
                <a:solidFill>
                  <a:srgbClr val="ffffff"/>
                </a:solidFill>
                <a:latin typeface="Arial"/>
                <a:ea typeface="Arial"/>
              </a:rPr>
              <a:t>email: </a:t>
            </a:r>
            <a:r>
              <a:rPr b="1" lang="en-US" sz="2000" spc="-1" strike="noStrike">
                <a:solidFill>
                  <a:srgbClr val="fafd00"/>
                </a:solidFill>
                <a:latin typeface="Arial"/>
                <a:ea typeface="Arial"/>
              </a:rPr>
              <a:t>ttaylor@midwest.net</a:t>
            </a:r>
            <a:endParaRPr b="0" lang="en-US" sz="2000" spc="-1" strike="noStrike">
              <a:solidFill>
                <a:srgbClr val="000000"/>
              </a:solidFill>
              <a:latin typeface="Arial"/>
            </a:endParaRPr>
          </a:p>
        </p:txBody>
      </p:sp>
      <p:sp>
        <p:nvSpPr>
          <p:cNvPr id="73" name=""/>
          <p:cNvSpPr txBox="1"/>
          <p:nvPr/>
        </p:nvSpPr>
        <p:spPr>
          <a:xfrm>
            <a:off x="1584360" y="6246720"/>
            <a:ext cx="59817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Narrow"/>
                <a:ea typeface="Arial Narrow"/>
              </a:rPr>
              <a:t>Shareware distributors may charge a nominal distribution fee for this software..</a:t>
            </a:r>
            <a:endParaRPr b="0" lang="en-US" sz="1600" spc="-1" strike="noStrike">
              <a:solidFill>
                <a:srgbClr val="000000"/>
              </a:solidFill>
              <a:latin typeface="Arial"/>
            </a:endParaRPr>
          </a:p>
        </p:txBody>
      </p:sp>
      <p:sp>
        <p:nvSpPr>
          <p:cNvPr id="74" name=""/>
          <p:cNvSpPr txBox="1"/>
          <p:nvPr/>
        </p:nvSpPr>
        <p:spPr>
          <a:xfrm>
            <a:off x="4098960" y="3808440"/>
            <a:ext cx="11192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Narrow"/>
                <a:ea typeface="Arial Narrow"/>
              </a:rPr>
              <a:t>Version 1.15</a:t>
            </a:r>
            <a:endParaRPr b="0" lang="en-US" sz="1600" spc="-1" strike="noStrike">
              <a:solidFill>
                <a:srgbClr val="000000"/>
              </a:solidFill>
              <a:latin typeface="Arial"/>
            </a:endParaRPr>
          </a:p>
        </p:txBody>
      </p:sp>
      <p:sp>
        <p:nvSpPr>
          <p:cNvPr id="75" name=""/>
          <p:cNvSpPr txBox="1"/>
          <p:nvPr/>
        </p:nvSpPr>
        <p:spPr>
          <a:xfrm>
            <a:off x="3184560" y="6018120"/>
            <a:ext cx="31478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Narrow"/>
                <a:ea typeface="Arial Narrow"/>
              </a:rPr>
              <a:t>Check our website for the latest version.</a:t>
            </a:r>
            <a:endParaRPr b="0" lang="en-US" sz="1600" spc="-1" strike="noStrike">
              <a:solidFill>
                <a:srgbClr val="000000"/>
              </a:solidFill>
              <a:latin typeface="Arial"/>
            </a:endParaRPr>
          </a:p>
        </p:txBody>
      </p:sp>
      <p:sp>
        <p:nvSpPr>
          <p:cNvPr id="76" name=""/>
          <p:cNvSpPr/>
          <p:nvPr/>
        </p:nvSpPr>
        <p:spPr>
          <a:xfrm>
            <a:off x="304920" y="228600"/>
            <a:ext cx="8610480" cy="6553080"/>
          </a:xfrm>
          <a:prstGeom prst="rect">
            <a:avLst/>
          </a:prstGeom>
          <a:noFill/>
          <a:ln w="50760">
            <a:solidFill>
              <a:srgbClr val="fafd00"/>
            </a:solidFill>
            <a:round/>
          </a:ln>
        </p:spPr>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55" name=""/>
          <p:cNvGrpSpPr/>
          <p:nvPr/>
        </p:nvGrpSpPr>
        <p:grpSpPr>
          <a:xfrm>
            <a:off x="60480" y="304920"/>
            <a:ext cx="9064440" cy="6514920"/>
            <a:chOff x="60480" y="304920"/>
            <a:chExt cx="9064440" cy="6514920"/>
          </a:xfrm>
        </p:grpSpPr>
        <p:sp>
          <p:nvSpPr>
            <p:cNvPr id="156" name=""/>
            <p:cNvSpPr txBox="1"/>
            <p:nvPr/>
          </p:nvSpPr>
          <p:spPr>
            <a:xfrm>
              <a:off x="419040" y="304920"/>
              <a:ext cx="7715160" cy="1143000"/>
            </a:xfrm>
            <a:prstGeom prst="rect">
              <a:avLst/>
            </a:prstGeom>
            <a:noFill/>
            <a:ln w="0">
              <a:noFill/>
            </a:ln>
          </p:spPr>
          <p:txBody>
            <a:bodyPr lIns="0" rIns="0" tIns="0" bIns="0" anchor="t">
              <a:noAutofit/>
            </a:bodyPr>
            <a:p>
              <a:pPr>
                <a:lnSpc>
                  <a:spcPct val="100000"/>
                </a:lnSpc>
              </a:pPr>
              <a:r>
                <a:rPr b="1" lang="en-US" sz="6000" spc="-1" strike="noStrike" u="sng">
                  <a:solidFill>
                    <a:srgbClr val="fafd00"/>
                  </a:solidFill>
                  <a:uFillTx/>
                  <a:latin typeface="Times New Roman"/>
                  <a:ea typeface="Times New Roman"/>
                </a:rPr>
                <a:t>Tower of Babel</a:t>
              </a:r>
              <a:endParaRPr b="0" lang="en-US" sz="6000" spc="-1" strike="noStrike">
                <a:solidFill>
                  <a:srgbClr val="000000"/>
                </a:solidFill>
                <a:latin typeface="Arial"/>
              </a:endParaRPr>
            </a:p>
          </p:txBody>
        </p:sp>
        <p:sp>
          <p:nvSpPr>
            <p:cNvPr id="157" name=""/>
            <p:cNvSpPr txBox="1"/>
            <p:nvPr/>
          </p:nvSpPr>
          <p:spPr>
            <a:xfrm>
              <a:off x="1157400" y="1981080"/>
              <a:ext cx="7791480" cy="4114800"/>
            </a:xfrm>
            <a:prstGeom prst="rect">
              <a:avLst/>
            </a:prstGeom>
            <a:noFill/>
            <a:ln w="0">
              <a:noFill/>
            </a:ln>
          </p:spPr>
          <p:txBody>
            <a:bodyPr lIns="0" rIns="0" tIns="0" bIns="0" anchor="t">
              <a:noAutofit/>
            </a:bodyPr>
            <a:p>
              <a:pPr marL="343080" indent="-343080">
                <a:lnSpc>
                  <a:spcPct val="100000"/>
                </a:lnSpc>
                <a:spcBef>
                  <a:spcPts val="479"/>
                </a:spcBef>
                <a:buClr>
                  <a:srgbClr val="c0fef9"/>
                </a:buClr>
                <a:buSzPct val="75000"/>
                <a:buFont typeface="Monotype Sorts"/>
                <a:buChar char=""/>
              </a:pPr>
              <a:r>
                <a:rPr b="0" lang="en-US" sz="3200" spc="-1" strike="noStrike">
                  <a:solidFill>
                    <a:srgbClr val="ffffff"/>
                  </a:solidFill>
                  <a:latin typeface="Times New Roman"/>
                  <a:ea typeface="Times New Roman"/>
                </a:rPr>
                <a:t>Click to add text</a:t>
              </a:r>
              <a:endParaRPr b="0" lang="en-US" sz="3200" spc="-1" strike="noStrike">
                <a:solidFill>
                  <a:srgbClr val="000000"/>
                </a:solidFill>
                <a:latin typeface="Arial"/>
              </a:endParaRPr>
            </a:p>
          </p:txBody>
        </p:sp>
        <p:sp>
          <p:nvSpPr>
            <p:cNvPr id="158" name=""/>
            <p:cNvSpPr/>
            <p:nvPr/>
          </p:nvSpPr>
          <p:spPr>
            <a:xfrm>
              <a:off x="1157400" y="1981080"/>
              <a:ext cx="7791480" cy="41148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59" name="" descr=""/>
            <p:cNvPicPr/>
            <p:nvPr/>
          </p:nvPicPr>
          <p:blipFill>
            <a:blip r:embed="rId1"/>
            <a:stretch/>
          </p:blipFill>
          <p:spPr>
            <a:xfrm>
              <a:off x="76320" y="1384200"/>
              <a:ext cx="9048600" cy="5435640"/>
            </a:xfrm>
            <a:prstGeom prst="rect">
              <a:avLst/>
            </a:prstGeom>
            <a:ln w="0">
              <a:noFill/>
            </a:ln>
          </p:spPr>
        </p:pic>
        <p:sp>
          <p:nvSpPr>
            <p:cNvPr id="160" name=""/>
            <p:cNvSpPr/>
            <p:nvPr/>
          </p:nvSpPr>
          <p:spPr>
            <a:xfrm>
              <a:off x="5421240" y="4419720"/>
              <a:ext cx="397080" cy="706680"/>
            </a:xfrm>
            <a:custGeom>
              <a:avLst/>
              <a:gdLst/>
              <a:ahLst/>
              <a:rect l="0" t="0" r="r" b="b"/>
              <a:pathLst>
                <a:path w="1103" h="1963">
                  <a:moveTo>
                    <a:pt x="180" y="0"/>
                  </a:moveTo>
                  <a:lnTo>
                    <a:pt x="335" y="39"/>
                  </a:lnTo>
                  <a:lnTo>
                    <a:pt x="480" y="39"/>
                  </a:lnTo>
                  <a:lnTo>
                    <a:pt x="671" y="88"/>
                  </a:lnTo>
                  <a:lnTo>
                    <a:pt x="816" y="136"/>
                  </a:lnTo>
                  <a:lnTo>
                    <a:pt x="962" y="326"/>
                  </a:lnTo>
                  <a:lnTo>
                    <a:pt x="1010" y="471"/>
                  </a:lnTo>
                  <a:lnTo>
                    <a:pt x="1103" y="617"/>
                  </a:lnTo>
                  <a:lnTo>
                    <a:pt x="1103" y="806"/>
                  </a:lnTo>
                  <a:lnTo>
                    <a:pt x="1059" y="952"/>
                  </a:lnTo>
                  <a:lnTo>
                    <a:pt x="1010" y="1099"/>
                  </a:lnTo>
                  <a:lnTo>
                    <a:pt x="962" y="1288"/>
                  </a:lnTo>
                  <a:lnTo>
                    <a:pt x="913" y="1434"/>
                  </a:lnTo>
                  <a:lnTo>
                    <a:pt x="768" y="1579"/>
                  </a:lnTo>
                  <a:lnTo>
                    <a:pt x="622" y="1725"/>
                  </a:lnTo>
                  <a:lnTo>
                    <a:pt x="432" y="1817"/>
                  </a:lnTo>
                  <a:lnTo>
                    <a:pt x="286" y="1866"/>
                  </a:lnTo>
                  <a:lnTo>
                    <a:pt x="141" y="1963"/>
                  </a:lnTo>
                  <a:lnTo>
                    <a:pt x="0" y="1817"/>
                  </a:lnTo>
                  <a:lnTo>
                    <a:pt x="0" y="1628"/>
                  </a:lnTo>
                  <a:lnTo>
                    <a:pt x="0" y="1482"/>
                  </a:lnTo>
                  <a:lnTo>
                    <a:pt x="141" y="1337"/>
                  </a:lnTo>
                  <a:lnTo>
                    <a:pt x="286" y="1196"/>
                  </a:lnTo>
                  <a:lnTo>
                    <a:pt x="383" y="1050"/>
                  </a:lnTo>
                  <a:lnTo>
                    <a:pt x="180" y="0"/>
                  </a:lnTo>
                  <a:close/>
                </a:path>
              </a:pathLst>
            </a:custGeom>
            <a:solidFill>
              <a:srgbClr val="00ae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txBox="1"/>
            <p:nvPr/>
          </p:nvSpPr>
          <p:spPr>
            <a:xfrm>
              <a:off x="2270160" y="4265640"/>
              <a:ext cx="312912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Mediterranean</a:t>
              </a:r>
              <a:endParaRPr b="0" lang="en-US" sz="3600" spc="-1" strike="noStrike">
                <a:solidFill>
                  <a:srgbClr val="000000"/>
                </a:solidFill>
                <a:latin typeface="Arial"/>
              </a:endParaRPr>
            </a:p>
          </p:txBody>
        </p:sp>
        <p:sp>
          <p:nvSpPr>
            <p:cNvPr id="162" name=""/>
            <p:cNvSpPr txBox="1"/>
            <p:nvPr/>
          </p:nvSpPr>
          <p:spPr>
            <a:xfrm>
              <a:off x="5394240" y="3884760"/>
              <a:ext cx="130176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Israel</a:t>
              </a:r>
              <a:endParaRPr b="0" lang="en-US" sz="3600" spc="-1" strike="noStrike">
                <a:solidFill>
                  <a:srgbClr val="000000"/>
                </a:solidFill>
                <a:latin typeface="Arial"/>
              </a:endParaRPr>
            </a:p>
          </p:txBody>
        </p:sp>
        <p:sp>
          <p:nvSpPr>
            <p:cNvPr id="163" name=""/>
            <p:cNvSpPr txBox="1"/>
            <p:nvPr/>
          </p:nvSpPr>
          <p:spPr>
            <a:xfrm>
              <a:off x="3413160" y="5484960"/>
              <a:ext cx="135252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Egypt</a:t>
              </a:r>
              <a:endParaRPr b="0" lang="en-US" sz="3600" spc="-1" strike="noStrike">
                <a:solidFill>
                  <a:srgbClr val="000000"/>
                </a:solidFill>
                <a:latin typeface="Arial"/>
              </a:endParaRPr>
            </a:p>
          </p:txBody>
        </p:sp>
        <p:sp>
          <p:nvSpPr>
            <p:cNvPr id="164" name=""/>
            <p:cNvSpPr txBox="1"/>
            <p:nvPr/>
          </p:nvSpPr>
          <p:spPr>
            <a:xfrm>
              <a:off x="6885000" y="3960720"/>
              <a:ext cx="1454040" cy="1739880"/>
            </a:xfrm>
            <a:prstGeom prst="rect">
              <a:avLst/>
            </a:prstGeom>
            <a:noFill/>
            <a:ln w="0">
              <a:noFill/>
            </a:ln>
          </p:spPr>
          <p:txBody>
            <a:bodyPr lIns="0" rIns="0" tIns="0" bIns="0" anchor="t">
              <a:noAutofit/>
            </a:bodyPr>
            <a:p>
              <a:pPr algn="ctr">
                <a:lnSpc>
                  <a:spcPct val="100000"/>
                </a:lnSpc>
              </a:pPr>
              <a:r>
                <a:rPr b="1" lang="en-US" sz="3600" spc="-1" strike="noStrike" u="sng">
                  <a:solidFill>
                    <a:srgbClr val="fafd00"/>
                  </a:solidFill>
                  <a:uFillTx/>
                  <a:latin typeface="Times New Roman"/>
                  <a:ea typeface="Times New Roman"/>
                </a:rPr>
                <a:t>Tower</a:t>
              </a:r>
              <a:endParaRPr b="0" lang="en-US" sz="3600" spc="-1" strike="noStrike">
                <a:solidFill>
                  <a:srgbClr val="000000"/>
                </a:solidFill>
                <a:latin typeface="Arial"/>
              </a:endParaRPr>
            </a:p>
            <a:p>
              <a:pPr algn="ctr">
                <a:lnSpc>
                  <a:spcPct val="100000"/>
                </a:lnSpc>
              </a:pPr>
              <a:r>
                <a:rPr b="1" lang="en-US" sz="3600" spc="-1" strike="noStrike" u="sng">
                  <a:solidFill>
                    <a:srgbClr val="fafd00"/>
                  </a:solidFill>
                  <a:uFillTx/>
                  <a:latin typeface="Times New Roman"/>
                  <a:ea typeface="Times New Roman"/>
                </a:rPr>
                <a:t>of</a:t>
              </a:r>
              <a:endParaRPr b="0" lang="en-US" sz="3600" spc="-1" strike="noStrike">
                <a:solidFill>
                  <a:srgbClr val="000000"/>
                </a:solidFill>
                <a:latin typeface="Arial"/>
              </a:endParaRPr>
            </a:p>
            <a:p>
              <a:pPr algn="ctr">
                <a:lnSpc>
                  <a:spcPct val="100000"/>
                </a:lnSpc>
              </a:pPr>
              <a:r>
                <a:rPr b="1" lang="en-US" sz="3600" spc="-1" strike="noStrike" u="sng">
                  <a:solidFill>
                    <a:srgbClr val="fafd00"/>
                  </a:solidFill>
                  <a:uFillTx/>
                  <a:latin typeface="Times New Roman"/>
                  <a:ea typeface="Times New Roman"/>
                </a:rPr>
                <a:t>Babel</a:t>
              </a:r>
              <a:endParaRPr b="0" lang="en-US" sz="3600" spc="-1" strike="noStrike">
                <a:solidFill>
                  <a:srgbClr val="000000"/>
                </a:solidFill>
                <a:latin typeface="Arial"/>
              </a:endParaRPr>
            </a:p>
          </p:txBody>
        </p:sp>
        <p:sp>
          <p:nvSpPr>
            <p:cNvPr id="165" name=""/>
            <p:cNvSpPr/>
            <p:nvPr/>
          </p:nvSpPr>
          <p:spPr>
            <a:xfrm>
              <a:off x="6400800" y="4648320"/>
              <a:ext cx="533880" cy="533880"/>
            </a:xfrm>
            <a:custGeom>
              <a:avLst/>
              <a:gdLst/>
              <a:ahLst/>
              <a:rect l="0" t="0" r="r" b="b"/>
              <a:pathLst>
                <a:path w="1483" h="1483">
                  <a:moveTo>
                    <a:pt x="741" y="0"/>
                  </a:moveTo>
                  <a:lnTo>
                    <a:pt x="568" y="568"/>
                  </a:lnTo>
                  <a:lnTo>
                    <a:pt x="0" y="568"/>
                  </a:lnTo>
                  <a:lnTo>
                    <a:pt x="462" y="919"/>
                  </a:lnTo>
                  <a:lnTo>
                    <a:pt x="287" y="1483"/>
                  </a:lnTo>
                  <a:lnTo>
                    <a:pt x="741" y="1157"/>
                  </a:lnTo>
                  <a:lnTo>
                    <a:pt x="1195" y="1483"/>
                  </a:lnTo>
                  <a:lnTo>
                    <a:pt x="1020" y="919"/>
                  </a:lnTo>
                  <a:lnTo>
                    <a:pt x="1483" y="567"/>
                  </a:lnTo>
                  <a:lnTo>
                    <a:pt x="914" y="567"/>
                  </a:lnTo>
                  <a:lnTo>
                    <a:pt x="741"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6" name=""/>
            <p:cNvGrpSpPr/>
            <p:nvPr/>
          </p:nvGrpSpPr>
          <p:grpSpPr>
            <a:xfrm>
              <a:off x="6629400" y="762120"/>
              <a:ext cx="1905120" cy="1904760"/>
              <a:chOff x="6629400" y="762120"/>
              <a:chExt cx="1905120" cy="1904760"/>
            </a:xfrm>
          </p:grpSpPr>
          <p:sp>
            <p:nvSpPr>
              <p:cNvPr id="167" name=""/>
              <p:cNvSpPr/>
              <p:nvPr/>
            </p:nvSpPr>
            <p:spPr>
              <a:xfrm>
                <a:off x="6629400" y="2286000"/>
                <a:ext cx="1905120" cy="380880"/>
              </a:xfrm>
              <a:prstGeom prst="rect">
                <a:avLst/>
              </a:prstGeom>
              <a:solidFill>
                <a:srgbClr val="fcfeb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a:off x="6745320" y="1905120"/>
                <a:ext cx="1673280" cy="380880"/>
              </a:xfrm>
              <a:prstGeom prst="rect">
                <a:avLst/>
              </a:prstGeom>
              <a:solidFill>
                <a:srgbClr val="fcfeb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6918480" y="1523880"/>
                <a:ext cx="1327320" cy="380880"/>
              </a:xfrm>
              <a:prstGeom prst="rect">
                <a:avLst/>
              </a:prstGeom>
              <a:solidFill>
                <a:srgbClr val="fcfeb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0" name=""/>
              <p:cNvSpPr/>
              <p:nvPr/>
            </p:nvSpPr>
            <p:spPr>
              <a:xfrm>
                <a:off x="7091280" y="1143000"/>
                <a:ext cx="1038240" cy="380880"/>
              </a:xfrm>
              <a:prstGeom prst="rect">
                <a:avLst/>
              </a:prstGeom>
              <a:solidFill>
                <a:srgbClr val="fcfeb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a:off x="7321680" y="762120"/>
                <a:ext cx="577800" cy="380880"/>
              </a:xfrm>
              <a:prstGeom prst="rect">
                <a:avLst/>
              </a:prstGeom>
              <a:solidFill>
                <a:srgbClr val="fcfeb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6745320" y="2286000"/>
                <a:ext cx="1673280" cy="0"/>
              </a:xfrm>
              <a:prstGeom prst="line">
                <a:avLst/>
              </a:prstGeom>
              <a:ln w="12600">
                <a:solidFill>
                  <a:srgbClr val="7144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7321680" y="1143000"/>
                <a:ext cx="635040" cy="0"/>
              </a:xfrm>
              <a:prstGeom prst="line">
                <a:avLst/>
              </a:prstGeom>
              <a:ln w="12600">
                <a:solidFill>
                  <a:srgbClr val="7144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7091280" y="1523880"/>
                <a:ext cx="1096920" cy="0"/>
              </a:xfrm>
              <a:prstGeom prst="line">
                <a:avLst/>
              </a:prstGeom>
              <a:ln w="12600">
                <a:solidFill>
                  <a:srgbClr val="7144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6918480" y="1905120"/>
                <a:ext cx="1326960" cy="0"/>
              </a:xfrm>
              <a:prstGeom prst="line">
                <a:avLst/>
              </a:prstGeom>
              <a:ln w="12600">
                <a:solidFill>
                  <a:srgbClr val="7144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6" name=""/>
            <p:cNvSpPr txBox="1"/>
            <p:nvPr/>
          </p:nvSpPr>
          <p:spPr>
            <a:xfrm>
              <a:off x="60480" y="647712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77" name=""/>
          <p:cNvGrpSpPr/>
          <p:nvPr/>
        </p:nvGrpSpPr>
        <p:grpSpPr>
          <a:xfrm>
            <a:off x="60480" y="380880"/>
            <a:ext cx="9159480" cy="6438960"/>
            <a:chOff x="60480" y="380880"/>
            <a:chExt cx="9159480" cy="6438960"/>
          </a:xfrm>
        </p:grpSpPr>
        <p:sp>
          <p:nvSpPr>
            <p:cNvPr id="178" name=""/>
            <p:cNvSpPr txBox="1"/>
            <p:nvPr/>
          </p:nvSpPr>
          <p:spPr>
            <a:xfrm>
              <a:off x="723960" y="380880"/>
              <a:ext cx="7715160" cy="1143000"/>
            </a:xfrm>
            <a:prstGeom prst="rect">
              <a:avLst/>
            </a:prstGeom>
            <a:noFill/>
            <a:ln w="0">
              <a:noFill/>
            </a:ln>
          </p:spPr>
          <p:txBody>
            <a:bodyPr lIns="0" rIns="0" tIns="0" bIns="0" anchor="t">
              <a:noAutofit/>
            </a:bodyPr>
            <a:p>
              <a:pPr>
                <a:lnSpc>
                  <a:spcPct val="100000"/>
                </a:lnSpc>
              </a:pPr>
              <a:r>
                <a:rPr b="1" lang="en-US" sz="6000" spc="-1" strike="noStrike" u="sng">
                  <a:solidFill>
                    <a:srgbClr val="fafd00"/>
                  </a:solidFill>
                  <a:uFillTx/>
                  <a:latin typeface="Times New Roman"/>
                  <a:ea typeface="Times New Roman"/>
                </a:rPr>
                <a:t>Abraham’s Journeys</a:t>
              </a:r>
              <a:endParaRPr b="0" lang="en-US" sz="6000" spc="-1" strike="noStrike">
                <a:solidFill>
                  <a:srgbClr val="000000"/>
                </a:solidFill>
                <a:latin typeface="Arial"/>
              </a:endParaRPr>
            </a:p>
          </p:txBody>
        </p:sp>
        <p:sp>
          <p:nvSpPr>
            <p:cNvPr id="179" name=""/>
            <p:cNvSpPr txBox="1"/>
            <p:nvPr/>
          </p:nvSpPr>
          <p:spPr>
            <a:xfrm>
              <a:off x="1157400" y="1981080"/>
              <a:ext cx="7791480" cy="4114800"/>
            </a:xfrm>
            <a:prstGeom prst="rect">
              <a:avLst/>
            </a:prstGeom>
            <a:noFill/>
            <a:ln w="0">
              <a:noFill/>
            </a:ln>
          </p:spPr>
          <p:txBody>
            <a:bodyPr lIns="0" rIns="0" tIns="0" bIns="0" anchor="t">
              <a:noAutofit/>
            </a:bodyPr>
            <a:p>
              <a:pPr marL="343080" indent="-343080">
                <a:lnSpc>
                  <a:spcPct val="100000"/>
                </a:lnSpc>
                <a:spcBef>
                  <a:spcPts val="479"/>
                </a:spcBef>
                <a:buClr>
                  <a:srgbClr val="c0fef9"/>
                </a:buClr>
                <a:buSzPct val="75000"/>
                <a:buFont typeface="Monotype Sorts"/>
                <a:buChar char=""/>
              </a:pPr>
              <a:r>
                <a:rPr b="0" lang="en-US" sz="3200" spc="-1" strike="noStrike">
                  <a:solidFill>
                    <a:srgbClr val="ffffff"/>
                  </a:solidFill>
                  <a:latin typeface="Times New Roman"/>
                  <a:ea typeface="Times New Roman"/>
                </a:rPr>
                <a:t>Click to add text</a:t>
              </a:r>
              <a:endParaRPr b="0" lang="en-US" sz="3200" spc="-1" strike="noStrike">
                <a:solidFill>
                  <a:srgbClr val="000000"/>
                </a:solidFill>
                <a:latin typeface="Arial"/>
              </a:endParaRPr>
            </a:p>
          </p:txBody>
        </p:sp>
        <p:pic>
          <p:nvPicPr>
            <p:cNvPr id="180" name="" descr=""/>
            <p:cNvPicPr/>
            <p:nvPr/>
          </p:nvPicPr>
          <p:blipFill>
            <a:blip r:embed="rId1"/>
            <a:stretch/>
          </p:blipFill>
          <p:spPr>
            <a:xfrm>
              <a:off x="76320" y="1384200"/>
              <a:ext cx="9048600" cy="5435640"/>
            </a:xfrm>
            <a:prstGeom prst="rect">
              <a:avLst/>
            </a:prstGeom>
            <a:ln w="0">
              <a:noFill/>
            </a:ln>
          </p:spPr>
        </p:pic>
        <p:sp>
          <p:nvSpPr>
            <p:cNvPr id="181" name=""/>
            <p:cNvSpPr/>
            <p:nvPr/>
          </p:nvSpPr>
          <p:spPr>
            <a:xfrm>
              <a:off x="5421240" y="4419720"/>
              <a:ext cx="397080" cy="706680"/>
            </a:xfrm>
            <a:custGeom>
              <a:avLst/>
              <a:gdLst/>
              <a:ahLst/>
              <a:rect l="0" t="0" r="r" b="b"/>
              <a:pathLst>
                <a:path w="1103" h="1963">
                  <a:moveTo>
                    <a:pt x="180" y="0"/>
                  </a:moveTo>
                  <a:lnTo>
                    <a:pt x="335" y="39"/>
                  </a:lnTo>
                  <a:lnTo>
                    <a:pt x="480" y="39"/>
                  </a:lnTo>
                  <a:lnTo>
                    <a:pt x="671" y="88"/>
                  </a:lnTo>
                  <a:lnTo>
                    <a:pt x="816" y="136"/>
                  </a:lnTo>
                  <a:lnTo>
                    <a:pt x="962" y="326"/>
                  </a:lnTo>
                  <a:lnTo>
                    <a:pt x="1010" y="471"/>
                  </a:lnTo>
                  <a:lnTo>
                    <a:pt x="1103" y="617"/>
                  </a:lnTo>
                  <a:lnTo>
                    <a:pt x="1103" y="806"/>
                  </a:lnTo>
                  <a:lnTo>
                    <a:pt x="1059" y="952"/>
                  </a:lnTo>
                  <a:lnTo>
                    <a:pt x="1010" y="1099"/>
                  </a:lnTo>
                  <a:lnTo>
                    <a:pt x="962" y="1288"/>
                  </a:lnTo>
                  <a:lnTo>
                    <a:pt x="913" y="1434"/>
                  </a:lnTo>
                  <a:lnTo>
                    <a:pt x="768" y="1579"/>
                  </a:lnTo>
                  <a:lnTo>
                    <a:pt x="622" y="1725"/>
                  </a:lnTo>
                  <a:lnTo>
                    <a:pt x="432" y="1817"/>
                  </a:lnTo>
                  <a:lnTo>
                    <a:pt x="286" y="1866"/>
                  </a:lnTo>
                  <a:lnTo>
                    <a:pt x="141" y="1963"/>
                  </a:lnTo>
                  <a:lnTo>
                    <a:pt x="0" y="1817"/>
                  </a:lnTo>
                  <a:lnTo>
                    <a:pt x="0" y="1628"/>
                  </a:lnTo>
                  <a:lnTo>
                    <a:pt x="0" y="1482"/>
                  </a:lnTo>
                  <a:lnTo>
                    <a:pt x="141" y="1337"/>
                  </a:lnTo>
                  <a:lnTo>
                    <a:pt x="286" y="1196"/>
                  </a:lnTo>
                  <a:lnTo>
                    <a:pt x="383" y="1050"/>
                  </a:lnTo>
                  <a:lnTo>
                    <a:pt x="180" y="0"/>
                  </a:lnTo>
                  <a:close/>
                </a:path>
              </a:pathLst>
            </a:custGeom>
            <a:solidFill>
              <a:srgbClr val="00ae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txBox="1"/>
            <p:nvPr/>
          </p:nvSpPr>
          <p:spPr>
            <a:xfrm>
              <a:off x="2270160" y="4265640"/>
              <a:ext cx="312912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Mediterranean</a:t>
              </a:r>
              <a:endParaRPr b="0" lang="en-US" sz="3600" spc="-1" strike="noStrike">
                <a:solidFill>
                  <a:srgbClr val="000000"/>
                </a:solidFill>
                <a:latin typeface="Arial"/>
              </a:endParaRPr>
            </a:p>
          </p:txBody>
        </p:sp>
        <p:sp>
          <p:nvSpPr>
            <p:cNvPr id="183" name=""/>
            <p:cNvSpPr txBox="1"/>
            <p:nvPr/>
          </p:nvSpPr>
          <p:spPr>
            <a:xfrm>
              <a:off x="3413160" y="5484960"/>
              <a:ext cx="135252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Egypt</a:t>
              </a:r>
              <a:endParaRPr b="0" lang="en-US" sz="3600" spc="-1" strike="noStrike">
                <a:solidFill>
                  <a:srgbClr val="000000"/>
                </a:solidFill>
                <a:latin typeface="Arial"/>
              </a:endParaRPr>
            </a:p>
          </p:txBody>
        </p:sp>
        <p:sp>
          <p:nvSpPr>
            <p:cNvPr id="184" name=""/>
            <p:cNvSpPr/>
            <p:nvPr/>
          </p:nvSpPr>
          <p:spPr>
            <a:xfrm>
              <a:off x="6400800" y="4952880"/>
              <a:ext cx="533880" cy="533880"/>
            </a:xfrm>
            <a:custGeom>
              <a:avLst/>
              <a:gdLst/>
              <a:ahLst/>
              <a:rect l="0" t="0" r="r" b="b"/>
              <a:pathLst>
                <a:path w="1483" h="1483">
                  <a:moveTo>
                    <a:pt x="741" y="0"/>
                  </a:moveTo>
                  <a:lnTo>
                    <a:pt x="568" y="568"/>
                  </a:lnTo>
                  <a:lnTo>
                    <a:pt x="0" y="568"/>
                  </a:lnTo>
                  <a:lnTo>
                    <a:pt x="462" y="919"/>
                  </a:lnTo>
                  <a:lnTo>
                    <a:pt x="287" y="1483"/>
                  </a:lnTo>
                  <a:lnTo>
                    <a:pt x="741" y="1157"/>
                  </a:lnTo>
                  <a:lnTo>
                    <a:pt x="1195" y="1483"/>
                  </a:lnTo>
                  <a:lnTo>
                    <a:pt x="1020" y="919"/>
                  </a:lnTo>
                  <a:lnTo>
                    <a:pt x="1483" y="567"/>
                  </a:lnTo>
                  <a:lnTo>
                    <a:pt x="914" y="567"/>
                  </a:lnTo>
                  <a:lnTo>
                    <a:pt x="741"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781680" y="4098960"/>
              <a:ext cx="2438280" cy="228924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Times New Roman"/>
                  <a:ea typeface="Times New Roman"/>
                </a:rPr>
                <a:t>Haran &amp; Ur of the Chaldeans</a:t>
              </a:r>
              <a:endParaRPr b="0" lang="en-US" sz="3600" spc="-1" strike="noStrike">
                <a:solidFill>
                  <a:srgbClr val="000000"/>
                </a:solidFill>
                <a:latin typeface="Arial"/>
              </a:endParaRPr>
            </a:p>
            <a:p>
              <a:pPr algn="ctr">
                <a:lnSpc>
                  <a:spcPct val="100000"/>
                </a:lnSpc>
              </a:pPr>
              <a:r>
                <a:rPr b="1" lang="en-US" sz="3600" spc="-1" strike="noStrike">
                  <a:solidFill>
                    <a:srgbClr val="fafd00"/>
                  </a:solidFill>
                  <a:latin typeface="Times New Roman"/>
                  <a:ea typeface="Times New Roman"/>
                </a:rPr>
                <a:t>(Iraq)</a:t>
              </a:r>
              <a:endParaRPr b="0" lang="en-US" sz="3600" spc="-1" strike="noStrike">
                <a:solidFill>
                  <a:srgbClr val="000000"/>
                </a:solidFill>
                <a:latin typeface="Arial"/>
              </a:endParaRPr>
            </a:p>
          </p:txBody>
        </p:sp>
        <p:sp>
          <p:nvSpPr>
            <p:cNvPr id="186" name=""/>
            <p:cNvSpPr/>
            <p:nvPr/>
          </p:nvSpPr>
          <p:spPr>
            <a:xfrm>
              <a:off x="4675320" y="4138560"/>
              <a:ext cx="1905480" cy="1368720"/>
            </a:xfrm>
            <a:custGeom>
              <a:avLst/>
              <a:gdLst/>
              <a:ahLst/>
              <a:rect l="0" t="0" r="r" b="b"/>
              <a:pathLst>
                <a:path fill="none" w="5293" h="3802">
                  <a:moveTo>
                    <a:pt x="5218" y="2686"/>
                  </a:moveTo>
                  <a:lnTo>
                    <a:pt x="5293" y="2505"/>
                  </a:lnTo>
                  <a:lnTo>
                    <a:pt x="5201" y="2360"/>
                  </a:lnTo>
                  <a:lnTo>
                    <a:pt x="5104" y="2214"/>
                  </a:lnTo>
                  <a:lnTo>
                    <a:pt x="4958" y="2069"/>
                  </a:lnTo>
                  <a:lnTo>
                    <a:pt x="4813" y="1928"/>
                  </a:lnTo>
                  <a:lnTo>
                    <a:pt x="4671" y="1781"/>
                  </a:lnTo>
                  <a:lnTo>
                    <a:pt x="4526" y="1684"/>
                  </a:lnTo>
                  <a:lnTo>
                    <a:pt x="4380" y="1538"/>
                  </a:lnTo>
                  <a:lnTo>
                    <a:pt x="4235" y="1446"/>
                  </a:lnTo>
                  <a:lnTo>
                    <a:pt x="4045" y="1397"/>
                  </a:lnTo>
                  <a:lnTo>
                    <a:pt x="3899" y="1300"/>
                  </a:lnTo>
                  <a:lnTo>
                    <a:pt x="3850" y="1155"/>
                  </a:lnTo>
                  <a:lnTo>
                    <a:pt x="3850" y="1009"/>
                  </a:lnTo>
                  <a:lnTo>
                    <a:pt x="3753" y="820"/>
                  </a:lnTo>
                  <a:lnTo>
                    <a:pt x="3661" y="674"/>
                  </a:lnTo>
                  <a:lnTo>
                    <a:pt x="3564" y="529"/>
                  </a:lnTo>
                  <a:lnTo>
                    <a:pt x="3467" y="339"/>
                  </a:lnTo>
                  <a:lnTo>
                    <a:pt x="3370" y="194"/>
                  </a:lnTo>
                  <a:lnTo>
                    <a:pt x="3224" y="145"/>
                  </a:lnTo>
                  <a:lnTo>
                    <a:pt x="3083" y="0"/>
                  </a:lnTo>
                  <a:lnTo>
                    <a:pt x="3034" y="145"/>
                  </a:lnTo>
                  <a:lnTo>
                    <a:pt x="2937" y="291"/>
                  </a:lnTo>
                  <a:lnTo>
                    <a:pt x="2840" y="480"/>
                  </a:lnTo>
                  <a:lnTo>
                    <a:pt x="2743" y="626"/>
                  </a:lnTo>
                  <a:lnTo>
                    <a:pt x="2695" y="771"/>
                  </a:lnTo>
                  <a:lnTo>
                    <a:pt x="2646" y="917"/>
                  </a:lnTo>
                  <a:lnTo>
                    <a:pt x="2646" y="1106"/>
                  </a:lnTo>
                  <a:lnTo>
                    <a:pt x="2646" y="1252"/>
                  </a:lnTo>
                  <a:lnTo>
                    <a:pt x="2602" y="1397"/>
                  </a:lnTo>
                  <a:lnTo>
                    <a:pt x="2602" y="1587"/>
                  </a:lnTo>
                  <a:lnTo>
                    <a:pt x="2554" y="1733"/>
                  </a:lnTo>
                  <a:lnTo>
                    <a:pt x="2554" y="1878"/>
                  </a:lnTo>
                  <a:lnTo>
                    <a:pt x="2457" y="2069"/>
                  </a:lnTo>
                  <a:lnTo>
                    <a:pt x="2360" y="2214"/>
                  </a:lnTo>
                  <a:lnTo>
                    <a:pt x="2263" y="2360"/>
                  </a:lnTo>
                  <a:lnTo>
                    <a:pt x="2214" y="2505"/>
                  </a:lnTo>
                  <a:lnTo>
                    <a:pt x="2117" y="2695"/>
                  </a:lnTo>
                  <a:lnTo>
                    <a:pt x="2025" y="2840"/>
                  </a:lnTo>
                  <a:lnTo>
                    <a:pt x="1879" y="2937"/>
                  </a:lnTo>
                  <a:lnTo>
                    <a:pt x="1734" y="3034"/>
                  </a:lnTo>
                  <a:lnTo>
                    <a:pt x="1588" y="3127"/>
                  </a:lnTo>
                  <a:lnTo>
                    <a:pt x="1398" y="3224"/>
                  </a:lnTo>
                  <a:lnTo>
                    <a:pt x="1252" y="3321"/>
                  </a:lnTo>
                  <a:lnTo>
                    <a:pt x="1106" y="3370"/>
                  </a:lnTo>
                  <a:lnTo>
                    <a:pt x="917" y="3370"/>
                  </a:lnTo>
                  <a:lnTo>
                    <a:pt x="771" y="3370"/>
                  </a:lnTo>
                  <a:lnTo>
                    <a:pt x="626" y="3418"/>
                  </a:lnTo>
                  <a:lnTo>
                    <a:pt x="436" y="3418"/>
                  </a:lnTo>
                  <a:lnTo>
                    <a:pt x="291" y="3467"/>
                  </a:lnTo>
                  <a:lnTo>
                    <a:pt x="145" y="3515"/>
                  </a:lnTo>
                  <a:lnTo>
                    <a:pt x="0" y="3515"/>
                  </a:lnTo>
                  <a:lnTo>
                    <a:pt x="145" y="3656"/>
                  </a:lnTo>
                  <a:lnTo>
                    <a:pt x="291" y="3753"/>
                  </a:lnTo>
                  <a:lnTo>
                    <a:pt x="436" y="3802"/>
                  </a:lnTo>
                  <a:lnTo>
                    <a:pt x="626" y="3802"/>
                  </a:lnTo>
                  <a:lnTo>
                    <a:pt x="771" y="3802"/>
                  </a:lnTo>
                  <a:lnTo>
                    <a:pt x="917" y="3802"/>
                  </a:lnTo>
                  <a:lnTo>
                    <a:pt x="1106" y="3656"/>
                  </a:lnTo>
                  <a:lnTo>
                    <a:pt x="1252" y="3608"/>
                  </a:lnTo>
                  <a:lnTo>
                    <a:pt x="1398" y="3564"/>
                  </a:lnTo>
                  <a:lnTo>
                    <a:pt x="1544" y="3467"/>
                  </a:lnTo>
                  <a:lnTo>
                    <a:pt x="1734" y="3321"/>
                  </a:lnTo>
                  <a:lnTo>
                    <a:pt x="1831" y="3176"/>
                  </a:lnTo>
                  <a:lnTo>
                    <a:pt x="1976" y="3034"/>
                  </a:lnTo>
                  <a:lnTo>
                    <a:pt x="2025" y="2889"/>
                  </a:lnTo>
                </a:path>
              </a:pathLst>
            </a:custGeom>
            <a:ln w="12600">
              <a:solidFill>
                <a:srgbClr val="ff5008"/>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6283440" y="4718160"/>
              <a:ext cx="15840" cy="128520"/>
            </a:xfrm>
            <a:prstGeom prst="line">
              <a:avLst/>
            </a:prstGeom>
            <a:ln w="12600">
              <a:solidFill>
                <a:srgbClr val="ff500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6289560" y="4714920"/>
              <a:ext cx="95400" cy="9360"/>
            </a:xfrm>
            <a:prstGeom prst="line">
              <a:avLst/>
            </a:prstGeom>
            <a:ln w="12600">
              <a:solidFill>
                <a:srgbClr val="ff5008"/>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189" name=""/>
            <p:cNvSpPr/>
            <p:nvPr/>
          </p:nvSpPr>
          <p:spPr>
            <a:xfrm flipH="1" flipV="1">
              <a:off x="5592600" y="4572000"/>
              <a:ext cx="16200" cy="92160"/>
            </a:xfrm>
            <a:prstGeom prst="line">
              <a:avLst/>
            </a:prstGeom>
            <a:ln w="12600">
              <a:solidFill>
                <a:srgbClr val="ff5008"/>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90" name=""/>
            <p:cNvSpPr/>
            <p:nvPr/>
          </p:nvSpPr>
          <p:spPr>
            <a:xfrm flipV="1">
              <a:off x="5613480" y="4597560"/>
              <a:ext cx="50760" cy="66600"/>
            </a:xfrm>
            <a:prstGeom prst="line">
              <a:avLst/>
            </a:prstGeom>
            <a:ln w="12600">
              <a:solidFill>
                <a:srgbClr val="ff5008"/>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91" name=""/>
            <p:cNvSpPr/>
            <p:nvPr/>
          </p:nvSpPr>
          <p:spPr>
            <a:xfrm flipV="1">
              <a:off x="5079960" y="5237280"/>
              <a:ext cx="60480" cy="106200"/>
            </a:xfrm>
            <a:prstGeom prst="line">
              <a:avLst/>
            </a:prstGeom>
            <a:ln w="12600">
              <a:solidFill>
                <a:srgbClr val="ff500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flipH="1" flipV="1">
              <a:off x="5094360" y="5322960"/>
              <a:ext cx="108000" cy="15840"/>
            </a:xfrm>
            <a:prstGeom prst="line">
              <a:avLst/>
            </a:prstGeom>
            <a:ln w="12600">
              <a:solidFill>
                <a:srgbClr val="ff5008"/>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193" name=""/>
            <p:cNvSpPr/>
            <p:nvPr/>
          </p:nvSpPr>
          <p:spPr>
            <a:xfrm flipH="1" flipV="1">
              <a:off x="5019840" y="5419800"/>
              <a:ext cx="95040" cy="6120"/>
            </a:xfrm>
            <a:prstGeom prst="line">
              <a:avLst/>
            </a:prstGeom>
            <a:ln w="12600">
              <a:solidFill>
                <a:srgbClr val="ff5008"/>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94" name=""/>
            <p:cNvSpPr/>
            <p:nvPr/>
          </p:nvSpPr>
          <p:spPr>
            <a:xfrm flipH="1">
              <a:off x="5095800" y="5419800"/>
              <a:ext cx="34920" cy="82440"/>
            </a:xfrm>
            <a:prstGeom prst="line">
              <a:avLst/>
            </a:prstGeom>
            <a:ln w="12600">
              <a:solidFill>
                <a:srgbClr val="ff5008"/>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95" name=""/>
            <p:cNvSpPr txBox="1"/>
            <p:nvPr/>
          </p:nvSpPr>
          <p:spPr>
            <a:xfrm>
              <a:off x="5318280" y="3808440"/>
              <a:ext cx="170820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Canaan</a:t>
              </a:r>
              <a:endParaRPr b="0" lang="en-US" sz="3600" spc="-1" strike="noStrike">
                <a:solidFill>
                  <a:srgbClr val="000000"/>
                </a:solidFill>
                <a:latin typeface="Arial"/>
              </a:endParaRPr>
            </a:p>
          </p:txBody>
        </p:sp>
        <p:sp>
          <p:nvSpPr>
            <p:cNvPr id="196" name=""/>
            <p:cNvSpPr txBox="1"/>
            <p:nvPr/>
          </p:nvSpPr>
          <p:spPr>
            <a:xfrm>
              <a:off x="60480" y="647712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97" name=""/>
          <p:cNvGrpSpPr/>
          <p:nvPr/>
        </p:nvGrpSpPr>
        <p:grpSpPr>
          <a:xfrm>
            <a:off x="334800" y="49320"/>
            <a:ext cx="8586720" cy="6796080"/>
            <a:chOff x="334800" y="49320"/>
            <a:chExt cx="8586720" cy="6796080"/>
          </a:xfrm>
        </p:grpSpPr>
        <p:sp>
          <p:nvSpPr>
            <p:cNvPr id="198" name=""/>
            <p:cNvSpPr/>
            <p:nvPr/>
          </p:nvSpPr>
          <p:spPr>
            <a:xfrm flipH="1" flipV="1">
              <a:off x="5519880" y="2724120"/>
              <a:ext cx="177480" cy="92160"/>
            </a:xfrm>
            <a:prstGeom prst="line">
              <a:avLst/>
            </a:prstGeom>
            <a:ln w="12600">
              <a:solidFill>
                <a:srgbClr val="ff5008"/>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99" name=""/>
            <p:cNvSpPr/>
            <p:nvPr/>
          </p:nvSpPr>
          <p:spPr>
            <a:xfrm flipH="1">
              <a:off x="5565600" y="2892600"/>
              <a:ext cx="192240" cy="107640"/>
            </a:xfrm>
            <a:prstGeom prst="line">
              <a:avLst/>
            </a:prstGeom>
            <a:ln w="12600">
              <a:solidFill>
                <a:srgbClr val="ff500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flipH="1" flipV="1">
              <a:off x="4778280" y="2603520"/>
              <a:ext cx="297000" cy="104760"/>
            </a:xfrm>
            <a:prstGeom prst="line">
              <a:avLst/>
            </a:prstGeom>
            <a:ln w="12600">
              <a:solidFill>
                <a:srgbClr val="ff500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V="1">
              <a:off x="4869000" y="2462040"/>
              <a:ext cx="206280" cy="108000"/>
            </a:xfrm>
            <a:prstGeom prst="line">
              <a:avLst/>
            </a:prstGeom>
            <a:ln w="12600">
              <a:solidFill>
                <a:srgbClr val="ff500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txBox="1"/>
            <p:nvPr/>
          </p:nvSpPr>
          <p:spPr>
            <a:xfrm>
              <a:off x="466560" y="49320"/>
              <a:ext cx="6519960" cy="701640"/>
            </a:xfrm>
            <a:prstGeom prst="rect">
              <a:avLst/>
            </a:prstGeom>
            <a:noFill/>
            <a:ln w="0">
              <a:noFill/>
            </a:ln>
          </p:spPr>
          <p:txBody>
            <a:bodyPr lIns="0" rIns="0" tIns="0" bIns="0" anchor="t">
              <a:noAutofit/>
            </a:bodyPr>
            <a:p>
              <a:pPr>
                <a:lnSpc>
                  <a:spcPct val="100000"/>
                </a:lnSpc>
              </a:pPr>
              <a:r>
                <a:rPr b="1" lang="en-US" sz="4000" spc="-1" strike="noStrike" u="sng">
                  <a:solidFill>
                    <a:srgbClr val="f35b1b"/>
                  </a:solidFill>
                  <a:uFillTx/>
                  <a:latin typeface="Times New Roman"/>
                  <a:ea typeface="Times New Roman"/>
                </a:rPr>
                <a:t>Abraham’s Journey to Egypt</a:t>
              </a:r>
              <a:endParaRPr b="0" lang="en-US" sz="4000" spc="-1" strike="noStrike">
                <a:solidFill>
                  <a:srgbClr val="000000"/>
                </a:solidFill>
                <a:latin typeface="Arial"/>
              </a:endParaRPr>
            </a:p>
          </p:txBody>
        </p:sp>
        <p:pic>
          <p:nvPicPr>
            <p:cNvPr id="203" name="" descr=""/>
            <p:cNvPicPr/>
            <p:nvPr/>
          </p:nvPicPr>
          <p:blipFill>
            <a:blip r:embed="rId1"/>
            <a:stretch/>
          </p:blipFill>
          <p:spPr>
            <a:xfrm>
              <a:off x="334800" y="162000"/>
              <a:ext cx="8586720" cy="6613560"/>
            </a:xfrm>
            <a:prstGeom prst="rect">
              <a:avLst/>
            </a:prstGeom>
            <a:ln w="0">
              <a:noFill/>
            </a:ln>
          </p:spPr>
        </p:pic>
        <p:sp>
          <p:nvSpPr>
            <p:cNvPr id="204" name=""/>
            <p:cNvSpPr txBox="1"/>
            <p:nvPr/>
          </p:nvSpPr>
          <p:spPr>
            <a:xfrm>
              <a:off x="525600" y="3855960"/>
              <a:ext cx="1936800" cy="914400"/>
            </a:xfrm>
            <a:prstGeom prst="rect">
              <a:avLst/>
            </a:prstGeom>
            <a:noFill/>
            <a:ln w="0">
              <a:noFill/>
            </a:ln>
          </p:spPr>
          <p:txBody>
            <a:bodyPr lIns="0" rIns="0" tIns="0" bIns="0" anchor="t">
              <a:noAutofit/>
            </a:bodyPr>
            <a:p>
              <a:pPr>
                <a:lnSpc>
                  <a:spcPct val="100000"/>
                </a:lnSpc>
              </a:pPr>
              <a:r>
                <a:rPr b="1" lang="en-US" sz="5400" spc="-1" strike="noStrike">
                  <a:solidFill>
                    <a:srgbClr val="ffffff"/>
                  </a:solidFill>
                  <a:latin typeface="Times New Roman"/>
                  <a:ea typeface="Times New Roman"/>
                </a:rPr>
                <a:t>Egypt</a:t>
              </a:r>
              <a:endParaRPr b="0" lang="en-US" sz="5400" spc="-1" strike="noStrike">
                <a:solidFill>
                  <a:srgbClr val="000000"/>
                </a:solidFill>
                <a:latin typeface="Arial"/>
              </a:endParaRPr>
            </a:p>
          </p:txBody>
        </p:sp>
        <p:sp>
          <p:nvSpPr>
            <p:cNvPr id="205" name=""/>
            <p:cNvSpPr txBox="1"/>
            <p:nvPr/>
          </p:nvSpPr>
          <p:spPr>
            <a:xfrm>
              <a:off x="458640" y="3189240"/>
              <a:ext cx="88416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Times New Roman"/>
                  <a:ea typeface="Times New Roman"/>
                </a:rPr>
                <a:t>Nile</a:t>
              </a:r>
              <a:endParaRPr b="0" lang="en-US" sz="3200" spc="-1" strike="noStrike">
                <a:solidFill>
                  <a:srgbClr val="000000"/>
                </a:solidFill>
                <a:latin typeface="Arial"/>
              </a:endParaRPr>
            </a:p>
          </p:txBody>
        </p:sp>
        <p:sp>
          <p:nvSpPr>
            <p:cNvPr id="206" name=""/>
            <p:cNvSpPr txBox="1"/>
            <p:nvPr/>
          </p:nvSpPr>
          <p:spPr>
            <a:xfrm>
              <a:off x="1144440" y="2265480"/>
              <a:ext cx="191124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Nile Delta</a:t>
              </a:r>
              <a:endParaRPr b="0" lang="en-US" sz="3200" spc="-1" strike="noStrike">
                <a:solidFill>
                  <a:srgbClr val="000000"/>
                </a:solidFill>
                <a:latin typeface="Arial"/>
              </a:endParaRPr>
            </a:p>
          </p:txBody>
        </p:sp>
        <p:sp>
          <p:nvSpPr>
            <p:cNvPr id="207" name=""/>
            <p:cNvSpPr txBox="1"/>
            <p:nvPr/>
          </p:nvSpPr>
          <p:spPr>
            <a:xfrm>
              <a:off x="1471680" y="1341360"/>
              <a:ext cx="4702320" cy="701640"/>
            </a:xfrm>
            <a:prstGeom prst="rect">
              <a:avLst/>
            </a:prstGeom>
            <a:noFill/>
            <a:ln w="0">
              <a:noFill/>
            </a:ln>
          </p:spPr>
          <p:txBody>
            <a:bodyPr lIns="0" rIns="0" tIns="0" bIns="0" anchor="t">
              <a:noAutofit/>
            </a:bodyPr>
            <a:p>
              <a:pPr>
                <a:lnSpc>
                  <a:spcPct val="100000"/>
                </a:lnSpc>
              </a:pPr>
              <a:r>
                <a:rPr b="1" lang="en-US" sz="4000" spc="-1" strike="noStrike">
                  <a:solidFill>
                    <a:srgbClr val="ffffff"/>
                  </a:solidFill>
                  <a:latin typeface="Arial"/>
                  <a:ea typeface="Arial"/>
                </a:rPr>
                <a:t>Mediterranean Sea</a:t>
              </a:r>
              <a:endParaRPr b="0" lang="en-US" sz="4000" spc="-1" strike="noStrike">
                <a:solidFill>
                  <a:srgbClr val="000000"/>
                </a:solidFill>
                <a:latin typeface="Arial"/>
              </a:endParaRPr>
            </a:p>
          </p:txBody>
        </p:sp>
        <p:sp>
          <p:nvSpPr>
            <p:cNvPr id="208" name=""/>
            <p:cNvSpPr txBox="1"/>
            <p:nvPr/>
          </p:nvSpPr>
          <p:spPr>
            <a:xfrm>
              <a:off x="7023240" y="6388200"/>
              <a:ext cx="1801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ASA Photo</a:t>
              </a:r>
              <a:endParaRPr b="0" lang="en-US" sz="2400" spc="-1" strike="noStrike">
                <a:solidFill>
                  <a:srgbClr val="000000"/>
                </a:solidFill>
                <a:latin typeface="Arial"/>
              </a:endParaRPr>
            </a:p>
          </p:txBody>
        </p:sp>
        <p:sp>
          <p:nvSpPr>
            <p:cNvPr id="209" name=""/>
            <p:cNvSpPr txBox="1"/>
            <p:nvPr/>
          </p:nvSpPr>
          <p:spPr>
            <a:xfrm>
              <a:off x="3809880" y="4340160"/>
              <a:ext cx="117468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Sinai</a:t>
              </a:r>
              <a:endParaRPr b="0" lang="en-US" sz="3600" spc="-1" strike="noStrike">
                <a:solidFill>
                  <a:srgbClr val="000000"/>
                </a:solidFill>
                <a:latin typeface="Arial"/>
              </a:endParaRPr>
            </a:p>
          </p:txBody>
        </p:sp>
        <p:sp>
          <p:nvSpPr>
            <p:cNvPr id="210" name=""/>
            <p:cNvSpPr/>
            <p:nvPr/>
          </p:nvSpPr>
          <p:spPr>
            <a:xfrm>
              <a:off x="2362320" y="803160"/>
              <a:ext cx="6513840" cy="2215080"/>
            </a:xfrm>
            <a:custGeom>
              <a:avLst/>
              <a:gdLst/>
              <a:ahLst/>
              <a:rect l="0" t="0" r="r" b="b"/>
              <a:pathLst>
                <a:path fill="none" w="18094" h="6153">
                  <a:moveTo>
                    <a:pt x="18094" y="596"/>
                  </a:moveTo>
                  <a:lnTo>
                    <a:pt x="17969" y="511"/>
                  </a:lnTo>
                  <a:lnTo>
                    <a:pt x="17888" y="382"/>
                  </a:lnTo>
                  <a:lnTo>
                    <a:pt x="17764" y="298"/>
                  </a:lnTo>
                  <a:lnTo>
                    <a:pt x="17601" y="253"/>
                  </a:lnTo>
                  <a:lnTo>
                    <a:pt x="17477" y="124"/>
                  </a:lnTo>
                  <a:lnTo>
                    <a:pt x="17353" y="84"/>
                  </a:lnTo>
                  <a:lnTo>
                    <a:pt x="17190" y="0"/>
                  </a:lnTo>
                  <a:lnTo>
                    <a:pt x="17066" y="0"/>
                  </a:lnTo>
                  <a:lnTo>
                    <a:pt x="16941" y="84"/>
                  </a:lnTo>
                  <a:lnTo>
                    <a:pt x="16821" y="213"/>
                  </a:lnTo>
                  <a:lnTo>
                    <a:pt x="16697" y="338"/>
                  </a:lnTo>
                  <a:lnTo>
                    <a:pt x="16616" y="467"/>
                  </a:lnTo>
                  <a:lnTo>
                    <a:pt x="16492" y="551"/>
                  </a:lnTo>
                  <a:lnTo>
                    <a:pt x="16410" y="681"/>
                  </a:lnTo>
                  <a:lnTo>
                    <a:pt x="16286" y="765"/>
                  </a:lnTo>
                  <a:lnTo>
                    <a:pt x="16162" y="894"/>
                  </a:lnTo>
                  <a:lnTo>
                    <a:pt x="16038" y="939"/>
                  </a:lnTo>
                  <a:lnTo>
                    <a:pt x="15913" y="1068"/>
                  </a:lnTo>
                  <a:lnTo>
                    <a:pt x="15751" y="1192"/>
                  </a:lnTo>
                  <a:lnTo>
                    <a:pt x="15626" y="1281"/>
                  </a:lnTo>
                  <a:lnTo>
                    <a:pt x="15502" y="1366"/>
                  </a:lnTo>
                  <a:lnTo>
                    <a:pt x="15382" y="1495"/>
                  </a:lnTo>
                  <a:lnTo>
                    <a:pt x="15258" y="1581"/>
                  </a:lnTo>
                  <a:lnTo>
                    <a:pt x="15134" y="1665"/>
                  </a:lnTo>
                  <a:lnTo>
                    <a:pt x="15010" y="1794"/>
                  </a:lnTo>
                  <a:lnTo>
                    <a:pt x="14885" y="1879"/>
                  </a:lnTo>
                  <a:lnTo>
                    <a:pt x="14723" y="2008"/>
                  </a:lnTo>
                  <a:lnTo>
                    <a:pt x="14598" y="2093"/>
                  </a:lnTo>
                  <a:lnTo>
                    <a:pt x="14474" y="2177"/>
                  </a:lnTo>
                  <a:lnTo>
                    <a:pt x="14311" y="2262"/>
                  </a:lnTo>
                  <a:lnTo>
                    <a:pt x="13943" y="2351"/>
                  </a:lnTo>
                  <a:lnTo>
                    <a:pt x="13652" y="2391"/>
                  </a:lnTo>
                  <a:lnTo>
                    <a:pt x="13532" y="2520"/>
                  </a:lnTo>
                  <a:lnTo>
                    <a:pt x="13159" y="2604"/>
                  </a:lnTo>
                  <a:lnTo>
                    <a:pt x="13035" y="2689"/>
                  </a:lnTo>
                  <a:lnTo>
                    <a:pt x="12872" y="2818"/>
                  </a:lnTo>
                  <a:lnTo>
                    <a:pt x="12748" y="2903"/>
                  </a:lnTo>
                  <a:lnTo>
                    <a:pt x="12667" y="3032"/>
                  </a:lnTo>
                  <a:lnTo>
                    <a:pt x="12542" y="3116"/>
                  </a:lnTo>
                  <a:lnTo>
                    <a:pt x="12461" y="3245"/>
                  </a:lnTo>
                  <a:lnTo>
                    <a:pt x="12337" y="3290"/>
                  </a:lnTo>
                  <a:lnTo>
                    <a:pt x="12050" y="3375"/>
                  </a:lnTo>
                  <a:lnTo>
                    <a:pt x="11720" y="3459"/>
                  </a:lnTo>
                  <a:lnTo>
                    <a:pt x="11433" y="3544"/>
                  </a:lnTo>
                  <a:lnTo>
                    <a:pt x="11103" y="3633"/>
                  </a:lnTo>
                  <a:lnTo>
                    <a:pt x="10816" y="3717"/>
                  </a:lnTo>
                  <a:lnTo>
                    <a:pt x="10692" y="3802"/>
                  </a:lnTo>
                  <a:lnTo>
                    <a:pt x="10568" y="4185"/>
                  </a:lnTo>
                  <a:lnTo>
                    <a:pt x="10486" y="4487"/>
                  </a:lnTo>
                  <a:lnTo>
                    <a:pt x="10405" y="4827"/>
                  </a:lnTo>
                  <a:lnTo>
                    <a:pt x="10323" y="4956"/>
                  </a:lnTo>
                  <a:lnTo>
                    <a:pt x="10199" y="5040"/>
                  </a:lnTo>
                  <a:lnTo>
                    <a:pt x="9831" y="5085"/>
                  </a:lnTo>
                  <a:lnTo>
                    <a:pt x="9458" y="5085"/>
                  </a:lnTo>
                  <a:lnTo>
                    <a:pt x="9334" y="5129"/>
                  </a:lnTo>
                  <a:lnTo>
                    <a:pt x="9046" y="5129"/>
                  </a:lnTo>
                  <a:lnTo>
                    <a:pt x="8922" y="5169"/>
                  </a:lnTo>
                  <a:lnTo>
                    <a:pt x="8759" y="5254"/>
                  </a:lnTo>
                  <a:lnTo>
                    <a:pt x="8391" y="5298"/>
                  </a:lnTo>
                  <a:lnTo>
                    <a:pt x="8018" y="5383"/>
                  </a:lnTo>
                  <a:lnTo>
                    <a:pt x="7894" y="5428"/>
                  </a:lnTo>
                  <a:lnTo>
                    <a:pt x="7731" y="5428"/>
                  </a:lnTo>
                  <a:lnTo>
                    <a:pt x="7607" y="5428"/>
                  </a:lnTo>
                  <a:lnTo>
                    <a:pt x="7238" y="5428"/>
                  </a:lnTo>
                  <a:lnTo>
                    <a:pt x="6866" y="5428"/>
                  </a:lnTo>
                  <a:lnTo>
                    <a:pt x="6497" y="5428"/>
                  </a:lnTo>
                  <a:lnTo>
                    <a:pt x="6373" y="5468"/>
                  </a:lnTo>
                  <a:lnTo>
                    <a:pt x="6043" y="5468"/>
                  </a:lnTo>
                  <a:lnTo>
                    <a:pt x="5675" y="5512"/>
                  </a:lnTo>
                  <a:lnTo>
                    <a:pt x="5345" y="5512"/>
                  </a:lnTo>
                  <a:lnTo>
                    <a:pt x="5058" y="5512"/>
                  </a:lnTo>
                  <a:lnTo>
                    <a:pt x="4728" y="5557"/>
                  </a:lnTo>
                  <a:lnTo>
                    <a:pt x="4236" y="5557"/>
                  </a:lnTo>
                  <a:lnTo>
                    <a:pt x="3906" y="5597"/>
                  </a:lnTo>
                  <a:lnTo>
                    <a:pt x="3576" y="5597"/>
                  </a:lnTo>
                  <a:lnTo>
                    <a:pt x="3251" y="5641"/>
                  </a:lnTo>
                  <a:lnTo>
                    <a:pt x="3126" y="5641"/>
                  </a:lnTo>
                  <a:lnTo>
                    <a:pt x="2797" y="5641"/>
                  </a:lnTo>
                  <a:lnTo>
                    <a:pt x="2428" y="5681"/>
                  </a:lnTo>
                  <a:lnTo>
                    <a:pt x="2304" y="5681"/>
                  </a:lnTo>
                  <a:lnTo>
                    <a:pt x="1974" y="5726"/>
                  </a:lnTo>
                  <a:lnTo>
                    <a:pt x="1606" y="5770"/>
                  </a:lnTo>
                  <a:lnTo>
                    <a:pt x="1482" y="5770"/>
                  </a:lnTo>
                  <a:lnTo>
                    <a:pt x="1152" y="5770"/>
                  </a:lnTo>
                  <a:lnTo>
                    <a:pt x="1028" y="5810"/>
                  </a:lnTo>
                  <a:lnTo>
                    <a:pt x="741" y="5810"/>
                  </a:lnTo>
                  <a:lnTo>
                    <a:pt x="616" y="5810"/>
                  </a:lnTo>
                  <a:lnTo>
                    <a:pt x="286" y="5810"/>
                  </a:lnTo>
                  <a:lnTo>
                    <a:pt x="124" y="5810"/>
                  </a:lnTo>
                  <a:lnTo>
                    <a:pt x="0" y="5810"/>
                  </a:lnTo>
                  <a:lnTo>
                    <a:pt x="124" y="5895"/>
                  </a:lnTo>
                  <a:lnTo>
                    <a:pt x="248" y="5939"/>
                  </a:lnTo>
                  <a:lnTo>
                    <a:pt x="372" y="5984"/>
                  </a:lnTo>
                  <a:lnTo>
                    <a:pt x="535" y="6068"/>
                  </a:lnTo>
                  <a:lnTo>
                    <a:pt x="659" y="6068"/>
                  </a:lnTo>
                  <a:lnTo>
                    <a:pt x="783" y="6068"/>
                  </a:lnTo>
                  <a:lnTo>
                    <a:pt x="946" y="6068"/>
                  </a:lnTo>
                  <a:lnTo>
                    <a:pt x="1070" y="6068"/>
                  </a:lnTo>
                  <a:lnTo>
                    <a:pt x="1195" y="6068"/>
                  </a:lnTo>
                  <a:lnTo>
                    <a:pt x="1357" y="6068"/>
                  </a:lnTo>
                  <a:lnTo>
                    <a:pt x="1726" y="6068"/>
                  </a:lnTo>
                  <a:lnTo>
                    <a:pt x="1850" y="6109"/>
                  </a:lnTo>
                  <a:lnTo>
                    <a:pt x="2223" y="6109"/>
                  </a:lnTo>
                  <a:lnTo>
                    <a:pt x="2591" y="6109"/>
                  </a:lnTo>
                  <a:lnTo>
                    <a:pt x="2715" y="6109"/>
                  </a:lnTo>
                  <a:lnTo>
                    <a:pt x="2839" y="6109"/>
                  </a:lnTo>
                  <a:lnTo>
                    <a:pt x="3002" y="6109"/>
                  </a:lnTo>
                  <a:lnTo>
                    <a:pt x="3289" y="6109"/>
                  </a:lnTo>
                  <a:lnTo>
                    <a:pt x="3413" y="6109"/>
                  </a:lnTo>
                  <a:lnTo>
                    <a:pt x="3700" y="6109"/>
                  </a:lnTo>
                  <a:lnTo>
                    <a:pt x="3987" y="6109"/>
                  </a:lnTo>
                  <a:lnTo>
                    <a:pt x="4112" y="6109"/>
                  </a:lnTo>
                  <a:lnTo>
                    <a:pt x="4236" y="6109"/>
                  </a:lnTo>
                  <a:lnTo>
                    <a:pt x="4566" y="6109"/>
                  </a:lnTo>
                  <a:lnTo>
                    <a:pt x="4690" y="6109"/>
                  </a:lnTo>
                  <a:lnTo>
                    <a:pt x="4853" y="6109"/>
                  </a:lnTo>
                  <a:lnTo>
                    <a:pt x="5221" y="6153"/>
                  </a:lnTo>
                  <a:lnTo>
                    <a:pt x="5594" y="6153"/>
                  </a:lnTo>
                  <a:lnTo>
                    <a:pt x="5962" y="6153"/>
                  </a:lnTo>
                  <a:lnTo>
                    <a:pt x="6292" y="6153"/>
                  </a:lnTo>
                  <a:lnTo>
                    <a:pt x="6579" y="6153"/>
                  </a:lnTo>
                  <a:lnTo>
                    <a:pt x="6703" y="6153"/>
                  </a:lnTo>
                  <a:lnTo>
                    <a:pt x="6990" y="6153"/>
                  </a:lnTo>
                  <a:lnTo>
                    <a:pt x="7320" y="6153"/>
                  </a:lnTo>
                  <a:lnTo>
                    <a:pt x="7607" y="6153"/>
                  </a:lnTo>
                  <a:lnTo>
                    <a:pt x="7894" y="6153"/>
                  </a:lnTo>
                  <a:lnTo>
                    <a:pt x="8018" y="6153"/>
                  </a:lnTo>
                  <a:lnTo>
                    <a:pt x="8305" y="6153"/>
                  </a:lnTo>
                  <a:lnTo>
                    <a:pt x="8596" y="6153"/>
                  </a:lnTo>
                  <a:lnTo>
                    <a:pt x="8883" y="6153"/>
                  </a:lnTo>
                  <a:lnTo>
                    <a:pt x="9214" y="6153"/>
                  </a:lnTo>
                  <a:lnTo>
                    <a:pt x="9540" y="6153"/>
                  </a:lnTo>
                  <a:lnTo>
                    <a:pt x="9831" y="6153"/>
                  </a:lnTo>
                  <a:lnTo>
                    <a:pt x="10156" y="6153"/>
                  </a:lnTo>
                  <a:lnTo>
                    <a:pt x="10486" y="6153"/>
                  </a:lnTo>
                  <a:lnTo>
                    <a:pt x="10859" y="6109"/>
                  </a:lnTo>
                  <a:lnTo>
                    <a:pt x="11022" y="6068"/>
                  </a:lnTo>
                  <a:lnTo>
                    <a:pt x="11146" y="5939"/>
                  </a:lnTo>
                  <a:lnTo>
                    <a:pt x="11270" y="5855"/>
                  </a:lnTo>
                  <a:lnTo>
                    <a:pt x="11433" y="5726"/>
                  </a:lnTo>
                  <a:lnTo>
                    <a:pt x="11557" y="5681"/>
                  </a:lnTo>
                  <a:lnTo>
                    <a:pt x="11681" y="5557"/>
                  </a:lnTo>
                  <a:lnTo>
                    <a:pt x="11801" y="5428"/>
                  </a:lnTo>
                  <a:lnTo>
                    <a:pt x="11925" y="5298"/>
                  </a:lnTo>
                  <a:lnTo>
                    <a:pt x="11968" y="5000"/>
                  </a:lnTo>
                  <a:lnTo>
                    <a:pt x="12050" y="4871"/>
                  </a:lnTo>
                  <a:lnTo>
                    <a:pt x="12131" y="4742"/>
                  </a:lnTo>
                  <a:lnTo>
                    <a:pt x="12174" y="4443"/>
                  </a:lnTo>
                  <a:lnTo>
                    <a:pt x="12298" y="4358"/>
                  </a:lnTo>
                  <a:lnTo>
                    <a:pt x="12337" y="4229"/>
                  </a:lnTo>
                  <a:lnTo>
                    <a:pt x="12461" y="4100"/>
                  </a:lnTo>
                  <a:lnTo>
                    <a:pt x="12585" y="3971"/>
                  </a:lnTo>
                  <a:lnTo>
                    <a:pt x="12709" y="3802"/>
                  </a:lnTo>
                  <a:lnTo>
                    <a:pt x="12829" y="3673"/>
                  </a:lnTo>
                  <a:lnTo>
                    <a:pt x="12915" y="3544"/>
                  </a:lnTo>
                </a:path>
              </a:pathLst>
            </a:custGeom>
            <a:ln w="38160">
              <a:solidFill>
                <a:srgbClr val="ff500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11" name=""/>
            <p:cNvSpPr txBox="1"/>
            <p:nvPr/>
          </p:nvSpPr>
          <p:spPr>
            <a:xfrm>
              <a:off x="6873840" y="911160"/>
              <a:ext cx="170820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Canaan</a:t>
              </a:r>
              <a:endParaRPr b="0" lang="en-US" sz="3600" spc="-1" strike="noStrike">
                <a:solidFill>
                  <a:srgbClr val="000000"/>
                </a:solidFill>
                <a:latin typeface="Arial"/>
              </a:endParaRPr>
            </a:p>
          </p:txBody>
        </p:sp>
        <p:sp>
          <p:nvSpPr>
            <p:cNvPr id="212" name=""/>
            <p:cNvSpPr txBox="1"/>
            <p:nvPr/>
          </p:nvSpPr>
          <p:spPr>
            <a:xfrm>
              <a:off x="558720" y="6508800"/>
              <a:ext cx="1514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EBibleTeacher.com</a:t>
              </a:r>
              <a:endParaRPr b="0" lang="en-US" sz="1200" spc="-1" strike="noStrike">
                <a:solidFill>
                  <a:srgbClr val="000000"/>
                </a:solidFill>
                <a:latin typeface="Arial"/>
              </a:endParaRPr>
            </a:p>
          </p:txBody>
        </p:sp>
        <p:sp>
          <p:nvSpPr>
            <p:cNvPr id="213" name=""/>
            <p:cNvSpPr txBox="1"/>
            <p:nvPr/>
          </p:nvSpPr>
          <p:spPr>
            <a:xfrm>
              <a:off x="463680" y="150840"/>
              <a:ext cx="7493040" cy="1095480"/>
            </a:xfrm>
            <a:prstGeom prst="rect">
              <a:avLst/>
            </a:prstGeom>
            <a:noFill/>
            <a:ln w="0">
              <a:noFill/>
            </a:ln>
          </p:spPr>
          <p:txBody>
            <a:bodyPr lIns="0" rIns="0" tIns="0" bIns="0" anchor="t">
              <a:noAutofit/>
            </a:bodyPr>
            <a:p>
              <a:pPr>
                <a:lnSpc>
                  <a:spcPct val="100000"/>
                </a:lnSpc>
              </a:pPr>
              <a:r>
                <a:rPr b="1" lang="en-US" sz="4400" spc="-1" strike="noStrike" u="sng">
                  <a:solidFill>
                    <a:srgbClr val="fafd00"/>
                  </a:solidFill>
                  <a:uFillTx/>
                  <a:latin typeface="Times New Roman"/>
                  <a:ea typeface="Times New Roman"/>
                </a:rPr>
                <a:t>Abraham’s Journey to Egypt</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14" name=""/>
          <p:cNvGrpSpPr/>
          <p:nvPr/>
        </p:nvGrpSpPr>
        <p:grpSpPr>
          <a:xfrm>
            <a:off x="-1536840" y="0"/>
            <a:ext cx="10285560" cy="6845400"/>
            <a:chOff x="-1536840" y="0"/>
            <a:chExt cx="10285560" cy="6845400"/>
          </a:xfrm>
        </p:grpSpPr>
        <p:sp>
          <p:nvSpPr>
            <p:cNvPr id="215" name=""/>
            <p:cNvSpPr txBox="1"/>
            <p:nvPr/>
          </p:nvSpPr>
          <p:spPr>
            <a:xfrm>
              <a:off x="487440" y="4403880"/>
              <a:ext cx="32637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anaan - (Land of Israel)</a:t>
              </a:r>
              <a:endParaRPr b="0" lang="en-US" sz="2400" spc="-1" strike="noStrike">
                <a:solidFill>
                  <a:srgbClr val="000000"/>
                </a:solidFill>
                <a:latin typeface="Arial"/>
              </a:endParaRPr>
            </a:p>
          </p:txBody>
        </p:sp>
        <p:sp>
          <p:nvSpPr>
            <p:cNvPr id="216" name=""/>
            <p:cNvSpPr/>
            <p:nvPr/>
          </p:nvSpPr>
          <p:spPr>
            <a:xfrm>
              <a:off x="3048120" y="5775480"/>
              <a:ext cx="457560" cy="305280"/>
            </a:xfrm>
            <a:custGeom>
              <a:avLst/>
              <a:gdLst/>
              <a:ahLst/>
              <a:rect l="0" t="0" r="r" b="b"/>
              <a:pathLst>
                <a:path w="1271" h="848">
                  <a:moveTo>
                    <a:pt x="635" y="0"/>
                  </a:moveTo>
                  <a:lnTo>
                    <a:pt x="486" y="325"/>
                  </a:lnTo>
                  <a:lnTo>
                    <a:pt x="0" y="325"/>
                  </a:lnTo>
                  <a:lnTo>
                    <a:pt x="395" y="525"/>
                  </a:lnTo>
                  <a:lnTo>
                    <a:pt x="246" y="848"/>
                  </a:lnTo>
                  <a:lnTo>
                    <a:pt x="635" y="662"/>
                  </a:lnTo>
                  <a:lnTo>
                    <a:pt x="1024" y="848"/>
                  </a:lnTo>
                  <a:lnTo>
                    <a:pt x="874" y="525"/>
                  </a:lnTo>
                  <a:lnTo>
                    <a:pt x="1271" y="324"/>
                  </a:lnTo>
                  <a:lnTo>
                    <a:pt x="784" y="324"/>
                  </a:lnTo>
                  <a:lnTo>
                    <a:pt x="635"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217" name="" descr=""/>
            <p:cNvPicPr/>
            <p:nvPr/>
          </p:nvPicPr>
          <p:blipFill>
            <a:blip r:embed="rId1"/>
            <a:stretch/>
          </p:blipFill>
          <p:spPr>
            <a:xfrm>
              <a:off x="365040" y="0"/>
              <a:ext cx="4629240" cy="6845400"/>
            </a:xfrm>
            <a:prstGeom prst="rect">
              <a:avLst/>
            </a:prstGeom>
            <a:ln w="0">
              <a:noFill/>
            </a:ln>
          </p:spPr>
        </p:pic>
        <p:sp>
          <p:nvSpPr>
            <p:cNvPr id="218" name=""/>
            <p:cNvSpPr txBox="1"/>
            <p:nvPr/>
          </p:nvSpPr>
          <p:spPr>
            <a:xfrm>
              <a:off x="-1536840" y="2421000"/>
              <a:ext cx="5153040" cy="762120"/>
            </a:xfrm>
            <a:prstGeom prst="rect">
              <a:avLst/>
            </a:prstGeom>
            <a:noFill/>
            <a:ln w="0">
              <a:noFill/>
            </a:ln>
          </p:spPr>
          <p:txBody>
            <a:bodyPr lIns="0" rIns="0" tIns="0" bIns="0" anchor="t">
              <a:noAutofit/>
            </a:bodyPr>
            <a:p>
              <a:pPr>
                <a:lnSpc>
                  <a:spcPct val="100000"/>
                </a:lnSpc>
              </a:pPr>
              <a:r>
                <a:rPr b="1" lang="en-US" sz="4400" spc="-1" strike="noStrike">
                  <a:solidFill>
                    <a:srgbClr val="ffffff"/>
                  </a:solidFill>
                  <a:latin typeface="Arial"/>
                  <a:ea typeface="Arial"/>
                </a:rPr>
                <a:t>Mediterranean Sea</a:t>
              </a:r>
              <a:endParaRPr b="0" lang="en-US" sz="4400" spc="-1" strike="noStrike">
                <a:solidFill>
                  <a:srgbClr val="000000"/>
                </a:solidFill>
                <a:latin typeface="Arial"/>
              </a:endParaRPr>
            </a:p>
          </p:txBody>
        </p:sp>
        <p:sp>
          <p:nvSpPr>
            <p:cNvPr id="219" name=""/>
            <p:cNvSpPr txBox="1"/>
            <p:nvPr/>
          </p:nvSpPr>
          <p:spPr>
            <a:xfrm>
              <a:off x="1873080" y="2849400"/>
              <a:ext cx="2216160" cy="824040"/>
            </a:xfrm>
            <a:prstGeom prst="rect">
              <a:avLst/>
            </a:prstGeom>
            <a:noFill/>
            <a:ln w="0">
              <a:noFill/>
            </a:ln>
          </p:spPr>
          <p:txBody>
            <a:bodyPr lIns="0" rIns="0" tIns="0" bIns="0" anchor="t">
              <a:noAutofit/>
            </a:bodyPr>
            <a:p>
              <a:pPr>
                <a:lnSpc>
                  <a:spcPct val="100000"/>
                </a:lnSpc>
              </a:pPr>
              <a:r>
                <a:rPr b="1" lang="en-US" sz="4800" spc="-1" strike="noStrike">
                  <a:solidFill>
                    <a:srgbClr val="ffffff"/>
                  </a:solidFill>
                  <a:latin typeface="Times New Roman"/>
                  <a:ea typeface="Times New Roman"/>
                </a:rPr>
                <a:t>Canaan</a:t>
              </a:r>
              <a:endParaRPr b="0" lang="en-US" sz="4800" spc="-1" strike="noStrike">
                <a:solidFill>
                  <a:srgbClr val="000000"/>
                </a:solidFill>
                <a:latin typeface="Arial"/>
              </a:endParaRPr>
            </a:p>
          </p:txBody>
        </p:sp>
        <p:sp>
          <p:nvSpPr>
            <p:cNvPr id="220" name=""/>
            <p:cNvSpPr txBox="1"/>
            <p:nvPr/>
          </p:nvSpPr>
          <p:spPr>
            <a:xfrm>
              <a:off x="2394000" y="5910120"/>
              <a:ext cx="153036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Sodom</a:t>
              </a:r>
              <a:endParaRPr b="0" lang="en-US" sz="3600" spc="-1" strike="noStrike">
                <a:solidFill>
                  <a:srgbClr val="000000"/>
                </a:solidFill>
                <a:latin typeface="Arial"/>
              </a:endParaRPr>
            </a:p>
          </p:txBody>
        </p:sp>
        <p:sp>
          <p:nvSpPr>
            <p:cNvPr id="221" name=""/>
            <p:cNvSpPr/>
            <p:nvPr/>
          </p:nvSpPr>
          <p:spPr>
            <a:xfrm>
              <a:off x="2316240" y="5821200"/>
              <a:ext cx="1616040" cy="96048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2" name=""/>
            <p:cNvSpPr/>
            <p:nvPr/>
          </p:nvSpPr>
          <p:spPr>
            <a:xfrm>
              <a:off x="1417680" y="4923000"/>
              <a:ext cx="1477800" cy="111276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 name=""/>
            <p:cNvSpPr/>
            <p:nvPr/>
          </p:nvSpPr>
          <p:spPr>
            <a:xfrm>
              <a:off x="2209680" y="5119560"/>
              <a:ext cx="457560" cy="305280"/>
            </a:xfrm>
            <a:custGeom>
              <a:avLst/>
              <a:gdLst/>
              <a:ahLst/>
              <a:rect l="0" t="0" r="r" b="b"/>
              <a:pathLst>
                <a:path w="1271" h="848">
                  <a:moveTo>
                    <a:pt x="635" y="0"/>
                  </a:moveTo>
                  <a:lnTo>
                    <a:pt x="486" y="325"/>
                  </a:lnTo>
                  <a:lnTo>
                    <a:pt x="0" y="325"/>
                  </a:lnTo>
                  <a:lnTo>
                    <a:pt x="395" y="525"/>
                  </a:lnTo>
                  <a:lnTo>
                    <a:pt x="246" y="848"/>
                  </a:lnTo>
                  <a:lnTo>
                    <a:pt x="635" y="662"/>
                  </a:lnTo>
                  <a:lnTo>
                    <a:pt x="1024" y="848"/>
                  </a:lnTo>
                  <a:lnTo>
                    <a:pt x="874" y="525"/>
                  </a:lnTo>
                  <a:lnTo>
                    <a:pt x="1271" y="324"/>
                  </a:lnTo>
                  <a:lnTo>
                    <a:pt x="784" y="324"/>
                  </a:lnTo>
                  <a:lnTo>
                    <a:pt x="635"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2422440" y="2637000"/>
              <a:ext cx="3094200" cy="23000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5" name=""/>
            <p:cNvSpPr txBox="1"/>
            <p:nvPr/>
          </p:nvSpPr>
          <p:spPr>
            <a:xfrm>
              <a:off x="5530680" y="1873080"/>
              <a:ext cx="3171960" cy="1432080"/>
            </a:xfrm>
            <a:prstGeom prst="rect">
              <a:avLst/>
            </a:prstGeom>
            <a:noFill/>
            <a:ln w="0">
              <a:noFill/>
            </a:ln>
          </p:spPr>
          <p:txBody>
            <a:bodyPr lIns="0" rIns="0" tIns="0" bIns="0" anchor="t">
              <a:noAutofit/>
            </a:bodyPr>
            <a:p>
              <a:pPr>
                <a:lnSpc>
                  <a:spcPct val="100000"/>
                </a:lnSpc>
              </a:pPr>
              <a:r>
                <a:rPr b="1" lang="en-US" sz="4400" spc="-1" strike="noStrike">
                  <a:solidFill>
                    <a:srgbClr val="ffffff"/>
                  </a:solidFill>
                  <a:latin typeface="Times New Roman"/>
                  <a:ea typeface="Times New Roman"/>
                </a:rPr>
                <a:t>Abraham’s pastures</a:t>
              </a:r>
              <a:endParaRPr b="0" lang="en-US" sz="4400" spc="-1" strike="noStrike">
                <a:solidFill>
                  <a:srgbClr val="000000"/>
                </a:solidFill>
                <a:latin typeface="Arial"/>
              </a:endParaRPr>
            </a:p>
          </p:txBody>
        </p:sp>
        <p:sp>
          <p:nvSpPr>
            <p:cNvPr id="226" name=""/>
            <p:cNvSpPr/>
            <p:nvPr/>
          </p:nvSpPr>
          <p:spPr>
            <a:xfrm flipV="1">
              <a:off x="3809880" y="4678200"/>
              <a:ext cx="1782720" cy="13417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7" name=""/>
            <p:cNvSpPr txBox="1"/>
            <p:nvPr/>
          </p:nvSpPr>
          <p:spPr>
            <a:xfrm>
              <a:off x="5576760" y="3884760"/>
              <a:ext cx="3171960" cy="1432080"/>
            </a:xfrm>
            <a:prstGeom prst="rect">
              <a:avLst/>
            </a:prstGeom>
            <a:noFill/>
            <a:ln w="0">
              <a:noFill/>
            </a:ln>
          </p:spPr>
          <p:txBody>
            <a:bodyPr lIns="0" rIns="0" tIns="0" bIns="0" anchor="t">
              <a:noAutofit/>
            </a:bodyPr>
            <a:p>
              <a:pPr>
                <a:lnSpc>
                  <a:spcPct val="100000"/>
                </a:lnSpc>
              </a:pPr>
              <a:r>
                <a:rPr b="1" lang="en-US" sz="4400" spc="-1" strike="noStrike">
                  <a:solidFill>
                    <a:srgbClr val="ffffff"/>
                  </a:solidFill>
                  <a:latin typeface="Times New Roman"/>
                  <a:ea typeface="Times New Roman"/>
                </a:rPr>
                <a:t>Lot’s pastures</a:t>
              </a:r>
              <a:endParaRPr b="0" lang="en-US" sz="4400" spc="-1" strike="noStrike">
                <a:solidFill>
                  <a:srgbClr val="000000"/>
                </a:solidFill>
                <a:latin typeface="Arial"/>
              </a:endParaRPr>
            </a:p>
          </p:txBody>
        </p:sp>
        <p:sp>
          <p:nvSpPr>
            <p:cNvPr id="228" name=""/>
            <p:cNvSpPr txBox="1"/>
            <p:nvPr/>
          </p:nvSpPr>
          <p:spPr>
            <a:xfrm>
              <a:off x="1143000" y="5254560"/>
              <a:ext cx="1682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Hebron</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29" name=""/>
          <p:cNvGrpSpPr/>
          <p:nvPr/>
        </p:nvGrpSpPr>
        <p:grpSpPr>
          <a:xfrm>
            <a:off x="-1446120" y="0"/>
            <a:ext cx="10490400" cy="6845400"/>
            <a:chOff x="-1446120" y="0"/>
            <a:chExt cx="10490400" cy="6845400"/>
          </a:xfrm>
        </p:grpSpPr>
        <p:sp>
          <p:nvSpPr>
            <p:cNvPr id="230" name=""/>
            <p:cNvSpPr txBox="1"/>
            <p:nvPr/>
          </p:nvSpPr>
          <p:spPr>
            <a:xfrm>
              <a:off x="1181160" y="609480"/>
              <a:ext cx="7715160" cy="1143000"/>
            </a:xfrm>
            <a:prstGeom prst="rect">
              <a:avLst/>
            </a:prstGeom>
            <a:noFill/>
            <a:ln w="0">
              <a:noFill/>
            </a:ln>
          </p:spPr>
          <p:txBody>
            <a:bodyPr lIns="0" rIns="0" tIns="0" bIns="0" anchor="t">
              <a:noAutofit/>
            </a:bodyPr>
            <a:p>
              <a:pPr>
                <a:lnSpc>
                  <a:spcPct val="100000"/>
                </a:lnSpc>
              </a:pPr>
              <a:r>
                <a:rPr b="0" lang="en-US" sz="4400" spc="-1" strike="noStrike">
                  <a:solidFill>
                    <a:srgbClr val="c0fef9"/>
                  </a:solidFill>
                  <a:latin typeface="Times New Roman"/>
                  <a:ea typeface="Times New Roman"/>
                </a:rPr>
                <a:t>Click to add title</a:t>
              </a:r>
              <a:endParaRPr b="0" lang="en-US" sz="4400" spc="-1" strike="noStrike">
                <a:solidFill>
                  <a:srgbClr val="000000"/>
                </a:solidFill>
                <a:latin typeface="Arial"/>
              </a:endParaRPr>
            </a:p>
          </p:txBody>
        </p:sp>
        <p:sp>
          <p:nvSpPr>
            <p:cNvPr id="231" name=""/>
            <p:cNvSpPr txBox="1"/>
            <p:nvPr/>
          </p:nvSpPr>
          <p:spPr>
            <a:xfrm>
              <a:off x="1157400" y="1981080"/>
              <a:ext cx="7791480" cy="4114800"/>
            </a:xfrm>
            <a:prstGeom prst="rect">
              <a:avLst/>
            </a:prstGeom>
            <a:noFill/>
            <a:ln w="0">
              <a:noFill/>
            </a:ln>
          </p:spPr>
          <p:txBody>
            <a:bodyPr lIns="0" rIns="0" tIns="0" bIns="0" anchor="t">
              <a:noAutofit/>
            </a:bodyPr>
            <a:p>
              <a:pPr marL="343080" indent="-343080">
                <a:lnSpc>
                  <a:spcPct val="100000"/>
                </a:lnSpc>
                <a:spcBef>
                  <a:spcPts val="479"/>
                </a:spcBef>
                <a:buClr>
                  <a:srgbClr val="c0fef9"/>
                </a:buClr>
                <a:buSzPct val="75000"/>
                <a:buFont typeface="Monotype Sorts"/>
                <a:buChar char=""/>
              </a:pPr>
              <a:r>
                <a:rPr b="0" lang="en-US" sz="3200" spc="-1" strike="noStrike">
                  <a:solidFill>
                    <a:srgbClr val="ffffff"/>
                  </a:solidFill>
                  <a:latin typeface="Times New Roman"/>
                  <a:ea typeface="Times New Roman"/>
                </a:rPr>
                <a:t>Click to add text</a:t>
              </a:r>
              <a:endParaRPr b="0" lang="en-US" sz="3200" spc="-1" strike="noStrike">
                <a:solidFill>
                  <a:srgbClr val="000000"/>
                </a:solidFill>
                <a:latin typeface="Arial"/>
              </a:endParaRPr>
            </a:p>
          </p:txBody>
        </p:sp>
        <p:sp>
          <p:nvSpPr>
            <p:cNvPr id="232" name=""/>
            <p:cNvSpPr txBox="1"/>
            <p:nvPr/>
          </p:nvSpPr>
          <p:spPr>
            <a:xfrm>
              <a:off x="5167440" y="4616280"/>
              <a:ext cx="3876840" cy="2101680"/>
            </a:xfrm>
            <a:prstGeom prst="rect">
              <a:avLst/>
            </a:prstGeom>
            <a:noFill/>
            <a:ln w="0">
              <a:noFill/>
            </a:ln>
          </p:spPr>
          <p:txBody>
            <a:bodyPr lIns="0" rIns="0" tIns="0" bIns="0" anchor="t">
              <a:noAutofit/>
            </a:bodyPr>
            <a:p>
              <a:pPr algn="ctr">
                <a:lnSpc>
                  <a:spcPct val="100000"/>
                </a:lnSpc>
              </a:pPr>
              <a:r>
                <a:rPr b="1" lang="en-US" sz="4400" spc="-1" strike="noStrike" u="sng">
                  <a:solidFill>
                    <a:srgbClr val="fafd00"/>
                  </a:solidFill>
                  <a:uFillTx/>
                  <a:latin typeface="Times New Roman"/>
                  <a:ea typeface="Times New Roman"/>
                </a:rPr>
                <a:t>The Wanderings of Jacob</a:t>
              </a:r>
              <a:endParaRPr b="0" lang="en-US" sz="4400" spc="-1" strike="noStrike">
                <a:solidFill>
                  <a:srgbClr val="000000"/>
                </a:solidFill>
                <a:latin typeface="Arial"/>
              </a:endParaRPr>
            </a:p>
          </p:txBody>
        </p:sp>
        <p:sp>
          <p:nvSpPr>
            <p:cNvPr id="233" name=""/>
            <p:cNvSpPr/>
            <p:nvPr/>
          </p:nvSpPr>
          <p:spPr>
            <a:xfrm flipV="1">
              <a:off x="4449600" y="701640"/>
              <a:ext cx="351000" cy="182520"/>
            </a:xfrm>
            <a:prstGeom prst="line">
              <a:avLst/>
            </a:prstGeom>
            <a:ln w="76320">
              <a:solidFill>
                <a:srgbClr val="f35b1b"/>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234" name=""/>
            <p:cNvSpPr/>
            <p:nvPr/>
          </p:nvSpPr>
          <p:spPr>
            <a:xfrm flipH="1">
              <a:off x="4754520" y="746280"/>
              <a:ext cx="15840" cy="290520"/>
            </a:xfrm>
            <a:prstGeom prst="line">
              <a:avLst/>
            </a:prstGeom>
            <a:ln w="152280">
              <a:solidFill>
                <a:srgbClr val="f35b1b"/>
              </a:solidFill>
              <a:roun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235" name=""/>
            <p:cNvSpPr txBox="1"/>
            <p:nvPr/>
          </p:nvSpPr>
          <p:spPr>
            <a:xfrm>
              <a:off x="5106960" y="228600"/>
              <a:ext cx="3868560" cy="4235400"/>
            </a:xfrm>
            <a:prstGeom prst="rect">
              <a:avLst/>
            </a:prstGeom>
            <a:noFill/>
            <a:ln w="0">
              <a:noFill/>
            </a:ln>
          </p:spPr>
          <p:txBody>
            <a:bodyPr lIns="0" rIns="0" tIns="0" bIns="0" anchor="t">
              <a:noAutofit/>
            </a:bodyPr>
            <a:p>
              <a:pPr>
                <a:lnSpc>
                  <a:spcPct val="85000"/>
                </a:lnSpc>
              </a:pPr>
              <a:r>
                <a:rPr b="1" lang="en-US" sz="3200" spc="-1" strike="noStrike">
                  <a:solidFill>
                    <a:srgbClr val="ffffff"/>
                  </a:solidFill>
                  <a:latin typeface="Times New Roman"/>
                  <a:ea typeface="Times New Roman"/>
                </a:rPr>
                <a:t>Jacob left his Father’s home and went to  Haran to flee from Esau and to  get a wife.  He had the vision of the stairway to heaven.  Years later he returned along the same route.</a:t>
              </a:r>
              <a:endParaRPr b="0" lang="en-US" sz="3200" spc="-1" strike="noStrike">
                <a:solidFill>
                  <a:srgbClr val="000000"/>
                </a:solidFill>
                <a:latin typeface="Arial"/>
              </a:endParaRPr>
            </a:p>
          </p:txBody>
        </p:sp>
        <p:sp>
          <p:nvSpPr>
            <p:cNvPr id="236" name=""/>
            <p:cNvSpPr/>
            <p:nvPr/>
          </p:nvSpPr>
          <p:spPr>
            <a:xfrm flipV="1">
              <a:off x="4525920" y="762120"/>
              <a:ext cx="228600" cy="60120"/>
            </a:xfrm>
            <a:prstGeom prst="line">
              <a:avLst/>
            </a:prstGeom>
            <a:ln w="76320">
              <a:solidFill>
                <a:srgbClr val="f35b1b"/>
              </a:solidFill>
              <a:round/>
            </a:ln>
          </p:spPr>
          <p:style>
            <a:lnRef idx="0"/>
            <a:fillRef idx="0"/>
            <a:effectRef idx="0"/>
            <a:fontRef idx="minor"/>
          </p:style>
          <p:txBody>
            <a:bodyPr lIns="128160" rIns="128160" tIns="-23040" bIns="-23040" anchor="t">
              <a:noAutofit/>
            </a:bodyPr>
            <a:p>
              <a:endParaRPr b="0" lang="en-US" sz="1800" spc="-1" strike="noStrike">
                <a:solidFill>
                  <a:srgbClr val="000000"/>
                </a:solidFill>
                <a:latin typeface="Arial"/>
              </a:endParaRPr>
            </a:p>
          </p:txBody>
        </p:sp>
        <p:sp>
          <p:nvSpPr>
            <p:cNvPr id="237" name=""/>
            <p:cNvSpPr/>
            <p:nvPr/>
          </p:nvSpPr>
          <p:spPr>
            <a:xfrm>
              <a:off x="4770360" y="746280"/>
              <a:ext cx="0" cy="260280"/>
            </a:xfrm>
            <a:prstGeom prst="line">
              <a:avLst/>
            </a:prstGeom>
            <a:ln w="76320">
              <a:solidFill>
                <a:srgbClr val="f35b1b"/>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pic>
          <p:nvPicPr>
            <p:cNvPr id="238" name="" descr=""/>
            <p:cNvPicPr/>
            <p:nvPr/>
          </p:nvPicPr>
          <p:blipFill>
            <a:blip r:embed="rId1"/>
            <a:stretch/>
          </p:blipFill>
          <p:spPr>
            <a:xfrm>
              <a:off x="423720" y="0"/>
              <a:ext cx="4629240" cy="6845400"/>
            </a:xfrm>
            <a:prstGeom prst="rect">
              <a:avLst/>
            </a:prstGeom>
            <a:ln w="0">
              <a:noFill/>
            </a:ln>
          </p:spPr>
        </p:pic>
        <p:sp>
          <p:nvSpPr>
            <p:cNvPr id="239" name=""/>
            <p:cNvSpPr txBox="1"/>
            <p:nvPr/>
          </p:nvSpPr>
          <p:spPr>
            <a:xfrm>
              <a:off x="-1446120" y="2374920"/>
              <a:ext cx="5153040" cy="762120"/>
            </a:xfrm>
            <a:prstGeom prst="rect">
              <a:avLst/>
            </a:prstGeom>
            <a:noFill/>
            <a:ln w="0">
              <a:noFill/>
            </a:ln>
          </p:spPr>
          <p:txBody>
            <a:bodyPr lIns="0" rIns="0" tIns="0" bIns="0" anchor="t">
              <a:noAutofit/>
            </a:bodyPr>
            <a:p>
              <a:pPr>
                <a:lnSpc>
                  <a:spcPct val="100000"/>
                </a:lnSpc>
              </a:pPr>
              <a:r>
                <a:rPr b="1" lang="en-US" sz="4400" spc="-1" strike="noStrike">
                  <a:solidFill>
                    <a:srgbClr val="ffffff"/>
                  </a:solidFill>
                  <a:latin typeface="Arial"/>
                  <a:ea typeface="Arial"/>
                </a:rPr>
                <a:t>Mediterranean Sea</a:t>
              </a:r>
              <a:endParaRPr b="0" lang="en-US" sz="4400" spc="-1" strike="noStrike">
                <a:solidFill>
                  <a:srgbClr val="000000"/>
                </a:solidFill>
                <a:latin typeface="Arial"/>
              </a:endParaRPr>
            </a:p>
          </p:txBody>
        </p:sp>
        <p:sp>
          <p:nvSpPr>
            <p:cNvPr id="240" name=""/>
            <p:cNvSpPr txBox="1"/>
            <p:nvPr/>
          </p:nvSpPr>
          <p:spPr>
            <a:xfrm>
              <a:off x="1733400" y="2575080"/>
              <a:ext cx="2216160" cy="824040"/>
            </a:xfrm>
            <a:prstGeom prst="rect">
              <a:avLst/>
            </a:prstGeom>
            <a:noFill/>
            <a:ln w="0">
              <a:noFill/>
            </a:ln>
          </p:spPr>
          <p:txBody>
            <a:bodyPr lIns="0" rIns="0" tIns="0" bIns="0" anchor="t">
              <a:noAutofit/>
            </a:bodyPr>
            <a:p>
              <a:pPr>
                <a:lnSpc>
                  <a:spcPct val="100000"/>
                </a:lnSpc>
              </a:pPr>
              <a:r>
                <a:rPr b="1" lang="en-US" sz="4800" spc="-1" strike="noStrike">
                  <a:solidFill>
                    <a:srgbClr val="fafd00"/>
                  </a:solidFill>
                  <a:latin typeface="Times New Roman"/>
                  <a:ea typeface="Times New Roman"/>
                </a:rPr>
                <a:t>Canaan</a:t>
              </a:r>
              <a:endParaRPr b="0" lang="en-US" sz="4800" spc="-1" strike="noStrike">
                <a:solidFill>
                  <a:srgbClr val="000000"/>
                </a:solidFill>
                <a:latin typeface="Arial"/>
              </a:endParaRPr>
            </a:p>
          </p:txBody>
        </p:sp>
        <p:sp>
          <p:nvSpPr>
            <p:cNvPr id="241" name=""/>
            <p:cNvSpPr/>
            <p:nvPr/>
          </p:nvSpPr>
          <p:spPr>
            <a:xfrm>
              <a:off x="2119320" y="762120"/>
              <a:ext cx="2667240" cy="5045400"/>
            </a:xfrm>
            <a:custGeom>
              <a:avLst/>
              <a:gdLst/>
              <a:ahLst/>
              <a:rect l="0" t="0" r="r" b="b"/>
              <a:pathLst>
                <a:path fill="none" w="7409" h="14015">
                  <a:moveTo>
                    <a:pt x="0" y="14015"/>
                  </a:moveTo>
                  <a:lnTo>
                    <a:pt x="0" y="13887"/>
                  </a:lnTo>
                  <a:lnTo>
                    <a:pt x="0" y="13759"/>
                  </a:lnTo>
                  <a:lnTo>
                    <a:pt x="0" y="13631"/>
                  </a:lnTo>
                  <a:lnTo>
                    <a:pt x="0" y="13503"/>
                  </a:lnTo>
                  <a:lnTo>
                    <a:pt x="0" y="13336"/>
                  </a:lnTo>
                  <a:lnTo>
                    <a:pt x="0" y="13208"/>
                  </a:lnTo>
                  <a:lnTo>
                    <a:pt x="39" y="13080"/>
                  </a:lnTo>
                  <a:lnTo>
                    <a:pt x="127" y="12912"/>
                  </a:lnTo>
                  <a:lnTo>
                    <a:pt x="211" y="12784"/>
                  </a:lnTo>
                  <a:lnTo>
                    <a:pt x="295" y="12656"/>
                  </a:lnTo>
                  <a:lnTo>
                    <a:pt x="423" y="12533"/>
                  </a:lnTo>
                  <a:lnTo>
                    <a:pt x="507" y="12405"/>
                  </a:lnTo>
                  <a:lnTo>
                    <a:pt x="635" y="12277"/>
                  </a:lnTo>
                  <a:lnTo>
                    <a:pt x="674" y="12149"/>
                  </a:lnTo>
                  <a:lnTo>
                    <a:pt x="762" y="12021"/>
                  </a:lnTo>
                  <a:lnTo>
                    <a:pt x="802" y="11854"/>
                  </a:lnTo>
                  <a:lnTo>
                    <a:pt x="846" y="11726"/>
                  </a:lnTo>
                  <a:lnTo>
                    <a:pt x="886" y="11598"/>
                  </a:lnTo>
                  <a:lnTo>
                    <a:pt x="886" y="11431"/>
                  </a:lnTo>
                  <a:lnTo>
                    <a:pt x="930" y="11051"/>
                  </a:lnTo>
                  <a:lnTo>
                    <a:pt x="974" y="10751"/>
                  </a:lnTo>
                  <a:lnTo>
                    <a:pt x="1014" y="10328"/>
                  </a:lnTo>
                  <a:lnTo>
                    <a:pt x="1058" y="10160"/>
                  </a:lnTo>
                  <a:lnTo>
                    <a:pt x="1098" y="10033"/>
                  </a:lnTo>
                  <a:lnTo>
                    <a:pt x="1225" y="9949"/>
                  </a:lnTo>
                  <a:lnTo>
                    <a:pt x="1309" y="9821"/>
                  </a:lnTo>
                  <a:lnTo>
                    <a:pt x="1437" y="9737"/>
                  </a:lnTo>
                  <a:lnTo>
                    <a:pt x="1565" y="9653"/>
                  </a:lnTo>
                  <a:lnTo>
                    <a:pt x="1693" y="9570"/>
                  </a:lnTo>
                  <a:lnTo>
                    <a:pt x="1821" y="9525"/>
                  </a:lnTo>
                  <a:lnTo>
                    <a:pt x="1988" y="9481"/>
                  </a:lnTo>
                  <a:lnTo>
                    <a:pt x="2116" y="9442"/>
                  </a:lnTo>
                  <a:lnTo>
                    <a:pt x="2244" y="9442"/>
                  </a:lnTo>
                  <a:lnTo>
                    <a:pt x="2412" y="9442"/>
                  </a:lnTo>
                  <a:lnTo>
                    <a:pt x="2540" y="9525"/>
                  </a:lnTo>
                  <a:lnTo>
                    <a:pt x="2667" y="9609"/>
                  </a:lnTo>
                  <a:lnTo>
                    <a:pt x="2835" y="9693"/>
                  </a:lnTo>
                  <a:lnTo>
                    <a:pt x="2963" y="9821"/>
                  </a:lnTo>
                  <a:lnTo>
                    <a:pt x="3091" y="9781"/>
                  </a:lnTo>
                  <a:lnTo>
                    <a:pt x="3258" y="9693"/>
                  </a:lnTo>
                  <a:lnTo>
                    <a:pt x="3386" y="9570"/>
                  </a:lnTo>
                  <a:lnTo>
                    <a:pt x="3426" y="9442"/>
                  </a:lnTo>
                  <a:lnTo>
                    <a:pt x="3514" y="9314"/>
                  </a:lnTo>
                  <a:lnTo>
                    <a:pt x="3514" y="9186"/>
                  </a:lnTo>
                  <a:lnTo>
                    <a:pt x="3598" y="9058"/>
                  </a:lnTo>
                  <a:lnTo>
                    <a:pt x="3727" y="8935"/>
                  </a:lnTo>
                  <a:lnTo>
                    <a:pt x="3894" y="8846"/>
                  </a:lnTo>
                  <a:lnTo>
                    <a:pt x="4022" y="8807"/>
                  </a:lnTo>
                  <a:lnTo>
                    <a:pt x="4150" y="8807"/>
                  </a:lnTo>
                  <a:lnTo>
                    <a:pt x="4318" y="8807"/>
                  </a:lnTo>
                  <a:lnTo>
                    <a:pt x="4445" y="8763"/>
                  </a:lnTo>
                  <a:lnTo>
                    <a:pt x="4573" y="8679"/>
                  </a:lnTo>
                  <a:lnTo>
                    <a:pt x="4657" y="8551"/>
                  </a:lnTo>
                  <a:lnTo>
                    <a:pt x="4785" y="8467"/>
                  </a:lnTo>
                  <a:lnTo>
                    <a:pt x="4869" y="8339"/>
                  </a:lnTo>
                  <a:lnTo>
                    <a:pt x="4953" y="8211"/>
                  </a:lnTo>
                  <a:lnTo>
                    <a:pt x="5036" y="8044"/>
                  </a:lnTo>
                  <a:lnTo>
                    <a:pt x="5120" y="7916"/>
                  </a:lnTo>
                  <a:lnTo>
                    <a:pt x="5164" y="7788"/>
                  </a:lnTo>
                  <a:lnTo>
                    <a:pt x="5248" y="7621"/>
                  </a:lnTo>
                  <a:lnTo>
                    <a:pt x="5292" y="7493"/>
                  </a:lnTo>
                  <a:lnTo>
                    <a:pt x="5332" y="7365"/>
                  </a:lnTo>
                  <a:lnTo>
                    <a:pt x="5376" y="7197"/>
                  </a:lnTo>
                  <a:lnTo>
                    <a:pt x="5376" y="6901"/>
                  </a:lnTo>
                  <a:lnTo>
                    <a:pt x="5420" y="6517"/>
                  </a:lnTo>
                  <a:lnTo>
                    <a:pt x="5420" y="6222"/>
                  </a:lnTo>
                  <a:lnTo>
                    <a:pt x="5460" y="5882"/>
                  </a:lnTo>
                  <a:lnTo>
                    <a:pt x="5460" y="5547"/>
                  </a:lnTo>
                  <a:lnTo>
                    <a:pt x="5504" y="5247"/>
                  </a:lnTo>
                  <a:lnTo>
                    <a:pt x="5504" y="4912"/>
                  </a:lnTo>
                  <a:lnTo>
                    <a:pt x="5544" y="4784"/>
                  </a:lnTo>
                  <a:lnTo>
                    <a:pt x="5588" y="4656"/>
                  </a:lnTo>
                  <a:lnTo>
                    <a:pt x="5632" y="4528"/>
                  </a:lnTo>
                  <a:lnTo>
                    <a:pt x="5671" y="4189"/>
                  </a:lnTo>
                  <a:lnTo>
                    <a:pt x="5715" y="3893"/>
                  </a:lnTo>
                  <a:lnTo>
                    <a:pt x="5755" y="3514"/>
                  </a:lnTo>
                  <a:lnTo>
                    <a:pt x="5843" y="3386"/>
                  </a:lnTo>
                  <a:lnTo>
                    <a:pt x="5883" y="3258"/>
                  </a:lnTo>
                  <a:lnTo>
                    <a:pt x="5967" y="3130"/>
                  </a:lnTo>
                  <a:lnTo>
                    <a:pt x="6055" y="2963"/>
                  </a:lnTo>
                  <a:lnTo>
                    <a:pt x="6139" y="2835"/>
                  </a:lnTo>
                  <a:lnTo>
                    <a:pt x="6179" y="2707"/>
                  </a:lnTo>
                  <a:lnTo>
                    <a:pt x="6306" y="2539"/>
                  </a:lnTo>
                  <a:lnTo>
                    <a:pt x="6390" y="2412"/>
                  </a:lnTo>
                  <a:lnTo>
                    <a:pt x="6478" y="2284"/>
                  </a:lnTo>
                  <a:lnTo>
                    <a:pt x="6562" y="2116"/>
                  </a:lnTo>
                  <a:lnTo>
                    <a:pt x="6646" y="1777"/>
                  </a:lnTo>
                  <a:lnTo>
                    <a:pt x="6730" y="1397"/>
                  </a:lnTo>
                  <a:lnTo>
                    <a:pt x="6774" y="1058"/>
                  </a:lnTo>
                  <a:lnTo>
                    <a:pt x="6814" y="762"/>
                  </a:lnTo>
                  <a:lnTo>
                    <a:pt x="6902" y="634"/>
                  </a:lnTo>
                  <a:lnTo>
                    <a:pt x="6985" y="507"/>
                  </a:lnTo>
                  <a:lnTo>
                    <a:pt x="7069" y="379"/>
                  </a:lnTo>
                  <a:lnTo>
                    <a:pt x="7197" y="255"/>
                  </a:lnTo>
                  <a:lnTo>
                    <a:pt x="7325" y="127"/>
                  </a:lnTo>
                  <a:lnTo>
                    <a:pt x="7409" y="0"/>
                  </a:lnTo>
                </a:path>
              </a:pathLst>
            </a:custGeom>
            <a:ln w="76320">
              <a:solidFill>
                <a:srgbClr val="fafd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242" name=""/>
            <p:cNvSpPr txBox="1"/>
            <p:nvPr/>
          </p:nvSpPr>
          <p:spPr>
            <a:xfrm>
              <a:off x="3521160" y="4906800"/>
              <a:ext cx="1249200" cy="971640"/>
            </a:xfrm>
            <a:prstGeom prst="rect">
              <a:avLst/>
            </a:prstGeom>
            <a:noFill/>
            <a:ln w="0">
              <a:noFill/>
            </a:ln>
          </p:spPr>
          <p:txBody>
            <a:bodyPr lIns="0" rIns="0" tIns="0" bIns="0" anchor="t">
              <a:noAutofit/>
            </a:bodyPr>
            <a:p>
              <a:pPr>
                <a:lnSpc>
                  <a:spcPct val="80000"/>
                </a:lnSpc>
              </a:pPr>
              <a:r>
                <a:rPr b="1" lang="en-US" sz="3600" spc="-1" strike="noStrike">
                  <a:solidFill>
                    <a:srgbClr val="000000"/>
                  </a:solidFill>
                  <a:latin typeface="Times New Roman"/>
                  <a:ea typeface="Times New Roman"/>
                </a:rPr>
                <a:t>Dead Sea</a:t>
              </a:r>
              <a:endParaRPr b="0" lang="en-US" sz="3600" spc="-1" strike="noStrike">
                <a:solidFill>
                  <a:srgbClr val="000000"/>
                </a:solidFill>
                <a:latin typeface="Arial"/>
              </a:endParaRPr>
            </a:p>
          </p:txBody>
        </p:sp>
        <p:sp>
          <p:nvSpPr>
            <p:cNvPr id="243" name=""/>
            <p:cNvSpPr txBox="1"/>
            <p:nvPr/>
          </p:nvSpPr>
          <p:spPr>
            <a:xfrm>
              <a:off x="1035000" y="5805360"/>
              <a:ext cx="28130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Isaac’s Home</a:t>
              </a:r>
              <a:endParaRPr b="0" lang="en-US" sz="3600" spc="-1" strike="noStrike">
                <a:solidFill>
                  <a:srgbClr val="000000"/>
                </a:solidFill>
                <a:latin typeface="Arial"/>
              </a:endParaRPr>
            </a:p>
          </p:txBody>
        </p:sp>
        <p:sp>
          <p:nvSpPr>
            <p:cNvPr id="244" name=""/>
            <p:cNvSpPr/>
            <p:nvPr/>
          </p:nvSpPr>
          <p:spPr>
            <a:xfrm>
              <a:off x="2362320" y="5137200"/>
              <a:ext cx="381240" cy="395640"/>
            </a:xfrm>
            <a:custGeom>
              <a:avLst/>
              <a:gdLst/>
              <a:ahLst/>
              <a:rect l="0" t="0" r="r" b="b"/>
              <a:pathLst>
                <a:path w="1059" h="1099">
                  <a:moveTo>
                    <a:pt x="530" y="0"/>
                  </a:moveTo>
                  <a:lnTo>
                    <a:pt x="405" y="420"/>
                  </a:lnTo>
                  <a:lnTo>
                    <a:pt x="0" y="420"/>
                  </a:lnTo>
                  <a:lnTo>
                    <a:pt x="329" y="681"/>
                  </a:lnTo>
                  <a:lnTo>
                    <a:pt x="205" y="1099"/>
                  </a:lnTo>
                  <a:lnTo>
                    <a:pt x="530" y="857"/>
                  </a:lnTo>
                  <a:lnTo>
                    <a:pt x="853" y="1099"/>
                  </a:lnTo>
                  <a:lnTo>
                    <a:pt x="729" y="681"/>
                  </a:lnTo>
                  <a:lnTo>
                    <a:pt x="1059" y="419"/>
                  </a:lnTo>
                  <a:lnTo>
                    <a:pt x="653" y="419"/>
                  </a:lnTo>
                  <a:lnTo>
                    <a:pt x="530"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txBox="1"/>
            <p:nvPr/>
          </p:nvSpPr>
          <p:spPr>
            <a:xfrm>
              <a:off x="1890720" y="5410080"/>
              <a:ext cx="151596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Times New Roman"/>
                  <a:ea typeface="Times New Roman"/>
                </a:rPr>
                <a:t>Hebron</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46" name=""/>
          <p:cNvGrpSpPr/>
          <p:nvPr/>
        </p:nvGrpSpPr>
        <p:grpSpPr>
          <a:xfrm>
            <a:off x="74520" y="220680"/>
            <a:ext cx="9056880" cy="6624720"/>
            <a:chOff x="74520" y="220680"/>
            <a:chExt cx="9056880" cy="6624720"/>
          </a:xfrm>
        </p:grpSpPr>
        <p:sp>
          <p:nvSpPr>
            <p:cNvPr id="247" name=""/>
            <p:cNvSpPr txBox="1"/>
            <p:nvPr/>
          </p:nvSpPr>
          <p:spPr>
            <a:xfrm>
              <a:off x="1255680" y="600120"/>
              <a:ext cx="7715160" cy="1143000"/>
            </a:xfrm>
            <a:prstGeom prst="rect">
              <a:avLst/>
            </a:prstGeom>
            <a:noFill/>
            <a:ln w="0">
              <a:noFill/>
            </a:ln>
          </p:spPr>
          <p:txBody>
            <a:bodyPr lIns="0" rIns="0" tIns="0" bIns="0" anchor="t">
              <a:noAutofit/>
            </a:bodyPr>
            <a:p>
              <a:pPr>
                <a:lnSpc>
                  <a:spcPct val="100000"/>
                </a:lnSpc>
              </a:pPr>
              <a:r>
                <a:rPr b="0" lang="en-US" sz="4400" spc="-1" strike="noStrike">
                  <a:solidFill>
                    <a:srgbClr val="c0fef9"/>
                  </a:solidFill>
                  <a:latin typeface="Times New Roman"/>
                  <a:ea typeface="Times New Roman"/>
                </a:rPr>
                <a:t>Click to add title</a:t>
              </a:r>
              <a:endParaRPr b="0" lang="en-US" sz="4400" spc="-1" strike="noStrike">
                <a:solidFill>
                  <a:srgbClr val="000000"/>
                </a:solidFill>
                <a:latin typeface="Arial"/>
              </a:endParaRPr>
            </a:p>
          </p:txBody>
        </p:sp>
        <p:sp>
          <p:nvSpPr>
            <p:cNvPr id="248" name=""/>
            <p:cNvSpPr txBox="1"/>
            <p:nvPr/>
          </p:nvSpPr>
          <p:spPr>
            <a:xfrm>
              <a:off x="1231920" y="1971720"/>
              <a:ext cx="7791480" cy="4114800"/>
            </a:xfrm>
            <a:prstGeom prst="rect">
              <a:avLst/>
            </a:prstGeom>
            <a:noFill/>
            <a:ln w="0">
              <a:noFill/>
            </a:ln>
          </p:spPr>
          <p:txBody>
            <a:bodyPr lIns="0" rIns="0" tIns="0" bIns="0" anchor="t">
              <a:noAutofit/>
            </a:bodyPr>
            <a:p>
              <a:pPr marL="343080" indent="-343080">
                <a:lnSpc>
                  <a:spcPct val="100000"/>
                </a:lnSpc>
                <a:spcBef>
                  <a:spcPts val="479"/>
                </a:spcBef>
                <a:buClr>
                  <a:srgbClr val="c0fef9"/>
                </a:buClr>
                <a:buSzPct val="75000"/>
                <a:buFont typeface="Monotype Sorts"/>
                <a:buChar char=""/>
              </a:pPr>
              <a:r>
                <a:rPr b="0" lang="en-US" sz="3200" spc="-1" strike="noStrike">
                  <a:solidFill>
                    <a:srgbClr val="ffffff"/>
                  </a:solidFill>
                  <a:latin typeface="Times New Roman"/>
                  <a:ea typeface="Times New Roman"/>
                </a:rPr>
                <a:t>Click to add text</a:t>
              </a:r>
              <a:endParaRPr b="0" lang="en-US" sz="3200" spc="-1" strike="noStrike">
                <a:solidFill>
                  <a:srgbClr val="000000"/>
                </a:solidFill>
                <a:latin typeface="Arial"/>
              </a:endParaRPr>
            </a:p>
          </p:txBody>
        </p:sp>
        <p:pic>
          <p:nvPicPr>
            <p:cNvPr id="249" name="" descr=""/>
            <p:cNvPicPr/>
            <p:nvPr/>
          </p:nvPicPr>
          <p:blipFill>
            <a:blip r:embed="rId1"/>
            <a:stretch/>
          </p:blipFill>
          <p:spPr>
            <a:xfrm>
              <a:off x="74520" y="220680"/>
              <a:ext cx="8839080" cy="6551640"/>
            </a:xfrm>
            <a:prstGeom prst="rect">
              <a:avLst/>
            </a:prstGeom>
            <a:ln w="0">
              <a:noFill/>
            </a:ln>
          </p:spPr>
        </p:pic>
        <p:sp>
          <p:nvSpPr>
            <p:cNvPr id="250" name=""/>
            <p:cNvSpPr txBox="1"/>
            <p:nvPr/>
          </p:nvSpPr>
          <p:spPr>
            <a:xfrm>
              <a:off x="343080" y="4435560"/>
              <a:ext cx="1936800" cy="914400"/>
            </a:xfrm>
            <a:prstGeom prst="rect">
              <a:avLst/>
            </a:prstGeom>
            <a:noFill/>
            <a:ln w="0">
              <a:noFill/>
            </a:ln>
          </p:spPr>
          <p:txBody>
            <a:bodyPr lIns="0" rIns="0" tIns="0" bIns="0" anchor="t">
              <a:noAutofit/>
            </a:bodyPr>
            <a:p>
              <a:pPr>
                <a:lnSpc>
                  <a:spcPct val="100000"/>
                </a:lnSpc>
              </a:pPr>
              <a:r>
                <a:rPr b="1" lang="en-US" sz="5400" spc="-1" strike="noStrike">
                  <a:solidFill>
                    <a:srgbClr val="ffffff"/>
                  </a:solidFill>
                  <a:latin typeface="Times New Roman"/>
                  <a:ea typeface="Times New Roman"/>
                </a:rPr>
                <a:t>Egypt</a:t>
              </a:r>
              <a:endParaRPr b="0" lang="en-US" sz="5400" spc="-1" strike="noStrike">
                <a:solidFill>
                  <a:srgbClr val="000000"/>
                </a:solidFill>
                <a:latin typeface="Arial"/>
              </a:endParaRPr>
            </a:p>
          </p:txBody>
        </p:sp>
        <p:sp>
          <p:nvSpPr>
            <p:cNvPr id="251" name=""/>
            <p:cNvSpPr txBox="1"/>
            <p:nvPr/>
          </p:nvSpPr>
          <p:spPr>
            <a:xfrm>
              <a:off x="206280" y="3220920"/>
              <a:ext cx="88416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Times New Roman"/>
                  <a:ea typeface="Times New Roman"/>
                </a:rPr>
                <a:t>Nile</a:t>
              </a:r>
              <a:endParaRPr b="0" lang="en-US" sz="3200" spc="-1" strike="noStrike">
                <a:solidFill>
                  <a:srgbClr val="000000"/>
                </a:solidFill>
                <a:latin typeface="Arial"/>
              </a:endParaRPr>
            </a:p>
          </p:txBody>
        </p:sp>
        <p:sp>
          <p:nvSpPr>
            <p:cNvPr id="252" name=""/>
            <p:cNvSpPr txBox="1"/>
            <p:nvPr/>
          </p:nvSpPr>
          <p:spPr>
            <a:xfrm>
              <a:off x="912960" y="2303640"/>
              <a:ext cx="191124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Nile Delta</a:t>
              </a:r>
              <a:endParaRPr b="0" lang="en-US" sz="3200" spc="-1" strike="noStrike">
                <a:solidFill>
                  <a:srgbClr val="000000"/>
                </a:solidFill>
                <a:latin typeface="Arial"/>
              </a:endParaRPr>
            </a:p>
          </p:txBody>
        </p:sp>
        <p:sp>
          <p:nvSpPr>
            <p:cNvPr id="253" name=""/>
            <p:cNvSpPr txBox="1"/>
            <p:nvPr/>
          </p:nvSpPr>
          <p:spPr>
            <a:xfrm>
              <a:off x="1247760" y="1389240"/>
              <a:ext cx="4702320" cy="701640"/>
            </a:xfrm>
            <a:prstGeom prst="rect">
              <a:avLst/>
            </a:prstGeom>
            <a:noFill/>
            <a:ln w="0">
              <a:noFill/>
            </a:ln>
          </p:spPr>
          <p:txBody>
            <a:bodyPr lIns="0" rIns="0" tIns="0" bIns="0" anchor="t">
              <a:noAutofit/>
            </a:bodyPr>
            <a:p>
              <a:pPr>
                <a:lnSpc>
                  <a:spcPct val="100000"/>
                </a:lnSpc>
              </a:pPr>
              <a:r>
                <a:rPr b="1" lang="en-US" sz="4000" spc="-1" strike="noStrike">
                  <a:solidFill>
                    <a:srgbClr val="ffffff"/>
                  </a:solidFill>
                  <a:latin typeface="Arial"/>
                  <a:ea typeface="Arial"/>
                </a:rPr>
                <a:t>Mediterranean Sea</a:t>
              </a:r>
              <a:endParaRPr b="0" lang="en-US" sz="4000" spc="-1" strike="noStrike">
                <a:solidFill>
                  <a:srgbClr val="000000"/>
                </a:solidFill>
                <a:latin typeface="Arial"/>
              </a:endParaRPr>
            </a:p>
          </p:txBody>
        </p:sp>
        <p:sp>
          <p:nvSpPr>
            <p:cNvPr id="254" name=""/>
            <p:cNvSpPr txBox="1"/>
            <p:nvPr/>
          </p:nvSpPr>
          <p:spPr>
            <a:xfrm>
              <a:off x="6962760" y="6388200"/>
              <a:ext cx="1801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ASA Photo</a:t>
              </a:r>
              <a:endParaRPr b="0" lang="en-US" sz="2400" spc="-1" strike="noStrike">
                <a:solidFill>
                  <a:srgbClr val="000000"/>
                </a:solidFill>
                <a:latin typeface="Arial"/>
              </a:endParaRPr>
            </a:p>
          </p:txBody>
        </p:sp>
        <p:sp>
          <p:nvSpPr>
            <p:cNvPr id="255" name=""/>
            <p:cNvSpPr txBox="1"/>
            <p:nvPr/>
          </p:nvSpPr>
          <p:spPr>
            <a:xfrm>
              <a:off x="3656160" y="4361040"/>
              <a:ext cx="117468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Sinai</a:t>
              </a:r>
              <a:endParaRPr b="0" lang="en-US" sz="3600" spc="-1" strike="noStrike">
                <a:solidFill>
                  <a:srgbClr val="000000"/>
                </a:solidFill>
                <a:latin typeface="Arial"/>
              </a:endParaRPr>
            </a:p>
          </p:txBody>
        </p:sp>
        <p:sp>
          <p:nvSpPr>
            <p:cNvPr id="256" name=""/>
            <p:cNvSpPr txBox="1"/>
            <p:nvPr/>
          </p:nvSpPr>
          <p:spPr>
            <a:xfrm>
              <a:off x="7018200" y="998640"/>
              <a:ext cx="170820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Canaan</a:t>
              </a:r>
              <a:endParaRPr b="0" lang="en-US" sz="3600" spc="-1" strike="noStrike">
                <a:solidFill>
                  <a:srgbClr val="000000"/>
                </a:solidFill>
                <a:latin typeface="Arial"/>
              </a:endParaRPr>
            </a:p>
          </p:txBody>
        </p:sp>
        <p:sp>
          <p:nvSpPr>
            <p:cNvPr id="257" name=""/>
            <p:cNvSpPr txBox="1"/>
            <p:nvPr/>
          </p:nvSpPr>
          <p:spPr>
            <a:xfrm>
              <a:off x="303120" y="6510240"/>
              <a:ext cx="1514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EBibleTeacher.com</a:t>
              </a:r>
              <a:endParaRPr b="0" lang="en-US" sz="1200" spc="-1" strike="noStrike">
                <a:solidFill>
                  <a:srgbClr val="000000"/>
                </a:solidFill>
                <a:latin typeface="Arial"/>
              </a:endParaRPr>
            </a:p>
          </p:txBody>
        </p:sp>
        <p:sp>
          <p:nvSpPr>
            <p:cNvPr id="258" name=""/>
            <p:cNvSpPr/>
            <p:nvPr/>
          </p:nvSpPr>
          <p:spPr>
            <a:xfrm>
              <a:off x="1373040" y="1687680"/>
              <a:ext cx="5767920" cy="1506960"/>
            </a:xfrm>
            <a:custGeom>
              <a:avLst/>
              <a:gdLst/>
              <a:ahLst/>
              <a:rect l="0" t="0" r="r" b="b"/>
              <a:pathLst>
                <a:path fill="none" w="16022" h="4186">
                  <a:moveTo>
                    <a:pt x="15828" y="1253"/>
                  </a:moveTo>
                  <a:lnTo>
                    <a:pt x="15877" y="1107"/>
                  </a:lnTo>
                  <a:lnTo>
                    <a:pt x="15877" y="961"/>
                  </a:lnTo>
                  <a:lnTo>
                    <a:pt x="15925" y="771"/>
                  </a:lnTo>
                  <a:lnTo>
                    <a:pt x="15974" y="626"/>
                  </a:lnTo>
                  <a:lnTo>
                    <a:pt x="16022" y="480"/>
                  </a:lnTo>
                  <a:lnTo>
                    <a:pt x="16022" y="335"/>
                  </a:lnTo>
                  <a:lnTo>
                    <a:pt x="16022" y="145"/>
                  </a:lnTo>
                  <a:lnTo>
                    <a:pt x="15974" y="0"/>
                  </a:lnTo>
                  <a:lnTo>
                    <a:pt x="15828" y="0"/>
                  </a:lnTo>
                  <a:lnTo>
                    <a:pt x="15638" y="97"/>
                  </a:lnTo>
                  <a:lnTo>
                    <a:pt x="15493" y="194"/>
                  </a:lnTo>
                  <a:lnTo>
                    <a:pt x="15347" y="291"/>
                  </a:lnTo>
                  <a:lnTo>
                    <a:pt x="15202" y="432"/>
                  </a:lnTo>
                  <a:lnTo>
                    <a:pt x="15061" y="577"/>
                  </a:lnTo>
                  <a:lnTo>
                    <a:pt x="14915" y="626"/>
                  </a:lnTo>
                  <a:lnTo>
                    <a:pt x="14770" y="723"/>
                  </a:lnTo>
                  <a:lnTo>
                    <a:pt x="14580" y="864"/>
                  </a:lnTo>
                  <a:lnTo>
                    <a:pt x="14435" y="961"/>
                  </a:lnTo>
                  <a:lnTo>
                    <a:pt x="14289" y="1059"/>
                  </a:lnTo>
                  <a:lnTo>
                    <a:pt x="14143" y="1156"/>
                  </a:lnTo>
                  <a:lnTo>
                    <a:pt x="14002" y="1301"/>
                  </a:lnTo>
                  <a:lnTo>
                    <a:pt x="13857" y="1350"/>
                  </a:lnTo>
                  <a:lnTo>
                    <a:pt x="13711" y="1442"/>
                  </a:lnTo>
                  <a:lnTo>
                    <a:pt x="13522" y="1491"/>
                  </a:lnTo>
                  <a:lnTo>
                    <a:pt x="13376" y="1588"/>
                  </a:lnTo>
                  <a:lnTo>
                    <a:pt x="13231" y="1685"/>
                  </a:lnTo>
                  <a:lnTo>
                    <a:pt x="13085" y="1734"/>
                  </a:lnTo>
                  <a:lnTo>
                    <a:pt x="12896" y="1831"/>
                  </a:lnTo>
                  <a:lnTo>
                    <a:pt x="12750" y="1923"/>
                  </a:lnTo>
                  <a:lnTo>
                    <a:pt x="12604" y="1972"/>
                  </a:lnTo>
                  <a:lnTo>
                    <a:pt x="12415" y="2069"/>
                  </a:lnTo>
                  <a:lnTo>
                    <a:pt x="12269" y="2117"/>
                  </a:lnTo>
                  <a:lnTo>
                    <a:pt x="12124" y="2166"/>
                  </a:lnTo>
                  <a:lnTo>
                    <a:pt x="11933" y="2214"/>
                  </a:lnTo>
                  <a:lnTo>
                    <a:pt x="11788" y="2263"/>
                  </a:lnTo>
                  <a:lnTo>
                    <a:pt x="11642" y="2263"/>
                  </a:lnTo>
                  <a:lnTo>
                    <a:pt x="11497" y="2263"/>
                  </a:lnTo>
                  <a:lnTo>
                    <a:pt x="11307" y="2263"/>
                  </a:lnTo>
                  <a:lnTo>
                    <a:pt x="11162" y="2263"/>
                  </a:lnTo>
                  <a:lnTo>
                    <a:pt x="11016" y="2311"/>
                  </a:lnTo>
                  <a:lnTo>
                    <a:pt x="10826" y="2408"/>
                  </a:lnTo>
                  <a:lnTo>
                    <a:pt x="10681" y="2452"/>
                  </a:lnTo>
                  <a:lnTo>
                    <a:pt x="10535" y="2501"/>
                  </a:lnTo>
                  <a:lnTo>
                    <a:pt x="10346" y="2549"/>
                  </a:lnTo>
                  <a:lnTo>
                    <a:pt x="10200" y="2598"/>
                  </a:lnTo>
                  <a:lnTo>
                    <a:pt x="10055" y="2598"/>
                  </a:lnTo>
                  <a:lnTo>
                    <a:pt x="9909" y="2646"/>
                  </a:lnTo>
                  <a:lnTo>
                    <a:pt x="9720" y="2695"/>
                  </a:lnTo>
                  <a:lnTo>
                    <a:pt x="9574" y="2743"/>
                  </a:lnTo>
                  <a:lnTo>
                    <a:pt x="9428" y="2743"/>
                  </a:lnTo>
                  <a:lnTo>
                    <a:pt x="9239" y="2743"/>
                  </a:lnTo>
                  <a:lnTo>
                    <a:pt x="9093" y="2743"/>
                  </a:lnTo>
                  <a:lnTo>
                    <a:pt x="8948" y="2743"/>
                  </a:lnTo>
                  <a:lnTo>
                    <a:pt x="8758" y="2743"/>
                  </a:lnTo>
                  <a:lnTo>
                    <a:pt x="8613" y="2743"/>
                  </a:lnTo>
                  <a:lnTo>
                    <a:pt x="8229" y="2792"/>
                  </a:lnTo>
                  <a:lnTo>
                    <a:pt x="7792" y="2792"/>
                  </a:lnTo>
                  <a:lnTo>
                    <a:pt x="7603" y="2840"/>
                  </a:lnTo>
                  <a:lnTo>
                    <a:pt x="7263" y="2840"/>
                  </a:lnTo>
                  <a:lnTo>
                    <a:pt x="6783" y="2889"/>
                  </a:lnTo>
                  <a:lnTo>
                    <a:pt x="6593" y="2937"/>
                  </a:lnTo>
                  <a:lnTo>
                    <a:pt x="6253" y="2937"/>
                  </a:lnTo>
                  <a:lnTo>
                    <a:pt x="6064" y="2981"/>
                  </a:lnTo>
                  <a:lnTo>
                    <a:pt x="5918" y="2981"/>
                  </a:lnTo>
                  <a:lnTo>
                    <a:pt x="5773" y="2981"/>
                  </a:lnTo>
                  <a:lnTo>
                    <a:pt x="5583" y="3030"/>
                  </a:lnTo>
                  <a:lnTo>
                    <a:pt x="5438" y="3030"/>
                  </a:lnTo>
                  <a:lnTo>
                    <a:pt x="5292" y="3078"/>
                  </a:lnTo>
                  <a:lnTo>
                    <a:pt x="5147" y="3127"/>
                  </a:lnTo>
                  <a:lnTo>
                    <a:pt x="4957" y="3177"/>
                  </a:lnTo>
                  <a:lnTo>
                    <a:pt x="4812" y="3225"/>
                  </a:lnTo>
                  <a:lnTo>
                    <a:pt x="4666" y="3225"/>
                  </a:lnTo>
                  <a:lnTo>
                    <a:pt x="4476" y="3274"/>
                  </a:lnTo>
                  <a:lnTo>
                    <a:pt x="4331" y="3322"/>
                  </a:lnTo>
                  <a:lnTo>
                    <a:pt x="4185" y="3371"/>
                  </a:lnTo>
                  <a:lnTo>
                    <a:pt x="3752" y="3419"/>
                  </a:lnTo>
                  <a:lnTo>
                    <a:pt x="3607" y="3419"/>
                  </a:lnTo>
                  <a:lnTo>
                    <a:pt x="3223" y="3468"/>
                  </a:lnTo>
                  <a:lnTo>
                    <a:pt x="2791" y="3468"/>
                  </a:lnTo>
                  <a:lnTo>
                    <a:pt x="2359" y="3512"/>
                  </a:lnTo>
                  <a:lnTo>
                    <a:pt x="1971" y="3560"/>
                  </a:lnTo>
                  <a:lnTo>
                    <a:pt x="1587" y="3609"/>
                  </a:lnTo>
                  <a:lnTo>
                    <a:pt x="1441" y="3657"/>
                  </a:lnTo>
                  <a:lnTo>
                    <a:pt x="1106" y="3657"/>
                  </a:lnTo>
                  <a:lnTo>
                    <a:pt x="961" y="3706"/>
                  </a:lnTo>
                  <a:lnTo>
                    <a:pt x="771" y="3803"/>
                  </a:lnTo>
                  <a:lnTo>
                    <a:pt x="626" y="3851"/>
                  </a:lnTo>
                  <a:lnTo>
                    <a:pt x="480" y="3900"/>
                  </a:lnTo>
                  <a:lnTo>
                    <a:pt x="291" y="4041"/>
                  </a:lnTo>
                  <a:lnTo>
                    <a:pt x="145" y="4138"/>
                  </a:lnTo>
                  <a:lnTo>
                    <a:pt x="0" y="4186"/>
                  </a:lnTo>
                </a:path>
              </a:pathLst>
            </a:custGeom>
            <a:ln w="38160">
              <a:solidFill>
                <a:srgbClr val="f35b1b"/>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5511960" y="2276640"/>
              <a:ext cx="207720" cy="207720"/>
            </a:xfrm>
            <a:prstGeom prst="line">
              <a:avLst/>
            </a:prstGeom>
            <a:ln w="38160">
              <a:solidFill>
                <a:srgbClr val="f35b1b"/>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p:nvPr/>
          </p:nvSpPr>
          <p:spPr>
            <a:xfrm flipH="1" flipV="1">
              <a:off x="5460840" y="2467080"/>
              <a:ext cx="311400" cy="137880"/>
            </a:xfrm>
            <a:prstGeom prst="line">
              <a:avLst/>
            </a:prstGeom>
            <a:ln w="38160">
              <a:solidFill>
                <a:srgbClr val="f35b1b"/>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flipV="1">
              <a:off x="2097000" y="2757600"/>
              <a:ext cx="208080" cy="207720"/>
            </a:xfrm>
            <a:prstGeom prst="line">
              <a:avLst/>
            </a:prstGeom>
            <a:ln w="38160">
              <a:solidFill>
                <a:srgbClr val="f35b1b"/>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H="1" flipV="1">
              <a:off x="2046240" y="2948040"/>
              <a:ext cx="311040" cy="138240"/>
            </a:xfrm>
            <a:prstGeom prst="line">
              <a:avLst/>
            </a:prstGeom>
            <a:ln w="38160">
              <a:solidFill>
                <a:srgbClr val="f35b1b"/>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3" name=""/>
            <p:cNvSpPr txBox="1"/>
            <p:nvPr/>
          </p:nvSpPr>
          <p:spPr>
            <a:xfrm>
              <a:off x="92160" y="301680"/>
              <a:ext cx="6824520" cy="797040"/>
            </a:xfrm>
            <a:prstGeom prst="rect">
              <a:avLst/>
            </a:prstGeom>
            <a:solidFill>
              <a:srgbClr val="00279f"/>
            </a:solidFill>
            <a:ln w="12600">
              <a:solidFill>
                <a:srgbClr val="ffffff"/>
              </a:solidFill>
              <a:round/>
            </a:ln>
          </p:spPr>
          <p:txBody>
            <a:bodyPr lIns="0" rIns="0" tIns="0" bIns="0" anchor="t">
              <a:noAutofit/>
            </a:bodyPr>
            <a:p>
              <a:pPr algn="ctr">
                <a:lnSpc>
                  <a:spcPct val="100000"/>
                </a:lnSpc>
              </a:pPr>
              <a:r>
                <a:rPr b="1" lang="en-US" sz="4000" spc="-1" strike="noStrike">
                  <a:solidFill>
                    <a:srgbClr val="ffffff"/>
                  </a:solidFill>
                  <a:latin typeface="Arial"/>
                  <a:ea typeface="Arial"/>
                </a:rPr>
                <a:t>Joseph’s Journey to Egypt</a:t>
              </a:r>
              <a:endParaRPr b="0" lang="en-US" sz="4000" spc="-1" strike="noStrike">
                <a:solidFill>
                  <a:srgbClr val="ffffff"/>
                </a:solidFill>
                <a:latin typeface="Arial"/>
              </a:endParaRPr>
            </a:p>
          </p:txBody>
        </p:sp>
        <p:sp>
          <p:nvSpPr>
            <p:cNvPr id="264" name=""/>
            <p:cNvSpPr txBox="1"/>
            <p:nvPr/>
          </p:nvSpPr>
          <p:spPr>
            <a:xfrm>
              <a:off x="6389640" y="2284560"/>
              <a:ext cx="2741760" cy="119052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Times New Roman"/>
                  <a:ea typeface="Times New Roman"/>
                </a:rPr>
                <a:t>Joseph sold to caravan</a:t>
              </a:r>
              <a:endParaRPr b="0" lang="en-US" sz="3600" spc="-1" strike="noStrike">
                <a:solidFill>
                  <a:srgbClr val="000000"/>
                </a:solidFill>
                <a:latin typeface="Arial"/>
              </a:endParaRPr>
            </a:p>
          </p:txBody>
        </p:sp>
        <p:sp>
          <p:nvSpPr>
            <p:cNvPr id="265" name=""/>
            <p:cNvSpPr txBox="1"/>
            <p:nvPr/>
          </p:nvSpPr>
          <p:spPr>
            <a:xfrm>
              <a:off x="826920" y="3165480"/>
              <a:ext cx="2741760" cy="119052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Times New Roman"/>
                  <a:ea typeface="Times New Roman"/>
                </a:rPr>
                <a:t>Potiphar    &amp; Pharaoh</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66" name=""/>
          <p:cNvGrpSpPr/>
          <p:nvPr/>
        </p:nvGrpSpPr>
        <p:grpSpPr>
          <a:xfrm>
            <a:off x="0" y="241200"/>
            <a:ext cx="9131400" cy="6604200"/>
            <a:chOff x="0" y="241200"/>
            <a:chExt cx="9131400" cy="6604200"/>
          </a:xfrm>
        </p:grpSpPr>
        <p:grpSp>
          <p:nvGrpSpPr>
            <p:cNvPr id="267" name=""/>
            <p:cNvGrpSpPr/>
            <p:nvPr/>
          </p:nvGrpSpPr>
          <p:grpSpPr>
            <a:xfrm>
              <a:off x="0" y="241200"/>
              <a:ext cx="9131400" cy="6604200"/>
              <a:chOff x="0" y="241200"/>
              <a:chExt cx="9131400" cy="6604200"/>
            </a:xfrm>
          </p:grpSpPr>
          <p:pic>
            <p:nvPicPr>
              <p:cNvPr id="268" name="" descr=""/>
              <p:cNvPicPr/>
              <p:nvPr/>
            </p:nvPicPr>
            <p:blipFill>
              <a:blip r:embed="rId1"/>
              <a:stretch/>
            </p:blipFill>
            <p:spPr>
              <a:xfrm>
                <a:off x="0" y="1054080"/>
                <a:ext cx="9131400" cy="5791320"/>
              </a:xfrm>
              <a:prstGeom prst="rect">
                <a:avLst/>
              </a:prstGeom>
              <a:ln w="0">
                <a:noFill/>
              </a:ln>
            </p:spPr>
          </p:pic>
          <p:sp>
            <p:nvSpPr>
              <p:cNvPr id="269" name=""/>
              <p:cNvSpPr txBox="1"/>
              <p:nvPr/>
            </p:nvSpPr>
            <p:spPr>
              <a:xfrm>
                <a:off x="709560" y="241200"/>
                <a:ext cx="7620120" cy="1576440"/>
              </a:xfrm>
              <a:prstGeom prst="rect">
                <a:avLst/>
              </a:prstGeom>
              <a:solidFill>
                <a:srgbClr val="00279f"/>
              </a:solidFill>
              <a:ln w="12600">
                <a:solidFill>
                  <a:srgbClr val="ffffff"/>
                </a:solidFill>
                <a:round/>
              </a:ln>
            </p:spPr>
            <p:txBody>
              <a:bodyPr lIns="0" rIns="0" tIns="0" bIns="0" anchor="t">
                <a:noAutofit/>
              </a:bodyPr>
              <a:p>
                <a:pPr algn="ctr">
                  <a:lnSpc>
                    <a:spcPct val="100000"/>
                  </a:lnSpc>
                </a:pPr>
                <a:r>
                  <a:rPr b="1" lang="en-US" sz="4400" spc="-1" strike="noStrike" u="sng">
                    <a:solidFill>
                      <a:srgbClr val="ffffff"/>
                    </a:solidFill>
                    <a:uFillTx/>
                    <a:latin typeface="Times New Roman"/>
                    <a:ea typeface="Times New Roman"/>
                  </a:rPr>
                  <a:t>Joseph’s Families Journey </a:t>
                </a:r>
                <a:endParaRPr b="0" lang="en-US" sz="4400" spc="-1" strike="noStrike">
                  <a:solidFill>
                    <a:srgbClr val="ffffff"/>
                  </a:solidFill>
                  <a:latin typeface="Arial"/>
                </a:endParaRPr>
              </a:p>
              <a:p>
                <a:pPr algn="ctr">
                  <a:lnSpc>
                    <a:spcPct val="100000"/>
                  </a:lnSpc>
                </a:pPr>
                <a:r>
                  <a:rPr b="1" lang="en-US" sz="4400" spc="-1" strike="noStrike" u="sng">
                    <a:solidFill>
                      <a:srgbClr val="ffffff"/>
                    </a:solidFill>
                    <a:uFillTx/>
                    <a:latin typeface="Times New Roman"/>
                    <a:ea typeface="Times New Roman"/>
                  </a:rPr>
                  <a:t>to Goshen Due to the Famine</a:t>
                </a:r>
                <a:endParaRPr b="0" lang="en-US" sz="4400" spc="-1" strike="noStrike">
                  <a:solidFill>
                    <a:srgbClr val="ffffff"/>
                  </a:solidFill>
                  <a:latin typeface="Arial"/>
                </a:endParaRPr>
              </a:p>
            </p:txBody>
          </p:sp>
          <p:sp>
            <p:nvSpPr>
              <p:cNvPr id="270" name=""/>
              <p:cNvSpPr/>
              <p:nvPr/>
            </p:nvSpPr>
            <p:spPr>
              <a:xfrm>
                <a:off x="4832280" y="4311720"/>
                <a:ext cx="3116520" cy="1767240"/>
              </a:xfrm>
              <a:custGeom>
                <a:avLst/>
                <a:gdLst/>
                <a:ahLst/>
                <a:rect l="0" t="0" r="r" b="b"/>
                <a:pathLst>
                  <a:path fill="none" w="8657" h="4909">
                    <a:moveTo>
                      <a:pt x="8657" y="0"/>
                    </a:moveTo>
                    <a:lnTo>
                      <a:pt x="8657" y="145"/>
                    </a:lnTo>
                    <a:lnTo>
                      <a:pt x="8657" y="291"/>
                    </a:lnTo>
                    <a:lnTo>
                      <a:pt x="8657" y="436"/>
                    </a:lnTo>
                    <a:lnTo>
                      <a:pt x="8657" y="626"/>
                    </a:lnTo>
                    <a:lnTo>
                      <a:pt x="8657" y="771"/>
                    </a:lnTo>
                    <a:lnTo>
                      <a:pt x="8613" y="917"/>
                    </a:lnTo>
                    <a:lnTo>
                      <a:pt x="8564" y="1106"/>
                    </a:lnTo>
                    <a:lnTo>
                      <a:pt x="8467" y="1252"/>
                    </a:lnTo>
                    <a:lnTo>
                      <a:pt x="8370" y="1397"/>
                    </a:lnTo>
                    <a:lnTo>
                      <a:pt x="8225" y="1538"/>
                    </a:lnTo>
                    <a:lnTo>
                      <a:pt x="8128" y="1684"/>
                    </a:lnTo>
                    <a:lnTo>
                      <a:pt x="7938" y="1781"/>
                    </a:lnTo>
                    <a:lnTo>
                      <a:pt x="7792" y="1878"/>
                    </a:lnTo>
                    <a:lnTo>
                      <a:pt x="7647" y="1927"/>
                    </a:lnTo>
                    <a:lnTo>
                      <a:pt x="7457" y="1975"/>
                    </a:lnTo>
                    <a:lnTo>
                      <a:pt x="7312" y="1975"/>
                    </a:lnTo>
                    <a:lnTo>
                      <a:pt x="7166" y="2024"/>
                    </a:lnTo>
                    <a:lnTo>
                      <a:pt x="6977" y="2024"/>
                    </a:lnTo>
                    <a:lnTo>
                      <a:pt x="6831" y="2024"/>
                    </a:lnTo>
                    <a:lnTo>
                      <a:pt x="6686" y="2024"/>
                    </a:lnTo>
                    <a:lnTo>
                      <a:pt x="6540" y="2024"/>
                    </a:lnTo>
                    <a:lnTo>
                      <a:pt x="6351" y="2068"/>
                    </a:lnTo>
                    <a:lnTo>
                      <a:pt x="6205" y="2068"/>
                    </a:lnTo>
                    <a:lnTo>
                      <a:pt x="6059" y="2116"/>
                    </a:lnTo>
                    <a:lnTo>
                      <a:pt x="5870" y="2116"/>
                    </a:lnTo>
                    <a:lnTo>
                      <a:pt x="5724" y="2116"/>
                    </a:lnTo>
                    <a:lnTo>
                      <a:pt x="5579" y="2116"/>
                    </a:lnTo>
                    <a:lnTo>
                      <a:pt x="5389" y="2165"/>
                    </a:lnTo>
                    <a:lnTo>
                      <a:pt x="5244" y="2165"/>
                    </a:lnTo>
                    <a:lnTo>
                      <a:pt x="5098" y="2213"/>
                    </a:lnTo>
                    <a:lnTo>
                      <a:pt x="4953" y="2262"/>
                    </a:lnTo>
                    <a:lnTo>
                      <a:pt x="4763" y="2262"/>
                    </a:lnTo>
                    <a:lnTo>
                      <a:pt x="4617" y="2262"/>
                    </a:lnTo>
                    <a:lnTo>
                      <a:pt x="4472" y="2262"/>
                    </a:lnTo>
                    <a:lnTo>
                      <a:pt x="4281" y="2262"/>
                    </a:lnTo>
                    <a:lnTo>
                      <a:pt x="4136" y="2262"/>
                    </a:lnTo>
                    <a:lnTo>
                      <a:pt x="3990" y="2262"/>
                    </a:lnTo>
                    <a:lnTo>
                      <a:pt x="3801" y="2262"/>
                    </a:lnTo>
                    <a:lnTo>
                      <a:pt x="3655" y="2310"/>
                    </a:lnTo>
                    <a:lnTo>
                      <a:pt x="3510" y="2359"/>
                    </a:lnTo>
                    <a:lnTo>
                      <a:pt x="3364" y="2457"/>
                    </a:lnTo>
                    <a:lnTo>
                      <a:pt x="3175" y="2554"/>
                    </a:lnTo>
                    <a:lnTo>
                      <a:pt x="3029" y="2598"/>
                    </a:lnTo>
                    <a:lnTo>
                      <a:pt x="2883" y="2695"/>
                    </a:lnTo>
                    <a:lnTo>
                      <a:pt x="2694" y="2840"/>
                    </a:lnTo>
                    <a:lnTo>
                      <a:pt x="2548" y="2937"/>
                    </a:lnTo>
                    <a:lnTo>
                      <a:pt x="2451" y="3083"/>
                    </a:lnTo>
                    <a:lnTo>
                      <a:pt x="2306" y="3273"/>
                    </a:lnTo>
                    <a:lnTo>
                      <a:pt x="2165" y="3418"/>
                    </a:lnTo>
                    <a:lnTo>
                      <a:pt x="2068" y="3564"/>
                    </a:lnTo>
                    <a:lnTo>
                      <a:pt x="1922" y="3753"/>
                    </a:lnTo>
                    <a:lnTo>
                      <a:pt x="1825" y="3899"/>
                    </a:lnTo>
                    <a:lnTo>
                      <a:pt x="1733" y="4044"/>
                    </a:lnTo>
                    <a:lnTo>
                      <a:pt x="1587" y="4185"/>
                    </a:lnTo>
                    <a:lnTo>
                      <a:pt x="1441" y="4331"/>
                    </a:lnTo>
                    <a:lnTo>
                      <a:pt x="1296" y="4428"/>
                    </a:lnTo>
                    <a:lnTo>
                      <a:pt x="961" y="4525"/>
                    </a:lnTo>
                    <a:lnTo>
                      <a:pt x="626" y="4573"/>
                    </a:lnTo>
                    <a:lnTo>
                      <a:pt x="286" y="4670"/>
                    </a:lnTo>
                    <a:lnTo>
                      <a:pt x="97" y="4763"/>
                    </a:lnTo>
                    <a:lnTo>
                      <a:pt x="0" y="4909"/>
                    </a:lnTo>
                  </a:path>
                </a:pathLst>
              </a:custGeom>
              <a:ln w="38160">
                <a:solidFill>
                  <a:srgbClr val="f35b1b"/>
                </a:solidFill>
                <a:round/>
              </a:ln>
            </p:spPr>
            <p:txBody>
              <a:bodyPr lIns="109080" rIns="109080" tIns="64080" bIns="64080" anchor="t">
                <a:noAutofit/>
              </a:bodyPr>
              <a:p>
                <a:endParaRPr b="0" lang="en-US" sz="1800" spc="-1" strike="noStrike">
                  <a:solidFill>
                    <a:srgbClr val="000000"/>
                  </a:solidFill>
                  <a:latin typeface="Arial"/>
                </a:endParaRPr>
              </a:p>
            </p:txBody>
          </p:sp>
          <p:sp>
            <p:nvSpPr>
              <p:cNvPr id="271" name=""/>
              <p:cNvSpPr/>
              <p:nvPr/>
            </p:nvSpPr>
            <p:spPr>
              <a:xfrm flipV="1">
                <a:off x="5261040" y="5697360"/>
                <a:ext cx="85680" cy="190800"/>
              </a:xfrm>
              <a:prstGeom prst="line">
                <a:avLst/>
              </a:prstGeom>
              <a:ln w="38160">
                <a:solidFill>
                  <a:srgbClr val="f35b1b"/>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2" name=""/>
              <p:cNvSpPr/>
              <p:nvPr/>
            </p:nvSpPr>
            <p:spPr>
              <a:xfrm flipH="1" flipV="1">
                <a:off x="5241960" y="5921280"/>
                <a:ext cx="209520" cy="36720"/>
              </a:xfrm>
              <a:prstGeom prst="line">
                <a:avLst/>
              </a:prstGeom>
              <a:ln w="38160">
                <a:solidFill>
                  <a:srgbClr val="f35b1b"/>
                </a:solidFill>
                <a:round/>
              </a:ln>
            </p:spPr>
            <p:style>
              <a:lnRef idx="0"/>
              <a:fillRef idx="0"/>
              <a:effectRef idx="0"/>
              <a:fontRef idx="minor"/>
            </p:style>
            <p:txBody>
              <a:bodyPr lIns="109080" rIns="109080" tIns="-27360" bIns="-27360" anchor="t">
                <a:noAutofit/>
              </a:bodyPr>
              <a:p>
                <a:endParaRPr b="0" lang="en-US" sz="1800" spc="-1" strike="noStrike">
                  <a:solidFill>
                    <a:srgbClr val="000000"/>
                  </a:solidFill>
                  <a:latin typeface="Arial"/>
                </a:endParaRPr>
              </a:p>
            </p:txBody>
          </p:sp>
          <p:sp>
            <p:nvSpPr>
              <p:cNvPr id="273" name=""/>
              <p:cNvSpPr/>
              <p:nvPr/>
            </p:nvSpPr>
            <p:spPr>
              <a:xfrm flipV="1">
                <a:off x="7607160" y="4773600"/>
                <a:ext cx="86040" cy="190440"/>
              </a:xfrm>
              <a:prstGeom prst="line">
                <a:avLst/>
              </a:prstGeom>
              <a:ln w="38160">
                <a:solidFill>
                  <a:srgbClr val="f35b1b"/>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4" name=""/>
              <p:cNvSpPr/>
              <p:nvPr/>
            </p:nvSpPr>
            <p:spPr>
              <a:xfrm flipH="1" flipV="1">
                <a:off x="7583400" y="4995720"/>
                <a:ext cx="214560" cy="38160"/>
              </a:xfrm>
              <a:prstGeom prst="line">
                <a:avLst/>
              </a:prstGeom>
              <a:ln w="38160">
                <a:solidFill>
                  <a:srgbClr val="f35b1b"/>
                </a:solidFill>
                <a:round/>
              </a:ln>
            </p:spPr>
            <p:style>
              <a:lnRef idx="0"/>
              <a:fillRef idx="0"/>
              <a:effectRef idx="0"/>
              <a:fontRef idx="minor"/>
            </p:style>
            <p:txBody>
              <a:bodyPr lIns="109080" rIns="109080" tIns="-25920" bIns="-25920" anchor="t">
                <a:noAutofit/>
              </a:bodyPr>
              <a:p>
                <a:endParaRPr b="0" lang="en-US" sz="1800" spc="-1" strike="noStrike">
                  <a:solidFill>
                    <a:srgbClr val="000000"/>
                  </a:solidFill>
                  <a:latin typeface="Arial"/>
                </a:endParaRPr>
              </a:p>
            </p:txBody>
          </p:sp>
          <p:sp>
            <p:nvSpPr>
              <p:cNvPr id="275" name=""/>
              <p:cNvSpPr txBox="1"/>
              <p:nvPr/>
            </p:nvSpPr>
            <p:spPr>
              <a:xfrm>
                <a:off x="236520" y="3143160"/>
                <a:ext cx="376704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Fertile Nile Delta</a:t>
                </a:r>
                <a:endParaRPr b="0" lang="en-US" sz="3600" spc="-1" strike="noStrike">
                  <a:solidFill>
                    <a:srgbClr val="000000"/>
                  </a:solidFill>
                  <a:latin typeface="Arial"/>
                </a:endParaRPr>
              </a:p>
            </p:txBody>
          </p:sp>
          <p:sp>
            <p:nvSpPr>
              <p:cNvPr id="276" name=""/>
              <p:cNvSpPr/>
              <p:nvPr/>
            </p:nvSpPr>
            <p:spPr>
              <a:xfrm>
                <a:off x="2268360" y="4002120"/>
                <a:ext cx="1765440" cy="11430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7" name=""/>
              <p:cNvSpPr txBox="1"/>
              <p:nvPr/>
            </p:nvSpPr>
            <p:spPr>
              <a:xfrm>
                <a:off x="2276640" y="6083280"/>
                <a:ext cx="1736640" cy="762120"/>
              </a:xfrm>
              <a:prstGeom prst="rect">
                <a:avLst/>
              </a:prstGeom>
              <a:noFill/>
              <a:ln w="0">
                <a:noFill/>
              </a:ln>
            </p:spPr>
            <p:txBody>
              <a:bodyPr lIns="0" rIns="0" tIns="0" bIns="0" anchor="t">
                <a:noAutofit/>
              </a:bodyPr>
              <a:p>
                <a:pPr>
                  <a:lnSpc>
                    <a:spcPct val="100000"/>
                  </a:lnSpc>
                </a:pPr>
                <a:r>
                  <a:rPr b="1" lang="en-US" sz="4400" spc="-1" strike="noStrike">
                    <a:solidFill>
                      <a:srgbClr val="000000"/>
                    </a:solidFill>
                    <a:latin typeface="Arial"/>
                    <a:ea typeface="Arial"/>
                  </a:rPr>
                  <a:t>Egypt</a:t>
                </a:r>
                <a:endParaRPr b="0" lang="en-US" sz="4400" spc="-1" strike="noStrike">
                  <a:solidFill>
                    <a:srgbClr val="000000"/>
                  </a:solidFill>
                  <a:latin typeface="Arial"/>
                </a:endParaRPr>
              </a:p>
            </p:txBody>
          </p:sp>
          <p:sp>
            <p:nvSpPr>
              <p:cNvPr id="278" name=""/>
              <p:cNvSpPr txBox="1"/>
              <p:nvPr/>
            </p:nvSpPr>
            <p:spPr>
              <a:xfrm>
                <a:off x="7070760" y="3378240"/>
                <a:ext cx="183528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Canaan</a:t>
                </a:r>
                <a:endParaRPr b="0" lang="en-US" sz="3600" spc="-1" strike="noStrike">
                  <a:solidFill>
                    <a:srgbClr val="000000"/>
                  </a:solidFill>
                  <a:latin typeface="Arial"/>
                </a:endParaRPr>
              </a:p>
            </p:txBody>
          </p:sp>
        </p:grpSp>
        <p:sp>
          <p:nvSpPr>
            <p:cNvPr id="279" name=""/>
            <p:cNvSpPr txBox="1"/>
            <p:nvPr/>
          </p:nvSpPr>
          <p:spPr>
            <a:xfrm>
              <a:off x="60480" y="647712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80" name=""/>
          <p:cNvGrpSpPr/>
          <p:nvPr/>
        </p:nvGrpSpPr>
        <p:grpSpPr>
          <a:xfrm>
            <a:off x="414360" y="87480"/>
            <a:ext cx="8716680" cy="6757920"/>
            <a:chOff x="414360" y="87480"/>
            <a:chExt cx="8716680" cy="6757920"/>
          </a:xfrm>
        </p:grpSpPr>
        <p:pic>
          <p:nvPicPr>
            <p:cNvPr id="281" name="" descr=""/>
            <p:cNvPicPr/>
            <p:nvPr/>
          </p:nvPicPr>
          <p:blipFill>
            <a:blip r:embed="rId1"/>
            <a:stretch/>
          </p:blipFill>
          <p:spPr>
            <a:xfrm>
              <a:off x="415800" y="87480"/>
              <a:ext cx="8715240" cy="6757920"/>
            </a:xfrm>
            <a:prstGeom prst="rect">
              <a:avLst/>
            </a:prstGeom>
            <a:ln w="0">
              <a:noFill/>
            </a:ln>
          </p:spPr>
        </p:pic>
        <p:sp>
          <p:nvSpPr>
            <p:cNvPr id="282" name=""/>
            <p:cNvSpPr txBox="1"/>
            <p:nvPr/>
          </p:nvSpPr>
          <p:spPr>
            <a:xfrm>
              <a:off x="615960" y="4065480"/>
              <a:ext cx="1743120" cy="824040"/>
            </a:xfrm>
            <a:prstGeom prst="rect">
              <a:avLst/>
            </a:prstGeom>
            <a:noFill/>
            <a:ln w="0">
              <a:noFill/>
            </a:ln>
          </p:spPr>
          <p:txBody>
            <a:bodyPr lIns="0" rIns="0" tIns="0" bIns="0" anchor="t">
              <a:noAutofit/>
            </a:bodyPr>
            <a:p>
              <a:pPr>
                <a:lnSpc>
                  <a:spcPct val="100000"/>
                </a:lnSpc>
              </a:pPr>
              <a:r>
                <a:rPr b="1" lang="en-US" sz="4800" spc="-1" strike="noStrike">
                  <a:solidFill>
                    <a:srgbClr val="000000"/>
                  </a:solidFill>
                  <a:latin typeface="Times New Roman"/>
                  <a:ea typeface="Times New Roman"/>
                </a:rPr>
                <a:t>Egypt</a:t>
              </a:r>
              <a:endParaRPr b="0" lang="en-US" sz="4800" spc="-1" strike="noStrike">
                <a:solidFill>
                  <a:srgbClr val="000000"/>
                </a:solidFill>
                <a:latin typeface="Arial"/>
              </a:endParaRPr>
            </a:p>
          </p:txBody>
        </p:sp>
        <p:sp>
          <p:nvSpPr>
            <p:cNvPr id="283" name=""/>
            <p:cNvSpPr txBox="1"/>
            <p:nvPr/>
          </p:nvSpPr>
          <p:spPr>
            <a:xfrm>
              <a:off x="1379520" y="1933560"/>
              <a:ext cx="1414440" cy="873000"/>
            </a:xfrm>
            <a:prstGeom prst="rect">
              <a:avLst/>
            </a:prstGeom>
            <a:noFill/>
            <a:ln w="0">
              <a:noFill/>
            </a:ln>
          </p:spPr>
          <p:txBody>
            <a:bodyPr lIns="0" rIns="0" tIns="0" bIns="0" anchor="t">
              <a:noAutofit/>
            </a:bodyPr>
            <a:p>
              <a:pPr>
                <a:lnSpc>
                  <a:spcPct val="80000"/>
                </a:lnSpc>
              </a:pPr>
              <a:r>
                <a:rPr b="1" lang="en-US" sz="3200" spc="-1" strike="noStrike">
                  <a:solidFill>
                    <a:srgbClr val="ffffff"/>
                  </a:solidFill>
                  <a:latin typeface="Times New Roman"/>
                  <a:ea typeface="Times New Roman"/>
                </a:rPr>
                <a:t>Nile</a:t>
              </a:r>
              <a:endParaRPr b="0" lang="en-US" sz="3200" spc="-1" strike="noStrike">
                <a:solidFill>
                  <a:srgbClr val="000000"/>
                </a:solidFill>
                <a:latin typeface="Arial"/>
              </a:endParaRPr>
            </a:p>
            <a:p>
              <a:pPr>
                <a:lnSpc>
                  <a:spcPct val="80000"/>
                </a:lnSpc>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Delta</a:t>
              </a:r>
              <a:endParaRPr b="0" lang="en-US" sz="3200" spc="-1" strike="noStrike">
                <a:solidFill>
                  <a:srgbClr val="000000"/>
                </a:solidFill>
                <a:latin typeface="Arial"/>
              </a:endParaRPr>
            </a:p>
          </p:txBody>
        </p:sp>
        <p:sp>
          <p:nvSpPr>
            <p:cNvPr id="284" name=""/>
            <p:cNvSpPr txBox="1"/>
            <p:nvPr/>
          </p:nvSpPr>
          <p:spPr>
            <a:xfrm>
              <a:off x="3332160" y="420840"/>
              <a:ext cx="3073320" cy="1249200"/>
            </a:xfrm>
            <a:prstGeom prst="rect">
              <a:avLst/>
            </a:prstGeom>
            <a:noFill/>
            <a:ln w="0">
              <a:noFill/>
            </a:ln>
          </p:spPr>
          <p:txBody>
            <a:bodyPr lIns="0" rIns="0" tIns="0" bIns="0" anchor="t">
              <a:noAutofit/>
            </a:bodyPr>
            <a:p>
              <a:pPr algn="ctr">
                <a:lnSpc>
                  <a:spcPct val="100000"/>
                </a:lnSpc>
              </a:pPr>
              <a:r>
                <a:rPr b="1" lang="en-US" sz="4400" spc="-1" strike="noStrike">
                  <a:solidFill>
                    <a:srgbClr val="ffffff"/>
                  </a:solidFill>
                  <a:latin typeface="Times New Roman"/>
                  <a:ea typeface="Times New Roman"/>
                </a:rPr>
                <a:t>Great Sea</a:t>
              </a:r>
              <a:endParaRPr b="0" lang="en-US" sz="4400" spc="-1" strike="noStrike">
                <a:solidFill>
                  <a:srgbClr val="000000"/>
                </a:solidFill>
                <a:latin typeface="Arial"/>
              </a:endParaRPr>
            </a:p>
            <a:p>
              <a:pPr algn="ctr">
                <a:lnSpc>
                  <a:spcPct val="100000"/>
                </a:lnSpc>
              </a:pPr>
              <a:r>
                <a:rPr b="1" lang="en-US" sz="3200" spc="-1" strike="noStrike">
                  <a:solidFill>
                    <a:srgbClr val="ffffff"/>
                  </a:solidFill>
                  <a:latin typeface="Times New Roman"/>
                  <a:ea typeface="Times New Roman"/>
                </a:rPr>
                <a:t>(Mediterranean)</a:t>
              </a:r>
              <a:endParaRPr b="0" lang="en-US" sz="3200" spc="-1" strike="noStrike">
                <a:solidFill>
                  <a:srgbClr val="000000"/>
                </a:solidFill>
                <a:latin typeface="Arial"/>
              </a:endParaRPr>
            </a:p>
          </p:txBody>
        </p:sp>
        <p:sp>
          <p:nvSpPr>
            <p:cNvPr id="285" name=""/>
            <p:cNvSpPr txBox="1"/>
            <p:nvPr/>
          </p:nvSpPr>
          <p:spPr>
            <a:xfrm>
              <a:off x="3379680" y="6094440"/>
              <a:ext cx="15955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Red Sea</a:t>
              </a:r>
              <a:endParaRPr b="0" lang="en-US" sz="3200" spc="-1" strike="noStrike">
                <a:solidFill>
                  <a:srgbClr val="000000"/>
                </a:solidFill>
                <a:latin typeface="Arial"/>
              </a:endParaRPr>
            </a:p>
          </p:txBody>
        </p:sp>
        <p:sp>
          <p:nvSpPr>
            <p:cNvPr id="286" name=""/>
            <p:cNvSpPr txBox="1"/>
            <p:nvPr/>
          </p:nvSpPr>
          <p:spPr>
            <a:xfrm>
              <a:off x="7224840" y="1397160"/>
              <a:ext cx="170820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Canaan</a:t>
              </a:r>
              <a:endParaRPr b="0" lang="en-US" sz="3600" spc="-1" strike="noStrike">
                <a:solidFill>
                  <a:srgbClr val="000000"/>
                </a:solidFill>
                <a:latin typeface="Arial"/>
              </a:endParaRPr>
            </a:p>
          </p:txBody>
        </p:sp>
        <p:sp>
          <p:nvSpPr>
            <p:cNvPr id="287" name=""/>
            <p:cNvSpPr txBox="1"/>
            <p:nvPr/>
          </p:nvSpPr>
          <p:spPr>
            <a:xfrm>
              <a:off x="4435560" y="5670720"/>
              <a:ext cx="16462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Mt. Sinai</a:t>
              </a:r>
              <a:endParaRPr b="0" lang="en-US" sz="2800" spc="-1" strike="noStrike">
                <a:solidFill>
                  <a:srgbClr val="000000"/>
                </a:solidFill>
                <a:latin typeface="Arial"/>
              </a:endParaRPr>
            </a:p>
          </p:txBody>
        </p:sp>
        <p:sp>
          <p:nvSpPr>
            <p:cNvPr id="288" name=""/>
            <p:cNvSpPr txBox="1"/>
            <p:nvPr/>
          </p:nvSpPr>
          <p:spPr>
            <a:xfrm>
              <a:off x="6624720" y="4930920"/>
              <a:ext cx="2374920" cy="1554120"/>
            </a:xfrm>
            <a:prstGeom prst="rect">
              <a:avLst/>
            </a:prstGeom>
            <a:noFill/>
            <a:ln w="0">
              <a:noFill/>
            </a:ln>
          </p:spPr>
          <p:txBody>
            <a:bodyPr lIns="0" rIns="0" tIns="0" bIns="0" anchor="t">
              <a:noAutofit/>
            </a:bodyPr>
            <a:p>
              <a:pPr algn="ctr">
                <a:lnSpc>
                  <a:spcPct val="100000"/>
                </a:lnSpc>
              </a:pPr>
              <a:r>
                <a:rPr b="1" lang="en-US" sz="3200" spc="-1" strike="noStrike" u="sng">
                  <a:solidFill>
                    <a:srgbClr val="fafd00"/>
                  </a:solidFill>
                  <a:uFillTx/>
                  <a:latin typeface="Arial"/>
                  <a:ea typeface="Arial"/>
                </a:rPr>
                <a:t>Traditional</a:t>
              </a:r>
              <a:endParaRPr b="0" lang="en-US" sz="3200" spc="-1" strike="noStrike">
                <a:solidFill>
                  <a:srgbClr val="000000"/>
                </a:solidFill>
                <a:latin typeface="Arial"/>
              </a:endParaRPr>
            </a:p>
            <a:p>
              <a:pPr algn="ctr">
                <a:lnSpc>
                  <a:spcPct val="100000"/>
                </a:lnSpc>
              </a:pPr>
              <a:r>
                <a:rPr b="1" lang="en-US" sz="3200" spc="-1" strike="noStrike" u="sng">
                  <a:solidFill>
                    <a:srgbClr val="fafd00"/>
                  </a:solidFill>
                  <a:uFillTx/>
                  <a:latin typeface="Arial"/>
                  <a:ea typeface="Arial"/>
                </a:rPr>
                <a:t>Route of </a:t>
              </a:r>
              <a:endParaRPr b="0" lang="en-US" sz="3200" spc="-1" strike="noStrike">
                <a:solidFill>
                  <a:srgbClr val="000000"/>
                </a:solidFill>
                <a:latin typeface="Arial"/>
              </a:endParaRPr>
            </a:p>
            <a:p>
              <a:pPr algn="ctr">
                <a:lnSpc>
                  <a:spcPct val="100000"/>
                </a:lnSpc>
              </a:pPr>
              <a:r>
                <a:rPr b="1" lang="en-US" sz="3200" spc="-1" strike="noStrike" u="sng">
                  <a:solidFill>
                    <a:srgbClr val="fafd00"/>
                  </a:solidFill>
                  <a:uFillTx/>
                  <a:latin typeface="Arial"/>
                  <a:ea typeface="Arial"/>
                </a:rPr>
                <a:t>the Exodus</a:t>
              </a:r>
              <a:endParaRPr b="0" lang="en-US" sz="3200" spc="-1" strike="noStrike">
                <a:solidFill>
                  <a:srgbClr val="000000"/>
                </a:solidFill>
                <a:latin typeface="Arial"/>
              </a:endParaRPr>
            </a:p>
          </p:txBody>
        </p:sp>
        <p:sp>
          <p:nvSpPr>
            <p:cNvPr id="289" name=""/>
            <p:cNvSpPr txBox="1"/>
            <p:nvPr/>
          </p:nvSpPr>
          <p:spPr>
            <a:xfrm>
              <a:off x="414360" y="6172200"/>
              <a:ext cx="20239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NASA Photo</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EBibleTeacher.com</a:t>
              </a:r>
              <a:endParaRPr b="0" lang="en-US" sz="1400" spc="-1" strike="noStrike">
                <a:solidFill>
                  <a:srgbClr val="000000"/>
                </a:solidFill>
                <a:latin typeface="Arial"/>
              </a:endParaRPr>
            </a:p>
          </p:txBody>
        </p:sp>
        <p:sp>
          <p:nvSpPr>
            <p:cNvPr id="290" name=""/>
            <p:cNvSpPr/>
            <p:nvPr/>
          </p:nvSpPr>
          <p:spPr>
            <a:xfrm>
              <a:off x="2819520" y="1523880"/>
              <a:ext cx="6220080" cy="4218480"/>
            </a:xfrm>
            <a:custGeom>
              <a:avLst/>
              <a:gdLst/>
              <a:ahLst/>
              <a:rect l="0" t="0" r="r" b="b"/>
              <a:pathLst>
                <a:path fill="none" w="17278" h="11718">
                  <a:moveTo>
                    <a:pt x="0" y="2966"/>
                  </a:moveTo>
                  <a:lnTo>
                    <a:pt x="213" y="3177"/>
                  </a:lnTo>
                  <a:lnTo>
                    <a:pt x="213" y="3177"/>
                  </a:lnTo>
                  <a:lnTo>
                    <a:pt x="427" y="3389"/>
                  </a:lnTo>
                  <a:lnTo>
                    <a:pt x="641" y="3811"/>
                  </a:lnTo>
                  <a:lnTo>
                    <a:pt x="848" y="4446"/>
                  </a:lnTo>
                  <a:lnTo>
                    <a:pt x="1275" y="4868"/>
                  </a:lnTo>
                  <a:lnTo>
                    <a:pt x="1483" y="5080"/>
                  </a:lnTo>
                  <a:lnTo>
                    <a:pt x="1910" y="5291"/>
                  </a:lnTo>
                  <a:lnTo>
                    <a:pt x="2118" y="5291"/>
                  </a:lnTo>
                  <a:lnTo>
                    <a:pt x="2118" y="5291"/>
                  </a:lnTo>
                  <a:lnTo>
                    <a:pt x="2118" y="5291"/>
                  </a:lnTo>
                  <a:lnTo>
                    <a:pt x="2118" y="5291"/>
                  </a:lnTo>
                  <a:lnTo>
                    <a:pt x="2118" y="5291"/>
                  </a:lnTo>
                  <a:lnTo>
                    <a:pt x="2332" y="5291"/>
                  </a:lnTo>
                  <a:lnTo>
                    <a:pt x="2545" y="5291"/>
                  </a:lnTo>
                  <a:lnTo>
                    <a:pt x="2545" y="5291"/>
                  </a:lnTo>
                  <a:lnTo>
                    <a:pt x="2759" y="5484"/>
                  </a:lnTo>
                  <a:lnTo>
                    <a:pt x="2759" y="5666"/>
                  </a:lnTo>
                  <a:lnTo>
                    <a:pt x="2759" y="5859"/>
                  </a:lnTo>
                  <a:lnTo>
                    <a:pt x="2808" y="6040"/>
                  </a:lnTo>
                  <a:lnTo>
                    <a:pt x="3003" y="6215"/>
                  </a:lnTo>
                  <a:lnTo>
                    <a:pt x="3070" y="6408"/>
                  </a:lnTo>
                  <a:lnTo>
                    <a:pt x="3070" y="6590"/>
                  </a:lnTo>
                  <a:lnTo>
                    <a:pt x="3119" y="6783"/>
                  </a:lnTo>
                  <a:lnTo>
                    <a:pt x="3119" y="6964"/>
                  </a:lnTo>
                  <a:lnTo>
                    <a:pt x="3119" y="7145"/>
                  </a:lnTo>
                  <a:lnTo>
                    <a:pt x="3119" y="7332"/>
                  </a:lnTo>
                  <a:lnTo>
                    <a:pt x="3070" y="7514"/>
                  </a:lnTo>
                  <a:lnTo>
                    <a:pt x="3003" y="7707"/>
                  </a:lnTo>
                  <a:lnTo>
                    <a:pt x="3003" y="7888"/>
                  </a:lnTo>
                  <a:lnTo>
                    <a:pt x="3003" y="8069"/>
                  </a:lnTo>
                  <a:lnTo>
                    <a:pt x="3003" y="8263"/>
                  </a:lnTo>
                  <a:lnTo>
                    <a:pt x="3003" y="8504"/>
                  </a:lnTo>
                  <a:lnTo>
                    <a:pt x="3003" y="8685"/>
                  </a:lnTo>
                  <a:lnTo>
                    <a:pt x="3003" y="8880"/>
                  </a:lnTo>
                  <a:lnTo>
                    <a:pt x="3070" y="9061"/>
                  </a:lnTo>
                  <a:lnTo>
                    <a:pt x="3186" y="9248"/>
                  </a:lnTo>
                  <a:lnTo>
                    <a:pt x="3315" y="9429"/>
                  </a:lnTo>
                  <a:lnTo>
                    <a:pt x="3431" y="9610"/>
                  </a:lnTo>
                  <a:lnTo>
                    <a:pt x="3626" y="9804"/>
                  </a:lnTo>
                  <a:lnTo>
                    <a:pt x="3809" y="9918"/>
                  </a:lnTo>
                  <a:lnTo>
                    <a:pt x="4004" y="10112"/>
                  </a:lnTo>
                  <a:lnTo>
                    <a:pt x="4188" y="10226"/>
                  </a:lnTo>
                  <a:lnTo>
                    <a:pt x="4432" y="10293"/>
                  </a:lnTo>
                  <a:lnTo>
                    <a:pt x="4560" y="10486"/>
                  </a:lnTo>
                  <a:lnTo>
                    <a:pt x="4682" y="10667"/>
                  </a:lnTo>
                  <a:lnTo>
                    <a:pt x="4871" y="10842"/>
                  </a:lnTo>
                  <a:lnTo>
                    <a:pt x="4993" y="11036"/>
                  </a:lnTo>
                  <a:lnTo>
                    <a:pt x="5183" y="11150"/>
                  </a:lnTo>
                  <a:lnTo>
                    <a:pt x="5366" y="11283"/>
                  </a:lnTo>
                  <a:lnTo>
                    <a:pt x="5561" y="11458"/>
                  </a:lnTo>
                  <a:lnTo>
                    <a:pt x="5744" y="11591"/>
                  </a:lnTo>
                  <a:lnTo>
                    <a:pt x="5928" y="11718"/>
                  </a:lnTo>
                  <a:lnTo>
                    <a:pt x="6123" y="11718"/>
                  </a:lnTo>
                  <a:lnTo>
                    <a:pt x="6367" y="11718"/>
                  </a:lnTo>
                  <a:lnTo>
                    <a:pt x="6367" y="11525"/>
                  </a:lnTo>
                  <a:lnTo>
                    <a:pt x="6434" y="11344"/>
                  </a:lnTo>
                  <a:lnTo>
                    <a:pt x="6550" y="11150"/>
                  </a:lnTo>
                  <a:lnTo>
                    <a:pt x="6746" y="10909"/>
                  </a:lnTo>
                  <a:lnTo>
                    <a:pt x="6929" y="10842"/>
                  </a:lnTo>
                  <a:lnTo>
                    <a:pt x="7124" y="10667"/>
                  </a:lnTo>
                  <a:lnTo>
                    <a:pt x="7368" y="10486"/>
                  </a:lnTo>
                  <a:lnTo>
                    <a:pt x="7551" y="10420"/>
                  </a:lnTo>
                  <a:lnTo>
                    <a:pt x="7747" y="10353"/>
                  </a:lnTo>
                  <a:lnTo>
                    <a:pt x="7991" y="10226"/>
                  </a:lnTo>
                  <a:lnTo>
                    <a:pt x="8174" y="10112"/>
                  </a:lnTo>
                  <a:lnTo>
                    <a:pt x="8302" y="9918"/>
                  </a:lnTo>
                  <a:lnTo>
                    <a:pt x="8486" y="9804"/>
                  </a:lnTo>
                  <a:lnTo>
                    <a:pt x="8553" y="9610"/>
                  </a:lnTo>
                  <a:lnTo>
                    <a:pt x="8682" y="9429"/>
                  </a:lnTo>
                  <a:lnTo>
                    <a:pt x="8731" y="9248"/>
                  </a:lnTo>
                  <a:lnTo>
                    <a:pt x="8865" y="9061"/>
                  </a:lnTo>
                  <a:lnTo>
                    <a:pt x="8926" y="8880"/>
                  </a:lnTo>
                  <a:lnTo>
                    <a:pt x="8993" y="8685"/>
                  </a:lnTo>
                  <a:lnTo>
                    <a:pt x="9042" y="8196"/>
                  </a:lnTo>
                  <a:lnTo>
                    <a:pt x="9042" y="7761"/>
                  </a:lnTo>
                  <a:lnTo>
                    <a:pt x="9109" y="7272"/>
                  </a:lnTo>
                  <a:lnTo>
                    <a:pt x="9109" y="6716"/>
                  </a:lnTo>
                  <a:lnTo>
                    <a:pt x="9176" y="6523"/>
                  </a:lnTo>
                  <a:lnTo>
                    <a:pt x="9305" y="6282"/>
                  </a:lnTo>
                  <a:lnTo>
                    <a:pt x="9353" y="6100"/>
                  </a:lnTo>
                  <a:lnTo>
                    <a:pt x="9488" y="5907"/>
                  </a:lnTo>
                  <a:lnTo>
                    <a:pt x="9671" y="5726"/>
                  </a:lnTo>
                  <a:lnTo>
                    <a:pt x="9860" y="5484"/>
                  </a:lnTo>
                  <a:lnTo>
                    <a:pt x="9927" y="5291"/>
                  </a:lnTo>
                  <a:lnTo>
                    <a:pt x="10110" y="5176"/>
                  </a:lnTo>
                  <a:lnTo>
                    <a:pt x="10239" y="4983"/>
                  </a:lnTo>
                  <a:lnTo>
                    <a:pt x="10422" y="4868"/>
                  </a:lnTo>
                  <a:lnTo>
                    <a:pt x="10605" y="4868"/>
                  </a:lnTo>
                  <a:lnTo>
                    <a:pt x="10800" y="4868"/>
                  </a:lnTo>
                  <a:lnTo>
                    <a:pt x="11045" y="4802"/>
                  </a:lnTo>
                  <a:lnTo>
                    <a:pt x="11228" y="4802"/>
                  </a:lnTo>
                  <a:lnTo>
                    <a:pt x="11423" y="4742"/>
                  </a:lnTo>
                  <a:lnTo>
                    <a:pt x="11606" y="4742"/>
                  </a:lnTo>
                  <a:lnTo>
                    <a:pt x="12046" y="4742"/>
                  </a:lnTo>
                  <a:lnTo>
                    <a:pt x="12229" y="4742"/>
                  </a:lnTo>
                  <a:lnTo>
                    <a:pt x="12424" y="4742"/>
                  </a:lnTo>
                  <a:lnTo>
                    <a:pt x="12668" y="4742"/>
                  </a:lnTo>
                  <a:lnTo>
                    <a:pt x="12852" y="4742"/>
                  </a:lnTo>
                  <a:lnTo>
                    <a:pt x="13047" y="4742"/>
                  </a:lnTo>
                  <a:lnTo>
                    <a:pt x="13230" y="4675"/>
                  </a:lnTo>
                  <a:lnTo>
                    <a:pt x="13474" y="4675"/>
                  </a:lnTo>
                  <a:lnTo>
                    <a:pt x="13670" y="4627"/>
                  </a:lnTo>
                  <a:lnTo>
                    <a:pt x="13853" y="4627"/>
                  </a:lnTo>
                  <a:lnTo>
                    <a:pt x="14097" y="4627"/>
                  </a:lnTo>
                  <a:lnTo>
                    <a:pt x="14292" y="4627"/>
                  </a:lnTo>
                  <a:lnTo>
                    <a:pt x="14476" y="4560"/>
                  </a:lnTo>
                  <a:lnTo>
                    <a:pt x="14659" y="4494"/>
                  </a:lnTo>
                  <a:lnTo>
                    <a:pt x="14848" y="4367"/>
                  </a:lnTo>
                  <a:lnTo>
                    <a:pt x="15031" y="4252"/>
                  </a:lnTo>
                  <a:lnTo>
                    <a:pt x="15226" y="4125"/>
                  </a:lnTo>
                  <a:lnTo>
                    <a:pt x="14604" y="1056"/>
                  </a:lnTo>
                  <a:lnTo>
                    <a:pt x="15538" y="3751"/>
                  </a:lnTo>
                  <a:lnTo>
                    <a:pt x="15654" y="3570"/>
                  </a:lnTo>
                  <a:lnTo>
                    <a:pt x="15788" y="3389"/>
                  </a:lnTo>
                  <a:lnTo>
                    <a:pt x="15849" y="3195"/>
                  </a:lnTo>
                  <a:lnTo>
                    <a:pt x="15965" y="2954"/>
                  </a:lnTo>
                  <a:lnTo>
                    <a:pt x="16032" y="2772"/>
                  </a:lnTo>
                  <a:lnTo>
                    <a:pt x="16100" y="2578"/>
                  </a:lnTo>
                  <a:lnTo>
                    <a:pt x="16283" y="2397"/>
                  </a:lnTo>
                  <a:lnTo>
                    <a:pt x="16411" y="2210"/>
                  </a:lnTo>
                  <a:lnTo>
                    <a:pt x="16594" y="2089"/>
                  </a:lnTo>
                  <a:lnTo>
                    <a:pt x="16783" y="1962"/>
                  </a:lnTo>
                  <a:lnTo>
                    <a:pt x="16905" y="1781"/>
                  </a:lnTo>
                  <a:lnTo>
                    <a:pt x="17034" y="1588"/>
                  </a:lnTo>
                  <a:lnTo>
                    <a:pt x="17150" y="1346"/>
                  </a:lnTo>
                  <a:lnTo>
                    <a:pt x="17278" y="1165"/>
                  </a:lnTo>
                  <a:lnTo>
                    <a:pt x="17278" y="972"/>
                  </a:lnTo>
                  <a:lnTo>
                    <a:pt x="17278" y="791"/>
                  </a:lnTo>
                  <a:lnTo>
                    <a:pt x="17217" y="549"/>
                  </a:lnTo>
                  <a:lnTo>
                    <a:pt x="17150" y="356"/>
                  </a:lnTo>
                  <a:lnTo>
                    <a:pt x="17034" y="175"/>
                  </a:lnTo>
                  <a:lnTo>
                    <a:pt x="16838" y="0"/>
                  </a:lnTo>
                </a:path>
              </a:pathLst>
            </a:custGeom>
            <a:ln w="38160">
              <a:solidFill>
                <a:srgbClr val="ff500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1" name=""/>
            <p:cNvSpPr txBox="1"/>
            <p:nvPr/>
          </p:nvSpPr>
          <p:spPr>
            <a:xfrm>
              <a:off x="4064040" y="2773440"/>
              <a:ext cx="2301840" cy="1190520"/>
            </a:xfrm>
            <a:prstGeom prst="rect">
              <a:avLst/>
            </a:prstGeom>
            <a:noFill/>
            <a:ln w="0">
              <a:noFill/>
            </a:ln>
          </p:spPr>
          <p:txBody>
            <a:bodyPr lIns="0" rIns="0" tIns="0" bIns="0" anchor="t">
              <a:noAutofit/>
            </a:bodyPr>
            <a:p>
              <a:pPr>
                <a:lnSpc>
                  <a:spcPct val="90000"/>
                </a:lnSpc>
              </a:pPr>
              <a:r>
                <a:rPr b="1" lang="en-US" sz="4000" spc="-1" strike="noStrike">
                  <a:solidFill>
                    <a:srgbClr val="000000"/>
                  </a:solidFill>
                  <a:latin typeface="Times New Roman"/>
                  <a:ea typeface="Times New Roman"/>
                </a:rPr>
                <a:t>Sinai</a:t>
              </a:r>
              <a:endParaRPr b="0" lang="en-US" sz="4000" spc="-1" strike="noStrike">
                <a:solidFill>
                  <a:srgbClr val="000000"/>
                </a:solidFill>
                <a:latin typeface="Arial"/>
              </a:endParaRPr>
            </a:p>
            <a:p>
              <a:pPr>
                <a:lnSpc>
                  <a:spcPct val="90000"/>
                </a:lnSpc>
              </a:pPr>
              <a:r>
                <a:rPr b="1" lang="en-US" sz="4000" spc="-1" strike="noStrike">
                  <a:solidFill>
                    <a:srgbClr val="000000"/>
                  </a:solidFill>
                  <a:latin typeface="Times New Roman"/>
                  <a:ea typeface="Times New Roman"/>
                </a:rPr>
                <a:t>Peninsula</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92" name=""/>
          <p:cNvGrpSpPr/>
          <p:nvPr/>
        </p:nvGrpSpPr>
        <p:grpSpPr>
          <a:xfrm>
            <a:off x="414360" y="11160"/>
            <a:ext cx="8716680" cy="6757920"/>
            <a:chOff x="414360" y="11160"/>
            <a:chExt cx="8716680" cy="6757920"/>
          </a:xfrm>
        </p:grpSpPr>
        <p:pic>
          <p:nvPicPr>
            <p:cNvPr id="293" name="" descr=""/>
            <p:cNvPicPr/>
            <p:nvPr/>
          </p:nvPicPr>
          <p:blipFill>
            <a:blip r:embed="rId1"/>
            <a:stretch/>
          </p:blipFill>
          <p:spPr>
            <a:xfrm>
              <a:off x="415800" y="11160"/>
              <a:ext cx="8715240" cy="6757920"/>
            </a:xfrm>
            <a:prstGeom prst="rect">
              <a:avLst/>
            </a:prstGeom>
            <a:ln w="0">
              <a:noFill/>
            </a:ln>
          </p:spPr>
        </p:pic>
        <p:sp>
          <p:nvSpPr>
            <p:cNvPr id="294" name=""/>
            <p:cNvSpPr txBox="1"/>
            <p:nvPr/>
          </p:nvSpPr>
          <p:spPr>
            <a:xfrm>
              <a:off x="615960" y="4462560"/>
              <a:ext cx="1482840" cy="701640"/>
            </a:xfrm>
            <a:prstGeom prst="rect">
              <a:avLst/>
            </a:prstGeom>
            <a:noFill/>
            <a:ln w="0">
              <a:noFill/>
            </a:ln>
          </p:spPr>
          <p:txBody>
            <a:bodyPr lIns="0" rIns="0" tIns="0" bIns="0" anchor="t">
              <a:noAutofit/>
            </a:bodyPr>
            <a:p>
              <a:pPr>
                <a:lnSpc>
                  <a:spcPct val="100000"/>
                </a:lnSpc>
              </a:pPr>
              <a:r>
                <a:rPr b="1" lang="en-US" sz="4000" spc="-1" strike="noStrike">
                  <a:solidFill>
                    <a:srgbClr val="000000"/>
                  </a:solidFill>
                  <a:latin typeface="Times New Roman"/>
                  <a:ea typeface="Times New Roman"/>
                </a:rPr>
                <a:t>Egypt</a:t>
              </a:r>
              <a:endParaRPr b="0" lang="en-US" sz="4000" spc="-1" strike="noStrike">
                <a:solidFill>
                  <a:srgbClr val="000000"/>
                </a:solidFill>
                <a:latin typeface="Arial"/>
              </a:endParaRPr>
            </a:p>
          </p:txBody>
        </p:sp>
        <p:sp>
          <p:nvSpPr>
            <p:cNvPr id="295" name=""/>
            <p:cNvSpPr txBox="1"/>
            <p:nvPr/>
          </p:nvSpPr>
          <p:spPr>
            <a:xfrm>
              <a:off x="1531800" y="1895400"/>
              <a:ext cx="1260360" cy="774720"/>
            </a:xfrm>
            <a:prstGeom prst="rect">
              <a:avLst/>
            </a:prstGeom>
            <a:noFill/>
            <a:ln w="0">
              <a:noFill/>
            </a:ln>
          </p:spPr>
          <p:txBody>
            <a:bodyPr lIns="0" rIns="0" tIns="0" bIns="0" anchor="t">
              <a:noAutofit/>
            </a:bodyPr>
            <a:p>
              <a:pPr>
                <a:lnSpc>
                  <a:spcPct val="80000"/>
                </a:lnSpc>
              </a:pPr>
              <a:r>
                <a:rPr b="1" lang="en-US" sz="2800" spc="-1" strike="noStrike">
                  <a:solidFill>
                    <a:srgbClr val="ffffff"/>
                  </a:solidFill>
                  <a:latin typeface="Times New Roman"/>
                  <a:ea typeface="Times New Roman"/>
                </a:rPr>
                <a:t>Nile</a:t>
              </a:r>
              <a:endParaRPr b="0" lang="en-US" sz="2800" spc="-1" strike="noStrike">
                <a:solidFill>
                  <a:srgbClr val="000000"/>
                </a:solidFill>
                <a:latin typeface="Arial"/>
              </a:endParaRPr>
            </a:p>
            <a:p>
              <a:pPr>
                <a:lnSpc>
                  <a:spcPct val="80000"/>
                </a:lnSpc>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Delta</a:t>
              </a:r>
              <a:endParaRPr b="0" lang="en-US" sz="2800" spc="-1" strike="noStrike">
                <a:solidFill>
                  <a:srgbClr val="000000"/>
                </a:solidFill>
                <a:latin typeface="Arial"/>
              </a:endParaRPr>
            </a:p>
          </p:txBody>
        </p:sp>
        <p:sp>
          <p:nvSpPr>
            <p:cNvPr id="296" name=""/>
            <p:cNvSpPr txBox="1"/>
            <p:nvPr/>
          </p:nvSpPr>
          <p:spPr>
            <a:xfrm>
              <a:off x="3817800" y="390600"/>
              <a:ext cx="2711520" cy="1128600"/>
            </a:xfrm>
            <a:prstGeom prst="rect">
              <a:avLst/>
            </a:prstGeom>
            <a:noFill/>
            <a:ln w="0">
              <a:noFill/>
            </a:ln>
          </p:spPr>
          <p:txBody>
            <a:bodyPr lIns="0" rIns="0" tIns="0" bIns="0" anchor="t">
              <a:noAutofit/>
            </a:bodyPr>
            <a:p>
              <a:pPr algn="ctr">
                <a:lnSpc>
                  <a:spcPct val="100000"/>
                </a:lnSpc>
              </a:pPr>
              <a:r>
                <a:rPr b="1" lang="en-US" sz="4000" spc="-1" strike="noStrike">
                  <a:solidFill>
                    <a:srgbClr val="ffffff"/>
                  </a:solidFill>
                  <a:latin typeface="Times New Roman"/>
                  <a:ea typeface="Times New Roman"/>
                </a:rPr>
                <a:t>Great Sea</a:t>
              </a:r>
              <a:endParaRPr b="0" lang="en-US" sz="40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Mediterranean)</a:t>
              </a:r>
              <a:endParaRPr b="0" lang="en-US" sz="2800" spc="-1" strike="noStrike">
                <a:solidFill>
                  <a:srgbClr val="000000"/>
                </a:solidFill>
                <a:latin typeface="Arial"/>
              </a:endParaRPr>
            </a:p>
          </p:txBody>
        </p:sp>
        <p:sp>
          <p:nvSpPr>
            <p:cNvPr id="297" name=""/>
            <p:cNvSpPr txBox="1"/>
            <p:nvPr/>
          </p:nvSpPr>
          <p:spPr>
            <a:xfrm>
              <a:off x="3379680" y="6062760"/>
              <a:ext cx="1419120" cy="519120"/>
            </a:xfrm>
            <a:prstGeom prst="rect">
              <a:avLst/>
            </a:prstGeom>
            <a:noFill/>
            <a:ln w="0">
              <a:noFill/>
            </a:ln>
          </p:spPr>
          <p:txBody>
            <a:bodyPr lIns="0" rIns="0" tIns="0" bIns="0" anchor="t">
              <a:noAutofit/>
            </a:bodyPr>
            <a:p>
              <a:pPr>
                <a:lnSpc>
                  <a:spcPct val="100000"/>
                </a:lnSpc>
              </a:pPr>
              <a:r>
                <a:rPr b="1" lang="en-US" sz="2800" spc="-1" strike="noStrike">
                  <a:solidFill>
                    <a:srgbClr val="fcfeb9"/>
                  </a:solidFill>
                  <a:latin typeface="Times New Roman"/>
                  <a:ea typeface="Times New Roman"/>
                </a:rPr>
                <a:t>Red Sea</a:t>
              </a:r>
              <a:endParaRPr b="0" lang="en-US" sz="2800" spc="-1" strike="noStrike">
                <a:solidFill>
                  <a:srgbClr val="000000"/>
                </a:solidFill>
                <a:latin typeface="Arial"/>
              </a:endParaRPr>
            </a:p>
          </p:txBody>
        </p:sp>
        <p:sp>
          <p:nvSpPr>
            <p:cNvPr id="298" name=""/>
            <p:cNvSpPr txBox="1"/>
            <p:nvPr/>
          </p:nvSpPr>
          <p:spPr>
            <a:xfrm>
              <a:off x="4064040" y="2781360"/>
              <a:ext cx="1878120" cy="968400"/>
            </a:xfrm>
            <a:prstGeom prst="rect">
              <a:avLst/>
            </a:prstGeom>
            <a:noFill/>
            <a:ln w="0">
              <a:noFill/>
            </a:ln>
          </p:spPr>
          <p:txBody>
            <a:bodyPr lIns="0" rIns="0" tIns="0" bIns="0" anchor="t">
              <a:noAutofit/>
            </a:bodyPr>
            <a:p>
              <a:pPr>
                <a:lnSpc>
                  <a:spcPct val="90000"/>
                </a:lnSpc>
              </a:pPr>
              <a:r>
                <a:rPr b="1" lang="en-US" sz="3200" spc="-1" strike="noStrike">
                  <a:solidFill>
                    <a:srgbClr val="000000"/>
                  </a:solidFill>
                  <a:latin typeface="Times New Roman"/>
                  <a:ea typeface="Times New Roman"/>
                </a:rPr>
                <a:t>Sinai</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Times New Roman"/>
                  <a:ea typeface="Times New Roman"/>
                </a:rPr>
                <a:t>Peninsula</a:t>
              </a:r>
              <a:endParaRPr b="0" lang="en-US" sz="3200" spc="-1" strike="noStrike">
                <a:solidFill>
                  <a:srgbClr val="000000"/>
                </a:solidFill>
                <a:latin typeface="Arial"/>
              </a:endParaRPr>
            </a:p>
          </p:txBody>
        </p:sp>
        <p:sp>
          <p:nvSpPr>
            <p:cNvPr id="299" name=""/>
            <p:cNvSpPr txBox="1"/>
            <p:nvPr/>
          </p:nvSpPr>
          <p:spPr>
            <a:xfrm>
              <a:off x="7224840" y="1292400"/>
              <a:ext cx="15397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Canaan</a:t>
              </a:r>
              <a:endParaRPr b="0" lang="en-US" sz="3200" spc="-1" strike="noStrike">
                <a:solidFill>
                  <a:srgbClr val="000000"/>
                </a:solidFill>
                <a:latin typeface="Arial"/>
              </a:endParaRPr>
            </a:p>
          </p:txBody>
        </p:sp>
        <p:sp>
          <p:nvSpPr>
            <p:cNvPr id="300" name=""/>
            <p:cNvSpPr txBox="1"/>
            <p:nvPr/>
          </p:nvSpPr>
          <p:spPr>
            <a:xfrm>
              <a:off x="741240" y="250920"/>
              <a:ext cx="2100240" cy="1373040"/>
            </a:xfrm>
            <a:prstGeom prst="rect">
              <a:avLst/>
            </a:prstGeom>
            <a:noFill/>
            <a:ln w="0">
              <a:noFill/>
            </a:ln>
          </p:spPr>
          <p:txBody>
            <a:bodyPr lIns="0" rIns="0" tIns="0" bIns="0" anchor="t">
              <a:noAutofit/>
            </a:bodyPr>
            <a:p>
              <a:pPr algn="ctr">
                <a:lnSpc>
                  <a:spcPct val="100000"/>
                </a:lnSpc>
              </a:pPr>
              <a:r>
                <a:rPr b="1" lang="en-US" sz="2800" spc="-1" strike="noStrike" u="sng">
                  <a:solidFill>
                    <a:srgbClr val="fafd00"/>
                  </a:solidFill>
                  <a:uFillTx/>
                  <a:latin typeface="Arial"/>
                  <a:ea typeface="Arial"/>
                </a:rPr>
                <a:t>Traditional</a:t>
              </a:r>
              <a:endParaRPr b="0" lang="en-US" sz="2800" spc="-1" strike="noStrike">
                <a:solidFill>
                  <a:srgbClr val="000000"/>
                </a:solidFill>
                <a:latin typeface="Arial"/>
              </a:endParaRPr>
            </a:p>
            <a:p>
              <a:pPr algn="ctr">
                <a:lnSpc>
                  <a:spcPct val="100000"/>
                </a:lnSpc>
              </a:pPr>
              <a:r>
                <a:rPr b="1" lang="en-US" sz="2800" spc="-1" strike="noStrike" u="sng">
                  <a:solidFill>
                    <a:srgbClr val="fafd00"/>
                  </a:solidFill>
                  <a:uFillTx/>
                  <a:latin typeface="Arial"/>
                  <a:ea typeface="Arial"/>
                </a:rPr>
                <a:t>Route of </a:t>
              </a:r>
              <a:endParaRPr b="0" lang="en-US" sz="2800" spc="-1" strike="noStrike">
                <a:solidFill>
                  <a:srgbClr val="000000"/>
                </a:solidFill>
                <a:latin typeface="Arial"/>
              </a:endParaRPr>
            </a:p>
            <a:p>
              <a:pPr algn="ctr">
                <a:lnSpc>
                  <a:spcPct val="100000"/>
                </a:lnSpc>
              </a:pPr>
              <a:r>
                <a:rPr b="1" lang="en-US" sz="2800" spc="-1" strike="noStrike" u="sng">
                  <a:solidFill>
                    <a:srgbClr val="fafd00"/>
                  </a:solidFill>
                  <a:uFillTx/>
                  <a:latin typeface="Arial"/>
                  <a:ea typeface="Arial"/>
                </a:rPr>
                <a:t>the Exodus</a:t>
              </a:r>
              <a:endParaRPr b="0" lang="en-US" sz="2800" spc="-1" strike="noStrike">
                <a:solidFill>
                  <a:srgbClr val="000000"/>
                </a:solidFill>
                <a:latin typeface="Arial"/>
              </a:endParaRPr>
            </a:p>
          </p:txBody>
        </p:sp>
        <p:sp>
          <p:nvSpPr>
            <p:cNvPr id="301" name=""/>
            <p:cNvSpPr txBox="1"/>
            <p:nvPr/>
          </p:nvSpPr>
          <p:spPr>
            <a:xfrm>
              <a:off x="414360" y="6108840"/>
              <a:ext cx="210024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NASA Photo</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EBibleTeacher.com</a:t>
              </a:r>
              <a:endParaRPr b="0" lang="en-US" sz="1400" spc="-1" strike="noStrike">
                <a:solidFill>
                  <a:srgbClr val="000000"/>
                </a:solidFill>
                <a:latin typeface="Arial"/>
              </a:endParaRPr>
            </a:p>
          </p:txBody>
        </p:sp>
        <p:sp>
          <p:nvSpPr>
            <p:cNvPr id="302" name=""/>
            <p:cNvSpPr/>
            <p:nvPr/>
          </p:nvSpPr>
          <p:spPr>
            <a:xfrm>
              <a:off x="2354400" y="3390840"/>
              <a:ext cx="1333800" cy="519480"/>
            </a:xfrm>
            <a:custGeom>
              <a:avLst/>
              <a:gdLst/>
              <a:ahLst/>
              <a:rect l="0" t="0" r="r" b="b"/>
              <a:pathLst>
                <a:path w="3705" h="1443">
                  <a:moveTo>
                    <a:pt x="0" y="481"/>
                  </a:moveTo>
                  <a:lnTo>
                    <a:pt x="0" y="961"/>
                  </a:lnTo>
                  <a:lnTo>
                    <a:pt x="2593" y="961"/>
                  </a:lnTo>
                  <a:lnTo>
                    <a:pt x="2593" y="1443"/>
                  </a:lnTo>
                  <a:lnTo>
                    <a:pt x="3705" y="721"/>
                  </a:lnTo>
                  <a:lnTo>
                    <a:pt x="2593" y="0"/>
                  </a:lnTo>
                  <a:lnTo>
                    <a:pt x="2593" y="481"/>
                  </a:lnTo>
                  <a:lnTo>
                    <a:pt x="0" y="481"/>
                  </a:lnTo>
                  <a:close/>
                </a:path>
              </a:pathLst>
            </a:custGeom>
            <a:solidFill>
              <a:srgbClr val="fafd00"/>
            </a:solidFill>
            <a:ln w="12600">
              <a:solidFill>
                <a:srgbClr val="fcfeb9"/>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746280" y="3808440"/>
              <a:ext cx="2901960" cy="641520"/>
            </a:xfrm>
            <a:prstGeom prst="rect">
              <a:avLst/>
            </a:prstGeom>
            <a:noFill/>
            <a:ln w="0">
              <a:noFill/>
            </a:ln>
          </p:spPr>
          <p:txBody>
            <a:bodyPr lIns="0" rIns="0" tIns="0" bIns="0" anchor="t">
              <a:noAutofit/>
            </a:bodyPr>
            <a:p>
              <a:pPr>
                <a:lnSpc>
                  <a:spcPct val="100000"/>
                </a:lnSpc>
              </a:pPr>
              <a:r>
                <a:rPr b="1" lang="en-US" sz="3600" spc="-1" strike="noStrike" u="sng">
                  <a:solidFill>
                    <a:srgbClr val="fafd00"/>
                  </a:solidFill>
                  <a:uFillTx/>
                  <a:latin typeface="Arial"/>
                  <a:ea typeface="Arial"/>
                </a:rPr>
                <a:t>Quail/Manna</a:t>
              </a:r>
              <a:endParaRPr b="0" lang="en-US" sz="3600" spc="-1" strike="noStrike">
                <a:solidFill>
                  <a:srgbClr val="000000"/>
                </a:solidFill>
                <a:latin typeface="Arial"/>
              </a:endParaRPr>
            </a:p>
          </p:txBody>
        </p:sp>
        <p:sp>
          <p:nvSpPr>
            <p:cNvPr id="304" name=""/>
            <p:cNvSpPr/>
            <p:nvPr/>
          </p:nvSpPr>
          <p:spPr>
            <a:xfrm>
              <a:off x="5478480" y="5219640"/>
              <a:ext cx="1333800" cy="519480"/>
            </a:xfrm>
            <a:custGeom>
              <a:avLst/>
              <a:gdLst/>
              <a:ahLst/>
              <a:rect l="0" t="0" r="r" b="b"/>
              <a:pathLst>
                <a:path w="3705" h="1443">
                  <a:moveTo>
                    <a:pt x="3705" y="481"/>
                  </a:moveTo>
                  <a:lnTo>
                    <a:pt x="3705" y="961"/>
                  </a:lnTo>
                  <a:lnTo>
                    <a:pt x="1111" y="961"/>
                  </a:lnTo>
                  <a:lnTo>
                    <a:pt x="1111" y="1443"/>
                  </a:lnTo>
                  <a:lnTo>
                    <a:pt x="0" y="721"/>
                  </a:lnTo>
                  <a:lnTo>
                    <a:pt x="1111" y="0"/>
                  </a:lnTo>
                  <a:lnTo>
                    <a:pt x="1111" y="481"/>
                  </a:lnTo>
                  <a:lnTo>
                    <a:pt x="3705" y="481"/>
                  </a:lnTo>
                  <a:close/>
                </a:path>
              </a:pathLst>
            </a:custGeom>
            <a:solidFill>
              <a:srgbClr val="fafd00"/>
            </a:solidFill>
            <a:ln w="12600">
              <a:solidFill>
                <a:srgbClr val="fcfeb9"/>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6537240" y="4449600"/>
              <a:ext cx="2273400" cy="701640"/>
            </a:xfrm>
            <a:prstGeom prst="rect">
              <a:avLst/>
            </a:prstGeom>
            <a:noFill/>
            <a:ln w="0">
              <a:noFill/>
            </a:ln>
          </p:spPr>
          <p:txBody>
            <a:bodyPr lIns="0" rIns="0" tIns="0" bIns="0" anchor="t">
              <a:noAutofit/>
            </a:bodyPr>
            <a:p>
              <a:pPr>
                <a:lnSpc>
                  <a:spcPct val="100000"/>
                </a:lnSpc>
              </a:pPr>
              <a:r>
                <a:rPr b="1" lang="en-US" sz="4000" spc="-1" strike="noStrike" u="sng">
                  <a:solidFill>
                    <a:srgbClr val="fafd00"/>
                  </a:solidFill>
                  <a:uFillTx/>
                  <a:latin typeface="Arial"/>
                  <a:ea typeface="Arial"/>
                </a:rPr>
                <a:t>Mt. Sinai</a:t>
              </a:r>
              <a:endParaRPr b="0" lang="en-US" sz="4000" spc="-1" strike="noStrike">
                <a:solidFill>
                  <a:srgbClr val="000000"/>
                </a:solidFill>
                <a:latin typeface="Arial"/>
              </a:endParaRPr>
            </a:p>
          </p:txBody>
        </p:sp>
        <p:sp>
          <p:nvSpPr>
            <p:cNvPr id="306" name=""/>
            <p:cNvSpPr/>
            <p:nvPr/>
          </p:nvSpPr>
          <p:spPr>
            <a:xfrm>
              <a:off x="6392880" y="2019240"/>
              <a:ext cx="1333800" cy="519480"/>
            </a:xfrm>
            <a:custGeom>
              <a:avLst/>
              <a:gdLst/>
              <a:ahLst/>
              <a:rect l="0" t="0" r="r" b="b"/>
              <a:pathLst>
                <a:path w="3705" h="1443">
                  <a:moveTo>
                    <a:pt x="0" y="481"/>
                  </a:moveTo>
                  <a:lnTo>
                    <a:pt x="0" y="961"/>
                  </a:lnTo>
                  <a:lnTo>
                    <a:pt x="2593" y="961"/>
                  </a:lnTo>
                  <a:lnTo>
                    <a:pt x="2593" y="1443"/>
                  </a:lnTo>
                  <a:lnTo>
                    <a:pt x="3705" y="721"/>
                  </a:lnTo>
                  <a:lnTo>
                    <a:pt x="2593" y="0"/>
                  </a:lnTo>
                  <a:lnTo>
                    <a:pt x="2593" y="481"/>
                  </a:lnTo>
                  <a:lnTo>
                    <a:pt x="0" y="481"/>
                  </a:lnTo>
                  <a:close/>
                </a:path>
              </a:pathLst>
            </a:custGeom>
            <a:solidFill>
              <a:srgbClr val="fafd00"/>
            </a:solidFill>
            <a:ln w="12600">
              <a:solidFill>
                <a:srgbClr val="fcfeb9"/>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4175280" y="1859040"/>
              <a:ext cx="2246400" cy="701640"/>
            </a:xfrm>
            <a:prstGeom prst="rect">
              <a:avLst/>
            </a:prstGeom>
            <a:noFill/>
            <a:ln w="0">
              <a:noFill/>
            </a:ln>
          </p:spPr>
          <p:txBody>
            <a:bodyPr lIns="0" rIns="0" tIns="0" bIns="0" anchor="t">
              <a:noAutofit/>
            </a:bodyPr>
            <a:p>
              <a:pPr>
                <a:lnSpc>
                  <a:spcPct val="100000"/>
                </a:lnSpc>
              </a:pPr>
              <a:r>
                <a:rPr b="1" lang="en-US" sz="4000" spc="-1" strike="noStrike" u="sng">
                  <a:solidFill>
                    <a:srgbClr val="fafd00"/>
                  </a:solidFill>
                  <a:uFillTx/>
                  <a:latin typeface="Arial"/>
                  <a:ea typeface="Arial"/>
                </a:rPr>
                <a:t>12 Spies</a:t>
              </a:r>
              <a:endParaRPr b="0" lang="en-US" sz="4000" spc="-1" strike="noStrike">
                <a:solidFill>
                  <a:srgbClr val="000000"/>
                </a:solidFill>
                <a:latin typeface="Arial"/>
              </a:endParaRPr>
            </a:p>
          </p:txBody>
        </p:sp>
        <p:sp>
          <p:nvSpPr>
            <p:cNvPr id="308" name=""/>
            <p:cNvSpPr/>
            <p:nvPr/>
          </p:nvSpPr>
          <p:spPr>
            <a:xfrm>
              <a:off x="8610480" y="1295280"/>
              <a:ext cx="305280" cy="228960"/>
            </a:xfrm>
            <a:custGeom>
              <a:avLst/>
              <a:gdLst/>
              <a:ahLst/>
              <a:rect l="0" t="0" r="r" b="b"/>
              <a:pathLst>
                <a:path w="848" h="636">
                  <a:moveTo>
                    <a:pt x="424" y="0"/>
                  </a:moveTo>
                  <a:lnTo>
                    <a:pt x="325" y="243"/>
                  </a:lnTo>
                  <a:lnTo>
                    <a:pt x="0" y="243"/>
                  </a:lnTo>
                  <a:lnTo>
                    <a:pt x="264" y="394"/>
                  </a:lnTo>
                  <a:lnTo>
                    <a:pt x="164" y="636"/>
                  </a:lnTo>
                  <a:lnTo>
                    <a:pt x="424" y="496"/>
                  </a:lnTo>
                  <a:lnTo>
                    <a:pt x="684" y="636"/>
                  </a:lnTo>
                  <a:lnTo>
                    <a:pt x="583" y="394"/>
                  </a:lnTo>
                  <a:lnTo>
                    <a:pt x="848" y="242"/>
                  </a:lnTo>
                  <a:lnTo>
                    <a:pt x="523" y="242"/>
                  </a:lnTo>
                  <a:lnTo>
                    <a:pt x="424"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txBox="1"/>
            <p:nvPr/>
          </p:nvSpPr>
          <p:spPr>
            <a:xfrm>
              <a:off x="6842160" y="639720"/>
              <a:ext cx="1990800" cy="701640"/>
            </a:xfrm>
            <a:prstGeom prst="rect">
              <a:avLst/>
            </a:prstGeom>
            <a:noFill/>
            <a:ln w="0">
              <a:noFill/>
            </a:ln>
          </p:spPr>
          <p:txBody>
            <a:bodyPr lIns="0" rIns="0" tIns="0" bIns="0" anchor="t">
              <a:noAutofit/>
            </a:bodyPr>
            <a:p>
              <a:pPr>
                <a:lnSpc>
                  <a:spcPct val="100000"/>
                </a:lnSpc>
              </a:pPr>
              <a:r>
                <a:rPr b="1" lang="en-US" sz="4000" spc="-1" strike="noStrike" u="sng">
                  <a:solidFill>
                    <a:srgbClr val="fafd00"/>
                  </a:solidFill>
                  <a:uFillTx/>
                  <a:latin typeface="Arial"/>
                  <a:ea typeface="Arial"/>
                </a:rPr>
                <a:t>Jericho</a:t>
              </a:r>
              <a:endParaRPr b="0" lang="en-US" sz="4000" spc="-1" strike="noStrike">
                <a:solidFill>
                  <a:srgbClr val="000000"/>
                </a:solidFill>
                <a:latin typeface="Arial"/>
              </a:endParaRPr>
            </a:p>
          </p:txBody>
        </p:sp>
        <p:sp>
          <p:nvSpPr>
            <p:cNvPr id="310" name=""/>
            <p:cNvSpPr/>
            <p:nvPr/>
          </p:nvSpPr>
          <p:spPr>
            <a:xfrm>
              <a:off x="2819520" y="1523880"/>
              <a:ext cx="6220080" cy="4218480"/>
            </a:xfrm>
            <a:custGeom>
              <a:avLst/>
              <a:gdLst/>
              <a:ahLst/>
              <a:rect l="0" t="0" r="r" b="b"/>
              <a:pathLst>
                <a:path fill="none" w="17278" h="11718">
                  <a:moveTo>
                    <a:pt x="0" y="2966"/>
                  </a:moveTo>
                  <a:lnTo>
                    <a:pt x="213" y="3177"/>
                  </a:lnTo>
                  <a:lnTo>
                    <a:pt x="213" y="3177"/>
                  </a:lnTo>
                  <a:lnTo>
                    <a:pt x="427" y="3389"/>
                  </a:lnTo>
                  <a:lnTo>
                    <a:pt x="641" y="3811"/>
                  </a:lnTo>
                  <a:lnTo>
                    <a:pt x="848" y="4446"/>
                  </a:lnTo>
                  <a:lnTo>
                    <a:pt x="1275" y="4868"/>
                  </a:lnTo>
                  <a:lnTo>
                    <a:pt x="1483" y="5080"/>
                  </a:lnTo>
                  <a:lnTo>
                    <a:pt x="1910" y="5291"/>
                  </a:lnTo>
                  <a:lnTo>
                    <a:pt x="2118" y="5291"/>
                  </a:lnTo>
                  <a:lnTo>
                    <a:pt x="2118" y="5291"/>
                  </a:lnTo>
                  <a:lnTo>
                    <a:pt x="2118" y="5291"/>
                  </a:lnTo>
                  <a:lnTo>
                    <a:pt x="2118" y="5291"/>
                  </a:lnTo>
                  <a:lnTo>
                    <a:pt x="2118" y="5291"/>
                  </a:lnTo>
                  <a:lnTo>
                    <a:pt x="2332" y="5291"/>
                  </a:lnTo>
                  <a:lnTo>
                    <a:pt x="2545" y="5291"/>
                  </a:lnTo>
                  <a:lnTo>
                    <a:pt x="2545" y="5291"/>
                  </a:lnTo>
                  <a:lnTo>
                    <a:pt x="2759" y="5484"/>
                  </a:lnTo>
                  <a:lnTo>
                    <a:pt x="2759" y="5666"/>
                  </a:lnTo>
                  <a:lnTo>
                    <a:pt x="2759" y="5859"/>
                  </a:lnTo>
                  <a:lnTo>
                    <a:pt x="2808" y="6040"/>
                  </a:lnTo>
                  <a:lnTo>
                    <a:pt x="3003" y="6215"/>
                  </a:lnTo>
                  <a:lnTo>
                    <a:pt x="3070" y="6408"/>
                  </a:lnTo>
                  <a:lnTo>
                    <a:pt x="3070" y="6590"/>
                  </a:lnTo>
                  <a:lnTo>
                    <a:pt x="3119" y="6783"/>
                  </a:lnTo>
                  <a:lnTo>
                    <a:pt x="3119" y="6964"/>
                  </a:lnTo>
                  <a:lnTo>
                    <a:pt x="3119" y="7145"/>
                  </a:lnTo>
                  <a:lnTo>
                    <a:pt x="3119" y="7332"/>
                  </a:lnTo>
                  <a:lnTo>
                    <a:pt x="3070" y="7514"/>
                  </a:lnTo>
                  <a:lnTo>
                    <a:pt x="3003" y="7707"/>
                  </a:lnTo>
                  <a:lnTo>
                    <a:pt x="3003" y="7888"/>
                  </a:lnTo>
                  <a:lnTo>
                    <a:pt x="3003" y="8069"/>
                  </a:lnTo>
                  <a:lnTo>
                    <a:pt x="3003" y="8263"/>
                  </a:lnTo>
                  <a:lnTo>
                    <a:pt x="3003" y="8504"/>
                  </a:lnTo>
                  <a:lnTo>
                    <a:pt x="3003" y="8685"/>
                  </a:lnTo>
                  <a:lnTo>
                    <a:pt x="3003" y="8880"/>
                  </a:lnTo>
                  <a:lnTo>
                    <a:pt x="3070" y="9061"/>
                  </a:lnTo>
                  <a:lnTo>
                    <a:pt x="3186" y="9248"/>
                  </a:lnTo>
                  <a:lnTo>
                    <a:pt x="3315" y="9429"/>
                  </a:lnTo>
                  <a:lnTo>
                    <a:pt x="3431" y="9610"/>
                  </a:lnTo>
                  <a:lnTo>
                    <a:pt x="3626" y="9804"/>
                  </a:lnTo>
                  <a:lnTo>
                    <a:pt x="3809" y="9918"/>
                  </a:lnTo>
                  <a:lnTo>
                    <a:pt x="4004" y="10112"/>
                  </a:lnTo>
                  <a:lnTo>
                    <a:pt x="4188" y="10226"/>
                  </a:lnTo>
                  <a:lnTo>
                    <a:pt x="4432" y="10293"/>
                  </a:lnTo>
                  <a:lnTo>
                    <a:pt x="4560" y="10486"/>
                  </a:lnTo>
                  <a:lnTo>
                    <a:pt x="4682" y="10667"/>
                  </a:lnTo>
                  <a:lnTo>
                    <a:pt x="4871" y="10842"/>
                  </a:lnTo>
                  <a:lnTo>
                    <a:pt x="4993" y="11036"/>
                  </a:lnTo>
                  <a:lnTo>
                    <a:pt x="5183" y="11150"/>
                  </a:lnTo>
                  <a:lnTo>
                    <a:pt x="5366" y="11283"/>
                  </a:lnTo>
                  <a:lnTo>
                    <a:pt x="5561" y="11458"/>
                  </a:lnTo>
                  <a:lnTo>
                    <a:pt x="5744" y="11591"/>
                  </a:lnTo>
                  <a:lnTo>
                    <a:pt x="5928" y="11718"/>
                  </a:lnTo>
                  <a:lnTo>
                    <a:pt x="6123" y="11718"/>
                  </a:lnTo>
                  <a:lnTo>
                    <a:pt x="6367" y="11718"/>
                  </a:lnTo>
                  <a:lnTo>
                    <a:pt x="6367" y="11525"/>
                  </a:lnTo>
                  <a:lnTo>
                    <a:pt x="6434" y="11344"/>
                  </a:lnTo>
                  <a:lnTo>
                    <a:pt x="6550" y="11150"/>
                  </a:lnTo>
                  <a:lnTo>
                    <a:pt x="6746" y="10909"/>
                  </a:lnTo>
                  <a:lnTo>
                    <a:pt x="6929" y="10842"/>
                  </a:lnTo>
                  <a:lnTo>
                    <a:pt x="7124" y="10667"/>
                  </a:lnTo>
                  <a:lnTo>
                    <a:pt x="7368" y="10486"/>
                  </a:lnTo>
                  <a:lnTo>
                    <a:pt x="7551" y="10420"/>
                  </a:lnTo>
                  <a:lnTo>
                    <a:pt x="7747" y="10353"/>
                  </a:lnTo>
                  <a:lnTo>
                    <a:pt x="7991" y="10226"/>
                  </a:lnTo>
                  <a:lnTo>
                    <a:pt x="8174" y="10112"/>
                  </a:lnTo>
                  <a:lnTo>
                    <a:pt x="8302" y="9918"/>
                  </a:lnTo>
                  <a:lnTo>
                    <a:pt x="8486" y="9804"/>
                  </a:lnTo>
                  <a:lnTo>
                    <a:pt x="8553" y="9610"/>
                  </a:lnTo>
                  <a:lnTo>
                    <a:pt x="8682" y="9429"/>
                  </a:lnTo>
                  <a:lnTo>
                    <a:pt x="8731" y="9248"/>
                  </a:lnTo>
                  <a:lnTo>
                    <a:pt x="8865" y="9061"/>
                  </a:lnTo>
                  <a:lnTo>
                    <a:pt x="8926" y="8880"/>
                  </a:lnTo>
                  <a:lnTo>
                    <a:pt x="8993" y="8685"/>
                  </a:lnTo>
                  <a:lnTo>
                    <a:pt x="9042" y="8196"/>
                  </a:lnTo>
                  <a:lnTo>
                    <a:pt x="9042" y="7761"/>
                  </a:lnTo>
                  <a:lnTo>
                    <a:pt x="9109" y="7272"/>
                  </a:lnTo>
                  <a:lnTo>
                    <a:pt x="9109" y="6716"/>
                  </a:lnTo>
                  <a:lnTo>
                    <a:pt x="9176" y="6523"/>
                  </a:lnTo>
                  <a:lnTo>
                    <a:pt x="9305" y="6282"/>
                  </a:lnTo>
                  <a:lnTo>
                    <a:pt x="9353" y="6100"/>
                  </a:lnTo>
                  <a:lnTo>
                    <a:pt x="9488" y="5907"/>
                  </a:lnTo>
                  <a:lnTo>
                    <a:pt x="9671" y="5726"/>
                  </a:lnTo>
                  <a:lnTo>
                    <a:pt x="9860" y="5484"/>
                  </a:lnTo>
                  <a:lnTo>
                    <a:pt x="9927" y="5291"/>
                  </a:lnTo>
                  <a:lnTo>
                    <a:pt x="10110" y="5176"/>
                  </a:lnTo>
                  <a:lnTo>
                    <a:pt x="10239" y="4983"/>
                  </a:lnTo>
                  <a:lnTo>
                    <a:pt x="10422" y="4868"/>
                  </a:lnTo>
                  <a:lnTo>
                    <a:pt x="10605" y="4868"/>
                  </a:lnTo>
                  <a:lnTo>
                    <a:pt x="10800" y="4868"/>
                  </a:lnTo>
                  <a:lnTo>
                    <a:pt x="11045" y="4802"/>
                  </a:lnTo>
                  <a:lnTo>
                    <a:pt x="11228" y="4802"/>
                  </a:lnTo>
                  <a:lnTo>
                    <a:pt x="11423" y="4742"/>
                  </a:lnTo>
                  <a:lnTo>
                    <a:pt x="11606" y="4742"/>
                  </a:lnTo>
                  <a:lnTo>
                    <a:pt x="12046" y="4742"/>
                  </a:lnTo>
                  <a:lnTo>
                    <a:pt x="12229" y="4742"/>
                  </a:lnTo>
                  <a:lnTo>
                    <a:pt x="12424" y="4742"/>
                  </a:lnTo>
                  <a:lnTo>
                    <a:pt x="12668" y="4742"/>
                  </a:lnTo>
                  <a:lnTo>
                    <a:pt x="12852" y="4742"/>
                  </a:lnTo>
                  <a:lnTo>
                    <a:pt x="13047" y="4742"/>
                  </a:lnTo>
                  <a:lnTo>
                    <a:pt x="13230" y="4675"/>
                  </a:lnTo>
                  <a:lnTo>
                    <a:pt x="13474" y="4675"/>
                  </a:lnTo>
                  <a:lnTo>
                    <a:pt x="13670" y="4627"/>
                  </a:lnTo>
                  <a:lnTo>
                    <a:pt x="13853" y="4627"/>
                  </a:lnTo>
                  <a:lnTo>
                    <a:pt x="14097" y="4627"/>
                  </a:lnTo>
                  <a:lnTo>
                    <a:pt x="14292" y="4627"/>
                  </a:lnTo>
                  <a:lnTo>
                    <a:pt x="14476" y="4560"/>
                  </a:lnTo>
                  <a:lnTo>
                    <a:pt x="14659" y="4494"/>
                  </a:lnTo>
                  <a:lnTo>
                    <a:pt x="14848" y="4367"/>
                  </a:lnTo>
                  <a:lnTo>
                    <a:pt x="15031" y="4252"/>
                  </a:lnTo>
                  <a:lnTo>
                    <a:pt x="15226" y="4125"/>
                  </a:lnTo>
                  <a:lnTo>
                    <a:pt x="14604" y="1056"/>
                  </a:lnTo>
                  <a:lnTo>
                    <a:pt x="15538" y="3751"/>
                  </a:lnTo>
                  <a:lnTo>
                    <a:pt x="15654" y="3570"/>
                  </a:lnTo>
                  <a:lnTo>
                    <a:pt x="15788" y="3389"/>
                  </a:lnTo>
                  <a:lnTo>
                    <a:pt x="15849" y="3195"/>
                  </a:lnTo>
                  <a:lnTo>
                    <a:pt x="15965" y="2954"/>
                  </a:lnTo>
                  <a:lnTo>
                    <a:pt x="16032" y="2772"/>
                  </a:lnTo>
                  <a:lnTo>
                    <a:pt x="16100" y="2578"/>
                  </a:lnTo>
                  <a:lnTo>
                    <a:pt x="16283" y="2397"/>
                  </a:lnTo>
                  <a:lnTo>
                    <a:pt x="16411" y="2210"/>
                  </a:lnTo>
                  <a:lnTo>
                    <a:pt x="16594" y="2089"/>
                  </a:lnTo>
                  <a:lnTo>
                    <a:pt x="16783" y="1962"/>
                  </a:lnTo>
                  <a:lnTo>
                    <a:pt x="16905" y="1781"/>
                  </a:lnTo>
                  <a:lnTo>
                    <a:pt x="17034" y="1588"/>
                  </a:lnTo>
                  <a:lnTo>
                    <a:pt x="17150" y="1346"/>
                  </a:lnTo>
                  <a:lnTo>
                    <a:pt x="17278" y="1165"/>
                  </a:lnTo>
                  <a:lnTo>
                    <a:pt x="17278" y="972"/>
                  </a:lnTo>
                  <a:lnTo>
                    <a:pt x="17278" y="791"/>
                  </a:lnTo>
                  <a:lnTo>
                    <a:pt x="17217" y="549"/>
                  </a:lnTo>
                  <a:lnTo>
                    <a:pt x="17150" y="356"/>
                  </a:lnTo>
                  <a:lnTo>
                    <a:pt x="17034" y="175"/>
                  </a:lnTo>
                  <a:lnTo>
                    <a:pt x="16838" y="0"/>
                  </a:lnTo>
                </a:path>
              </a:pathLst>
            </a:custGeom>
            <a:ln w="38160">
              <a:solidFill>
                <a:srgbClr val="ff5008"/>
              </a:solidFill>
              <a:round/>
            </a:ln>
          </p:spPr>
          <p:txBody>
            <a:bodyPr lIns="109080" rIns="109080" tIns="64080" bIns="64080" anchor="t">
              <a:noAutofit/>
            </a:bodyPr>
            <a:p>
              <a:endParaRPr b="0" lang="en-US" sz="1800" spc="-1" strike="noStrike">
                <a:solidFill>
                  <a:srgbClr val="000000"/>
                </a:solidFill>
                <a:latin typeface="Arial"/>
              </a:endParaRPr>
            </a:p>
          </p:txBody>
        </p:sp>
        <p:sp>
          <p:nvSpPr>
            <p:cNvPr id="311" name=""/>
            <p:cNvSpPr txBox="1"/>
            <p:nvPr/>
          </p:nvSpPr>
          <p:spPr>
            <a:xfrm>
              <a:off x="4282920" y="5518080"/>
              <a:ext cx="1646280" cy="519120"/>
            </a:xfrm>
            <a:prstGeom prst="rect">
              <a:avLst/>
            </a:prstGeom>
            <a:noFill/>
            <a:ln w="0">
              <a:noFill/>
            </a:ln>
          </p:spPr>
          <p:txBody>
            <a:bodyPr lIns="0" rIns="0" tIns="0" bIns="0" anchor="t">
              <a:noAutofit/>
            </a:bodyPr>
            <a:p>
              <a:pPr>
                <a:lnSpc>
                  <a:spcPct val="100000"/>
                </a:lnSpc>
              </a:pPr>
              <a:r>
                <a:rPr b="1" lang="en-US" sz="2800" spc="-1" strike="noStrike">
                  <a:solidFill>
                    <a:srgbClr val="fcfeb9"/>
                  </a:solidFill>
                  <a:latin typeface="Arial"/>
                  <a:ea typeface="Arial"/>
                </a:rPr>
                <a:t>Mt. Sinai</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12" name=""/>
          <p:cNvGrpSpPr/>
          <p:nvPr/>
        </p:nvGrpSpPr>
        <p:grpSpPr>
          <a:xfrm>
            <a:off x="210960" y="31680"/>
            <a:ext cx="8857080" cy="6634800"/>
            <a:chOff x="210960" y="31680"/>
            <a:chExt cx="8857080" cy="6634800"/>
          </a:xfrm>
        </p:grpSpPr>
        <p:pic>
          <p:nvPicPr>
            <p:cNvPr id="313" name="" descr=""/>
            <p:cNvPicPr/>
            <p:nvPr/>
          </p:nvPicPr>
          <p:blipFill>
            <a:blip r:embed="rId1"/>
            <a:stretch/>
          </p:blipFill>
          <p:spPr>
            <a:xfrm>
              <a:off x="210960" y="31680"/>
              <a:ext cx="4476600" cy="6618240"/>
            </a:xfrm>
            <a:prstGeom prst="rect">
              <a:avLst/>
            </a:prstGeom>
            <a:ln w="0">
              <a:noFill/>
            </a:ln>
          </p:spPr>
        </p:pic>
        <p:sp>
          <p:nvSpPr>
            <p:cNvPr id="314" name=""/>
            <p:cNvSpPr/>
            <p:nvPr/>
          </p:nvSpPr>
          <p:spPr>
            <a:xfrm>
              <a:off x="2852640" y="2514600"/>
              <a:ext cx="173520" cy="2189520"/>
            </a:xfrm>
            <a:custGeom>
              <a:avLst/>
              <a:gdLst/>
              <a:ahLst/>
              <a:rect l="0" t="0" r="r" b="b"/>
              <a:pathLst>
                <a:path fill="none" w="482" h="6082">
                  <a:moveTo>
                    <a:pt x="0" y="0"/>
                  </a:moveTo>
                  <a:lnTo>
                    <a:pt x="0" y="44"/>
                  </a:lnTo>
                  <a:lnTo>
                    <a:pt x="13" y="101"/>
                  </a:lnTo>
                  <a:lnTo>
                    <a:pt x="26" y="154"/>
                  </a:lnTo>
                  <a:lnTo>
                    <a:pt x="26" y="198"/>
                  </a:lnTo>
                  <a:lnTo>
                    <a:pt x="26" y="242"/>
                  </a:lnTo>
                  <a:lnTo>
                    <a:pt x="26" y="295"/>
                  </a:lnTo>
                  <a:lnTo>
                    <a:pt x="26" y="339"/>
                  </a:lnTo>
                  <a:lnTo>
                    <a:pt x="26" y="383"/>
                  </a:lnTo>
                  <a:lnTo>
                    <a:pt x="26" y="436"/>
                  </a:lnTo>
                  <a:lnTo>
                    <a:pt x="26" y="480"/>
                  </a:lnTo>
                  <a:lnTo>
                    <a:pt x="26" y="524"/>
                  </a:lnTo>
                  <a:lnTo>
                    <a:pt x="26" y="577"/>
                  </a:lnTo>
                  <a:lnTo>
                    <a:pt x="26" y="621"/>
                  </a:lnTo>
                  <a:lnTo>
                    <a:pt x="26" y="665"/>
                  </a:lnTo>
                  <a:lnTo>
                    <a:pt x="26" y="718"/>
                  </a:lnTo>
                  <a:lnTo>
                    <a:pt x="26" y="762"/>
                  </a:lnTo>
                  <a:lnTo>
                    <a:pt x="26" y="806"/>
                  </a:lnTo>
                  <a:lnTo>
                    <a:pt x="26" y="859"/>
                  </a:lnTo>
                  <a:lnTo>
                    <a:pt x="26" y="903"/>
                  </a:lnTo>
                  <a:lnTo>
                    <a:pt x="26" y="948"/>
                  </a:lnTo>
                  <a:lnTo>
                    <a:pt x="44" y="1001"/>
                  </a:lnTo>
                  <a:lnTo>
                    <a:pt x="57" y="1045"/>
                  </a:lnTo>
                  <a:lnTo>
                    <a:pt x="70" y="1089"/>
                  </a:lnTo>
                  <a:lnTo>
                    <a:pt x="70" y="1142"/>
                  </a:lnTo>
                  <a:lnTo>
                    <a:pt x="70" y="1186"/>
                  </a:lnTo>
                  <a:lnTo>
                    <a:pt x="70" y="1230"/>
                  </a:lnTo>
                  <a:lnTo>
                    <a:pt x="70" y="1340"/>
                  </a:lnTo>
                  <a:lnTo>
                    <a:pt x="57" y="1384"/>
                  </a:lnTo>
                  <a:lnTo>
                    <a:pt x="57" y="1441"/>
                  </a:lnTo>
                  <a:lnTo>
                    <a:pt x="70" y="1494"/>
                  </a:lnTo>
                  <a:lnTo>
                    <a:pt x="83" y="1538"/>
                  </a:lnTo>
                  <a:lnTo>
                    <a:pt x="83" y="1583"/>
                  </a:lnTo>
                  <a:lnTo>
                    <a:pt x="97" y="1636"/>
                  </a:lnTo>
                  <a:lnTo>
                    <a:pt x="114" y="1680"/>
                  </a:lnTo>
                  <a:lnTo>
                    <a:pt x="142" y="1724"/>
                  </a:lnTo>
                  <a:lnTo>
                    <a:pt x="142" y="1777"/>
                  </a:lnTo>
                  <a:lnTo>
                    <a:pt x="142" y="1821"/>
                  </a:lnTo>
                  <a:lnTo>
                    <a:pt x="142" y="1918"/>
                  </a:lnTo>
                  <a:lnTo>
                    <a:pt x="142" y="2046"/>
                  </a:lnTo>
                  <a:lnTo>
                    <a:pt x="142" y="2090"/>
                  </a:lnTo>
                  <a:lnTo>
                    <a:pt x="142" y="2200"/>
                  </a:lnTo>
                  <a:lnTo>
                    <a:pt x="142" y="2244"/>
                  </a:lnTo>
                  <a:lnTo>
                    <a:pt x="142" y="2288"/>
                  </a:lnTo>
                  <a:lnTo>
                    <a:pt x="155" y="2341"/>
                  </a:lnTo>
                  <a:lnTo>
                    <a:pt x="168" y="2385"/>
                  </a:lnTo>
                  <a:lnTo>
                    <a:pt x="168" y="2429"/>
                  </a:lnTo>
                  <a:lnTo>
                    <a:pt x="168" y="2482"/>
                  </a:lnTo>
                  <a:lnTo>
                    <a:pt x="168" y="2526"/>
                  </a:lnTo>
                  <a:lnTo>
                    <a:pt x="168" y="2570"/>
                  </a:lnTo>
                  <a:lnTo>
                    <a:pt x="168" y="2623"/>
                  </a:lnTo>
                  <a:lnTo>
                    <a:pt x="186" y="2667"/>
                  </a:lnTo>
                  <a:lnTo>
                    <a:pt x="186" y="2764"/>
                  </a:lnTo>
                  <a:lnTo>
                    <a:pt x="199" y="2808"/>
                  </a:lnTo>
                  <a:lnTo>
                    <a:pt x="212" y="2936"/>
                  </a:lnTo>
                  <a:lnTo>
                    <a:pt x="212" y="2994"/>
                  </a:lnTo>
                  <a:lnTo>
                    <a:pt x="225" y="3048"/>
                  </a:lnTo>
                  <a:lnTo>
                    <a:pt x="225" y="3092"/>
                  </a:lnTo>
                  <a:lnTo>
                    <a:pt x="239" y="3136"/>
                  </a:lnTo>
                  <a:lnTo>
                    <a:pt x="256" y="3189"/>
                  </a:lnTo>
                  <a:lnTo>
                    <a:pt x="256" y="3233"/>
                  </a:lnTo>
                  <a:lnTo>
                    <a:pt x="269" y="3330"/>
                  </a:lnTo>
                  <a:lnTo>
                    <a:pt x="269" y="3374"/>
                  </a:lnTo>
                  <a:lnTo>
                    <a:pt x="269" y="3418"/>
                  </a:lnTo>
                  <a:lnTo>
                    <a:pt x="269" y="3471"/>
                  </a:lnTo>
                  <a:lnTo>
                    <a:pt x="269" y="3515"/>
                  </a:lnTo>
                  <a:lnTo>
                    <a:pt x="256" y="3559"/>
                  </a:lnTo>
                  <a:lnTo>
                    <a:pt x="256" y="3683"/>
                  </a:lnTo>
                  <a:lnTo>
                    <a:pt x="239" y="3727"/>
                  </a:lnTo>
                  <a:lnTo>
                    <a:pt x="225" y="3771"/>
                  </a:lnTo>
                  <a:lnTo>
                    <a:pt x="225" y="3824"/>
                  </a:lnTo>
                  <a:lnTo>
                    <a:pt x="225" y="3868"/>
                  </a:lnTo>
                  <a:lnTo>
                    <a:pt x="225" y="3912"/>
                  </a:lnTo>
                  <a:lnTo>
                    <a:pt x="225" y="3965"/>
                  </a:lnTo>
                  <a:lnTo>
                    <a:pt x="225" y="4009"/>
                  </a:lnTo>
                  <a:lnTo>
                    <a:pt x="212" y="4053"/>
                  </a:lnTo>
                  <a:lnTo>
                    <a:pt x="199" y="4106"/>
                  </a:lnTo>
                  <a:lnTo>
                    <a:pt x="199" y="4150"/>
                  </a:lnTo>
                  <a:lnTo>
                    <a:pt x="199" y="4194"/>
                  </a:lnTo>
                  <a:lnTo>
                    <a:pt x="199" y="4247"/>
                  </a:lnTo>
                  <a:lnTo>
                    <a:pt x="199" y="4291"/>
                  </a:lnTo>
                  <a:lnTo>
                    <a:pt x="186" y="4335"/>
                  </a:lnTo>
                  <a:lnTo>
                    <a:pt x="186" y="4388"/>
                  </a:lnTo>
                  <a:lnTo>
                    <a:pt x="186" y="4432"/>
                  </a:lnTo>
                  <a:lnTo>
                    <a:pt x="186" y="4476"/>
                  </a:lnTo>
                  <a:lnTo>
                    <a:pt x="186" y="4529"/>
                  </a:lnTo>
                  <a:lnTo>
                    <a:pt x="199" y="4573"/>
                  </a:lnTo>
                  <a:lnTo>
                    <a:pt x="225" y="4617"/>
                  </a:lnTo>
                  <a:lnTo>
                    <a:pt x="256" y="4670"/>
                  </a:lnTo>
                  <a:lnTo>
                    <a:pt x="269" y="4714"/>
                  </a:lnTo>
                  <a:lnTo>
                    <a:pt x="283" y="4759"/>
                  </a:lnTo>
                  <a:lnTo>
                    <a:pt x="296" y="4812"/>
                  </a:lnTo>
                  <a:lnTo>
                    <a:pt x="327" y="4856"/>
                  </a:lnTo>
                  <a:lnTo>
                    <a:pt x="353" y="4900"/>
                  </a:lnTo>
                  <a:lnTo>
                    <a:pt x="368" y="4953"/>
                  </a:lnTo>
                  <a:lnTo>
                    <a:pt x="381" y="4997"/>
                  </a:lnTo>
                  <a:lnTo>
                    <a:pt x="381" y="5041"/>
                  </a:lnTo>
                  <a:lnTo>
                    <a:pt x="381" y="5094"/>
                  </a:lnTo>
                  <a:lnTo>
                    <a:pt x="381" y="5138"/>
                  </a:lnTo>
                  <a:lnTo>
                    <a:pt x="381" y="5182"/>
                  </a:lnTo>
                  <a:lnTo>
                    <a:pt x="381" y="5235"/>
                  </a:lnTo>
                  <a:lnTo>
                    <a:pt x="381" y="5279"/>
                  </a:lnTo>
                  <a:lnTo>
                    <a:pt x="398" y="5323"/>
                  </a:lnTo>
                  <a:lnTo>
                    <a:pt x="412" y="5376"/>
                  </a:lnTo>
                  <a:lnTo>
                    <a:pt x="412" y="5420"/>
                  </a:lnTo>
                  <a:lnTo>
                    <a:pt x="425" y="5464"/>
                  </a:lnTo>
                  <a:lnTo>
                    <a:pt x="425" y="5517"/>
                  </a:lnTo>
                  <a:lnTo>
                    <a:pt x="425" y="5561"/>
                  </a:lnTo>
                  <a:lnTo>
                    <a:pt x="438" y="5605"/>
                  </a:lnTo>
                  <a:lnTo>
                    <a:pt x="451" y="5658"/>
                  </a:lnTo>
                  <a:lnTo>
                    <a:pt x="469" y="5702"/>
                  </a:lnTo>
                  <a:lnTo>
                    <a:pt x="469" y="5746"/>
                  </a:lnTo>
                  <a:lnTo>
                    <a:pt x="469" y="5799"/>
                  </a:lnTo>
                  <a:lnTo>
                    <a:pt x="469" y="5843"/>
                  </a:lnTo>
                  <a:lnTo>
                    <a:pt x="469" y="5887"/>
                  </a:lnTo>
                  <a:lnTo>
                    <a:pt x="469" y="5940"/>
                  </a:lnTo>
                  <a:lnTo>
                    <a:pt x="469" y="5984"/>
                  </a:lnTo>
                  <a:lnTo>
                    <a:pt x="469" y="6029"/>
                  </a:lnTo>
                  <a:lnTo>
                    <a:pt x="482" y="6082"/>
                  </a:lnTo>
                </a:path>
              </a:pathLst>
            </a:custGeom>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1658880" y="452520"/>
              <a:ext cx="584640" cy="2210040"/>
            </a:xfrm>
            <a:custGeom>
              <a:avLst/>
              <a:gdLst/>
              <a:ahLst/>
              <a:rect l="0" t="0" r="r" b="b"/>
              <a:pathLst>
                <a:path fill="none" w="1624" h="6139">
                  <a:moveTo>
                    <a:pt x="0" y="5363"/>
                  </a:moveTo>
                  <a:lnTo>
                    <a:pt x="44" y="5407"/>
                  </a:lnTo>
                  <a:lnTo>
                    <a:pt x="83" y="5460"/>
                  </a:lnTo>
                  <a:lnTo>
                    <a:pt x="127" y="5504"/>
                  </a:lnTo>
                  <a:lnTo>
                    <a:pt x="154" y="5548"/>
                  </a:lnTo>
                  <a:lnTo>
                    <a:pt x="198" y="5574"/>
                  </a:lnTo>
                  <a:lnTo>
                    <a:pt x="238" y="5618"/>
                  </a:lnTo>
                  <a:lnTo>
                    <a:pt x="282" y="5632"/>
                  </a:lnTo>
                  <a:lnTo>
                    <a:pt x="326" y="5671"/>
                  </a:lnTo>
                  <a:lnTo>
                    <a:pt x="379" y="5702"/>
                  </a:lnTo>
                  <a:lnTo>
                    <a:pt x="424" y="5742"/>
                  </a:lnTo>
                  <a:lnTo>
                    <a:pt x="468" y="5773"/>
                  </a:lnTo>
                  <a:lnTo>
                    <a:pt x="521" y="5813"/>
                  </a:lnTo>
                  <a:lnTo>
                    <a:pt x="565" y="5843"/>
                  </a:lnTo>
                  <a:lnTo>
                    <a:pt x="609" y="5883"/>
                  </a:lnTo>
                  <a:lnTo>
                    <a:pt x="622" y="5927"/>
                  </a:lnTo>
                  <a:lnTo>
                    <a:pt x="636" y="5971"/>
                  </a:lnTo>
                  <a:lnTo>
                    <a:pt x="680" y="6024"/>
                  </a:lnTo>
                  <a:lnTo>
                    <a:pt x="706" y="6068"/>
                  </a:lnTo>
                  <a:lnTo>
                    <a:pt x="750" y="6095"/>
                  </a:lnTo>
                  <a:lnTo>
                    <a:pt x="790" y="6139"/>
                  </a:lnTo>
                  <a:lnTo>
                    <a:pt x="834" y="6139"/>
                  </a:lnTo>
                  <a:lnTo>
                    <a:pt x="874" y="6095"/>
                  </a:lnTo>
                  <a:lnTo>
                    <a:pt x="904" y="6042"/>
                  </a:lnTo>
                  <a:lnTo>
                    <a:pt x="918" y="5998"/>
                  </a:lnTo>
                  <a:lnTo>
                    <a:pt x="944" y="5954"/>
                  </a:lnTo>
                  <a:lnTo>
                    <a:pt x="944" y="5901"/>
                  </a:lnTo>
                  <a:lnTo>
                    <a:pt x="944" y="5857"/>
                  </a:lnTo>
                  <a:lnTo>
                    <a:pt x="944" y="5813"/>
                  </a:lnTo>
                  <a:lnTo>
                    <a:pt x="931" y="5760"/>
                  </a:lnTo>
                  <a:lnTo>
                    <a:pt x="931" y="5716"/>
                  </a:lnTo>
                  <a:lnTo>
                    <a:pt x="931" y="5671"/>
                  </a:lnTo>
                  <a:lnTo>
                    <a:pt x="931" y="5618"/>
                  </a:lnTo>
                  <a:lnTo>
                    <a:pt x="975" y="5618"/>
                  </a:lnTo>
                  <a:lnTo>
                    <a:pt x="1032" y="5601"/>
                  </a:lnTo>
                  <a:lnTo>
                    <a:pt x="1085" y="5601"/>
                  </a:lnTo>
                  <a:lnTo>
                    <a:pt x="1129" y="5601"/>
                  </a:lnTo>
                  <a:lnTo>
                    <a:pt x="1173" y="5601"/>
                  </a:lnTo>
                  <a:lnTo>
                    <a:pt x="1173" y="5548"/>
                  </a:lnTo>
                  <a:lnTo>
                    <a:pt x="1173" y="5504"/>
                  </a:lnTo>
                  <a:lnTo>
                    <a:pt x="1173" y="5460"/>
                  </a:lnTo>
                  <a:lnTo>
                    <a:pt x="1173" y="5407"/>
                  </a:lnTo>
                  <a:lnTo>
                    <a:pt x="1173" y="5363"/>
                  </a:lnTo>
                  <a:lnTo>
                    <a:pt x="1173" y="5319"/>
                  </a:lnTo>
                  <a:lnTo>
                    <a:pt x="1173" y="5266"/>
                  </a:lnTo>
                  <a:lnTo>
                    <a:pt x="1173" y="5222"/>
                  </a:lnTo>
                  <a:lnTo>
                    <a:pt x="1187" y="5178"/>
                  </a:lnTo>
                  <a:lnTo>
                    <a:pt x="1213" y="5125"/>
                  </a:lnTo>
                  <a:lnTo>
                    <a:pt x="1258" y="5094"/>
                  </a:lnTo>
                  <a:lnTo>
                    <a:pt x="1272" y="5036"/>
                  </a:lnTo>
                  <a:lnTo>
                    <a:pt x="1272" y="4983"/>
                  </a:lnTo>
                  <a:lnTo>
                    <a:pt x="1272" y="4939"/>
                  </a:lnTo>
                  <a:lnTo>
                    <a:pt x="1258" y="4895"/>
                  </a:lnTo>
                  <a:lnTo>
                    <a:pt x="1245" y="4842"/>
                  </a:lnTo>
                  <a:lnTo>
                    <a:pt x="1227" y="4798"/>
                  </a:lnTo>
                  <a:lnTo>
                    <a:pt x="1227" y="4754"/>
                  </a:lnTo>
                  <a:lnTo>
                    <a:pt x="1213" y="4701"/>
                  </a:lnTo>
                  <a:lnTo>
                    <a:pt x="1213" y="4657"/>
                  </a:lnTo>
                  <a:lnTo>
                    <a:pt x="1187" y="4613"/>
                  </a:lnTo>
                  <a:lnTo>
                    <a:pt x="1156" y="4560"/>
                  </a:lnTo>
                  <a:lnTo>
                    <a:pt x="1143" y="4516"/>
                  </a:lnTo>
                  <a:lnTo>
                    <a:pt x="1143" y="4472"/>
                  </a:lnTo>
                  <a:lnTo>
                    <a:pt x="1143" y="4419"/>
                  </a:lnTo>
                  <a:lnTo>
                    <a:pt x="1143" y="4375"/>
                  </a:lnTo>
                  <a:lnTo>
                    <a:pt x="1143" y="4331"/>
                  </a:lnTo>
                  <a:lnTo>
                    <a:pt x="1143" y="4278"/>
                  </a:lnTo>
                  <a:lnTo>
                    <a:pt x="1143" y="4234"/>
                  </a:lnTo>
                  <a:lnTo>
                    <a:pt x="1143" y="4190"/>
                  </a:lnTo>
                  <a:lnTo>
                    <a:pt x="1143" y="4137"/>
                  </a:lnTo>
                  <a:lnTo>
                    <a:pt x="1143" y="4093"/>
                  </a:lnTo>
                  <a:lnTo>
                    <a:pt x="1156" y="4049"/>
                  </a:lnTo>
                  <a:lnTo>
                    <a:pt x="1173" y="3996"/>
                  </a:lnTo>
                  <a:lnTo>
                    <a:pt x="1187" y="3952"/>
                  </a:lnTo>
                  <a:lnTo>
                    <a:pt x="1187" y="3908"/>
                  </a:lnTo>
                  <a:lnTo>
                    <a:pt x="1200" y="3855"/>
                  </a:lnTo>
                  <a:lnTo>
                    <a:pt x="1200" y="3811"/>
                  </a:lnTo>
                  <a:lnTo>
                    <a:pt x="1213" y="3766"/>
                  </a:lnTo>
                  <a:lnTo>
                    <a:pt x="1227" y="3713"/>
                  </a:lnTo>
                  <a:lnTo>
                    <a:pt x="1227" y="3586"/>
                  </a:lnTo>
                  <a:lnTo>
                    <a:pt x="1245" y="3471"/>
                  </a:lnTo>
                  <a:lnTo>
                    <a:pt x="1258" y="3414"/>
                  </a:lnTo>
                  <a:lnTo>
                    <a:pt x="1258" y="3361"/>
                  </a:lnTo>
                  <a:lnTo>
                    <a:pt x="1272" y="3317"/>
                  </a:lnTo>
                  <a:lnTo>
                    <a:pt x="1285" y="3273"/>
                  </a:lnTo>
                  <a:lnTo>
                    <a:pt x="1316" y="3220"/>
                  </a:lnTo>
                  <a:lnTo>
                    <a:pt x="1329" y="3176"/>
                  </a:lnTo>
                  <a:lnTo>
                    <a:pt x="1342" y="3131"/>
                  </a:lnTo>
                  <a:lnTo>
                    <a:pt x="1369" y="3078"/>
                  </a:lnTo>
                  <a:lnTo>
                    <a:pt x="1386" y="3033"/>
                  </a:lnTo>
                  <a:lnTo>
                    <a:pt x="1399" y="2989"/>
                  </a:lnTo>
                  <a:lnTo>
                    <a:pt x="1426" y="2936"/>
                  </a:lnTo>
                  <a:lnTo>
                    <a:pt x="1439" y="2892"/>
                  </a:lnTo>
                  <a:lnTo>
                    <a:pt x="1457" y="2778"/>
                  </a:lnTo>
                  <a:lnTo>
                    <a:pt x="1457" y="2667"/>
                  </a:lnTo>
                  <a:lnTo>
                    <a:pt x="1470" y="2566"/>
                  </a:lnTo>
                  <a:lnTo>
                    <a:pt x="1483" y="2513"/>
                  </a:lnTo>
                  <a:lnTo>
                    <a:pt x="1483" y="2469"/>
                  </a:lnTo>
                  <a:lnTo>
                    <a:pt x="1483" y="2425"/>
                  </a:lnTo>
                  <a:lnTo>
                    <a:pt x="1483" y="2372"/>
                  </a:lnTo>
                  <a:lnTo>
                    <a:pt x="1483" y="2328"/>
                  </a:lnTo>
                  <a:lnTo>
                    <a:pt x="1496" y="2284"/>
                  </a:lnTo>
                  <a:lnTo>
                    <a:pt x="1496" y="2231"/>
                  </a:lnTo>
                  <a:lnTo>
                    <a:pt x="1496" y="2187"/>
                  </a:lnTo>
                  <a:lnTo>
                    <a:pt x="1510" y="2143"/>
                  </a:lnTo>
                  <a:lnTo>
                    <a:pt x="1510" y="2090"/>
                  </a:lnTo>
                  <a:lnTo>
                    <a:pt x="1510" y="2046"/>
                  </a:lnTo>
                  <a:lnTo>
                    <a:pt x="1510" y="2002"/>
                  </a:lnTo>
                  <a:lnTo>
                    <a:pt x="1527" y="1949"/>
                  </a:lnTo>
                  <a:lnTo>
                    <a:pt x="1527" y="1905"/>
                  </a:lnTo>
                  <a:lnTo>
                    <a:pt x="1527" y="1860"/>
                  </a:lnTo>
                  <a:lnTo>
                    <a:pt x="1540" y="1807"/>
                  </a:lnTo>
                  <a:lnTo>
                    <a:pt x="1540" y="1763"/>
                  </a:lnTo>
                  <a:lnTo>
                    <a:pt x="1540" y="1719"/>
                  </a:lnTo>
                  <a:lnTo>
                    <a:pt x="1554" y="1666"/>
                  </a:lnTo>
                  <a:lnTo>
                    <a:pt x="1554" y="1622"/>
                  </a:lnTo>
                  <a:lnTo>
                    <a:pt x="1567" y="1578"/>
                  </a:lnTo>
                  <a:lnTo>
                    <a:pt x="1580" y="1525"/>
                  </a:lnTo>
                  <a:lnTo>
                    <a:pt x="1580" y="1481"/>
                  </a:lnTo>
                  <a:lnTo>
                    <a:pt x="1598" y="1437"/>
                  </a:lnTo>
                  <a:lnTo>
                    <a:pt x="1611" y="1384"/>
                  </a:lnTo>
                  <a:lnTo>
                    <a:pt x="1611" y="1340"/>
                  </a:lnTo>
                  <a:lnTo>
                    <a:pt x="1624" y="1296"/>
                  </a:lnTo>
                  <a:lnTo>
                    <a:pt x="1624" y="1243"/>
                  </a:lnTo>
                  <a:lnTo>
                    <a:pt x="1624" y="1199"/>
                  </a:lnTo>
                  <a:lnTo>
                    <a:pt x="1624" y="1155"/>
                  </a:lnTo>
                  <a:lnTo>
                    <a:pt x="1624" y="1102"/>
                  </a:lnTo>
                  <a:lnTo>
                    <a:pt x="1624" y="1058"/>
                  </a:lnTo>
                  <a:lnTo>
                    <a:pt x="1624" y="1014"/>
                  </a:lnTo>
                  <a:lnTo>
                    <a:pt x="1624" y="961"/>
                  </a:lnTo>
                  <a:lnTo>
                    <a:pt x="1624" y="917"/>
                  </a:lnTo>
                  <a:lnTo>
                    <a:pt x="1624" y="873"/>
                  </a:lnTo>
                  <a:lnTo>
                    <a:pt x="1624" y="820"/>
                  </a:lnTo>
                  <a:lnTo>
                    <a:pt x="1624" y="776"/>
                  </a:lnTo>
                  <a:lnTo>
                    <a:pt x="1624" y="732"/>
                  </a:lnTo>
                  <a:lnTo>
                    <a:pt x="1611" y="679"/>
                  </a:lnTo>
                  <a:lnTo>
                    <a:pt x="1598" y="634"/>
                  </a:lnTo>
                  <a:lnTo>
                    <a:pt x="1567" y="590"/>
                  </a:lnTo>
                  <a:lnTo>
                    <a:pt x="1554" y="537"/>
                  </a:lnTo>
                  <a:lnTo>
                    <a:pt x="1527" y="493"/>
                  </a:lnTo>
                  <a:lnTo>
                    <a:pt x="1510" y="449"/>
                  </a:lnTo>
                  <a:lnTo>
                    <a:pt x="1470" y="396"/>
                  </a:lnTo>
                  <a:lnTo>
                    <a:pt x="1457" y="352"/>
                  </a:lnTo>
                  <a:lnTo>
                    <a:pt x="1426" y="308"/>
                  </a:lnTo>
                  <a:lnTo>
                    <a:pt x="1399" y="255"/>
                  </a:lnTo>
                  <a:lnTo>
                    <a:pt x="1355" y="211"/>
                  </a:lnTo>
                  <a:lnTo>
                    <a:pt x="1329" y="167"/>
                  </a:lnTo>
                  <a:lnTo>
                    <a:pt x="1285" y="127"/>
                  </a:lnTo>
                  <a:lnTo>
                    <a:pt x="1258" y="83"/>
                  </a:lnTo>
                  <a:lnTo>
                    <a:pt x="1213" y="44"/>
                  </a:lnTo>
                  <a:lnTo>
                    <a:pt x="118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2125800" y="700200"/>
              <a:ext cx="732240" cy="1717920"/>
            </a:xfrm>
            <a:custGeom>
              <a:avLst/>
              <a:gdLst/>
              <a:ahLst/>
              <a:rect l="0" t="0" r="r" b="b"/>
              <a:pathLst>
                <a:path fill="none" w="2034" h="4772">
                  <a:moveTo>
                    <a:pt x="326" y="0"/>
                  </a:moveTo>
                  <a:lnTo>
                    <a:pt x="339" y="30"/>
                  </a:lnTo>
                  <a:lnTo>
                    <a:pt x="383" y="74"/>
                  </a:lnTo>
                  <a:lnTo>
                    <a:pt x="410" y="132"/>
                  </a:lnTo>
                  <a:lnTo>
                    <a:pt x="454" y="145"/>
                  </a:lnTo>
                  <a:lnTo>
                    <a:pt x="512" y="171"/>
                  </a:lnTo>
                  <a:lnTo>
                    <a:pt x="565" y="185"/>
                  </a:lnTo>
                  <a:lnTo>
                    <a:pt x="609" y="202"/>
                  </a:lnTo>
                  <a:lnTo>
                    <a:pt x="653" y="202"/>
                  </a:lnTo>
                  <a:lnTo>
                    <a:pt x="706" y="216"/>
                  </a:lnTo>
                  <a:lnTo>
                    <a:pt x="750" y="229"/>
                  </a:lnTo>
                  <a:lnTo>
                    <a:pt x="794" y="242"/>
                  </a:lnTo>
                  <a:lnTo>
                    <a:pt x="847" y="255"/>
                  </a:lnTo>
                  <a:lnTo>
                    <a:pt x="891" y="273"/>
                  </a:lnTo>
                  <a:lnTo>
                    <a:pt x="935" y="273"/>
                  </a:lnTo>
                  <a:lnTo>
                    <a:pt x="988" y="286"/>
                  </a:lnTo>
                  <a:lnTo>
                    <a:pt x="1032" y="299"/>
                  </a:lnTo>
                  <a:lnTo>
                    <a:pt x="1076" y="313"/>
                  </a:lnTo>
                  <a:lnTo>
                    <a:pt x="1129" y="326"/>
                  </a:lnTo>
                  <a:lnTo>
                    <a:pt x="1173" y="326"/>
                  </a:lnTo>
                  <a:lnTo>
                    <a:pt x="1218" y="343"/>
                  </a:lnTo>
                  <a:lnTo>
                    <a:pt x="1271" y="343"/>
                  </a:lnTo>
                  <a:lnTo>
                    <a:pt x="1315" y="357"/>
                  </a:lnTo>
                  <a:lnTo>
                    <a:pt x="1359" y="357"/>
                  </a:lnTo>
                  <a:lnTo>
                    <a:pt x="1412" y="370"/>
                  </a:lnTo>
                  <a:lnTo>
                    <a:pt x="1456" y="370"/>
                  </a:lnTo>
                  <a:lnTo>
                    <a:pt x="1500" y="370"/>
                  </a:lnTo>
                  <a:lnTo>
                    <a:pt x="1554" y="370"/>
                  </a:lnTo>
                  <a:lnTo>
                    <a:pt x="1598" y="370"/>
                  </a:lnTo>
                  <a:lnTo>
                    <a:pt x="1642" y="370"/>
                  </a:lnTo>
                  <a:lnTo>
                    <a:pt x="1668" y="414"/>
                  </a:lnTo>
                  <a:lnTo>
                    <a:pt x="1682" y="467"/>
                  </a:lnTo>
                  <a:lnTo>
                    <a:pt x="1712" y="511"/>
                  </a:lnTo>
                  <a:lnTo>
                    <a:pt x="1726" y="555"/>
                  </a:lnTo>
                  <a:lnTo>
                    <a:pt x="1752" y="608"/>
                  </a:lnTo>
                  <a:lnTo>
                    <a:pt x="1752" y="652"/>
                  </a:lnTo>
                  <a:lnTo>
                    <a:pt x="1765" y="696"/>
                  </a:lnTo>
                  <a:lnTo>
                    <a:pt x="1765" y="749"/>
                  </a:lnTo>
                  <a:lnTo>
                    <a:pt x="1765" y="793"/>
                  </a:lnTo>
                  <a:lnTo>
                    <a:pt x="1783" y="837"/>
                  </a:lnTo>
                  <a:lnTo>
                    <a:pt x="1796" y="890"/>
                  </a:lnTo>
                  <a:lnTo>
                    <a:pt x="1796" y="934"/>
                  </a:lnTo>
                  <a:lnTo>
                    <a:pt x="1809" y="978"/>
                  </a:lnTo>
                  <a:lnTo>
                    <a:pt x="1823" y="1031"/>
                  </a:lnTo>
                  <a:lnTo>
                    <a:pt x="1823" y="1075"/>
                  </a:lnTo>
                  <a:lnTo>
                    <a:pt x="1836" y="1120"/>
                  </a:lnTo>
                  <a:lnTo>
                    <a:pt x="1836" y="1172"/>
                  </a:lnTo>
                  <a:lnTo>
                    <a:pt x="1836" y="1217"/>
                  </a:lnTo>
                  <a:lnTo>
                    <a:pt x="1836" y="1261"/>
                  </a:lnTo>
                  <a:lnTo>
                    <a:pt x="1836" y="1314"/>
                  </a:lnTo>
                  <a:lnTo>
                    <a:pt x="1836" y="1358"/>
                  </a:lnTo>
                  <a:lnTo>
                    <a:pt x="1854" y="1402"/>
                  </a:lnTo>
                  <a:lnTo>
                    <a:pt x="1867" y="1455"/>
                  </a:lnTo>
                  <a:lnTo>
                    <a:pt x="1880" y="1499"/>
                  </a:lnTo>
                  <a:lnTo>
                    <a:pt x="1893" y="1543"/>
                  </a:lnTo>
                  <a:lnTo>
                    <a:pt x="1907" y="1596"/>
                  </a:lnTo>
                  <a:lnTo>
                    <a:pt x="1924" y="1640"/>
                  </a:lnTo>
                  <a:lnTo>
                    <a:pt x="1924" y="1684"/>
                  </a:lnTo>
                  <a:lnTo>
                    <a:pt x="1937" y="1737"/>
                  </a:lnTo>
                  <a:lnTo>
                    <a:pt x="1951" y="1781"/>
                  </a:lnTo>
                  <a:lnTo>
                    <a:pt x="1951" y="1825"/>
                  </a:lnTo>
                  <a:lnTo>
                    <a:pt x="1964" y="1878"/>
                  </a:lnTo>
                  <a:lnTo>
                    <a:pt x="1977" y="1922"/>
                  </a:lnTo>
                  <a:lnTo>
                    <a:pt x="1977" y="1966"/>
                  </a:lnTo>
                  <a:lnTo>
                    <a:pt x="1995" y="2019"/>
                  </a:lnTo>
                  <a:lnTo>
                    <a:pt x="1995" y="2063"/>
                  </a:lnTo>
                  <a:lnTo>
                    <a:pt x="2008" y="2107"/>
                  </a:lnTo>
                  <a:lnTo>
                    <a:pt x="2021" y="2160"/>
                  </a:lnTo>
                  <a:lnTo>
                    <a:pt x="2021" y="2204"/>
                  </a:lnTo>
                  <a:lnTo>
                    <a:pt x="2034" y="2248"/>
                  </a:lnTo>
                  <a:lnTo>
                    <a:pt x="2034" y="2301"/>
                  </a:lnTo>
                  <a:lnTo>
                    <a:pt x="2034" y="2345"/>
                  </a:lnTo>
                  <a:lnTo>
                    <a:pt x="2034" y="2391"/>
                  </a:lnTo>
                  <a:lnTo>
                    <a:pt x="2021" y="2443"/>
                  </a:lnTo>
                  <a:lnTo>
                    <a:pt x="2021" y="2488"/>
                  </a:lnTo>
                  <a:lnTo>
                    <a:pt x="2008" y="2532"/>
                  </a:lnTo>
                  <a:lnTo>
                    <a:pt x="2008" y="2585"/>
                  </a:lnTo>
                  <a:lnTo>
                    <a:pt x="1995" y="2629"/>
                  </a:lnTo>
                  <a:lnTo>
                    <a:pt x="1995" y="2673"/>
                  </a:lnTo>
                  <a:lnTo>
                    <a:pt x="1995" y="2726"/>
                  </a:lnTo>
                  <a:lnTo>
                    <a:pt x="1995" y="2770"/>
                  </a:lnTo>
                  <a:lnTo>
                    <a:pt x="1995" y="2814"/>
                  </a:lnTo>
                  <a:lnTo>
                    <a:pt x="1995" y="2867"/>
                  </a:lnTo>
                  <a:lnTo>
                    <a:pt x="1995" y="2911"/>
                  </a:lnTo>
                  <a:lnTo>
                    <a:pt x="1995" y="2955"/>
                  </a:lnTo>
                  <a:lnTo>
                    <a:pt x="1995" y="3008"/>
                  </a:lnTo>
                  <a:lnTo>
                    <a:pt x="1995" y="3052"/>
                  </a:lnTo>
                  <a:lnTo>
                    <a:pt x="1995" y="3096"/>
                  </a:lnTo>
                  <a:lnTo>
                    <a:pt x="1995" y="3149"/>
                  </a:lnTo>
                  <a:lnTo>
                    <a:pt x="1995" y="3193"/>
                  </a:lnTo>
                  <a:lnTo>
                    <a:pt x="1995" y="3237"/>
                  </a:lnTo>
                  <a:lnTo>
                    <a:pt x="1995" y="3290"/>
                  </a:lnTo>
                  <a:lnTo>
                    <a:pt x="1995" y="3334"/>
                  </a:lnTo>
                  <a:lnTo>
                    <a:pt x="1995" y="3378"/>
                  </a:lnTo>
                  <a:lnTo>
                    <a:pt x="1995" y="3431"/>
                  </a:lnTo>
                  <a:lnTo>
                    <a:pt x="1995" y="3475"/>
                  </a:lnTo>
                  <a:lnTo>
                    <a:pt x="1995" y="3519"/>
                  </a:lnTo>
                  <a:lnTo>
                    <a:pt x="1995" y="3572"/>
                  </a:lnTo>
                  <a:lnTo>
                    <a:pt x="1995" y="3616"/>
                  </a:lnTo>
                  <a:lnTo>
                    <a:pt x="1995" y="3661"/>
                  </a:lnTo>
                  <a:lnTo>
                    <a:pt x="1977" y="3713"/>
                  </a:lnTo>
                  <a:lnTo>
                    <a:pt x="1924" y="3744"/>
                  </a:lnTo>
                  <a:lnTo>
                    <a:pt x="1880" y="3771"/>
                  </a:lnTo>
                  <a:lnTo>
                    <a:pt x="1836" y="3802"/>
                  </a:lnTo>
                  <a:lnTo>
                    <a:pt x="1783" y="3828"/>
                  </a:lnTo>
                  <a:lnTo>
                    <a:pt x="1739" y="3855"/>
                  </a:lnTo>
                  <a:lnTo>
                    <a:pt x="1695" y="3885"/>
                  </a:lnTo>
                  <a:lnTo>
                    <a:pt x="1642" y="3925"/>
                  </a:lnTo>
                  <a:lnTo>
                    <a:pt x="1624" y="3969"/>
                  </a:lnTo>
                  <a:lnTo>
                    <a:pt x="1585" y="4013"/>
                  </a:lnTo>
                  <a:lnTo>
                    <a:pt x="1554" y="4066"/>
                  </a:lnTo>
                  <a:lnTo>
                    <a:pt x="1527" y="4110"/>
                  </a:lnTo>
                  <a:lnTo>
                    <a:pt x="1513" y="4154"/>
                  </a:lnTo>
                  <a:lnTo>
                    <a:pt x="1500" y="4207"/>
                  </a:lnTo>
                  <a:lnTo>
                    <a:pt x="1482" y="4251"/>
                  </a:lnTo>
                  <a:lnTo>
                    <a:pt x="1482" y="4296"/>
                  </a:lnTo>
                  <a:lnTo>
                    <a:pt x="1527" y="4322"/>
                  </a:lnTo>
                  <a:lnTo>
                    <a:pt x="1571" y="4348"/>
                  </a:lnTo>
                  <a:lnTo>
                    <a:pt x="1624" y="4379"/>
                  </a:lnTo>
                  <a:lnTo>
                    <a:pt x="1668" y="4437"/>
                  </a:lnTo>
                  <a:lnTo>
                    <a:pt x="1712" y="4490"/>
                  </a:lnTo>
                  <a:lnTo>
                    <a:pt x="1712" y="4534"/>
                  </a:lnTo>
                  <a:lnTo>
                    <a:pt x="1668" y="4560"/>
                  </a:lnTo>
                  <a:lnTo>
                    <a:pt x="1624" y="4560"/>
                  </a:lnTo>
                  <a:lnTo>
                    <a:pt x="1571" y="4560"/>
                  </a:lnTo>
                  <a:lnTo>
                    <a:pt x="1527" y="4560"/>
                  </a:lnTo>
                  <a:lnTo>
                    <a:pt x="1482" y="4560"/>
                  </a:lnTo>
                  <a:lnTo>
                    <a:pt x="1429" y="4578"/>
                  </a:lnTo>
                  <a:lnTo>
                    <a:pt x="1385" y="4591"/>
                  </a:lnTo>
                  <a:lnTo>
                    <a:pt x="1341" y="4591"/>
                  </a:lnTo>
                  <a:lnTo>
                    <a:pt x="1288" y="4604"/>
                  </a:lnTo>
                  <a:lnTo>
                    <a:pt x="1244" y="4617"/>
                  </a:lnTo>
                  <a:lnTo>
                    <a:pt x="1200" y="4631"/>
                  </a:lnTo>
                  <a:lnTo>
                    <a:pt x="1147" y="4648"/>
                  </a:lnTo>
                  <a:lnTo>
                    <a:pt x="1103" y="4662"/>
                  </a:lnTo>
                  <a:lnTo>
                    <a:pt x="1059" y="4675"/>
                  </a:lnTo>
                  <a:lnTo>
                    <a:pt x="1006" y="4701"/>
                  </a:lnTo>
                  <a:lnTo>
                    <a:pt x="962" y="4719"/>
                  </a:lnTo>
                  <a:lnTo>
                    <a:pt x="918" y="4745"/>
                  </a:lnTo>
                  <a:lnTo>
                    <a:pt x="865" y="4772"/>
                  </a:lnTo>
                  <a:lnTo>
                    <a:pt x="821" y="4745"/>
                  </a:lnTo>
                  <a:lnTo>
                    <a:pt x="807" y="4701"/>
                  </a:lnTo>
                  <a:lnTo>
                    <a:pt x="794" y="4648"/>
                  </a:lnTo>
                  <a:lnTo>
                    <a:pt x="763" y="4604"/>
                  </a:lnTo>
                  <a:lnTo>
                    <a:pt x="750" y="4560"/>
                  </a:lnTo>
                  <a:lnTo>
                    <a:pt x="724" y="4507"/>
                  </a:lnTo>
                  <a:lnTo>
                    <a:pt x="706" y="4463"/>
                  </a:lnTo>
                  <a:lnTo>
                    <a:pt x="693" y="4419"/>
                  </a:lnTo>
                  <a:lnTo>
                    <a:pt x="653" y="4366"/>
                  </a:lnTo>
                  <a:lnTo>
                    <a:pt x="609" y="4335"/>
                  </a:lnTo>
                  <a:lnTo>
                    <a:pt x="565" y="4309"/>
                  </a:lnTo>
                  <a:lnTo>
                    <a:pt x="525" y="4265"/>
                  </a:lnTo>
                  <a:lnTo>
                    <a:pt x="480" y="4251"/>
                  </a:lnTo>
                  <a:lnTo>
                    <a:pt x="423" y="4225"/>
                  </a:lnTo>
                  <a:lnTo>
                    <a:pt x="370" y="4207"/>
                  </a:lnTo>
                  <a:lnTo>
                    <a:pt x="326" y="4207"/>
                  </a:lnTo>
                  <a:lnTo>
                    <a:pt x="282" y="4207"/>
                  </a:lnTo>
                  <a:lnTo>
                    <a:pt x="229" y="4207"/>
                  </a:lnTo>
                  <a:lnTo>
                    <a:pt x="185" y="4207"/>
                  </a:lnTo>
                  <a:lnTo>
                    <a:pt x="141" y="4207"/>
                  </a:lnTo>
                  <a:lnTo>
                    <a:pt x="88" y="4238"/>
                  </a:lnTo>
                  <a:lnTo>
                    <a:pt x="44" y="4265"/>
                  </a:lnTo>
                  <a:lnTo>
                    <a:pt x="0" y="430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340000" y="2306520"/>
              <a:ext cx="513000" cy="554400"/>
            </a:xfrm>
            <a:custGeom>
              <a:avLst/>
              <a:gdLst/>
              <a:ahLst/>
              <a:rect l="0" t="0" r="r" b="b"/>
              <a:pathLst>
                <a:path fill="none" w="1425" h="1540">
                  <a:moveTo>
                    <a:pt x="1072" y="0"/>
                  </a:moveTo>
                  <a:lnTo>
                    <a:pt x="1099" y="114"/>
                  </a:lnTo>
                  <a:lnTo>
                    <a:pt x="1129" y="167"/>
                  </a:lnTo>
                  <a:lnTo>
                    <a:pt x="1156" y="211"/>
                  </a:lnTo>
                  <a:lnTo>
                    <a:pt x="1200" y="224"/>
                  </a:lnTo>
                  <a:lnTo>
                    <a:pt x="1226" y="268"/>
                  </a:lnTo>
                  <a:lnTo>
                    <a:pt x="1257" y="326"/>
                  </a:lnTo>
                  <a:lnTo>
                    <a:pt x="1271" y="379"/>
                  </a:lnTo>
                  <a:lnTo>
                    <a:pt x="1297" y="424"/>
                  </a:lnTo>
                  <a:lnTo>
                    <a:pt x="1310" y="468"/>
                  </a:lnTo>
                  <a:lnTo>
                    <a:pt x="1328" y="521"/>
                  </a:lnTo>
                  <a:lnTo>
                    <a:pt x="1341" y="565"/>
                  </a:lnTo>
                  <a:lnTo>
                    <a:pt x="1398" y="609"/>
                  </a:lnTo>
                  <a:lnTo>
                    <a:pt x="1425" y="662"/>
                  </a:lnTo>
                  <a:lnTo>
                    <a:pt x="1425" y="706"/>
                  </a:lnTo>
                  <a:lnTo>
                    <a:pt x="1425" y="750"/>
                  </a:lnTo>
                  <a:lnTo>
                    <a:pt x="1425" y="803"/>
                  </a:lnTo>
                  <a:lnTo>
                    <a:pt x="1425" y="847"/>
                  </a:lnTo>
                  <a:lnTo>
                    <a:pt x="1425" y="891"/>
                  </a:lnTo>
                  <a:lnTo>
                    <a:pt x="1425" y="944"/>
                  </a:lnTo>
                  <a:lnTo>
                    <a:pt x="1425" y="988"/>
                  </a:lnTo>
                  <a:lnTo>
                    <a:pt x="1425" y="1032"/>
                  </a:lnTo>
                  <a:lnTo>
                    <a:pt x="1425" y="1085"/>
                  </a:lnTo>
                  <a:lnTo>
                    <a:pt x="1425" y="1129"/>
                  </a:lnTo>
                  <a:lnTo>
                    <a:pt x="1425" y="1174"/>
                  </a:lnTo>
                  <a:lnTo>
                    <a:pt x="1425" y="1227"/>
                  </a:lnTo>
                  <a:lnTo>
                    <a:pt x="1425" y="1272"/>
                  </a:lnTo>
                  <a:lnTo>
                    <a:pt x="1425" y="1316"/>
                  </a:lnTo>
                  <a:lnTo>
                    <a:pt x="1425" y="1369"/>
                  </a:lnTo>
                  <a:lnTo>
                    <a:pt x="1425" y="1413"/>
                  </a:lnTo>
                  <a:lnTo>
                    <a:pt x="1425" y="1457"/>
                  </a:lnTo>
                  <a:lnTo>
                    <a:pt x="1425" y="1510"/>
                  </a:lnTo>
                  <a:lnTo>
                    <a:pt x="1381" y="1527"/>
                  </a:lnTo>
                  <a:lnTo>
                    <a:pt x="1328" y="1540"/>
                  </a:lnTo>
                  <a:lnTo>
                    <a:pt x="1284" y="1540"/>
                  </a:lnTo>
                  <a:lnTo>
                    <a:pt x="1240" y="1540"/>
                  </a:lnTo>
                  <a:lnTo>
                    <a:pt x="1187" y="1527"/>
                  </a:lnTo>
                  <a:lnTo>
                    <a:pt x="1143" y="1496"/>
                  </a:lnTo>
                  <a:lnTo>
                    <a:pt x="1099" y="1483"/>
                  </a:lnTo>
                  <a:lnTo>
                    <a:pt x="1046" y="1470"/>
                  </a:lnTo>
                  <a:lnTo>
                    <a:pt x="1002" y="1457"/>
                  </a:lnTo>
                  <a:lnTo>
                    <a:pt x="957" y="1457"/>
                  </a:lnTo>
                  <a:lnTo>
                    <a:pt x="904" y="1457"/>
                  </a:lnTo>
                  <a:lnTo>
                    <a:pt x="860" y="1457"/>
                  </a:lnTo>
                  <a:lnTo>
                    <a:pt x="816" y="1457"/>
                  </a:lnTo>
                  <a:lnTo>
                    <a:pt x="763" y="1470"/>
                  </a:lnTo>
                  <a:lnTo>
                    <a:pt x="719" y="1470"/>
                  </a:lnTo>
                  <a:lnTo>
                    <a:pt x="674" y="1470"/>
                  </a:lnTo>
                  <a:lnTo>
                    <a:pt x="621" y="1470"/>
                  </a:lnTo>
                  <a:lnTo>
                    <a:pt x="577" y="1470"/>
                  </a:lnTo>
                  <a:lnTo>
                    <a:pt x="533" y="1470"/>
                  </a:lnTo>
                  <a:lnTo>
                    <a:pt x="480" y="1470"/>
                  </a:lnTo>
                  <a:lnTo>
                    <a:pt x="436" y="1470"/>
                  </a:lnTo>
                  <a:lnTo>
                    <a:pt x="392" y="1470"/>
                  </a:lnTo>
                  <a:lnTo>
                    <a:pt x="339" y="1426"/>
                  </a:lnTo>
                  <a:lnTo>
                    <a:pt x="295" y="1369"/>
                  </a:lnTo>
                  <a:lnTo>
                    <a:pt x="251" y="1342"/>
                  </a:lnTo>
                  <a:lnTo>
                    <a:pt x="198" y="1316"/>
                  </a:lnTo>
                  <a:lnTo>
                    <a:pt x="154" y="1285"/>
                  </a:lnTo>
                  <a:lnTo>
                    <a:pt x="110" y="1258"/>
                  </a:lnTo>
                  <a:lnTo>
                    <a:pt x="70" y="1214"/>
                  </a:lnTo>
                  <a:lnTo>
                    <a:pt x="39" y="1157"/>
                  </a:lnTo>
                  <a:lnTo>
                    <a:pt x="26" y="1103"/>
                  </a:lnTo>
                  <a:lnTo>
                    <a:pt x="26" y="1059"/>
                  </a:lnTo>
                  <a:lnTo>
                    <a:pt x="26" y="1015"/>
                  </a:lnTo>
                  <a:lnTo>
                    <a:pt x="26" y="962"/>
                  </a:lnTo>
                  <a:lnTo>
                    <a:pt x="13" y="918"/>
                  </a:lnTo>
                  <a:lnTo>
                    <a:pt x="0" y="874"/>
                  </a:lnTo>
                  <a:lnTo>
                    <a:pt x="0" y="821"/>
                  </a:lnTo>
                  <a:lnTo>
                    <a:pt x="26" y="777"/>
                  </a:lnTo>
                  <a:lnTo>
                    <a:pt x="70" y="750"/>
                  </a:lnTo>
                  <a:lnTo>
                    <a:pt x="110" y="706"/>
                  </a:lnTo>
                  <a:lnTo>
                    <a:pt x="141" y="662"/>
                  </a:lnTo>
                  <a:lnTo>
                    <a:pt x="167" y="609"/>
                  </a:lnTo>
                  <a:lnTo>
                    <a:pt x="198" y="565"/>
                  </a:lnTo>
                  <a:lnTo>
                    <a:pt x="224" y="521"/>
                  </a:lnTo>
                  <a:lnTo>
                    <a:pt x="238" y="468"/>
                  </a:lnTo>
                  <a:lnTo>
                    <a:pt x="251" y="424"/>
                  </a:lnTo>
                  <a:lnTo>
                    <a:pt x="251" y="37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1959120" y="2662200"/>
              <a:ext cx="376560" cy="157680"/>
            </a:xfrm>
            <a:custGeom>
              <a:avLst/>
              <a:gdLst/>
              <a:ahLst/>
              <a:rect l="0" t="0" r="r" b="b"/>
              <a:pathLst>
                <a:path fill="none" w="1046" h="438">
                  <a:moveTo>
                    <a:pt x="13" y="70"/>
                  </a:moveTo>
                  <a:lnTo>
                    <a:pt x="0" y="0"/>
                  </a:lnTo>
                  <a:lnTo>
                    <a:pt x="13" y="44"/>
                  </a:lnTo>
                  <a:lnTo>
                    <a:pt x="26" y="97"/>
                  </a:lnTo>
                  <a:lnTo>
                    <a:pt x="70" y="142"/>
                  </a:lnTo>
                  <a:lnTo>
                    <a:pt x="97" y="186"/>
                  </a:lnTo>
                  <a:lnTo>
                    <a:pt x="141" y="212"/>
                  </a:lnTo>
                  <a:lnTo>
                    <a:pt x="167" y="256"/>
                  </a:lnTo>
                  <a:lnTo>
                    <a:pt x="211" y="283"/>
                  </a:lnTo>
                  <a:lnTo>
                    <a:pt x="238" y="327"/>
                  </a:lnTo>
                  <a:lnTo>
                    <a:pt x="282" y="354"/>
                  </a:lnTo>
                  <a:lnTo>
                    <a:pt x="339" y="381"/>
                  </a:lnTo>
                  <a:lnTo>
                    <a:pt x="392" y="412"/>
                  </a:lnTo>
                  <a:lnTo>
                    <a:pt x="436" y="425"/>
                  </a:lnTo>
                  <a:lnTo>
                    <a:pt x="480" y="438"/>
                  </a:lnTo>
                  <a:lnTo>
                    <a:pt x="534" y="438"/>
                  </a:lnTo>
                  <a:lnTo>
                    <a:pt x="578" y="438"/>
                  </a:lnTo>
                  <a:lnTo>
                    <a:pt x="622" y="438"/>
                  </a:lnTo>
                  <a:lnTo>
                    <a:pt x="675" y="425"/>
                  </a:lnTo>
                  <a:lnTo>
                    <a:pt x="719" y="412"/>
                  </a:lnTo>
                  <a:lnTo>
                    <a:pt x="763" y="398"/>
                  </a:lnTo>
                  <a:lnTo>
                    <a:pt x="816" y="354"/>
                  </a:lnTo>
                  <a:lnTo>
                    <a:pt x="860" y="327"/>
                  </a:lnTo>
                  <a:lnTo>
                    <a:pt x="904" y="296"/>
                  </a:lnTo>
                  <a:lnTo>
                    <a:pt x="931" y="239"/>
                  </a:lnTo>
                  <a:lnTo>
                    <a:pt x="975" y="225"/>
                  </a:lnTo>
                  <a:lnTo>
                    <a:pt x="1015" y="168"/>
                  </a:lnTo>
                  <a:lnTo>
                    <a:pt x="1046" y="115"/>
                  </a:lnTo>
                  <a:lnTo>
                    <a:pt x="1046" y="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1324080" y="3952800"/>
              <a:ext cx="948240" cy="783000"/>
            </a:xfrm>
            <a:custGeom>
              <a:avLst/>
              <a:gdLst/>
              <a:ahLst/>
              <a:rect l="0" t="0" r="r" b="b"/>
              <a:pathLst>
                <a:path fill="none" w="2634" h="2175">
                  <a:moveTo>
                    <a:pt x="0" y="1385"/>
                  </a:moveTo>
                  <a:lnTo>
                    <a:pt x="57" y="1425"/>
                  </a:lnTo>
                  <a:lnTo>
                    <a:pt x="97" y="1469"/>
                  </a:lnTo>
                  <a:lnTo>
                    <a:pt x="127" y="1522"/>
                  </a:lnTo>
                  <a:lnTo>
                    <a:pt x="154" y="1566"/>
                  </a:lnTo>
                  <a:lnTo>
                    <a:pt x="167" y="1610"/>
                  </a:lnTo>
                  <a:lnTo>
                    <a:pt x="198" y="1664"/>
                  </a:lnTo>
                  <a:lnTo>
                    <a:pt x="224" y="1708"/>
                  </a:lnTo>
                  <a:lnTo>
                    <a:pt x="251" y="1752"/>
                  </a:lnTo>
                  <a:lnTo>
                    <a:pt x="268" y="1805"/>
                  </a:lnTo>
                  <a:lnTo>
                    <a:pt x="282" y="1849"/>
                  </a:lnTo>
                  <a:lnTo>
                    <a:pt x="282" y="1893"/>
                  </a:lnTo>
                  <a:lnTo>
                    <a:pt x="321" y="1946"/>
                  </a:lnTo>
                  <a:lnTo>
                    <a:pt x="366" y="1977"/>
                  </a:lnTo>
                  <a:lnTo>
                    <a:pt x="410" y="2004"/>
                  </a:lnTo>
                  <a:lnTo>
                    <a:pt x="463" y="2048"/>
                  </a:lnTo>
                  <a:lnTo>
                    <a:pt x="507" y="2074"/>
                  </a:lnTo>
                  <a:lnTo>
                    <a:pt x="551" y="2105"/>
                  </a:lnTo>
                  <a:lnTo>
                    <a:pt x="604" y="2131"/>
                  </a:lnTo>
                  <a:lnTo>
                    <a:pt x="648" y="2158"/>
                  </a:lnTo>
                  <a:lnTo>
                    <a:pt x="693" y="2175"/>
                  </a:lnTo>
                  <a:lnTo>
                    <a:pt x="746" y="2175"/>
                  </a:lnTo>
                  <a:lnTo>
                    <a:pt x="790" y="2175"/>
                  </a:lnTo>
                  <a:lnTo>
                    <a:pt x="834" y="2158"/>
                  </a:lnTo>
                  <a:lnTo>
                    <a:pt x="887" y="2158"/>
                  </a:lnTo>
                  <a:lnTo>
                    <a:pt x="931" y="2158"/>
                  </a:lnTo>
                  <a:lnTo>
                    <a:pt x="975" y="2158"/>
                  </a:lnTo>
                  <a:lnTo>
                    <a:pt x="1028" y="2158"/>
                  </a:lnTo>
                  <a:lnTo>
                    <a:pt x="1072" y="2158"/>
                  </a:lnTo>
                  <a:lnTo>
                    <a:pt x="1116" y="2158"/>
                  </a:lnTo>
                  <a:lnTo>
                    <a:pt x="1169" y="2158"/>
                  </a:lnTo>
                  <a:lnTo>
                    <a:pt x="1213" y="2158"/>
                  </a:lnTo>
                  <a:lnTo>
                    <a:pt x="1257" y="2158"/>
                  </a:lnTo>
                  <a:lnTo>
                    <a:pt x="1310" y="2158"/>
                  </a:lnTo>
                  <a:lnTo>
                    <a:pt x="1354" y="2145"/>
                  </a:lnTo>
                  <a:lnTo>
                    <a:pt x="1398" y="2131"/>
                  </a:lnTo>
                  <a:lnTo>
                    <a:pt x="1451" y="2118"/>
                  </a:lnTo>
                  <a:lnTo>
                    <a:pt x="1495" y="2118"/>
                  </a:lnTo>
                  <a:lnTo>
                    <a:pt x="1539" y="2118"/>
                  </a:lnTo>
                  <a:lnTo>
                    <a:pt x="1592" y="2118"/>
                  </a:lnTo>
                  <a:lnTo>
                    <a:pt x="1637" y="2118"/>
                  </a:lnTo>
                  <a:lnTo>
                    <a:pt x="1681" y="2118"/>
                  </a:lnTo>
                  <a:lnTo>
                    <a:pt x="1734" y="2105"/>
                  </a:lnTo>
                  <a:lnTo>
                    <a:pt x="1778" y="2087"/>
                  </a:lnTo>
                  <a:lnTo>
                    <a:pt x="1822" y="2087"/>
                  </a:lnTo>
                  <a:lnTo>
                    <a:pt x="1875" y="2087"/>
                  </a:lnTo>
                  <a:lnTo>
                    <a:pt x="1919" y="2087"/>
                  </a:lnTo>
                  <a:lnTo>
                    <a:pt x="1963" y="2087"/>
                  </a:lnTo>
                  <a:lnTo>
                    <a:pt x="2017" y="2061"/>
                  </a:lnTo>
                  <a:lnTo>
                    <a:pt x="2061" y="2034"/>
                  </a:lnTo>
                  <a:lnTo>
                    <a:pt x="2105" y="2004"/>
                  </a:lnTo>
                  <a:lnTo>
                    <a:pt x="2131" y="1946"/>
                  </a:lnTo>
                  <a:lnTo>
                    <a:pt x="2175" y="1907"/>
                  </a:lnTo>
                  <a:lnTo>
                    <a:pt x="2215" y="1862"/>
                  </a:lnTo>
                  <a:lnTo>
                    <a:pt x="2246" y="1805"/>
                  </a:lnTo>
                  <a:lnTo>
                    <a:pt x="2392" y="1690"/>
                  </a:lnTo>
                  <a:lnTo>
                    <a:pt x="2374" y="1646"/>
                  </a:lnTo>
                  <a:lnTo>
                    <a:pt x="2255" y="1646"/>
                  </a:lnTo>
                  <a:lnTo>
                    <a:pt x="2250" y="1579"/>
                  </a:lnTo>
                  <a:lnTo>
                    <a:pt x="2546" y="1429"/>
                  </a:lnTo>
                  <a:lnTo>
                    <a:pt x="2634" y="1293"/>
                  </a:lnTo>
                  <a:lnTo>
                    <a:pt x="2612" y="1248"/>
                  </a:lnTo>
                  <a:lnTo>
                    <a:pt x="2400" y="1319"/>
                  </a:lnTo>
                  <a:lnTo>
                    <a:pt x="2017" y="1509"/>
                  </a:lnTo>
                  <a:lnTo>
                    <a:pt x="1963" y="1509"/>
                  </a:lnTo>
                  <a:lnTo>
                    <a:pt x="1919" y="1509"/>
                  </a:lnTo>
                  <a:lnTo>
                    <a:pt x="1875" y="1495"/>
                  </a:lnTo>
                  <a:lnTo>
                    <a:pt x="1822" y="1495"/>
                  </a:lnTo>
                  <a:lnTo>
                    <a:pt x="1778" y="1482"/>
                  </a:lnTo>
                  <a:lnTo>
                    <a:pt x="1734" y="1482"/>
                  </a:lnTo>
                  <a:lnTo>
                    <a:pt x="1681" y="1451"/>
                  </a:lnTo>
                  <a:lnTo>
                    <a:pt x="1637" y="1412"/>
                  </a:lnTo>
                  <a:lnTo>
                    <a:pt x="1610" y="1368"/>
                  </a:lnTo>
                  <a:lnTo>
                    <a:pt x="1566" y="1341"/>
                  </a:lnTo>
                  <a:lnTo>
                    <a:pt x="1553" y="1297"/>
                  </a:lnTo>
                  <a:lnTo>
                    <a:pt x="1539" y="1240"/>
                  </a:lnTo>
                  <a:lnTo>
                    <a:pt x="1522" y="1187"/>
                  </a:lnTo>
                  <a:lnTo>
                    <a:pt x="1509" y="1143"/>
                  </a:lnTo>
                  <a:lnTo>
                    <a:pt x="1495" y="1099"/>
                  </a:lnTo>
                  <a:lnTo>
                    <a:pt x="1482" y="1046"/>
                  </a:lnTo>
                  <a:lnTo>
                    <a:pt x="1482" y="1002"/>
                  </a:lnTo>
                  <a:lnTo>
                    <a:pt x="1482" y="904"/>
                  </a:lnTo>
                  <a:lnTo>
                    <a:pt x="1469" y="777"/>
                  </a:lnTo>
                  <a:lnTo>
                    <a:pt x="1469" y="733"/>
                  </a:lnTo>
                  <a:lnTo>
                    <a:pt x="1451" y="622"/>
                  </a:lnTo>
                  <a:lnTo>
                    <a:pt x="1451" y="578"/>
                  </a:lnTo>
                  <a:lnTo>
                    <a:pt x="1438" y="533"/>
                  </a:lnTo>
                  <a:lnTo>
                    <a:pt x="1412" y="480"/>
                  </a:lnTo>
                  <a:lnTo>
                    <a:pt x="1398" y="436"/>
                  </a:lnTo>
                  <a:lnTo>
                    <a:pt x="1381" y="392"/>
                  </a:lnTo>
                  <a:lnTo>
                    <a:pt x="1368" y="339"/>
                  </a:lnTo>
                  <a:lnTo>
                    <a:pt x="1354" y="295"/>
                  </a:lnTo>
                  <a:lnTo>
                    <a:pt x="1328" y="251"/>
                  </a:lnTo>
                  <a:lnTo>
                    <a:pt x="1297" y="198"/>
                  </a:lnTo>
                  <a:lnTo>
                    <a:pt x="1284" y="154"/>
                  </a:lnTo>
                  <a:lnTo>
                    <a:pt x="1257" y="110"/>
                  </a:lnTo>
                  <a:lnTo>
                    <a:pt x="1226" y="57"/>
                  </a:lnTo>
                  <a:lnTo>
                    <a:pt x="1169" y="13"/>
                  </a:lnTo>
                  <a:lnTo>
                    <a:pt x="1116" y="0"/>
                  </a:lnTo>
                  <a:lnTo>
                    <a:pt x="1072" y="0"/>
                  </a:lnTo>
                  <a:lnTo>
                    <a:pt x="1028" y="0"/>
                  </a:lnTo>
                  <a:lnTo>
                    <a:pt x="975" y="13"/>
                  </a:lnTo>
                  <a:lnTo>
                    <a:pt x="931" y="39"/>
                  </a:lnTo>
                  <a:lnTo>
                    <a:pt x="887" y="57"/>
                  </a:lnTo>
                  <a:lnTo>
                    <a:pt x="834" y="70"/>
                  </a:lnTo>
                  <a:lnTo>
                    <a:pt x="790" y="83"/>
                  </a:lnTo>
                  <a:lnTo>
                    <a:pt x="746" y="97"/>
                  </a:lnTo>
                  <a:lnTo>
                    <a:pt x="693" y="110"/>
                  </a:lnTo>
                  <a:lnTo>
                    <a:pt x="648" y="110"/>
                  </a:lnTo>
                  <a:lnTo>
                    <a:pt x="604" y="127"/>
                  </a:lnTo>
                  <a:lnTo>
                    <a:pt x="551" y="127"/>
                  </a:lnTo>
                  <a:lnTo>
                    <a:pt x="507" y="127"/>
                  </a:lnTo>
                  <a:lnTo>
                    <a:pt x="463" y="127"/>
                  </a:lnTo>
                  <a:lnTo>
                    <a:pt x="410" y="127"/>
                  </a:lnTo>
                  <a:lnTo>
                    <a:pt x="366" y="127"/>
                  </a:lnTo>
                  <a:lnTo>
                    <a:pt x="321" y="127"/>
                  </a:lnTo>
                  <a:lnTo>
                    <a:pt x="268" y="141"/>
                  </a:lnTo>
                  <a:lnTo>
                    <a:pt x="224" y="14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268360" y="3648240"/>
              <a:ext cx="1600560" cy="940320"/>
            </a:xfrm>
            <a:custGeom>
              <a:avLst/>
              <a:gdLst/>
              <a:ahLst/>
              <a:rect l="0" t="0" r="r" b="b"/>
              <a:pathLst>
                <a:path fill="none" w="4446" h="2612">
                  <a:moveTo>
                    <a:pt x="0" y="2087"/>
                  </a:moveTo>
                  <a:lnTo>
                    <a:pt x="44" y="2061"/>
                  </a:lnTo>
                  <a:lnTo>
                    <a:pt x="97" y="2034"/>
                  </a:lnTo>
                  <a:lnTo>
                    <a:pt x="141" y="2004"/>
                  </a:lnTo>
                  <a:lnTo>
                    <a:pt x="185" y="1977"/>
                  </a:lnTo>
                  <a:lnTo>
                    <a:pt x="238" y="1945"/>
                  </a:lnTo>
                  <a:lnTo>
                    <a:pt x="282" y="1932"/>
                  </a:lnTo>
                  <a:lnTo>
                    <a:pt x="326" y="1919"/>
                  </a:lnTo>
                  <a:lnTo>
                    <a:pt x="379" y="1905"/>
                  </a:lnTo>
                  <a:lnTo>
                    <a:pt x="423" y="1905"/>
                  </a:lnTo>
                  <a:lnTo>
                    <a:pt x="467" y="1905"/>
                  </a:lnTo>
                  <a:lnTo>
                    <a:pt x="520" y="1905"/>
                  </a:lnTo>
                  <a:lnTo>
                    <a:pt x="564" y="1905"/>
                  </a:lnTo>
                  <a:lnTo>
                    <a:pt x="608" y="1905"/>
                  </a:lnTo>
                  <a:lnTo>
                    <a:pt x="661" y="1905"/>
                  </a:lnTo>
                  <a:lnTo>
                    <a:pt x="705" y="1919"/>
                  </a:lnTo>
                  <a:lnTo>
                    <a:pt x="749" y="1932"/>
                  </a:lnTo>
                  <a:lnTo>
                    <a:pt x="802" y="1945"/>
                  </a:lnTo>
                  <a:lnTo>
                    <a:pt x="846" y="1964"/>
                  </a:lnTo>
                  <a:lnTo>
                    <a:pt x="890" y="1977"/>
                  </a:lnTo>
                  <a:lnTo>
                    <a:pt x="943" y="1990"/>
                  </a:lnTo>
                  <a:lnTo>
                    <a:pt x="987" y="1990"/>
                  </a:lnTo>
                  <a:lnTo>
                    <a:pt x="1031" y="2004"/>
                  </a:lnTo>
                  <a:lnTo>
                    <a:pt x="1084" y="2017"/>
                  </a:lnTo>
                  <a:lnTo>
                    <a:pt x="1128" y="2017"/>
                  </a:lnTo>
                  <a:lnTo>
                    <a:pt x="1172" y="2034"/>
                  </a:lnTo>
                  <a:lnTo>
                    <a:pt x="1225" y="2048"/>
                  </a:lnTo>
                  <a:lnTo>
                    <a:pt x="1270" y="2061"/>
                  </a:lnTo>
                  <a:lnTo>
                    <a:pt x="1314" y="2061"/>
                  </a:lnTo>
                  <a:lnTo>
                    <a:pt x="1367" y="2061"/>
                  </a:lnTo>
                  <a:lnTo>
                    <a:pt x="1411" y="2061"/>
                  </a:lnTo>
                  <a:lnTo>
                    <a:pt x="1455" y="2061"/>
                  </a:lnTo>
                  <a:lnTo>
                    <a:pt x="1508" y="2061"/>
                  </a:lnTo>
                  <a:lnTo>
                    <a:pt x="1552" y="2061"/>
                  </a:lnTo>
                  <a:lnTo>
                    <a:pt x="1596" y="2048"/>
                  </a:lnTo>
                  <a:lnTo>
                    <a:pt x="1649" y="2034"/>
                  </a:lnTo>
                  <a:lnTo>
                    <a:pt x="1693" y="2017"/>
                  </a:lnTo>
                  <a:lnTo>
                    <a:pt x="1737" y="2017"/>
                  </a:lnTo>
                  <a:lnTo>
                    <a:pt x="1790" y="2004"/>
                  </a:lnTo>
                  <a:lnTo>
                    <a:pt x="1834" y="1990"/>
                  </a:lnTo>
                  <a:lnTo>
                    <a:pt x="1878" y="1990"/>
                  </a:lnTo>
                  <a:lnTo>
                    <a:pt x="1931" y="1977"/>
                  </a:lnTo>
                  <a:lnTo>
                    <a:pt x="1975" y="1945"/>
                  </a:lnTo>
                  <a:lnTo>
                    <a:pt x="2019" y="1919"/>
                  </a:lnTo>
                  <a:lnTo>
                    <a:pt x="2032" y="1875"/>
                  </a:lnTo>
                  <a:lnTo>
                    <a:pt x="2032" y="1822"/>
                  </a:lnTo>
                  <a:lnTo>
                    <a:pt x="2032" y="1778"/>
                  </a:lnTo>
                  <a:lnTo>
                    <a:pt x="2032" y="1734"/>
                  </a:lnTo>
                  <a:lnTo>
                    <a:pt x="2019" y="1681"/>
                  </a:lnTo>
                  <a:lnTo>
                    <a:pt x="1988" y="1637"/>
                  </a:lnTo>
                  <a:lnTo>
                    <a:pt x="1962" y="1592"/>
                  </a:lnTo>
                  <a:lnTo>
                    <a:pt x="1931" y="1539"/>
                  </a:lnTo>
                  <a:lnTo>
                    <a:pt x="1918" y="1495"/>
                  </a:lnTo>
                  <a:lnTo>
                    <a:pt x="1891" y="1451"/>
                  </a:lnTo>
                  <a:lnTo>
                    <a:pt x="1860" y="1398"/>
                  </a:lnTo>
                  <a:lnTo>
                    <a:pt x="1847" y="1354"/>
                  </a:lnTo>
                  <a:lnTo>
                    <a:pt x="1821" y="1310"/>
                  </a:lnTo>
                  <a:lnTo>
                    <a:pt x="1821" y="1257"/>
                  </a:lnTo>
                  <a:lnTo>
                    <a:pt x="1821" y="1213"/>
                  </a:lnTo>
                  <a:lnTo>
                    <a:pt x="1834" y="1169"/>
                  </a:lnTo>
                  <a:lnTo>
                    <a:pt x="1847" y="1116"/>
                  </a:lnTo>
                  <a:lnTo>
                    <a:pt x="1860" y="1072"/>
                  </a:lnTo>
                  <a:lnTo>
                    <a:pt x="1860" y="1028"/>
                  </a:lnTo>
                  <a:lnTo>
                    <a:pt x="1860" y="975"/>
                  </a:lnTo>
                  <a:lnTo>
                    <a:pt x="1860" y="931"/>
                  </a:lnTo>
                  <a:lnTo>
                    <a:pt x="1860" y="887"/>
                  </a:lnTo>
                  <a:lnTo>
                    <a:pt x="1860" y="834"/>
                  </a:lnTo>
                  <a:lnTo>
                    <a:pt x="1860" y="790"/>
                  </a:lnTo>
                  <a:lnTo>
                    <a:pt x="1878" y="746"/>
                  </a:lnTo>
                  <a:lnTo>
                    <a:pt x="1905" y="697"/>
                  </a:lnTo>
                  <a:lnTo>
                    <a:pt x="1962" y="671"/>
                  </a:lnTo>
                  <a:lnTo>
                    <a:pt x="1988" y="608"/>
                  </a:lnTo>
                  <a:lnTo>
                    <a:pt x="2010" y="555"/>
                  </a:lnTo>
                  <a:lnTo>
                    <a:pt x="2024" y="533"/>
                  </a:lnTo>
                  <a:lnTo>
                    <a:pt x="2046" y="507"/>
                  </a:lnTo>
                  <a:lnTo>
                    <a:pt x="2090" y="493"/>
                  </a:lnTo>
                  <a:lnTo>
                    <a:pt x="2143" y="480"/>
                  </a:lnTo>
                  <a:lnTo>
                    <a:pt x="2187" y="436"/>
                  </a:lnTo>
                  <a:lnTo>
                    <a:pt x="2232" y="423"/>
                  </a:lnTo>
                  <a:lnTo>
                    <a:pt x="2272" y="379"/>
                  </a:lnTo>
                  <a:lnTo>
                    <a:pt x="2316" y="366"/>
                  </a:lnTo>
                  <a:lnTo>
                    <a:pt x="2373" y="339"/>
                  </a:lnTo>
                  <a:lnTo>
                    <a:pt x="2426" y="308"/>
                  </a:lnTo>
                  <a:lnTo>
                    <a:pt x="2470" y="282"/>
                  </a:lnTo>
                  <a:lnTo>
                    <a:pt x="2514" y="251"/>
                  </a:lnTo>
                  <a:lnTo>
                    <a:pt x="2567" y="238"/>
                  </a:lnTo>
                  <a:lnTo>
                    <a:pt x="2611" y="224"/>
                  </a:lnTo>
                  <a:lnTo>
                    <a:pt x="2655" y="211"/>
                  </a:lnTo>
                  <a:lnTo>
                    <a:pt x="2708" y="198"/>
                  </a:lnTo>
                  <a:lnTo>
                    <a:pt x="2752" y="180"/>
                  </a:lnTo>
                  <a:lnTo>
                    <a:pt x="2796" y="167"/>
                  </a:lnTo>
                  <a:lnTo>
                    <a:pt x="2849" y="167"/>
                  </a:lnTo>
                  <a:lnTo>
                    <a:pt x="2893" y="167"/>
                  </a:lnTo>
                  <a:lnTo>
                    <a:pt x="2937" y="167"/>
                  </a:lnTo>
                  <a:lnTo>
                    <a:pt x="2990" y="167"/>
                  </a:lnTo>
                  <a:lnTo>
                    <a:pt x="3034" y="154"/>
                  </a:lnTo>
                  <a:lnTo>
                    <a:pt x="3078" y="141"/>
                  </a:lnTo>
                  <a:lnTo>
                    <a:pt x="3118" y="97"/>
                  </a:lnTo>
                  <a:lnTo>
                    <a:pt x="3162" y="83"/>
                  </a:lnTo>
                  <a:lnTo>
                    <a:pt x="3220" y="70"/>
                  </a:lnTo>
                  <a:lnTo>
                    <a:pt x="3273" y="39"/>
                  </a:lnTo>
                  <a:lnTo>
                    <a:pt x="3317" y="39"/>
                  </a:lnTo>
                  <a:lnTo>
                    <a:pt x="3361" y="26"/>
                  </a:lnTo>
                  <a:lnTo>
                    <a:pt x="3414" y="0"/>
                  </a:lnTo>
                  <a:lnTo>
                    <a:pt x="3458" y="0"/>
                  </a:lnTo>
                  <a:lnTo>
                    <a:pt x="3502" y="13"/>
                  </a:lnTo>
                  <a:lnTo>
                    <a:pt x="3542" y="57"/>
                  </a:lnTo>
                  <a:lnTo>
                    <a:pt x="3586" y="83"/>
                  </a:lnTo>
                  <a:lnTo>
                    <a:pt x="3643" y="97"/>
                  </a:lnTo>
                  <a:lnTo>
                    <a:pt x="3696" y="97"/>
                  </a:lnTo>
                  <a:lnTo>
                    <a:pt x="3740" y="83"/>
                  </a:lnTo>
                  <a:lnTo>
                    <a:pt x="3740" y="127"/>
                  </a:lnTo>
                  <a:lnTo>
                    <a:pt x="3753" y="180"/>
                  </a:lnTo>
                  <a:lnTo>
                    <a:pt x="3766" y="224"/>
                  </a:lnTo>
                  <a:lnTo>
                    <a:pt x="3811" y="224"/>
                  </a:lnTo>
                  <a:lnTo>
                    <a:pt x="3837" y="268"/>
                  </a:lnTo>
                  <a:lnTo>
                    <a:pt x="3881" y="295"/>
                  </a:lnTo>
                  <a:lnTo>
                    <a:pt x="3894" y="339"/>
                  </a:lnTo>
                  <a:lnTo>
                    <a:pt x="3925" y="392"/>
                  </a:lnTo>
                  <a:lnTo>
                    <a:pt x="3938" y="436"/>
                  </a:lnTo>
                  <a:lnTo>
                    <a:pt x="3978" y="480"/>
                  </a:lnTo>
                  <a:lnTo>
                    <a:pt x="4022" y="507"/>
                  </a:lnTo>
                  <a:lnTo>
                    <a:pt x="4066" y="520"/>
                  </a:lnTo>
                  <a:lnTo>
                    <a:pt x="4119" y="520"/>
                  </a:lnTo>
                  <a:lnTo>
                    <a:pt x="4163" y="520"/>
                  </a:lnTo>
                  <a:lnTo>
                    <a:pt x="4207" y="520"/>
                  </a:lnTo>
                  <a:lnTo>
                    <a:pt x="4260" y="520"/>
                  </a:lnTo>
                  <a:lnTo>
                    <a:pt x="4304" y="520"/>
                  </a:lnTo>
                  <a:lnTo>
                    <a:pt x="4348" y="551"/>
                  </a:lnTo>
                  <a:lnTo>
                    <a:pt x="4375" y="604"/>
                  </a:lnTo>
                  <a:lnTo>
                    <a:pt x="4375" y="648"/>
                  </a:lnTo>
                  <a:lnTo>
                    <a:pt x="4388" y="693"/>
                  </a:lnTo>
                  <a:lnTo>
                    <a:pt x="4388" y="746"/>
                  </a:lnTo>
                  <a:lnTo>
                    <a:pt x="4401" y="790"/>
                  </a:lnTo>
                  <a:lnTo>
                    <a:pt x="4419" y="834"/>
                  </a:lnTo>
                  <a:lnTo>
                    <a:pt x="4446" y="887"/>
                  </a:lnTo>
                  <a:lnTo>
                    <a:pt x="4446" y="931"/>
                  </a:lnTo>
                  <a:lnTo>
                    <a:pt x="4419" y="975"/>
                  </a:lnTo>
                  <a:lnTo>
                    <a:pt x="4375" y="1002"/>
                  </a:lnTo>
                  <a:lnTo>
                    <a:pt x="4331" y="1046"/>
                  </a:lnTo>
                  <a:lnTo>
                    <a:pt x="4278" y="1099"/>
                  </a:lnTo>
                  <a:lnTo>
                    <a:pt x="4234" y="1129"/>
                  </a:lnTo>
                  <a:lnTo>
                    <a:pt x="4190" y="1156"/>
                  </a:lnTo>
                  <a:lnTo>
                    <a:pt x="4137" y="1169"/>
                  </a:lnTo>
                  <a:lnTo>
                    <a:pt x="4093" y="1187"/>
                  </a:lnTo>
                  <a:lnTo>
                    <a:pt x="4049" y="1200"/>
                  </a:lnTo>
                  <a:lnTo>
                    <a:pt x="3996" y="1213"/>
                  </a:lnTo>
                  <a:lnTo>
                    <a:pt x="3952" y="1240"/>
                  </a:lnTo>
                  <a:lnTo>
                    <a:pt x="3908" y="1270"/>
                  </a:lnTo>
                  <a:lnTo>
                    <a:pt x="3855" y="1310"/>
                  </a:lnTo>
                  <a:lnTo>
                    <a:pt x="3824" y="1354"/>
                  </a:lnTo>
                  <a:lnTo>
                    <a:pt x="3797" y="1398"/>
                  </a:lnTo>
                  <a:lnTo>
                    <a:pt x="3753" y="1438"/>
                  </a:lnTo>
                  <a:lnTo>
                    <a:pt x="3740" y="1482"/>
                  </a:lnTo>
                  <a:lnTo>
                    <a:pt x="3740" y="1539"/>
                  </a:lnTo>
                  <a:lnTo>
                    <a:pt x="3766" y="1592"/>
                  </a:lnTo>
                  <a:lnTo>
                    <a:pt x="3811" y="1623"/>
                  </a:lnTo>
                  <a:lnTo>
                    <a:pt x="3855" y="1650"/>
                  </a:lnTo>
                  <a:lnTo>
                    <a:pt x="3894" y="1694"/>
                  </a:lnTo>
                  <a:lnTo>
                    <a:pt x="3938" y="1734"/>
                  </a:lnTo>
                  <a:lnTo>
                    <a:pt x="3978" y="1778"/>
                  </a:lnTo>
                  <a:lnTo>
                    <a:pt x="4009" y="1822"/>
                  </a:lnTo>
                  <a:lnTo>
                    <a:pt x="4066" y="1848"/>
                  </a:lnTo>
                  <a:lnTo>
                    <a:pt x="4079" y="1892"/>
                  </a:lnTo>
                  <a:lnTo>
                    <a:pt x="4093" y="1945"/>
                  </a:lnTo>
                  <a:lnTo>
                    <a:pt x="4119" y="1990"/>
                  </a:lnTo>
                  <a:lnTo>
                    <a:pt x="4137" y="2034"/>
                  </a:lnTo>
                  <a:lnTo>
                    <a:pt x="4150" y="2087"/>
                  </a:lnTo>
                  <a:lnTo>
                    <a:pt x="4150" y="2131"/>
                  </a:lnTo>
                  <a:lnTo>
                    <a:pt x="4150" y="2198"/>
                  </a:lnTo>
                  <a:lnTo>
                    <a:pt x="4093" y="2250"/>
                  </a:lnTo>
                  <a:lnTo>
                    <a:pt x="4044" y="2281"/>
                  </a:lnTo>
                  <a:lnTo>
                    <a:pt x="3987" y="2299"/>
                  </a:lnTo>
                  <a:lnTo>
                    <a:pt x="3921" y="2321"/>
                  </a:lnTo>
                  <a:lnTo>
                    <a:pt x="3868" y="2339"/>
                  </a:lnTo>
                  <a:lnTo>
                    <a:pt x="3824" y="2365"/>
                  </a:lnTo>
                  <a:lnTo>
                    <a:pt x="3784" y="2405"/>
                  </a:lnTo>
                  <a:lnTo>
                    <a:pt x="3740" y="2418"/>
                  </a:lnTo>
                  <a:lnTo>
                    <a:pt x="3691" y="2431"/>
                  </a:lnTo>
                  <a:lnTo>
                    <a:pt x="3652" y="2453"/>
                  </a:lnTo>
                  <a:lnTo>
                    <a:pt x="3599" y="2462"/>
                  </a:lnTo>
                  <a:lnTo>
                    <a:pt x="3568" y="2484"/>
                  </a:lnTo>
                  <a:lnTo>
                    <a:pt x="3528" y="2511"/>
                  </a:lnTo>
                  <a:lnTo>
                    <a:pt x="3484" y="2528"/>
                  </a:lnTo>
                  <a:lnTo>
                    <a:pt x="3431" y="2541"/>
                  </a:lnTo>
                  <a:lnTo>
                    <a:pt x="3387" y="2555"/>
                  </a:lnTo>
                  <a:lnTo>
                    <a:pt x="3343" y="2568"/>
                  </a:lnTo>
                  <a:lnTo>
                    <a:pt x="3290" y="2581"/>
                  </a:lnTo>
                  <a:lnTo>
                    <a:pt x="3246" y="2581"/>
                  </a:lnTo>
                  <a:lnTo>
                    <a:pt x="3202" y="2599"/>
                  </a:lnTo>
                  <a:lnTo>
                    <a:pt x="3149" y="2612"/>
                  </a:lnTo>
                  <a:lnTo>
                    <a:pt x="3105" y="2612"/>
                  </a:lnTo>
                  <a:lnTo>
                    <a:pt x="3061" y="2612"/>
                  </a:lnTo>
                  <a:lnTo>
                    <a:pt x="3008" y="2612"/>
                  </a:lnTo>
                  <a:lnTo>
                    <a:pt x="2964" y="2612"/>
                  </a:lnTo>
                  <a:lnTo>
                    <a:pt x="2920" y="2612"/>
                  </a:lnTo>
                  <a:lnTo>
                    <a:pt x="2867" y="2612"/>
                  </a:lnTo>
                  <a:lnTo>
                    <a:pt x="2823" y="2612"/>
                  </a:lnTo>
                  <a:lnTo>
                    <a:pt x="2779" y="2612"/>
                  </a:lnTo>
                  <a:lnTo>
                    <a:pt x="2726" y="2612"/>
                  </a:lnTo>
                  <a:lnTo>
                    <a:pt x="2682" y="2612"/>
                  </a:lnTo>
                  <a:lnTo>
                    <a:pt x="2638" y="2612"/>
                  </a:lnTo>
                  <a:lnTo>
                    <a:pt x="2585" y="2612"/>
                  </a:lnTo>
                  <a:lnTo>
                    <a:pt x="2541" y="2612"/>
                  </a:lnTo>
                  <a:lnTo>
                    <a:pt x="2496" y="2612"/>
                  </a:lnTo>
                  <a:lnTo>
                    <a:pt x="2443" y="2612"/>
                  </a:lnTo>
                  <a:lnTo>
                    <a:pt x="2399" y="2612"/>
                  </a:lnTo>
                  <a:lnTo>
                    <a:pt x="2355" y="2612"/>
                  </a:lnTo>
                  <a:lnTo>
                    <a:pt x="2302" y="2612"/>
                  </a:lnTo>
                  <a:lnTo>
                    <a:pt x="2258" y="2599"/>
                  </a:lnTo>
                  <a:lnTo>
                    <a:pt x="2213" y="2581"/>
                  </a:lnTo>
                  <a:lnTo>
                    <a:pt x="2160" y="2581"/>
                  </a:lnTo>
                  <a:lnTo>
                    <a:pt x="2116" y="2581"/>
                  </a:lnTo>
                  <a:lnTo>
                    <a:pt x="2103" y="2528"/>
                  </a:lnTo>
                  <a:lnTo>
                    <a:pt x="2103" y="2484"/>
                  </a:lnTo>
                  <a:lnTo>
                    <a:pt x="2103" y="2440"/>
                  </a:lnTo>
                  <a:lnTo>
                    <a:pt x="2090" y="2387"/>
                  </a:lnTo>
                  <a:lnTo>
                    <a:pt x="2059" y="2343"/>
                  </a:lnTo>
                  <a:lnTo>
                    <a:pt x="2046" y="2299"/>
                  </a:lnTo>
                  <a:lnTo>
                    <a:pt x="2046" y="2246"/>
                  </a:lnTo>
                  <a:lnTo>
                    <a:pt x="2046" y="2202"/>
                  </a:lnTo>
                  <a:lnTo>
                    <a:pt x="2046" y="2158"/>
                  </a:lnTo>
                  <a:lnTo>
                    <a:pt x="2032" y="2105"/>
                  </a:lnTo>
                  <a:lnTo>
                    <a:pt x="2019" y="2061"/>
                  </a:lnTo>
                  <a:lnTo>
                    <a:pt x="2019" y="2017"/>
                  </a:lnTo>
                  <a:lnTo>
                    <a:pt x="2019" y="1964"/>
                  </a:lnTo>
                  <a:lnTo>
                    <a:pt x="2032" y="1919"/>
                  </a:lnTo>
                  <a:lnTo>
                    <a:pt x="2046" y="187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1747800" y="3678120"/>
              <a:ext cx="1019520" cy="711720"/>
            </a:xfrm>
            <a:custGeom>
              <a:avLst/>
              <a:gdLst/>
              <a:ahLst/>
              <a:rect l="0" t="0" r="r" b="b"/>
              <a:pathLst>
                <a:path fill="none" w="2832" h="1977">
                  <a:moveTo>
                    <a:pt x="0" y="790"/>
                  </a:moveTo>
                  <a:lnTo>
                    <a:pt x="79" y="750"/>
                  </a:lnTo>
                  <a:lnTo>
                    <a:pt x="105" y="706"/>
                  </a:lnTo>
                  <a:lnTo>
                    <a:pt x="149" y="693"/>
                  </a:lnTo>
                  <a:lnTo>
                    <a:pt x="189" y="649"/>
                  </a:lnTo>
                  <a:lnTo>
                    <a:pt x="233" y="636"/>
                  </a:lnTo>
                  <a:lnTo>
                    <a:pt x="291" y="609"/>
                  </a:lnTo>
                  <a:lnTo>
                    <a:pt x="343" y="578"/>
                  </a:lnTo>
                  <a:lnTo>
                    <a:pt x="388" y="578"/>
                  </a:lnTo>
                  <a:lnTo>
                    <a:pt x="432" y="591"/>
                  </a:lnTo>
                  <a:lnTo>
                    <a:pt x="485" y="622"/>
                  </a:lnTo>
                  <a:lnTo>
                    <a:pt x="529" y="649"/>
                  </a:lnTo>
                  <a:lnTo>
                    <a:pt x="573" y="662"/>
                  </a:lnTo>
                  <a:lnTo>
                    <a:pt x="626" y="662"/>
                  </a:lnTo>
                  <a:lnTo>
                    <a:pt x="670" y="662"/>
                  </a:lnTo>
                  <a:lnTo>
                    <a:pt x="714" y="662"/>
                  </a:lnTo>
                  <a:lnTo>
                    <a:pt x="767" y="662"/>
                  </a:lnTo>
                  <a:lnTo>
                    <a:pt x="811" y="649"/>
                  </a:lnTo>
                  <a:lnTo>
                    <a:pt x="855" y="636"/>
                  </a:lnTo>
                  <a:lnTo>
                    <a:pt x="881" y="591"/>
                  </a:lnTo>
                  <a:lnTo>
                    <a:pt x="926" y="565"/>
                  </a:lnTo>
                  <a:lnTo>
                    <a:pt x="965" y="521"/>
                  </a:lnTo>
                  <a:lnTo>
                    <a:pt x="1009" y="508"/>
                  </a:lnTo>
                  <a:lnTo>
                    <a:pt x="1067" y="508"/>
                  </a:lnTo>
                  <a:lnTo>
                    <a:pt x="1120" y="508"/>
                  </a:lnTo>
                  <a:lnTo>
                    <a:pt x="1164" y="508"/>
                  </a:lnTo>
                  <a:lnTo>
                    <a:pt x="1208" y="508"/>
                  </a:lnTo>
                  <a:lnTo>
                    <a:pt x="1261" y="508"/>
                  </a:lnTo>
                  <a:lnTo>
                    <a:pt x="1305" y="508"/>
                  </a:lnTo>
                  <a:lnTo>
                    <a:pt x="1349" y="521"/>
                  </a:lnTo>
                  <a:lnTo>
                    <a:pt x="1402" y="538"/>
                  </a:lnTo>
                  <a:lnTo>
                    <a:pt x="1447" y="552"/>
                  </a:lnTo>
                  <a:lnTo>
                    <a:pt x="1491" y="565"/>
                  </a:lnTo>
                  <a:lnTo>
                    <a:pt x="1544" y="578"/>
                  </a:lnTo>
                  <a:lnTo>
                    <a:pt x="1588" y="591"/>
                  </a:lnTo>
                  <a:lnTo>
                    <a:pt x="1632" y="591"/>
                  </a:lnTo>
                  <a:lnTo>
                    <a:pt x="1685" y="609"/>
                  </a:lnTo>
                  <a:lnTo>
                    <a:pt x="1729" y="609"/>
                  </a:lnTo>
                  <a:lnTo>
                    <a:pt x="1773" y="591"/>
                  </a:lnTo>
                  <a:lnTo>
                    <a:pt x="1826" y="552"/>
                  </a:lnTo>
                  <a:lnTo>
                    <a:pt x="1857" y="508"/>
                  </a:lnTo>
                  <a:lnTo>
                    <a:pt x="1914" y="467"/>
                  </a:lnTo>
                  <a:lnTo>
                    <a:pt x="1928" y="423"/>
                  </a:lnTo>
                  <a:lnTo>
                    <a:pt x="1941" y="379"/>
                  </a:lnTo>
                  <a:lnTo>
                    <a:pt x="1954" y="326"/>
                  </a:lnTo>
                  <a:lnTo>
                    <a:pt x="1985" y="282"/>
                  </a:lnTo>
                  <a:lnTo>
                    <a:pt x="2025" y="238"/>
                  </a:lnTo>
                  <a:lnTo>
                    <a:pt x="2055" y="185"/>
                  </a:lnTo>
                  <a:lnTo>
                    <a:pt x="2082" y="141"/>
                  </a:lnTo>
                  <a:lnTo>
                    <a:pt x="2126" y="97"/>
                  </a:lnTo>
                  <a:lnTo>
                    <a:pt x="2152" y="44"/>
                  </a:lnTo>
                  <a:lnTo>
                    <a:pt x="2197" y="26"/>
                  </a:lnTo>
                  <a:lnTo>
                    <a:pt x="2249" y="13"/>
                  </a:lnTo>
                  <a:lnTo>
                    <a:pt x="2294" y="0"/>
                  </a:lnTo>
                  <a:lnTo>
                    <a:pt x="2338" y="0"/>
                  </a:lnTo>
                  <a:lnTo>
                    <a:pt x="2391" y="26"/>
                  </a:lnTo>
                  <a:lnTo>
                    <a:pt x="2435" y="57"/>
                  </a:lnTo>
                  <a:lnTo>
                    <a:pt x="2479" y="83"/>
                  </a:lnTo>
                  <a:lnTo>
                    <a:pt x="2532" y="114"/>
                  </a:lnTo>
                  <a:lnTo>
                    <a:pt x="2576" y="154"/>
                  </a:lnTo>
                  <a:lnTo>
                    <a:pt x="2620" y="185"/>
                  </a:lnTo>
                  <a:lnTo>
                    <a:pt x="2673" y="224"/>
                  </a:lnTo>
                  <a:lnTo>
                    <a:pt x="2704" y="268"/>
                  </a:lnTo>
                  <a:lnTo>
                    <a:pt x="2743" y="326"/>
                  </a:lnTo>
                  <a:lnTo>
                    <a:pt x="2761" y="379"/>
                  </a:lnTo>
                  <a:lnTo>
                    <a:pt x="2774" y="423"/>
                  </a:lnTo>
                  <a:lnTo>
                    <a:pt x="2774" y="467"/>
                  </a:lnTo>
                  <a:lnTo>
                    <a:pt x="2787" y="521"/>
                  </a:lnTo>
                  <a:lnTo>
                    <a:pt x="2801" y="565"/>
                  </a:lnTo>
                  <a:lnTo>
                    <a:pt x="2814" y="609"/>
                  </a:lnTo>
                  <a:lnTo>
                    <a:pt x="2832" y="662"/>
                  </a:lnTo>
                  <a:lnTo>
                    <a:pt x="2832" y="706"/>
                  </a:lnTo>
                  <a:lnTo>
                    <a:pt x="2832" y="750"/>
                  </a:lnTo>
                  <a:lnTo>
                    <a:pt x="2832" y="803"/>
                  </a:lnTo>
                  <a:lnTo>
                    <a:pt x="2832" y="847"/>
                  </a:lnTo>
                  <a:lnTo>
                    <a:pt x="2832" y="891"/>
                  </a:lnTo>
                  <a:lnTo>
                    <a:pt x="2832" y="944"/>
                  </a:lnTo>
                  <a:lnTo>
                    <a:pt x="2832" y="988"/>
                  </a:lnTo>
                  <a:lnTo>
                    <a:pt x="2832" y="1032"/>
                  </a:lnTo>
                  <a:lnTo>
                    <a:pt x="2832" y="1085"/>
                  </a:lnTo>
                  <a:lnTo>
                    <a:pt x="2832" y="1129"/>
                  </a:lnTo>
                  <a:lnTo>
                    <a:pt x="2832" y="1173"/>
                  </a:lnTo>
                  <a:lnTo>
                    <a:pt x="2832" y="1226"/>
                  </a:lnTo>
                  <a:lnTo>
                    <a:pt x="2832" y="1271"/>
                  </a:lnTo>
                  <a:lnTo>
                    <a:pt x="2832" y="1315"/>
                  </a:lnTo>
                  <a:lnTo>
                    <a:pt x="2832" y="1368"/>
                  </a:lnTo>
                  <a:lnTo>
                    <a:pt x="2814" y="1412"/>
                  </a:lnTo>
                  <a:lnTo>
                    <a:pt x="2814" y="1456"/>
                  </a:lnTo>
                  <a:lnTo>
                    <a:pt x="2801" y="1510"/>
                  </a:lnTo>
                  <a:lnTo>
                    <a:pt x="2787" y="1554"/>
                  </a:lnTo>
                  <a:lnTo>
                    <a:pt x="2774" y="1598"/>
                  </a:lnTo>
                  <a:lnTo>
                    <a:pt x="2774" y="1651"/>
                  </a:lnTo>
                  <a:lnTo>
                    <a:pt x="2761" y="1695"/>
                  </a:lnTo>
                  <a:lnTo>
                    <a:pt x="2761" y="1739"/>
                  </a:lnTo>
                  <a:lnTo>
                    <a:pt x="2774" y="1792"/>
                  </a:lnTo>
                  <a:lnTo>
                    <a:pt x="2787" y="1836"/>
                  </a:lnTo>
                  <a:lnTo>
                    <a:pt x="2801" y="1880"/>
                  </a:lnTo>
                  <a:lnTo>
                    <a:pt x="2801" y="1933"/>
                  </a:lnTo>
                  <a:lnTo>
                    <a:pt x="2805" y="1951"/>
                  </a:lnTo>
                  <a:lnTo>
                    <a:pt x="2801" y="197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3025800" y="4419720"/>
              <a:ext cx="919440" cy="960840"/>
            </a:xfrm>
            <a:custGeom>
              <a:avLst/>
              <a:gdLst/>
              <a:ahLst/>
              <a:rect l="0" t="0" r="r" b="b"/>
              <a:pathLst>
                <a:path fill="none" w="2554" h="2669">
                  <a:moveTo>
                    <a:pt x="0" y="423"/>
                  </a:moveTo>
                  <a:lnTo>
                    <a:pt x="0" y="467"/>
                  </a:lnTo>
                  <a:lnTo>
                    <a:pt x="0" y="524"/>
                  </a:lnTo>
                  <a:lnTo>
                    <a:pt x="0" y="577"/>
                  </a:lnTo>
                  <a:lnTo>
                    <a:pt x="0" y="621"/>
                  </a:lnTo>
                  <a:lnTo>
                    <a:pt x="13" y="665"/>
                  </a:lnTo>
                  <a:lnTo>
                    <a:pt x="39" y="719"/>
                  </a:lnTo>
                  <a:lnTo>
                    <a:pt x="39" y="763"/>
                  </a:lnTo>
                  <a:lnTo>
                    <a:pt x="57" y="807"/>
                  </a:lnTo>
                  <a:lnTo>
                    <a:pt x="110" y="807"/>
                  </a:lnTo>
                  <a:lnTo>
                    <a:pt x="154" y="807"/>
                  </a:lnTo>
                  <a:lnTo>
                    <a:pt x="198" y="807"/>
                  </a:lnTo>
                  <a:lnTo>
                    <a:pt x="251" y="834"/>
                  </a:lnTo>
                  <a:lnTo>
                    <a:pt x="282" y="878"/>
                  </a:lnTo>
                  <a:lnTo>
                    <a:pt x="308" y="931"/>
                  </a:lnTo>
                  <a:lnTo>
                    <a:pt x="308" y="975"/>
                  </a:lnTo>
                  <a:lnTo>
                    <a:pt x="308" y="1019"/>
                  </a:lnTo>
                  <a:lnTo>
                    <a:pt x="295" y="1072"/>
                  </a:lnTo>
                  <a:lnTo>
                    <a:pt x="282" y="1116"/>
                  </a:lnTo>
                  <a:lnTo>
                    <a:pt x="268" y="1160"/>
                  </a:lnTo>
                  <a:lnTo>
                    <a:pt x="251" y="1213"/>
                  </a:lnTo>
                  <a:lnTo>
                    <a:pt x="251" y="1257"/>
                  </a:lnTo>
                  <a:lnTo>
                    <a:pt x="251" y="1301"/>
                  </a:lnTo>
                  <a:lnTo>
                    <a:pt x="251" y="1354"/>
                  </a:lnTo>
                  <a:lnTo>
                    <a:pt x="251" y="1398"/>
                  </a:lnTo>
                  <a:lnTo>
                    <a:pt x="251" y="1442"/>
                  </a:lnTo>
                  <a:lnTo>
                    <a:pt x="251" y="1495"/>
                  </a:lnTo>
                  <a:lnTo>
                    <a:pt x="251" y="1539"/>
                  </a:lnTo>
                  <a:lnTo>
                    <a:pt x="251" y="1584"/>
                  </a:lnTo>
                  <a:lnTo>
                    <a:pt x="251" y="1637"/>
                  </a:lnTo>
                  <a:lnTo>
                    <a:pt x="238" y="1681"/>
                  </a:lnTo>
                  <a:lnTo>
                    <a:pt x="238" y="1725"/>
                  </a:lnTo>
                  <a:lnTo>
                    <a:pt x="211" y="1778"/>
                  </a:lnTo>
                  <a:lnTo>
                    <a:pt x="211" y="1822"/>
                  </a:lnTo>
                  <a:lnTo>
                    <a:pt x="211" y="1866"/>
                  </a:lnTo>
                  <a:lnTo>
                    <a:pt x="211" y="1919"/>
                  </a:lnTo>
                  <a:lnTo>
                    <a:pt x="211" y="1963"/>
                  </a:lnTo>
                  <a:lnTo>
                    <a:pt x="211" y="2008"/>
                  </a:lnTo>
                  <a:lnTo>
                    <a:pt x="224" y="2061"/>
                  </a:lnTo>
                  <a:lnTo>
                    <a:pt x="238" y="2105"/>
                  </a:lnTo>
                  <a:lnTo>
                    <a:pt x="251" y="2149"/>
                  </a:lnTo>
                  <a:lnTo>
                    <a:pt x="282" y="2202"/>
                  </a:lnTo>
                  <a:lnTo>
                    <a:pt x="295" y="2246"/>
                  </a:lnTo>
                  <a:lnTo>
                    <a:pt x="295" y="2290"/>
                  </a:lnTo>
                  <a:lnTo>
                    <a:pt x="308" y="2343"/>
                  </a:lnTo>
                  <a:lnTo>
                    <a:pt x="308" y="2387"/>
                  </a:lnTo>
                  <a:lnTo>
                    <a:pt x="308" y="2431"/>
                  </a:lnTo>
                  <a:lnTo>
                    <a:pt x="339" y="2484"/>
                  </a:lnTo>
                  <a:lnTo>
                    <a:pt x="379" y="2528"/>
                  </a:lnTo>
                  <a:lnTo>
                    <a:pt x="410" y="2572"/>
                  </a:lnTo>
                  <a:lnTo>
                    <a:pt x="463" y="2599"/>
                  </a:lnTo>
                  <a:lnTo>
                    <a:pt x="507" y="2625"/>
                  </a:lnTo>
                  <a:lnTo>
                    <a:pt x="551" y="2656"/>
                  </a:lnTo>
                  <a:lnTo>
                    <a:pt x="604" y="2656"/>
                  </a:lnTo>
                  <a:lnTo>
                    <a:pt x="648" y="2656"/>
                  </a:lnTo>
                  <a:lnTo>
                    <a:pt x="692" y="2656"/>
                  </a:lnTo>
                  <a:lnTo>
                    <a:pt x="745" y="2656"/>
                  </a:lnTo>
                  <a:lnTo>
                    <a:pt x="789" y="2656"/>
                  </a:lnTo>
                  <a:lnTo>
                    <a:pt x="833" y="2656"/>
                  </a:lnTo>
                  <a:lnTo>
                    <a:pt x="886" y="2643"/>
                  </a:lnTo>
                  <a:lnTo>
                    <a:pt x="930" y="2625"/>
                  </a:lnTo>
                  <a:lnTo>
                    <a:pt x="974" y="2625"/>
                  </a:lnTo>
                  <a:lnTo>
                    <a:pt x="1027" y="2612"/>
                  </a:lnTo>
                  <a:lnTo>
                    <a:pt x="1071" y="2599"/>
                  </a:lnTo>
                  <a:lnTo>
                    <a:pt x="1115" y="2586"/>
                  </a:lnTo>
                  <a:lnTo>
                    <a:pt x="1168" y="2572"/>
                  </a:lnTo>
                  <a:lnTo>
                    <a:pt x="1212" y="2555"/>
                  </a:lnTo>
                  <a:lnTo>
                    <a:pt x="1256" y="2542"/>
                  </a:lnTo>
                  <a:lnTo>
                    <a:pt x="1310" y="2528"/>
                  </a:lnTo>
                  <a:lnTo>
                    <a:pt x="1354" y="2528"/>
                  </a:lnTo>
                  <a:lnTo>
                    <a:pt x="1398" y="2515"/>
                  </a:lnTo>
                  <a:lnTo>
                    <a:pt x="1451" y="2502"/>
                  </a:lnTo>
                  <a:lnTo>
                    <a:pt x="1495" y="2502"/>
                  </a:lnTo>
                  <a:lnTo>
                    <a:pt x="1539" y="2502"/>
                  </a:lnTo>
                  <a:lnTo>
                    <a:pt x="1592" y="2515"/>
                  </a:lnTo>
                  <a:lnTo>
                    <a:pt x="1637" y="2528"/>
                  </a:lnTo>
                  <a:lnTo>
                    <a:pt x="1681" y="2572"/>
                  </a:lnTo>
                  <a:lnTo>
                    <a:pt x="1734" y="2599"/>
                  </a:lnTo>
                  <a:lnTo>
                    <a:pt x="1778" y="2599"/>
                  </a:lnTo>
                  <a:lnTo>
                    <a:pt x="1822" y="2599"/>
                  </a:lnTo>
                  <a:lnTo>
                    <a:pt x="1875" y="2612"/>
                  </a:lnTo>
                  <a:lnTo>
                    <a:pt x="1919" y="2612"/>
                  </a:lnTo>
                  <a:lnTo>
                    <a:pt x="1963" y="2625"/>
                  </a:lnTo>
                  <a:lnTo>
                    <a:pt x="2016" y="2643"/>
                  </a:lnTo>
                  <a:lnTo>
                    <a:pt x="2060" y="2656"/>
                  </a:lnTo>
                  <a:lnTo>
                    <a:pt x="2104" y="2656"/>
                  </a:lnTo>
                  <a:lnTo>
                    <a:pt x="2157" y="2669"/>
                  </a:lnTo>
                  <a:lnTo>
                    <a:pt x="2201" y="2669"/>
                  </a:lnTo>
                  <a:lnTo>
                    <a:pt x="2245" y="2656"/>
                  </a:lnTo>
                  <a:lnTo>
                    <a:pt x="2285" y="2612"/>
                  </a:lnTo>
                  <a:lnTo>
                    <a:pt x="2329" y="2572"/>
                  </a:lnTo>
                  <a:lnTo>
                    <a:pt x="2342" y="2528"/>
                  </a:lnTo>
                  <a:lnTo>
                    <a:pt x="2369" y="2484"/>
                  </a:lnTo>
                  <a:lnTo>
                    <a:pt x="2413" y="2458"/>
                  </a:lnTo>
                  <a:lnTo>
                    <a:pt x="2439" y="2414"/>
                  </a:lnTo>
                  <a:lnTo>
                    <a:pt x="2483" y="2374"/>
                  </a:lnTo>
                  <a:lnTo>
                    <a:pt x="2510" y="2330"/>
                  </a:lnTo>
                  <a:lnTo>
                    <a:pt x="2541" y="2273"/>
                  </a:lnTo>
                  <a:lnTo>
                    <a:pt x="2554" y="2220"/>
                  </a:lnTo>
                  <a:lnTo>
                    <a:pt x="2554" y="2175"/>
                  </a:lnTo>
                  <a:lnTo>
                    <a:pt x="2554" y="2131"/>
                  </a:lnTo>
                  <a:lnTo>
                    <a:pt x="2554" y="2078"/>
                  </a:lnTo>
                  <a:lnTo>
                    <a:pt x="2554" y="2034"/>
                  </a:lnTo>
                  <a:lnTo>
                    <a:pt x="2541" y="1989"/>
                  </a:lnTo>
                  <a:lnTo>
                    <a:pt x="2510" y="1936"/>
                  </a:lnTo>
                  <a:lnTo>
                    <a:pt x="2483" y="1892"/>
                  </a:lnTo>
                  <a:lnTo>
                    <a:pt x="2470" y="1848"/>
                  </a:lnTo>
                  <a:lnTo>
                    <a:pt x="2439" y="1795"/>
                  </a:lnTo>
                  <a:lnTo>
                    <a:pt x="2426" y="1751"/>
                  </a:lnTo>
                  <a:lnTo>
                    <a:pt x="2413" y="1707"/>
                  </a:lnTo>
                  <a:lnTo>
                    <a:pt x="2399" y="1654"/>
                  </a:lnTo>
                  <a:lnTo>
                    <a:pt x="2386" y="1610"/>
                  </a:lnTo>
                  <a:lnTo>
                    <a:pt x="2386" y="1566"/>
                  </a:lnTo>
                  <a:lnTo>
                    <a:pt x="2369" y="1513"/>
                  </a:lnTo>
                  <a:lnTo>
                    <a:pt x="2355" y="1469"/>
                  </a:lnTo>
                  <a:lnTo>
                    <a:pt x="2342" y="1425"/>
                  </a:lnTo>
                  <a:lnTo>
                    <a:pt x="2342" y="1372"/>
                  </a:lnTo>
                  <a:lnTo>
                    <a:pt x="2329" y="1328"/>
                  </a:lnTo>
                  <a:lnTo>
                    <a:pt x="2329" y="1284"/>
                  </a:lnTo>
                  <a:lnTo>
                    <a:pt x="2329" y="1231"/>
                  </a:lnTo>
                  <a:lnTo>
                    <a:pt x="2329" y="1187"/>
                  </a:lnTo>
                  <a:lnTo>
                    <a:pt x="2329" y="1143"/>
                  </a:lnTo>
                  <a:lnTo>
                    <a:pt x="2329" y="1090"/>
                  </a:lnTo>
                  <a:lnTo>
                    <a:pt x="2329" y="1046"/>
                  </a:lnTo>
                  <a:lnTo>
                    <a:pt x="2329" y="1002"/>
                  </a:lnTo>
                  <a:lnTo>
                    <a:pt x="2329" y="949"/>
                  </a:lnTo>
                  <a:lnTo>
                    <a:pt x="2329" y="904"/>
                  </a:lnTo>
                  <a:lnTo>
                    <a:pt x="2342" y="860"/>
                  </a:lnTo>
                  <a:lnTo>
                    <a:pt x="2342" y="807"/>
                  </a:lnTo>
                  <a:lnTo>
                    <a:pt x="2342" y="763"/>
                  </a:lnTo>
                  <a:lnTo>
                    <a:pt x="2342" y="719"/>
                  </a:lnTo>
                  <a:lnTo>
                    <a:pt x="2342" y="665"/>
                  </a:lnTo>
                  <a:lnTo>
                    <a:pt x="2342" y="621"/>
                  </a:lnTo>
                  <a:lnTo>
                    <a:pt x="2342" y="577"/>
                  </a:lnTo>
                  <a:lnTo>
                    <a:pt x="2342" y="524"/>
                  </a:lnTo>
                  <a:lnTo>
                    <a:pt x="2342" y="480"/>
                  </a:lnTo>
                  <a:lnTo>
                    <a:pt x="2342" y="436"/>
                  </a:lnTo>
                  <a:lnTo>
                    <a:pt x="2342" y="383"/>
                  </a:lnTo>
                  <a:lnTo>
                    <a:pt x="2342" y="339"/>
                  </a:lnTo>
                  <a:lnTo>
                    <a:pt x="2342" y="295"/>
                  </a:lnTo>
                  <a:lnTo>
                    <a:pt x="2342" y="242"/>
                  </a:lnTo>
                  <a:lnTo>
                    <a:pt x="2342" y="198"/>
                  </a:lnTo>
                  <a:lnTo>
                    <a:pt x="2342" y="154"/>
                  </a:lnTo>
                  <a:lnTo>
                    <a:pt x="2342" y="101"/>
                  </a:lnTo>
                  <a:lnTo>
                    <a:pt x="2298" y="57"/>
                  </a:lnTo>
                  <a:lnTo>
                    <a:pt x="2245" y="30"/>
                  </a:lnTo>
                  <a:lnTo>
                    <a:pt x="2201" y="0"/>
                  </a:lnTo>
                  <a:lnTo>
                    <a:pt x="2157" y="0"/>
                  </a:lnTo>
                  <a:lnTo>
                    <a:pt x="2117" y="44"/>
                  </a:lnTo>
                  <a:lnTo>
                    <a:pt x="2073" y="5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2182680" y="4567320"/>
              <a:ext cx="848160" cy="55800"/>
            </a:xfrm>
            <a:custGeom>
              <a:avLst/>
              <a:gdLst/>
              <a:ahLst/>
              <a:rect l="0" t="0" r="r" b="b"/>
              <a:pathLst>
                <a:path fill="none" w="2356" h="155">
                  <a:moveTo>
                    <a:pt x="0" y="0"/>
                  </a:moveTo>
                  <a:lnTo>
                    <a:pt x="52" y="0"/>
                  </a:lnTo>
                  <a:lnTo>
                    <a:pt x="97" y="0"/>
                  </a:lnTo>
                  <a:lnTo>
                    <a:pt x="141" y="13"/>
                  </a:lnTo>
                  <a:lnTo>
                    <a:pt x="194" y="13"/>
                  </a:lnTo>
                  <a:lnTo>
                    <a:pt x="238" y="13"/>
                  </a:lnTo>
                  <a:lnTo>
                    <a:pt x="282" y="0"/>
                  </a:lnTo>
                  <a:lnTo>
                    <a:pt x="335" y="0"/>
                  </a:lnTo>
                  <a:lnTo>
                    <a:pt x="379" y="13"/>
                  </a:lnTo>
                  <a:lnTo>
                    <a:pt x="423" y="26"/>
                  </a:lnTo>
                  <a:lnTo>
                    <a:pt x="476" y="57"/>
                  </a:lnTo>
                  <a:lnTo>
                    <a:pt x="520" y="84"/>
                  </a:lnTo>
                  <a:lnTo>
                    <a:pt x="564" y="98"/>
                  </a:lnTo>
                  <a:lnTo>
                    <a:pt x="618" y="128"/>
                  </a:lnTo>
                  <a:lnTo>
                    <a:pt x="662" y="128"/>
                  </a:lnTo>
                  <a:lnTo>
                    <a:pt x="706" y="142"/>
                  </a:lnTo>
                  <a:lnTo>
                    <a:pt x="759" y="142"/>
                  </a:lnTo>
                  <a:lnTo>
                    <a:pt x="803" y="142"/>
                  </a:lnTo>
                  <a:lnTo>
                    <a:pt x="847" y="142"/>
                  </a:lnTo>
                  <a:lnTo>
                    <a:pt x="900" y="142"/>
                  </a:lnTo>
                  <a:lnTo>
                    <a:pt x="944" y="142"/>
                  </a:lnTo>
                  <a:lnTo>
                    <a:pt x="988" y="142"/>
                  </a:lnTo>
                  <a:lnTo>
                    <a:pt x="1041" y="142"/>
                  </a:lnTo>
                  <a:lnTo>
                    <a:pt x="1085" y="128"/>
                  </a:lnTo>
                  <a:lnTo>
                    <a:pt x="1129" y="128"/>
                  </a:lnTo>
                  <a:lnTo>
                    <a:pt x="1182" y="115"/>
                  </a:lnTo>
                  <a:lnTo>
                    <a:pt x="1226" y="115"/>
                  </a:lnTo>
                  <a:lnTo>
                    <a:pt x="1271" y="115"/>
                  </a:lnTo>
                  <a:lnTo>
                    <a:pt x="1323" y="115"/>
                  </a:lnTo>
                  <a:lnTo>
                    <a:pt x="1368" y="115"/>
                  </a:lnTo>
                  <a:lnTo>
                    <a:pt x="1412" y="115"/>
                  </a:lnTo>
                  <a:lnTo>
                    <a:pt x="1465" y="115"/>
                  </a:lnTo>
                  <a:lnTo>
                    <a:pt x="1509" y="115"/>
                  </a:lnTo>
                  <a:lnTo>
                    <a:pt x="1637" y="128"/>
                  </a:lnTo>
                  <a:lnTo>
                    <a:pt x="1694" y="128"/>
                  </a:lnTo>
                  <a:lnTo>
                    <a:pt x="1747" y="142"/>
                  </a:lnTo>
                  <a:lnTo>
                    <a:pt x="1792" y="155"/>
                  </a:lnTo>
                  <a:lnTo>
                    <a:pt x="1836" y="155"/>
                  </a:lnTo>
                  <a:lnTo>
                    <a:pt x="1889" y="155"/>
                  </a:lnTo>
                  <a:lnTo>
                    <a:pt x="1933" y="155"/>
                  </a:lnTo>
                  <a:lnTo>
                    <a:pt x="1977" y="155"/>
                  </a:lnTo>
                  <a:lnTo>
                    <a:pt x="2030" y="142"/>
                  </a:lnTo>
                  <a:lnTo>
                    <a:pt x="2074" y="128"/>
                  </a:lnTo>
                  <a:lnTo>
                    <a:pt x="2118" y="115"/>
                  </a:lnTo>
                  <a:lnTo>
                    <a:pt x="2171" y="98"/>
                  </a:lnTo>
                  <a:lnTo>
                    <a:pt x="2215" y="98"/>
                  </a:lnTo>
                  <a:lnTo>
                    <a:pt x="2259" y="84"/>
                  </a:lnTo>
                  <a:lnTo>
                    <a:pt x="2312" y="84"/>
                  </a:lnTo>
                  <a:lnTo>
                    <a:pt x="2356" y="57"/>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324" name=""/>
            <p:cNvSpPr/>
            <p:nvPr/>
          </p:nvSpPr>
          <p:spPr>
            <a:xfrm>
              <a:off x="1100160" y="4699080"/>
              <a:ext cx="1930680" cy="1967400"/>
            </a:xfrm>
            <a:custGeom>
              <a:avLst/>
              <a:gdLst/>
              <a:ahLst/>
              <a:rect l="0" t="0" r="r" b="b"/>
              <a:pathLst>
                <a:path fill="none" w="5363" h="5465">
                  <a:moveTo>
                    <a:pt x="1891" y="101"/>
                  </a:moveTo>
                  <a:lnTo>
                    <a:pt x="1847" y="141"/>
                  </a:lnTo>
                  <a:lnTo>
                    <a:pt x="1807" y="185"/>
                  </a:lnTo>
                  <a:lnTo>
                    <a:pt x="1763" y="224"/>
                  </a:lnTo>
                  <a:lnTo>
                    <a:pt x="1719" y="268"/>
                  </a:lnTo>
                  <a:lnTo>
                    <a:pt x="1693" y="313"/>
                  </a:lnTo>
                  <a:lnTo>
                    <a:pt x="1680" y="366"/>
                  </a:lnTo>
                  <a:lnTo>
                    <a:pt x="1666" y="410"/>
                  </a:lnTo>
                  <a:lnTo>
                    <a:pt x="1649" y="454"/>
                  </a:lnTo>
                  <a:lnTo>
                    <a:pt x="1636" y="507"/>
                  </a:lnTo>
                  <a:lnTo>
                    <a:pt x="1609" y="551"/>
                  </a:lnTo>
                  <a:lnTo>
                    <a:pt x="1596" y="595"/>
                  </a:lnTo>
                  <a:lnTo>
                    <a:pt x="1565" y="648"/>
                  </a:lnTo>
                  <a:lnTo>
                    <a:pt x="1552" y="692"/>
                  </a:lnTo>
                  <a:lnTo>
                    <a:pt x="1552" y="736"/>
                  </a:lnTo>
                  <a:lnTo>
                    <a:pt x="1525" y="789"/>
                  </a:lnTo>
                  <a:lnTo>
                    <a:pt x="1508" y="833"/>
                  </a:lnTo>
                  <a:lnTo>
                    <a:pt x="1468" y="877"/>
                  </a:lnTo>
                  <a:lnTo>
                    <a:pt x="1424" y="903"/>
                  </a:lnTo>
                  <a:lnTo>
                    <a:pt x="1367" y="948"/>
                  </a:lnTo>
                  <a:lnTo>
                    <a:pt x="1314" y="974"/>
                  </a:lnTo>
                  <a:lnTo>
                    <a:pt x="1270" y="1001"/>
                  </a:lnTo>
                  <a:lnTo>
                    <a:pt x="1225" y="1045"/>
                  </a:lnTo>
                  <a:lnTo>
                    <a:pt x="1172" y="1089"/>
                  </a:lnTo>
                  <a:lnTo>
                    <a:pt x="1128" y="1128"/>
                  </a:lnTo>
                  <a:lnTo>
                    <a:pt x="1084" y="1172"/>
                  </a:lnTo>
                  <a:lnTo>
                    <a:pt x="1045" y="1230"/>
                  </a:lnTo>
                  <a:lnTo>
                    <a:pt x="1001" y="1270"/>
                  </a:lnTo>
                  <a:lnTo>
                    <a:pt x="987" y="1385"/>
                  </a:lnTo>
                  <a:lnTo>
                    <a:pt x="961" y="1482"/>
                  </a:lnTo>
                  <a:lnTo>
                    <a:pt x="930" y="1526"/>
                  </a:lnTo>
                  <a:lnTo>
                    <a:pt x="890" y="1584"/>
                  </a:lnTo>
                  <a:lnTo>
                    <a:pt x="846" y="1637"/>
                  </a:lnTo>
                  <a:lnTo>
                    <a:pt x="820" y="1681"/>
                  </a:lnTo>
                  <a:lnTo>
                    <a:pt x="789" y="1725"/>
                  </a:lnTo>
                  <a:lnTo>
                    <a:pt x="749" y="1778"/>
                  </a:lnTo>
                  <a:lnTo>
                    <a:pt x="732" y="1822"/>
                  </a:lnTo>
                  <a:lnTo>
                    <a:pt x="718" y="1866"/>
                  </a:lnTo>
                  <a:lnTo>
                    <a:pt x="705" y="1963"/>
                  </a:lnTo>
                  <a:lnTo>
                    <a:pt x="692" y="2007"/>
                  </a:lnTo>
                  <a:lnTo>
                    <a:pt x="661" y="2148"/>
                  </a:lnTo>
                  <a:lnTo>
                    <a:pt x="648" y="2289"/>
                  </a:lnTo>
                  <a:lnTo>
                    <a:pt x="635" y="2342"/>
                  </a:lnTo>
                  <a:lnTo>
                    <a:pt x="621" y="2386"/>
                  </a:lnTo>
                  <a:lnTo>
                    <a:pt x="608" y="2430"/>
                  </a:lnTo>
                  <a:lnTo>
                    <a:pt x="590" y="2483"/>
                  </a:lnTo>
                  <a:lnTo>
                    <a:pt x="590" y="2527"/>
                  </a:lnTo>
                  <a:lnTo>
                    <a:pt x="577" y="2571"/>
                  </a:lnTo>
                  <a:lnTo>
                    <a:pt x="564" y="2624"/>
                  </a:lnTo>
                  <a:lnTo>
                    <a:pt x="564" y="2668"/>
                  </a:lnTo>
                  <a:lnTo>
                    <a:pt x="551" y="2712"/>
                  </a:lnTo>
                  <a:lnTo>
                    <a:pt x="551" y="2823"/>
                  </a:lnTo>
                  <a:lnTo>
                    <a:pt x="537" y="2867"/>
                  </a:lnTo>
                  <a:lnTo>
                    <a:pt x="537" y="2977"/>
                  </a:lnTo>
                  <a:lnTo>
                    <a:pt x="537" y="3105"/>
                  </a:lnTo>
                  <a:lnTo>
                    <a:pt x="520" y="3220"/>
                  </a:lnTo>
                  <a:lnTo>
                    <a:pt x="520" y="3317"/>
                  </a:lnTo>
                  <a:lnTo>
                    <a:pt x="507" y="3361"/>
                  </a:lnTo>
                  <a:lnTo>
                    <a:pt x="493" y="3418"/>
                  </a:lnTo>
                  <a:lnTo>
                    <a:pt x="493" y="3515"/>
                  </a:lnTo>
                  <a:lnTo>
                    <a:pt x="467" y="3559"/>
                  </a:lnTo>
                  <a:lnTo>
                    <a:pt x="436" y="3612"/>
                  </a:lnTo>
                  <a:lnTo>
                    <a:pt x="423" y="3656"/>
                  </a:lnTo>
                  <a:lnTo>
                    <a:pt x="410" y="3753"/>
                  </a:lnTo>
                  <a:lnTo>
                    <a:pt x="396" y="3797"/>
                  </a:lnTo>
                  <a:lnTo>
                    <a:pt x="366" y="3841"/>
                  </a:lnTo>
                  <a:lnTo>
                    <a:pt x="366" y="3938"/>
                  </a:lnTo>
                  <a:lnTo>
                    <a:pt x="352" y="3982"/>
                  </a:lnTo>
                  <a:lnTo>
                    <a:pt x="326" y="4107"/>
                  </a:lnTo>
                  <a:lnTo>
                    <a:pt x="308" y="4222"/>
                  </a:lnTo>
                  <a:lnTo>
                    <a:pt x="282" y="4266"/>
                  </a:lnTo>
                  <a:lnTo>
                    <a:pt x="282" y="4363"/>
                  </a:lnTo>
                  <a:lnTo>
                    <a:pt x="255" y="4491"/>
                  </a:lnTo>
                  <a:lnTo>
                    <a:pt x="238" y="4588"/>
                  </a:lnTo>
                  <a:lnTo>
                    <a:pt x="224" y="4702"/>
                  </a:lnTo>
                  <a:lnTo>
                    <a:pt x="198" y="4760"/>
                  </a:lnTo>
                  <a:lnTo>
                    <a:pt x="167" y="4813"/>
                  </a:lnTo>
                  <a:lnTo>
                    <a:pt x="141" y="4857"/>
                  </a:lnTo>
                  <a:lnTo>
                    <a:pt x="114" y="4901"/>
                  </a:lnTo>
                  <a:lnTo>
                    <a:pt x="83" y="4954"/>
                  </a:lnTo>
                  <a:lnTo>
                    <a:pt x="70" y="4998"/>
                  </a:lnTo>
                  <a:lnTo>
                    <a:pt x="57" y="5042"/>
                  </a:lnTo>
                  <a:lnTo>
                    <a:pt x="26" y="5095"/>
                  </a:lnTo>
                  <a:lnTo>
                    <a:pt x="13" y="5139"/>
                  </a:lnTo>
                  <a:lnTo>
                    <a:pt x="0" y="5183"/>
                  </a:lnTo>
                  <a:lnTo>
                    <a:pt x="0" y="5236"/>
                  </a:lnTo>
                  <a:lnTo>
                    <a:pt x="0" y="5280"/>
                  </a:lnTo>
                  <a:lnTo>
                    <a:pt x="13" y="5324"/>
                  </a:lnTo>
                  <a:lnTo>
                    <a:pt x="44" y="5377"/>
                  </a:lnTo>
                  <a:lnTo>
                    <a:pt x="97" y="5408"/>
                  </a:lnTo>
                  <a:lnTo>
                    <a:pt x="141" y="5421"/>
                  </a:lnTo>
                  <a:lnTo>
                    <a:pt x="185" y="5421"/>
                  </a:lnTo>
                  <a:lnTo>
                    <a:pt x="238" y="5434"/>
                  </a:lnTo>
                  <a:lnTo>
                    <a:pt x="282" y="5448"/>
                  </a:lnTo>
                  <a:lnTo>
                    <a:pt x="326" y="5448"/>
                  </a:lnTo>
                  <a:lnTo>
                    <a:pt x="379" y="5465"/>
                  </a:lnTo>
                  <a:lnTo>
                    <a:pt x="423" y="5465"/>
                  </a:lnTo>
                  <a:lnTo>
                    <a:pt x="467" y="5465"/>
                  </a:lnTo>
                  <a:lnTo>
                    <a:pt x="520" y="5465"/>
                  </a:lnTo>
                  <a:lnTo>
                    <a:pt x="564" y="5465"/>
                  </a:lnTo>
                  <a:lnTo>
                    <a:pt x="608" y="5465"/>
                  </a:lnTo>
                  <a:lnTo>
                    <a:pt x="661" y="5465"/>
                  </a:lnTo>
                  <a:lnTo>
                    <a:pt x="705" y="5465"/>
                  </a:lnTo>
                  <a:lnTo>
                    <a:pt x="749" y="5465"/>
                  </a:lnTo>
                  <a:lnTo>
                    <a:pt x="802" y="5465"/>
                  </a:lnTo>
                  <a:lnTo>
                    <a:pt x="846" y="5465"/>
                  </a:lnTo>
                  <a:lnTo>
                    <a:pt x="890" y="5465"/>
                  </a:lnTo>
                  <a:lnTo>
                    <a:pt x="943" y="5448"/>
                  </a:lnTo>
                  <a:lnTo>
                    <a:pt x="987" y="5434"/>
                  </a:lnTo>
                  <a:lnTo>
                    <a:pt x="1031" y="5434"/>
                  </a:lnTo>
                  <a:lnTo>
                    <a:pt x="1128" y="5434"/>
                  </a:lnTo>
                  <a:lnTo>
                    <a:pt x="1172" y="5421"/>
                  </a:lnTo>
                  <a:lnTo>
                    <a:pt x="1225" y="5421"/>
                  </a:lnTo>
                  <a:lnTo>
                    <a:pt x="1270" y="5421"/>
                  </a:lnTo>
                  <a:lnTo>
                    <a:pt x="1314" y="5421"/>
                  </a:lnTo>
                  <a:lnTo>
                    <a:pt x="1367" y="5421"/>
                  </a:lnTo>
                  <a:lnTo>
                    <a:pt x="1411" y="5408"/>
                  </a:lnTo>
                  <a:lnTo>
                    <a:pt x="1455" y="5408"/>
                  </a:lnTo>
                  <a:lnTo>
                    <a:pt x="1508" y="5395"/>
                  </a:lnTo>
                  <a:lnTo>
                    <a:pt x="1552" y="5395"/>
                  </a:lnTo>
                  <a:lnTo>
                    <a:pt x="1596" y="5395"/>
                  </a:lnTo>
                  <a:lnTo>
                    <a:pt x="1649" y="5377"/>
                  </a:lnTo>
                  <a:lnTo>
                    <a:pt x="1693" y="5377"/>
                  </a:lnTo>
                  <a:lnTo>
                    <a:pt x="1737" y="5377"/>
                  </a:lnTo>
                  <a:lnTo>
                    <a:pt x="1790" y="5337"/>
                  </a:lnTo>
                  <a:lnTo>
                    <a:pt x="1834" y="5306"/>
                  </a:lnTo>
                  <a:lnTo>
                    <a:pt x="1878" y="5293"/>
                  </a:lnTo>
                  <a:lnTo>
                    <a:pt x="1931" y="5267"/>
                  </a:lnTo>
                  <a:lnTo>
                    <a:pt x="1975" y="5253"/>
                  </a:lnTo>
                  <a:lnTo>
                    <a:pt x="2090" y="5236"/>
                  </a:lnTo>
                  <a:lnTo>
                    <a:pt x="2143" y="5209"/>
                  </a:lnTo>
                  <a:lnTo>
                    <a:pt x="2187" y="5196"/>
                  </a:lnTo>
                  <a:lnTo>
                    <a:pt x="2231" y="5165"/>
                  </a:lnTo>
                  <a:lnTo>
                    <a:pt x="2284" y="5139"/>
                  </a:lnTo>
                  <a:lnTo>
                    <a:pt x="2328" y="5126"/>
                  </a:lnTo>
                  <a:lnTo>
                    <a:pt x="2425" y="5112"/>
                  </a:lnTo>
                  <a:lnTo>
                    <a:pt x="2469" y="5095"/>
                  </a:lnTo>
                  <a:lnTo>
                    <a:pt x="2513" y="5068"/>
                  </a:lnTo>
                  <a:lnTo>
                    <a:pt x="2566" y="5042"/>
                  </a:lnTo>
                  <a:lnTo>
                    <a:pt x="2610" y="5024"/>
                  </a:lnTo>
                  <a:lnTo>
                    <a:pt x="2654" y="4998"/>
                  </a:lnTo>
                  <a:lnTo>
                    <a:pt x="2708" y="4971"/>
                  </a:lnTo>
                  <a:lnTo>
                    <a:pt x="2752" y="4954"/>
                  </a:lnTo>
                  <a:lnTo>
                    <a:pt x="2796" y="4940"/>
                  </a:lnTo>
                  <a:lnTo>
                    <a:pt x="2849" y="4901"/>
                  </a:lnTo>
                  <a:lnTo>
                    <a:pt x="2964" y="4870"/>
                  </a:lnTo>
                  <a:lnTo>
                    <a:pt x="3008" y="4830"/>
                  </a:lnTo>
                  <a:lnTo>
                    <a:pt x="3061" y="4799"/>
                  </a:lnTo>
                  <a:lnTo>
                    <a:pt x="3105" y="4786"/>
                  </a:lnTo>
                  <a:lnTo>
                    <a:pt x="3149" y="4760"/>
                  </a:lnTo>
                  <a:lnTo>
                    <a:pt x="3259" y="4742"/>
                  </a:lnTo>
                  <a:lnTo>
                    <a:pt x="3303" y="4715"/>
                  </a:lnTo>
                  <a:lnTo>
                    <a:pt x="3361" y="4689"/>
                  </a:lnTo>
                  <a:lnTo>
                    <a:pt x="3502" y="4658"/>
                  </a:lnTo>
                  <a:lnTo>
                    <a:pt x="3612" y="4632"/>
                  </a:lnTo>
                  <a:lnTo>
                    <a:pt x="3656" y="4601"/>
                  </a:lnTo>
                  <a:lnTo>
                    <a:pt x="3713" y="4561"/>
                  </a:lnTo>
                  <a:lnTo>
                    <a:pt x="3740" y="4517"/>
                  </a:lnTo>
                  <a:lnTo>
                    <a:pt x="3868" y="4477"/>
                  </a:lnTo>
                  <a:lnTo>
                    <a:pt x="3965" y="4460"/>
                  </a:lnTo>
                  <a:lnTo>
                    <a:pt x="4009" y="4420"/>
                  </a:lnTo>
                  <a:lnTo>
                    <a:pt x="4066" y="4376"/>
                  </a:lnTo>
                  <a:lnTo>
                    <a:pt x="4119" y="4336"/>
                  </a:lnTo>
                  <a:lnTo>
                    <a:pt x="4163" y="4292"/>
                  </a:lnTo>
                  <a:lnTo>
                    <a:pt x="4207" y="4266"/>
                  </a:lnTo>
                  <a:lnTo>
                    <a:pt x="4234" y="4222"/>
                  </a:lnTo>
                  <a:lnTo>
                    <a:pt x="4278" y="4195"/>
                  </a:lnTo>
                  <a:lnTo>
                    <a:pt x="4318" y="4151"/>
                  </a:lnTo>
                  <a:lnTo>
                    <a:pt x="4362" y="4125"/>
                  </a:lnTo>
                  <a:lnTo>
                    <a:pt x="4419" y="4093"/>
                  </a:lnTo>
                  <a:lnTo>
                    <a:pt x="4472" y="4053"/>
                  </a:lnTo>
                  <a:lnTo>
                    <a:pt x="4516" y="4009"/>
                  </a:lnTo>
                  <a:lnTo>
                    <a:pt x="4560" y="3982"/>
                  </a:lnTo>
                  <a:lnTo>
                    <a:pt x="4600" y="3938"/>
                  </a:lnTo>
                  <a:lnTo>
                    <a:pt x="4644" y="3912"/>
                  </a:lnTo>
                  <a:lnTo>
                    <a:pt x="4684" y="3868"/>
                  </a:lnTo>
                  <a:lnTo>
                    <a:pt x="4728" y="3841"/>
                  </a:lnTo>
                  <a:lnTo>
                    <a:pt x="4754" y="3797"/>
                  </a:lnTo>
                  <a:lnTo>
                    <a:pt x="4798" y="3753"/>
                  </a:lnTo>
                  <a:lnTo>
                    <a:pt x="4825" y="3700"/>
                  </a:lnTo>
                  <a:lnTo>
                    <a:pt x="4825" y="3656"/>
                  </a:lnTo>
                  <a:lnTo>
                    <a:pt x="4825" y="3612"/>
                  </a:lnTo>
                  <a:lnTo>
                    <a:pt x="4825" y="3559"/>
                  </a:lnTo>
                  <a:lnTo>
                    <a:pt x="4825" y="3515"/>
                  </a:lnTo>
                  <a:lnTo>
                    <a:pt x="4825" y="3471"/>
                  </a:lnTo>
                  <a:lnTo>
                    <a:pt x="4842" y="3418"/>
                  </a:lnTo>
                  <a:lnTo>
                    <a:pt x="4882" y="3374"/>
                  </a:lnTo>
                  <a:lnTo>
                    <a:pt x="4913" y="3330"/>
                  </a:lnTo>
                  <a:lnTo>
                    <a:pt x="4953" y="3277"/>
                  </a:lnTo>
                  <a:lnTo>
                    <a:pt x="4966" y="3233"/>
                  </a:lnTo>
                  <a:lnTo>
                    <a:pt x="4966" y="3189"/>
                  </a:lnTo>
                  <a:lnTo>
                    <a:pt x="4966" y="3136"/>
                  </a:lnTo>
                  <a:lnTo>
                    <a:pt x="4966" y="3092"/>
                  </a:lnTo>
                  <a:lnTo>
                    <a:pt x="4966" y="3048"/>
                  </a:lnTo>
                  <a:lnTo>
                    <a:pt x="4966" y="2995"/>
                  </a:lnTo>
                  <a:lnTo>
                    <a:pt x="4966" y="2951"/>
                  </a:lnTo>
                  <a:lnTo>
                    <a:pt x="4966" y="2907"/>
                  </a:lnTo>
                  <a:lnTo>
                    <a:pt x="4953" y="2854"/>
                  </a:lnTo>
                  <a:lnTo>
                    <a:pt x="4953" y="2809"/>
                  </a:lnTo>
                  <a:lnTo>
                    <a:pt x="4939" y="2765"/>
                  </a:lnTo>
                  <a:lnTo>
                    <a:pt x="4939" y="2712"/>
                  </a:lnTo>
                  <a:lnTo>
                    <a:pt x="4939" y="2668"/>
                  </a:lnTo>
                  <a:lnTo>
                    <a:pt x="4939" y="2624"/>
                  </a:lnTo>
                  <a:lnTo>
                    <a:pt x="4913" y="2571"/>
                  </a:lnTo>
                  <a:lnTo>
                    <a:pt x="4895" y="2527"/>
                  </a:lnTo>
                  <a:lnTo>
                    <a:pt x="4882" y="2483"/>
                  </a:lnTo>
                  <a:lnTo>
                    <a:pt x="4856" y="2430"/>
                  </a:lnTo>
                  <a:lnTo>
                    <a:pt x="4842" y="2386"/>
                  </a:lnTo>
                  <a:lnTo>
                    <a:pt x="4842" y="2342"/>
                  </a:lnTo>
                  <a:lnTo>
                    <a:pt x="4825" y="2289"/>
                  </a:lnTo>
                  <a:lnTo>
                    <a:pt x="4812" y="2245"/>
                  </a:lnTo>
                  <a:lnTo>
                    <a:pt x="4812" y="2201"/>
                  </a:lnTo>
                  <a:lnTo>
                    <a:pt x="4785" y="2148"/>
                  </a:lnTo>
                  <a:lnTo>
                    <a:pt x="4785" y="2104"/>
                  </a:lnTo>
                  <a:lnTo>
                    <a:pt x="4785" y="2060"/>
                  </a:lnTo>
                  <a:lnTo>
                    <a:pt x="4785" y="2007"/>
                  </a:lnTo>
                  <a:lnTo>
                    <a:pt x="4785" y="1963"/>
                  </a:lnTo>
                  <a:lnTo>
                    <a:pt x="4785" y="1919"/>
                  </a:lnTo>
                  <a:lnTo>
                    <a:pt x="4785" y="1866"/>
                  </a:lnTo>
                  <a:lnTo>
                    <a:pt x="4785" y="1822"/>
                  </a:lnTo>
                  <a:lnTo>
                    <a:pt x="4785" y="1778"/>
                  </a:lnTo>
                  <a:lnTo>
                    <a:pt x="4754" y="1725"/>
                  </a:lnTo>
                  <a:lnTo>
                    <a:pt x="4741" y="1681"/>
                  </a:lnTo>
                  <a:lnTo>
                    <a:pt x="4741" y="1637"/>
                  </a:lnTo>
                  <a:lnTo>
                    <a:pt x="4741" y="1584"/>
                  </a:lnTo>
                  <a:lnTo>
                    <a:pt x="4741" y="1539"/>
                  </a:lnTo>
                  <a:lnTo>
                    <a:pt x="4754" y="1495"/>
                  </a:lnTo>
                  <a:lnTo>
                    <a:pt x="4772" y="1442"/>
                  </a:lnTo>
                  <a:lnTo>
                    <a:pt x="4798" y="1398"/>
                  </a:lnTo>
                  <a:lnTo>
                    <a:pt x="4825" y="1353"/>
                  </a:lnTo>
                  <a:lnTo>
                    <a:pt x="4842" y="1300"/>
                  </a:lnTo>
                  <a:lnTo>
                    <a:pt x="4825" y="1256"/>
                  </a:lnTo>
                  <a:lnTo>
                    <a:pt x="4812" y="1212"/>
                  </a:lnTo>
                  <a:lnTo>
                    <a:pt x="4785" y="1159"/>
                  </a:lnTo>
                  <a:lnTo>
                    <a:pt x="4772" y="1115"/>
                  </a:lnTo>
                  <a:lnTo>
                    <a:pt x="4772" y="1071"/>
                  </a:lnTo>
                  <a:lnTo>
                    <a:pt x="4772" y="1018"/>
                  </a:lnTo>
                  <a:lnTo>
                    <a:pt x="4772" y="974"/>
                  </a:lnTo>
                  <a:lnTo>
                    <a:pt x="4785" y="930"/>
                  </a:lnTo>
                  <a:lnTo>
                    <a:pt x="4798" y="877"/>
                  </a:lnTo>
                  <a:lnTo>
                    <a:pt x="4812" y="833"/>
                  </a:lnTo>
                  <a:lnTo>
                    <a:pt x="4842" y="789"/>
                  </a:lnTo>
                  <a:lnTo>
                    <a:pt x="4882" y="736"/>
                  </a:lnTo>
                  <a:lnTo>
                    <a:pt x="4882" y="692"/>
                  </a:lnTo>
                  <a:lnTo>
                    <a:pt x="4882" y="648"/>
                  </a:lnTo>
                  <a:lnTo>
                    <a:pt x="4895" y="595"/>
                  </a:lnTo>
                  <a:lnTo>
                    <a:pt x="4895" y="551"/>
                  </a:lnTo>
                  <a:lnTo>
                    <a:pt x="4926" y="507"/>
                  </a:lnTo>
                  <a:lnTo>
                    <a:pt x="4953" y="454"/>
                  </a:lnTo>
                  <a:lnTo>
                    <a:pt x="4983" y="410"/>
                  </a:lnTo>
                  <a:lnTo>
                    <a:pt x="4983" y="366"/>
                  </a:lnTo>
                  <a:lnTo>
                    <a:pt x="4997" y="313"/>
                  </a:lnTo>
                  <a:lnTo>
                    <a:pt x="5023" y="268"/>
                  </a:lnTo>
                  <a:lnTo>
                    <a:pt x="5054" y="224"/>
                  </a:lnTo>
                  <a:lnTo>
                    <a:pt x="5107" y="171"/>
                  </a:lnTo>
                  <a:lnTo>
                    <a:pt x="5138" y="127"/>
                  </a:lnTo>
                  <a:lnTo>
                    <a:pt x="5178" y="83"/>
                  </a:lnTo>
                  <a:lnTo>
                    <a:pt x="5222" y="57"/>
                  </a:lnTo>
                  <a:lnTo>
                    <a:pt x="5266" y="30"/>
                  </a:lnTo>
                  <a:lnTo>
                    <a:pt x="5319" y="0"/>
                  </a:lnTo>
                  <a:lnTo>
                    <a:pt x="5363"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1303200" y="5303880"/>
              <a:ext cx="594000" cy="995760"/>
            </a:xfrm>
            <a:custGeom>
              <a:avLst/>
              <a:gdLst/>
              <a:ahLst/>
              <a:rect l="0" t="0" r="r" b="b"/>
              <a:pathLst>
                <a:path fill="none" w="1650" h="2766">
                  <a:moveTo>
                    <a:pt x="997" y="22"/>
                  </a:moveTo>
                  <a:lnTo>
                    <a:pt x="962" y="0"/>
                  </a:lnTo>
                  <a:lnTo>
                    <a:pt x="918" y="26"/>
                  </a:lnTo>
                  <a:lnTo>
                    <a:pt x="874" y="57"/>
                  </a:lnTo>
                  <a:lnTo>
                    <a:pt x="820" y="83"/>
                  </a:lnTo>
                  <a:lnTo>
                    <a:pt x="776" y="127"/>
                  </a:lnTo>
                  <a:lnTo>
                    <a:pt x="732" y="141"/>
                  </a:lnTo>
                  <a:lnTo>
                    <a:pt x="679" y="154"/>
                  </a:lnTo>
                  <a:lnTo>
                    <a:pt x="635" y="167"/>
                  </a:lnTo>
                  <a:lnTo>
                    <a:pt x="590" y="185"/>
                  </a:lnTo>
                  <a:lnTo>
                    <a:pt x="537" y="211"/>
                  </a:lnTo>
                  <a:lnTo>
                    <a:pt x="493" y="224"/>
                  </a:lnTo>
                  <a:lnTo>
                    <a:pt x="449" y="255"/>
                  </a:lnTo>
                  <a:lnTo>
                    <a:pt x="396" y="295"/>
                  </a:lnTo>
                  <a:lnTo>
                    <a:pt x="352" y="326"/>
                  </a:lnTo>
                  <a:lnTo>
                    <a:pt x="308" y="366"/>
                  </a:lnTo>
                  <a:lnTo>
                    <a:pt x="295" y="410"/>
                  </a:lnTo>
                  <a:lnTo>
                    <a:pt x="282" y="467"/>
                  </a:lnTo>
                  <a:lnTo>
                    <a:pt x="282" y="577"/>
                  </a:lnTo>
                  <a:lnTo>
                    <a:pt x="282" y="621"/>
                  </a:lnTo>
                  <a:lnTo>
                    <a:pt x="282" y="679"/>
                  </a:lnTo>
                  <a:lnTo>
                    <a:pt x="255" y="733"/>
                  </a:lnTo>
                  <a:lnTo>
                    <a:pt x="238" y="777"/>
                  </a:lnTo>
                  <a:lnTo>
                    <a:pt x="211" y="821"/>
                  </a:lnTo>
                  <a:lnTo>
                    <a:pt x="185" y="874"/>
                  </a:lnTo>
                  <a:lnTo>
                    <a:pt x="167" y="918"/>
                  </a:lnTo>
                  <a:lnTo>
                    <a:pt x="154" y="962"/>
                  </a:lnTo>
                  <a:lnTo>
                    <a:pt x="141" y="1015"/>
                  </a:lnTo>
                  <a:lnTo>
                    <a:pt x="141" y="1059"/>
                  </a:lnTo>
                  <a:lnTo>
                    <a:pt x="127" y="1103"/>
                  </a:lnTo>
                  <a:lnTo>
                    <a:pt x="114" y="1156"/>
                  </a:lnTo>
                  <a:lnTo>
                    <a:pt x="97" y="1200"/>
                  </a:lnTo>
                  <a:lnTo>
                    <a:pt x="97" y="1244"/>
                  </a:lnTo>
                  <a:lnTo>
                    <a:pt x="83" y="1297"/>
                  </a:lnTo>
                  <a:lnTo>
                    <a:pt x="83" y="1341"/>
                  </a:lnTo>
                  <a:lnTo>
                    <a:pt x="70" y="1456"/>
                  </a:lnTo>
                  <a:lnTo>
                    <a:pt x="57" y="1579"/>
                  </a:lnTo>
                  <a:lnTo>
                    <a:pt x="57" y="1623"/>
                  </a:lnTo>
                  <a:lnTo>
                    <a:pt x="44" y="1738"/>
                  </a:lnTo>
                  <a:lnTo>
                    <a:pt x="44" y="1861"/>
                  </a:lnTo>
                  <a:lnTo>
                    <a:pt x="26" y="1906"/>
                  </a:lnTo>
                  <a:lnTo>
                    <a:pt x="26" y="2003"/>
                  </a:lnTo>
                  <a:lnTo>
                    <a:pt x="13" y="2047"/>
                  </a:lnTo>
                  <a:lnTo>
                    <a:pt x="13" y="2145"/>
                  </a:lnTo>
                  <a:lnTo>
                    <a:pt x="0" y="2189"/>
                  </a:lnTo>
                  <a:lnTo>
                    <a:pt x="0" y="2233"/>
                  </a:lnTo>
                  <a:lnTo>
                    <a:pt x="44" y="2259"/>
                  </a:lnTo>
                  <a:lnTo>
                    <a:pt x="70" y="2303"/>
                  </a:lnTo>
                  <a:lnTo>
                    <a:pt x="97" y="2356"/>
                  </a:lnTo>
                  <a:lnTo>
                    <a:pt x="141" y="2400"/>
                  </a:lnTo>
                  <a:lnTo>
                    <a:pt x="185" y="2427"/>
                  </a:lnTo>
                  <a:lnTo>
                    <a:pt x="238" y="2444"/>
                  </a:lnTo>
                  <a:lnTo>
                    <a:pt x="282" y="2471"/>
                  </a:lnTo>
                  <a:lnTo>
                    <a:pt x="326" y="2497"/>
                  </a:lnTo>
                  <a:lnTo>
                    <a:pt x="379" y="2515"/>
                  </a:lnTo>
                  <a:lnTo>
                    <a:pt x="423" y="2542"/>
                  </a:lnTo>
                  <a:lnTo>
                    <a:pt x="467" y="2555"/>
                  </a:lnTo>
                  <a:lnTo>
                    <a:pt x="520" y="2586"/>
                  </a:lnTo>
                  <a:lnTo>
                    <a:pt x="564" y="2599"/>
                  </a:lnTo>
                  <a:lnTo>
                    <a:pt x="608" y="2625"/>
                  </a:lnTo>
                  <a:lnTo>
                    <a:pt x="661" y="2639"/>
                  </a:lnTo>
                  <a:lnTo>
                    <a:pt x="705" y="2656"/>
                  </a:lnTo>
                  <a:lnTo>
                    <a:pt x="749" y="2669"/>
                  </a:lnTo>
                  <a:lnTo>
                    <a:pt x="802" y="2683"/>
                  </a:lnTo>
                  <a:lnTo>
                    <a:pt x="847" y="2696"/>
                  </a:lnTo>
                  <a:lnTo>
                    <a:pt x="891" y="2709"/>
                  </a:lnTo>
                  <a:lnTo>
                    <a:pt x="944" y="2740"/>
                  </a:lnTo>
                  <a:lnTo>
                    <a:pt x="988" y="2753"/>
                  </a:lnTo>
                  <a:lnTo>
                    <a:pt x="1032" y="2753"/>
                  </a:lnTo>
                  <a:lnTo>
                    <a:pt x="1085" y="2766"/>
                  </a:lnTo>
                  <a:lnTo>
                    <a:pt x="1129" y="2766"/>
                  </a:lnTo>
                  <a:lnTo>
                    <a:pt x="1173" y="2766"/>
                  </a:lnTo>
                  <a:lnTo>
                    <a:pt x="1226" y="2766"/>
                  </a:lnTo>
                  <a:lnTo>
                    <a:pt x="1271" y="2766"/>
                  </a:lnTo>
                  <a:lnTo>
                    <a:pt x="1315" y="2766"/>
                  </a:lnTo>
                  <a:lnTo>
                    <a:pt x="1368" y="2766"/>
                  </a:lnTo>
                  <a:lnTo>
                    <a:pt x="1412" y="2766"/>
                  </a:lnTo>
                  <a:lnTo>
                    <a:pt x="1456" y="2766"/>
                  </a:lnTo>
                  <a:lnTo>
                    <a:pt x="1509" y="2740"/>
                  </a:lnTo>
                  <a:lnTo>
                    <a:pt x="1539" y="2696"/>
                  </a:lnTo>
                  <a:lnTo>
                    <a:pt x="1566" y="2639"/>
                  </a:lnTo>
                  <a:lnTo>
                    <a:pt x="1579" y="2586"/>
                  </a:lnTo>
                  <a:lnTo>
                    <a:pt x="1579" y="2542"/>
                  </a:lnTo>
                  <a:lnTo>
                    <a:pt x="1579" y="2497"/>
                  </a:lnTo>
                  <a:lnTo>
                    <a:pt x="1597" y="2444"/>
                  </a:lnTo>
                  <a:lnTo>
                    <a:pt x="1597" y="2400"/>
                  </a:lnTo>
                  <a:lnTo>
                    <a:pt x="1597" y="2356"/>
                  </a:lnTo>
                  <a:lnTo>
                    <a:pt x="1597" y="2303"/>
                  </a:lnTo>
                  <a:lnTo>
                    <a:pt x="1610" y="2259"/>
                  </a:lnTo>
                  <a:lnTo>
                    <a:pt x="1610" y="2215"/>
                  </a:lnTo>
                  <a:lnTo>
                    <a:pt x="1623" y="2105"/>
                  </a:lnTo>
                  <a:lnTo>
                    <a:pt x="1623" y="2060"/>
                  </a:lnTo>
                  <a:lnTo>
                    <a:pt x="1623" y="2003"/>
                  </a:lnTo>
                  <a:lnTo>
                    <a:pt x="1623" y="1950"/>
                  </a:lnTo>
                  <a:lnTo>
                    <a:pt x="1623" y="1906"/>
                  </a:lnTo>
                  <a:lnTo>
                    <a:pt x="1637" y="1861"/>
                  </a:lnTo>
                  <a:lnTo>
                    <a:pt x="1637" y="1808"/>
                  </a:lnTo>
                  <a:lnTo>
                    <a:pt x="1650" y="1681"/>
                  </a:lnTo>
                  <a:lnTo>
                    <a:pt x="1650" y="1637"/>
                  </a:lnTo>
                  <a:lnTo>
                    <a:pt x="1650" y="1579"/>
                  </a:lnTo>
                  <a:lnTo>
                    <a:pt x="1650" y="1526"/>
                  </a:lnTo>
                  <a:lnTo>
                    <a:pt x="1650" y="1482"/>
                  </a:lnTo>
                  <a:lnTo>
                    <a:pt x="1650" y="1438"/>
                  </a:lnTo>
                  <a:lnTo>
                    <a:pt x="1637" y="1315"/>
                  </a:lnTo>
                  <a:lnTo>
                    <a:pt x="1637" y="1271"/>
                  </a:lnTo>
                  <a:lnTo>
                    <a:pt x="1623" y="1226"/>
                  </a:lnTo>
                  <a:lnTo>
                    <a:pt x="1610" y="1173"/>
                  </a:lnTo>
                  <a:lnTo>
                    <a:pt x="1597" y="1129"/>
                  </a:lnTo>
                  <a:lnTo>
                    <a:pt x="1579" y="1085"/>
                  </a:lnTo>
                  <a:lnTo>
                    <a:pt x="1566" y="1032"/>
                  </a:lnTo>
                  <a:lnTo>
                    <a:pt x="1553" y="988"/>
                  </a:lnTo>
                  <a:lnTo>
                    <a:pt x="1526" y="944"/>
                  </a:lnTo>
                  <a:lnTo>
                    <a:pt x="1482" y="891"/>
                  </a:lnTo>
                  <a:lnTo>
                    <a:pt x="1456" y="847"/>
                  </a:lnTo>
                  <a:lnTo>
                    <a:pt x="1412" y="803"/>
                  </a:lnTo>
                  <a:lnTo>
                    <a:pt x="1385" y="750"/>
                  </a:lnTo>
                  <a:lnTo>
                    <a:pt x="1354" y="706"/>
                  </a:lnTo>
                  <a:lnTo>
                    <a:pt x="1341" y="661"/>
                  </a:lnTo>
                  <a:lnTo>
                    <a:pt x="1297" y="621"/>
                  </a:lnTo>
                  <a:lnTo>
                    <a:pt x="1284" y="577"/>
                  </a:lnTo>
                  <a:lnTo>
                    <a:pt x="1257" y="520"/>
                  </a:lnTo>
                  <a:lnTo>
                    <a:pt x="1226" y="396"/>
                  </a:lnTo>
                  <a:lnTo>
                    <a:pt x="1200" y="352"/>
                  </a:lnTo>
                  <a:lnTo>
                    <a:pt x="1187" y="308"/>
                  </a:lnTo>
                  <a:lnTo>
                    <a:pt x="1143" y="255"/>
                  </a:lnTo>
                  <a:lnTo>
                    <a:pt x="1116" y="211"/>
                  </a:lnTo>
                  <a:lnTo>
                    <a:pt x="1085" y="167"/>
                  </a:lnTo>
                  <a:lnTo>
                    <a:pt x="1059" y="114"/>
                  </a:lnTo>
                  <a:lnTo>
                    <a:pt x="1032" y="70"/>
                  </a:lnTo>
                  <a:lnTo>
                    <a:pt x="997" y="2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2836800" y="2387520"/>
              <a:ext cx="1778400" cy="1459440"/>
            </a:xfrm>
            <a:custGeom>
              <a:avLst/>
              <a:gdLst/>
              <a:ahLst/>
              <a:rect l="0" t="0" r="r" b="b"/>
              <a:pathLst>
                <a:path fill="none" w="4940" h="4054">
                  <a:moveTo>
                    <a:pt x="0" y="366"/>
                  </a:moveTo>
                  <a:lnTo>
                    <a:pt x="44" y="366"/>
                  </a:lnTo>
                  <a:lnTo>
                    <a:pt x="88" y="326"/>
                  </a:lnTo>
                  <a:lnTo>
                    <a:pt x="141" y="313"/>
                  </a:lnTo>
                  <a:lnTo>
                    <a:pt x="185" y="295"/>
                  </a:lnTo>
                  <a:lnTo>
                    <a:pt x="229" y="268"/>
                  </a:lnTo>
                  <a:lnTo>
                    <a:pt x="282" y="242"/>
                  </a:lnTo>
                  <a:lnTo>
                    <a:pt x="326" y="242"/>
                  </a:lnTo>
                  <a:lnTo>
                    <a:pt x="370" y="255"/>
                  </a:lnTo>
                  <a:lnTo>
                    <a:pt x="423" y="255"/>
                  </a:lnTo>
                  <a:lnTo>
                    <a:pt x="467" y="255"/>
                  </a:lnTo>
                  <a:lnTo>
                    <a:pt x="511" y="242"/>
                  </a:lnTo>
                  <a:lnTo>
                    <a:pt x="564" y="211"/>
                  </a:lnTo>
                  <a:lnTo>
                    <a:pt x="608" y="198"/>
                  </a:lnTo>
                  <a:lnTo>
                    <a:pt x="652" y="198"/>
                  </a:lnTo>
                  <a:lnTo>
                    <a:pt x="705" y="185"/>
                  </a:lnTo>
                  <a:lnTo>
                    <a:pt x="749" y="171"/>
                  </a:lnTo>
                  <a:lnTo>
                    <a:pt x="793" y="154"/>
                  </a:lnTo>
                  <a:lnTo>
                    <a:pt x="846" y="141"/>
                  </a:lnTo>
                  <a:lnTo>
                    <a:pt x="890" y="141"/>
                  </a:lnTo>
                  <a:lnTo>
                    <a:pt x="934" y="141"/>
                  </a:lnTo>
                  <a:lnTo>
                    <a:pt x="987" y="127"/>
                  </a:lnTo>
                  <a:lnTo>
                    <a:pt x="1031" y="114"/>
                  </a:lnTo>
                  <a:lnTo>
                    <a:pt x="1075" y="101"/>
                  </a:lnTo>
                  <a:lnTo>
                    <a:pt x="1128" y="83"/>
                  </a:lnTo>
                  <a:lnTo>
                    <a:pt x="1172" y="70"/>
                  </a:lnTo>
                  <a:lnTo>
                    <a:pt x="1217" y="70"/>
                  </a:lnTo>
                  <a:lnTo>
                    <a:pt x="1271" y="44"/>
                  </a:lnTo>
                  <a:lnTo>
                    <a:pt x="1315" y="30"/>
                  </a:lnTo>
                  <a:lnTo>
                    <a:pt x="1359" y="0"/>
                  </a:lnTo>
                  <a:lnTo>
                    <a:pt x="1412" y="0"/>
                  </a:lnTo>
                  <a:lnTo>
                    <a:pt x="1456" y="0"/>
                  </a:lnTo>
                  <a:lnTo>
                    <a:pt x="1500" y="0"/>
                  </a:lnTo>
                  <a:lnTo>
                    <a:pt x="1553" y="0"/>
                  </a:lnTo>
                  <a:lnTo>
                    <a:pt x="1597" y="0"/>
                  </a:lnTo>
                  <a:lnTo>
                    <a:pt x="1641" y="13"/>
                  </a:lnTo>
                  <a:lnTo>
                    <a:pt x="1694" y="30"/>
                  </a:lnTo>
                  <a:lnTo>
                    <a:pt x="1738" y="44"/>
                  </a:lnTo>
                  <a:lnTo>
                    <a:pt x="1782" y="44"/>
                  </a:lnTo>
                  <a:lnTo>
                    <a:pt x="1808" y="101"/>
                  </a:lnTo>
                  <a:lnTo>
                    <a:pt x="1853" y="127"/>
                  </a:lnTo>
                  <a:lnTo>
                    <a:pt x="1892" y="171"/>
                  </a:lnTo>
                  <a:lnTo>
                    <a:pt x="1936" y="211"/>
                  </a:lnTo>
                  <a:lnTo>
                    <a:pt x="1976" y="255"/>
                  </a:lnTo>
                  <a:lnTo>
                    <a:pt x="2020" y="282"/>
                  </a:lnTo>
                  <a:lnTo>
                    <a:pt x="2064" y="295"/>
                  </a:lnTo>
                  <a:lnTo>
                    <a:pt x="2117" y="295"/>
                  </a:lnTo>
                  <a:lnTo>
                    <a:pt x="2161" y="282"/>
                  </a:lnTo>
                  <a:lnTo>
                    <a:pt x="2205" y="268"/>
                  </a:lnTo>
                  <a:lnTo>
                    <a:pt x="2258" y="255"/>
                  </a:lnTo>
                  <a:lnTo>
                    <a:pt x="2302" y="255"/>
                  </a:lnTo>
                  <a:lnTo>
                    <a:pt x="2346" y="255"/>
                  </a:lnTo>
                  <a:lnTo>
                    <a:pt x="2399" y="242"/>
                  </a:lnTo>
                  <a:lnTo>
                    <a:pt x="2443" y="242"/>
                  </a:lnTo>
                  <a:lnTo>
                    <a:pt x="2488" y="224"/>
                  </a:lnTo>
                  <a:lnTo>
                    <a:pt x="2541" y="198"/>
                  </a:lnTo>
                  <a:lnTo>
                    <a:pt x="2585" y="185"/>
                  </a:lnTo>
                  <a:lnTo>
                    <a:pt x="2629" y="154"/>
                  </a:lnTo>
                  <a:lnTo>
                    <a:pt x="2682" y="154"/>
                  </a:lnTo>
                  <a:lnTo>
                    <a:pt x="2726" y="154"/>
                  </a:lnTo>
                  <a:lnTo>
                    <a:pt x="2770" y="154"/>
                  </a:lnTo>
                  <a:lnTo>
                    <a:pt x="2823" y="154"/>
                  </a:lnTo>
                  <a:lnTo>
                    <a:pt x="2867" y="154"/>
                  </a:lnTo>
                  <a:lnTo>
                    <a:pt x="2911" y="154"/>
                  </a:lnTo>
                  <a:lnTo>
                    <a:pt x="3008" y="154"/>
                  </a:lnTo>
                  <a:lnTo>
                    <a:pt x="3105" y="154"/>
                  </a:lnTo>
                  <a:lnTo>
                    <a:pt x="3233" y="171"/>
                  </a:lnTo>
                  <a:lnTo>
                    <a:pt x="3334" y="171"/>
                  </a:lnTo>
                  <a:lnTo>
                    <a:pt x="3458" y="185"/>
                  </a:lnTo>
                  <a:lnTo>
                    <a:pt x="3502" y="185"/>
                  </a:lnTo>
                  <a:lnTo>
                    <a:pt x="3546" y="185"/>
                  </a:lnTo>
                  <a:lnTo>
                    <a:pt x="3599" y="185"/>
                  </a:lnTo>
                  <a:lnTo>
                    <a:pt x="3643" y="154"/>
                  </a:lnTo>
                  <a:lnTo>
                    <a:pt x="3687" y="141"/>
                  </a:lnTo>
                  <a:lnTo>
                    <a:pt x="3741" y="127"/>
                  </a:lnTo>
                  <a:lnTo>
                    <a:pt x="3785" y="127"/>
                  </a:lnTo>
                  <a:lnTo>
                    <a:pt x="3829" y="127"/>
                  </a:lnTo>
                  <a:lnTo>
                    <a:pt x="3882" y="114"/>
                  </a:lnTo>
                  <a:lnTo>
                    <a:pt x="3926" y="114"/>
                  </a:lnTo>
                  <a:lnTo>
                    <a:pt x="3970" y="114"/>
                  </a:lnTo>
                  <a:lnTo>
                    <a:pt x="4023" y="114"/>
                  </a:lnTo>
                  <a:lnTo>
                    <a:pt x="4067" y="114"/>
                  </a:lnTo>
                  <a:lnTo>
                    <a:pt x="4111" y="114"/>
                  </a:lnTo>
                  <a:lnTo>
                    <a:pt x="4164" y="114"/>
                  </a:lnTo>
                  <a:lnTo>
                    <a:pt x="4208" y="127"/>
                  </a:lnTo>
                  <a:lnTo>
                    <a:pt x="4252" y="127"/>
                  </a:lnTo>
                  <a:lnTo>
                    <a:pt x="4305" y="127"/>
                  </a:lnTo>
                  <a:lnTo>
                    <a:pt x="4349" y="127"/>
                  </a:lnTo>
                  <a:lnTo>
                    <a:pt x="4394" y="127"/>
                  </a:lnTo>
                  <a:lnTo>
                    <a:pt x="4447" y="127"/>
                  </a:lnTo>
                  <a:lnTo>
                    <a:pt x="4491" y="114"/>
                  </a:lnTo>
                  <a:lnTo>
                    <a:pt x="4535" y="101"/>
                  </a:lnTo>
                  <a:lnTo>
                    <a:pt x="4588" y="83"/>
                  </a:lnTo>
                  <a:lnTo>
                    <a:pt x="4632" y="70"/>
                  </a:lnTo>
                  <a:lnTo>
                    <a:pt x="4676" y="70"/>
                  </a:lnTo>
                  <a:lnTo>
                    <a:pt x="4729" y="101"/>
                  </a:lnTo>
                  <a:lnTo>
                    <a:pt x="4773" y="141"/>
                  </a:lnTo>
                  <a:lnTo>
                    <a:pt x="4799" y="185"/>
                  </a:lnTo>
                  <a:lnTo>
                    <a:pt x="4830" y="242"/>
                  </a:lnTo>
                  <a:lnTo>
                    <a:pt x="4857" y="295"/>
                  </a:lnTo>
                  <a:lnTo>
                    <a:pt x="4870" y="339"/>
                  </a:lnTo>
                  <a:lnTo>
                    <a:pt x="4901" y="467"/>
                  </a:lnTo>
                  <a:lnTo>
                    <a:pt x="4914" y="524"/>
                  </a:lnTo>
                  <a:lnTo>
                    <a:pt x="4927" y="648"/>
                  </a:lnTo>
                  <a:lnTo>
                    <a:pt x="4927" y="692"/>
                  </a:lnTo>
                  <a:lnTo>
                    <a:pt x="4927" y="736"/>
                  </a:lnTo>
                  <a:lnTo>
                    <a:pt x="4927" y="789"/>
                  </a:lnTo>
                  <a:lnTo>
                    <a:pt x="4927" y="833"/>
                  </a:lnTo>
                  <a:lnTo>
                    <a:pt x="4927" y="877"/>
                  </a:lnTo>
                  <a:lnTo>
                    <a:pt x="4927" y="930"/>
                  </a:lnTo>
                  <a:lnTo>
                    <a:pt x="4927" y="974"/>
                  </a:lnTo>
                  <a:lnTo>
                    <a:pt x="4927" y="1019"/>
                  </a:lnTo>
                  <a:lnTo>
                    <a:pt x="4927" y="1072"/>
                  </a:lnTo>
                  <a:lnTo>
                    <a:pt x="4927" y="1116"/>
                  </a:lnTo>
                  <a:lnTo>
                    <a:pt x="4927" y="1160"/>
                  </a:lnTo>
                  <a:lnTo>
                    <a:pt x="4927" y="1284"/>
                  </a:lnTo>
                  <a:lnTo>
                    <a:pt x="4927" y="1328"/>
                  </a:lnTo>
                  <a:lnTo>
                    <a:pt x="4927" y="1425"/>
                  </a:lnTo>
                  <a:lnTo>
                    <a:pt x="4914" y="1539"/>
                  </a:lnTo>
                  <a:lnTo>
                    <a:pt x="4914" y="1584"/>
                  </a:lnTo>
                  <a:lnTo>
                    <a:pt x="4914" y="1637"/>
                  </a:lnTo>
                  <a:lnTo>
                    <a:pt x="4914" y="1681"/>
                  </a:lnTo>
                  <a:lnTo>
                    <a:pt x="4914" y="1725"/>
                  </a:lnTo>
                  <a:lnTo>
                    <a:pt x="4914" y="1778"/>
                  </a:lnTo>
                  <a:lnTo>
                    <a:pt x="4914" y="1822"/>
                  </a:lnTo>
                  <a:lnTo>
                    <a:pt x="4927" y="1866"/>
                  </a:lnTo>
                  <a:lnTo>
                    <a:pt x="4927" y="1919"/>
                  </a:lnTo>
                  <a:lnTo>
                    <a:pt x="4940" y="1963"/>
                  </a:lnTo>
                  <a:lnTo>
                    <a:pt x="4940" y="2007"/>
                  </a:lnTo>
                  <a:lnTo>
                    <a:pt x="4940" y="2060"/>
                  </a:lnTo>
                  <a:lnTo>
                    <a:pt x="4940" y="2104"/>
                  </a:lnTo>
                  <a:lnTo>
                    <a:pt x="4914" y="2148"/>
                  </a:lnTo>
                  <a:lnTo>
                    <a:pt x="4887" y="2201"/>
                  </a:lnTo>
                  <a:lnTo>
                    <a:pt x="4857" y="2245"/>
                  </a:lnTo>
                  <a:lnTo>
                    <a:pt x="4830" y="2289"/>
                  </a:lnTo>
                  <a:lnTo>
                    <a:pt x="4799" y="2342"/>
                  </a:lnTo>
                  <a:lnTo>
                    <a:pt x="4773" y="2386"/>
                  </a:lnTo>
                  <a:lnTo>
                    <a:pt x="4760" y="2514"/>
                  </a:lnTo>
                  <a:lnTo>
                    <a:pt x="4729" y="2571"/>
                  </a:lnTo>
                  <a:lnTo>
                    <a:pt x="4715" y="2624"/>
                  </a:lnTo>
                  <a:lnTo>
                    <a:pt x="4715" y="2668"/>
                  </a:lnTo>
                  <a:lnTo>
                    <a:pt x="4702" y="2783"/>
                  </a:lnTo>
                  <a:lnTo>
                    <a:pt x="4689" y="2836"/>
                  </a:lnTo>
                  <a:lnTo>
                    <a:pt x="4689" y="2937"/>
                  </a:lnTo>
                  <a:lnTo>
                    <a:pt x="4689" y="2995"/>
                  </a:lnTo>
                  <a:lnTo>
                    <a:pt x="4676" y="3049"/>
                  </a:lnTo>
                  <a:lnTo>
                    <a:pt x="4676" y="3093"/>
                  </a:lnTo>
                  <a:lnTo>
                    <a:pt x="4645" y="3137"/>
                  </a:lnTo>
                  <a:lnTo>
                    <a:pt x="4605" y="3190"/>
                  </a:lnTo>
                  <a:lnTo>
                    <a:pt x="4588" y="3234"/>
                  </a:lnTo>
                  <a:lnTo>
                    <a:pt x="4561" y="3278"/>
                  </a:lnTo>
                  <a:lnTo>
                    <a:pt x="4517" y="3318"/>
                  </a:lnTo>
                  <a:lnTo>
                    <a:pt x="4477" y="3362"/>
                  </a:lnTo>
                  <a:lnTo>
                    <a:pt x="4433" y="3388"/>
                  </a:lnTo>
                  <a:lnTo>
                    <a:pt x="4394" y="3432"/>
                  </a:lnTo>
                  <a:lnTo>
                    <a:pt x="4349" y="3472"/>
                  </a:lnTo>
                  <a:lnTo>
                    <a:pt x="4305" y="3516"/>
                  </a:lnTo>
                  <a:lnTo>
                    <a:pt x="4266" y="3560"/>
                  </a:lnTo>
                  <a:lnTo>
                    <a:pt x="4222" y="3587"/>
                  </a:lnTo>
                  <a:lnTo>
                    <a:pt x="4195" y="3631"/>
                  </a:lnTo>
                  <a:lnTo>
                    <a:pt x="4151" y="3657"/>
                  </a:lnTo>
                  <a:lnTo>
                    <a:pt x="4094" y="3684"/>
                  </a:lnTo>
                  <a:lnTo>
                    <a:pt x="4041" y="3684"/>
                  </a:lnTo>
                  <a:lnTo>
                    <a:pt x="3997" y="3684"/>
                  </a:lnTo>
                  <a:lnTo>
                    <a:pt x="3953" y="3684"/>
                  </a:lnTo>
                  <a:lnTo>
                    <a:pt x="3900" y="3684"/>
                  </a:lnTo>
                  <a:lnTo>
                    <a:pt x="3856" y="3670"/>
                  </a:lnTo>
                  <a:lnTo>
                    <a:pt x="3812" y="3657"/>
                  </a:lnTo>
                  <a:lnTo>
                    <a:pt x="3759" y="3644"/>
                  </a:lnTo>
                  <a:lnTo>
                    <a:pt x="3714" y="3644"/>
                  </a:lnTo>
                  <a:lnTo>
                    <a:pt x="3669" y="3631"/>
                  </a:lnTo>
                  <a:lnTo>
                    <a:pt x="3616" y="3631"/>
                  </a:lnTo>
                  <a:lnTo>
                    <a:pt x="3572" y="3631"/>
                  </a:lnTo>
                  <a:lnTo>
                    <a:pt x="3528" y="3644"/>
                  </a:lnTo>
                  <a:lnTo>
                    <a:pt x="3475" y="3701"/>
                  </a:lnTo>
                  <a:lnTo>
                    <a:pt x="3431" y="3741"/>
                  </a:lnTo>
                  <a:lnTo>
                    <a:pt x="3405" y="3785"/>
                  </a:lnTo>
                  <a:lnTo>
                    <a:pt x="3361" y="3811"/>
                  </a:lnTo>
                  <a:lnTo>
                    <a:pt x="3317" y="3825"/>
                  </a:lnTo>
                  <a:lnTo>
                    <a:pt x="3264" y="3825"/>
                  </a:lnTo>
                  <a:lnTo>
                    <a:pt x="3220" y="3825"/>
                  </a:lnTo>
                  <a:lnTo>
                    <a:pt x="3176" y="3825"/>
                  </a:lnTo>
                  <a:lnTo>
                    <a:pt x="3123" y="3842"/>
                  </a:lnTo>
                  <a:lnTo>
                    <a:pt x="3078" y="3856"/>
                  </a:lnTo>
                  <a:lnTo>
                    <a:pt x="3034" y="3895"/>
                  </a:lnTo>
                  <a:lnTo>
                    <a:pt x="2981" y="3939"/>
                  </a:lnTo>
                  <a:lnTo>
                    <a:pt x="2937" y="3966"/>
                  </a:lnTo>
                  <a:lnTo>
                    <a:pt x="2893" y="3997"/>
                  </a:lnTo>
                  <a:lnTo>
                    <a:pt x="2840" y="4023"/>
                  </a:lnTo>
                  <a:lnTo>
                    <a:pt x="2796" y="4036"/>
                  </a:lnTo>
                  <a:lnTo>
                    <a:pt x="2752" y="405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1341360" y="1400040"/>
              <a:ext cx="1212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Black"/>
                  <a:ea typeface="Arial Black"/>
                </a:rPr>
                <a:t>A s h e r</a:t>
              </a:r>
              <a:endParaRPr b="0" lang="en-US" sz="1800" spc="-1" strike="noStrike">
                <a:solidFill>
                  <a:srgbClr val="000000"/>
                </a:solidFill>
                <a:latin typeface="Arial"/>
              </a:endParaRPr>
            </a:p>
          </p:txBody>
        </p:sp>
        <p:sp>
          <p:nvSpPr>
            <p:cNvPr id="328" name=""/>
            <p:cNvSpPr txBox="1"/>
            <p:nvPr/>
          </p:nvSpPr>
          <p:spPr>
            <a:xfrm>
              <a:off x="1047600" y="5611680"/>
              <a:ext cx="10080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Black"/>
                  <a:ea typeface="Arial Black"/>
                </a:rPr>
                <a:t>Simeon</a:t>
              </a:r>
              <a:endParaRPr b="0" lang="en-US" sz="1600" spc="-1" strike="noStrike">
                <a:solidFill>
                  <a:srgbClr val="000000"/>
                </a:solidFill>
                <a:latin typeface="Arial"/>
              </a:endParaRPr>
            </a:p>
          </p:txBody>
        </p:sp>
        <p:sp>
          <p:nvSpPr>
            <p:cNvPr id="329" name=""/>
            <p:cNvSpPr txBox="1"/>
            <p:nvPr/>
          </p:nvSpPr>
          <p:spPr>
            <a:xfrm>
              <a:off x="1830240" y="1467000"/>
              <a:ext cx="1238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Black"/>
                  <a:ea typeface="Arial Black"/>
                </a:rPr>
                <a:t>Naphtali</a:t>
              </a:r>
              <a:endParaRPr b="0" lang="en-US" sz="1800" spc="-1" strike="noStrike">
                <a:solidFill>
                  <a:srgbClr val="000000"/>
                </a:solidFill>
                <a:latin typeface="Arial"/>
              </a:endParaRPr>
            </a:p>
          </p:txBody>
        </p:sp>
        <p:sp>
          <p:nvSpPr>
            <p:cNvPr id="330" name=""/>
            <p:cNvSpPr txBox="1"/>
            <p:nvPr/>
          </p:nvSpPr>
          <p:spPr>
            <a:xfrm>
              <a:off x="1703520" y="2357280"/>
              <a:ext cx="9190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Zebulun</a:t>
              </a:r>
              <a:endParaRPr b="0" lang="en-US" sz="1600" spc="-1" strike="noStrike">
                <a:solidFill>
                  <a:srgbClr val="000000"/>
                </a:solidFill>
                <a:latin typeface="Arial"/>
              </a:endParaRPr>
            </a:p>
          </p:txBody>
        </p:sp>
        <p:sp>
          <p:nvSpPr>
            <p:cNvPr id="331" name=""/>
            <p:cNvSpPr txBox="1"/>
            <p:nvPr/>
          </p:nvSpPr>
          <p:spPr>
            <a:xfrm>
              <a:off x="2081160" y="2427120"/>
              <a:ext cx="1047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Issachar</a:t>
              </a:r>
              <a:endParaRPr b="0" lang="en-US" sz="1800" spc="-1" strike="noStrike">
                <a:solidFill>
                  <a:srgbClr val="000000"/>
                </a:solidFill>
                <a:latin typeface="Arial"/>
              </a:endParaRPr>
            </a:p>
          </p:txBody>
        </p:sp>
        <p:sp>
          <p:nvSpPr>
            <p:cNvPr id="332" name=""/>
            <p:cNvSpPr txBox="1"/>
            <p:nvPr/>
          </p:nvSpPr>
          <p:spPr>
            <a:xfrm>
              <a:off x="1724040" y="3890880"/>
              <a:ext cx="1155600" cy="351000"/>
            </a:xfrm>
            <a:prstGeom prst="rect">
              <a:avLst/>
            </a:prstGeom>
            <a:noFill/>
            <a:ln w="0">
              <a:noFill/>
            </a:ln>
          </p:spPr>
          <p:txBody>
            <a:bodyPr lIns="0" rIns="0" tIns="0" bIns="0" anchor="t">
              <a:noAutofit/>
            </a:bodyPr>
            <a:p>
              <a:pPr>
                <a:lnSpc>
                  <a:spcPct val="100000"/>
                </a:lnSpc>
              </a:pPr>
              <a:r>
                <a:rPr b="0" lang="en-US" sz="1700" spc="-1" strike="noStrike">
                  <a:solidFill>
                    <a:srgbClr val="ffffff"/>
                  </a:solidFill>
                  <a:latin typeface="Arial Black"/>
                  <a:ea typeface="Arial Black"/>
                </a:rPr>
                <a:t>Ephraim</a:t>
              </a:r>
              <a:endParaRPr b="0" lang="en-US" sz="1700" spc="-1" strike="noStrike">
                <a:solidFill>
                  <a:srgbClr val="000000"/>
                </a:solidFill>
                <a:latin typeface="Arial"/>
              </a:endParaRPr>
            </a:p>
          </p:txBody>
        </p:sp>
        <p:sp>
          <p:nvSpPr>
            <p:cNvPr id="333" name=""/>
            <p:cNvSpPr txBox="1"/>
            <p:nvPr/>
          </p:nvSpPr>
          <p:spPr>
            <a:xfrm>
              <a:off x="1873080" y="3139920"/>
              <a:ext cx="19749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Black"/>
                  <a:ea typeface="Arial Black"/>
                </a:rPr>
                <a:t>M a n a s s e h</a:t>
              </a:r>
              <a:endParaRPr b="0" lang="en-US" sz="1800" spc="-1" strike="noStrike">
                <a:solidFill>
                  <a:srgbClr val="000000"/>
                </a:solidFill>
                <a:latin typeface="Arial"/>
              </a:endParaRPr>
            </a:p>
          </p:txBody>
        </p:sp>
        <p:sp>
          <p:nvSpPr>
            <p:cNvPr id="334" name=""/>
            <p:cNvSpPr txBox="1"/>
            <p:nvPr/>
          </p:nvSpPr>
          <p:spPr>
            <a:xfrm>
              <a:off x="3016080" y="3776760"/>
              <a:ext cx="8319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Black"/>
                  <a:ea typeface="Arial Black"/>
                </a:rPr>
                <a:t>G a d</a:t>
              </a:r>
              <a:endParaRPr b="0" lang="en-US" sz="1800" spc="-1" strike="noStrike">
                <a:solidFill>
                  <a:srgbClr val="000000"/>
                </a:solidFill>
                <a:latin typeface="Arial"/>
              </a:endParaRPr>
            </a:p>
          </p:txBody>
        </p:sp>
        <p:sp>
          <p:nvSpPr>
            <p:cNvPr id="335" name=""/>
            <p:cNvSpPr txBox="1"/>
            <p:nvPr/>
          </p:nvSpPr>
          <p:spPr>
            <a:xfrm>
              <a:off x="1271520" y="4179960"/>
              <a:ext cx="6667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Black"/>
                  <a:ea typeface="Arial Black"/>
                </a:rPr>
                <a:t>Dan</a:t>
              </a:r>
              <a:endParaRPr b="0" lang="en-US" sz="1800" spc="-1" strike="noStrike">
                <a:solidFill>
                  <a:srgbClr val="000000"/>
                </a:solidFill>
                <a:latin typeface="Arial"/>
              </a:endParaRPr>
            </a:p>
          </p:txBody>
        </p:sp>
        <p:sp>
          <p:nvSpPr>
            <p:cNvPr id="336" name=""/>
            <p:cNvSpPr txBox="1"/>
            <p:nvPr/>
          </p:nvSpPr>
          <p:spPr>
            <a:xfrm>
              <a:off x="2957400" y="4772160"/>
              <a:ext cx="1123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Black"/>
                  <a:ea typeface="Arial Black"/>
                </a:rPr>
                <a:t>Reuben</a:t>
              </a:r>
              <a:endParaRPr b="0" lang="en-US" sz="1800" spc="-1" strike="noStrike">
                <a:solidFill>
                  <a:srgbClr val="000000"/>
                </a:solidFill>
                <a:latin typeface="Arial"/>
              </a:endParaRPr>
            </a:p>
          </p:txBody>
        </p:sp>
        <p:sp>
          <p:nvSpPr>
            <p:cNvPr id="337" name=""/>
            <p:cNvSpPr txBox="1"/>
            <p:nvPr/>
          </p:nvSpPr>
          <p:spPr>
            <a:xfrm>
              <a:off x="1568520" y="4897440"/>
              <a:ext cx="12510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Black"/>
                  <a:ea typeface="Arial Black"/>
                </a:rPr>
                <a:t>J u d a h</a:t>
              </a:r>
              <a:endParaRPr b="0" lang="en-US" sz="1800" spc="-1" strike="noStrike">
                <a:solidFill>
                  <a:srgbClr val="000000"/>
                </a:solidFill>
                <a:latin typeface="Arial"/>
              </a:endParaRPr>
            </a:p>
          </p:txBody>
        </p:sp>
        <p:sp>
          <p:nvSpPr>
            <p:cNvPr id="338" name=""/>
            <p:cNvSpPr txBox="1"/>
            <p:nvPr/>
          </p:nvSpPr>
          <p:spPr>
            <a:xfrm>
              <a:off x="2076480" y="4305240"/>
              <a:ext cx="10317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enjamin</a:t>
              </a:r>
              <a:endParaRPr b="0" lang="en-US" sz="1600" spc="-1" strike="noStrike">
                <a:solidFill>
                  <a:srgbClr val="000000"/>
                </a:solidFill>
                <a:latin typeface="Arial"/>
              </a:endParaRPr>
            </a:p>
          </p:txBody>
        </p:sp>
        <p:sp>
          <p:nvSpPr>
            <p:cNvPr id="339" name=""/>
            <p:cNvSpPr/>
            <p:nvPr/>
          </p:nvSpPr>
          <p:spPr>
            <a:xfrm>
              <a:off x="2525760" y="4622760"/>
              <a:ext cx="90720" cy="98640"/>
            </a:xfrm>
            <a:custGeom>
              <a:avLst/>
              <a:gdLst/>
              <a:ahLst/>
              <a:rect l="0" t="0" r="r" b="b"/>
              <a:pathLst>
                <a:path w="252" h="274">
                  <a:moveTo>
                    <a:pt x="125" y="0"/>
                  </a:moveTo>
                  <a:lnTo>
                    <a:pt x="96" y="104"/>
                  </a:lnTo>
                  <a:lnTo>
                    <a:pt x="0" y="104"/>
                  </a:lnTo>
                  <a:lnTo>
                    <a:pt x="78" y="170"/>
                  </a:lnTo>
                  <a:lnTo>
                    <a:pt x="48" y="274"/>
                  </a:lnTo>
                  <a:lnTo>
                    <a:pt x="125" y="214"/>
                  </a:lnTo>
                  <a:lnTo>
                    <a:pt x="203" y="274"/>
                  </a:lnTo>
                  <a:lnTo>
                    <a:pt x="173" y="170"/>
                  </a:lnTo>
                  <a:lnTo>
                    <a:pt x="252" y="104"/>
                  </a:lnTo>
                  <a:lnTo>
                    <a:pt x="156" y="104"/>
                  </a:lnTo>
                  <a:lnTo>
                    <a:pt x="125" y="0"/>
                  </a:lnTo>
                  <a:close/>
                </a:path>
              </a:pathLst>
            </a:custGeom>
            <a:solidFill>
              <a:srgbClr val="ff5008"/>
            </a:solidFill>
            <a:ln w="12600">
              <a:solidFill>
                <a:srgbClr val="ff5008"/>
              </a:solidFill>
              <a:round/>
            </a:ln>
          </p:spPr>
          <p:txBody>
            <a:bodyPr lIns="96120" rIns="96120" tIns="47520" bIns="47520" anchor="t">
              <a:noAutofit/>
            </a:bodyPr>
            <a:p>
              <a:endParaRPr b="0" lang="en-US" sz="1800" spc="-1" strike="noStrike">
                <a:solidFill>
                  <a:srgbClr val="000000"/>
                </a:solidFill>
                <a:latin typeface="Arial"/>
              </a:endParaRPr>
            </a:p>
          </p:txBody>
        </p:sp>
        <p:sp>
          <p:nvSpPr>
            <p:cNvPr id="340" name=""/>
            <p:cNvSpPr txBox="1"/>
            <p:nvPr/>
          </p:nvSpPr>
          <p:spPr>
            <a:xfrm>
              <a:off x="2154240" y="4643280"/>
              <a:ext cx="812880" cy="2444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Jerusalem</a:t>
              </a:r>
              <a:endParaRPr b="0" lang="en-US" sz="1000" spc="-1" strike="noStrike">
                <a:solidFill>
                  <a:srgbClr val="000000"/>
                </a:solidFill>
                <a:latin typeface="Arial"/>
              </a:endParaRPr>
            </a:p>
          </p:txBody>
        </p:sp>
        <p:sp>
          <p:nvSpPr>
            <p:cNvPr id="341" name=""/>
            <p:cNvSpPr txBox="1"/>
            <p:nvPr/>
          </p:nvSpPr>
          <p:spPr>
            <a:xfrm>
              <a:off x="2495520" y="5029200"/>
              <a:ext cx="98424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Dead Sea</a:t>
              </a:r>
              <a:endParaRPr b="0" lang="en-US" sz="1400" spc="-1" strike="noStrike">
                <a:solidFill>
                  <a:srgbClr val="000000"/>
                </a:solidFill>
                <a:latin typeface="Arial"/>
              </a:endParaRPr>
            </a:p>
          </p:txBody>
        </p:sp>
        <p:sp>
          <p:nvSpPr>
            <p:cNvPr id="342" name=""/>
            <p:cNvSpPr txBox="1"/>
            <p:nvPr/>
          </p:nvSpPr>
          <p:spPr>
            <a:xfrm>
              <a:off x="2563920" y="2119320"/>
              <a:ext cx="59364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Narrow"/>
                  <a:ea typeface="Arial Narrow"/>
                </a:rPr>
                <a:t>Galilee</a:t>
              </a:r>
              <a:endParaRPr b="0" lang="en-US" sz="1200" spc="-1" strike="noStrike">
                <a:solidFill>
                  <a:srgbClr val="000000"/>
                </a:solidFill>
                <a:latin typeface="Arial"/>
              </a:endParaRPr>
            </a:p>
          </p:txBody>
        </p:sp>
        <p:sp>
          <p:nvSpPr>
            <p:cNvPr id="343" name=""/>
            <p:cNvSpPr txBox="1"/>
            <p:nvPr/>
          </p:nvSpPr>
          <p:spPr>
            <a:xfrm>
              <a:off x="2508120" y="3543120"/>
              <a:ext cx="6922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Jordan</a:t>
              </a:r>
              <a:endParaRPr b="0" lang="en-US" sz="1200" spc="-1" strike="noStrike">
                <a:solidFill>
                  <a:srgbClr val="000000"/>
                </a:solidFill>
                <a:latin typeface="Arial"/>
              </a:endParaRPr>
            </a:p>
          </p:txBody>
        </p:sp>
        <p:sp>
          <p:nvSpPr>
            <p:cNvPr id="344" name=""/>
            <p:cNvSpPr txBox="1"/>
            <p:nvPr/>
          </p:nvSpPr>
          <p:spPr>
            <a:xfrm>
              <a:off x="2557440" y="2933640"/>
              <a:ext cx="5652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River</a:t>
              </a:r>
              <a:endParaRPr b="0" lang="en-US" sz="1200" spc="-1" strike="noStrike">
                <a:solidFill>
                  <a:srgbClr val="000000"/>
                </a:solidFill>
                <a:latin typeface="Arial"/>
              </a:endParaRPr>
            </a:p>
          </p:txBody>
        </p:sp>
        <p:sp>
          <p:nvSpPr>
            <p:cNvPr id="345" name=""/>
            <p:cNvSpPr/>
            <p:nvPr/>
          </p:nvSpPr>
          <p:spPr>
            <a:xfrm>
              <a:off x="2814480" y="4527720"/>
              <a:ext cx="90720" cy="98640"/>
            </a:xfrm>
            <a:custGeom>
              <a:avLst/>
              <a:gdLst/>
              <a:ahLst/>
              <a:rect l="0" t="0" r="r" b="b"/>
              <a:pathLst>
                <a:path w="252" h="274">
                  <a:moveTo>
                    <a:pt x="125" y="0"/>
                  </a:moveTo>
                  <a:lnTo>
                    <a:pt x="96" y="104"/>
                  </a:lnTo>
                  <a:lnTo>
                    <a:pt x="0" y="104"/>
                  </a:lnTo>
                  <a:lnTo>
                    <a:pt x="78" y="170"/>
                  </a:lnTo>
                  <a:lnTo>
                    <a:pt x="48" y="274"/>
                  </a:lnTo>
                  <a:lnTo>
                    <a:pt x="125" y="214"/>
                  </a:lnTo>
                  <a:lnTo>
                    <a:pt x="203" y="274"/>
                  </a:lnTo>
                  <a:lnTo>
                    <a:pt x="173" y="170"/>
                  </a:lnTo>
                  <a:lnTo>
                    <a:pt x="252" y="104"/>
                  </a:lnTo>
                  <a:lnTo>
                    <a:pt x="156" y="104"/>
                  </a:lnTo>
                  <a:lnTo>
                    <a:pt x="125" y="0"/>
                  </a:lnTo>
                  <a:close/>
                </a:path>
              </a:pathLst>
            </a:custGeom>
            <a:solidFill>
              <a:srgbClr val="ff5008"/>
            </a:solidFill>
            <a:ln w="12600">
              <a:solidFill>
                <a:srgbClr val="ff5008"/>
              </a:solidFill>
              <a:round/>
            </a:ln>
          </p:spPr>
          <p:txBody>
            <a:bodyPr lIns="96120" rIns="96120" tIns="47520" bIns="47520" anchor="t">
              <a:noAutofit/>
            </a:bodyPr>
            <a:p>
              <a:endParaRPr b="0" lang="en-US" sz="1800" spc="-1" strike="noStrike">
                <a:solidFill>
                  <a:srgbClr val="000000"/>
                </a:solidFill>
                <a:latin typeface="Arial"/>
              </a:endParaRPr>
            </a:p>
          </p:txBody>
        </p:sp>
        <p:sp>
          <p:nvSpPr>
            <p:cNvPr id="346" name=""/>
            <p:cNvSpPr txBox="1"/>
            <p:nvPr/>
          </p:nvSpPr>
          <p:spPr>
            <a:xfrm>
              <a:off x="2570040" y="4546440"/>
              <a:ext cx="636480" cy="2444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Jericho</a:t>
              </a:r>
              <a:endParaRPr b="0" lang="en-US" sz="1000" spc="-1" strike="noStrike">
                <a:solidFill>
                  <a:srgbClr val="000000"/>
                </a:solidFill>
                <a:latin typeface="Arial"/>
              </a:endParaRPr>
            </a:p>
          </p:txBody>
        </p:sp>
        <p:sp>
          <p:nvSpPr>
            <p:cNvPr id="347" name=""/>
            <p:cNvSpPr/>
            <p:nvPr/>
          </p:nvSpPr>
          <p:spPr>
            <a:xfrm>
              <a:off x="3405240" y="4668840"/>
              <a:ext cx="71640" cy="92520"/>
            </a:xfrm>
            <a:custGeom>
              <a:avLst/>
              <a:gdLst/>
              <a:ahLst/>
              <a:rect l="0" t="0" r="r" b="b"/>
              <a:pathLst>
                <a:path w="199" h="257">
                  <a:moveTo>
                    <a:pt x="0" y="257"/>
                  </a:moveTo>
                  <a:lnTo>
                    <a:pt x="199" y="257"/>
                  </a:lnTo>
                  <a:lnTo>
                    <a:pt x="99" y="0"/>
                  </a:lnTo>
                  <a:lnTo>
                    <a:pt x="0" y="257"/>
                  </a:lnTo>
                  <a:close/>
                </a:path>
              </a:pathLst>
            </a:custGeom>
            <a:solidFill>
              <a:srgbClr val="ff5008"/>
            </a:solidFill>
            <a:ln w="12600">
              <a:solidFill>
                <a:srgbClr val="ff5008"/>
              </a:solidFill>
              <a:round/>
            </a:ln>
          </p:spPr>
          <p:txBody>
            <a:bodyPr lIns="96120" rIns="96120" tIns="41400" bIns="41400" anchor="t">
              <a:noAutofit/>
            </a:bodyPr>
            <a:p>
              <a:endParaRPr b="0" lang="en-US" sz="1800" spc="-1" strike="noStrike">
                <a:solidFill>
                  <a:srgbClr val="000000"/>
                </a:solidFill>
                <a:latin typeface="Arial"/>
              </a:endParaRPr>
            </a:p>
          </p:txBody>
        </p:sp>
        <p:sp>
          <p:nvSpPr>
            <p:cNvPr id="348" name=""/>
            <p:cNvSpPr txBox="1"/>
            <p:nvPr/>
          </p:nvSpPr>
          <p:spPr>
            <a:xfrm>
              <a:off x="3083040" y="4546440"/>
              <a:ext cx="685800" cy="2444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Mt.Nebo</a:t>
              </a:r>
              <a:endParaRPr b="0" lang="en-US" sz="1000" spc="-1" strike="noStrike">
                <a:solidFill>
                  <a:srgbClr val="000000"/>
                </a:solidFill>
                <a:latin typeface="Arial"/>
              </a:endParaRPr>
            </a:p>
          </p:txBody>
        </p:sp>
        <p:sp>
          <p:nvSpPr>
            <p:cNvPr id="349" name=""/>
            <p:cNvSpPr txBox="1"/>
            <p:nvPr/>
          </p:nvSpPr>
          <p:spPr>
            <a:xfrm>
              <a:off x="3359160" y="6380280"/>
              <a:ext cx="12924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NASA PHOTO</a:t>
              </a:r>
              <a:endParaRPr b="0" lang="en-US" sz="1200" spc="-1" strike="noStrike">
                <a:solidFill>
                  <a:srgbClr val="000000"/>
                </a:solidFill>
                <a:latin typeface="Arial"/>
              </a:endParaRPr>
            </a:p>
          </p:txBody>
        </p:sp>
        <p:sp>
          <p:nvSpPr>
            <p:cNvPr id="350" name=""/>
            <p:cNvSpPr txBox="1"/>
            <p:nvPr/>
          </p:nvSpPr>
          <p:spPr>
            <a:xfrm>
              <a:off x="3294000" y="6172200"/>
              <a:ext cx="158256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EBibleTeacher.com</a:t>
              </a:r>
              <a:endParaRPr b="0" lang="en-US" sz="1000" spc="-1" strike="noStrike">
                <a:solidFill>
                  <a:srgbClr val="000000"/>
                </a:solidFill>
                <a:latin typeface="Arial"/>
              </a:endParaRPr>
            </a:p>
          </p:txBody>
        </p:sp>
        <p:sp>
          <p:nvSpPr>
            <p:cNvPr id="351" name=""/>
            <p:cNvSpPr txBox="1"/>
            <p:nvPr/>
          </p:nvSpPr>
          <p:spPr>
            <a:xfrm>
              <a:off x="3102120" y="125280"/>
              <a:ext cx="1522440" cy="822240"/>
            </a:xfrm>
            <a:prstGeom prst="rect">
              <a:avLst/>
            </a:prstGeom>
            <a:noFill/>
            <a:ln w="0">
              <a:noFill/>
            </a:ln>
          </p:spPr>
          <p:txBody>
            <a:bodyPr lIns="0" rIns="0" tIns="0" bIns="0" anchor="t">
              <a:noAutofit/>
            </a:bodyPr>
            <a:p>
              <a:pPr algn="ctr">
                <a:lnSpc>
                  <a:spcPct val="100000"/>
                </a:lnSpc>
              </a:pPr>
              <a:r>
                <a:rPr b="1" lang="en-US" sz="2400" spc="-1" strike="noStrike" u="sng">
                  <a:solidFill>
                    <a:srgbClr val="fafd00"/>
                  </a:solidFill>
                  <a:uFillTx/>
                  <a:latin typeface="Arial"/>
                  <a:ea typeface="Arial"/>
                </a:rPr>
                <a:t>12 Tribes</a:t>
              </a:r>
              <a:endParaRPr b="0" lang="en-US" sz="2400" spc="-1" strike="noStrike">
                <a:solidFill>
                  <a:srgbClr val="000000"/>
                </a:solidFill>
                <a:latin typeface="Arial"/>
              </a:endParaRPr>
            </a:p>
            <a:p>
              <a:pPr algn="ctr">
                <a:lnSpc>
                  <a:spcPct val="100000"/>
                </a:lnSpc>
              </a:pPr>
              <a:r>
                <a:rPr b="1" lang="en-US" sz="2400" spc="-1" strike="noStrike" u="sng">
                  <a:solidFill>
                    <a:srgbClr val="fafd00"/>
                  </a:solidFill>
                  <a:uFillTx/>
                  <a:latin typeface="Arial"/>
                  <a:ea typeface="Arial"/>
                </a:rPr>
                <a:t>of Israel</a:t>
              </a:r>
              <a:endParaRPr b="0" lang="en-US" sz="2400" spc="-1" strike="noStrike">
                <a:solidFill>
                  <a:srgbClr val="000000"/>
                </a:solidFill>
                <a:latin typeface="Arial"/>
              </a:endParaRPr>
            </a:p>
          </p:txBody>
        </p:sp>
        <p:grpSp>
          <p:nvGrpSpPr>
            <p:cNvPr id="352" name=""/>
            <p:cNvGrpSpPr/>
            <p:nvPr/>
          </p:nvGrpSpPr>
          <p:grpSpPr>
            <a:xfrm>
              <a:off x="4724280" y="228600"/>
              <a:ext cx="4343760" cy="5837040"/>
              <a:chOff x="4724280" y="228600"/>
              <a:chExt cx="4343760" cy="5837040"/>
            </a:xfrm>
          </p:grpSpPr>
          <p:sp>
            <p:nvSpPr>
              <p:cNvPr id="353" name=""/>
              <p:cNvSpPr txBox="1"/>
              <p:nvPr/>
            </p:nvSpPr>
            <p:spPr>
              <a:xfrm>
                <a:off x="4724280" y="228600"/>
                <a:ext cx="4343400" cy="1432080"/>
              </a:xfrm>
              <a:prstGeom prst="rect">
                <a:avLst/>
              </a:prstGeom>
              <a:noFill/>
              <a:ln w="0">
                <a:noFill/>
              </a:ln>
            </p:spPr>
            <p:txBody>
              <a:bodyPr lIns="0" rIns="0" tIns="0" bIns="0" anchor="t">
                <a:noAutofit/>
              </a:bodyPr>
              <a:p>
                <a:pPr algn="ctr">
                  <a:lnSpc>
                    <a:spcPct val="100000"/>
                  </a:lnSpc>
                  <a:spcBef>
                    <a:spcPts val="1199"/>
                  </a:spcBef>
                </a:pPr>
                <a:r>
                  <a:rPr b="1" lang="en-US" sz="4400" spc="-1" strike="noStrike" u="sng">
                    <a:solidFill>
                      <a:srgbClr val="fafd00"/>
                    </a:solidFill>
                    <a:uFillTx/>
                    <a:latin typeface="Arial"/>
                    <a:ea typeface="Arial"/>
                  </a:rPr>
                  <a:t>Twelve Tribes of Israel</a:t>
                </a:r>
                <a:endParaRPr b="0" lang="en-US" sz="4400" spc="-1" strike="noStrike">
                  <a:solidFill>
                    <a:srgbClr val="000000"/>
                  </a:solidFill>
                  <a:latin typeface="Arial"/>
                </a:endParaRPr>
              </a:p>
            </p:txBody>
          </p:sp>
          <p:sp>
            <p:nvSpPr>
              <p:cNvPr id="354" name=""/>
              <p:cNvSpPr txBox="1"/>
              <p:nvPr/>
            </p:nvSpPr>
            <p:spPr>
              <a:xfrm>
                <a:off x="4876920" y="1981080"/>
                <a:ext cx="4191120" cy="408456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ffffff"/>
                    </a:solidFill>
                    <a:latin typeface="Arial"/>
                    <a:ea typeface="Arial"/>
                  </a:rPr>
                  <a:t>Manasseh  Asher</a:t>
                </a:r>
                <a:endParaRPr b="0" lang="en-US" sz="3200" spc="-1" strike="noStrike">
                  <a:solidFill>
                    <a:srgbClr val="000000"/>
                  </a:solidFill>
                  <a:latin typeface="Arial"/>
                </a:endParaRPr>
              </a:p>
              <a:p>
                <a:pPr>
                  <a:lnSpc>
                    <a:spcPct val="100000"/>
                  </a:lnSpc>
                  <a:spcBef>
                    <a:spcPts val="479"/>
                  </a:spcBef>
                </a:pPr>
                <a:r>
                  <a:rPr b="1" lang="en-US" sz="3200" spc="-1" strike="noStrike">
                    <a:solidFill>
                      <a:srgbClr val="ffffff"/>
                    </a:solidFill>
                    <a:latin typeface="Arial"/>
                    <a:ea typeface="Arial"/>
                  </a:rPr>
                  <a:t>Naphtali     Zebulun</a:t>
                </a:r>
                <a:endParaRPr b="0" lang="en-US" sz="3200" spc="-1" strike="noStrike">
                  <a:solidFill>
                    <a:srgbClr val="000000"/>
                  </a:solidFill>
                  <a:latin typeface="Arial"/>
                </a:endParaRPr>
              </a:p>
              <a:p>
                <a:pPr>
                  <a:lnSpc>
                    <a:spcPct val="100000"/>
                  </a:lnSpc>
                  <a:spcBef>
                    <a:spcPts val="479"/>
                  </a:spcBef>
                </a:pPr>
                <a:r>
                  <a:rPr b="1" lang="en-US" sz="3200" spc="-1" strike="noStrike">
                    <a:solidFill>
                      <a:srgbClr val="ffffff"/>
                    </a:solidFill>
                    <a:latin typeface="Arial"/>
                    <a:ea typeface="Arial"/>
                  </a:rPr>
                  <a:t>Issachar     Gad</a:t>
                </a:r>
                <a:endParaRPr b="0" lang="en-US" sz="3200" spc="-1" strike="noStrike">
                  <a:solidFill>
                    <a:srgbClr val="000000"/>
                  </a:solidFill>
                  <a:latin typeface="Arial"/>
                </a:endParaRPr>
              </a:p>
              <a:p>
                <a:pPr>
                  <a:lnSpc>
                    <a:spcPct val="100000"/>
                  </a:lnSpc>
                  <a:spcBef>
                    <a:spcPts val="479"/>
                  </a:spcBef>
                </a:pPr>
                <a:r>
                  <a:rPr b="1" lang="en-US" sz="3200" spc="-1" strike="noStrike">
                    <a:solidFill>
                      <a:srgbClr val="ffffff"/>
                    </a:solidFill>
                    <a:latin typeface="Arial"/>
                    <a:ea typeface="Arial"/>
                  </a:rPr>
                  <a:t>Ephraim     Dan</a:t>
                </a:r>
                <a:endParaRPr b="0" lang="en-US" sz="3200" spc="-1" strike="noStrike">
                  <a:solidFill>
                    <a:srgbClr val="000000"/>
                  </a:solidFill>
                  <a:latin typeface="Arial"/>
                </a:endParaRPr>
              </a:p>
              <a:p>
                <a:pPr>
                  <a:lnSpc>
                    <a:spcPct val="100000"/>
                  </a:lnSpc>
                  <a:spcBef>
                    <a:spcPts val="479"/>
                  </a:spcBef>
                </a:pPr>
                <a:r>
                  <a:rPr b="1" lang="en-US" sz="3200" spc="-1" strike="noStrike">
                    <a:solidFill>
                      <a:srgbClr val="ffffff"/>
                    </a:solidFill>
                    <a:latin typeface="Arial"/>
                    <a:ea typeface="Arial"/>
                  </a:rPr>
                  <a:t>Benjamin   Reuben</a:t>
                </a:r>
                <a:endParaRPr b="0" lang="en-US" sz="3200" spc="-1" strike="noStrike">
                  <a:solidFill>
                    <a:srgbClr val="000000"/>
                  </a:solidFill>
                  <a:latin typeface="Arial"/>
                </a:endParaRPr>
              </a:p>
              <a:p>
                <a:pPr>
                  <a:lnSpc>
                    <a:spcPct val="100000"/>
                  </a:lnSpc>
                  <a:spcBef>
                    <a:spcPts val="479"/>
                  </a:spcBef>
                </a:pPr>
                <a:r>
                  <a:rPr b="1" lang="en-US" sz="3200" spc="-1" strike="noStrike">
                    <a:solidFill>
                      <a:srgbClr val="ffffff"/>
                    </a:solidFill>
                    <a:latin typeface="Arial"/>
                    <a:ea typeface="Arial"/>
                  </a:rPr>
                  <a:t>Simeon      Judah</a:t>
                </a:r>
                <a:endParaRPr b="0" lang="en-US" sz="3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7" name=""/>
          <p:cNvSpPr txBox="1"/>
          <p:nvPr/>
        </p:nvSpPr>
        <p:spPr>
          <a:xfrm>
            <a:off x="343080" y="2895480"/>
            <a:ext cx="571680" cy="5708160"/>
          </a:xfrm>
          <a:prstGeom prst="rect">
            <a:avLst/>
          </a:prstGeom>
          <a:noFill/>
          <a:ln w="0">
            <a:noFill/>
          </a:ln>
        </p:spPr>
        <p:txBody>
          <a:bodyPr lIns="0" rIns="0" tIns="0" bIns="0" anchor="t">
            <a:noAutofit/>
          </a:bodyPr>
          <a:p>
            <a:pPr algn="ctr">
              <a:lnSpc>
                <a:spcPct val="100000"/>
              </a:lnSpc>
            </a:pPr>
            <a:r>
              <a:rPr b="1" lang="en-US" sz="6600" spc="-1" strike="noStrike">
                <a:solidFill>
                  <a:srgbClr val="fafd00"/>
                </a:solidFill>
                <a:latin typeface="Arial Black"/>
                <a:ea typeface="Arial Black"/>
              </a:rPr>
              <a:t>INDEX</a:t>
            </a:r>
            <a:endParaRPr b="0" lang="en-US" sz="6600" spc="-1" strike="noStrike">
              <a:solidFill>
                <a:srgbClr val="000000"/>
              </a:solidFill>
              <a:latin typeface="Arial"/>
            </a:endParaRPr>
          </a:p>
        </p:txBody>
      </p:sp>
      <p:sp>
        <p:nvSpPr>
          <p:cNvPr id="78" name=""/>
          <p:cNvSpPr txBox="1"/>
          <p:nvPr/>
        </p:nvSpPr>
        <p:spPr>
          <a:xfrm>
            <a:off x="1157400" y="152280"/>
            <a:ext cx="4176720" cy="6477120"/>
          </a:xfrm>
          <a:prstGeom prst="rect">
            <a:avLst/>
          </a:prstGeom>
          <a:noFill/>
          <a:ln w="0">
            <a:noFill/>
          </a:ln>
        </p:spPr>
        <p:txBody>
          <a:bodyPr lIns="0" rIns="0" tIns="0" bIns="0" anchor="t">
            <a:noAutofit/>
          </a:bodyPr>
          <a:p>
            <a:pPr marL="343080" indent="-343080">
              <a:lnSpc>
                <a:spcPct val="90000"/>
              </a:lnSpc>
              <a:buClr>
                <a:srgbClr val="fafd00"/>
              </a:buClr>
              <a:buSzPct val="75000"/>
              <a:buFont typeface="Monotype Sorts"/>
              <a:buChar char=""/>
            </a:pPr>
            <a:r>
              <a:rPr b="1" lang="en-US" sz="2400" spc="-1" strike="noStrike" u="sng">
                <a:solidFill>
                  <a:srgbClr val="fafd00"/>
                </a:solidFill>
                <a:uFillTx/>
                <a:latin typeface="Times New Roman"/>
                <a:ea typeface="Times New Roman"/>
              </a:rPr>
              <a:t>OVERALL MAPS</a:t>
            </a:r>
            <a:endParaRPr b="0" lang="en-US" sz="24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Bible Lands Overview</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Important Ancient Lands</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Continents &amp; Land Masses</a:t>
            </a:r>
            <a:endParaRPr b="0" lang="en-US" sz="2000" spc="-1" strike="noStrike">
              <a:solidFill>
                <a:srgbClr val="000000"/>
              </a:solidFill>
              <a:latin typeface="Arial"/>
            </a:endParaRPr>
          </a:p>
          <a:p>
            <a:pPr marL="343080" indent="-343080">
              <a:lnSpc>
                <a:spcPct val="90000"/>
              </a:lnSpc>
              <a:buClr>
                <a:srgbClr val="fafd00"/>
              </a:buClr>
              <a:buSzPct val="75000"/>
              <a:buFont typeface="Monotype Sorts"/>
              <a:buChar char=""/>
            </a:pPr>
            <a:r>
              <a:rPr b="1" lang="en-US" sz="2400" spc="-1" strike="noStrike" u="sng">
                <a:solidFill>
                  <a:srgbClr val="fafd00"/>
                </a:solidFill>
                <a:uFillTx/>
                <a:latin typeface="Times New Roman"/>
                <a:ea typeface="Times New Roman"/>
              </a:rPr>
              <a:t>OLD Testament</a:t>
            </a:r>
            <a:endParaRPr b="0" lang="en-US" sz="24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Garden of Eden</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Noah’s Ark 1</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Noah’s Ark 2</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Noah’s Ark Mt. Ararat</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Tower of Babel</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Abraham’s Journey</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Abraham’s Journey to Egypt</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Abraham in Canaan</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Wandering’s of Jacob</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Joseph’s Journey to Egypt</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Joseph’s Family to Goshen</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Route of the Exodus</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Exodus Major Events Map</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Twelve Tribes of Israel</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Nations of Canaan</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Solomon’s Israel</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Tabernacle Schematics</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Solomon’s Temple</a:t>
            </a:r>
            <a:endParaRPr b="0" lang="en-US" sz="2000" spc="-1" strike="noStrike">
              <a:solidFill>
                <a:srgbClr val="000000"/>
              </a:solidFill>
              <a:latin typeface="Arial"/>
            </a:endParaRPr>
          </a:p>
          <a:p>
            <a:pPr lvl="1" marL="743040" indent="-285840">
              <a:lnSpc>
                <a:spcPct val="87000"/>
              </a:lnSpc>
              <a:buClr>
                <a:srgbClr val="fafd00"/>
              </a:buClr>
              <a:buSzPct val="75000"/>
              <a:buFont typeface="Monotype Sorts"/>
              <a:buChar char=""/>
            </a:pPr>
            <a:r>
              <a:rPr b="1" lang="en-US" sz="2000" spc="-1" strike="noStrike">
                <a:solidFill>
                  <a:srgbClr val="ffffff"/>
                </a:solidFill>
                <a:latin typeface="Times New Roman"/>
                <a:ea typeface="Times New Roman"/>
              </a:rPr>
              <a:t>Divided Kingdom of Israel</a:t>
            </a:r>
            <a:endParaRPr b="0" lang="en-US" sz="2000" spc="-1" strike="noStrike">
              <a:solidFill>
                <a:srgbClr val="000000"/>
              </a:solidFill>
              <a:latin typeface="Arial"/>
            </a:endParaRPr>
          </a:p>
        </p:txBody>
      </p:sp>
      <p:sp>
        <p:nvSpPr>
          <p:cNvPr id="79" name=""/>
          <p:cNvSpPr txBox="1"/>
          <p:nvPr/>
        </p:nvSpPr>
        <p:spPr>
          <a:xfrm>
            <a:off x="4952880" y="152280"/>
            <a:ext cx="4114800" cy="6629400"/>
          </a:xfrm>
          <a:prstGeom prst="rect">
            <a:avLst/>
          </a:prstGeom>
          <a:noFill/>
          <a:ln w="0">
            <a:noFill/>
          </a:ln>
        </p:spPr>
        <p:txBody>
          <a:bodyPr lIns="0" rIns="0" tIns="0" bIns="0" anchor="t">
            <a:noAutofit/>
          </a:bodyPr>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Assyrian Empire</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Babylonian Empire</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Persian Empire</a:t>
            </a:r>
            <a:endParaRPr b="0" lang="en-US" sz="2000" spc="-1" strike="noStrike">
              <a:solidFill>
                <a:srgbClr val="000000"/>
              </a:solidFill>
              <a:latin typeface="Arial"/>
            </a:endParaRPr>
          </a:p>
          <a:p>
            <a:pPr marL="343080" indent="-343080">
              <a:lnSpc>
                <a:spcPct val="90000"/>
              </a:lnSpc>
              <a:buClr>
                <a:srgbClr val="fafd00"/>
              </a:buClr>
              <a:buSzPct val="75000"/>
              <a:buFont typeface="Monotype Sorts"/>
              <a:buChar char=""/>
            </a:pPr>
            <a:r>
              <a:rPr b="1" lang="en-US" sz="2400" spc="-1" strike="noStrike" u="sng">
                <a:solidFill>
                  <a:srgbClr val="fafd00"/>
                </a:solidFill>
                <a:uFillTx/>
                <a:latin typeface="Times New Roman"/>
                <a:ea typeface="Times New Roman"/>
              </a:rPr>
              <a:t>NEW Testament</a:t>
            </a:r>
            <a:endParaRPr b="0" lang="en-US" sz="24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Alexander the Great </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Roman Empire</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Israel in the New Testament</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Childhood of Jesus</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Paul-1st Missionary Journey</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Paul-</a:t>
            </a:r>
            <a:r>
              <a:rPr b="1" lang="en-US" sz="1800" spc="-1" strike="noStrike">
                <a:solidFill>
                  <a:srgbClr val="ffffff"/>
                </a:solidFill>
                <a:latin typeface="Times New Roman"/>
                <a:ea typeface="Times New Roman"/>
              </a:rPr>
              <a:t>2nd</a:t>
            </a:r>
            <a:r>
              <a:rPr b="1" lang="en-US" sz="2000" spc="-1" strike="noStrike">
                <a:solidFill>
                  <a:srgbClr val="ffffff"/>
                </a:solidFill>
                <a:latin typeface="Times New Roman"/>
                <a:ea typeface="Times New Roman"/>
              </a:rPr>
              <a:t> Missionary Journey</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Paul-</a:t>
            </a:r>
            <a:r>
              <a:rPr b="1" lang="en-US" sz="1800" spc="-1" strike="noStrike">
                <a:solidFill>
                  <a:srgbClr val="ffffff"/>
                </a:solidFill>
                <a:latin typeface="Times New Roman"/>
                <a:ea typeface="Times New Roman"/>
              </a:rPr>
              <a:t>3rd</a:t>
            </a:r>
            <a:r>
              <a:rPr b="1" lang="en-US" sz="2000" spc="-1" strike="noStrike">
                <a:solidFill>
                  <a:srgbClr val="ffffff"/>
                </a:solidFill>
                <a:latin typeface="Times New Roman"/>
                <a:ea typeface="Times New Roman"/>
              </a:rPr>
              <a:t> Missionary Journey</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Paul- Journey to Rome</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Corinth/Athens</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7 Churches of Asia (Revelation)</a:t>
            </a:r>
            <a:endParaRPr b="0" lang="en-US" sz="2000" spc="-1" strike="noStrike">
              <a:solidFill>
                <a:srgbClr val="000000"/>
              </a:solidFill>
              <a:latin typeface="Arial"/>
            </a:endParaRPr>
          </a:p>
          <a:p>
            <a:pPr marL="343080" indent="-343080">
              <a:lnSpc>
                <a:spcPct val="90000"/>
              </a:lnSpc>
              <a:buClr>
                <a:srgbClr val="fafd00"/>
              </a:buClr>
              <a:buSzPct val="75000"/>
              <a:buFont typeface="Monotype Sorts"/>
              <a:buChar char=""/>
            </a:pPr>
            <a:r>
              <a:rPr b="1" lang="en-US" sz="2400" spc="-1" strike="noStrike" u="sng">
                <a:solidFill>
                  <a:srgbClr val="fafd00"/>
                </a:solidFill>
                <a:uFillTx/>
                <a:latin typeface="Times New Roman"/>
                <a:ea typeface="Times New Roman"/>
              </a:rPr>
              <a:t>MODERN Maps</a:t>
            </a:r>
            <a:endParaRPr b="0" lang="en-US" sz="24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Modern Israel</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Blank Maps of Israel, Sinai and Bible Land Area</a:t>
            </a:r>
            <a:endParaRPr b="0" lang="en-US" sz="2000" spc="-1" strike="noStrike">
              <a:solidFill>
                <a:srgbClr val="000000"/>
              </a:solidFill>
              <a:latin typeface="Arial"/>
            </a:endParaRPr>
          </a:p>
          <a:p>
            <a:pPr marL="343080" indent="-343080">
              <a:lnSpc>
                <a:spcPct val="90000"/>
              </a:lnSpc>
              <a:buClr>
                <a:srgbClr val="fafd00"/>
              </a:buClr>
              <a:buSzPct val="75000"/>
              <a:buFont typeface="Monotype Sorts"/>
              <a:buChar char=""/>
            </a:pPr>
            <a:r>
              <a:rPr b="1" lang="en-US" sz="2400" spc="-1" strike="noStrike" u="sng">
                <a:solidFill>
                  <a:srgbClr val="fafd00"/>
                </a:solidFill>
                <a:uFillTx/>
                <a:latin typeface="Times New Roman"/>
                <a:ea typeface="Times New Roman"/>
              </a:rPr>
              <a:t>OTHER</a:t>
            </a:r>
            <a:endParaRPr b="0" lang="en-US" sz="24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Cubit Diagram Sample</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Tips/Resources</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Author</a:t>
            </a:r>
            <a:endParaRPr b="0" lang="en-US" sz="2000" spc="-1" strike="noStrike">
              <a:solidFill>
                <a:srgbClr val="000000"/>
              </a:solidFill>
              <a:latin typeface="Arial"/>
            </a:endParaRPr>
          </a:p>
        </p:txBody>
      </p:sp>
      <p:sp>
        <p:nvSpPr>
          <p:cNvPr id="80" name=""/>
          <p:cNvSpPr/>
          <p:nvPr/>
        </p:nvSpPr>
        <p:spPr>
          <a:xfrm>
            <a:off x="152280" y="533520"/>
            <a:ext cx="990720" cy="5638680"/>
          </a:xfrm>
          <a:prstGeom prst="rect">
            <a:avLst/>
          </a:prstGeom>
          <a:noFill/>
          <a:ln w="76320">
            <a:solidFill>
              <a:srgbClr val="fafd00"/>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55" name=""/>
          <p:cNvGrpSpPr/>
          <p:nvPr/>
        </p:nvGrpSpPr>
        <p:grpSpPr>
          <a:xfrm>
            <a:off x="228600" y="533520"/>
            <a:ext cx="4114800" cy="5257800"/>
            <a:chOff x="228600" y="533520"/>
            <a:chExt cx="4114800" cy="5257800"/>
          </a:xfrm>
        </p:grpSpPr>
        <p:sp>
          <p:nvSpPr>
            <p:cNvPr id="356" name=""/>
            <p:cNvSpPr txBox="1"/>
            <p:nvPr/>
          </p:nvSpPr>
          <p:spPr>
            <a:xfrm>
              <a:off x="228600" y="533520"/>
              <a:ext cx="4114800" cy="1143000"/>
            </a:xfrm>
            <a:prstGeom prst="rect">
              <a:avLst/>
            </a:prstGeom>
            <a:noFill/>
            <a:ln w="0">
              <a:noFill/>
            </a:ln>
          </p:spPr>
          <p:txBody>
            <a:bodyPr lIns="0" rIns="0" tIns="0" bIns="0" anchor="t">
              <a:noAutofit/>
            </a:bodyPr>
            <a:p>
              <a:pPr>
                <a:lnSpc>
                  <a:spcPct val="100000"/>
                </a:lnSpc>
              </a:pPr>
              <a:r>
                <a:rPr b="1" lang="en-US" sz="4400" spc="-1" strike="noStrike" u="sng">
                  <a:solidFill>
                    <a:srgbClr val="fafd00"/>
                  </a:solidFill>
                  <a:uFillTx/>
                  <a:latin typeface="Arial"/>
                  <a:ea typeface="Arial"/>
                </a:rPr>
                <a:t>Other Nations</a:t>
              </a:r>
              <a:endParaRPr b="0" lang="en-US" sz="4400" spc="-1" strike="noStrike">
                <a:solidFill>
                  <a:srgbClr val="000000"/>
                </a:solidFill>
                <a:latin typeface="Arial"/>
              </a:endParaRPr>
            </a:p>
          </p:txBody>
        </p:sp>
        <p:sp>
          <p:nvSpPr>
            <p:cNvPr id="357" name=""/>
            <p:cNvSpPr txBox="1"/>
            <p:nvPr/>
          </p:nvSpPr>
          <p:spPr>
            <a:xfrm>
              <a:off x="380880" y="1676520"/>
              <a:ext cx="3809880" cy="4114800"/>
            </a:xfrm>
            <a:prstGeom prst="rect">
              <a:avLst/>
            </a:prstGeom>
            <a:noFill/>
            <a:ln w="0">
              <a:noFill/>
            </a:ln>
          </p:spPr>
          <p:txBody>
            <a:bodyPr lIns="0" rIns="0" tIns="0" bIns="0" anchor="t">
              <a:noAutofit/>
            </a:bodyPr>
            <a:p>
              <a:pPr marL="343080" indent="-343080">
                <a:lnSpc>
                  <a:spcPct val="90000"/>
                </a:lnSpc>
                <a:spcBef>
                  <a:spcPts val="479"/>
                </a:spcBef>
                <a:buClr>
                  <a:srgbClr val="c0fef9"/>
                </a:buClr>
                <a:buSzPct val="75000"/>
                <a:buFont typeface="Monotype Sorts"/>
                <a:buChar char=""/>
              </a:pPr>
              <a:r>
                <a:rPr b="1" lang="en-US" sz="3600" spc="-1" strike="noStrike">
                  <a:solidFill>
                    <a:srgbClr val="ffffff"/>
                  </a:solidFill>
                  <a:latin typeface="Arial"/>
                  <a:ea typeface="Arial"/>
                </a:rPr>
                <a:t>Canaanites</a:t>
              </a:r>
              <a:endParaRPr b="0" lang="en-US" sz="3600" spc="-1" strike="noStrike">
                <a:solidFill>
                  <a:srgbClr val="000000"/>
                </a:solidFill>
                <a:latin typeface="Arial"/>
              </a:endParaRPr>
            </a:p>
            <a:p>
              <a:pPr marL="343080" indent="-343080">
                <a:lnSpc>
                  <a:spcPct val="90000"/>
                </a:lnSpc>
                <a:spcBef>
                  <a:spcPts val="479"/>
                </a:spcBef>
                <a:buClr>
                  <a:srgbClr val="c0fef9"/>
                </a:buClr>
                <a:buSzPct val="75000"/>
                <a:buFont typeface="Monotype Sorts"/>
                <a:buChar char=""/>
              </a:pPr>
              <a:r>
                <a:rPr b="1" lang="en-US" sz="3600" spc="-1" strike="noStrike">
                  <a:solidFill>
                    <a:srgbClr val="ffffff"/>
                  </a:solidFill>
                  <a:latin typeface="Arial"/>
                  <a:ea typeface="Arial"/>
                </a:rPr>
                <a:t>Hittites</a:t>
              </a:r>
              <a:endParaRPr b="0" lang="en-US" sz="3600" spc="-1" strike="noStrike">
                <a:solidFill>
                  <a:srgbClr val="000000"/>
                </a:solidFill>
                <a:latin typeface="Arial"/>
              </a:endParaRPr>
            </a:p>
            <a:p>
              <a:pPr marL="343080" indent="-343080">
                <a:lnSpc>
                  <a:spcPct val="90000"/>
                </a:lnSpc>
                <a:spcBef>
                  <a:spcPts val="479"/>
                </a:spcBef>
                <a:buClr>
                  <a:srgbClr val="c0fef9"/>
                </a:buClr>
                <a:buSzPct val="75000"/>
                <a:buFont typeface="Monotype Sorts"/>
                <a:buChar char=""/>
              </a:pPr>
              <a:r>
                <a:rPr b="1" lang="en-US" sz="3600" spc="-1" strike="noStrike">
                  <a:solidFill>
                    <a:srgbClr val="ffffff"/>
                  </a:solidFill>
                  <a:latin typeface="Arial"/>
                  <a:ea typeface="Arial"/>
                </a:rPr>
                <a:t>Philistines</a:t>
              </a:r>
              <a:endParaRPr b="0" lang="en-US" sz="3600" spc="-1" strike="noStrike">
                <a:solidFill>
                  <a:srgbClr val="000000"/>
                </a:solidFill>
                <a:latin typeface="Arial"/>
              </a:endParaRPr>
            </a:p>
            <a:p>
              <a:pPr marL="343080" indent="-343080">
                <a:lnSpc>
                  <a:spcPct val="90000"/>
                </a:lnSpc>
                <a:spcBef>
                  <a:spcPts val="479"/>
                </a:spcBef>
                <a:buClr>
                  <a:srgbClr val="c0fef9"/>
                </a:buClr>
                <a:buSzPct val="75000"/>
                <a:buFont typeface="Monotype Sorts"/>
                <a:buChar char=""/>
              </a:pPr>
              <a:r>
                <a:rPr b="1" lang="en-US" sz="3600" spc="-1" strike="noStrike">
                  <a:solidFill>
                    <a:srgbClr val="ffffff"/>
                  </a:solidFill>
                  <a:latin typeface="Arial"/>
                  <a:ea typeface="Arial"/>
                </a:rPr>
                <a:t>Phoenicians</a:t>
              </a:r>
              <a:endParaRPr b="0" lang="en-US" sz="3600" spc="-1" strike="noStrike">
                <a:solidFill>
                  <a:srgbClr val="000000"/>
                </a:solidFill>
                <a:latin typeface="Arial"/>
              </a:endParaRPr>
            </a:p>
            <a:p>
              <a:pPr marL="343080" indent="-343080">
                <a:lnSpc>
                  <a:spcPct val="90000"/>
                </a:lnSpc>
                <a:spcBef>
                  <a:spcPts val="479"/>
                </a:spcBef>
                <a:buClr>
                  <a:srgbClr val="c0fef9"/>
                </a:buClr>
                <a:buSzPct val="75000"/>
                <a:buFont typeface="Monotype Sorts"/>
                <a:buChar char=""/>
              </a:pPr>
              <a:r>
                <a:rPr b="1" lang="en-US" sz="3600" spc="-1" strike="noStrike">
                  <a:solidFill>
                    <a:srgbClr val="ffffff"/>
                  </a:solidFill>
                  <a:latin typeface="Arial"/>
                  <a:ea typeface="Arial"/>
                </a:rPr>
                <a:t>Moabites</a:t>
              </a:r>
              <a:endParaRPr b="0" lang="en-US" sz="3600" spc="-1" strike="noStrike">
                <a:solidFill>
                  <a:srgbClr val="000000"/>
                </a:solidFill>
                <a:latin typeface="Arial"/>
              </a:endParaRPr>
            </a:p>
            <a:p>
              <a:pPr marL="343080" indent="-343080">
                <a:lnSpc>
                  <a:spcPct val="90000"/>
                </a:lnSpc>
                <a:spcBef>
                  <a:spcPts val="479"/>
                </a:spcBef>
                <a:buClr>
                  <a:srgbClr val="c0fef9"/>
                </a:buClr>
                <a:buSzPct val="75000"/>
                <a:buFont typeface="Monotype Sorts"/>
                <a:buChar char=""/>
              </a:pPr>
              <a:r>
                <a:rPr b="1" lang="en-US" sz="3600" spc="-1" strike="noStrike">
                  <a:solidFill>
                    <a:srgbClr val="ffffff"/>
                  </a:solidFill>
                  <a:latin typeface="Arial"/>
                  <a:ea typeface="Arial"/>
                </a:rPr>
                <a:t>Ammonites</a:t>
              </a:r>
              <a:endParaRPr b="0" lang="en-US" sz="3600" spc="-1" strike="noStrike">
                <a:solidFill>
                  <a:srgbClr val="000000"/>
                </a:solidFill>
                <a:latin typeface="Arial"/>
              </a:endParaRPr>
            </a:p>
            <a:p>
              <a:pPr marL="343080" indent="-343080">
                <a:lnSpc>
                  <a:spcPct val="90000"/>
                </a:lnSpc>
                <a:spcBef>
                  <a:spcPts val="479"/>
                </a:spcBef>
                <a:buClr>
                  <a:srgbClr val="c0fef9"/>
                </a:buClr>
                <a:buSzPct val="75000"/>
                <a:buFont typeface="Monotype Sorts"/>
                <a:buChar char=""/>
              </a:pPr>
              <a:r>
                <a:rPr b="1" lang="en-US" sz="3600" spc="-1" strike="noStrike">
                  <a:solidFill>
                    <a:srgbClr val="ffffff"/>
                  </a:solidFill>
                  <a:latin typeface="Arial"/>
                  <a:ea typeface="Arial"/>
                </a:rPr>
                <a:t>Edomites</a:t>
              </a:r>
              <a:endParaRPr b="0" lang="en-US" sz="3600" spc="-1" strike="noStrike">
                <a:solidFill>
                  <a:srgbClr val="000000"/>
                </a:solidFill>
                <a:latin typeface="Arial"/>
              </a:endParaRPr>
            </a:p>
            <a:p>
              <a:pPr marL="343080" indent="-343080">
                <a:lnSpc>
                  <a:spcPct val="90000"/>
                </a:lnSpc>
                <a:spcBef>
                  <a:spcPts val="479"/>
                </a:spcBef>
                <a:buClr>
                  <a:srgbClr val="c0fef9"/>
                </a:buClr>
                <a:buSzPct val="75000"/>
                <a:buFont typeface="Monotype Sorts"/>
                <a:buChar char=""/>
              </a:pPr>
              <a:r>
                <a:rPr b="1" lang="en-US" sz="3600" spc="-1" strike="noStrike">
                  <a:solidFill>
                    <a:srgbClr val="ffffff"/>
                  </a:solidFill>
                  <a:latin typeface="Arial"/>
                  <a:ea typeface="Arial"/>
                </a:rPr>
                <a:t>Midianites</a:t>
              </a:r>
              <a:endParaRPr b="0" lang="en-US" sz="3600" spc="-1" strike="noStrike">
                <a:solidFill>
                  <a:srgbClr val="000000"/>
                </a:solidFill>
                <a:latin typeface="Arial"/>
              </a:endParaRPr>
            </a:p>
          </p:txBody>
        </p:sp>
      </p:grpSp>
      <p:grpSp>
        <p:nvGrpSpPr>
          <p:cNvPr id="358" name=""/>
          <p:cNvGrpSpPr/>
          <p:nvPr/>
        </p:nvGrpSpPr>
        <p:grpSpPr>
          <a:xfrm>
            <a:off x="3886200" y="101520"/>
            <a:ext cx="5181480" cy="6645600"/>
            <a:chOff x="3886200" y="101520"/>
            <a:chExt cx="5181480" cy="6645600"/>
          </a:xfrm>
        </p:grpSpPr>
        <p:pic>
          <p:nvPicPr>
            <p:cNvPr id="359" name="" descr=""/>
            <p:cNvPicPr/>
            <p:nvPr/>
          </p:nvPicPr>
          <p:blipFill>
            <a:blip r:embed="rId1"/>
            <a:stretch/>
          </p:blipFill>
          <p:spPr>
            <a:xfrm>
              <a:off x="4576680" y="108000"/>
              <a:ext cx="4476600" cy="6618240"/>
            </a:xfrm>
            <a:prstGeom prst="rect">
              <a:avLst/>
            </a:prstGeom>
            <a:ln w="0">
              <a:noFill/>
            </a:ln>
          </p:spPr>
        </p:pic>
        <p:sp>
          <p:nvSpPr>
            <p:cNvPr id="360" name=""/>
            <p:cNvSpPr/>
            <p:nvPr/>
          </p:nvSpPr>
          <p:spPr>
            <a:xfrm>
              <a:off x="7218360" y="2590920"/>
              <a:ext cx="173520" cy="2189520"/>
            </a:xfrm>
            <a:custGeom>
              <a:avLst/>
              <a:gdLst/>
              <a:ahLst/>
              <a:rect l="0" t="0" r="r" b="b"/>
              <a:pathLst>
                <a:path fill="none" w="482" h="6082">
                  <a:moveTo>
                    <a:pt x="0" y="0"/>
                  </a:moveTo>
                  <a:lnTo>
                    <a:pt x="0" y="44"/>
                  </a:lnTo>
                  <a:lnTo>
                    <a:pt x="13" y="101"/>
                  </a:lnTo>
                  <a:lnTo>
                    <a:pt x="26" y="154"/>
                  </a:lnTo>
                  <a:lnTo>
                    <a:pt x="26" y="198"/>
                  </a:lnTo>
                  <a:lnTo>
                    <a:pt x="26" y="242"/>
                  </a:lnTo>
                  <a:lnTo>
                    <a:pt x="26" y="295"/>
                  </a:lnTo>
                  <a:lnTo>
                    <a:pt x="26" y="339"/>
                  </a:lnTo>
                  <a:lnTo>
                    <a:pt x="26" y="383"/>
                  </a:lnTo>
                  <a:lnTo>
                    <a:pt x="26" y="436"/>
                  </a:lnTo>
                  <a:lnTo>
                    <a:pt x="26" y="480"/>
                  </a:lnTo>
                  <a:lnTo>
                    <a:pt x="26" y="524"/>
                  </a:lnTo>
                  <a:lnTo>
                    <a:pt x="26" y="577"/>
                  </a:lnTo>
                  <a:lnTo>
                    <a:pt x="26" y="621"/>
                  </a:lnTo>
                  <a:lnTo>
                    <a:pt x="26" y="665"/>
                  </a:lnTo>
                  <a:lnTo>
                    <a:pt x="26" y="718"/>
                  </a:lnTo>
                  <a:lnTo>
                    <a:pt x="26" y="762"/>
                  </a:lnTo>
                  <a:lnTo>
                    <a:pt x="26" y="806"/>
                  </a:lnTo>
                  <a:lnTo>
                    <a:pt x="26" y="859"/>
                  </a:lnTo>
                  <a:lnTo>
                    <a:pt x="26" y="903"/>
                  </a:lnTo>
                  <a:lnTo>
                    <a:pt x="26" y="948"/>
                  </a:lnTo>
                  <a:lnTo>
                    <a:pt x="44" y="1001"/>
                  </a:lnTo>
                  <a:lnTo>
                    <a:pt x="57" y="1045"/>
                  </a:lnTo>
                  <a:lnTo>
                    <a:pt x="70" y="1089"/>
                  </a:lnTo>
                  <a:lnTo>
                    <a:pt x="70" y="1142"/>
                  </a:lnTo>
                  <a:lnTo>
                    <a:pt x="70" y="1186"/>
                  </a:lnTo>
                  <a:lnTo>
                    <a:pt x="70" y="1230"/>
                  </a:lnTo>
                  <a:lnTo>
                    <a:pt x="70" y="1340"/>
                  </a:lnTo>
                  <a:lnTo>
                    <a:pt x="57" y="1384"/>
                  </a:lnTo>
                  <a:lnTo>
                    <a:pt x="57" y="1441"/>
                  </a:lnTo>
                  <a:lnTo>
                    <a:pt x="70" y="1494"/>
                  </a:lnTo>
                  <a:lnTo>
                    <a:pt x="83" y="1538"/>
                  </a:lnTo>
                  <a:lnTo>
                    <a:pt x="83" y="1583"/>
                  </a:lnTo>
                  <a:lnTo>
                    <a:pt x="97" y="1636"/>
                  </a:lnTo>
                  <a:lnTo>
                    <a:pt x="114" y="1680"/>
                  </a:lnTo>
                  <a:lnTo>
                    <a:pt x="142" y="1724"/>
                  </a:lnTo>
                  <a:lnTo>
                    <a:pt x="142" y="1777"/>
                  </a:lnTo>
                  <a:lnTo>
                    <a:pt x="142" y="1821"/>
                  </a:lnTo>
                  <a:lnTo>
                    <a:pt x="142" y="1918"/>
                  </a:lnTo>
                  <a:lnTo>
                    <a:pt x="142" y="2046"/>
                  </a:lnTo>
                  <a:lnTo>
                    <a:pt x="142" y="2090"/>
                  </a:lnTo>
                  <a:lnTo>
                    <a:pt x="142" y="2200"/>
                  </a:lnTo>
                  <a:lnTo>
                    <a:pt x="142" y="2244"/>
                  </a:lnTo>
                  <a:lnTo>
                    <a:pt x="142" y="2288"/>
                  </a:lnTo>
                  <a:lnTo>
                    <a:pt x="155" y="2341"/>
                  </a:lnTo>
                  <a:lnTo>
                    <a:pt x="168" y="2385"/>
                  </a:lnTo>
                  <a:lnTo>
                    <a:pt x="168" y="2429"/>
                  </a:lnTo>
                  <a:lnTo>
                    <a:pt x="168" y="2482"/>
                  </a:lnTo>
                  <a:lnTo>
                    <a:pt x="168" y="2526"/>
                  </a:lnTo>
                  <a:lnTo>
                    <a:pt x="168" y="2570"/>
                  </a:lnTo>
                  <a:lnTo>
                    <a:pt x="168" y="2623"/>
                  </a:lnTo>
                  <a:lnTo>
                    <a:pt x="186" y="2667"/>
                  </a:lnTo>
                  <a:lnTo>
                    <a:pt x="186" y="2764"/>
                  </a:lnTo>
                  <a:lnTo>
                    <a:pt x="199" y="2808"/>
                  </a:lnTo>
                  <a:lnTo>
                    <a:pt x="212" y="2936"/>
                  </a:lnTo>
                  <a:lnTo>
                    <a:pt x="212" y="2994"/>
                  </a:lnTo>
                  <a:lnTo>
                    <a:pt x="225" y="3048"/>
                  </a:lnTo>
                  <a:lnTo>
                    <a:pt x="225" y="3092"/>
                  </a:lnTo>
                  <a:lnTo>
                    <a:pt x="239" y="3136"/>
                  </a:lnTo>
                  <a:lnTo>
                    <a:pt x="256" y="3189"/>
                  </a:lnTo>
                  <a:lnTo>
                    <a:pt x="256" y="3233"/>
                  </a:lnTo>
                  <a:lnTo>
                    <a:pt x="269" y="3330"/>
                  </a:lnTo>
                  <a:lnTo>
                    <a:pt x="269" y="3374"/>
                  </a:lnTo>
                  <a:lnTo>
                    <a:pt x="269" y="3418"/>
                  </a:lnTo>
                  <a:lnTo>
                    <a:pt x="269" y="3471"/>
                  </a:lnTo>
                  <a:lnTo>
                    <a:pt x="269" y="3515"/>
                  </a:lnTo>
                  <a:lnTo>
                    <a:pt x="256" y="3559"/>
                  </a:lnTo>
                  <a:lnTo>
                    <a:pt x="256" y="3683"/>
                  </a:lnTo>
                  <a:lnTo>
                    <a:pt x="239" y="3727"/>
                  </a:lnTo>
                  <a:lnTo>
                    <a:pt x="225" y="3771"/>
                  </a:lnTo>
                  <a:lnTo>
                    <a:pt x="225" y="3824"/>
                  </a:lnTo>
                  <a:lnTo>
                    <a:pt x="225" y="3868"/>
                  </a:lnTo>
                  <a:lnTo>
                    <a:pt x="225" y="3912"/>
                  </a:lnTo>
                  <a:lnTo>
                    <a:pt x="225" y="3965"/>
                  </a:lnTo>
                  <a:lnTo>
                    <a:pt x="225" y="4009"/>
                  </a:lnTo>
                  <a:lnTo>
                    <a:pt x="212" y="4053"/>
                  </a:lnTo>
                  <a:lnTo>
                    <a:pt x="199" y="4106"/>
                  </a:lnTo>
                  <a:lnTo>
                    <a:pt x="199" y="4150"/>
                  </a:lnTo>
                  <a:lnTo>
                    <a:pt x="199" y="4194"/>
                  </a:lnTo>
                  <a:lnTo>
                    <a:pt x="199" y="4247"/>
                  </a:lnTo>
                  <a:lnTo>
                    <a:pt x="199" y="4291"/>
                  </a:lnTo>
                  <a:lnTo>
                    <a:pt x="186" y="4335"/>
                  </a:lnTo>
                  <a:lnTo>
                    <a:pt x="186" y="4388"/>
                  </a:lnTo>
                  <a:lnTo>
                    <a:pt x="186" y="4432"/>
                  </a:lnTo>
                  <a:lnTo>
                    <a:pt x="186" y="4476"/>
                  </a:lnTo>
                  <a:lnTo>
                    <a:pt x="186" y="4529"/>
                  </a:lnTo>
                  <a:lnTo>
                    <a:pt x="199" y="4573"/>
                  </a:lnTo>
                  <a:lnTo>
                    <a:pt x="225" y="4617"/>
                  </a:lnTo>
                  <a:lnTo>
                    <a:pt x="256" y="4670"/>
                  </a:lnTo>
                  <a:lnTo>
                    <a:pt x="269" y="4714"/>
                  </a:lnTo>
                  <a:lnTo>
                    <a:pt x="283" y="4759"/>
                  </a:lnTo>
                  <a:lnTo>
                    <a:pt x="296" y="4812"/>
                  </a:lnTo>
                  <a:lnTo>
                    <a:pt x="327" y="4856"/>
                  </a:lnTo>
                  <a:lnTo>
                    <a:pt x="353" y="4900"/>
                  </a:lnTo>
                  <a:lnTo>
                    <a:pt x="368" y="4953"/>
                  </a:lnTo>
                  <a:lnTo>
                    <a:pt x="381" y="4997"/>
                  </a:lnTo>
                  <a:lnTo>
                    <a:pt x="381" y="5041"/>
                  </a:lnTo>
                  <a:lnTo>
                    <a:pt x="381" y="5094"/>
                  </a:lnTo>
                  <a:lnTo>
                    <a:pt x="381" y="5138"/>
                  </a:lnTo>
                  <a:lnTo>
                    <a:pt x="381" y="5182"/>
                  </a:lnTo>
                  <a:lnTo>
                    <a:pt x="381" y="5235"/>
                  </a:lnTo>
                  <a:lnTo>
                    <a:pt x="381" y="5279"/>
                  </a:lnTo>
                  <a:lnTo>
                    <a:pt x="398" y="5323"/>
                  </a:lnTo>
                  <a:lnTo>
                    <a:pt x="412" y="5376"/>
                  </a:lnTo>
                  <a:lnTo>
                    <a:pt x="412" y="5420"/>
                  </a:lnTo>
                  <a:lnTo>
                    <a:pt x="425" y="5464"/>
                  </a:lnTo>
                  <a:lnTo>
                    <a:pt x="425" y="5517"/>
                  </a:lnTo>
                  <a:lnTo>
                    <a:pt x="425" y="5561"/>
                  </a:lnTo>
                  <a:lnTo>
                    <a:pt x="438" y="5605"/>
                  </a:lnTo>
                  <a:lnTo>
                    <a:pt x="451" y="5658"/>
                  </a:lnTo>
                  <a:lnTo>
                    <a:pt x="469" y="5702"/>
                  </a:lnTo>
                  <a:lnTo>
                    <a:pt x="469" y="5746"/>
                  </a:lnTo>
                  <a:lnTo>
                    <a:pt x="469" y="5799"/>
                  </a:lnTo>
                  <a:lnTo>
                    <a:pt x="469" y="5843"/>
                  </a:lnTo>
                  <a:lnTo>
                    <a:pt x="469" y="5887"/>
                  </a:lnTo>
                  <a:lnTo>
                    <a:pt x="469" y="5940"/>
                  </a:lnTo>
                  <a:lnTo>
                    <a:pt x="469" y="5984"/>
                  </a:lnTo>
                  <a:lnTo>
                    <a:pt x="469" y="6029"/>
                  </a:lnTo>
                  <a:lnTo>
                    <a:pt x="482" y="6082"/>
                  </a:lnTo>
                </a:path>
              </a:pathLst>
            </a:custGeom>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txBox="1"/>
            <p:nvPr/>
          </p:nvSpPr>
          <p:spPr>
            <a:xfrm>
              <a:off x="5626080" y="1346040"/>
              <a:ext cx="1827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Black"/>
                  <a:ea typeface="Arial Black"/>
                </a:rPr>
                <a:t>Phoenicia</a:t>
              </a:r>
              <a:endParaRPr b="0" lang="en-US" sz="2400" spc="-1" strike="noStrike">
                <a:solidFill>
                  <a:srgbClr val="000000"/>
                </a:solidFill>
                <a:latin typeface="Arial"/>
              </a:endParaRPr>
            </a:p>
          </p:txBody>
        </p:sp>
        <p:sp>
          <p:nvSpPr>
            <p:cNvPr id="362" name=""/>
            <p:cNvSpPr txBox="1"/>
            <p:nvPr/>
          </p:nvSpPr>
          <p:spPr>
            <a:xfrm>
              <a:off x="4714920" y="5683320"/>
              <a:ext cx="13129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Black"/>
                  <a:ea typeface="Arial Black"/>
                </a:rPr>
                <a:t>Philistia</a:t>
              </a:r>
              <a:endParaRPr b="0" lang="en-US" sz="2000" spc="-1" strike="noStrike">
                <a:solidFill>
                  <a:srgbClr val="000000"/>
                </a:solidFill>
                <a:latin typeface="Arial"/>
              </a:endParaRPr>
            </a:p>
          </p:txBody>
        </p:sp>
        <p:sp>
          <p:nvSpPr>
            <p:cNvPr id="363" name=""/>
            <p:cNvSpPr txBox="1"/>
            <p:nvPr/>
          </p:nvSpPr>
          <p:spPr>
            <a:xfrm>
              <a:off x="5803920" y="3416400"/>
              <a:ext cx="138744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Narrow"/>
                  <a:ea typeface="Arial Narrow"/>
                </a:rPr>
                <a:t>Canaan</a:t>
              </a:r>
              <a:endParaRPr b="0" lang="en-US" sz="3200" spc="-1" strike="noStrike">
                <a:solidFill>
                  <a:srgbClr val="000000"/>
                </a:solidFill>
                <a:latin typeface="Arial"/>
              </a:endParaRPr>
            </a:p>
          </p:txBody>
        </p:sp>
        <p:sp>
          <p:nvSpPr>
            <p:cNvPr id="364" name=""/>
            <p:cNvSpPr/>
            <p:nvPr/>
          </p:nvSpPr>
          <p:spPr>
            <a:xfrm>
              <a:off x="6891480" y="4699080"/>
              <a:ext cx="90720" cy="98640"/>
            </a:xfrm>
            <a:custGeom>
              <a:avLst/>
              <a:gdLst/>
              <a:ahLst/>
              <a:rect l="0" t="0" r="r" b="b"/>
              <a:pathLst>
                <a:path w="252" h="274">
                  <a:moveTo>
                    <a:pt x="125" y="0"/>
                  </a:moveTo>
                  <a:lnTo>
                    <a:pt x="96" y="104"/>
                  </a:lnTo>
                  <a:lnTo>
                    <a:pt x="0" y="104"/>
                  </a:lnTo>
                  <a:lnTo>
                    <a:pt x="78" y="170"/>
                  </a:lnTo>
                  <a:lnTo>
                    <a:pt x="48" y="274"/>
                  </a:lnTo>
                  <a:lnTo>
                    <a:pt x="125" y="214"/>
                  </a:lnTo>
                  <a:lnTo>
                    <a:pt x="203" y="274"/>
                  </a:lnTo>
                  <a:lnTo>
                    <a:pt x="173" y="170"/>
                  </a:lnTo>
                  <a:lnTo>
                    <a:pt x="252" y="104"/>
                  </a:lnTo>
                  <a:lnTo>
                    <a:pt x="156" y="104"/>
                  </a:lnTo>
                  <a:lnTo>
                    <a:pt x="125" y="0"/>
                  </a:lnTo>
                  <a:close/>
                </a:path>
              </a:pathLst>
            </a:custGeom>
            <a:solidFill>
              <a:srgbClr val="fc0128"/>
            </a:solidFill>
            <a:ln w="12600">
              <a:solidFill>
                <a:srgbClr val="fc0128"/>
              </a:solidFill>
              <a:round/>
            </a:ln>
          </p:spPr>
          <p:txBody>
            <a:bodyPr lIns="96120" rIns="96120" tIns="47520" bIns="47520" anchor="t">
              <a:noAutofit/>
            </a:bodyPr>
            <a:p>
              <a:endParaRPr b="0" lang="en-US" sz="1800" spc="-1" strike="noStrike">
                <a:solidFill>
                  <a:srgbClr val="000000"/>
                </a:solidFill>
                <a:latin typeface="Arial"/>
              </a:endParaRPr>
            </a:p>
          </p:txBody>
        </p:sp>
        <p:sp>
          <p:nvSpPr>
            <p:cNvPr id="365" name=""/>
            <p:cNvSpPr txBox="1"/>
            <p:nvPr/>
          </p:nvSpPr>
          <p:spPr>
            <a:xfrm>
              <a:off x="6016680" y="4726080"/>
              <a:ext cx="1189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Jerusalem</a:t>
              </a:r>
              <a:endParaRPr b="0" lang="en-US" sz="1600" spc="-1" strike="noStrike">
                <a:solidFill>
                  <a:srgbClr val="000000"/>
                </a:solidFill>
                <a:latin typeface="Arial"/>
              </a:endParaRPr>
            </a:p>
          </p:txBody>
        </p:sp>
        <p:sp>
          <p:nvSpPr>
            <p:cNvPr id="366" name=""/>
            <p:cNvSpPr txBox="1"/>
            <p:nvPr/>
          </p:nvSpPr>
          <p:spPr>
            <a:xfrm>
              <a:off x="6861240" y="5105520"/>
              <a:ext cx="98424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Dead Sea</a:t>
              </a:r>
              <a:endParaRPr b="0" lang="en-US" sz="1400" spc="-1" strike="noStrike">
                <a:solidFill>
                  <a:srgbClr val="000000"/>
                </a:solidFill>
                <a:latin typeface="Arial"/>
              </a:endParaRPr>
            </a:p>
          </p:txBody>
        </p:sp>
        <p:sp>
          <p:nvSpPr>
            <p:cNvPr id="367" name=""/>
            <p:cNvSpPr txBox="1"/>
            <p:nvPr/>
          </p:nvSpPr>
          <p:spPr>
            <a:xfrm>
              <a:off x="6929280" y="2195640"/>
              <a:ext cx="59364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Narrow"/>
                  <a:ea typeface="Arial Narrow"/>
                </a:rPr>
                <a:t>Galilee</a:t>
              </a:r>
              <a:endParaRPr b="0" lang="en-US" sz="1200" spc="-1" strike="noStrike">
                <a:solidFill>
                  <a:srgbClr val="000000"/>
                </a:solidFill>
                <a:latin typeface="Arial"/>
              </a:endParaRPr>
            </a:p>
          </p:txBody>
        </p:sp>
        <p:sp>
          <p:nvSpPr>
            <p:cNvPr id="368" name=""/>
            <p:cNvSpPr txBox="1"/>
            <p:nvPr/>
          </p:nvSpPr>
          <p:spPr>
            <a:xfrm>
              <a:off x="6873840" y="3619440"/>
              <a:ext cx="6922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Jordan</a:t>
              </a:r>
              <a:endParaRPr b="0" lang="en-US" sz="1200" spc="-1" strike="noStrike">
                <a:solidFill>
                  <a:srgbClr val="000000"/>
                </a:solidFill>
                <a:latin typeface="Arial"/>
              </a:endParaRPr>
            </a:p>
          </p:txBody>
        </p:sp>
        <p:sp>
          <p:nvSpPr>
            <p:cNvPr id="369" name=""/>
            <p:cNvSpPr txBox="1"/>
            <p:nvPr/>
          </p:nvSpPr>
          <p:spPr>
            <a:xfrm>
              <a:off x="6923160" y="3009960"/>
              <a:ext cx="5652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River</a:t>
              </a:r>
              <a:endParaRPr b="0" lang="en-US" sz="1200" spc="-1" strike="noStrike">
                <a:solidFill>
                  <a:srgbClr val="000000"/>
                </a:solidFill>
                <a:latin typeface="Arial"/>
              </a:endParaRPr>
            </a:p>
          </p:txBody>
        </p:sp>
        <p:sp>
          <p:nvSpPr>
            <p:cNvPr id="370" name=""/>
            <p:cNvSpPr txBox="1"/>
            <p:nvPr/>
          </p:nvSpPr>
          <p:spPr>
            <a:xfrm>
              <a:off x="7724880" y="6456240"/>
              <a:ext cx="12924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NASA PHOTO</a:t>
              </a:r>
              <a:endParaRPr b="0" lang="en-US" sz="1200" spc="-1" strike="noStrike">
                <a:solidFill>
                  <a:srgbClr val="000000"/>
                </a:solidFill>
                <a:latin typeface="Arial"/>
              </a:endParaRPr>
            </a:p>
          </p:txBody>
        </p:sp>
        <p:sp>
          <p:nvSpPr>
            <p:cNvPr id="371" name=""/>
            <p:cNvSpPr txBox="1"/>
            <p:nvPr/>
          </p:nvSpPr>
          <p:spPr>
            <a:xfrm>
              <a:off x="7467480" y="6324480"/>
              <a:ext cx="160020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EBibleTeacher.com</a:t>
              </a:r>
              <a:endParaRPr b="0" lang="en-US" sz="1000" spc="-1" strike="noStrike">
                <a:solidFill>
                  <a:srgbClr val="000000"/>
                </a:solidFill>
                <a:latin typeface="Arial"/>
              </a:endParaRPr>
            </a:p>
          </p:txBody>
        </p:sp>
        <p:sp>
          <p:nvSpPr>
            <p:cNvPr id="372" name=""/>
            <p:cNvSpPr/>
            <p:nvPr/>
          </p:nvSpPr>
          <p:spPr>
            <a:xfrm>
              <a:off x="6041880" y="101520"/>
              <a:ext cx="1117800" cy="2611800"/>
            </a:xfrm>
            <a:custGeom>
              <a:avLst/>
              <a:gdLst/>
              <a:ahLst/>
              <a:rect l="0" t="0" r="r" b="b"/>
              <a:pathLst>
                <a:path fill="none" w="3105" h="7255">
                  <a:moveTo>
                    <a:pt x="0" y="6634"/>
                  </a:moveTo>
                  <a:lnTo>
                    <a:pt x="83" y="6634"/>
                  </a:lnTo>
                  <a:lnTo>
                    <a:pt x="167" y="6660"/>
                  </a:lnTo>
                  <a:lnTo>
                    <a:pt x="255" y="6660"/>
                  </a:lnTo>
                  <a:lnTo>
                    <a:pt x="339" y="6691"/>
                  </a:lnTo>
                  <a:lnTo>
                    <a:pt x="423" y="6748"/>
                  </a:lnTo>
                  <a:lnTo>
                    <a:pt x="507" y="6801"/>
                  </a:lnTo>
                  <a:lnTo>
                    <a:pt x="590" y="6859"/>
                  </a:lnTo>
                  <a:lnTo>
                    <a:pt x="679" y="6916"/>
                  </a:lnTo>
                  <a:lnTo>
                    <a:pt x="762" y="7000"/>
                  </a:lnTo>
                  <a:lnTo>
                    <a:pt x="846" y="7057"/>
                  </a:lnTo>
                  <a:lnTo>
                    <a:pt x="930" y="7141"/>
                  </a:lnTo>
                  <a:lnTo>
                    <a:pt x="1014" y="7198"/>
                  </a:lnTo>
                  <a:lnTo>
                    <a:pt x="1102" y="7225"/>
                  </a:lnTo>
                  <a:lnTo>
                    <a:pt x="1186" y="7255"/>
                  </a:lnTo>
                  <a:lnTo>
                    <a:pt x="1270" y="7255"/>
                  </a:lnTo>
                  <a:lnTo>
                    <a:pt x="1353" y="7255"/>
                  </a:lnTo>
                  <a:lnTo>
                    <a:pt x="1437" y="7172"/>
                  </a:lnTo>
                  <a:lnTo>
                    <a:pt x="1494" y="7084"/>
                  </a:lnTo>
                  <a:lnTo>
                    <a:pt x="1553" y="7000"/>
                  </a:lnTo>
                  <a:lnTo>
                    <a:pt x="1610" y="6916"/>
                  </a:lnTo>
                  <a:lnTo>
                    <a:pt x="1637" y="6832"/>
                  </a:lnTo>
                  <a:lnTo>
                    <a:pt x="1667" y="6748"/>
                  </a:lnTo>
                  <a:lnTo>
                    <a:pt x="1667" y="6660"/>
                  </a:lnTo>
                  <a:lnTo>
                    <a:pt x="1694" y="6576"/>
                  </a:lnTo>
                  <a:lnTo>
                    <a:pt x="1720" y="6493"/>
                  </a:lnTo>
                  <a:lnTo>
                    <a:pt x="1778" y="6409"/>
                  </a:lnTo>
                  <a:lnTo>
                    <a:pt x="1808" y="6325"/>
                  </a:lnTo>
                  <a:lnTo>
                    <a:pt x="1835" y="6237"/>
                  </a:lnTo>
                  <a:lnTo>
                    <a:pt x="1861" y="6153"/>
                  </a:lnTo>
                  <a:lnTo>
                    <a:pt x="1892" y="6069"/>
                  </a:lnTo>
                  <a:lnTo>
                    <a:pt x="1919" y="5985"/>
                  </a:lnTo>
                  <a:lnTo>
                    <a:pt x="1950" y="5902"/>
                  </a:lnTo>
                  <a:lnTo>
                    <a:pt x="1976" y="5814"/>
                  </a:lnTo>
                  <a:lnTo>
                    <a:pt x="2033" y="5730"/>
                  </a:lnTo>
                  <a:lnTo>
                    <a:pt x="2060" y="5646"/>
                  </a:lnTo>
                  <a:lnTo>
                    <a:pt x="2091" y="5562"/>
                  </a:lnTo>
                  <a:lnTo>
                    <a:pt x="2117" y="5478"/>
                  </a:lnTo>
                  <a:lnTo>
                    <a:pt x="2117" y="5389"/>
                  </a:lnTo>
                  <a:lnTo>
                    <a:pt x="2117" y="5305"/>
                  </a:lnTo>
                  <a:lnTo>
                    <a:pt x="2144" y="5222"/>
                  </a:lnTo>
                  <a:lnTo>
                    <a:pt x="2144" y="5138"/>
                  </a:lnTo>
                  <a:lnTo>
                    <a:pt x="2174" y="5054"/>
                  </a:lnTo>
                  <a:lnTo>
                    <a:pt x="2201" y="4966"/>
                  </a:lnTo>
                  <a:lnTo>
                    <a:pt x="2232" y="4882"/>
                  </a:lnTo>
                  <a:lnTo>
                    <a:pt x="2258" y="4798"/>
                  </a:lnTo>
                  <a:lnTo>
                    <a:pt x="2285" y="4714"/>
                  </a:lnTo>
                  <a:lnTo>
                    <a:pt x="2316" y="4459"/>
                  </a:lnTo>
                  <a:lnTo>
                    <a:pt x="2373" y="4375"/>
                  </a:lnTo>
                  <a:lnTo>
                    <a:pt x="2373" y="4291"/>
                  </a:lnTo>
                  <a:lnTo>
                    <a:pt x="2399" y="4066"/>
                  </a:lnTo>
                  <a:lnTo>
                    <a:pt x="2399" y="3811"/>
                  </a:lnTo>
                  <a:lnTo>
                    <a:pt x="2399" y="3586"/>
                  </a:lnTo>
                  <a:lnTo>
                    <a:pt x="2399" y="3502"/>
                  </a:lnTo>
                  <a:lnTo>
                    <a:pt x="2399" y="3414"/>
                  </a:lnTo>
                  <a:lnTo>
                    <a:pt x="2426" y="3330"/>
                  </a:lnTo>
                  <a:lnTo>
                    <a:pt x="2457" y="3246"/>
                  </a:lnTo>
                  <a:lnTo>
                    <a:pt x="2457" y="3162"/>
                  </a:lnTo>
                  <a:lnTo>
                    <a:pt x="2483" y="3078"/>
                  </a:lnTo>
                  <a:lnTo>
                    <a:pt x="2483" y="2990"/>
                  </a:lnTo>
                  <a:lnTo>
                    <a:pt x="2514" y="2907"/>
                  </a:lnTo>
                  <a:lnTo>
                    <a:pt x="2567" y="2823"/>
                  </a:lnTo>
                  <a:lnTo>
                    <a:pt x="2598" y="2739"/>
                  </a:lnTo>
                  <a:lnTo>
                    <a:pt x="2624" y="2655"/>
                  </a:lnTo>
                  <a:lnTo>
                    <a:pt x="2624" y="2426"/>
                  </a:lnTo>
                  <a:lnTo>
                    <a:pt x="2655" y="2201"/>
                  </a:lnTo>
                  <a:lnTo>
                    <a:pt x="2682" y="2117"/>
                  </a:lnTo>
                  <a:lnTo>
                    <a:pt x="2682" y="1919"/>
                  </a:lnTo>
                  <a:lnTo>
                    <a:pt x="2682" y="1693"/>
                  </a:lnTo>
                  <a:lnTo>
                    <a:pt x="2708" y="1609"/>
                  </a:lnTo>
                  <a:lnTo>
                    <a:pt x="2708" y="1525"/>
                  </a:lnTo>
                  <a:lnTo>
                    <a:pt x="2765" y="1437"/>
                  </a:lnTo>
                  <a:lnTo>
                    <a:pt x="2796" y="1353"/>
                  </a:lnTo>
                  <a:lnTo>
                    <a:pt x="2823" y="1270"/>
                  </a:lnTo>
                  <a:lnTo>
                    <a:pt x="2849" y="1186"/>
                  </a:lnTo>
                  <a:lnTo>
                    <a:pt x="2880" y="1102"/>
                  </a:lnTo>
                  <a:lnTo>
                    <a:pt x="2907" y="1014"/>
                  </a:lnTo>
                  <a:lnTo>
                    <a:pt x="2937" y="930"/>
                  </a:lnTo>
                  <a:lnTo>
                    <a:pt x="2964" y="846"/>
                  </a:lnTo>
                  <a:lnTo>
                    <a:pt x="2990" y="762"/>
                  </a:lnTo>
                  <a:lnTo>
                    <a:pt x="2990" y="679"/>
                  </a:lnTo>
                  <a:lnTo>
                    <a:pt x="3021" y="590"/>
                  </a:lnTo>
                  <a:lnTo>
                    <a:pt x="3021" y="507"/>
                  </a:lnTo>
                  <a:lnTo>
                    <a:pt x="3048" y="423"/>
                  </a:lnTo>
                  <a:lnTo>
                    <a:pt x="3048" y="339"/>
                  </a:lnTo>
                  <a:lnTo>
                    <a:pt x="3078" y="255"/>
                  </a:lnTo>
                  <a:lnTo>
                    <a:pt x="3078" y="167"/>
                  </a:lnTo>
                  <a:lnTo>
                    <a:pt x="3105" y="83"/>
                  </a:lnTo>
                  <a:lnTo>
                    <a:pt x="3105"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3" name=""/>
            <p:cNvSpPr/>
            <p:nvPr/>
          </p:nvSpPr>
          <p:spPr>
            <a:xfrm>
              <a:off x="5238720" y="4511520"/>
              <a:ext cx="702000" cy="2235600"/>
            </a:xfrm>
            <a:custGeom>
              <a:avLst/>
              <a:gdLst/>
              <a:ahLst/>
              <a:rect l="0" t="0" r="r" b="b"/>
              <a:pathLst>
                <a:path fill="none" w="1950" h="6210">
                  <a:moveTo>
                    <a:pt x="0" y="6210"/>
                  </a:moveTo>
                  <a:lnTo>
                    <a:pt x="171" y="5223"/>
                  </a:lnTo>
                  <a:lnTo>
                    <a:pt x="229" y="5139"/>
                  </a:lnTo>
                  <a:lnTo>
                    <a:pt x="255" y="5055"/>
                  </a:lnTo>
                  <a:lnTo>
                    <a:pt x="286" y="4967"/>
                  </a:lnTo>
                  <a:lnTo>
                    <a:pt x="339" y="4883"/>
                  </a:lnTo>
                  <a:lnTo>
                    <a:pt x="370" y="4799"/>
                  </a:lnTo>
                  <a:lnTo>
                    <a:pt x="396" y="4715"/>
                  </a:lnTo>
                  <a:lnTo>
                    <a:pt x="454" y="4631"/>
                  </a:lnTo>
                  <a:lnTo>
                    <a:pt x="511" y="4543"/>
                  </a:lnTo>
                  <a:lnTo>
                    <a:pt x="568" y="4459"/>
                  </a:lnTo>
                  <a:lnTo>
                    <a:pt x="621" y="4375"/>
                  </a:lnTo>
                  <a:lnTo>
                    <a:pt x="679" y="4291"/>
                  </a:lnTo>
                  <a:lnTo>
                    <a:pt x="736" y="4207"/>
                  </a:lnTo>
                  <a:lnTo>
                    <a:pt x="762" y="4119"/>
                  </a:lnTo>
                  <a:lnTo>
                    <a:pt x="851" y="4035"/>
                  </a:lnTo>
                  <a:lnTo>
                    <a:pt x="903" y="3952"/>
                  </a:lnTo>
                  <a:lnTo>
                    <a:pt x="961" y="3868"/>
                  </a:lnTo>
                  <a:lnTo>
                    <a:pt x="1019" y="3784"/>
                  </a:lnTo>
                  <a:lnTo>
                    <a:pt x="1076" y="3696"/>
                  </a:lnTo>
                  <a:lnTo>
                    <a:pt x="1134" y="3612"/>
                  </a:lnTo>
                  <a:lnTo>
                    <a:pt x="1187" y="3528"/>
                  </a:lnTo>
                  <a:lnTo>
                    <a:pt x="1244" y="3444"/>
                  </a:lnTo>
                  <a:lnTo>
                    <a:pt x="1301" y="3361"/>
                  </a:lnTo>
                  <a:lnTo>
                    <a:pt x="1359" y="3273"/>
                  </a:lnTo>
                  <a:lnTo>
                    <a:pt x="1385" y="3189"/>
                  </a:lnTo>
                  <a:lnTo>
                    <a:pt x="1416" y="2964"/>
                  </a:lnTo>
                  <a:lnTo>
                    <a:pt x="1469" y="2880"/>
                  </a:lnTo>
                  <a:lnTo>
                    <a:pt x="1500" y="2624"/>
                  </a:lnTo>
                  <a:lnTo>
                    <a:pt x="1526" y="2373"/>
                  </a:lnTo>
                  <a:lnTo>
                    <a:pt x="1584" y="2285"/>
                  </a:lnTo>
                  <a:lnTo>
                    <a:pt x="1610" y="2201"/>
                  </a:lnTo>
                  <a:lnTo>
                    <a:pt x="1698" y="2144"/>
                  </a:lnTo>
                  <a:lnTo>
                    <a:pt x="1725" y="2060"/>
                  </a:lnTo>
                  <a:lnTo>
                    <a:pt x="1751" y="1976"/>
                  </a:lnTo>
                  <a:lnTo>
                    <a:pt x="1808" y="1892"/>
                  </a:lnTo>
                  <a:lnTo>
                    <a:pt x="1839" y="1808"/>
                  </a:lnTo>
                  <a:lnTo>
                    <a:pt x="1866" y="1720"/>
                  </a:lnTo>
                  <a:lnTo>
                    <a:pt x="1866" y="1637"/>
                  </a:lnTo>
                  <a:lnTo>
                    <a:pt x="1866" y="1553"/>
                  </a:lnTo>
                  <a:lnTo>
                    <a:pt x="1839" y="1468"/>
                  </a:lnTo>
                  <a:lnTo>
                    <a:pt x="1839" y="1384"/>
                  </a:lnTo>
                  <a:lnTo>
                    <a:pt x="1839" y="1296"/>
                  </a:lnTo>
                  <a:lnTo>
                    <a:pt x="1839" y="1212"/>
                  </a:lnTo>
                  <a:lnTo>
                    <a:pt x="1866" y="1128"/>
                  </a:lnTo>
                  <a:lnTo>
                    <a:pt x="1892" y="1045"/>
                  </a:lnTo>
                  <a:lnTo>
                    <a:pt x="1923" y="961"/>
                  </a:lnTo>
                  <a:lnTo>
                    <a:pt x="1950" y="873"/>
                  </a:lnTo>
                  <a:lnTo>
                    <a:pt x="1950" y="789"/>
                  </a:lnTo>
                  <a:lnTo>
                    <a:pt x="1950" y="705"/>
                  </a:lnTo>
                  <a:lnTo>
                    <a:pt x="1950" y="621"/>
                  </a:lnTo>
                  <a:lnTo>
                    <a:pt x="1923" y="537"/>
                  </a:lnTo>
                  <a:lnTo>
                    <a:pt x="1892" y="449"/>
                  </a:lnTo>
                  <a:lnTo>
                    <a:pt x="1866" y="366"/>
                  </a:lnTo>
                  <a:lnTo>
                    <a:pt x="1782" y="339"/>
                  </a:lnTo>
                  <a:lnTo>
                    <a:pt x="1698" y="282"/>
                  </a:lnTo>
                  <a:lnTo>
                    <a:pt x="1610" y="255"/>
                  </a:lnTo>
                  <a:lnTo>
                    <a:pt x="1557" y="167"/>
                  </a:lnTo>
                  <a:lnTo>
                    <a:pt x="1500" y="83"/>
                  </a:lnTo>
                  <a:lnTo>
                    <a:pt x="1416"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4" name=""/>
            <p:cNvSpPr txBox="1"/>
            <p:nvPr/>
          </p:nvSpPr>
          <p:spPr>
            <a:xfrm>
              <a:off x="3886200" y="1687680"/>
              <a:ext cx="2962440" cy="579600"/>
            </a:xfrm>
            <a:prstGeom prst="rect">
              <a:avLst/>
            </a:prstGeom>
            <a:noFill/>
            <a:ln w="0">
              <a:noFill/>
            </a:ln>
          </p:spPr>
          <p:txBody>
            <a:bodyPr lIns="0" rIns="0" tIns="0" bIns="0" anchor="t">
              <a:noAutofit/>
            </a:bodyPr>
            <a:p>
              <a:pPr>
                <a:lnSpc>
                  <a:spcPct val="100000"/>
                </a:lnSpc>
              </a:pPr>
              <a:r>
                <a:rPr b="1" i="1" lang="en-US" sz="3200" spc="-1" strike="noStrike">
                  <a:solidFill>
                    <a:srgbClr val="c1ceff"/>
                  </a:solidFill>
                  <a:latin typeface="Arial"/>
                  <a:ea typeface="Arial"/>
                </a:rPr>
                <a:t>Mediterranean</a:t>
              </a:r>
              <a:endParaRPr b="0" lang="en-US" sz="3200" spc="-1" strike="noStrike">
                <a:solidFill>
                  <a:srgbClr val="000000"/>
                </a:solidFill>
                <a:latin typeface="Arial"/>
              </a:endParaRPr>
            </a:p>
          </p:txBody>
        </p:sp>
        <p:sp>
          <p:nvSpPr>
            <p:cNvPr id="375" name=""/>
            <p:cNvSpPr/>
            <p:nvPr/>
          </p:nvSpPr>
          <p:spPr>
            <a:xfrm>
              <a:off x="7772400" y="228600"/>
              <a:ext cx="228960" cy="838440"/>
            </a:xfrm>
            <a:custGeom>
              <a:avLst/>
              <a:gdLst/>
              <a:ahLst/>
              <a:rect l="0" t="0" r="r" b="b"/>
              <a:pathLst>
                <a:path w="636" h="2329">
                  <a:moveTo>
                    <a:pt x="211" y="2329"/>
                  </a:moveTo>
                  <a:lnTo>
                    <a:pt x="423" y="2329"/>
                  </a:lnTo>
                  <a:lnTo>
                    <a:pt x="423" y="698"/>
                  </a:lnTo>
                  <a:lnTo>
                    <a:pt x="636" y="698"/>
                  </a:lnTo>
                  <a:lnTo>
                    <a:pt x="317" y="0"/>
                  </a:lnTo>
                  <a:lnTo>
                    <a:pt x="0" y="698"/>
                  </a:lnTo>
                  <a:lnTo>
                    <a:pt x="211" y="698"/>
                  </a:lnTo>
                  <a:lnTo>
                    <a:pt x="211" y="2329"/>
                  </a:lnTo>
                  <a:close/>
                </a:path>
              </a:pathLst>
            </a:cu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txBox="1"/>
            <p:nvPr/>
          </p:nvSpPr>
          <p:spPr>
            <a:xfrm>
              <a:off x="7099200" y="1054080"/>
              <a:ext cx="1663560" cy="968400"/>
            </a:xfrm>
            <a:prstGeom prst="rect">
              <a:avLst/>
            </a:prstGeom>
            <a:noFill/>
            <a:ln w="0">
              <a:noFill/>
            </a:ln>
          </p:spPr>
          <p:txBody>
            <a:bodyPr lIns="0" rIns="0" tIns="0" bIns="0" anchor="t">
              <a:noAutofit/>
            </a:bodyPr>
            <a:p>
              <a:pPr algn="ctr">
                <a:lnSpc>
                  <a:spcPct val="90000"/>
                </a:lnSpc>
              </a:pPr>
              <a:r>
                <a:rPr b="1" lang="en-US" sz="3200" spc="-1" strike="noStrike">
                  <a:solidFill>
                    <a:srgbClr val="ffffff"/>
                  </a:solidFill>
                  <a:latin typeface="Arial Narrow"/>
                  <a:ea typeface="Arial Narrow"/>
                </a:rPr>
                <a:t>Hittite Empire</a:t>
              </a:r>
              <a:endParaRPr b="0" lang="en-US" sz="3200" spc="-1" strike="noStrike">
                <a:solidFill>
                  <a:srgbClr val="000000"/>
                </a:solidFill>
                <a:latin typeface="Arial"/>
              </a:endParaRPr>
            </a:p>
          </p:txBody>
        </p:sp>
        <p:sp>
          <p:nvSpPr>
            <p:cNvPr id="377" name=""/>
            <p:cNvSpPr txBox="1"/>
            <p:nvPr/>
          </p:nvSpPr>
          <p:spPr>
            <a:xfrm>
              <a:off x="7556400" y="4254480"/>
              <a:ext cx="11095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Narrow"/>
                  <a:ea typeface="Arial Narrow"/>
                </a:rPr>
                <a:t>Edom</a:t>
              </a:r>
              <a:endParaRPr b="0" lang="en-US" sz="3200" spc="-1" strike="noStrike">
                <a:solidFill>
                  <a:srgbClr val="000000"/>
                </a:solidFill>
                <a:latin typeface="Arial"/>
              </a:endParaRPr>
            </a:p>
          </p:txBody>
        </p:sp>
        <p:sp>
          <p:nvSpPr>
            <p:cNvPr id="378" name=""/>
            <p:cNvSpPr txBox="1"/>
            <p:nvPr/>
          </p:nvSpPr>
          <p:spPr>
            <a:xfrm>
              <a:off x="7480440" y="3187800"/>
              <a:ext cx="10540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Narrow"/>
                  <a:ea typeface="Arial Narrow"/>
                </a:rPr>
                <a:t>Moab</a:t>
              </a:r>
              <a:endParaRPr b="0" lang="en-US" sz="3200" spc="-1" strike="noStrike">
                <a:solidFill>
                  <a:srgbClr val="000000"/>
                </a:solidFill>
                <a:latin typeface="Arial"/>
              </a:endParaRPr>
            </a:p>
          </p:txBody>
        </p:sp>
        <p:sp>
          <p:nvSpPr>
            <p:cNvPr id="379" name=""/>
            <p:cNvSpPr txBox="1"/>
            <p:nvPr/>
          </p:nvSpPr>
          <p:spPr>
            <a:xfrm>
              <a:off x="7404120" y="2120760"/>
              <a:ext cx="142416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Narrow"/>
                  <a:ea typeface="Arial Narrow"/>
                </a:rPr>
                <a:t>Ammon</a:t>
              </a:r>
              <a:endParaRPr b="0" lang="en-US" sz="3200" spc="-1" strike="noStrike">
                <a:solidFill>
                  <a:srgbClr val="000000"/>
                </a:solidFill>
                <a:latin typeface="Arial"/>
              </a:endParaRPr>
            </a:p>
          </p:txBody>
        </p:sp>
        <p:sp>
          <p:nvSpPr>
            <p:cNvPr id="380" name=""/>
            <p:cNvSpPr txBox="1"/>
            <p:nvPr/>
          </p:nvSpPr>
          <p:spPr>
            <a:xfrm>
              <a:off x="7556400" y="5778360"/>
              <a:ext cx="123984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Narrow"/>
                  <a:ea typeface="Arial Narrow"/>
                </a:rPr>
                <a:t>Midian</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81" name=""/>
          <p:cNvSpPr txBox="1"/>
          <p:nvPr/>
        </p:nvSpPr>
        <p:spPr>
          <a:xfrm>
            <a:off x="4724280" y="2438280"/>
            <a:ext cx="4343400" cy="1920960"/>
          </a:xfrm>
          <a:prstGeom prst="rect">
            <a:avLst/>
          </a:prstGeom>
          <a:noFill/>
          <a:ln w="0">
            <a:noFill/>
          </a:ln>
        </p:spPr>
        <p:txBody>
          <a:bodyPr lIns="0" rIns="0" tIns="0" bIns="0" anchor="t">
            <a:noAutofit/>
          </a:bodyPr>
          <a:p>
            <a:pPr algn="ctr">
              <a:lnSpc>
                <a:spcPct val="100000"/>
              </a:lnSpc>
              <a:spcBef>
                <a:spcPts val="1199"/>
              </a:spcBef>
            </a:pPr>
            <a:r>
              <a:rPr b="1" lang="en-US" sz="6000" spc="-1" strike="noStrike" u="sng">
                <a:solidFill>
                  <a:srgbClr val="fafd00"/>
                </a:solidFill>
                <a:uFillTx/>
                <a:latin typeface="Arial"/>
                <a:ea typeface="Arial"/>
              </a:rPr>
              <a:t>Solomon’s Israel</a:t>
            </a:r>
            <a:endParaRPr b="0" lang="en-US" sz="6000" spc="-1" strike="noStrike">
              <a:solidFill>
                <a:srgbClr val="000000"/>
              </a:solidFill>
              <a:latin typeface="Arial"/>
            </a:endParaRPr>
          </a:p>
        </p:txBody>
      </p:sp>
      <p:grpSp>
        <p:nvGrpSpPr>
          <p:cNvPr id="382" name=""/>
          <p:cNvGrpSpPr/>
          <p:nvPr/>
        </p:nvGrpSpPr>
        <p:grpSpPr>
          <a:xfrm>
            <a:off x="-457200" y="81000"/>
            <a:ext cx="5180400" cy="6667920"/>
            <a:chOff x="-457200" y="81000"/>
            <a:chExt cx="5180400" cy="6667920"/>
          </a:xfrm>
        </p:grpSpPr>
        <p:pic>
          <p:nvPicPr>
            <p:cNvPr id="383" name="" descr=""/>
            <p:cNvPicPr/>
            <p:nvPr/>
          </p:nvPicPr>
          <p:blipFill>
            <a:blip r:embed="rId1"/>
            <a:stretch/>
          </p:blipFill>
          <p:spPr>
            <a:xfrm>
              <a:off x="233280" y="108000"/>
              <a:ext cx="4476600" cy="6618240"/>
            </a:xfrm>
            <a:prstGeom prst="rect">
              <a:avLst/>
            </a:prstGeom>
            <a:ln w="0">
              <a:noFill/>
            </a:ln>
          </p:spPr>
        </p:pic>
        <p:sp>
          <p:nvSpPr>
            <p:cNvPr id="384" name=""/>
            <p:cNvSpPr/>
            <p:nvPr/>
          </p:nvSpPr>
          <p:spPr>
            <a:xfrm>
              <a:off x="2874960" y="2590920"/>
              <a:ext cx="173520" cy="2189520"/>
            </a:xfrm>
            <a:custGeom>
              <a:avLst/>
              <a:gdLst/>
              <a:ahLst/>
              <a:rect l="0" t="0" r="r" b="b"/>
              <a:pathLst>
                <a:path fill="none" w="482" h="6082">
                  <a:moveTo>
                    <a:pt x="0" y="0"/>
                  </a:moveTo>
                  <a:lnTo>
                    <a:pt x="0" y="44"/>
                  </a:lnTo>
                  <a:lnTo>
                    <a:pt x="13" y="101"/>
                  </a:lnTo>
                  <a:lnTo>
                    <a:pt x="26" y="154"/>
                  </a:lnTo>
                  <a:lnTo>
                    <a:pt x="26" y="198"/>
                  </a:lnTo>
                  <a:lnTo>
                    <a:pt x="26" y="242"/>
                  </a:lnTo>
                  <a:lnTo>
                    <a:pt x="26" y="295"/>
                  </a:lnTo>
                  <a:lnTo>
                    <a:pt x="26" y="339"/>
                  </a:lnTo>
                  <a:lnTo>
                    <a:pt x="26" y="383"/>
                  </a:lnTo>
                  <a:lnTo>
                    <a:pt x="26" y="436"/>
                  </a:lnTo>
                  <a:lnTo>
                    <a:pt x="26" y="480"/>
                  </a:lnTo>
                  <a:lnTo>
                    <a:pt x="26" y="524"/>
                  </a:lnTo>
                  <a:lnTo>
                    <a:pt x="26" y="577"/>
                  </a:lnTo>
                  <a:lnTo>
                    <a:pt x="26" y="621"/>
                  </a:lnTo>
                  <a:lnTo>
                    <a:pt x="26" y="665"/>
                  </a:lnTo>
                  <a:lnTo>
                    <a:pt x="26" y="718"/>
                  </a:lnTo>
                  <a:lnTo>
                    <a:pt x="26" y="762"/>
                  </a:lnTo>
                  <a:lnTo>
                    <a:pt x="26" y="806"/>
                  </a:lnTo>
                  <a:lnTo>
                    <a:pt x="26" y="859"/>
                  </a:lnTo>
                  <a:lnTo>
                    <a:pt x="26" y="903"/>
                  </a:lnTo>
                  <a:lnTo>
                    <a:pt x="26" y="948"/>
                  </a:lnTo>
                  <a:lnTo>
                    <a:pt x="44" y="1001"/>
                  </a:lnTo>
                  <a:lnTo>
                    <a:pt x="57" y="1045"/>
                  </a:lnTo>
                  <a:lnTo>
                    <a:pt x="70" y="1089"/>
                  </a:lnTo>
                  <a:lnTo>
                    <a:pt x="70" y="1142"/>
                  </a:lnTo>
                  <a:lnTo>
                    <a:pt x="70" y="1186"/>
                  </a:lnTo>
                  <a:lnTo>
                    <a:pt x="70" y="1230"/>
                  </a:lnTo>
                  <a:lnTo>
                    <a:pt x="70" y="1340"/>
                  </a:lnTo>
                  <a:lnTo>
                    <a:pt x="57" y="1384"/>
                  </a:lnTo>
                  <a:lnTo>
                    <a:pt x="57" y="1441"/>
                  </a:lnTo>
                  <a:lnTo>
                    <a:pt x="70" y="1494"/>
                  </a:lnTo>
                  <a:lnTo>
                    <a:pt x="83" y="1538"/>
                  </a:lnTo>
                  <a:lnTo>
                    <a:pt x="83" y="1583"/>
                  </a:lnTo>
                  <a:lnTo>
                    <a:pt x="97" y="1636"/>
                  </a:lnTo>
                  <a:lnTo>
                    <a:pt x="114" y="1680"/>
                  </a:lnTo>
                  <a:lnTo>
                    <a:pt x="142" y="1724"/>
                  </a:lnTo>
                  <a:lnTo>
                    <a:pt x="142" y="1777"/>
                  </a:lnTo>
                  <a:lnTo>
                    <a:pt x="142" y="1821"/>
                  </a:lnTo>
                  <a:lnTo>
                    <a:pt x="142" y="1918"/>
                  </a:lnTo>
                  <a:lnTo>
                    <a:pt x="142" y="2046"/>
                  </a:lnTo>
                  <a:lnTo>
                    <a:pt x="142" y="2090"/>
                  </a:lnTo>
                  <a:lnTo>
                    <a:pt x="142" y="2200"/>
                  </a:lnTo>
                  <a:lnTo>
                    <a:pt x="142" y="2244"/>
                  </a:lnTo>
                  <a:lnTo>
                    <a:pt x="142" y="2288"/>
                  </a:lnTo>
                  <a:lnTo>
                    <a:pt x="155" y="2341"/>
                  </a:lnTo>
                  <a:lnTo>
                    <a:pt x="168" y="2385"/>
                  </a:lnTo>
                  <a:lnTo>
                    <a:pt x="168" y="2429"/>
                  </a:lnTo>
                  <a:lnTo>
                    <a:pt x="168" y="2482"/>
                  </a:lnTo>
                  <a:lnTo>
                    <a:pt x="168" y="2526"/>
                  </a:lnTo>
                  <a:lnTo>
                    <a:pt x="168" y="2570"/>
                  </a:lnTo>
                  <a:lnTo>
                    <a:pt x="168" y="2623"/>
                  </a:lnTo>
                  <a:lnTo>
                    <a:pt x="186" y="2667"/>
                  </a:lnTo>
                  <a:lnTo>
                    <a:pt x="186" y="2764"/>
                  </a:lnTo>
                  <a:lnTo>
                    <a:pt x="199" y="2808"/>
                  </a:lnTo>
                  <a:lnTo>
                    <a:pt x="212" y="2936"/>
                  </a:lnTo>
                  <a:lnTo>
                    <a:pt x="212" y="2994"/>
                  </a:lnTo>
                  <a:lnTo>
                    <a:pt x="225" y="3048"/>
                  </a:lnTo>
                  <a:lnTo>
                    <a:pt x="225" y="3092"/>
                  </a:lnTo>
                  <a:lnTo>
                    <a:pt x="239" y="3136"/>
                  </a:lnTo>
                  <a:lnTo>
                    <a:pt x="256" y="3189"/>
                  </a:lnTo>
                  <a:lnTo>
                    <a:pt x="256" y="3233"/>
                  </a:lnTo>
                  <a:lnTo>
                    <a:pt x="269" y="3330"/>
                  </a:lnTo>
                  <a:lnTo>
                    <a:pt x="269" y="3374"/>
                  </a:lnTo>
                  <a:lnTo>
                    <a:pt x="269" y="3418"/>
                  </a:lnTo>
                  <a:lnTo>
                    <a:pt x="269" y="3471"/>
                  </a:lnTo>
                  <a:lnTo>
                    <a:pt x="269" y="3515"/>
                  </a:lnTo>
                  <a:lnTo>
                    <a:pt x="256" y="3559"/>
                  </a:lnTo>
                  <a:lnTo>
                    <a:pt x="256" y="3683"/>
                  </a:lnTo>
                  <a:lnTo>
                    <a:pt x="239" y="3727"/>
                  </a:lnTo>
                  <a:lnTo>
                    <a:pt x="225" y="3771"/>
                  </a:lnTo>
                  <a:lnTo>
                    <a:pt x="225" y="3824"/>
                  </a:lnTo>
                  <a:lnTo>
                    <a:pt x="225" y="3868"/>
                  </a:lnTo>
                  <a:lnTo>
                    <a:pt x="225" y="3912"/>
                  </a:lnTo>
                  <a:lnTo>
                    <a:pt x="225" y="3965"/>
                  </a:lnTo>
                  <a:lnTo>
                    <a:pt x="225" y="4009"/>
                  </a:lnTo>
                  <a:lnTo>
                    <a:pt x="212" y="4053"/>
                  </a:lnTo>
                  <a:lnTo>
                    <a:pt x="199" y="4106"/>
                  </a:lnTo>
                  <a:lnTo>
                    <a:pt x="199" y="4150"/>
                  </a:lnTo>
                  <a:lnTo>
                    <a:pt x="199" y="4194"/>
                  </a:lnTo>
                  <a:lnTo>
                    <a:pt x="199" y="4247"/>
                  </a:lnTo>
                  <a:lnTo>
                    <a:pt x="199" y="4291"/>
                  </a:lnTo>
                  <a:lnTo>
                    <a:pt x="186" y="4335"/>
                  </a:lnTo>
                  <a:lnTo>
                    <a:pt x="186" y="4388"/>
                  </a:lnTo>
                  <a:lnTo>
                    <a:pt x="186" y="4432"/>
                  </a:lnTo>
                  <a:lnTo>
                    <a:pt x="186" y="4476"/>
                  </a:lnTo>
                  <a:lnTo>
                    <a:pt x="186" y="4529"/>
                  </a:lnTo>
                  <a:lnTo>
                    <a:pt x="199" y="4573"/>
                  </a:lnTo>
                  <a:lnTo>
                    <a:pt x="225" y="4617"/>
                  </a:lnTo>
                  <a:lnTo>
                    <a:pt x="256" y="4670"/>
                  </a:lnTo>
                  <a:lnTo>
                    <a:pt x="269" y="4714"/>
                  </a:lnTo>
                  <a:lnTo>
                    <a:pt x="283" y="4759"/>
                  </a:lnTo>
                  <a:lnTo>
                    <a:pt x="296" y="4812"/>
                  </a:lnTo>
                  <a:lnTo>
                    <a:pt x="327" y="4856"/>
                  </a:lnTo>
                  <a:lnTo>
                    <a:pt x="353" y="4900"/>
                  </a:lnTo>
                  <a:lnTo>
                    <a:pt x="368" y="4953"/>
                  </a:lnTo>
                  <a:lnTo>
                    <a:pt x="381" y="4997"/>
                  </a:lnTo>
                  <a:lnTo>
                    <a:pt x="381" y="5041"/>
                  </a:lnTo>
                  <a:lnTo>
                    <a:pt x="381" y="5094"/>
                  </a:lnTo>
                  <a:lnTo>
                    <a:pt x="381" y="5138"/>
                  </a:lnTo>
                  <a:lnTo>
                    <a:pt x="381" y="5182"/>
                  </a:lnTo>
                  <a:lnTo>
                    <a:pt x="381" y="5235"/>
                  </a:lnTo>
                  <a:lnTo>
                    <a:pt x="381" y="5279"/>
                  </a:lnTo>
                  <a:lnTo>
                    <a:pt x="398" y="5323"/>
                  </a:lnTo>
                  <a:lnTo>
                    <a:pt x="412" y="5376"/>
                  </a:lnTo>
                  <a:lnTo>
                    <a:pt x="412" y="5420"/>
                  </a:lnTo>
                  <a:lnTo>
                    <a:pt x="425" y="5464"/>
                  </a:lnTo>
                  <a:lnTo>
                    <a:pt x="425" y="5517"/>
                  </a:lnTo>
                  <a:lnTo>
                    <a:pt x="425" y="5561"/>
                  </a:lnTo>
                  <a:lnTo>
                    <a:pt x="438" y="5605"/>
                  </a:lnTo>
                  <a:lnTo>
                    <a:pt x="451" y="5658"/>
                  </a:lnTo>
                  <a:lnTo>
                    <a:pt x="469" y="5702"/>
                  </a:lnTo>
                  <a:lnTo>
                    <a:pt x="469" y="5746"/>
                  </a:lnTo>
                  <a:lnTo>
                    <a:pt x="469" y="5799"/>
                  </a:lnTo>
                  <a:lnTo>
                    <a:pt x="469" y="5843"/>
                  </a:lnTo>
                  <a:lnTo>
                    <a:pt x="469" y="5887"/>
                  </a:lnTo>
                  <a:lnTo>
                    <a:pt x="469" y="5940"/>
                  </a:lnTo>
                  <a:lnTo>
                    <a:pt x="469" y="5984"/>
                  </a:lnTo>
                  <a:lnTo>
                    <a:pt x="469" y="6029"/>
                  </a:lnTo>
                  <a:lnTo>
                    <a:pt x="482" y="6082"/>
                  </a:lnTo>
                </a:path>
              </a:pathLst>
            </a:custGeom>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txBox="1"/>
            <p:nvPr/>
          </p:nvSpPr>
          <p:spPr>
            <a:xfrm>
              <a:off x="1222200" y="941400"/>
              <a:ext cx="1827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Black"/>
                  <a:ea typeface="Arial Black"/>
                </a:rPr>
                <a:t>Phoenicia</a:t>
              </a:r>
              <a:endParaRPr b="0" lang="en-US" sz="2400" spc="-1" strike="noStrike">
                <a:solidFill>
                  <a:srgbClr val="000000"/>
                </a:solidFill>
                <a:latin typeface="Arial"/>
              </a:endParaRPr>
            </a:p>
          </p:txBody>
        </p:sp>
        <p:sp>
          <p:nvSpPr>
            <p:cNvPr id="386" name=""/>
            <p:cNvSpPr txBox="1"/>
            <p:nvPr/>
          </p:nvSpPr>
          <p:spPr>
            <a:xfrm>
              <a:off x="1479600" y="3954600"/>
              <a:ext cx="1447920" cy="579600"/>
            </a:xfrm>
            <a:prstGeom prst="rect">
              <a:avLst/>
            </a:prstGeom>
            <a:noFill/>
            <a:ln w="0">
              <a:noFill/>
            </a:ln>
          </p:spPr>
          <p:txBody>
            <a:bodyPr lIns="0" rIns="0" tIns="0" bIns="0" anchor="t">
              <a:noAutofit/>
            </a:bodyPr>
            <a:p>
              <a:pPr>
                <a:lnSpc>
                  <a:spcPct val="100000"/>
                </a:lnSpc>
              </a:pPr>
              <a:r>
                <a:rPr b="0" lang="en-US" sz="3200" spc="-1" strike="noStrike">
                  <a:solidFill>
                    <a:srgbClr val="fafd00"/>
                  </a:solidFill>
                  <a:latin typeface="Arial Black"/>
                  <a:ea typeface="Arial Black"/>
                </a:rPr>
                <a:t>Israel</a:t>
              </a:r>
              <a:endParaRPr b="0" lang="en-US" sz="3200" spc="-1" strike="noStrike">
                <a:solidFill>
                  <a:srgbClr val="000000"/>
                </a:solidFill>
                <a:latin typeface="Arial"/>
              </a:endParaRPr>
            </a:p>
          </p:txBody>
        </p:sp>
        <p:sp>
          <p:nvSpPr>
            <p:cNvPr id="387" name=""/>
            <p:cNvSpPr/>
            <p:nvPr/>
          </p:nvSpPr>
          <p:spPr>
            <a:xfrm>
              <a:off x="2548080" y="4699080"/>
              <a:ext cx="90720" cy="98640"/>
            </a:xfrm>
            <a:custGeom>
              <a:avLst/>
              <a:gdLst/>
              <a:ahLst/>
              <a:rect l="0" t="0" r="r" b="b"/>
              <a:pathLst>
                <a:path w="252" h="274">
                  <a:moveTo>
                    <a:pt x="125" y="0"/>
                  </a:moveTo>
                  <a:lnTo>
                    <a:pt x="96" y="104"/>
                  </a:lnTo>
                  <a:lnTo>
                    <a:pt x="0" y="104"/>
                  </a:lnTo>
                  <a:lnTo>
                    <a:pt x="78" y="170"/>
                  </a:lnTo>
                  <a:lnTo>
                    <a:pt x="48" y="274"/>
                  </a:lnTo>
                  <a:lnTo>
                    <a:pt x="125" y="214"/>
                  </a:lnTo>
                  <a:lnTo>
                    <a:pt x="203" y="274"/>
                  </a:lnTo>
                  <a:lnTo>
                    <a:pt x="173" y="170"/>
                  </a:lnTo>
                  <a:lnTo>
                    <a:pt x="252" y="104"/>
                  </a:lnTo>
                  <a:lnTo>
                    <a:pt x="156" y="104"/>
                  </a:lnTo>
                  <a:lnTo>
                    <a:pt x="125" y="0"/>
                  </a:lnTo>
                  <a:close/>
                </a:path>
              </a:pathLst>
            </a:custGeom>
            <a:solidFill>
              <a:srgbClr val="ff5008"/>
            </a:solidFill>
            <a:ln w="12600">
              <a:solidFill>
                <a:srgbClr val="ff5008"/>
              </a:solidFill>
              <a:round/>
            </a:ln>
          </p:spPr>
          <p:txBody>
            <a:bodyPr lIns="96120" rIns="96120" tIns="47520" bIns="47520" anchor="t">
              <a:noAutofit/>
            </a:bodyPr>
            <a:p>
              <a:endParaRPr b="0" lang="en-US" sz="1800" spc="-1" strike="noStrike">
                <a:solidFill>
                  <a:srgbClr val="000000"/>
                </a:solidFill>
                <a:latin typeface="Arial"/>
              </a:endParaRPr>
            </a:p>
          </p:txBody>
        </p:sp>
        <p:sp>
          <p:nvSpPr>
            <p:cNvPr id="388" name=""/>
            <p:cNvSpPr txBox="1"/>
            <p:nvPr/>
          </p:nvSpPr>
          <p:spPr>
            <a:xfrm>
              <a:off x="1673280" y="4726080"/>
              <a:ext cx="1189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Jerusalem</a:t>
              </a:r>
              <a:endParaRPr b="0" lang="en-US" sz="1600" spc="-1" strike="noStrike">
                <a:solidFill>
                  <a:srgbClr val="000000"/>
                </a:solidFill>
                <a:latin typeface="Arial"/>
              </a:endParaRPr>
            </a:p>
          </p:txBody>
        </p:sp>
        <p:sp>
          <p:nvSpPr>
            <p:cNvPr id="389" name=""/>
            <p:cNvSpPr txBox="1"/>
            <p:nvPr/>
          </p:nvSpPr>
          <p:spPr>
            <a:xfrm>
              <a:off x="2517840" y="5105520"/>
              <a:ext cx="98424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Dead Sea</a:t>
              </a:r>
              <a:endParaRPr b="0" lang="en-US" sz="1400" spc="-1" strike="noStrike">
                <a:solidFill>
                  <a:srgbClr val="000000"/>
                </a:solidFill>
                <a:latin typeface="Arial"/>
              </a:endParaRPr>
            </a:p>
          </p:txBody>
        </p:sp>
        <p:sp>
          <p:nvSpPr>
            <p:cNvPr id="390" name=""/>
            <p:cNvSpPr txBox="1"/>
            <p:nvPr/>
          </p:nvSpPr>
          <p:spPr>
            <a:xfrm>
              <a:off x="2585880" y="2195640"/>
              <a:ext cx="59364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Narrow"/>
                  <a:ea typeface="Arial Narrow"/>
                </a:rPr>
                <a:t>Galilee</a:t>
              </a:r>
              <a:endParaRPr b="0" lang="en-US" sz="1200" spc="-1" strike="noStrike">
                <a:solidFill>
                  <a:srgbClr val="000000"/>
                </a:solidFill>
                <a:latin typeface="Arial"/>
              </a:endParaRPr>
            </a:p>
          </p:txBody>
        </p:sp>
        <p:sp>
          <p:nvSpPr>
            <p:cNvPr id="391" name=""/>
            <p:cNvSpPr txBox="1"/>
            <p:nvPr/>
          </p:nvSpPr>
          <p:spPr>
            <a:xfrm>
              <a:off x="2530440" y="3619440"/>
              <a:ext cx="6922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Jordan</a:t>
              </a:r>
              <a:endParaRPr b="0" lang="en-US" sz="1200" spc="-1" strike="noStrike">
                <a:solidFill>
                  <a:srgbClr val="000000"/>
                </a:solidFill>
                <a:latin typeface="Arial"/>
              </a:endParaRPr>
            </a:p>
          </p:txBody>
        </p:sp>
        <p:sp>
          <p:nvSpPr>
            <p:cNvPr id="392" name=""/>
            <p:cNvSpPr txBox="1"/>
            <p:nvPr/>
          </p:nvSpPr>
          <p:spPr>
            <a:xfrm>
              <a:off x="2579760" y="3009960"/>
              <a:ext cx="5652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River</a:t>
              </a:r>
              <a:endParaRPr b="0" lang="en-US" sz="1200" spc="-1" strike="noStrike">
                <a:solidFill>
                  <a:srgbClr val="000000"/>
                </a:solidFill>
                <a:latin typeface="Arial"/>
              </a:endParaRPr>
            </a:p>
          </p:txBody>
        </p:sp>
        <p:sp>
          <p:nvSpPr>
            <p:cNvPr id="393" name=""/>
            <p:cNvSpPr txBox="1"/>
            <p:nvPr/>
          </p:nvSpPr>
          <p:spPr>
            <a:xfrm>
              <a:off x="3381480" y="6456240"/>
              <a:ext cx="12924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NASA PHOTO</a:t>
              </a:r>
              <a:endParaRPr b="0" lang="en-US" sz="1200" spc="-1" strike="noStrike">
                <a:solidFill>
                  <a:srgbClr val="000000"/>
                </a:solidFill>
                <a:latin typeface="Arial"/>
              </a:endParaRPr>
            </a:p>
          </p:txBody>
        </p:sp>
        <p:sp>
          <p:nvSpPr>
            <p:cNvPr id="394" name=""/>
            <p:cNvSpPr txBox="1"/>
            <p:nvPr/>
          </p:nvSpPr>
          <p:spPr>
            <a:xfrm>
              <a:off x="3200400" y="6248520"/>
              <a:ext cx="149220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EBibleTeacher.com</a:t>
              </a:r>
              <a:endParaRPr b="0" lang="en-US" sz="1000" spc="-1" strike="noStrike">
                <a:solidFill>
                  <a:srgbClr val="000000"/>
                </a:solidFill>
                <a:latin typeface="Arial"/>
              </a:endParaRPr>
            </a:p>
          </p:txBody>
        </p:sp>
        <p:sp>
          <p:nvSpPr>
            <p:cNvPr id="395" name=""/>
            <p:cNvSpPr txBox="1"/>
            <p:nvPr/>
          </p:nvSpPr>
          <p:spPr>
            <a:xfrm>
              <a:off x="2666880" y="271440"/>
              <a:ext cx="2038320" cy="946080"/>
            </a:xfrm>
            <a:prstGeom prst="rect">
              <a:avLst/>
            </a:prstGeom>
            <a:noFill/>
            <a:ln w="0">
              <a:noFill/>
            </a:ln>
          </p:spPr>
          <p:txBody>
            <a:bodyPr lIns="0" rIns="0" tIns="0" bIns="0" anchor="t">
              <a:noAutofit/>
            </a:bodyPr>
            <a:p>
              <a:pPr algn="ctr">
                <a:lnSpc>
                  <a:spcPct val="100000"/>
                </a:lnSpc>
              </a:pPr>
              <a:r>
                <a:rPr b="1" lang="en-US" sz="2800" spc="-1" strike="noStrike" u="sng">
                  <a:solidFill>
                    <a:srgbClr val="fafd00"/>
                  </a:solidFill>
                  <a:uFillTx/>
                  <a:latin typeface="Arial"/>
                  <a:ea typeface="Arial"/>
                </a:rPr>
                <a:t>Solomon’s Israel</a:t>
              </a:r>
              <a:endParaRPr b="0" lang="en-US" sz="2800" spc="-1" strike="noStrike">
                <a:solidFill>
                  <a:srgbClr val="000000"/>
                </a:solidFill>
                <a:latin typeface="Arial"/>
              </a:endParaRPr>
            </a:p>
          </p:txBody>
        </p:sp>
        <p:sp>
          <p:nvSpPr>
            <p:cNvPr id="396" name=""/>
            <p:cNvSpPr txBox="1"/>
            <p:nvPr/>
          </p:nvSpPr>
          <p:spPr>
            <a:xfrm>
              <a:off x="1728720" y="3294000"/>
              <a:ext cx="10875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Shechem</a:t>
              </a:r>
              <a:endParaRPr b="0" lang="en-US" sz="1600" spc="-1" strike="noStrike">
                <a:solidFill>
                  <a:srgbClr val="000000"/>
                </a:solidFill>
                <a:latin typeface="Arial"/>
              </a:endParaRPr>
            </a:p>
          </p:txBody>
        </p:sp>
        <p:sp>
          <p:nvSpPr>
            <p:cNvPr id="397" name=""/>
            <p:cNvSpPr/>
            <p:nvPr/>
          </p:nvSpPr>
          <p:spPr>
            <a:xfrm>
              <a:off x="2344680" y="3611520"/>
              <a:ext cx="90720" cy="98640"/>
            </a:xfrm>
            <a:custGeom>
              <a:avLst/>
              <a:gdLst/>
              <a:ahLst/>
              <a:rect l="0" t="0" r="r" b="b"/>
              <a:pathLst>
                <a:path w="252" h="274">
                  <a:moveTo>
                    <a:pt x="125" y="0"/>
                  </a:moveTo>
                  <a:lnTo>
                    <a:pt x="96" y="104"/>
                  </a:lnTo>
                  <a:lnTo>
                    <a:pt x="0" y="104"/>
                  </a:lnTo>
                  <a:lnTo>
                    <a:pt x="78" y="170"/>
                  </a:lnTo>
                  <a:lnTo>
                    <a:pt x="48" y="274"/>
                  </a:lnTo>
                  <a:lnTo>
                    <a:pt x="125" y="214"/>
                  </a:lnTo>
                  <a:lnTo>
                    <a:pt x="203" y="274"/>
                  </a:lnTo>
                  <a:lnTo>
                    <a:pt x="173" y="170"/>
                  </a:lnTo>
                  <a:lnTo>
                    <a:pt x="252" y="104"/>
                  </a:lnTo>
                  <a:lnTo>
                    <a:pt x="156" y="104"/>
                  </a:lnTo>
                  <a:lnTo>
                    <a:pt x="125" y="0"/>
                  </a:lnTo>
                  <a:close/>
                </a:path>
              </a:pathLst>
            </a:custGeom>
            <a:solidFill>
              <a:srgbClr val="ff5008"/>
            </a:solidFill>
            <a:ln w="12600">
              <a:solidFill>
                <a:srgbClr val="ff5008"/>
              </a:solidFill>
              <a:round/>
            </a:ln>
          </p:spPr>
          <p:txBody>
            <a:bodyPr lIns="96120" rIns="96120" tIns="47520" bIns="47520" anchor="t">
              <a:noAutofit/>
            </a:bodyPr>
            <a:p>
              <a:endParaRPr b="0" lang="en-US" sz="1800" spc="-1" strike="noStrike">
                <a:solidFill>
                  <a:srgbClr val="000000"/>
                </a:solidFill>
                <a:latin typeface="Arial"/>
              </a:endParaRPr>
            </a:p>
          </p:txBody>
        </p:sp>
        <p:sp>
          <p:nvSpPr>
            <p:cNvPr id="398" name=""/>
            <p:cNvSpPr/>
            <p:nvPr/>
          </p:nvSpPr>
          <p:spPr>
            <a:xfrm>
              <a:off x="1719360" y="81000"/>
              <a:ext cx="1127520" cy="2519640"/>
            </a:xfrm>
            <a:custGeom>
              <a:avLst/>
              <a:gdLst/>
              <a:ahLst/>
              <a:rect l="0" t="0" r="r" b="b"/>
              <a:pathLst>
                <a:path fill="none" w="3132" h="6999">
                  <a:moveTo>
                    <a:pt x="0" y="6633"/>
                  </a:moveTo>
                  <a:lnTo>
                    <a:pt x="83" y="6633"/>
                  </a:lnTo>
                  <a:lnTo>
                    <a:pt x="167" y="6690"/>
                  </a:lnTo>
                  <a:lnTo>
                    <a:pt x="251" y="6717"/>
                  </a:lnTo>
                  <a:lnTo>
                    <a:pt x="339" y="6747"/>
                  </a:lnTo>
                  <a:lnTo>
                    <a:pt x="423" y="6805"/>
                  </a:lnTo>
                  <a:lnTo>
                    <a:pt x="507" y="6858"/>
                  </a:lnTo>
                  <a:lnTo>
                    <a:pt x="590" y="6915"/>
                  </a:lnTo>
                  <a:lnTo>
                    <a:pt x="674" y="6972"/>
                  </a:lnTo>
                  <a:lnTo>
                    <a:pt x="762" y="6999"/>
                  </a:lnTo>
                  <a:lnTo>
                    <a:pt x="847" y="6999"/>
                  </a:lnTo>
                  <a:lnTo>
                    <a:pt x="931" y="6999"/>
                  </a:lnTo>
                  <a:lnTo>
                    <a:pt x="957" y="6915"/>
                  </a:lnTo>
                  <a:lnTo>
                    <a:pt x="988" y="6831"/>
                  </a:lnTo>
                  <a:lnTo>
                    <a:pt x="1015" y="6747"/>
                  </a:lnTo>
                  <a:lnTo>
                    <a:pt x="1046" y="6664"/>
                  </a:lnTo>
                  <a:lnTo>
                    <a:pt x="1072" y="6575"/>
                  </a:lnTo>
                  <a:lnTo>
                    <a:pt x="1072" y="6492"/>
                  </a:lnTo>
                  <a:lnTo>
                    <a:pt x="1099" y="6408"/>
                  </a:lnTo>
                  <a:lnTo>
                    <a:pt x="1129" y="6324"/>
                  </a:lnTo>
                  <a:lnTo>
                    <a:pt x="1156" y="6240"/>
                  </a:lnTo>
                  <a:lnTo>
                    <a:pt x="1156" y="6152"/>
                  </a:lnTo>
                  <a:lnTo>
                    <a:pt x="1187" y="6068"/>
                  </a:lnTo>
                  <a:lnTo>
                    <a:pt x="1213" y="5984"/>
                  </a:lnTo>
                  <a:lnTo>
                    <a:pt x="1240" y="5901"/>
                  </a:lnTo>
                  <a:lnTo>
                    <a:pt x="1271" y="5817"/>
                  </a:lnTo>
                  <a:lnTo>
                    <a:pt x="1297" y="5729"/>
                  </a:lnTo>
                  <a:lnTo>
                    <a:pt x="1328" y="5645"/>
                  </a:lnTo>
                  <a:lnTo>
                    <a:pt x="1328" y="5561"/>
                  </a:lnTo>
                  <a:lnTo>
                    <a:pt x="1328" y="5477"/>
                  </a:lnTo>
                  <a:lnTo>
                    <a:pt x="1328" y="5394"/>
                  </a:lnTo>
                  <a:lnTo>
                    <a:pt x="1328" y="5305"/>
                  </a:lnTo>
                  <a:lnTo>
                    <a:pt x="1354" y="5222"/>
                  </a:lnTo>
                  <a:lnTo>
                    <a:pt x="1354" y="5138"/>
                  </a:lnTo>
                  <a:lnTo>
                    <a:pt x="1354" y="5054"/>
                  </a:lnTo>
                  <a:lnTo>
                    <a:pt x="1381" y="4970"/>
                  </a:lnTo>
                  <a:lnTo>
                    <a:pt x="1381" y="4882"/>
                  </a:lnTo>
                  <a:lnTo>
                    <a:pt x="1412" y="4798"/>
                  </a:lnTo>
                  <a:lnTo>
                    <a:pt x="1438" y="4714"/>
                  </a:lnTo>
                  <a:lnTo>
                    <a:pt x="1438" y="4631"/>
                  </a:lnTo>
                  <a:lnTo>
                    <a:pt x="1469" y="4547"/>
                  </a:lnTo>
                  <a:lnTo>
                    <a:pt x="1495" y="4459"/>
                  </a:lnTo>
                  <a:lnTo>
                    <a:pt x="1522" y="4375"/>
                  </a:lnTo>
                  <a:lnTo>
                    <a:pt x="1553" y="4291"/>
                  </a:lnTo>
                  <a:lnTo>
                    <a:pt x="1579" y="4093"/>
                  </a:lnTo>
                  <a:lnTo>
                    <a:pt x="1610" y="4009"/>
                  </a:lnTo>
                  <a:lnTo>
                    <a:pt x="1637" y="3925"/>
                  </a:lnTo>
                  <a:lnTo>
                    <a:pt x="1663" y="3841"/>
                  </a:lnTo>
                  <a:lnTo>
                    <a:pt x="1694" y="3753"/>
                  </a:lnTo>
                  <a:lnTo>
                    <a:pt x="1720" y="3669"/>
                  </a:lnTo>
                  <a:lnTo>
                    <a:pt x="1751" y="3586"/>
                  </a:lnTo>
                  <a:lnTo>
                    <a:pt x="1778" y="3502"/>
                  </a:lnTo>
                  <a:lnTo>
                    <a:pt x="1804" y="3417"/>
                  </a:lnTo>
                  <a:lnTo>
                    <a:pt x="1804" y="3329"/>
                  </a:lnTo>
                  <a:lnTo>
                    <a:pt x="1835" y="3245"/>
                  </a:lnTo>
                  <a:lnTo>
                    <a:pt x="1861" y="3161"/>
                  </a:lnTo>
                  <a:lnTo>
                    <a:pt x="1861" y="3077"/>
                  </a:lnTo>
                  <a:lnTo>
                    <a:pt x="1892" y="2994"/>
                  </a:lnTo>
                  <a:lnTo>
                    <a:pt x="1892" y="2764"/>
                  </a:lnTo>
                  <a:lnTo>
                    <a:pt x="1945" y="2513"/>
                  </a:lnTo>
                  <a:lnTo>
                    <a:pt x="1945" y="2315"/>
                  </a:lnTo>
                  <a:lnTo>
                    <a:pt x="2003" y="2231"/>
                  </a:lnTo>
                  <a:lnTo>
                    <a:pt x="2033" y="2032"/>
                  </a:lnTo>
                  <a:lnTo>
                    <a:pt x="2060" y="1949"/>
                  </a:lnTo>
                  <a:lnTo>
                    <a:pt x="2086" y="1865"/>
                  </a:lnTo>
                  <a:lnTo>
                    <a:pt x="2144" y="1777"/>
                  </a:lnTo>
                  <a:lnTo>
                    <a:pt x="2201" y="1693"/>
                  </a:lnTo>
                  <a:lnTo>
                    <a:pt x="2258" y="1494"/>
                  </a:lnTo>
                  <a:lnTo>
                    <a:pt x="2285" y="1300"/>
                  </a:lnTo>
                  <a:lnTo>
                    <a:pt x="2316" y="1102"/>
                  </a:lnTo>
                  <a:lnTo>
                    <a:pt x="2400" y="1018"/>
                  </a:lnTo>
                  <a:lnTo>
                    <a:pt x="2458" y="930"/>
                  </a:lnTo>
                  <a:lnTo>
                    <a:pt x="2511" y="846"/>
                  </a:lnTo>
                  <a:lnTo>
                    <a:pt x="2599" y="762"/>
                  </a:lnTo>
                  <a:lnTo>
                    <a:pt x="2652" y="679"/>
                  </a:lnTo>
                  <a:lnTo>
                    <a:pt x="2709" y="595"/>
                  </a:lnTo>
                  <a:lnTo>
                    <a:pt x="2793" y="507"/>
                  </a:lnTo>
                  <a:lnTo>
                    <a:pt x="2850" y="423"/>
                  </a:lnTo>
                  <a:lnTo>
                    <a:pt x="2934" y="339"/>
                  </a:lnTo>
                  <a:lnTo>
                    <a:pt x="2991" y="255"/>
                  </a:lnTo>
                  <a:lnTo>
                    <a:pt x="3049" y="171"/>
                  </a:lnTo>
                  <a:lnTo>
                    <a:pt x="3106" y="83"/>
                  </a:lnTo>
                  <a:lnTo>
                    <a:pt x="3132"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9" name=""/>
            <p:cNvSpPr/>
            <p:nvPr/>
          </p:nvSpPr>
          <p:spPr>
            <a:xfrm>
              <a:off x="865080" y="4511520"/>
              <a:ext cx="690840" cy="1270440"/>
            </a:xfrm>
            <a:custGeom>
              <a:avLst/>
              <a:gdLst/>
              <a:ahLst/>
              <a:rect l="0" t="0" r="r" b="b"/>
              <a:pathLst>
                <a:path fill="none" w="1919" h="3529">
                  <a:moveTo>
                    <a:pt x="1469" y="0"/>
                  </a:moveTo>
                  <a:lnTo>
                    <a:pt x="1495" y="83"/>
                  </a:lnTo>
                  <a:lnTo>
                    <a:pt x="1526" y="167"/>
                  </a:lnTo>
                  <a:lnTo>
                    <a:pt x="1610" y="224"/>
                  </a:lnTo>
                  <a:lnTo>
                    <a:pt x="1694" y="308"/>
                  </a:lnTo>
                  <a:lnTo>
                    <a:pt x="1778" y="392"/>
                  </a:lnTo>
                  <a:lnTo>
                    <a:pt x="1835" y="476"/>
                  </a:lnTo>
                  <a:lnTo>
                    <a:pt x="1892" y="564"/>
                  </a:lnTo>
                  <a:lnTo>
                    <a:pt x="1919" y="648"/>
                  </a:lnTo>
                  <a:lnTo>
                    <a:pt x="1919" y="732"/>
                  </a:lnTo>
                  <a:lnTo>
                    <a:pt x="1919" y="815"/>
                  </a:lnTo>
                  <a:lnTo>
                    <a:pt x="1919" y="900"/>
                  </a:lnTo>
                  <a:lnTo>
                    <a:pt x="1919" y="988"/>
                  </a:lnTo>
                  <a:lnTo>
                    <a:pt x="1919" y="1072"/>
                  </a:lnTo>
                  <a:lnTo>
                    <a:pt x="1892" y="1156"/>
                  </a:lnTo>
                  <a:lnTo>
                    <a:pt x="1866" y="1240"/>
                  </a:lnTo>
                  <a:lnTo>
                    <a:pt x="1835" y="1323"/>
                  </a:lnTo>
                  <a:lnTo>
                    <a:pt x="1778" y="1412"/>
                  </a:lnTo>
                  <a:lnTo>
                    <a:pt x="1751" y="1495"/>
                  </a:lnTo>
                  <a:lnTo>
                    <a:pt x="1694" y="1579"/>
                  </a:lnTo>
                  <a:lnTo>
                    <a:pt x="1667" y="1663"/>
                  </a:lnTo>
                  <a:lnTo>
                    <a:pt x="1667" y="1747"/>
                  </a:lnTo>
                  <a:lnTo>
                    <a:pt x="1637" y="1835"/>
                  </a:lnTo>
                  <a:lnTo>
                    <a:pt x="1637" y="1919"/>
                  </a:lnTo>
                  <a:lnTo>
                    <a:pt x="1610" y="2003"/>
                  </a:lnTo>
                  <a:lnTo>
                    <a:pt x="1584" y="2086"/>
                  </a:lnTo>
                  <a:lnTo>
                    <a:pt x="1584" y="2170"/>
                  </a:lnTo>
                  <a:lnTo>
                    <a:pt x="1553" y="2258"/>
                  </a:lnTo>
                  <a:lnTo>
                    <a:pt x="1553" y="2342"/>
                  </a:lnTo>
                  <a:lnTo>
                    <a:pt x="1526" y="2426"/>
                  </a:lnTo>
                  <a:lnTo>
                    <a:pt x="1526" y="2510"/>
                  </a:lnTo>
                  <a:lnTo>
                    <a:pt x="1495" y="2593"/>
                  </a:lnTo>
                  <a:lnTo>
                    <a:pt x="1469" y="2683"/>
                  </a:lnTo>
                  <a:lnTo>
                    <a:pt x="1442" y="2766"/>
                  </a:lnTo>
                  <a:lnTo>
                    <a:pt x="1385" y="2850"/>
                  </a:lnTo>
                  <a:lnTo>
                    <a:pt x="1354" y="2934"/>
                  </a:lnTo>
                  <a:lnTo>
                    <a:pt x="1328" y="3018"/>
                  </a:lnTo>
                  <a:lnTo>
                    <a:pt x="1244" y="3106"/>
                  </a:lnTo>
                  <a:lnTo>
                    <a:pt x="1187" y="3190"/>
                  </a:lnTo>
                  <a:lnTo>
                    <a:pt x="1103" y="3274"/>
                  </a:lnTo>
                  <a:lnTo>
                    <a:pt x="1019" y="3357"/>
                  </a:lnTo>
                  <a:lnTo>
                    <a:pt x="930" y="3357"/>
                  </a:lnTo>
                  <a:lnTo>
                    <a:pt x="846" y="3388"/>
                  </a:lnTo>
                  <a:lnTo>
                    <a:pt x="762" y="3415"/>
                  </a:lnTo>
                  <a:lnTo>
                    <a:pt x="679" y="3441"/>
                  </a:lnTo>
                  <a:lnTo>
                    <a:pt x="595" y="3441"/>
                  </a:lnTo>
                  <a:lnTo>
                    <a:pt x="507" y="3472"/>
                  </a:lnTo>
                  <a:lnTo>
                    <a:pt x="423" y="3498"/>
                  </a:lnTo>
                  <a:lnTo>
                    <a:pt x="339" y="3529"/>
                  </a:lnTo>
                  <a:lnTo>
                    <a:pt x="255" y="3529"/>
                  </a:lnTo>
                  <a:lnTo>
                    <a:pt x="171" y="3529"/>
                  </a:lnTo>
                  <a:lnTo>
                    <a:pt x="83" y="3529"/>
                  </a:lnTo>
                  <a:lnTo>
                    <a:pt x="0" y="3529"/>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0" name=""/>
            <p:cNvSpPr/>
            <p:nvPr/>
          </p:nvSpPr>
          <p:spPr>
            <a:xfrm>
              <a:off x="361800" y="6342120"/>
              <a:ext cx="114840" cy="406800"/>
            </a:xfrm>
            <a:custGeom>
              <a:avLst/>
              <a:gdLst/>
              <a:ahLst/>
              <a:rect l="0" t="0" r="r" b="b"/>
              <a:pathLst>
                <a:path fill="none" w="319" h="1130">
                  <a:moveTo>
                    <a:pt x="0" y="0"/>
                  </a:moveTo>
                  <a:lnTo>
                    <a:pt x="0" y="132"/>
                  </a:lnTo>
                  <a:lnTo>
                    <a:pt x="48" y="273"/>
                  </a:lnTo>
                  <a:lnTo>
                    <a:pt x="93" y="406"/>
                  </a:lnTo>
                  <a:lnTo>
                    <a:pt x="177" y="547"/>
                  </a:lnTo>
                  <a:lnTo>
                    <a:pt x="275" y="724"/>
                  </a:lnTo>
                  <a:lnTo>
                    <a:pt x="319" y="857"/>
                  </a:lnTo>
                  <a:lnTo>
                    <a:pt x="319" y="998"/>
                  </a:lnTo>
                  <a:lnTo>
                    <a:pt x="319" y="113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1" name=""/>
            <p:cNvSpPr/>
            <p:nvPr/>
          </p:nvSpPr>
          <p:spPr>
            <a:xfrm>
              <a:off x="3314880" y="522360"/>
              <a:ext cx="1408320" cy="6226560"/>
            </a:xfrm>
            <a:custGeom>
              <a:avLst/>
              <a:gdLst/>
              <a:ahLst/>
              <a:rect l="0" t="0" r="r" b="b"/>
              <a:pathLst>
                <a:path fill="none" w="3912" h="17296">
                  <a:moveTo>
                    <a:pt x="0" y="17296"/>
                  </a:moveTo>
                  <a:lnTo>
                    <a:pt x="0" y="17164"/>
                  </a:lnTo>
                  <a:lnTo>
                    <a:pt x="44" y="17023"/>
                  </a:lnTo>
                  <a:lnTo>
                    <a:pt x="83" y="16891"/>
                  </a:lnTo>
                  <a:lnTo>
                    <a:pt x="176" y="16750"/>
                  </a:lnTo>
                  <a:lnTo>
                    <a:pt x="224" y="16617"/>
                  </a:lnTo>
                  <a:lnTo>
                    <a:pt x="308" y="16441"/>
                  </a:lnTo>
                  <a:lnTo>
                    <a:pt x="352" y="16300"/>
                  </a:lnTo>
                  <a:lnTo>
                    <a:pt x="401" y="16168"/>
                  </a:lnTo>
                  <a:lnTo>
                    <a:pt x="493" y="16035"/>
                  </a:lnTo>
                  <a:lnTo>
                    <a:pt x="533" y="15899"/>
                  </a:lnTo>
                  <a:lnTo>
                    <a:pt x="582" y="15766"/>
                  </a:lnTo>
                  <a:lnTo>
                    <a:pt x="626" y="15625"/>
                  </a:lnTo>
                  <a:lnTo>
                    <a:pt x="626" y="15493"/>
                  </a:lnTo>
                  <a:lnTo>
                    <a:pt x="626" y="15361"/>
                  </a:lnTo>
                  <a:lnTo>
                    <a:pt x="674" y="15219"/>
                  </a:lnTo>
                  <a:lnTo>
                    <a:pt x="718" y="15043"/>
                  </a:lnTo>
                  <a:lnTo>
                    <a:pt x="718" y="14911"/>
                  </a:lnTo>
                  <a:lnTo>
                    <a:pt x="758" y="14770"/>
                  </a:lnTo>
                  <a:lnTo>
                    <a:pt x="758" y="14637"/>
                  </a:lnTo>
                  <a:lnTo>
                    <a:pt x="758" y="14501"/>
                  </a:lnTo>
                  <a:lnTo>
                    <a:pt x="758" y="14368"/>
                  </a:lnTo>
                  <a:lnTo>
                    <a:pt x="758" y="14236"/>
                  </a:lnTo>
                  <a:lnTo>
                    <a:pt x="758" y="14095"/>
                  </a:lnTo>
                  <a:lnTo>
                    <a:pt x="806" y="13963"/>
                  </a:lnTo>
                  <a:lnTo>
                    <a:pt x="806" y="13822"/>
                  </a:lnTo>
                  <a:lnTo>
                    <a:pt x="851" y="13645"/>
                  </a:lnTo>
                  <a:lnTo>
                    <a:pt x="899" y="13513"/>
                  </a:lnTo>
                  <a:lnTo>
                    <a:pt x="948" y="13372"/>
                  </a:lnTo>
                  <a:lnTo>
                    <a:pt x="983" y="13239"/>
                  </a:lnTo>
                  <a:lnTo>
                    <a:pt x="1031" y="13063"/>
                  </a:lnTo>
                  <a:lnTo>
                    <a:pt x="1075" y="12921"/>
                  </a:lnTo>
                  <a:lnTo>
                    <a:pt x="1124" y="12789"/>
                  </a:lnTo>
                  <a:lnTo>
                    <a:pt x="1124" y="12656"/>
                  </a:lnTo>
                  <a:lnTo>
                    <a:pt x="1172" y="12520"/>
                  </a:lnTo>
                  <a:lnTo>
                    <a:pt x="1208" y="12387"/>
                  </a:lnTo>
                  <a:lnTo>
                    <a:pt x="1208" y="12246"/>
                  </a:lnTo>
                  <a:lnTo>
                    <a:pt x="1256" y="12114"/>
                  </a:lnTo>
                  <a:lnTo>
                    <a:pt x="1300" y="11982"/>
                  </a:lnTo>
                  <a:lnTo>
                    <a:pt x="1300" y="11841"/>
                  </a:lnTo>
                  <a:lnTo>
                    <a:pt x="1397" y="11664"/>
                  </a:lnTo>
                  <a:lnTo>
                    <a:pt x="1433" y="11532"/>
                  </a:lnTo>
                  <a:lnTo>
                    <a:pt x="1481" y="11391"/>
                  </a:lnTo>
                  <a:lnTo>
                    <a:pt x="1574" y="11259"/>
                  </a:lnTo>
                  <a:lnTo>
                    <a:pt x="1574" y="10941"/>
                  </a:lnTo>
                  <a:lnTo>
                    <a:pt x="1574" y="10632"/>
                  </a:lnTo>
                  <a:lnTo>
                    <a:pt x="1622" y="10491"/>
                  </a:lnTo>
                  <a:lnTo>
                    <a:pt x="1658" y="10134"/>
                  </a:lnTo>
                  <a:lnTo>
                    <a:pt x="1750" y="9993"/>
                  </a:lnTo>
                  <a:lnTo>
                    <a:pt x="1799" y="9861"/>
                  </a:lnTo>
                  <a:lnTo>
                    <a:pt x="1882" y="9684"/>
                  </a:lnTo>
                  <a:lnTo>
                    <a:pt x="1931" y="9543"/>
                  </a:lnTo>
                  <a:lnTo>
                    <a:pt x="1980" y="9411"/>
                  </a:lnTo>
                  <a:lnTo>
                    <a:pt x="1980" y="9234"/>
                  </a:lnTo>
                  <a:lnTo>
                    <a:pt x="1980" y="9093"/>
                  </a:lnTo>
                  <a:lnTo>
                    <a:pt x="2025" y="8961"/>
                  </a:lnTo>
                  <a:lnTo>
                    <a:pt x="2025" y="8829"/>
                  </a:lnTo>
                  <a:lnTo>
                    <a:pt x="2073" y="8688"/>
                  </a:lnTo>
                  <a:lnTo>
                    <a:pt x="2073" y="8511"/>
                  </a:lnTo>
                  <a:lnTo>
                    <a:pt x="2073" y="8110"/>
                  </a:lnTo>
                  <a:lnTo>
                    <a:pt x="2108" y="7704"/>
                  </a:lnTo>
                  <a:lnTo>
                    <a:pt x="2108" y="7290"/>
                  </a:lnTo>
                  <a:lnTo>
                    <a:pt x="2157" y="7113"/>
                  </a:lnTo>
                  <a:lnTo>
                    <a:pt x="2157" y="6981"/>
                  </a:lnTo>
                  <a:lnTo>
                    <a:pt x="2157" y="6840"/>
                  </a:lnTo>
                  <a:lnTo>
                    <a:pt x="2157" y="6664"/>
                  </a:lnTo>
                  <a:lnTo>
                    <a:pt x="2157" y="6531"/>
                  </a:lnTo>
                  <a:lnTo>
                    <a:pt x="2157" y="6390"/>
                  </a:lnTo>
                  <a:lnTo>
                    <a:pt x="2157" y="6258"/>
                  </a:lnTo>
                  <a:lnTo>
                    <a:pt x="2157" y="6082"/>
                  </a:lnTo>
                  <a:lnTo>
                    <a:pt x="2205" y="5940"/>
                  </a:lnTo>
                  <a:lnTo>
                    <a:pt x="2205" y="5808"/>
                  </a:lnTo>
                  <a:lnTo>
                    <a:pt x="2205" y="5632"/>
                  </a:lnTo>
                  <a:lnTo>
                    <a:pt x="2205" y="5491"/>
                  </a:lnTo>
                  <a:lnTo>
                    <a:pt x="2205" y="5358"/>
                  </a:lnTo>
                  <a:lnTo>
                    <a:pt x="2205" y="5226"/>
                  </a:lnTo>
                  <a:lnTo>
                    <a:pt x="2205" y="4909"/>
                  </a:lnTo>
                  <a:lnTo>
                    <a:pt x="2205" y="4776"/>
                  </a:lnTo>
                  <a:lnTo>
                    <a:pt x="2205" y="4635"/>
                  </a:lnTo>
                  <a:lnTo>
                    <a:pt x="2205" y="4459"/>
                  </a:lnTo>
                  <a:lnTo>
                    <a:pt x="2249" y="4326"/>
                  </a:lnTo>
                  <a:lnTo>
                    <a:pt x="2298" y="4184"/>
                  </a:lnTo>
                  <a:lnTo>
                    <a:pt x="2298" y="4052"/>
                  </a:lnTo>
                  <a:lnTo>
                    <a:pt x="2333" y="3735"/>
                  </a:lnTo>
                  <a:lnTo>
                    <a:pt x="2333" y="3377"/>
                  </a:lnTo>
                  <a:lnTo>
                    <a:pt x="2333" y="3060"/>
                  </a:lnTo>
                  <a:lnTo>
                    <a:pt x="2382" y="2703"/>
                  </a:lnTo>
                  <a:lnTo>
                    <a:pt x="2430" y="2301"/>
                  </a:lnTo>
                  <a:lnTo>
                    <a:pt x="2474" y="2160"/>
                  </a:lnTo>
                  <a:lnTo>
                    <a:pt x="2523" y="2028"/>
                  </a:lnTo>
                  <a:lnTo>
                    <a:pt x="2523" y="1887"/>
                  </a:lnTo>
                  <a:lnTo>
                    <a:pt x="2558" y="1755"/>
                  </a:lnTo>
                  <a:lnTo>
                    <a:pt x="2607" y="1622"/>
                  </a:lnTo>
                  <a:lnTo>
                    <a:pt x="2655" y="1481"/>
                  </a:lnTo>
                  <a:lnTo>
                    <a:pt x="2699" y="1305"/>
                  </a:lnTo>
                  <a:lnTo>
                    <a:pt x="2748" y="1172"/>
                  </a:lnTo>
                  <a:lnTo>
                    <a:pt x="2832" y="1031"/>
                  </a:lnTo>
                  <a:lnTo>
                    <a:pt x="2924" y="855"/>
                  </a:lnTo>
                  <a:lnTo>
                    <a:pt x="3012" y="723"/>
                  </a:lnTo>
                  <a:lnTo>
                    <a:pt x="3153" y="630"/>
                  </a:lnTo>
                  <a:lnTo>
                    <a:pt x="3281" y="498"/>
                  </a:lnTo>
                  <a:lnTo>
                    <a:pt x="3422" y="405"/>
                  </a:lnTo>
                  <a:lnTo>
                    <a:pt x="3555" y="357"/>
                  </a:lnTo>
                  <a:lnTo>
                    <a:pt x="3687" y="224"/>
                  </a:lnTo>
                  <a:lnTo>
                    <a:pt x="3828" y="132"/>
                  </a:lnTo>
                  <a:lnTo>
                    <a:pt x="3912"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2" name=""/>
            <p:cNvSpPr txBox="1"/>
            <p:nvPr/>
          </p:nvSpPr>
          <p:spPr>
            <a:xfrm>
              <a:off x="-457200" y="1852560"/>
              <a:ext cx="2962440" cy="579600"/>
            </a:xfrm>
            <a:prstGeom prst="rect">
              <a:avLst/>
            </a:prstGeom>
            <a:noFill/>
            <a:ln w="0">
              <a:noFill/>
            </a:ln>
          </p:spPr>
          <p:txBody>
            <a:bodyPr lIns="0" rIns="0" tIns="0" bIns="0" anchor="t">
              <a:noAutofit/>
            </a:bodyPr>
            <a:p>
              <a:pPr>
                <a:lnSpc>
                  <a:spcPct val="100000"/>
                </a:lnSpc>
              </a:pPr>
              <a:r>
                <a:rPr b="1" i="1" lang="en-US" sz="3200" spc="-1" strike="noStrike">
                  <a:solidFill>
                    <a:srgbClr val="c1ceff"/>
                  </a:solidFill>
                  <a:latin typeface="Arial"/>
                  <a:ea typeface="Arial"/>
                </a:rPr>
                <a:t>Mediterranean</a:t>
              </a:r>
              <a:endParaRPr b="0" lang="en-US" sz="3200" spc="-1" strike="noStrike">
                <a:solidFill>
                  <a:srgbClr val="000000"/>
                </a:solidFill>
                <a:latin typeface="Arial"/>
              </a:endParaRPr>
            </a:p>
          </p:txBody>
        </p:sp>
        <p:sp>
          <p:nvSpPr>
            <p:cNvPr id="403" name=""/>
            <p:cNvSpPr txBox="1"/>
            <p:nvPr/>
          </p:nvSpPr>
          <p:spPr>
            <a:xfrm>
              <a:off x="595440" y="5051520"/>
              <a:ext cx="13129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Black"/>
                  <a:ea typeface="Arial Black"/>
                </a:rPr>
                <a:t>Philisti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04" name=""/>
          <p:cNvSpPr txBox="1"/>
          <p:nvPr/>
        </p:nvSpPr>
        <p:spPr>
          <a:xfrm>
            <a:off x="2081160" y="579600"/>
            <a:ext cx="5011560" cy="1189080"/>
          </a:xfrm>
          <a:prstGeom prst="rect">
            <a:avLst/>
          </a:prstGeom>
          <a:noFill/>
          <a:ln w="0">
            <a:noFill/>
          </a:ln>
        </p:spPr>
        <p:txBody>
          <a:bodyPr lIns="0" rIns="0" tIns="0" bIns="0" anchor="t">
            <a:noAutofit/>
          </a:bodyPr>
          <a:p>
            <a:pPr>
              <a:lnSpc>
                <a:spcPct val="100000"/>
              </a:lnSpc>
            </a:pPr>
            <a:r>
              <a:rPr b="1" lang="en-US" sz="7200" spc="-1" strike="noStrike" u="sng">
                <a:solidFill>
                  <a:srgbClr val="fafd00"/>
                </a:solidFill>
                <a:uFillTx/>
                <a:latin typeface="Arial"/>
                <a:ea typeface="Arial"/>
              </a:rPr>
              <a:t>Tabernacle</a:t>
            </a:r>
            <a:endParaRPr b="0" lang="en-US" sz="7200" spc="-1" strike="noStrike">
              <a:solidFill>
                <a:srgbClr val="000000"/>
              </a:solidFill>
              <a:latin typeface="Arial"/>
            </a:endParaRPr>
          </a:p>
        </p:txBody>
      </p:sp>
      <p:grpSp>
        <p:nvGrpSpPr>
          <p:cNvPr id="405" name=""/>
          <p:cNvGrpSpPr/>
          <p:nvPr/>
        </p:nvGrpSpPr>
        <p:grpSpPr>
          <a:xfrm>
            <a:off x="268200" y="2362320"/>
            <a:ext cx="8571240" cy="4419720"/>
            <a:chOff x="268200" y="2362320"/>
            <a:chExt cx="8571240" cy="4419720"/>
          </a:xfrm>
        </p:grpSpPr>
        <p:sp>
          <p:nvSpPr>
            <p:cNvPr id="406" name=""/>
            <p:cNvSpPr/>
            <p:nvPr/>
          </p:nvSpPr>
          <p:spPr>
            <a:xfrm>
              <a:off x="268200" y="2362320"/>
              <a:ext cx="8494560" cy="4038480"/>
            </a:xfrm>
            <a:prstGeom prst="rect">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p:nvPr/>
          </p:nvSpPr>
          <p:spPr>
            <a:xfrm>
              <a:off x="801720" y="3505320"/>
              <a:ext cx="3618000" cy="190512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8" name=""/>
            <p:cNvSpPr/>
            <p:nvPr/>
          </p:nvSpPr>
          <p:spPr>
            <a:xfrm>
              <a:off x="801720" y="3505320"/>
              <a:ext cx="1828800" cy="1905120"/>
            </a:xfrm>
            <a:prstGeom prst="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722160" y="3703680"/>
              <a:ext cx="1792440" cy="155412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Arial"/>
                  <a:ea typeface="Arial"/>
                </a:rPr>
                <a:t>Most Holy</a:t>
              </a:r>
              <a:endParaRPr b="0" lang="en-US" sz="3200" spc="-1" strike="noStrike">
                <a:solidFill>
                  <a:srgbClr val="000000"/>
                </a:solidFill>
                <a:latin typeface="Arial"/>
              </a:endParaRPr>
            </a:p>
            <a:p>
              <a:pPr algn="ctr">
                <a:lnSpc>
                  <a:spcPct val="100000"/>
                </a:lnSpc>
              </a:pPr>
              <a:r>
                <a:rPr b="1" lang="en-US" sz="3200" spc="-1" strike="noStrike">
                  <a:solidFill>
                    <a:srgbClr val="000000"/>
                  </a:solidFill>
                  <a:latin typeface="Arial"/>
                  <a:ea typeface="Arial"/>
                </a:rPr>
                <a:t>Place</a:t>
              </a:r>
              <a:endParaRPr b="0" lang="en-US" sz="3200" spc="-1" strike="noStrike">
                <a:solidFill>
                  <a:srgbClr val="000000"/>
                </a:solidFill>
                <a:latin typeface="Arial"/>
              </a:endParaRPr>
            </a:p>
          </p:txBody>
        </p:sp>
        <p:sp>
          <p:nvSpPr>
            <p:cNvPr id="410" name=""/>
            <p:cNvSpPr txBox="1"/>
            <p:nvPr/>
          </p:nvSpPr>
          <p:spPr>
            <a:xfrm>
              <a:off x="2766960" y="3884760"/>
              <a:ext cx="1424160" cy="1190520"/>
            </a:xfrm>
            <a:prstGeom prst="rect">
              <a:avLst/>
            </a:prstGeom>
            <a:noFill/>
            <a:ln w="0">
              <a:noFill/>
            </a:ln>
          </p:spPr>
          <p:txBody>
            <a:bodyPr lIns="0" rIns="0" tIns="0" bIns="0" anchor="t">
              <a:noAutofit/>
            </a:bodyPr>
            <a:p>
              <a:pPr algn="ctr">
                <a:lnSpc>
                  <a:spcPct val="100000"/>
                </a:lnSpc>
              </a:pPr>
              <a:r>
                <a:rPr b="1" lang="en-US" sz="3600" spc="-1" strike="noStrike">
                  <a:solidFill>
                    <a:srgbClr val="ffffff"/>
                  </a:solidFill>
                  <a:latin typeface="Arial"/>
                  <a:ea typeface="Arial"/>
                </a:rPr>
                <a:t>Holy Place</a:t>
              </a:r>
              <a:endParaRPr b="0" lang="en-US" sz="3600" spc="-1" strike="noStrike">
                <a:solidFill>
                  <a:srgbClr val="000000"/>
                </a:solidFill>
                <a:latin typeface="Arial"/>
              </a:endParaRPr>
            </a:p>
          </p:txBody>
        </p:sp>
        <p:sp>
          <p:nvSpPr>
            <p:cNvPr id="411" name=""/>
            <p:cNvSpPr/>
            <p:nvPr/>
          </p:nvSpPr>
          <p:spPr>
            <a:xfrm>
              <a:off x="4916520" y="4038480"/>
              <a:ext cx="838080" cy="762120"/>
            </a:xfrm>
            <a:prstGeom prst="ellipse">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6288120" y="3962520"/>
              <a:ext cx="1066680" cy="1066680"/>
            </a:xfrm>
            <a:prstGeom prst="rect">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3" name=""/>
            <p:cNvSpPr txBox="1"/>
            <p:nvPr/>
          </p:nvSpPr>
          <p:spPr>
            <a:xfrm>
              <a:off x="4748040" y="4846680"/>
              <a:ext cx="12682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Laver</a:t>
              </a:r>
              <a:endParaRPr b="0" lang="en-US" sz="3200" spc="-1" strike="noStrike">
                <a:solidFill>
                  <a:srgbClr val="000000"/>
                </a:solidFill>
                <a:latin typeface="Arial"/>
              </a:endParaRPr>
            </a:p>
          </p:txBody>
        </p:sp>
        <p:sp>
          <p:nvSpPr>
            <p:cNvPr id="414" name=""/>
            <p:cNvSpPr txBox="1"/>
            <p:nvPr/>
          </p:nvSpPr>
          <p:spPr>
            <a:xfrm>
              <a:off x="6348240" y="4205160"/>
              <a:ext cx="99360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Altar</a:t>
              </a:r>
              <a:endParaRPr b="0" lang="en-US" sz="2800" spc="-1" strike="noStrike">
                <a:solidFill>
                  <a:srgbClr val="000000"/>
                </a:solidFill>
                <a:latin typeface="Arial"/>
              </a:endParaRPr>
            </a:p>
          </p:txBody>
        </p:sp>
        <p:sp>
          <p:nvSpPr>
            <p:cNvPr id="415" name=""/>
            <p:cNvSpPr txBox="1"/>
            <p:nvPr/>
          </p:nvSpPr>
          <p:spPr>
            <a:xfrm>
              <a:off x="7147080" y="647712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416" name=""/>
          <p:cNvGrpSpPr/>
          <p:nvPr/>
        </p:nvGrpSpPr>
        <p:grpSpPr>
          <a:xfrm>
            <a:off x="60480" y="152280"/>
            <a:ext cx="9007560" cy="6629760"/>
            <a:chOff x="60480" y="152280"/>
            <a:chExt cx="9007560" cy="6629760"/>
          </a:xfrm>
        </p:grpSpPr>
        <p:sp>
          <p:nvSpPr>
            <p:cNvPr id="417" name=""/>
            <p:cNvSpPr txBox="1"/>
            <p:nvPr/>
          </p:nvSpPr>
          <p:spPr>
            <a:xfrm>
              <a:off x="304920" y="152280"/>
              <a:ext cx="8534520" cy="1143000"/>
            </a:xfrm>
            <a:prstGeom prst="rect">
              <a:avLst/>
            </a:prstGeom>
            <a:noFill/>
            <a:ln w="0">
              <a:noFill/>
            </a:ln>
          </p:spPr>
          <p:txBody>
            <a:bodyPr lIns="0" rIns="0" tIns="0" bIns="0" anchor="t">
              <a:noAutofit/>
            </a:bodyPr>
            <a:p>
              <a:pPr algn="ctr">
                <a:lnSpc>
                  <a:spcPct val="100000"/>
                </a:lnSpc>
              </a:pPr>
              <a:r>
                <a:rPr b="1" lang="en-US" sz="4800" spc="-1" strike="noStrike" u="sng">
                  <a:solidFill>
                    <a:srgbClr val="fafd00"/>
                  </a:solidFill>
                  <a:uFillTx/>
                  <a:latin typeface="Arial"/>
                  <a:ea typeface="Arial"/>
                </a:rPr>
                <a:t>Israelite Camp &amp; Tabernacle</a:t>
              </a:r>
              <a:endParaRPr b="0" lang="en-US" sz="4800" spc="-1" strike="noStrike">
                <a:solidFill>
                  <a:srgbClr val="000000"/>
                </a:solidFill>
                <a:latin typeface="Arial"/>
              </a:endParaRPr>
            </a:p>
          </p:txBody>
        </p:sp>
        <p:grpSp>
          <p:nvGrpSpPr>
            <p:cNvPr id="418" name=""/>
            <p:cNvGrpSpPr/>
            <p:nvPr/>
          </p:nvGrpSpPr>
          <p:grpSpPr>
            <a:xfrm>
              <a:off x="3200400" y="3124080"/>
              <a:ext cx="2819520" cy="1752480"/>
              <a:chOff x="3200400" y="3124080"/>
              <a:chExt cx="2819520" cy="1752480"/>
            </a:xfrm>
          </p:grpSpPr>
          <p:sp>
            <p:nvSpPr>
              <p:cNvPr id="419" name=""/>
              <p:cNvSpPr/>
              <p:nvPr/>
            </p:nvSpPr>
            <p:spPr>
              <a:xfrm>
                <a:off x="3200400" y="3124080"/>
                <a:ext cx="2819520" cy="1752480"/>
              </a:xfrm>
              <a:prstGeom prst="rect">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3524400" y="3646440"/>
                <a:ext cx="590400" cy="696960"/>
              </a:xfrm>
              <a:prstGeom prst="rect">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4133880" y="3646440"/>
                <a:ext cx="590400" cy="696960"/>
              </a:xfrm>
              <a:prstGeom prst="rect">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4944960" y="3859200"/>
                <a:ext cx="312840" cy="255600"/>
              </a:xfrm>
              <a:prstGeom prst="ellipse">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5446800" y="3813120"/>
                <a:ext cx="268200" cy="301680"/>
              </a:xfrm>
              <a:prstGeom prst="rect">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24" name=""/>
            <p:cNvSpPr/>
            <p:nvPr/>
          </p:nvSpPr>
          <p:spPr>
            <a:xfrm>
              <a:off x="228600" y="3962520"/>
              <a:ext cx="914760" cy="457560"/>
            </a:xfrm>
            <a:custGeom>
              <a:avLst/>
              <a:gdLst/>
              <a:ahLst/>
              <a:rect l="0" t="0" r="r" b="b"/>
              <a:pathLst>
                <a:path w="2541" h="1271">
                  <a:moveTo>
                    <a:pt x="0" y="1271"/>
                  </a:moveTo>
                  <a:lnTo>
                    <a:pt x="761" y="0"/>
                  </a:lnTo>
                  <a:lnTo>
                    <a:pt x="1778" y="0"/>
                  </a:lnTo>
                  <a:lnTo>
                    <a:pt x="2541" y="1271"/>
                  </a:lnTo>
                  <a:lnTo>
                    <a:pt x="0" y="1271"/>
                  </a:lnTo>
                  <a:close/>
                </a:path>
              </a:pathLst>
            </a:cu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1143000" y="3352680"/>
              <a:ext cx="914760" cy="457560"/>
            </a:xfrm>
            <a:custGeom>
              <a:avLst/>
              <a:gdLst/>
              <a:ahLst/>
              <a:rect l="0" t="0" r="r" b="b"/>
              <a:pathLst>
                <a:path w="2541" h="1271">
                  <a:moveTo>
                    <a:pt x="0" y="1271"/>
                  </a:moveTo>
                  <a:lnTo>
                    <a:pt x="761" y="0"/>
                  </a:lnTo>
                  <a:lnTo>
                    <a:pt x="1778" y="0"/>
                  </a:lnTo>
                  <a:lnTo>
                    <a:pt x="2541" y="1271"/>
                  </a:lnTo>
                  <a:lnTo>
                    <a:pt x="0" y="1271"/>
                  </a:lnTo>
                  <a:close/>
                </a:path>
              </a:pathLst>
            </a:cu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1905120" y="3886200"/>
              <a:ext cx="914760" cy="457560"/>
            </a:xfrm>
            <a:custGeom>
              <a:avLst/>
              <a:gdLst/>
              <a:ahLst/>
              <a:rect l="0" t="0" r="r" b="b"/>
              <a:pathLst>
                <a:path w="2541" h="1271">
                  <a:moveTo>
                    <a:pt x="0" y="1271"/>
                  </a:moveTo>
                  <a:lnTo>
                    <a:pt x="762" y="0"/>
                  </a:lnTo>
                  <a:lnTo>
                    <a:pt x="1778" y="0"/>
                  </a:lnTo>
                  <a:lnTo>
                    <a:pt x="2541" y="1271"/>
                  </a:lnTo>
                  <a:lnTo>
                    <a:pt x="0" y="1271"/>
                  </a:lnTo>
                  <a:close/>
                </a:path>
              </a:pathLst>
            </a:cu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8153280" y="4038480"/>
              <a:ext cx="914760" cy="457560"/>
            </a:xfrm>
            <a:custGeom>
              <a:avLst/>
              <a:gdLst/>
              <a:ahLst/>
              <a:rect l="0" t="0" r="r" b="b"/>
              <a:pathLst>
                <a:path w="2541" h="1271">
                  <a:moveTo>
                    <a:pt x="0" y="1271"/>
                  </a:moveTo>
                  <a:lnTo>
                    <a:pt x="761" y="0"/>
                  </a:lnTo>
                  <a:lnTo>
                    <a:pt x="1779" y="0"/>
                  </a:lnTo>
                  <a:lnTo>
                    <a:pt x="2541" y="1271"/>
                  </a:lnTo>
                  <a:lnTo>
                    <a:pt x="0" y="1271"/>
                  </a:lnTo>
                  <a:close/>
                </a:path>
              </a:pathLst>
            </a:cu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391520" y="3352680"/>
              <a:ext cx="914760" cy="457560"/>
            </a:xfrm>
            <a:custGeom>
              <a:avLst/>
              <a:gdLst/>
              <a:ahLst/>
              <a:rect l="0" t="0" r="r" b="b"/>
              <a:pathLst>
                <a:path w="2541" h="1271">
                  <a:moveTo>
                    <a:pt x="0" y="1271"/>
                  </a:moveTo>
                  <a:lnTo>
                    <a:pt x="761" y="0"/>
                  </a:lnTo>
                  <a:lnTo>
                    <a:pt x="1779" y="0"/>
                  </a:lnTo>
                  <a:lnTo>
                    <a:pt x="2541" y="1271"/>
                  </a:lnTo>
                  <a:lnTo>
                    <a:pt x="0" y="1271"/>
                  </a:lnTo>
                  <a:close/>
                </a:path>
              </a:pathLst>
            </a:cu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6400800" y="3886200"/>
              <a:ext cx="914760" cy="457560"/>
            </a:xfrm>
            <a:custGeom>
              <a:avLst/>
              <a:gdLst/>
              <a:ahLst/>
              <a:rect l="0" t="0" r="r" b="b"/>
              <a:pathLst>
                <a:path w="2541" h="1271">
                  <a:moveTo>
                    <a:pt x="0" y="1271"/>
                  </a:moveTo>
                  <a:lnTo>
                    <a:pt x="761" y="0"/>
                  </a:lnTo>
                  <a:lnTo>
                    <a:pt x="1779" y="0"/>
                  </a:lnTo>
                  <a:lnTo>
                    <a:pt x="2541" y="1271"/>
                  </a:lnTo>
                  <a:lnTo>
                    <a:pt x="0" y="1271"/>
                  </a:lnTo>
                  <a:close/>
                </a:path>
              </a:pathLst>
            </a:cu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3657600" y="6095880"/>
              <a:ext cx="914760" cy="457560"/>
            </a:xfrm>
            <a:custGeom>
              <a:avLst/>
              <a:gdLst/>
              <a:ahLst/>
              <a:rect l="0" t="0" r="r" b="b"/>
              <a:pathLst>
                <a:path w="2541" h="1271">
                  <a:moveTo>
                    <a:pt x="0" y="1271"/>
                  </a:moveTo>
                  <a:lnTo>
                    <a:pt x="762" y="0"/>
                  </a:lnTo>
                  <a:lnTo>
                    <a:pt x="1778" y="0"/>
                  </a:lnTo>
                  <a:lnTo>
                    <a:pt x="2541" y="1271"/>
                  </a:lnTo>
                  <a:lnTo>
                    <a:pt x="0" y="1271"/>
                  </a:lnTo>
                  <a:close/>
                </a:path>
              </a:pathLst>
            </a:cu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4495680" y="5715000"/>
              <a:ext cx="914760" cy="457560"/>
            </a:xfrm>
            <a:custGeom>
              <a:avLst/>
              <a:gdLst/>
              <a:ahLst/>
              <a:rect l="0" t="0" r="r" b="b"/>
              <a:pathLst>
                <a:path w="2541" h="1271">
                  <a:moveTo>
                    <a:pt x="0" y="1271"/>
                  </a:moveTo>
                  <a:lnTo>
                    <a:pt x="762" y="0"/>
                  </a:lnTo>
                  <a:lnTo>
                    <a:pt x="1778" y="0"/>
                  </a:lnTo>
                  <a:lnTo>
                    <a:pt x="2541" y="1271"/>
                  </a:lnTo>
                  <a:lnTo>
                    <a:pt x="0" y="1271"/>
                  </a:lnTo>
                  <a:close/>
                </a:path>
              </a:pathLst>
            </a:cu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4038480" y="5181480"/>
              <a:ext cx="914760" cy="457560"/>
            </a:xfrm>
            <a:custGeom>
              <a:avLst/>
              <a:gdLst/>
              <a:ahLst/>
              <a:rect l="0" t="0" r="r" b="b"/>
              <a:pathLst>
                <a:path w="2541" h="1271">
                  <a:moveTo>
                    <a:pt x="0" y="1271"/>
                  </a:moveTo>
                  <a:lnTo>
                    <a:pt x="762" y="0"/>
                  </a:lnTo>
                  <a:lnTo>
                    <a:pt x="1778" y="0"/>
                  </a:lnTo>
                  <a:lnTo>
                    <a:pt x="2541" y="1271"/>
                  </a:lnTo>
                  <a:lnTo>
                    <a:pt x="0" y="1271"/>
                  </a:lnTo>
                  <a:close/>
                </a:path>
              </a:pathLst>
            </a:cu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3809880" y="1295280"/>
              <a:ext cx="914760" cy="457560"/>
            </a:xfrm>
            <a:custGeom>
              <a:avLst/>
              <a:gdLst/>
              <a:ahLst/>
              <a:rect l="0" t="0" r="r" b="b"/>
              <a:pathLst>
                <a:path w="2541" h="1271">
                  <a:moveTo>
                    <a:pt x="0" y="1271"/>
                  </a:moveTo>
                  <a:lnTo>
                    <a:pt x="762" y="0"/>
                  </a:lnTo>
                  <a:lnTo>
                    <a:pt x="1778" y="0"/>
                  </a:lnTo>
                  <a:lnTo>
                    <a:pt x="2541" y="1271"/>
                  </a:lnTo>
                  <a:lnTo>
                    <a:pt x="0" y="1271"/>
                  </a:lnTo>
                  <a:close/>
                </a:path>
              </a:pathLst>
            </a:cu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3733920" y="2362320"/>
              <a:ext cx="914760" cy="457560"/>
            </a:xfrm>
            <a:custGeom>
              <a:avLst/>
              <a:gdLst/>
              <a:ahLst/>
              <a:rect l="0" t="0" r="r" b="b"/>
              <a:pathLst>
                <a:path w="2541" h="1271">
                  <a:moveTo>
                    <a:pt x="0" y="1271"/>
                  </a:moveTo>
                  <a:lnTo>
                    <a:pt x="762" y="0"/>
                  </a:lnTo>
                  <a:lnTo>
                    <a:pt x="1778" y="0"/>
                  </a:lnTo>
                  <a:lnTo>
                    <a:pt x="2541" y="1271"/>
                  </a:lnTo>
                  <a:lnTo>
                    <a:pt x="0" y="1271"/>
                  </a:lnTo>
                  <a:close/>
                </a:path>
              </a:pathLst>
            </a:cu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4267080" y="1828800"/>
              <a:ext cx="914760" cy="457560"/>
            </a:xfrm>
            <a:custGeom>
              <a:avLst/>
              <a:gdLst/>
              <a:ahLst/>
              <a:rect l="0" t="0" r="r" b="b"/>
              <a:pathLst>
                <a:path w="2541" h="1271">
                  <a:moveTo>
                    <a:pt x="0" y="1271"/>
                  </a:moveTo>
                  <a:lnTo>
                    <a:pt x="762" y="0"/>
                  </a:lnTo>
                  <a:lnTo>
                    <a:pt x="1778" y="0"/>
                  </a:lnTo>
                  <a:lnTo>
                    <a:pt x="2541" y="1271"/>
                  </a:lnTo>
                  <a:lnTo>
                    <a:pt x="0" y="1271"/>
                  </a:lnTo>
                  <a:close/>
                </a:path>
              </a:pathLst>
            </a:cu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txBox="1"/>
            <p:nvPr/>
          </p:nvSpPr>
          <p:spPr>
            <a:xfrm>
              <a:off x="3336840" y="4341960"/>
              <a:ext cx="25988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abernacle</a:t>
              </a:r>
              <a:endParaRPr b="0" lang="en-US" sz="3600" spc="-1" strike="noStrike">
                <a:solidFill>
                  <a:srgbClr val="000000"/>
                </a:solidFill>
                <a:latin typeface="Arial"/>
              </a:endParaRPr>
            </a:p>
          </p:txBody>
        </p:sp>
        <p:sp>
          <p:nvSpPr>
            <p:cNvPr id="437" name=""/>
            <p:cNvSpPr txBox="1"/>
            <p:nvPr/>
          </p:nvSpPr>
          <p:spPr>
            <a:xfrm>
              <a:off x="6156360" y="4389480"/>
              <a:ext cx="138096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Judah</a:t>
              </a:r>
              <a:endParaRPr b="0" lang="en-US" sz="3200" spc="-1" strike="noStrike">
                <a:solidFill>
                  <a:srgbClr val="000000"/>
                </a:solidFill>
                <a:latin typeface="Arial"/>
              </a:endParaRPr>
            </a:p>
          </p:txBody>
        </p:sp>
        <p:sp>
          <p:nvSpPr>
            <p:cNvPr id="438" name=""/>
            <p:cNvSpPr txBox="1"/>
            <p:nvPr/>
          </p:nvSpPr>
          <p:spPr>
            <a:xfrm>
              <a:off x="7070760" y="2452680"/>
              <a:ext cx="1301760" cy="824040"/>
            </a:xfrm>
            <a:prstGeom prst="rect">
              <a:avLst/>
            </a:prstGeom>
            <a:noFill/>
            <a:ln w="0">
              <a:noFill/>
            </a:ln>
          </p:spPr>
          <p:txBody>
            <a:bodyPr lIns="0" rIns="0" tIns="0" bIns="0" anchor="t">
              <a:noAutofit/>
            </a:bodyPr>
            <a:p>
              <a:pPr>
                <a:lnSpc>
                  <a:spcPct val="100000"/>
                </a:lnSpc>
              </a:pPr>
              <a:r>
                <a:rPr b="1" i="1" lang="en-US" sz="4800" spc="-1" strike="noStrike" u="sng">
                  <a:solidFill>
                    <a:srgbClr val="f6bf69"/>
                  </a:solidFill>
                  <a:uFillTx/>
                  <a:latin typeface="Times New Roman"/>
                  <a:ea typeface="Times New Roman"/>
                </a:rPr>
                <a:t>East</a:t>
              </a:r>
              <a:endParaRPr b="0" lang="en-US" sz="4800" spc="-1" strike="noStrike">
                <a:solidFill>
                  <a:srgbClr val="000000"/>
                </a:solidFill>
                <a:latin typeface="Arial"/>
              </a:endParaRPr>
            </a:p>
          </p:txBody>
        </p:sp>
        <p:sp>
          <p:nvSpPr>
            <p:cNvPr id="439" name=""/>
            <p:cNvSpPr txBox="1"/>
            <p:nvPr/>
          </p:nvSpPr>
          <p:spPr>
            <a:xfrm>
              <a:off x="5622840" y="5958000"/>
              <a:ext cx="1674720" cy="824040"/>
            </a:xfrm>
            <a:prstGeom prst="rect">
              <a:avLst/>
            </a:prstGeom>
            <a:noFill/>
            <a:ln w="0">
              <a:noFill/>
            </a:ln>
          </p:spPr>
          <p:txBody>
            <a:bodyPr lIns="0" rIns="0" tIns="0" bIns="0" anchor="t">
              <a:noAutofit/>
            </a:bodyPr>
            <a:p>
              <a:pPr>
                <a:lnSpc>
                  <a:spcPct val="100000"/>
                </a:lnSpc>
              </a:pPr>
              <a:r>
                <a:rPr b="1" i="1" lang="en-US" sz="4800" spc="-1" strike="noStrike" u="sng">
                  <a:solidFill>
                    <a:srgbClr val="f6bf69"/>
                  </a:solidFill>
                  <a:uFillTx/>
                  <a:latin typeface="Times New Roman"/>
                  <a:ea typeface="Times New Roman"/>
                </a:rPr>
                <a:t>South</a:t>
              </a:r>
              <a:endParaRPr b="0" lang="en-US" sz="4800" spc="-1" strike="noStrike">
                <a:solidFill>
                  <a:srgbClr val="000000"/>
                </a:solidFill>
                <a:latin typeface="Arial"/>
              </a:endParaRPr>
            </a:p>
          </p:txBody>
        </p:sp>
        <p:sp>
          <p:nvSpPr>
            <p:cNvPr id="440" name=""/>
            <p:cNvSpPr txBox="1"/>
            <p:nvPr/>
          </p:nvSpPr>
          <p:spPr>
            <a:xfrm>
              <a:off x="669960" y="2376360"/>
              <a:ext cx="1403280" cy="824040"/>
            </a:xfrm>
            <a:prstGeom prst="rect">
              <a:avLst/>
            </a:prstGeom>
            <a:noFill/>
            <a:ln w="0">
              <a:noFill/>
            </a:ln>
          </p:spPr>
          <p:txBody>
            <a:bodyPr lIns="0" rIns="0" tIns="0" bIns="0" anchor="t">
              <a:noAutofit/>
            </a:bodyPr>
            <a:p>
              <a:pPr>
                <a:lnSpc>
                  <a:spcPct val="100000"/>
                </a:lnSpc>
              </a:pPr>
              <a:r>
                <a:rPr b="1" i="1" lang="en-US" sz="4800" spc="-1" strike="noStrike" u="sng">
                  <a:solidFill>
                    <a:srgbClr val="f6bf69"/>
                  </a:solidFill>
                  <a:uFillTx/>
                  <a:latin typeface="Times New Roman"/>
                  <a:ea typeface="Times New Roman"/>
                </a:rPr>
                <a:t>West</a:t>
              </a:r>
              <a:endParaRPr b="0" lang="en-US" sz="4800" spc="-1" strike="noStrike">
                <a:solidFill>
                  <a:srgbClr val="000000"/>
                </a:solidFill>
                <a:latin typeface="Arial"/>
              </a:endParaRPr>
            </a:p>
          </p:txBody>
        </p:sp>
        <p:sp>
          <p:nvSpPr>
            <p:cNvPr id="441" name=""/>
            <p:cNvSpPr txBox="1"/>
            <p:nvPr/>
          </p:nvSpPr>
          <p:spPr>
            <a:xfrm>
              <a:off x="6842160" y="3322800"/>
              <a:ext cx="18334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Issachar</a:t>
              </a:r>
              <a:endParaRPr b="0" lang="en-US" sz="3200" spc="-1" strike="noStrike">
                <a:solidFill>
                  <a:srgbClr val="000000"/>
                </a:solidFill>
                <a:latin typeface="Arial"/>
              </a:endParaRPr>
            </a:p>
          </p:txBody>
        </p:sp>
        <p:sp>
          <p:nvSpPr>
            <p:cNvPr id="442" name=""/>
            <p:cNvSpPr txBox="1"/>
            <p:nvPr/>
          </p:nvSpPr>
          <p:spPr>
            <a:xfrm>
              <a:off x="7299360" y="4008600"/>
              <a:ext cx="176364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Zebulun</a:t>
              </a:r>
              <a:endParaRPr b="0" lang="en-US" sz="3200" spc="-1" strike="noStrike">
                <a:solidFill>
                  <a:srgbClr val="000000"/>
                </a:solidFill>
                <a:latin typeface="Arial"/>
              </a:endParaRPr>
            </a:p>
          </p:txBody>
        </p:sp>
        <p:sp>
          <p:nvSpPr>
            <p:cNvPr id="443" name=""/>
            <p:cNvSpPr txBox="1"/>
            <p:nvPr/>
          </p:nvSpPr>
          <p:spPr>
            <a:xfrm>
              <a:off x="2498760" y="4998960"/>
              <a:ext cx="16747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Rueben</a:t>
              </a:r>
              <a:endParaRPr b="0" lang="en-US" sz="3200" spc="-1" strike="noStrike">
                <a:solidFill>
                  <a:srgbClr val="000000"/>
                </a:solidFill>
                <a:latin typeface="Arial"/>
              </a:endParaRPr>
            </a:p>
          </p:txBody>
        </p:sp>
        <p:sp>
          <p:nvSpPr>
            <p:cNvPr id="444" name=""/>
            <p:cNvSpPr txBox="1"/>
            <p:nvPr/>
          </p:nvSpPr>
          <p:spPr>
            <a:xfrm>
              <a:off x="2803680" y="5608800"/>
              <a:ext cx="165276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Simeon</a:t>
              </a:r>
              <a:endParaRPr b="0" lang="en-US" sz="3200" spc="-1" strike="noStrike">
                <a:solidFill>
                  <a:srgbClr val="000000"/>
                </a:solidFill>
                <a:latin typeface="Arial"/>
              </a:endParaRPr>
            </a:p>
          </p:txBody>
        </p:sp>
        <p:sp>
          <p:nvSpPr>
            <p:cNvPr id="445" name=""/>
            <p:cNvSpPr txBox="1"/>
            <p:nvPr/>
          </p:nvSpPr>
          <p:spPr>
            <a:xfrm>
              <a:off x="2727360" y="6066000"/>
              <a:ext cx="9748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Gad</a:t>
              </a:r>
              <a:endParaRPr b="0" lang="en-US" sz="3200" spc="-1" strike="noStrike">
                <a:solidFill>
                  <a:srgbClr val="000000"/>
                </a:solidFill>
                <a:latin typeface="Arial"/>
              </a:endParaRPr>
            </a:p>
          </p:txBody>
        </p:sp>
        <p:sp>
          <p:nvSpPr>
            <p:cNvPr id="446" name=""/>
            <p:cNvSpPr txBox="1"/>
            <p:nvPr/>
          </p:nvSpPr>
          <p:spPr>
            <a:xfrm>
              <a:off x="3870360" y="3094200"/>
              <a:ext cx="158436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Levites</a:t>
              </a:r>
              <a:endParaRPr b="0" lang="en-US" sz="3200" spc="-1" strike="noStrike">
                <a:solidFill>
                  <a:srgbClr val="000000"/>
                </a:solidFill>
                <a:latin typeface="Arial"/>
              </a:endParaRPr>
            </a:p>
          </p:txBody>
        </p:sp>
        <p:sp>
          <p:nvSpPr>
            <p:cNvPr id="447" name=""/>
            <p:cNvSpPr txBox="1"/>
            <p:nvPr/>
          </p:nvSpPr>
          <p:spPr>
            <a:xfrm>
              <a:off x="1660680" y="4389480"/>
              <a:ext cx="18097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Ephraim</a:t>
              </a:r>
              <a:endParaRPr b="0" lang="en-US" sz="3200" spc="-1" strike="noStrike">
                <a:solidFill>
                  <a:srgbClr val="000000"/>
                </a:solidFill>
                <a:latin typeface="Arial"/>
              </a:endParaRPr>
            </a:p>
          </p:txBody>
        </p:sp>
        <p:sp>
          <p:nvSpPr>
            <p:cNvPr id="448" name=""/>
            <p:cNvSpPr txBox="1"/>
            <p:nvPr/>
          </p:nvSpPr>
          <p:spPr>
            <a:xfrm>
              <a:off x="898560" y="3246480"/>
              <a:ext cx="214956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Manasseh</a:t>
              </a:r>
              <a:endParaRPr b="0" lang="en-US" sz="3200" spc="-1" strike="noStrike">
                <a:solidFill>
                  <a:srgbClr val="000000"/>
                </a:solidFill>
                <a:latin typeface="Arial"/>
              </a:endParaRPr>
            </a:p>
          </p:txBody>
        </p:sp>
        <p:sp>
          <p:nvSpPr>
            <p:cNvPr id="449" name=""/>
            <p:cNvSpPr txBox="1"/>
            <p:nvPr/>
          </p:nvSpPr>
          <p:spPr>
            <a:xfrm>
              <a:off x="60480" y="3932280"/>
              <a:ext cx="20131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Benjamin</a:t>
              </a:r>
              <a:endParaRPr b="0" lang="en-US" sz="3200" spc="-1" strike="noStrike">
                <a:solidFill>
                  <a:srgbClr val="000000"/>
                </a:solidFill>
                <a:latin typeface="Arial"/>
              </a:endParaRPr>
            </a:p>
          </p:txBody>
        </p:sp>
        <p:sp>
          <p:nvSpPr>
            <p:cNvPr id="450" name=""/>
            <p:cNvSpPr txBox="1"/>
            <p:nvPr/>
          </p:nvSpPr>
          <p:spPr>
            <a:xfrm>
              <a:off x="4632480" y="2332080"/>
              <a:ext cx="95256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Dan</a:t>
              </a:r>
              <a:endParaRPr b="0" lang="en-US" sz="3200" spc="-1" strike="noStrike">
                <a:solidFill>
                  <a:srgbClr val="000000"/>
                </a:solidFill>
                <a:latin typeface="Arial"/>
              </a:endParaRPr>
            </a:p>
          </p:txBody>
        </p:sp>
        <p:sp>
          <p:nvSpPr>
            <p:cNvPr id="451" name=""/>
            <p:cNvSpPr txBox="1"/>
            <p:nvPr/>
          </p:nvSpPr>
          <p:spPr>
            <a:xfrm>
              <a:off x="2879640" y="1874880"/>
              <a:ext cx="13366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Asher</a:t>
              </a:r>
              <a:endParaRPr b="0" lang="en-US" sz="3200" spc="-1" strike="noStrike">
                <a:solidFill>
                  <a:srgbClr val="000000"/>
                </a:solidFill>
                <a:latin typeface="Arial"/>
              </a:endParaRPr>
            </a:p>
          </p:txBody>
        </p:sp>
        <p:sp>
          <p:nvSpPr>
            <p:cNvPr id="452" name=""/>
            <p:cNvSpPr txBox="1"/>
            <p:nvPr/>
          </p:nvSpPr>
          <p:spPr>
            <a:xfrm>
              <a:off x="4632480" y="1189080"/>
              <a:ext cx="178740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Naphtali</a:t>
              </a:r>
              <a:endParaRPr b="0" lang="en-US" sz="3200" spc="-1" strike="noStrike">
                <a:solidFill>
                  <a:srgbClr val="000000"/>
                </a:solidFill>
                <a:latin typeface="Arial"/>
              </a:endParaRPr>
            </a:p>
          </p:txBody>
        </p:sp>
        <p:sp>
          <p:nvSpPr>
            <p:cNvPr id="453" name=""/>
            <p:cNvSpPr txBox="1"/>
            <p:nvPr/>
          </p:nvSpPr>
          <p:spPr>
            <a:xfrm>
              <a:off x="2117880" y="1004760"/>
              <a:ext cx="1674720" cy="824040"/>
            </a:xfrm>
            <a:prstGeom prst="rect">
              <a:avLst/>
            </a:prstGeom>
            <a:noFill/>
            <a:ln w="0">
              <a:noFill/>
            </a:ln>
          </p:spPr>
          <p:txBody>
            <a:bodyPr lIns="0" rIns="0" tIns="0" bIns="0" anchor="t">
              <a:noAutofit/>
            </a:bodyPr>
            <a:p>
              <a:pPr>
                <a:lnSpc>
                  <a:spcPct val="100000"/>
                </a:lnSpc>
              </a:pPr>
              <a:r>
                <a:rPr b="1" i="1" lang="en-US" sz="4800" spc="-1" strike="noStrike" u="sng">
                  <a:solidFill>
                    <a:srgbClr val="f6bf69"/>
                  </a:solidFill>
                  <a:uFillTx/>
                  <a:latin typeface="Times New Roman"/>
                  <a:ea typeface="Times New Roman"/>
                </a:rPr>
                <a:t>North</a:t>
              </a:r>
              <a:endParaRPr b="0" lang="en-US" sz="4800" spc="-1" strike="noStrike">
                <a:solidFill>
                  <a:srgbClr val="000000"/>
                </a:solidFill>
                <a:latin typeface="Arial"/>
              </a:endParaRPr>
            </a:p>
          </p:txBody>
        </p:sp>
        <p:sp>
          <p:nvSpPr>
            <p:cNvPr id="454" name=""/>
            <p:cNvSpPr txBox="1"/>
            <p:nvPr/>
          </p:nvSpPr>
          <p:spPr>
            <a:xfrm>
              <a:off x="60480" y="647712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55" name=""/>
          <p:cNvSpPr txBox="1"/>
          <p:nvPr/>
        </p:nvSpPr>
        <p:spPr>
          <a:xfrm>
            <a:off x="2081160" y="579600"/>
            <a:ext cx="5011560" cy="1189080"/>
          </a:xfrm>
          <a:prstGeom prst="rect">
            <a:avLst/>
          </a:prstGeom>
          <a:noFill/>
          <a:ln w="0">
            <a:noFill/>
          </a:ln>
        </p:spPr>
        <p:txBody>
          <a:bodyPr lIns="0" rIns="0" tIns="0" bIns="0" anchor="t">
            <a:noAutofit/>
          </a:bodyPr>
          <a:p>
            <a:pPr>
              <a:lnSpc>
                <a:spcPct val="100000"/>
              </a:lnSpc>
            </a:pPr>
            <a:r>
              <a:rPr b="1" lang="en-US" sz="7200" spc="-1" strike="noStrike" u="sng">
                <a:solidFill>
                  <a:srgbClr val="fafd00"/>
                </a:solidFill>
                <a:uFillTx/>
                <a:latin typeface="Arial"/>
                <a:ea typeface="Arial"/>
              </a:rPr>
              <a:t>Tabernacle</a:t>
            </a:r>
            <a:endParaRPr b="0" lang="en-US" sz="7200" spc="-1" strike="noStrike">
              <a:solidFill>
                <a:srgbClr val="000000"/>
              </a:solidFill>
              <a:latin typeface="Arial"/>
            </a:endParaRPr>
          </a:p>
        </p:txBody>
      </p:sp>
      <p:grpSp>
        <p:nvGrpSpPr>
          <p:cNvPr id="456" name=""/>
          <p:cNvGrpSpPr/>
          <p:nvPr/>
        </p:nvGrpSpPr>
        <p:grpSpPr>
          <a:xfrm>
            <a:off x="380880" y="1843200"/>
            <a:ext cx="8661600" cy="4871880"/>
            <a:chOff x="380880" y="1843200"/>
            <a:chExt cx="8661600" cy="4871880"/>
          </a:xfrm>
        </p:grpSpPr>
        <p:sp>
          <p:nvSpPr>
            <p:cNvPr id="457" name=""/>
            <p:cNvSpPr/>
            <p:nvPr/>
          </p:nvSpPr>
          <p:spPr>
            <a:xfrm>
              <a:off x="380880" y="2286000"/>
              <a:ext cx="3352680" cy="2819520"/>
            </a:xfrm>
            <a:prstGeom prst="rect">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2971800" y="2286000"/>
              <a:ext cx="2438280" cy="2819520"/>
            </a:xfrm>
            <a:prstGeom prst="rect">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5791320" y="3295800"/>
              <a:ext cx="914400" cy="895320"/>
            </a:xfrm>
            <a:prstGeom prst="ellipse">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7391520" y="3081240"/>
              <a:ext cx="1523880" cy="1490760"/>
            </a:xfrm>
            <a:prstGeom prst="rect">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1" name=""/>
            <p:cNvSpPr txBox="1"/>
            <p:nvPr/>
          </p:nvSpPr>
          <p:spPr>
            <a:xfrm>
              <a:off x="571680" y="5207040"/>
              <a:ext cx="2095560" cy="1335240"/>
            </a:xfrm>
            <a:prstGeom prst="rect">
              <a:avLst/>
            </a:prstGeom>
            <a:noFill/>
            <a:ln w="0">
              <a:noFill/>
            </a:ln>
          </p:spPr>
          <p:txBody>
            <a:bodyPr lIns="0" rIns="0" tIns="0" bIns="0" anchor="t">
              <a:noAutofit/>
            </a:bodyPr>
            <a:p>
              <a:pPr algn="ctr">
                <a:lnSpc>
                  <a:spcPct val="85000"/>
                </a:lnSpc>
              </a:pPr>
              <a:r>
                <a:rPr b="1" lang="en-US" sz="3200" spc="-1" strike="noStrike">
                  <a:solidFill>
                    <a:srgbClr val="ffffff"/>
                  </a:solidFill>
                  <a:latin typeface="Arial"/>
                  <a:ea typeface="Arial"/>
                </a:rPr>
                <a:t>Most</a:t>
              </a:r>
              <a:endParaRPr b="0" lang="en-US" sz="3200" spc="-1" strike="noStrike">
                <a:solidFill>
                  <a:srgbClr val="000000"/>
                </a:solidFill>
                <a:latin typeface="Arial"/>
              </a:endParaRPr>
            </a:p>
            <a:p>
              <a:pPr algn="ctr">
                <a:lnSpc>
                  <a:spcPct val="85000"/>
                </a:lnSpc>
              </a:pPr>
              <a:r>
                <a:rPr b="1" lang="en-US" sz="3200" spc="-1" strike="noStrike">
                  <a:solidFill>
                    <a:srgbClr val="ffffff"/>
                  </a:solidFill>
                  <a:latin typeface="Arial"/>
                  <a:ea typeface="Arial"/>
                </a:rPr>
                <a:t>Holy</a:t>
              </a:r>
              <a:endParaRPr b="0" lang="en-US" sz="3200" spc="-1" strike="noStrike">
                <a:solidFill>
                  <a:srgbClr val="000000"/>
                </a:solidFill>
                <a:latin typeface="Arial"/>
              </a:endParaRPr>
            </a:p>
            <a:p>
              <a:pPr algn="ctr">
                <a:lnSpc>
                  <a:spcPct val="85000"/>
                </a:lnSpc>
              </a:pPr>
              <a:r>
                <a:rPr b="1" lang="en-US" sz="3200" spc="-1" strike="noStrike">
                  <a:solidFill>
                    <a:srgbClr val="ffffff"/>
                  </a:solidFill>
                  <a:latin typeface="Arial"/>
                  <a:ea typeface="Arial"/>
                </a:rPr>
                <a:t>Place</a:t>
              </a:r>
              <a:endParaRPr b="0" lang="en-US" sz="3200" spc="-1" strike="noStrike">
                <a:solidFill>
                  <a:srgbClr val="000000"/>
                </a:solidFill>
                <a:latin typeface="Arial"/>
              </a:endParaRPr>
            </a:p>
          </p:txBody>
        </p:sp>
        <p:sp>
          <p:nvSpPr>
            <p:cNvPr id="462" name=""/>
            <p:cNvSpPr txBox="1"/>
            <p:nvPr/>
          </p:nvSpPr>
          <p:spPr>
            <a:xfrm>
              <a:off x="2857680" y="5214960"/>
              <a:ext cx="2490840" cy="10666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Holy</a:t>
              </a:r>
              <a:endParaRPr b="0" lang="en-US" sz="3200" spc="-1" strike="noStrike">
                <a:solidFill>
                  <a:srgbClr val="000000"/>
                </a:solidFill>
                <a:latin typeface="Arial"/>
              </a:endParaRPr>
            </a:p>
            <a:p>
              <a:pPr algn="ctr">
                <a:lnSpc>
                  <a:spcPct val="100000"/>
                </a:lnSpc>
              </a:pPr>
              <a:r>
                <a:rPr b="1" lang="en-US" sz="3200" spc="-1" strike="noStrike">
                  <a:solidFill>
                    <a:srgbClr val="ffffff"/>
                  </a:solidFill>
                  <a:latin typeface="Arial"/>
                  <a:ea typeface="Arial"/>
                </a:rPr>
                <a:t>Place</a:t>
              </a:r>
              <a:endParaRPr b="0" lang="en-US" sz="3200" spc="-1" strike="noStrike">
                <a:solidFill>
                  <a:srgbClr val="000000"/>
                </a:solidFill>
                <a:latin typeface="Arial"/>
              </a:endParaRPr>
            </a:p>
          </p:txBody>
        </p:sp>
        <p:sp>
          <p:nvSpPr>
            <p:cNvPr id="463" name=""/>
            <p:cNvSpPr txBox="1"/>
            <p:nvPr/>
          </p:nvSpPr>
          <p:spPr>
            <a:xfrm>
              <a:off x="4957920" y="2556000"/>
              <a:ext cx="2535120" cy="57960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Laver</a:t>
              </a:r>
              <a:endParaRPr b="0" lang="en-US" sz="3200" spc="-1" strike="noStrike">
                <a:solidFill>
                  <a:srgbClr val="000000"/>
                </a:solidFill>
                <a:latin typeface="Arial"/>
              </a:endParaRPr>
            </a:p>
          </p:txBody>
        </p:sp>
        <p:sp>
          <p:nvSpPr>
            <p:cNvPr id="464" name=""/>
            <p:cNvSpPr txBox="1"/>
            <p:nvPr/>
          </p:nvSpPr>
          <p:spPr>
            <a:xfrm>
              <a:off x="7315200" y="3317760"/>
              <a:ext cx="1698480" cy="10666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Bronze</a:t>
              </a:r>
              <a:endParaRPr b="0" lang="en-US" sz="3200" spc="-1" strike="noStrike">
                <a:solidFill>
                  <a:srgbClr val="000000"/>
                </a:solidFill>
                <a:latin typeface="Arial"/>
              </a:endParaRPr>
            </a:p>
            <a:p>
              <a:pPr algn="ctr">
                <a:lnSpc>
                  <a:spcPct val="100000"/>
                </a:lnSpc>
              </a:pPr>
              <a:r>
                <a:rPr b="1" lang="en-US" sz="3200" spc="-1" strike="noStrike">
                  <a:solidFill>
                    <a:srgbClr val="ffffff"/>
                  </a:solidFill>
                  <a:latin typeface="Arial"/>
                  <a:ea typeface="Arial"/>
                </a:rPr>
                <a:t>Altar</a:t>
              </a:r>
              <a:endParaRPr b="0" lang="en-US" sz="3200" spc="-1" strike="noStrike">
                <a:solidFill>
                  <a:srgbClr val="000000"/>
                </a:solidFill>
                <a:latin typeface="Arial"/>
              </a:endParaRPr>
            </a:p>
          </p:txBody>
        </p:sp>
        <p:sp>
          <p:nvSpPr>
            <p:cNvPr id="465" name=""/>
            <p:cNvSpPr/>
            <p:nvPr/>
          </p:nvSpPr>
          <p:spPr>
            <a:xfrm>
              <a:off x="1066680" y="2971800"/>
              <a:ext cx="914760" cy="457560"/>
            </a:xfrm>
            <a:custGeom>
              <a:avLst/>
              <a:gdLst/>
              <a:ahLst/>
              <a:rect l="0" t="0" r="r" b="b"/>
              <a:pathLst>
                <a:path w="2541" h="1271">
                  <a:moveTo>
                    <a:pt x="0" y="1271"/>
                  </a:moveTo>
                  <a:lnTo>
                    <a:pt x="762" y="0"/>
                  </a:lnTo>
                  <a:lnTo>
                    <a:pt x="1778" y="0"/>
                  </a:lnTo>
                  <a:lnTo>
                    <a:pt x="2541" y="1271"/>
                  </a:lnTo>
                  <a:lnTo>
                    <a:pt x="0" y="1271"/>
                  </a:lnTo>
                  <a:close/>
                </a:path>
              </a:pathLst>
            </a:cu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txBox="1"/>
            <p:nvPr/>
          </p:nvSpPr>
          <p:spPr>
            <a:xfrm>
              <a:off x="588960" y="3627360"/>
              <a:ext cx="2193840" cy="10666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Ark of the </a:t>
              </a:r>
              <a:endParaRPr b="0" lang="en-US" sz="3200" spc="-1" strike="noStrike">
                <a:solidFill>
                  <a:srgbClr val="000000"/>
                </a:solidFill>
                <a:latin typeface="Arial"/>
              </a:endParaRPr>
            </a:p>
            <a:p>
              <a:pPr algn="ctr">
                <a:lnSpc>
                  <a:spcPct val="100000"/>
                </a:lnSpc>
              </a:pPr>
              <a:r>
                <a:rPr b="1" lang="en-US" sz="3200" spc="-1" strike="noStrike">
                  <a:solidFill>
                    <a:srgbClr val="ffffff"/>
                  </a:solidFill>
                  <a:latin typeface="Arial"/>
                  <a:ea typeface="Arial"/>
                </a:rPr>
                <a:t>Covenant</a:t>
              </a:r>
              <a:endParaRPr b="0" lang="en-US" sz="3200" spc="-1" strike="noStrike">
                <a:solidFill>
                  <a:srgbClr val="000000"/>
                </a:solidFill>
                <a:latin typeface="Arial"/>
              </a:endParaRPr>
            </a:p>
          </p:txBody>
        </p:sp>
        <p:sp>
          <p:nvSpPr>
            <p:cNvPr id="467" name=""/>
            <p:cNvSpPr/>
            <p:nvPr/>
          </p:nvSpPr>
          <p:spPr>
            <a:xfrm>
              <a:off x="3657600" y="2743200"/>
              <a:ext cx="1066680" cy="380880"/>
            </a:xfrm>
            <a:prstGeom prst="rect">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3124080" y="3429000"/>
              <a:ext cx="380880" cy="380880"/>
            </a:xfrm>
            <a:prstGeom prst="rect">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4114800" y="4191120"/>
              <a:ext cx="76320" cy="7621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flipH="1">
              <a:off x="4191120" y="4191120"/>
              <a:ext cx="228600" cy="228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1" name=""/>
            <p:cNvSpPr/>
            <p:nvPr/>
          </p:nvSpPr>
          <p:spPr>
            <a:xfrm>
              <a:off x="3733920" y="4191120"/>
              <a:ext cx="380880" cy="3808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2" name=""/>
            <p:cNvSpPr/>
            <p:nvPr/>
          </p:nvSpPr>
          <p:spPr>
            <a:xfrm flipH="1">
              <a:off x="4191120" y="4191120"/>
              <a:ext cx="380880" cy="3808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3" name=""/>
            <p:cNvSpPr/>
            <p:nvPr/>
          </p:nvSpPr>
          <p:spPr>
            <a:xfrm>
              <a:off x="3886200" y="4191120"/>
              <a:ext cx="228600" cy="228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4" name=""/>
            <p:cNvSpPr/>
            <p:nvPr/>
          </p:nvSpPr>
          <p:spPr>
            <a:xfrm>
              <a:off x="4038480" y="4191120"/>
              <a:ext cx="117720" cy="110880"/>
            </a:xfrm>
            <a:prstGeom prst="line">
              <a:avLst/>
            </a:prstGeom>
            <a:ln w="38160">
              <a:solidFill>
                <a:srgbClr val="ffffff"/>
              </a:solidFill>
              <a:round/>
            </a:ln>
          </p:spPr>
          <p:style>
            <a:lnRef idx="0"/>
            <a:fillRef idx="0"/>
            <a:effectRef idx="0"/>
            <a:fontRef idx="minor"/>
          </p:style>
          <p:txBody>
            <a:bodyPr lIns="109080" rIns="109080" tIns="46800" bIns="46800" anchor="t">
              <a:noAutofit/>
            </a:bodyPr>
            <a:p>
              <a:endParaRPr b="0" lang="en-US" sz="1800" spc="-1" strike="noStrike">
                <a:solidFill>
                  <a:srgbClr val="000000"/>
                </a:solidFill>
                <a:latin typeface="Arial"/>
              </a:endParaRPr>
            </a:p>
          </p:txBody>
        </p:sp>
        <p:sp>
          <p:nvSpPr>
            <p:cNvPr id="475" name=""/>
            <p:cNvSpPr/>
            <p:nvPr/>
          </p:nvSpPr>
          <p:spPr>
            <a:xfrm flipH="1">
              <a:off x="4160880" y="4191120"/>
              <a:ext cx="106200" cy="96840"/>
            </a:xfrm>
            <a:prstGeom prst="line">
              <a:avLst/>
            </a:prstGeom>
            <a:ln w="38160">
              <a:solidFill>
                <a:srgbClr val="ffffff"/>
              </a:solidFill>
              <a:round/>
            </a:ln>
          </p:spPr>
          <p:style>
            <a:lnRef idx="0"/>
            <a:fillRef idx="0"/>
            <a:effectRef idx="0"/>
            <a:fontRef idx="minor"/>
          </p:style>
          <p:txBody>
            <a:bodyPr lIns="109080" rIns="109080" tIns="32760" bIns="32760" anchor="t">
              <a:noAutofit/>
            </a:bodyPr>
            <a:p>
              <a:endParaRPr b="0" lang="en-US" sz="1800" spc="-1" strike="noStrike">
                <a:solidFill>
                  <a:srgbClr val="000000"/>
                </a:solidFill>
                <a:latin typeface="Arial"/>
              </a:endParaRPr>
            </a:p>
          </p:txBody>
        </p:sp>
        <p:sp>
          <p:nvSpPr>
            <p:cNvPr id="476" name=""/>
            <p:cNvSpPr txBox="1"/>
            <p:nvPr/>
          </p:nvSpPr>
          <p:spPr>
            <a:xfrm>
              <a:off x="3159000" y="1843200"/>
              <a:ext cx="208116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Table of </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Arial"/>
                  <a:ea typeface="Arial"/>
                </a:rPr>
                <a:t>Shewbread</a:t>
              </a:r>
              <a:endParaRPr b="0" lang="en-US" sz="2800" spc="-1" strike="noStrike">
                <a:solidFill>
                  <a:srgbClr val="000000"/>
                </a:solidFill>
                <a:latin typeface="Arial"/>
              </a:endParaRPr>
            </a:p>
          </p:txBody>
        </p:sp>
        <p:sp>
          <p:nvSpPr>
            <p:cNvPr id="477" name=""/>
            <p:cNvSpPr txBox="1"/>
            <p:nvPr/>
          </p:nvSpPr>
          <p:spPr>
            <a:xfrm>
              <a:off x="4175280" y="4541760"/>
              <a:ext cx="18781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Menorah</a:t>
              </a:r>
              <a:endParaRPr b="0" lang="en-US" sz="3200" spc="-1" strike="noStrike">
                <a:solidFill>
                  <a:srgbClr val="000000"/>
                </a:solidFill>
                <a:latin typeface="Arial"/>
              </a:endParaRPr>
            </a:p>
          </p:txBody>
        </p:sp>
        <p:sp>
          <p:nvSpPr>
            <p:cNvPr id="478" name=""/>
            <p:cNvSpPr txBox="1"/>
            <p:nvPr/>
          </p:nvSpPr>
          <p:spPr>
            <a:xfrm>
              <a:off x="3565440" y="3279600"/>
              <a:ext cx="1508040" cy="774720"/>
            </a:xfrm>
            <a:prstGeom prst="rect">
              <a:avLst/>
            </a:prstGeom>
            <a:noFill/>
            <a:ln w="0">
              <a:noFill/>
            </a:ln>
          </p:spPr>
          <p:txBody>
            <a:bodyPr lIns="0" rIns="0" tIns="0" bIns="0" anchor="t">
              <a:noAutofit/>
            </a:bodyPr>
            <a:p>
              <a:pPr>
                <a:lnSpc>
                  <a:spcPct val="80000"/>
                </a:lnSpc>
              </a:pPr>
              <a:r>
                <a:rPr b="1" lang="en-US" sz="2800" spc="-1" strike="noStrike">
                  <a:solidFill>
                    <a:srgbClr val="ffffff"/>
                  </a:solidFill>
                  <a:latin typeface="Arial"/>
                  <a:ea typeface="Arial"/>
                </a:rPr>
                <a:t>Altar of</a:t>
              </a:r>
              <a:endParaRPr b="0" lang="en-US" sz="2800" spc="-1" strike="noStrike">
                <a:solidFill>
                  <a:srgbClr val="000000"/>
                </a:solidFill>
                <a:latin typeface="Arial"/>
              </a:endParaRPr>
            </a:p>
            <a:p>
              <a:pPr>
                <a:lnSpc>
                  <a:spcPct val="80000"/>
                </a:lnSpc>
              </a:pPr>
              <a:r>
                <a:rPr b="1" lang="en-US" sz="2800" spc="-1" strike="noStrike">
                  <a:solidFill>
                    <a:srgbClr val="ffffff"/>
                  </a:solidFill>
                  <a:latin typeface="Arial"/>
                  <a:ea typeface="Arial"/>
                </a:rPr>
                <a:t>Incense</a:t>
              </a:r>
              <a:endParaRPr b="0" lang="en-US" sz="2800" spc="-1" strike="noStrike">
                <a:solidFill>
                  <a:srgbClr val="000000"/>
                </a:solidFill>
                <a:latin typeface="Arial"/>
              </a:endParaRPr>
            </a:p>
          </p:txBody>
        </p:sp>
        <p:sp>
          <p:nvSpPr>
            <p:cNvPr id="479" name=""/>
            <p:cNvSpPr txBox="1"/>
            <p:nvPr/>
          </p:nvSpPr>
          <p:spPr>
            <a:xfrm>
              <a:off x="7350120" y="641016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480" name=""/>
          <p:cNvGrpSpPr/>
          <p:nvPr/>
        </p:nvGrpSpPr>
        <p:grpSpPr>
          <a:xfrm>
            <a:off x="268200" y="555480"/>
            <a:ext cx="8872560" cy="5894640"/>
            <a:chOff x="268200" y="555480"/>
            <a:chExt cx="8872560" cy="5894640"/>
          </a:xfrm>
        </p:grpSpPr>
        <p:sp>
          <p:nvSpPr>
            <p:cNvPr id="481" name=""/>
            <p:cNvSpPr txBox="1"/>
            <p:nvPr/>
          </p:nvSpPr>
          <p:spPr>
            <a:xfrm>
              <a:off x="1319040" y="555480"/>
              <a:ext cx="6281640" cy="914400"/>
            </a:xfrm>
            <a:prstGeom prst="rect">
              <a:avLst/>
            </a:prstGeom>
            <a:noFill/>
            <a:ln w="0">
              <a:noFill/>
            </a:ln>
          </p:spPr>
          <p:txBody>
            <a:bodyPr lIns="0" rIns="0" tIns="0" bIns="0" anchor="t">
              <a:noAutofit/>
            </a:bodyPr>
            <a:p>
              <a:pPr>
                <a:lnSpc>
                  <a:spcPct val="100000"/>
                </a:lnSpc>
              </a:pPr>
              <a:r>
                <a:rPr b="1" lang="en-US" sz="5400" spc="-1" strike="noStrike" u="sng">
                  <a:solidFill>
                    <a:srgbClr val="ffffff"/>
                  </a:solidFill>
                  <a:uFillTx/>
                  <a:latin typeface="Arial"/>
                  <a:ea typeface="Arial"/>
                </a:rPr>
                <a:t>Solomon’s Temple</a:t>
              </a:r>
              <a:endParaRPr b="0" lang="en-US" sz="5400" spc="-1" strike="noStrike">
                <a:solidFill>
                  <a:srgbClr val="000000"/>
                </a:solidFill>
                <a:latin typeface="Arial"/>
              </a:endParaRPr>
            </a:p>
          </p:txBody>
        </p:sp>
        <p:sp>
          <p:nvSpPr>
            <p:cNvPr id="482" name=""/>
            <p:cNvSpPr/>
            <p:nvPr/>
          </p:nvSpPr>
          <p:spPr>
            <a:xfrm>
              <a:off x="268200" y="2057400"/>
              <a:ext cx="6019920" cy="3200400"/>
            </a:xfrm>
            <a:prstGeom prst="rect">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801720" y="2666880"/>
              <a:ext cx="5486400" cy="190512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84" name=""/>
            <p:cNvSpPr/>
            <p:nvPr/>
          </p:nvSpPr>
          <p:spPr>
            <a:xfrm>
              <a:off x="6288120" y="2666880"/>
              <a:ext cx="838080" cy="1905120"/>
            </a:xfrm>
            <a:prstGeom prst="rect">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a:off x="7202520" y="3124080"/>
              <a:ext cx="304920" cy="228600"/>
            </a:xfrm>
            <a:prstGeom prst="ellipse">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7202520" y="3809880"/>
              <a:ext cx="304920" cy="228600"/>
            </a:xfrm>
            <a:prstGeom prst="ellipse">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801720" y="2666880"/>
              <a:ext cx="1828800" cy="1905120"/>
            </a:xfrm>
            <a:prstGeom prst="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268200" y="5638680"/>
              <a:ext cx="69343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 name=""/>
            <p:cNvSpPr txBox="1"/>
            <p:nvPr/>
          </p:nvSpPr>
          <p:spPr>
            <a:xfrm>
              <a:off x="1395360" y="5684760"/>
              <a:ext cx="49258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Approx 90 cubits (135 ft)</a:t>
              </a:r>
              <a:endParaRPr b="0" lang="en-US" sz="3200" spc="-1" strike="noStrike">
                <a:solidFill>
                  <a:srgbClr val="000000"/>
                </a:solidFill>
                <a:latin typeface="Arial"/>
              </a:endParaRPr>
            </a:p>
          </p:txBody>
        </p:sp>
        <p:sp>
          <p:nvSpPr>
            <p:cNvPr id="490" name=""/>
            <p:cNvSpPr txBox="1"/>
            <p:nvPr/>
          </p:nvSpPr>
          <p:spPr>
            <a:xfrm>
              <a:off x="766800" y="2986200"/>
              <a:ext cx="1882800" cy="9460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Most Holy</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Arial"/>
                  <a:ea typeface="Arial"/>
                </a:rPr>
                <a:t>Place</a:t>
              </a:r>
              <a:endParaRPr b="0" lang="en-US" sz="2800" spc="-1" strike="noStrike">
                <a:solidFill>
                  <a:srgbClr val="000000"/>
                </a:solidFill>
                <a:latin typeface="Arial"/>
              </a:endParaRPr>
            </a:p>
          </p:txBody>
        </p:sp>
        <p:sp>
          <p:nvSpPr>
            <p:cNvPr id="491" name=""/>
            <p:cNvSpPr txBox="1"/>
            <p:nvPr/>
          </p:nvSpPr>
          <p:spPr>
            <a:xfrm>
              <a:off x="3071880" y="3274920"/>
              <a:ext cx="249696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Holy Place</a:t>
              </a:r>
              <a:endParaRPr b="0" lang="en-US" sz="3600" spc="-1" strike="noStrike">
                <a:solidFill>
                  <a:srgbClr val="000000"/>
                </a:solidFill>
                <a:latin typeface="Arial"/>
              </a:endParaRPr>
            </a:p>
          </p:txBody>
        </p:sp>
        <p:sp>
          <p:nvSpPr>
            <p:cNvPr id="492" name=""/>
            <p:cNvSpPr txBox="1"/>
            <p:nvPr/>
          </p:nvSpPr>
          <p:spPr>
            <a:xfrm>
              <a:off x="1776240" y="2103480"/>
              <a:ext cx="271296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Store Rooms</a:t>
              </a:r>
              <a:endParaRPr b="0" lang="en-US" sz="3200" spc="-1" strike="noStrike">
                <a:solidFill>
                  <a:srgbClr val="000000"/>
                </a:solidFill>
                <a:latin typeface="Arial"/>
              </a:endParaRPr>
            </a:p>
          </p:txBody>
        </p:sp>
        <p:sp>
          <p:nvSpPr>
            <p:cNvPr id="493" name=""/>
            <p:cNvSpPr/>
            <p:nvPr/>
          </p:nvSpPr>
          <p:spPr>
            <a:xfrm>
              <a:off x="7431120" y="4648320"/>
              <a:ext cx="838080" cy="762120"/>
            </a:xfrm>
            <a:prstGeom prst="ellipse">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7354800" y="5638680"/>
              <a:ext cx="9907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txBox="1"/>
            <p:nvPr/>
          </p:nvSpPr>
          <p:spPr>
            <a:xfrm>
              <a:off x="7262640" y="5622840"/>
              <a:ext cx="1725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10cu (15 ft)</a:t>
              </a:r>
              <a:endParaRPr b="0" lang="en-US" sz="2400" spc="-1" strike="noStrike">
                <a:solidFill>
                  <a:srgbClr val="000000"/>
                </a:solidFill>
                <a:latin typeface="Arial"/>
              </a:endParaRPr>
            </a:p>
          </p:txBody>
        </p:sp>
        <p:sp>
          <p:nvSpPr>
            <p:cNvPr id="496" name=""/>
            <p:cNvSpPr/>
            <p:nvPr/>
          </p:nvSpPr>
          <p:spPr>
            <a:xfrm>
              <a:off x="7736040" y="2971800"/>
              <a:ext cx="1066680" cy="1066680"/>
            </a:xfrm>
            <a:prstGeom prst="rect">
              <a:avLst/>
            </a:prstGeom>
            <a:solidFill>
              <a:srgbClr val="fe9b0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7415280" y="4784760"/>
              <a:ext cx="7272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Sea</a:t>
              </a:r>
              <a:endParaRPr b="0" lang="en-US" sz="2400" spc="-1" strike="noStrike">
                <a:solidFill>
                  <a:srgbClr val="000000"/>
                </a:solidFill>
                <a:latin typeface="Arial"/>
              </a:endParaRPr>
            </a:p>
          </p:txBody>
        </p:sp>
        <p:sp>
          <p:nvSpPr>
            <p:cNvPr id="498" name=""/>
            <p:cNvSpPr txBox="1"/>
            <p:nvPr/>
          </p:nvSpPr>
          <p:spPr>
            <a:xfrm>
              <a:off x="7796160" y="3214800"/>
              <a:ext cx="99360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Altar</a:t>
              </a:r>
              <a:endParaRPr b="0" lang="en-US" sz="2800" spc="-1" strike="noStrike">
                <a:solidFill>
                  <a:srgbClr val="000000"/>
                </a:solidFill>
                <a:latin typeface="Arial"/>
              </a:endParaRPr>
            </a:p>
          </p:txBody>
        </p:sp>
        <p:sp>
          <p:nvSpPr>
            <p:cNvPr id="499" name=""/>
            <p:cNvSpPr/>
            <p:nvPr/>
          </p:nvSpPr>
          <p:spPr>
            <a:xfrm>
              <a:off x="7736040" y="2590920"/>
              <a:ext cx="10666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 name=""/>
            <p:cNvSpPr txBox="1"/>
            <p:nvPr/>
          </p:nvSpPr>
          <p:spPr>
            <a:xfrm>
              <a:off x="7415280" y="2041560"/>
              <a:ext cx="1725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20cu (30 ft)</a:t>
              </a:r>
              <a:endParaRPr b="0" lang="en-US" sz="2400" spc="-1" strike="noStrike">
                <a:solidFill>
                  <a:srgbClr val="000000"/>
                </a:solidFill>
                <a:latin typeface="Arial"/>
              </a:endParaRPr>
            </a:p>
          </p:txBody>
        </p:sp>
        <p:sp>
          <p:nvSpPr>
            <p:cNvPr id="501" name=""/>
            <p:cNvSpPr txBox="1"/>
            <p:nvPr/>
          </p:nvSpPr>
          <p:spPr>
            <a:xfrm>
              <a:off x="7283520" y="614520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502" name=""/>
          <p:cNvGrpSpPr/>
          <p:nvPr/>
        </p:nvGrpSpPr>
        <p:grpSpPr>
          <a:xfrm>
            <a:off x="-380880" y="101520"/>
            <a:ext cx="5173920" cy="6675840"/>
            <a:chOff x="-380880" y="101520"/>
            <a:chExt cx="5173920" cy="6675840"/>
          </a:xfrm>
        </p:grpSpPr>
        <p:pic>
          <p:nvPicPr>
            <p:cNvPr id="503" name="" descr=""/>
            <p:cNvPicPr/>
            <p:nvPr/>
          </p:nvPicPr>
          <p:blipFill>
            <a:blip r:embed="rId1"/>
            <a:stretch/>
          </p:blipFill>
          <p:spPr>
            <a:xfrm>
              <a:off x="309600" y="108000"/>
              <a:ext cx="4476600" cy="6618240"/>
            </a:xfrm>
            <a:prstGeom prst="rect">
              <a:avLst/>
            </a:prstGeom>
            <a:ln w="0">
              <a:noFill/>
            </a:ln>
          </p:spPr>
        </p:pic>
        <p:sp>
          <p:nvSpPr>
            <p:cNvPr id="504" name=""/>
            <p:cNvSpPr/>
            <p:nvPr/>
          </p:nvSpPr>
          <p:spPr>
            <a:xfrm>
              <a:off x="2951280" y="2590920"/>
              <a:ext cx="173520" cy="2189520"/>
            </a:xfrm>
            <a:custGeom>
              <a:avLst/>
              <a:gdLst/>
              <a:ahLst/>
              <a:rect l="0" t="0" r="r" b="b"/>
              <a:pathLst>
                <a:path fill="none" w="482" h="6082">
                  <a:moveTo>
                    <a:pt x="0" y="0"/>
                  </a:moveTo>
                  <a:lnTo>
                    <a:pt x="0" y="44"/>
                  </a:lnTo>
                  <a:lnTo>
                    <a:pt x="13" y="101"/>
                  </a:lnTo>
                  <a:lnTo>
                    <a:pt x="26" y="154"/>
                  </a:lnTo>
                  <a:lnTo>
                    <a:pt x="26" y="198"/>
                  </a:lnTo>
                  <a:lnTo>
                    <a:pt x="26" y="242"/>
                  </a:lnTo>
                  <a:lnTo>
                    <a:pt x="26" y="295"/>
                  </a:lnTo>
                  <a:lnTo>
                    <a:pt x="26" y="339"/>
                  </a:lnTo>
                  <a:lnTo>
                    <a:pt x="26" y="383"/>
                  </a:lnTo>
                  <a:lnTo>
                    <a:pt x="26" y="436"/>
                  </a:lnTo>
                  <a:lnTo>
                    <a:pt x="26" y="480"/>
                  </a:lnTo>
                  <a:lnTo>
                    <a:pt x="26" y="524"/>
                  </a:lnTo>
                  <a:lnTo>
                    <a:pt x="26" y="577"/>
                  </a:lnTo>
                  <a:lnTo>
                    <a:pt x="26" y="621"/>
                  </a:lnTo>
                  <a:lnTo>
                    <a:pt x="26" y="665"/>
                  </a:lnTo>
                  <a:lnTo>
                    <a:pt x="26" y="718"/>
                  </a:lnTo>
                  <a:lnTo>
                    <a:pt x="26" y="762"/>
                  </a:lnTo>
                  <a:lnTo>
                    <a:pt x="26" y="806"/>
                  </a:lnTo>
                  <a:lnTo>
                    <a:pt x="26" y="859"/>
                  </a:lnTo>
                  <a:lnTo>
                    <a:pt x="26" y="903"/>
                  </a:lnTo>
                  <a:lnTo>
                    <a:pt x="26" y="948"/>
                  </a:lnTo>
                  <a:lnTo>
                    <a:pt x="44" y="1001"/>
                  </a:lnTo>
                  <a:lnTo>
                    <a:pt x="57" y="1045"/>
                  </a:lnTo>
                  <a:lnTo>
                    <a:pt x="70" y="1089"/>
                  </a:lnTo>
                  <a:lnTo>
                    <a:pt x="70" y="1142"/>
                  </a:lnTo>
                  <a:lnTo>
                    <a:pt x="70" y="1186"/>
                  </a:lnTo>
                  <a:lnTo>
                    <a:pt x="70" y="1230"/>
                  </a:lnTo>
                  <a:lnTo>
                    <a:pt x="70" y="1340"/>
                  </a:lnTo>
                  <a:lnTo>
                    <a:pt x="57" y="1384"/>
                  </a:lnTo>
                  <a:lnTo>
                    <a:pt x="57" y="1441"/>
                  </a:lnTo>
                  <a:lnTo>
                    <a:pt x="70" y="1494"/>
                  </a:lnTo>
                  <a:lnTo>
                    <a:pt x="83" y="1538"/>
                  </a:lnTo>
                  <a:lnTo>
                    <a:pt x="83" y="1583"/>
                  </a:lnTo>
                  <a:lnTo>
                    <a:pt x="97" y="1636"/>
                  </a:lnTo>
                  <a:lnTo>
                    <a:pt x="114" y="1680"/>
                  </a:lnTo>
                  <a:lnTo>
                    <a:pt x="142" y="1724"/>
                  </a:lnTo>
                  <a:lnTo>
                    <a:pt x="142" y="1777"/>
                  </a:lnTo>
                  <a:lnTo>
                    <a:pt x="142" y="1821"/>
                  </a:lnTo>
                  <a:lnTo>
                    <a:pt x="142" y="1918"/>
                  </a:lnTo>
                  <a:lnTo>
                    <a:pt x="142" y="2046"/>
                  </a:lnTo>
                  <a:lnTo>
                    <a:pt x="142" y="2090"/>
                  </a:lnTo>
                  <a:lnTo>
                    <a:pt x="142" y="2200"/>
                  </a:lnTo>
                  <a:lnTo>
                    <a:pt x="142" y="2244"/>
                  </a:lnTo>
                  <a:lnTo>
                    <a:pt x="142" y="2288"/>
                  </a:lnTo>
                  <a:lnTo>
                    <a:pt x="155" y="2341"/>
                  </a:lnTo>
                  <a:lnTo>
                    <a:pt x="168" y="2385"/>
                  </a:lnTo>
                  <a:lnTo>
                    <a:pt x="168" y="2429"/>
                  </a:lnTo>
                  <a:lnTo>
                    <a:pt x="168" y="2482"/>
                  </a:lnTo>
                  <a:lnTo>
                    <a:pt x="168" y="2526"/>
                  </a:lnTo>
                  <a:lnTo>
                    <a:pt x="168" y="2570"/>
                  </a:lnTo>
                  <a:lnTo>
                    <a:pt x="168" y="2623"/>
                  </a:lnTo>
                  <a:lnTo>
                    <a:pt x="186" y="2667"/>
                  </a:lnTo>
                  <a:lnTo>
                    <a:pt x="186" y="2764"/>
                  </a:lnTo>
                  <a:lnTo>
                    <a:pt x="199" y="2808"/>
                  </a:lnTo>
                  <a:lnTo>
                    <a:pt x="212" y="2936"/>
                  </a:lnTo>
                  <a:lnTo>
                    <a:pt x="212" y="2994"/>
                  </a:lnTo>
                  <a:lnTo>
                    <a:pt x="225" y="3048"/>
                  </a:lnTo>
                  <a:lnTo>
                    <a:pt x="225" y="3092"/>
                  </a:lnTo>
                  <a:lnTo>
                    <a:pt x="239" y="3136"/>
                  </a:lnTo>
                  <a:lnTo>
                    <a:pt x="256" y="3189"/>
                  </a:lnTo>
                  <a:lnTo>
                    <a:pt x="256" y="3233"/>
                  </a:lnTo>
                  <a:lnTo>
                    <a:pt x="269" y="3330"/>
                  </a:lnTo>
                  <a:lnTo>
                    <a:pt x="269" y="3374"/>
                  </a:lnTo>
                  <a:lnTo>
                    <a:pt x="269" y="3418"/>
                  </a:lnTo>
                  <a:lnTo>
                    <a:pt x="269" y="3471"/>
                  </a:lnTo>
                  <a:lnTo>
                    <a:pt x="269" y="3515"/>
                  </a:lnTo>
                  <a:lnTo>
                    <a:pt x="256" y="3559"/>
                  </a:lnTo>
                  <a:lnTo>
                    <a:pt x="256" y="3683"/>
                  </a:lnTo>
                  <a:lnTo>
                    <a:pt x="239" y="3727"/>
                  </a:lnTo>
                  <a:lnTo>
                    <a:pt x="225" y="3771"/>
                  </a:lnTo>
                  <a:lnTo>
                    <a:pt x="225" y="3824"/>
                  </a:lnTo>
                  <a:lnTo>
                    <a:pt x="225" y="3868"/>
                  </a:lnTo>
                  <a:lnTo>
                    <a:pt x="225" y="3912"/>
                  </a:lnTo>
                  <a:lnTo>
                    <a:pt x="225" y="3965"/>
                  </a:lnTo>
                  <a:lnTo>
                    <a:pt x="225" y="4009"/>
                  </a:lnTo>
                  <a:lnTo>
                    <a:pt x="212" y="4053"/>
                  </a:lnTo>
                  <a:lnTo>
                    <a:pt x="199" y="4106"/>
                  </a:lnTo>
                  <a:lnTo>
                    <a:pt x="199" y="4150"/>
                  </a:lnTo>
                  <a:lnTo>
                    <a:pt x="199" y="4194"/>
                  </a:lnTo>
                  <a:lnTo>
                    <a:pt x="199" y="4247"/>
                  </a:lnTo>
                  <a:lnTo>
                    <a:pt x="199" y="4291"/>
                  </a:lnTo>
                  <a:lnTo>
                    <a:pt x="186" y="4335"/>
                  </a:lnTo>
                  <a:lnTo>
                    <a:pt x="186" y="4388"/>
                  </a:lnTo>
                  <a:lnTo>
                    <a:pt x="186" y="4432"/>
                  </a:lnTo>
                  <a:lnTo>
                    <a:pt x="186" y="4476"/>
                  </a:lnTo>
                  <a:lnTo>
                    <a:pt x="186" y="4529"/>
                  </a:lnTo>
                  <a:lnTo>
                    <a:pt x="199" y="4573"/>
                  </a:lnTo>
                  <a:lnTo>
                    <a:pt x="225" y="4617"/>
                  </a:lnTo>
                  <a:lnTo>
                    <a:pt x="256" y="4670"/>
                  </a:lnTo>
                  <a:lnTo>
                    <a:pt x="269" y="4714"/>
                  </a:lnTo>
                  <a:lnTo>
                    <a:pt x="283" y="4759"/>
                  </a:lnTo>
                  <a:lnTo>
                    <a:pt x="296" y="4812"/>
                  </a:lnTo>
                  <a:lnTo>
                    <a:pt x="327" y="4856"/>
                  </a:lnTo>
                  <a:lnTo>
                    <a:pt x="353" y="4900"/>
                  </a:lnTo>
                  <a:lnTo>
                    <a:pt x="368" y="4953"/>
                  </a:lnTo>
                  <a:lnTo>
                    <a:pt x="381" y="4997"/>
                  </a:lnTo>
                  <a:lnTo>
                    <a:pt x="381" y="5041"/>
                  </a:lnTo>
                  <a:lnTo>
                    <a:pt x="381" y="5094"/>
                  </a:lnTo>
                  <a:lnTo>
                    <a:pt x="381" y="5138"/>
                  </a:lnTo>
                  <a:lnTo>
                    <a:pt x="381" y="5182"/>
                  </a:lnTo>
                  <a:lnTo>
                    <a:pt x="381" y="5235"/>
                  </a:lnTo>
                  <a:lnTo>
                    <a:pt x="381" y="5279"/>
                  </a:lnTo>
                  <a:lnTo>
                    <a:pt x="398" y="5323"/>
                  </a:lnTo>
                  <a:lnTo>
                    <a:pt x="412" y="5376"/>
                  </a:lnTo>
                  <a:lnTo>
                    <a:pt x="412" y="5420"/>
                  </a:lnTo>
                  <a:lnTo>
                    <a:pt x="425" y="5464"/>
                  </a:lnTo>
                  <a:lnTo>
                    <a:pt x="425" y="5517"/>
                  </a:lnTo>
                  <a:lnTo>
                    <a:pt x="425" y="5561"/>
                  </a:lnTo>
                  <a:lnTo>
                    <a:pt x="438" y="5605"/>
                  </a:lnTo>
                  <a:lnTo>
                    <a:pt x="451" y="5658"/>
                  </a:lnTo>
                  <a:lnTo>
                    <a:pt x="469" y="5702"/>
                  </a:lnTo>
                  <a:lnTo>
                    <a:pt x="469" y="5746"/>
                  </a:lnTo>
                  <a:lnTo>
                    <a:pt x="469" y="5799"/>
                  </a:lnTo>
                  <a:lnTo>
                    <a:pt x="469" y="5843"/>
                  </a:lnTo>
                  <a:lnTo>
                    <a:pt x="469" y="5887"/>
                  </a:lnTo>
                  <a:lnTo>
                    <a:pt x="469" y="5940"/>
                  </a:lnTo>
                  <a:lnTo>
                    <a:pt x="469" y="5984"/>
                  </a:lnTo>
                  <a:lnTo>
                    <a:pt x="469" y="6029"/>
                  </a:lnTo>
                  <a:lnTo>
                    <a:pt x="482" y="6082"/>
                  </a:lnTo>
                </a:path>
              </a:pathLst>
            </a:custGeom>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txBox="1"/>
            <p:nvPr/>
          </p:nvSpPr>
          <p:spPr>
            <a:xfrm>
              <a:off x="1359000" y="1346040"/>
              <a:ext cx="1827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Black"/>
                  <a:ea typeface="Arial Black"/>
                </a:rPr>
                <a:t>Phoenicia</a:t>
              </a:r>
              <a:endParaRPr b="0" lang="en-US" sz="2400" spc="-1" strike="noStrike">
                <a:solidFill>
                  <a:srgbClr val="000000"/>
                </a:solidFill>
                <a:latin typeface="Arial"/>
              </a:endParaRPr>
            </a:p>
          </p:txBody>
        </p:sp>
        <p:sp>
          <p:nvSpPr>
            <p:cNvPr id="506" name=""/>
            <p:cNvSpPr txBox="1"/>
            <p:nvPr/>
          </p:nvSpPr>
          <p:spPr>
            <a:xfrm>
              <a:off x="447840" y="5683320"/>
              <a:ext cx="13129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Black"/>
                  <a:ea typeface="Arial Black"/>
                </a:rPr>
                <a:t>Philistia</a:t>
              </a:r>
              <a:endParaRPr b="0" lang="en-US" sz="2000" spc="-1" strike="noStrike">
                <a:solidFill>
                  <a:srgbClr val="000000"/>
                </a:solidFill>
                <a:latin typeface="Arial"/>
              </a:endParaRPr>
            </a:p>
          </p:txBody>
        </p:sp>
        <p:sp>
          <p:nvSpPr>
            <p:cNvPr id="507" name=""/>
            <p:cNvSpPr txBox="1"/>
            <p:nvPr/>
          </p:nvSpPr>
          <p:spPr>
            <a:xfrm>
              <a:off x="1536840" y="3416400"/>
              <a:ext cx="1447920" cy="579600"/>
            </a:xfrm>
            <a:prstGeom prst="rect">
              <a:avLst/>
            </a:prstGeom>
            <a:noFill/>
            <a:ln w="0">
              <a:noFill/>
            </a:ln>
          </p:spPr>
          <p:txBody>
            <a:bodyPr lIns="0" rIns="0" tIns="0" bIns="0" anchor="t">
              <a:noAutofit/>
            </a:bodyPr>
            <a:p>
              <a:pPr>
                <a:lnSpc>
                  <a:spcPct val="100000"/>
                </a:lnSpc>
              </a:pPr>
              <a:r>
                <a:rPr b="0" lang="en-US" sz="3200" spc="-1" strike="noStrike">
                  <a:solidFill>
                    <a:srgbClr val="fafd00"/>
                  </a:solidFill>
                  <a:latin typeface="Arial Black"/>
                  <a:ea typeface="Arial Black"/>
                </a:rPr>
                <a:t>Israel</a:t>
              </a:r>
              <a:endParaRPr b="0" lang="en-US" sz="3200" spc="-1" strike="noStrike">
                <a:solidFill>
                  <a:srgbClr val="000000"/>
                </a:solidFill>
                <a:latin typeface="Arial"/>
              </a:endParaRPr>
            </a:p>
          </p:txBody>
        </p:sp>
        <p:sp>
          <p:nvSpPr>
            <p:cNvPr id="508" name=""/>
            <p:cNvSpPr txBox="1"/>
            <p:nvPr/>
          </p:nvSpPr>
          <p:spPr>
            <a:xfrm>
              <a:off x="3564000" y="3768840"/>
              <a:ext cx="12286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Black"/>
                  <a:ea typeface="Arial Black"/>
                </a:rPr>
                <a:t>Ammon</a:t>
              </a:r>
              <a:endParaRPr b="0" lang="en-US" sz="2000" spc="-1" strike="noStrike">
                <a:solidFill>
                  <a:srgbClr val="000000"/>
                </a:solidFill>
                <a:latin typeface="Arial"/>
              </a:endParaRPr>
            </a:p>
          </p:txBody>
        </p:sp>
        <p:sp>
          <p:nvSpPr>
            <p:cNvPr id="509" name=""/>
            <p:cNvSpPr txBox="1"/>
            <p:nvPr/>
          </p:nvSpPr>
          <p:spPr>
            <a:xfrm>
              <a:off x="3122640" y="5264280"/>
              <a:ext cx="1006560" cy="42696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Arial Black"/>
                  <a:ea typeface="Arial Black"/>
                </a:rPr>
                <a:t>Moab</a:t>
              </a:r>
              <a:endParaRPr b="0" lang="en-US" sz="2200" spc="-1" strike="noStrike">
                <a:solidFill>
                  <a:srgbClr val="000000"/>
                </a:solidFill>
                <a:latin typeface="Arial"/>
              </a:endParaRPr>
            </a:p>
          </p:txBody>
        </p:sp>
        <p:sp>
          <p:nvSpPr>
            <p:cNvPr id="510" name=""/>
            <p:cNvSpPr txBox="1"/>
            <p:nvPr/>
          </p:nvSpPr>
          <p:spPr>
            <a:xfrm>
              <a:off x="1508040" y="5251320"/>
              <a:ext cx="1454040" cy="549360"/>
            </a:xfrm>
            <a:prstGeom prst="rect">
              <a:avLst/>
            </a:prstGeom>
            <a:noFill/>
            <a:ln w="0">
              <a:noFill/>
            </a:ln>
          </p:spPr>
          <p:txBody>
            <a:bodyPr lIns="0" rIns="0" tIns="0" bIns="0" anchor="t">
              <a:noAutofit/>
            </a:bodyPr>
            <a:p>
              <a:pPr>
                <a:lnSpc>
                  <a:spcPct val="100000"/>
                </a:lnSpc>
              </a:pPr>
              <a:r>
                <a:rPr b="0" lang="en-US" sz="3000" spc="-1" strike="noStrike">
                  <a:solidFill>
                    <a:srgbClr val="fafd00"/>
                  </a:solidFill>
                  <a:latin typeface="Arial Black"/>
                  <a:ea typeface="Arial Black"/>
                </a:rPr>
                <a:t>Judah</a:t>
              </a:r>
              <a:endParaRPr b="0" lang="en-US" sz="3000" spc="-1" strike="noStrike">
                <a:solidFill>
                  <a:srgbClr val="000000"/>
                </a:solidFill>
                <a:latin typeface="Arial"/>
              </a:endParaRPr>
            </a:p>
          </p:txBody>
        </p:sp>
        <p:sp>
          <p:nvSpPr>
            <p:cNvPr id="511" name=""/>
            <p:cNvSpPr/>
            <p:nvPr/>
          </p:nvSpPr>
          <p:spPr>
            <a:xfrm>
              <a:off x="2624040" y="4699080"/>
              <a:ext cx="90720" cy="98640"/>
            </a:xfrm>
            <a:custGeom>
              <a:avLst/>
              <a:gdLst/>
              <a:ahLst/>
              <a:rect l="0" t="0" r="r" b="b"/>
              <a:pathLst>
                <a:path w="252" h="274">
                  <a:moveTo>
                    <a:pt x="125" y="0"/>
                  </a:moveTo>
                  <a:lnTo>
                    <a:pt x="96" y="104"/>
                  </a:lnTo>
                  <a:lnTo>
                    <a:pt x="0" y="104"/>
                  </a:lnTo>
                  <a:lnTo>
                    <a:pt x="78" y="170"/>
                  </a:lnTo>
                  <a:lnTo>
                    <a:pt x="48" y="274"/>
                  </a:lnTo>
                  <a:lnTo>
                    <a:pt x="125" y="214"/>
                  </a:lnTo>
                  <a:lnTo>
                    <a:pt x="203" y="274"/>
                  </a:lnTo>
                  <a:lnTo>
                    <a:pt x="173" y="170"/>
                  </a:lnTo>
                  <a:lnTo>
                    <a:pt x="252" y="104"/>
                  </a:lnTo>
                  <a:lnTo>
                    <a:pt x="156" y="104"/>
                  </a:lnTo>
                  <a:lnTo>
                    <a:pt x="125" y="0"/>
                  </a:lnTo>
                  <a:close/>
                </a:path>
              </a:pathLst>
            </a:custGeom>
            <a:solidFill>
              <a:srgbClr val="fc0128"/>
            </a:solidFill>
            <a:ln w="12600">
              <a:solidFill>
                <a:srgbClr val="fc0128"/>
              </a:solidFill>
              <a:round/>
            </a:ln>
          </p:spPr>
          <p:txBody>
            <a:bodyPr lIns="96120" rIns="96120" tIns="47520" bIns="47520" anchor="t">
              <a:noAutofit/>
            </a:bodyPr>
            <a:p>
              <a:endParaRPr b="0" lang="en-US" sz="1800" spc="-1" strike="noStrike">
                <a:solidFill>
                  <a:srgbClr val="000000"/>
                </a:solidFill>
                <a:latin typeface="Arial"/>
              </a:endParaRPr>
            </a:p>
          </p:txBody>
        </p:sp>
        <p:sp>
          <p:nvSpPr>
            <p:cNvPr id="512" name=""/>
            <p:cNvSpPr txBox="1"/>
            <p:nvPr/>
          </p:nvSpPr>
          <p:spPr>
            <a:xfrm>
              <a:off x="1749600" y="4726080"/>
              <a:ext cx="1189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Jerusalem</a:t>
              </a:r>
              <a:endParaRPr b="0" lang="en-US" sz="1600" spc="-1" strike="noStrike">
                <a:solidFill>
                  <a:srgbClr val="000000"/>
                </a:solidFill>
                <a:latin typeface="Arial"/>
              </a:endParaRPr>
            </a:p>
          </p:txBody>
        </p:sp>
        <p:sp>
          <p:nvSpPr>
            <p:cNvPr id="513" name=""/>
            <p:cNvSpPr txBox="1"/>
            <p:nvPr/>
          </p:nvSpPr>
          <p:spPr>
            <a:xfrm>
              <a:off x="2593800" y="5105520"/>
              <a:ext cx="98424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Dead Sea</a:t>
              </a:r>
              <a:endParaRPr b="0" lang="en-US" sz="1400" spc="-1" strike="noStrike">
                <a:solidFill>
                  <a:srgbClr val="000000"/>
                </a:solidFill>
                <a:latin typeface="Arial"/>
              </a:endParaRPr>
            </a:p>
          </p:txBody>
        </p:sp>
        <p:sp>
          <p:nvSpPr>
            <p:cNvPr id="514" name=""/>
            <p:cNvSpPr txBox="1"/>
            <p:nvPr/>
          </p:nvSpPr>
          <p:spPr>
            <a:xfrm>
              <a:off x="2662200" y="2195640"/>
              <a:ext cx="59364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Narrow"/>
                  <a:ea typeface="Arial Narrow"/>
                </a:rPr>
                <a:t>Galilee</a:t>
              </a:r>
              <a:endParaRPr b="0" lang="en-US" sz="1200" spc="-1" strike="noStrike">
                <a:solidFill>
                  <a:srgbClr val="000000"/>
                </a:solidFill>
                <a:latin typeface="Arial"/>
              </a:endParaRPr>
            </a:p>
          </p:txBody>
        </p:sp>
        <p:sp>
          <p:nvSpPr>
            <p:cNvPr id="515" name=""/>
            <p:cNvSpPr txBox="1"/>
            <p:nvPr/>
          </p:nvSpPr>
          <p:spPr>
            <a:xfrm>
              <a:off x="2606760" y="3619440"/>
              <a:ext cx="6922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Jordan</a:t>
              </a:r>
              <a:endParaRPr b="0" lang="en-US" sz="1200" spc="-1" strike="noStrike">
                <a:solidFill>
                  <a:srgbClr val="000000"/>
                </a:solidFill>
                <a:latin typeface="Arial"/>
              </a:endParaRPr>
            </a:p>
          </p:txBody>
        </p:sp>
        <p:sp>
          <p:nvSpPr>
            <p:cNvPr id="516" name=""/>
            <p:cNvSpPr txBox="1"/>
            <p:nvPr/>
          </p:nvSpPr>
          <p:spPr>
            <a:xfrm>
              <a:off x="2655720" y="3009960"/>
              <a:ext cx="5652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River</a:t>
              </a:r>
              <a:endParaRPr b="0" lang="en-US" sz="1200" spc="-1" strike="noStrike">
                <a:solidFill>
                  <a:srgbClr val="000000"/>
                </a:solidFill>
                <a:latin typeface="Arial"/>
              </a:endParaRPr>
            </a:p>
          </p:txBody>
        </p:sp>
        <p:sp>
          <p:nvSpPr>
            <p:cNvPr id="517" name=""/>
            <p:cNvSpPr txBox="1"/>
            <p:nvPr/>
          </p:nvSpPr>
          <p:spPr>
            <a:xfrm>
              <a:off x="3457440" y="6456240"/>
              <a:ext cx="12924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NASA PHOTO</a:t>
              </a:r>
              <a:endParaRPr b="0" lang="en-US" sz="1200" spc="-1" strike="noStrike">
                <a:solidFill>
                  <a:srgbClr val="000000"/>
                </a:solidFill>
                <a:latin typeface="Arial"/>
              </a:endParaRPr>
            </a:p>
          </p:txBody>
        </p:sp>
        <p:sp>
          <p:nvSpPr>
            <p:cNvPr id="518" name=""/>
            <p:cNvSpPr txBox="1"/>
            <p:nvPr/>
          </p:nvSpPr>
          <p:spPr>
            <a:xfrm>
              <a:off x="3392640" y="6303960"/>
              <a:ext cx="1376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EBibleTeacher.com</a:t>
              </a:r>
              <a:endParaRPr b="0" lang="en-US" sz="1000" spc="-1" strike="noStrike">
                <a:solidFill>
                  <a:srgbClr val="000000"/>
                </a:solidFill>
                <a:latin typeface="Arial"/>
              </a:endParaRPr>
            </a:p>
          </p:txBody>
        </p:sp>
        <p:sp>
          <p:nvSpPr>
            <p:cNvPr id="519" name=""/>
            <p:cNvSpPr txBox="1"/>
            <p:nvPr/>
          </p:nvSpPr>
          <p:spPr>
            <a:xfrm>
              <a:off x="2895480" y="271440"/>
              <a:ext cx="1886040" cy="946080"/>
            </a:xfrm>
            <a:prstGeom prst="rect">
              <a:avLst/>
            </a:prstGeom>
            <a:noFill/>
            <a:ln w="0">
              <a:noFill/>
            </a:ln>
          </p:spPr>
          <p:txBody>
            <a:bodyPr lIns="0" rIns="0" tIns="0" bIns="0" anchor="t">
              <a:noAutofit/>
            </a:bodyPr>
            <a:p>
              <a:pPr algn="ctr">
                <a:lnSpc>
                  <a:spcPct val="100000"/>
                </a:lnSpc>
              </a:pPr>
              <a:r>
                <a:rPr b="1" lang="en-US" sz="2800" spc="-1" strike="noStrike" u="sng">
                  <a:solidFill>
                    <a:srgbClr val="fafd00"/>
                  </a:solidFill>
                  <a:uFillTx/>
                  <a:latin typeface="Arial"/>
                  <a:ea typeface="Arial"/>
                </a:rPr>
                <a:t>Divided Kingdom</a:t>
              </a:r>
              <a:endParaRPr b="0" lang="en-US" sz="2800" spc="-1" strike="noStrike">
                <a:solidFill>
                  <a:srgbClr val="000000"/>
                </a:solidFill>
                <a:latin typeface="Arial"/>
              </a:endParaRPr>
            </a:p>
          </p:txBody>
        </p:sp>
        <p:sp>
          <p:nvSpPr>
            <p:cNvPr id="520" name=""/>
            <p:cNvSpPr txBox="1"/>
            <p:nvPr/>
          </p:nvSpPr>
          <p:spPr>
            <a:xfrm>
              <a:off x="2805120" y="5986440"/>
              <a:ext cx="1038240" cy="42696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Arial Black"/>
                  <a:ea typeface="Arial Black"/>
                </a:rPr>
                <a:t>Edom</a:t>
              </a:r>
              <a:endParaRPr b="0" lang="en-US" sz="2200" spc="-1" strike="noStrike">
                <a:solidFill>
                  <a:srgbClr val="000000"/>
                </a:solidFill>
                <a:latin typeface="Arial"/>
              </a:endParaRPr>
            </a:p>
          </p:txBody>
        </p:sp>
        <p:sp>
          <p:nvSpPr>
            <p:cNvPr id="521" name=""/>
            <p:cNvSpPr txBox="1"/>
            <p:nvPr/>
          </p:nvSpPr>
          <p:spPr>
            <a:xfrm>
              <a:off x="3338640" y="1204920"/>
              <a:ext cx="10303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Black"/>
                  <a:ea typeface="Arial Black"/>
                </a:rPr>
                <a:t>Syria</a:t>
              </a:r>
              <a:endParaRPr b="0" lang="en-US" sz="2400" spc="-1" strike="noStrike">
                <a:solidFill>
                  <a:srgbClr val="000000"/>
                </a:solidFill>
                <a:latin typeface="Arial"/>
              </a:endParaRPr>
            </a:p>
          </p:txBody>
        </p:sp>
        <p:sp>
          <p:nvSpPr>
            <p:cNvPr id="522" name=""/>
            <p:cNvSpPr/>
            <p:nvPr/>
          </p:nvSpPr>
          <p:spPr>
            <a:xfrm>
              <a:off x="1774800" y="101520"/>
              <a:ext cx="1117800" cy="2611800"/>
            </a:xfrm>
            <a:custGeom>
              <a:avLst/>
              <a:gdLst/>
              <a:ahLst/>
              <a:rect l="0" t="0" r="r" b="b"/>
              <a:pathLst>
                <a:path fill="none" w="3105" h="7255">
                  <a:moveTo>
                    <a:pt x="0" y="6634"/>
                  </a:moveTo>
                  <a:lnTo>
                    <a:pt x="83" y="6634"/>
                  </a:lnTo>
                  <a:lnTo>
                    <a:pt x="167" y="6660"/>
                  </a:lnTo>
                  <a:lnTo>
                    <a:pt x="255" y="6660"/>
                  </a:lnTo>
                  <a:lnTo>
                    <a:pt x="339" y="6691"/>
                  </a:lnTo>
                  <a:lnTo>
                    <a:pt x="423" y="6748"/>
                  </a:lnTo>
                  <a:lnTo>
                    <a:pt x="507" y="6801"/>
                  </a:lnTo>
                  <a:lnTo>
                    <a:pt x="590" y="6859"/>
                  </a:lnTo>
                  <a:lnTo>
                    <a:pt x="679" y="6916"/>
                  </a:lnTo>
                  <a:lnTo>
                    <a:pt x="762" y="7000"/>
                  </a:lnTo>
                  <a:lnTo>
                    <a:pt x="846" y="7057"/>
                  </a:lnTo>
                  <a:lnTo>
                    <a:pt x="930" y="7141"/>
                  </a:lnTo>
                  <a:lnTo>
                    <a:pt x="1014" y="7198"/>
                  </a:lnTo>
                  <a:lnTo>
                    <a:pt x="1102" y="7225"/>
                  </a:lnTo>
                  <a:lnTo>
                    <a:pt x="1186" y="7255"/>
                  </a:lnTo>
                  <a:lnTo>
                    <a:pt x="1270" y="7255"/>
                  </a:lnTo>
                  <a:lnTo>
                    <a:pt x="1353" y="7255"/>
                  </a:lnTo>
                  <a:lnTo>
                    <a:pt x="1437" y="7172"/>
                  </a:lnTo>
                  <a:lnTo>
                    <a:pt x="1494" y="7084"/>
                  </a:lnTo>
                  <a:lnTo>
                    <a:pt x="1553" y="7000"/>
                  </a:lnTo>
                  <a:lnTo>
                    <a:pt x="1610" y="6916"/>
                  </a:lnTo>
                  <a:lnTo>
                    <a:pt x="1637" y="6832"/>
                  </a:lnTo>
                  <a:lnTo>
                    <a:pt x="1667" y="6748"/>
                  </a:lnTo>
                  <a:lnTo>
                    <a:pt x="1667" y="6660"/>
                  </a:lnTo>
                  <a:lnTo>
                    <a:pt x="1694" y="6576"/>
                  </a:lnTo>
                  <a:lnTo>
                    <a:pt x="1720" y="6493"/>
                  </a:lnTo>
                  <a:lnTo>
                    <a:pt x="1778" y="6409"/>
                  </a:lnTo>
                  <a:lnTo>
                    <a:pt x="1808" y="6325"/>
                  </a:lnTo>
                  <a:lnTo>
                    <a:pt x="1835" y="6237"/>
                  </a:lnTo>
                  <a:lnTo>
                    <a:pt x="1861" y="6153"/>
                  </a:lnTo>
                  <a:lnTo>
                    <a:pt x="1892" y="6069"/>
                  </a:lnTo>
                  <a:lnTo>
                    <a:pt x="1919" y="5985"/>
                  </a:lnTo>
                  <a:lnTo>
                    <a:pt x="1950" y="5902"/>
                  </a:lnTo>
                  <a:lnTo>
                    <a:pt x="1976" y="5814"/>
                  </a:lnTo>
                  <a:lnTo>
                    <a:pt x="2033" y="5730"/>
                  </a:lnTo>
                  <a:lnTo>
                    <a:pt x="2060" y="5646"/>
                  </a:lnTo>
                  <a:lnTo>
                    <a:pt x="2091" y="5562"/>
                  </a:lnTo>
                  <a:lnTo>
                    <a:pt x="2117" y="5478"/>
                  </a:lnTo>
                  <a:lnTo>
                    <a:pt x="2117" y="5389"/>
                  </a:lnTo>
                  <a:lnTo>
                    <a:pt x="2117" y="5305"/>
                  </a:lnTo>
                  <a:lnTo>
                    <a:pt x="2144" y="5222"/>
                  </a:lnTo>
                  <a:lnTo>
                    <a:pt x="2144" y="5138"/>
                  </a:lnTo>
                  <a:lnTo>
                    <a:pt x="2174" y="5054"/>
                  </a:lnTo>
                  <a:lnTo>
                    <a:pt x="2201" y="4966"/>
                  </a:lnTo>
                  <a:lnTo>
                    <a:pt x="2232" y="4882"/>
                  </a:lnTo>
                  <a:lnTo>
                    <a:pt x="2258" y="4798"/>
                  </a:lnTo>
                  <a:lnTo>
                    <a:pt x="2285" y="4714"/>
                  </a:lnTo>
                  <a:lnTo>
                    <a:pt x="2316" y="4459"/>
                  </a:lnTo>
                  <a:lnTo>
                    <a:pt x="2373" y="4375"/>
                  </a:lnTo>
                  <a:lnTo>
                    <a:pt x="2373" y="4291"/>
                  </a:lnTo>
                  <a:lnTo>
                    <a:pt x="2399" y="4066"/>
                  </a:lnTo>
                  <a:lnTo>
                    <a:pt x="2399" y="3811"/>
                  </a:lnTo>
                  <a:lnTo>
                    <a:pt x="2399" y="3586"/>
                  </a:lnTo>
                  <a:lnTo>
                    <a:pt x="2399" y="3502"/>
                  </a:lnTo>
                  <a:lnTo>
                    <a:pt x="2399" y="3414"/>
                  </a:lnTo>
                  <a:lnTo>
                    <a:pt x="2426" y="3330"/>
                  </a:lnTo>
                  <a:lnTo>
                    <a:pt x="2457" y="3246"/>
                  </a:lnTo>
                  <a:lnTo>
                    <a:pt x="2457" y="3162"/>
                  </a:lnTo>
                  <a:lnTo>
                    <a:pt x="2483" y="3078"/>
                  </a:lnTo>
                  <a:lnTo>
                    <a:pt x="2483" y="2990"/>
                  </a:lnTo>
                  <a:lnTo>
                    <a:pt x="2514" y="2907"/>
                  </a:lnTo>
                  <a:lnTo>
                    <a:pt x="2567" y="2823"/>
                  </a:lnTo>
                  <a:lnTo>
                    <a:pt x="2598" y="2739"/>
                  </a:lnTo>
                  <a:lnTo>
                    <a:pt x="2624" y="2655"/>
                  </a:lnTo>
                  <a:lnTo>
                    <a:pt x="2624" y="2426"/>
                  </a:lnTo>
                  <a:lnTo>
                    <a:pt x="2655" y="2201"/>
                  </a:lnTo>
                  <a:lnTo>
                    <a:pt x="2682" y="2117"/>
                  </a:lnTo>
                  <a:lnTo>
                    <a:pt x="2682" y="1919"/>
                  </a:lnTo>
                  <a:lnTo>
                    <a:pt x="2682" y="1693"/>
                  </a:lnTo>
                  <a:lnTo>
                    <a:pt x="2708" y="1609"/>
                  </a:lnTo>
                  <a:lnTo>
                    <a:pt x="2708" y="1525"/>
                  </a:lnTo>
                  <a:lnTo>
                    <a:pt x="2765" y="1437"/>
                  </a:lnTo>
                  <a:lnTo>
                    <a:pt x="2796" y="1353"/>
                  </a:lnTo>
                  <a:lnTo>
                    <a:pt x="2823" y="1270"/>
                  </a:lnTo>
                  <a:lnTo>
                    <a:pt x="2849" y="1186"/>
                  </a:lnTo>
                  <a:lnTo>
                    <a:pt x="2880" y="1102"/>
                  </a:lnTo>
                  <a:lnTo>
                    <a:pt x="2907" y="1014"/>
                  </a:lnTo>
                  <a:lnTo>
                    <a:pt x="2937" y="930"/>
                  </a:lnTo>
                  <a:lnTo>
                    <a:pt x="2964" y="846"/>
                  </a:lnTo>
                  <a:lnTo>
                    <a:pt x="2990" y="762"/>
                  </a:lnTo>
                  <a:lnTo>
                    <a:pt x="2990" y="679"/>
                  </a:lnTo>
                  <a:lnTo>
                    <a:pt x="3021" y="590"/>
                  </a:lnTo>
                  <a:lnTo>
                    <a:pt x="3021" y="507"/>
                  </a:lnTo>
                  <a:lnTo>
                    <a:pt x="3048" y="423"/>
                  </a:lnTo>
                  <a:lnTo>
                    <a:pt x="3048" y="339"/>
                  </a:lnTo>
                  <a:lnTo>
                    <a:pt x="3078" y="255"/>
                  </a:lnTo>
                  <a:lnTo>
                    <a:pt x="3078" y="167"/>
                  </a:lnTo>
                  <a:lnTo>
                    <a:pt x="3105" y="83"/>
                  </a:lnTo>
                  <a:lnTo>
                    <a:pt x="3105"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3" name=""/>
            <p:cNvSpPr/>
            <p:nvPr/>
          </p:nvSpPr>
          <p:spPr>
            <a:xfrm>
              <a:off x="2647800" y="1392120"/>
              <a:ext cx="438480" cy="732240"/>
            </a:xfrm>
            <a:custGeom>
              <a:avLst/>
              <a:gdLst/>
              <a:ahLst/>
              <a:rect l="0" t="0" r="r" b="b"/>
              <a:pathLst>
                <a:path fill="none" w="1218" h="2034">
                  <a:moveTo>
                    <a:pt x="0" y="251"/>
                  </a:moveTo>
                  <a:lnTo>
                    <a:pt x="88" y="198"/>
                  </a:lnTo>
                  <a:lnTo>
                    <a:pt x="171" y="167"/>
                  </a:lnTo>
                  <a:lnTo>
                    <a:pt x="255" y="110"/>
                  </a:lnTo>
                  <a:lnTo>
                    <a:pt x="339" y="57"/>
                  </a:lnTo>
                  <a:lnTo>
                    <a:pt x="423" y="57"/>
                  </a:lnTo>
                  <a:lnTo>
                    <a:pt x="511" y="57"/>
                  </a:lnTo>
                  <a:lnTo>
                    <a:pt x="595" y="26"/>
                  </a:lnTo>
                  <a:lnTo>
                    <a:pt x="680" y="0"/>
                  </a:lnTo>
                  <a:lnTo>
                    <a:pt x="763" y="0"/>
                  </a:lnTo>
                  <a:lnTo>
                    <a:pt x="847" y="0"/>
                  </a:lnTo>
                  <a:lnTo>
                    <a:pt x="935" y="0"/>
                  </a:lnTo>
                  <a:lnTo>
                    <a:pt x="1019" y="0"/>
                  </a:lnTo>
                  <a:lnTo>
                    <a:pt x="1046" y="83"/>
                  </a:lnTo>
                  <a:lnTo>
                    <a:pt x="1076" y="167"/>
                  </a:lnTo>
                  <a:lnTo>
                    <a:pt x="1103" y="251"/>
                  </a:lnTo>
                  <a:lnTo>
                    <a:pt x="1129" y="339"/>
                  </a:lnTo>
                  <a:lnTo>
                    <a:pt x="1129" y="423"/>
                  </a:lnTo>
                  <a:lnTo>
                    <a:pt x="1160" y="507"/>
                  </a:lnTo>
                  <a:lnTo>
                    <a:pt x="1187" y="591"/>
                  </a:lnTo>
                  <a:lnTo>
                    <a:pt x="1218" y="675"/>
                  </a:lnTo>
                  <a:lnTo>
                    <a:pt x="1218" y="763"/>
                  </a:lnTo>
                  <a:lnTo>
                    <a:pt x="1187" y="847"/>
                  </a:lnTo>
                  <a:lnTo>
                    <a:pt x="1160" y="931"/>
                  </a:lnTo>
                  <a:lnTo>
                    <a:pt x="1103" y="1015"/>
                  </a:lnTo>
                  <a:lnTo>
                    <a:pt x="1076" y="1099"/>
                  </a:lnTo>
                  <a:lnTo>
                    <a:pt x="1076" y="1187"/>
                  </a:lnTo>
                  <a:lnTo>
                    <a:pt x="1046" y="1271"/>
                  </a:lnTo>
                  <a:lnTo>
                    <a:pt x="1046" y="1354"/>
                  </a:lnTo>
                  <a:lnTo>
                    <a:pt x="1046" y="1438"/>
                  </a:lnTo>
                  <a:lnTo>
                    <a:pt x="1046" y="1522"/>
                  </a:lnTo>
                  <a:lnTo>
                    <a:pt x="1046" y="1611"/>
                  </a:lnTo>
                  <a:lnTo>
                    <a:pt x="1046" y="1695"/>
                  </a:lnTo>
                  <a:lnTo>
                    <a:pt x="1046" y="1779"/>
                  </a:lnTo>
                  <a:lnTo>
                    <a:pt x="1046" y="1862"/>
                  </a:lnTo>
                  <a:lnTo>
                    <a:pt x="1046" y="1946"/>
                  </a:lnTo>
                  <a:lnTo>
                    <a:pt x="1046" y="2034"/>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4" name=""/>
            <p:cNvSpPr/>
            <p:nvPr/>
          </p:nvSpPr>
          <p:spPr>
            <a:xfrm>
              <a:off x="2984400" y="2509920"/>
              <a:ext cx="1168920" cy="4267440"/>
            </a:xfrm>
            <a:custGeom>
              <a:avLst/>
              <a:gdLst/>
              <a:ahLst/>
              <a:rect l="0" t="0" r="r" b="b"/>
              <a:pathLst>
                <a:path fill="none" w="3247" h="11854">
                  <a:moveTo>
                    <a:pt x="0" y="224"/>
                  </a:moveTo>
                  <a:lnTo>
                    <a:pt x="0" y="308"/>
                  </a:lnTo>
                  <a:lnTo>
                    <a:pt x="0" y="392"/>
                  </a:lnTo>
                  <a:lnTo>
                    <a:pt x="0" y="480"/>
                  </a:lnTo>
                  <a:lnTo>
                    <a:pt x="26" y="564"/>
                  </a:lnTo>
                  <a:lnTo>
                    <a:pt x="83" y="648"/>
                  </a:lnTo>
                  <a:lnTo>
                    <a:pt x="167" y="648"/>
                  </a:lnTo>
                  <a:lnTo>
                    <a:pt x="251" y="674"/>
                  </a:lnTo>
                  <a:lnTo>
                    <a:pt x="335" y="674"/>
                  </a:lnTo>
                  <a:lnTo>
                    <a:pt x="392" y="590"/>
                  </a:lnTo>
                  <a:lnTo>
                    <a:pt x="476" y="507"/>
                  </a:lnTo>
                  <a:lnTo>
                    <a:pt x="507" y="423"/>
                  </a:lnTo>
                  <a:lnTo>
                    <a:pt x="564" y="339"/>
                  </a:lnTo>
                  <a:lnTo>
                    <a:pt x="648" y="308"/>
                  </a:lnTo>
                  <a:lnTo>
                    <a:pt x="874" y="251"/>
                  </a:lnTo>
                  <a:lnTo>
                    <a:pt x="957" y="224"/>
                  </a:lnTo>
                  <a:lnTo>
                    <a:pt x="1041" y="198"/>
                  </a:lnTo>
                  <a:lnTo>
                    <a:pt x="1129" y="141"/>
                  </a:lnTo>
                  <a:lnTo>
                    <a:pt x="1213" y="110"/>
                  </a:lnTo>
                  <a:lnTo>
                    <a:pt x="1297" y="83"/>
                  </a:lnTo>
                  <a:lnTo>
                    <a:pt x="1381" y="83"/>
                  </a:lnTo>
                  <a:lnTo>
                    <a:pt x="1465" y="57"/>
                  </a:lnTo>
                  <a:lnTo>
                    <a:pt x="1553" y="26"/>
                  </a:lnTo>
                  <a:lnTo>
                    <a:pt x="1637" y="26"/>
                  </a:lnTo>
                  <a:lnTo>
                    <a:pt x="1720" y="0"/>
                  </a:lnTo>
                  <a:lnTo>
                    <a:pt x="1804" y="0"/>
                  </a:lnTo>
                  <a:lnTo>
                    <a:pt x="1888" y="57"/>
                  </a:lnTo>
                  <a:lnTo>
                    <a:pt x="1976" y="110"/>
                  </a:lnTo>
                  <a:lnTo>
                    <a:pt x="1976" y="198"/>
                  </a:lnTo>
                  <a:lnTo>
                    <a:pt x="2029" y="282"/>
                  </a:lnTo>
                  <a:lnTo>
                    <a:pt x="2086" y="366"/>
                  </a:lnTo>
                  <a:lnTo>
                    <a:pt x="2144" y="449"/>
                  </a:lnTo>
                  <a:lnTo>
                    <a:pt x="2201" y="533"/>
                  </a:lnTo>
                  <a:lnTo>
                    <a:pt x="2227" y="621"/>
                  </a:lnTo>
                  <a:lnTo>
                    <a:pt x="2227" y="705"/>
                  </a:lnTo>
                  <a:lnTo>
                    <a:pt x="2258" y="789"/>
                  </a:lnTo>
                  <a:lnTo>
                    <a:pt x="2285" y="873"/>
                  </a:lnTo>
                  <a:lnTo>
                    <a:pt x="2342" y="956"/>
                  </a:lnTo>
                  <a:lnTo>
                    <a:pt x="2426" y="987"/>
                  </a:lnTo>
                  <a:lnTo>
                    <a:pt x="2453" y="1071"/>
                  </a:lnTo>
                  <a:lnTo>
                    <a:pt x="2453" y="1155"/>
                  </a:lnTo>
                  <a:lnTo>
                    <a:pt x="2426" y="1239"/>
                  </a:lnTo>
                  <a:lnTo>
                    <a:pt x="2369" y="1327"/>
                  </a:lnTo>
                  <a:lnTo>
                    <a:pt x="2311" y="1411"/>
                  </a:lnTo>
                  <a:lnTo>
                    <a:pt x="2258" y="1494"/>
                  </a:lnTo>
                  <a:lnTo>
                    <a:pt x="2201" y="1578"/>
                  </a:lnTo>
                  <a:lnTo>
                    <a:pt x="2144" y="1662"/>
                  </a:lnTo>
                  <a:lnTo>
                    <a:pt x="2086" y="1750"/>
                  </a:lnTo>
                  <a:lnTo>
                    <a:pt x="2060" y="1834"/>
                  </a:lnTo>
                  <a:lnTo>
                    <a:pt x="2003" y="1918"/>
                  </a:lnTo>
                  <a:lnTo>
                    <a:pt x="1976" y="2002"/>
                  </a:lnTo>
                  <a:lnTo>
                    <a:pt x="1945" y="2085"/>
                  </a:lnTo>
                  <a:lnTo>
                    <a:pt x="1919" y="2173"/>
                  </a:lnTo>
                  <a:lnTo>
                    <a:pt x="1888" y="2257"/>
                  </a:lnTo>
                  <a:lnTo>
                    <a:pt x="1835" y="2341"/>
                  </a:lnTo>
                  <a:lnTo>
                    <a:pt x="1804" y="2425"/>
                  </a:lnTo>
                  <a:lnTo>
                    <a:pt x="1778" y="2509"/>
                  </a:lnTo>
                  <a:lnTo>
                    <a:pt x="1720" y="2597"/>
                  </a:lnTo>
                  <a:lnTo>
                    <a:pt x="1694" y="2681"/>
                  </a:lnTo>
                  <a:lnTo>
                    <a:pt x="1663" y="2764"/>
                  </a:lnTo>
                  <a:lnTo>
                    <a:pt x="1637" y="2848"/>
                  </a:lnTo>
                  <a:lnTo>
                    <a:pt x="1606" y="2932"/>
                  </a:lnTo>
                  <a:lnTo>
                    <a:pt x="1606" y="3020"/>
                  </a:lnTo>
                  <a:lnTo>
                    <a:pt x="1579" y="3104"/>
                  </a:lnTo>
                  <a:lnTo>
                    <a:pt x="1553" y="3188"/>
                  </a:lnTo>
                  <a:lnTo>
                    <a:pt x="1553" y="3272"/>
                  </a:lnTo>
                  <a:lnTo>
                    <a:pt x="1553" y="3355"/>
                  </a:lnTo>
                  <a:lnTo>
                    <a:pt x="1553" y="3443"/>
                  </a:lnTo>
                  <a:lnTo>
                    <a:pt x="1553" y="3668"/>
                  </a:lnTo>
                  <a:lnTo>
                    <a:pt x="1553" y="3752"/>
                  </a:lnTo>
                  <a:lnTo>
                    <a:pt x="1579" y="3836"/>
                  </a:lnTo>
                  <a:lnTo>
                    <a:pt x="1579" y="3920"/>
                  </a:lnTo>
                  <a:lnTo>
                    <a:pt x="1606" y="4008"/>
                  </a:lnTo>
                  <a:lnTo>
                    <a:pt x="1637" y="4259"/>
                  </a:lnTo>
                  <a:lnTo>
                    <a:pt x="1637" y="4343"/>
                  </a:lnTo>
                  <a:lnTo>
                    <a:pt x="1663" y="4431"/>
                  </a:lnTo>
                  <a:lnTo>
                    <a:pt x="1694" y="4515"/>
                  </a:lnTo>
                  <a:lnTo>
                    <a:pt x="1720" y="4599"/>
                  </a:lnTo>
                  <a:lnTo>
                    <a:pt x="1778" y="4683"/>
                  </a:lnTo>
                  <a:lnTo>
                    <a:pt x="1835" y="4766"/>
                  </a:lnTo>
                  <a:lnTo>
                    <a:pt x="1861" y="4855"/>
                  </a:lnTo>
                  <a:lnTo>
                    <a:pt x="1919" y="4938"/>
                  </a:lnTo>
                  <a:lnTo>
                    <a:pt x="1976" y="5022"/>
                  </a:lnTo>
                  <a:lnTo>
                    <a:pt x="2029" y="5106"/>
                  </a:lnTo>
                  <a:lnTo>
                    <a:pt x="2117" y="5190"/>
                  </a:lnTo>
                  <a:lnTo>
                    <a:pt x="2144" y="5278"/>
                  </a:lnTo>
                  <a:lnTo>
                    <a:pt x="2201" y="5362"/>
                  </a:lnTo>
                  <a:lnTo>
                    <a:pt x="2227" y="5446"/>
                  </a:lnTo>
                  <a:lnTo>
                    <a:pt x="2285" y="5529"/>
                  </a:lnTo>
                  <a:lnTo>
                    <a:pt x="2311" y="5613"/>
                  </a:lnTo>
                  <a:lnTo>
                    <a:pt x="2369" y="5701"/>
                  </a:lnTo>
                  <a:lnTo>
                    <a:pt x="2399" y="5785"/>
                  </a:lnTo>
                  <a:lnTo>
                    <a:pt x="2453" y="5869"/>
                  </a:lnTo>
                  <a:lnTo>
                    <a:pt x="2453" y="5954"/>
                  </a:lnTo>
                  <a:lnTo>
                    <a:pt x="2484" y="6037"/>
                  </a:lnTo>
                  <a:lnTo>
                    <a:pt x="2511" y="6126"/>
                  </a:lnTo>
                  <a:lnTo>
                    <a:pt x="2568" y="6209"/>
                  </a:lnTo>
                  <a:lnTo>
                    <a:pt x="2594" y="6293"/>
                  </a:lnTo>
                  <a:lnTo>
                    <a:pt x="2625" y="6377"/>
                  </a:lnTo>
                  <a:lnTo>
                    <a:pt x="2683" y="6461"/>
                  </a:lnTo>
                  <a:lnTo>
                    <a:pt x="2736" y="6549"/>
                  </a:lnTo>
                  <a:lnTo>
                    <a:pt x="2793" y="6633"/>
                  </a:lnTo>
                  <a:lnTo>
                    <a:pt x="2824" y="6717"/>
                  </a:lnTo>
                  <a:lnTo>
                    <a:pt x="2908" y="6800"/>
                  </a:lnTo>
                  <a:lnTo>
                    <a:pt x="2908" y="6884"/>
                  </a:lnTo>
                  <a:lnTo>
                    <a:pt x="2934" y="6972"/>
                  </a:lnTo>
                  <a:lnTo>
                    <a:pt x="2965" y="7056"/>
                  </a:lnTo>
                  <a:lnTo>
                    <a:pt x="3018" y="7140"/>
                  </a:lnTo>
                  <a:lnTo>
                    <a:pt x="3049" y="7224"/>
                  </a:lnTo>
                  <a:lnTo>
                    <a:pt x="3075" y="7307"/>
                  </a:lnTo>
                  <a:lnTo>
                    <a:pt x="3106" y="7396"/>
                  </a:lnTo>
                  <a:lnTo>
                    <a:pt x="3132" y="7479"/>
                  </a:lnTo>
                  <a:lnTo>
                    <a:pt x="3132" y="7563"/>
                  </a:lnTo>
                  <a:lnTo>
                    <a:pt x="3159" y="7647"/>
                  </a:lnTo>
                  <a:lnTo>
                    <a:pt x="3190" y="7731"/>
                  </a:lnTo>
                  <a:lnTo>
                    <a:pt x="3216" y="7819"/>
                  </a:lnTo>
                  <a:lnTo>
                    <a:pt x="3216" y="7903"/>
                  </a:lnTo>
                  <a:lnTo>
                    <a:pt x="3247" y="7987"/>
                  </a:lnTo>
                  <a:lnTo>
                    <a:pt x="3247" y="8070"/>
                  </a:lnTo>
                  <a:lnTo>
                    <a:pt x="3247" y="8154"/>
                  </a:lnTo>
                  <a:lnTo>
                    <a:pt x="3247" y="8242"/>
                  </a:lnTo>
                  <a:lnTo>
                    <a:pt x="3247" y="8326"/>
                  </a:lnTo>
                  <a:lnTo>
                    <a:pt x="3216" y="8410"/>
                  </a:lnTo>
                  <a:lnTo>
                    <a:pt x="3216" y="8494"/>
                  </a:lnTo>
                  <a:lnTo>
                    <a:pt x="3159" y="8577"/>
                  </a:lnTo>
                  <a:lnTo>
                    <a:pt x="3132" y="8666"/>
                  </a:lnTo>
                  <a:lnTo>
                    <a:pt x="3075" y="8749"/>
                  </a:lnTo>
                  <a:lnTo>
                    <a:pt x="3049" y="8833"/>
                  </a:lnTo>
                  <a:lnTo>
                    <a:pt x="2991" y="8917"/>
                  </a:lnTo>
                  <a:lnTo>
                    <a:pt x="2934" y="9001"/>
                  </a:lnTo>
                  <a:lnTo>
                    <a:pt x="2934" y="9089"/>
                  </a:lnTo>
                  <a:lnTo>
                    <a:pt x="2877" y="9173"/>
                  </a:lnTo>
                  <a:lnTo>
                    <a:pt x="2877" y="9371"/>
                  </a:lnTo>
                  <a:lnTo>
                    <a:pt x="2850" y="9455"/>
                  </a:lnTo>
                  <a:lnTo>
                    <a:pt x="2824" y="9539"/>
                  </a:lnTo>
                  <a:lnTo>
                    <a:pt x="2793" y="9623"/>
                  </a:lnTo>
                  <a:lnTo>
                    <a:pt x="2766" y="9706"/>
                  </a:lnTo>
                  <a:lnTo>
                    <a:pt x="2736" y="9905"/>
                  </a:lnTo>
                  <a:lnTo>
                    <a:pt x="2683" y="9989"/>
                  </a:lnTo>
                  <a:lnTo>
                    <a:pt x="2652" y="10244"/>
                  </a:lnTo>
                  <a:lnTo>
                    <a:pt x="2594" y="10469"/>
                  </a:lnTo>
                  <a:lnTo>
                    <a:pt x="2594" y="10668"/>
                  </a:lnTo>
                  <a:lnTo>
                    <a:pt x="2568" y="10866"/>
                  </a:lnTo>
                  <a:lnTo>
                    <a:pt x="2542" y="11064"/>
                  </a:lnTo>
                  <a:lnTo>
                    <a:pt x="2511" y="11259"/>
                  </a:lnTo>
                  <a:lnTo>
                    <a:pt x="2484" y="11457"/>
                  </a:lnTo>
                  <a:lnTo>
                    <a:pt x="2426" y="11682"/>
                  </a:lnTo>
                  <a:lnTo>
                    <a:pt x="2399" y="11770"/>
                  </a:lnTo>
                  <a:lnTo>
                    <a:pt x="2369" y="11854"/>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5" name=""/>
            <p:cNvSpPr/>
            <p:nvPr/>
          </p:nvSpPr>
          <p:spPr>
            <a:xfrm>
              <a:off x="4019400" y="4613400"/>
              <a:ext cx="773640" cy="386280"/>
            </a:xfrm>
            <a:custGeom>
              <a:avLst/>
              <a:gdLst/>
              <a:ahLst/>
              <a:rect l="0" t="0" r="r" b="b"/>
              <a:pathLst>
                <a:path fill="none" w="2149" h="1073">
                  <a:moveTo>
                    <a:pt x="0" y="1073"/>
                  </a:moveTo>
                  <a:lnTo>
                    <a:pt x="88" y="1016"/>
                  </a:lnTo>
                  <a:lnTo>
                    <a:pt x="171" y="958"/>
                  </a:lnTo>
                  <a:lnTo>
                    <a:pt x="255" y="932"/>
                  </a:lnTo>
                  <a:lnTo>
                    <a:pt x="339" y="932"/>
                  </a:lnTo>
                  <a:lnTo>
                    <a:pt x="423" y="932"/>
                  </a:lnTo>
                  <a:lnTo>
                    <a:pt x="511" y="901"/>
                  </a:lnTo>
                  <a:lnTo>
                    <a:pt x="596" y="875"/>
                  </a:lnTo>
                  <a:lnTo>
                    <a:pt x="680" y="817"/>
                  </a:lnTo>
                  <a:lnTo>
                    <a:pt x="904" y="790"/>
                  </a:lnTo>
                  <a:lnTo>
                    <a:pt x="988" y="733"/>
                  </a:lnTo>
                  <a:lnTo>
                    <a:pt x="1076" y="675"/>
                  </a:lnTo>
                  <a:lnTo>
                    <a:pt x="1160" y="649"/>
                  </a:lnTo>
                  <a:lnTo>
                    <a:pt x="1218" y="565"/>
                  </a:lnTo>
                  <a:lnTo>
                    <a:pt x="1301" y="534"/>
                  </a:lnTo>
                  <a:lnTo>
                    <a:pt x="1385" y="477"/>
                  </a:lnTo>
                  <a:lnTo>
                    <a:pt x="1469" y="450"/>
                  </a:lnTo>
                  <a:lnTo>
                    <a:pt x="1553" y="367"/>
                  </a:lnTo>
                  <a:lnTo>
                    <a:pt x="1642" y="309"/>
                  </a:lnTo>
                  <a:lnTo>
                    <a:pt x="1726" y="283"/>
                  </a:lnTo>
                  <a:lnTo>
                    <a:pt x="1809" y="224"/>
                  </a:lnTo>
                  <a:lnTo>
                    <a:pt x="1893" y="167"/>
                  </a:lnTo>
                  <a:lnTo>
                    <a:pt x="1977" y="83"/>
                  </a:lnTo>
                  <a:lnTo>
                    <a:pt x="2065" y="26"/>
                  </a:lnTo>
                  <a:lnTo>
                    <a:pt x="2149"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6" name=""/>
            <p:cNvSpPr/>
            <p:nvPr/>
          </p:nvSpPr>
          <p:spPr>
            <a:xfrm>
              <a:off x="3552840" y="3251160"/>
              <a:ext cx="1219680" cy="416160"/>
            </a:xfrm>
            <a:custGeom>
              <a:avLst/>
              <a:gdLst/>
              <a:ahLst/>
              <a:rect l="0" t="0" r="r" b="b"/>
              <a:pathLst>
                <a:path fill="none" w="3388" h="1156">
                  <a:moveTo>
                    <a:pt x="0" y="1156"/>
                  </a:moveTo>
                  <a:lnTo>
                    <a:pt x="83" y="1103"/>
                  </a:lnTo>
                  <a:lnTo>
                    <a:pt x="141" y="1015"/>
                  </a:lnTo>
                  <a:lnTo>
                    <a:pt x="224" y="931"/>
                  </a:lnTo>
                  <a:lnTo>
                    <a:pt x="308" y="874"/>
                  </a:lnTo>
                  <a:lnTo>
                    <a:pt x="366" y="790"/>
                  </a:lnTo>
                  <a:lnTo>
                    <a:pt x="449" y="763"/>
                  </a:lnTo>
                  <a:lnTo>
                    <a:pt x="537" y="706"/>
                  </a:lnTo>
                  <a:lnTo>
                    <a:pt x="621" y="680"/>
                  </a:lnTo>
                  <a:lnTo>
                    <a:pt x="705" y="622"/>
                  </a:lnTo>
                  <a:lnTo>
                    <a:pt x="904" y="591"/>
                  </a:lnTo>
                  <a:lnTo>
                    <a:pt x="1103" y="564"/>
                  </a:lnTo>
                  <a:lnTo>
                    <a:pt x="1328" y="507"/>
                  </a:lnTo>
                  <a:lnTo>
                    <a:pt x="1553" y="449"/>
                  </a:lnTo>
                  <a:lnTo>
                    <a:pt x="1751" y="423"/>
                  </a:lnTo>
                  <a:lnTo>
                    <a:pt x="1976" y="396"/>
                  </a:lnTo>
                  <a:lnTo>
                    <a:pt x="2174" y="366"/>
                  </a:lnTo>
                  <a:lnTo>
                    <a:pt x="2373" y="339"/>
                  </a:lnTo>
                  <a:lnTo>
                    <a:pt x="2625" y="282"/>
                  </a:lnTo>
                  <a:lnTo>
                    <a:pt x="2709" y="255"/>
                  </a:lnTo>
                  <a:lnTo>
                    <a:pt x="2797" y="198"/>
                  </a:lnTo>
                  <a:lnTo>
                    <a:pt x="2881" y="167"/>
                  </a:lnTo>
                  <a:lnTo>
                    <a:pt x="2965" y="141"/>
                  </a:lnTo>
                  <a:lnTo>
                    <a:pt x="3049" y="83"/>
                  </a:lnTo>
                  <a:lnTo>
                    <a:pt x="3132" y="57"/>
                  </a:lnTo>
                  <a:lnTo>
                    <a:pt x="3221" y="26"/>
                  </a:lnTo>
                  <a:lnTo>
                    <a:pt x="3304" y="0"/>
                  </a:lnTo>
                  <a:lnTo>
                    <a:pt x="3388"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7" name=""/>
            <p:cNvSpPr/>
            <p:nvPr/>
          </p:nvSpPr>
          <p:spPr>
            <a:xfrm>
              <a:off x="3218040" y="5211720"/>
              <a:ext cx="894240" cy="41760"/>
            </a:xfrm>
            <a:custGeom>
              <a:avLst/>
              <a:gdLst/>
              <a:ahLst/>
              <a:rect l="0" t="0" r="r" b="b"/>
              <a:pathLst>
                <a:path fill="none" w="2484" h="116">
                  <a:moveTo>
                    <a:pt x="0" y="0"/>
                  </a:moveTo>
                  <a:lnTo>
                    <a:pt x="83" y="0"/>
                  </a:lnTo>
                  <a:lnTo>
                    <a:pt x="167" y="0"/>
                  </a:lnTo>
                  <a:lnTo>
                    <a:pt x="251" y="31"/>
                  </a:lnTo>
                  <a:lnTo>
                    <a:pt x="339" y="31"/>
                  </a:lnTo>
                  <a:lnTo>
                    <a:pt x="423" y="31"/>
                  </a:lnTo>
                  <a:lnTo>
                    <a:pt x="507" y="31"/>
                  </a:lnTo>
                  <a:lnTo>
                    <a:pt x="590" y="31"/>
                  </a:lnTo>
                  <a:lnTo>
                    <a:pt x="675" y="31"/>
                  </a:lnTo>
                  <a:lnTo>
                    <a:pt x="763" y="31"/>
                  </a:lnTo>
                  <a:lnTo>
                    <a:pt x="847" y="0"/>
                  </a:lnTo>
                  <a:lnTo>
                    <a:pt x="931" y="0"/>
                  </a:lnTo>
                  <a:lnTo>
                    <a:pt x="1015" y="0"/>
                  </a:lnTo>
                  <a:lnTo>
                    <a:pt x="1099" y="31"/>
                  </a:lnTo>
                  <a:lnTo>
                    <a:pt x="1187" y="31"/>
                  </a:lnTo>
                  <a:lnTo>
                    <a:pt x="1271" y="58"/>
                  </a:lnTo>
                  <a:lnTo>
                    <a:pt x="1354" y="58"/>
                  </a:lnTo>
                  <a:lnTo>
                    <a:pt x="1438" y="58"/>
                  </a:lnTo>
                  <a:lnTo>
                    <a:pt x="1522" y="58"/>
                  </a:lnTo>
                  <a:lnTo>
                    <a:pt x="1610" y="58"/>
                  </a:lnTo>
                  <a:lnTo>
                    <a:pt x="1694" y="58"/>
                  </a:lnTo>
                  <a:lnTo>
                    <a:pt x="1778" y="58"/>
                  </a:lnTo>
                  <a:lnTo>
                    <a:pt x="1861" y="58"/>
                  </a:lnTo>
                  <a:lnTo>
                    <a:pt x="1946" y="58"/>
                  </a:lnTo>
                  <a:lnTo>
                    <a:pt x="2145" y="58"/>
                  </a:lnTo>
                  <a:lnTo>
                    <a:pt x="2228" y="58"/>
                  </a:lnTo>
                  <a:lnTo>
                    <a:pt x="2317" y="84"/>
                  </a:lnTo>
                  <a:lnTo>
                    <a:pt x="2400" y="116"/>
                  </a:lnTo>
                  <a:lnTo>
                    <a:pt x="2484" y="116"/>
                  </a:lnTo>
                </a:path>
              </a:pathLst>
            </a:custGeom>
            <a:ln w="25560">
              <a:solidFill>
                <a:srgbClr val="000000"/>
              </a:solidFill>
              <a:round/>
            </a:ln>
          </p:spPr>
          <p:txBody>
            <a:bodyPr lIns="102600" rIns="102600" tIns="-15840" bIns="-15840" anchor="t">
              <a:noAutofit/>
            </a:bodyPr>
            <a:p>
              <a:endParaRPr b="0" lang="en-US" sz="1800" spc="-1" strike="noStrike">
                <a:solidFill>
                  <a:srgbClr val="000000"/>
                </a:solidFill>
                <a:latin typeface="Arial"/>
              </a:endParaRPr>
            </a:p>
          </p:txBody>
        </p:sp>
        <p:sp>
          <p:nvSpPr>
            <p:cNvPr id="528" name=""/>
            <p:cNvSpPr/>
            <p:nvPr/>
          </p:nvSpPr>
          <p:spPr>
            <a:xfrm>
              <a:off x="3105000" y="5934240"/>
              <a:ext cx="844920" cy="273240"/>
            </a:xfrm>
            <a:custGeom>
              <a:avLst/>
              <a:gdLst/>
              <a:ahLst/>
              <a:rect l="0" t="0" r="r" b="b"/>
              <a:pathLst>
                <a:path fill="none" w="2347" h="759">
                  <a:moveTo>
                    <a:pt x="0" y="0"/>
                  </a:moveTo>
                  <a:lnTo>
                    <a:pt x="88" y="52"/>
                  </a:lnTo>
                  <a:lnTo>
                    <a:pt x="171" y="110"/>
                  </a:lnTo>
                  <a:lnTo>
                    <a:pt x="255" y="141"/>
                  </a:lnTo>
                  <a:lnTo>
                    <a:pt x="339" y="141"/>
                  </a:lnTo>
                  <a:lnTo>
                    <a:pt x="423" y="141"/>
                  </a:lnTo>
                  <a:lnTo>
                    <a:pt x="511" y="110"/>
                  </a:lnTo>
                  <a:lnTo>
                    <a:pt x="596" y="110"/>
                  </a:lnTo>
                  <a:lnTo>
                    <a:pt x="680" y="110"/>
                  </a:lnTo>
                  <a:lnTo>
                    <a:pt x="763" y="141"/>
                  </a:lnTo>
                  <a:lnTo>
                    <a:pt x="847" y="141"/>
                  </a:lnTo>
                  <a:lnTo>
                    <a:pt x="935" y="167"/>
                  </a:lnTo>
                  <a:lnTo>
                    <a:pt x="1019" y="194"/>
                  </a:lnTo>
                  <a:lnTo>
                    <a:pt x="1103" y="194"/>
                  </a:lnTo>
                  <a:lnTo>
                    <a:pt x="1187" y="194"/>
                  </a:lnTo>
                  <a:lnTo>
                    <a:pt x="1271" y="224"/>
                  </a:lnTo>
                  <a:lnTo>
                    <a:pt x="1359" y="251"/>
                  </a:lnTo>
                  <a:lnTo>
                    <a:pt x="1442" y="282"/>
                  </a:lnTo>
                  <a:lnTo>
                    <a:pt x="1526" y="282"/>
                  </a:lnTo>
                  <a:lnTo>
                    <a:pt x="1610" y="308"/>
                  </a:lnTo>
                  <a:lnTo>
                    <a:pt x="1694" y="335"/>
                  </a:lnTo>
                  <a:lnTo>
                    <a:pt x="1783" y="366"/>
                  </a:lnTo>
                  <a:lnTo>
                    <a:pt x="1867" y="393"/>
                  </a:lnTo>
                  <a:lnTo>
                    <a:pt x="1951" y="450"/>
                  </a:lnTo>
                  <a:lnTo>
                    <a:pt x="2034" y="477"/>
                  </a:lnTo>
                  <a:lnTo>
                    <a:pt x="2118" y="534"/>
                  </a:lnTo>
                  <a:lnTo>
                    <a:pt x="2206" y="618"/>
                  </a:lnTo>
                  <a:lnTo>
                    <a:pt x="2290" y="675"/>
                  </a:lnTo>
                  <a:lnTo>
                    <a:pt x="2347" y="759"/>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9" name=""/>
            <p:cNvSpPr/>
            <p:nvPr/>
          </p:nvSpPr>
          <p:spPr>
            <a:xfrm>
              <a:off x="971640" y="4511520"/>
              <a:ext cx="702000" cy="2235600"/>
            </a:xfrm>
            <a:custGeom>
              <a:avLst/>
              <a:gdLst/>
              <a:ahLst/>
              <a:rect l="0" t="0" r="r" b="b"/>
              <a:pathLst>
                <a:path fill="none" w="1950" h="6210">
                  <a:moveTo>
                    <a:pt x="0" y="6210"/>
                  </a:moveTo>
                  <a:lnTo>
                    <a:pt x="171" y="5223"/>
                  </a:lnTo>
                  <a:lnTo>
                    <a:pt x="229" y="5139"/>
                  </a:lnTo>
                  <a:lnTo>
                    <a:pt x="255" y="5055"/>
                  </a:lnTo>
                  <a:lnTo>
                    <a:pt x="286" y="4967"/>
                  </a:lnTo>
                  <a:lnTo>
                    <a:pt x="339" y="4883"/>
                  </a:lnTo>
                  <a:lnTo>
                    <a:pt x="370" y="4799"/>
                  </a:lnTo>
                  <a:lnTo>
                    <a:pt x="396" y="4715"/>
                  </a:lnTo>
                  <a:lnTo>
                    <a:pt x="454" y="4631"/>
                  </a:lnTo>
                  <a:lnTo>
                    <a:pt x="511" y="4543"/>
                  </a:lnTo>
                  <a:lnTo>
                    <a:pt x="568" y="4459"/>
                  </a:lnTo>
                  <a:lnTo>
                    <a:pt x="621" y="4375"/>
                  </a:lnTo>
                  <a:lnTo>
                    <a:pt x="679" y="4291"/>
                  </a:lnTo>
                  <a:lnTo>
                    <a:pt x="736" y="4207"/>
                  </a:lnTo>
                  <a:lnTo>
                    <a:pt x="762" y="4119"/>
                  </a:lnTo>
                  <a:lnTo>
                    <a:pt x="851" y="4035"/>
                  </a:lnTo>
                  <a:lnTo>
                    <a:pt x="903" y="3952"/>
                  </a:lnTo>
                  <a:lnTo>
                    <a:pt x="961" y="3868"/>
                  </a:lnTo>
                  <a:lnTo>
                    <a:pt x="1019" y="3784"/>
                  </a:lnTo>
                  <a:lnTo>
                    <a:pt x="1076" y="3696"/>
                  </a:lnTo>
                  <a:lnTo>
                    <a:pt x="1134" y="3612"/>
                  </a:lnTo>
                  <a:lnTo>
                    <a:pt x="1187" y="3528"/>
                  </a:lnTo>
                  <a:lnTo>
                    <a:pt x="1244" y="3444"/>
                  </a:lnTo>
                  <a:lnTo>
                    <a:pt x="1301" y="3361"/>
                  </a:lnTo>
                  <a:lnTo>
                    <a:pt x="1359" y="3273"/>
                  </a:lnTo>
                  <a:lnTo>
                    <a:pt x="1385" y="3189"/>
                  </a:lnTo>
                  <a:lnTo>
                    <a:pt x="1416" y="2964"/>
                  </a:lnTo>
                  <a:lnTo>
                    <a:pt x="1469" y="2880"/>
                  </a:lnTo>
                  <a:lnTo>
                    <a:pt x="1500" y="2624"/>
                  </a:lnTo>
                  <a:lnTo>
                    <a:pt x="1526" y="2373"/>
                  </a:lnTo>
                  <a:lnTo>
                    <a:pt x="1584" y="2285"/>
                  </a:lnTo>
                  <a:lnTo>
                    <a:pt x="1610" y="2201"/>
                  </a:lnTo>
                  <a:lnTo>
                    <a:pt x="1698" y="2144"/>
                  </a:lnTo>
                  <a:lnTo>
                    <a:pt x="1725" y="2060"/>
                  </a:lnTo>
                  <a:lnTo>
                    <a:pt x="1751" y="1976"/>
                  </a:lnTo>
                  <a:lnTo>
                    <a:pt x="1808" y="1892"/>
                  </a:lnTo>
                  <a:lnTo>
                    <a:pt x="1839" y="1808"/>
                  </a:lnTo>
                  <a:lnTo>
                    <a:pt x="1866" y="1720"/>
                  </a:lnTo>
                  <a:lnTo>
                    <a:pt x="1866" y="1637"/>
                  </a:lnTo>
                  <a:lnTo>
                    <a:pt x="1866" y="1553"/>
                  </a:lnTo>
                  <a:lnTo>
                    <a:pt x="1839" y="1468"/>
                  </a:lnTo>
                  <a:lnTo>
                    <a:pt x="1839" y="1384"/>
                  </a:lnTo>
                  <a:lnTo>
                    <a:pt x="1839" y="1296"/>
                  </a:lnTo>
                  <a:lnTo>
                    <a:pt x="1839" y="1212"/>
                  </a:lnTo>
                  <a:lnTo>
                    <a:pt x="1866" y="1128"/>
                  </a:lnTo>
                  <a:lnTo>
                    <a:pt x="1892" y="1045"/>
                  </a:lnTo>
                  <a:lnTo>
                    <a:pt x="1923" y="961"/>
                  </a:lnTo>
                  <a:lnTo>
                    <a:pt x="1950" y="873"/>
                  </a:lnTo>
                  <a:lnTo>
                    <a:pt x="1950" y="789"/>
                  </a:lnTo>
                  <a:lnTo>
                    <a:pt x="1950" y="705"/>
                  </a:lnTo>
                  <a:lnTo>
                    <a:pt x="1950" y="621"/>
                  </a:lnTo>
                  <a:lnTo>
                    <a:pt x="1923" y="537"/>
                  </a:lnTo>
                  <a:lnTo>
                    <a:pt x="1892" y="449"/>
                  </a:lnTo>
                  <a:lnTo>
                    <a:pt x="1866" y="366"/>
                  </a:lnTo>
                  <a:lnTo>
                    <a:pt x="1782" y="339"/>
                  </a:lnTo>
                  <a:lnTo>
                    <a:pt x="1698" y="282"/>
                  </a:lnTo>
                  <a:lnTo>
                    <a:pt x="1610" y="255"/>
                  </a:lnTo>
                  <a:lnTo>
                    <a:pt x="1557" y="167"/>
                  </a:lnTo>
                  <a:lnTo>
                    <a:pt x="1500" y="83"/>
                  </a:lnTo>
                  <a:lnTo>
                    <a:pt x="1416"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0" name=""/>
            <p:cNvSpPr/>
            <p:nvPr/>
          </p:nvSpPr>
          <p:spPr>
            <a:xfrm>
              <a:off x="1673280" y="4581360"/>
              <a:ext cx="1432440" cy="235440"/>
            </a:xfrm>
            <a:custGeom>
              <a:avLst/>
              <a:gdLst/>
              <a:ahLst/>
              <a:rect l="0" t="0" r="r" b="b"/>
              <a:pathLst>
                <a:path fill="none" w="3979" h="654">
                  <a:moveTo>
                    <a:pt x="0" y="654"/>
                  </a:moveTo>
                  <a:lnTo>
                    <a:pt x="83" y="597"/>
                  </a:lnTo>
                  <a:lnTo>
                    <a:pt x="167" y="539"/>
                  </a:lnTo>
                  <a:lnTo>
                    <a:pt x="255" y="481"/>
                  </a:lnTo>
                  <a:lnTo>
                    <a:pt x="339" y="455"/>
                  </a:lnTo>
                  <a:lnTo>
                    <a:pt x="423" y="513"/>
                  </a:lnTo>
                  <a:lnTo>
                    <a:pt x="507" y="513"/>
                  </a:lnTo>
                  <a:lnTo>
                    <a:pt x="590" y="455"/>
                  </a:lnTo>
                  <a:lnTo>
                    <a:pt x="679" y="397"/>
                  </a:lnTo>
                  <a:lnTo>
                    <a:pt x="762" y="371"/>
                  </a:lnTo>
                  <a:lnTo>
                    <a:pt x="846" y="340"/>
                  </a:lnTo>
                  <a:lnTo>
                    <a:pt x="930" y="340"/>
                  </a:lnTo>
                  <a:lnTo>
                    <a:pt x="1015" y="340"/>
                  </a:lnTo>
                  <a:lnTo>
                    <a:pt x="1103" y="340"/>
                  </a:lnTo>
                  <a:lnTo>
                    <a:pt x="1187" y="340"/>
                  </a:lnTo>
                  <a:lnTo>
                    <a:pt x="1271" y="340"/>
                  </a:lnTo>
                  <a:lnTo>
                    <a:pt x="1354" y="314"/>
                  </a:lnTo>
                  <a:lnTo>
                    <a:pt x="1438" y="256"/>
                  </a:lnTo>
                  <a:lnTo>
                    <a:pt x="1526" y="230"/>
                  </a:lnTo>
                  <a:lnTo>
                    <a:pt x="1610" y="199"/>
                  </a:lnTo>
                  <a:lnTo>
                    <a:pt x="1694" y="172"/>
                  </a:lnTo>
                  <a:lnTo>
                    <a:pt x="1778" y="141"/>
                  </a:lnTo>
                  <a:lnTo>
                    <a:pt x="1861" y="114"/>
                  </a:lnTo>
                  <a:lnTo>
                    <a:pt x="1950" y="57"/>
                  </a:lnTo>
                  <a:lnTo>
                    <a:pt x="2033" y="30"/>
                  </a:lnTo>
                  <a:lnTo>
                    <a:pt x="2117" y="30"/>
                  </a:lnTo>
                  <a:lnTo>
                    <a:pt x="2201" y="30"/>
                  </a:lnTo>
                  <a:lnTo>
                    <a:pt x="2285" y="0"/>
                  </a:lnTo>
                  <a:lnTo>
                    <a:pt x="2373" y="0"/>
                  </a:lnTo>
                  <a:lnTo>
                    <a:pt x="2457" y="0"/>
                  </a:lnTo>
                  <a:lnTo>
                    <a:pt x="2541" y="0"/>
                  </a:lnTo>
                  <a:lnTo>
                    <a:pt x="2624" y="0"/>
                  </a:lnTo>
                  <a:lnTo>
                    <a:pt x="2708" y="0"/>
                  </a:lnTo>
                  <a:lnTo>
                    <a:pt x="2796" y="30"/>
                  </a:lnTo>
                  <a:lnTo>
                    <a:pt x="2880" y="30"/>
                  </a:lnTo>
                  <a:lnTo>
                    <a:pt x="3132" y="88"/>
                  </a:lnTo>
                  <a:lnTo>
                    <a:pt x="3221" y="141"/>
                  </a:lnTo>
                  <a:lnTo>
                    <a:pt x="3304" y="172"/>
                  </a:lnTo>
                  <a:lnTo>
                    <a:pt x="3388" y="199"/>
                  </a:lnTo>
                  <a:lnTo>
                    <a:pt x="3472" y="230"/>
                  </a:lnTo>
                  <a:lnTo>
                    <a:pt x="3556" y="283"/>
                  </a:lnTo>
                  <a:lnTo>
                    <a:pt x="3644" y="314"/>
                  </a:lnTo>
                  <a:lnTo>
                    <a:pt x="3728" y="371"/>
                  </a:lnTo>
                  <a:lnTo>
                    <a:pt x="3812" y="455"/>
                  </a:lnTo>
                  <a:lnTo>
                    <a:pt x="3895" y="513"/>
                  </a:lnTo>
                  <a:lnTo>
                    <a:pt x="3979" y="566"/>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1" name=""/>
            <p:cNvSpPr txBox="1"/>
            <p:nvPr/>
          </p:nvSpPr>
          <p:spPr>
            <a:xfrm>
              <a:off x="1735200" y="3168720"/>
              <a:ext cx="9748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Samaria</a:t>
              </a:r>
              <a:endParaRPr b="0" lang="en-US" sz="1600" spc="-1" strike="noStrike">
                <a:solidFill>
                  <a:srgbClr val="000000"/>
                </a:solidFill>
                <a:latin typeface="Arial"/>
              </a:endParaRPr>
            </a:p>
          </p:txBody>
        </p:sp>
        <p:sp>
          <p:nvSpPr>
            <p:cNvPr id="532" name=""/>
            <p:cNvSpPr/>
            <p:nvPr/>
          </p:nvSpPr>
          <p:spPr>
            <a:xfrm>
              <a:off x="2158920" y="3452760"/>
              <a:ext cx="90720" cy="98640"/>
            </a:xfrm>
            <a:custGeom>
              <a:avLst/>
              <a:gdLst/>
              <a:ahLst/>
              <a:rect l="0" t="0" r="r" b="b"/>
              <a:pathLst>
                <a:path w="252" h="274">
                  <a:moveTo>
                    <a:pt x="125" y="0"/>
                  </a:moveTo>
                  <a:lnTo>
                    <a:pt x="96" y="104"/>
                  </a:lnTo>
                  <a:lnTo>
                    <a:pt x="0" y="104"/>
                  </a:lnTo>
                  <a:lnTo>
                    <a:pt x="78" y="170"/>
                  </a:lnTo>
                  <a:lnTo>
                    <a:pt x="48" y="274"/>
                  </a:lnTo>
                  <a:lnTo>
                    <a:pt x="125" y="214"/>
                  </a:lnTo>
                  <a:lnTo>
                    <a:pt x="203" y="274"/>
                  </a:lnTo>
                  <a:lnTo>
                    <a:pt x="173" y="170"/>
                  </a:lnTo>
                  <a:lnTo>
                    <a:pt x="252" y="104"/>
                  </a:lnTo>
                  <a:lnTo>
                    <a:pt x="156" y="104"/>
                  </a:lnTo>
                  <a:lnTo>
                    <a:pt x="125" y="0"/>
                  </a:lnTo>
                  <a:close/>
                </a:path>
              </a:pathLst>
            </a:custGeom>
            <a:solidFill>
              <a:srgbClr val="fc0128"/>
            </a:solidFill>
            <a:ln w="12600">
              <a:solidFill>
                <a:srgbClr val="fc0128"/>
              </a:solidFill>
              <a:round/>
            </a:ln>
          </p:spPr>
          <p:txBody>
            <a:bodyPr lIns="96120" rIns="96120" tIns="47520" bIns="47520" anchor="t">
              <a:noAutofit/>
            </a:bodyPr>
            <a:p>
              <a:endParaRPr b="0" lang="en-US" sz="1800" spc="-1" strike="noStrike">
                <a:solidFill>
                  <a:srgbClr val="000000"/>
                </a:solidFill>
                <a:latin typeface="Arial"/>
              </a:endParaRPr>
            </a:p>
          </p:txBody>
        </p:sp>
        <p:sp>
          <p:nvSpPr>
            <p:cNvPr id="533" name=""/>
            <p:cNvSpPr txBox="1"/>
            <p:nvPr/>
          </p:nvSpPr>
          <p:spPr>
            <a:xfrm>
              <a:off x="-380880" y="1687680"/>
              <a:ext cx="2962440" cy="579600"/>
            </a:xfrm>
            <a:prstGeom prst="rect">
              <a:avLst/>
            </a:prstGeom>
            <a:noFill/>
            <a:ln w="0">
              <a:noFill/>
            </a:ln>
          </p:spPr>
          <p:txBody>
            <a:bodyPr lIns="0" rIns="0" tIns="0" bIns="0" anchor="t">
              <a:noAutofit/>
            </a:bodyPr>
            <a:p>
              <a:pPr>
                <a:lnSpc>
                  <a:spcPct val="100000"/>
                </a:lnSpc>
              </a:pPr>
              <a:r>
                <a:rPr b="1" i="1" lang="en-US" sz="3200" spc="-1" strike="noStrike">
                  <a:solidFill>
                    <a:srgbClr val="c1ceff"/>
                  </a:solidFill>
                  <a:latin typeface="Arial"/>
                  <a:ea typeface="Arial"/>
                </a:rPr>
                <a:t>Mediterranean</a:t>
              </a:r>
              <a:endParaRPr b="0" lang="en-US" sz="3200" spc="-1" strike="noStrike">
                <a:solidFill>
                  <a:srgbClr val="000000"/>
                </a:solidFill>
                <a:latin typeface="Arial"/>
              </a:endParaRPr>
            </a:p>
          </p:txBody>
        </p:sp>
      </p:grpSp>
      <p:sp>
        <p:nvSpPr>
          <p:cNvPr id="534" name=""/>
          <p:cNvSpPr txBox="1"/>
          <p:nvPr/>
        </p:nvSpPr>
        <p:spPr>
          <a:xfrm>
            <a:off x="4724280" y="2438280"/>
            <a:ext cx="4343400" cy="1920960"/>
          </a:xfrm>
          <a:prstGeom prst="rect">
            <a:avLst/>
          </a:prstGeom>
          <a:noFill/>
          <a:ln w="0">
            <a:noFill/>
          </a:ln>
        </p:spPr>
        <p:txBody>
          <a:bodyPr lIns="0" rIns="0" tIns="0" bIns="0" anchor="t">
            <a:noAutofit/>
          </a:bodyPr>
          <a:p>
            <a:pPr algn="ctr">
              <a:lnSpc>
                <a:spcPct val="100000"/>
              </a:lnSpc>
              <a:spcBef>
                <a:spcPts val="1199"/>
              </a:spcBef>
            </a:pPr>
            <a:r>
              <a:rPr b="1" lang="en-US" sz="6000" spc="-1" strike="noStrike" u="sng">
                <a:solidFill>
                  <a:srgbClr val="fafd00"/>
                </a:solidFill>
                <a:uFillTx/>
                <a:latin typeface="Arial"/>
                <a:ea typeface="Arial"/>
              </a:rPr>
              <a:t>Divided Kingdom</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535" name=""/>
          <p:cNvGrpSpPr/>
          <p:nvPr/>
        </p:nvGrpSpPr>
        <p:grpSpPr>
          <a:xfrm>
            <a:off x="0" y="685800"/>
            <a:ext cx="9131760" cy="6159960"/>
            <a:chOff x="0" y="685800"/>
            <a:chExt cx="9131760" cy="6159960"/>
          </a:xfrm>
        </p:grpSpPr>
        <p:sp>
          <p:nvSpPr>
            <p:cNvPr id="536" name=""/>
            <p:cNvSpPr/>
            <p:nvPr/>
          </p:nvSpPr>
          <p:spPr>
            <a:xfrm>
              <a:off x="0" y="762120"/>
              <a:ext cx="9067680" cy="6019920"/>
            </a:xfrm>
            <a:prstGeom prst="rect">
              <a:avLst/>
            </a:prstGeom>
            <a:solidFill>
              <a:srgbClr val="00ae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7620120" y="5168880"/>
              <a:ext cx="1511640" cy="1676880"/>
            </a:xfrm>
            <a:custGeom>
              <a:avLst/>
              <a:gdLst/>
              <a:ahLst/>
              <a:rect l="0" t="0" r="r" b="b"/>
              <a:pathLst>
                <a:path w="4199" h="4658">
                  <a:moveTo>
                    <a:pt x="4022" y="2152"/>
                  </a:moveTo>
                  <a:lnTo>
                    <a:pt x="3868" y="2069"/>
                  </a:lnTo>
                  <a:lnTo>
                    <a:pt x="3727" y="2117"/>
                  </a:lnTo>
                  <a:lnTo>
                    <a:pt x="3590" y="2117"/>
                  </a:lnTo>
                  <a:lnTo>
                    <a:pt x="3453" y="2069"/>
                  </a:lnTo>
                  <a:lnTo>
                    <a:pt x="3312" y="1976"/>
                  </a:lnTo>
                  <a:lnTo>
                    <a:pt x="3176" y="1883"/>
                  </a:lnTo>
                  <a:lnTo>
                    <a:pt x="3039" y="1795"/>
                  </a:lnTo>
                  <a:lnTo>
                    <a:pt x="2898" y="1703"/>
                  </a:lnTo>
                  <a:lnTo>
                    <a:pt x="2809" y="1562"/>
                  </a:lnTo>
                  <a:lnTo>
                    <a:pt x="2668" y="1473"/>
                  </a:lnTo>
                  <a:lnTo>
                    <a:pt x="2576" y="1332"/>
                  </a:lnTo>
                  <a:lnTo>
                    <a:pt x="2439" y="1240"/>
                  </a:lnTo>
                  <a:lnTo>
                    <a:pt x="2302" y="1240"/>
                  </a:lnTo>
                  <a:lnTo>
                    <a:pt x="2161" y="1240"/>
                  </a:lnTo>
                  <a:lnTo>
                    <a:pt x="2024" y="1288"/>
                  </a:lnTo>
                  <a:lnTo>
                    <a:pt x="1887" y="1288"/>
                  </a:lnTo>
                  <a:lnTo>
                    <a:pt x="1750" y="1150"/>
                  </a:lnTo>
                  <a:lnTo>
                    <a:pt x="1609" y="1058"/>
                  </a:lnTo>
                  <a:lnTo>
                    <a:pt x="1516" y="917"/>
                  </a:lnTo>
                  <a:lnTo>
                    <a:pt x="1380" y="824"/>
                  </a:lnTo>
                  <a:lnTo>
                    <a:pt x="1243" y="736"/>
                  </a:lnTo>
                  <a:lnTo>
                    <a:pt x="1102" y="643"/>
                  </a:lnTo>
                  <a:lnTo>
                    <a:pt x="965" y="502"/>
                  </a:lnTo>
                  <a:lnTo>
                    <a:pt x="829" y="414"/>
                  </a:lnTo>
                  <a:lnTo>
                    <a:pt x="692" y="321"/>
                  </a:lnTo>
                  <a:lnTo>
                    <a:pt x="551" y="229"/>
                  </a:lnTo>
                  <a:lnTo>
                    <a:pt x="414" y="92"/>
                  </a:lnTo>
                  <a:lnTo>
                    <a:pt x="423" y="35"/>
                  </a:lnTo>
                  <a:lnTo>
                    <a:pt x="277" y="92"/>
                  </a:lnTo>
                  <a:lnTo>
                    <a:pt x="136" y="44"/>
                  </a:lnTo>
                  <a:lnTo>
                    <a:pt x="0" y="0"/>
                  </a:lnTo>
                  <a:lnTo>
                    <a:pt x="0" y="136"/>
                  </a:lnTo>
                  <a:lnTo>
                    <a:pt x="136" y="136"/>
                  </a:lnTo>
                  <a:lnTo>
                    <a:pt x="277" y="180"/>
                  </a:lnTo>
                  <a:lnTo>
                    <a:pt x="414" y="321"/>
                  </a:lnTo>
                  <a:lnTo>
                    <a:pt x="507" y="458"/>
                  </a:lnTo>
                  <a:lnTo>
                    <a:pt x="458" y="595"/>
                  </a:lnTo>
                  <a:lnTo>
                    <a:pt x="414" y="736"/>
                  </a:lnTo>
                  <a:lnTo>
                    <a:pt x="366" y="873"/>
                  </a:lnTo>
                  <a:lnTo>
                    <a:pt x="321" y="1009"/>
                  </a:lnTo>
                  <a:lnTo>
                    <a:pt x="321" y="1150"/>
                  </a:lnTo>
                  <a:lnTo>
                    <a:pt x="321" y="1288"/>
                  </a:lnTo>
                  <a:lnTo>
                    <a:pt x="366" y="1425"/>
                  </a:lnTo>
                  <a:lnTo>
                    <a:pt x="414" y="1562"/>
                  </a:lnTo>
                  <a:lnTo>
                    <a:pt x="507" y="1703"/>
                  </a:lnTo>
                  <a:lnTo>
                    <a:pt x="551" y="1839"/>
                  </a:lnTo>
                  <a:lnTo>
                    <a:pt x="643" y="1976"/>
                  </a:lnTo>
                  <a:lnTo>
                    <a:pt x="780" y="2069"/>
                  </a:lnTo>
                  <a:lnTo>
                    <a:pt x="873" y="2210"/>
                  </a:lnTo>
                  <a:lnTo>
                    <a:pt x="921" y="2346"/>
                  </a:lnTo>
                  <a:lnTo>
                    <a:pt x="1058" y="2439"/>
                  </a:lnTo>
                  <a:lnTo>
                    <a:pt x="1195" y="2532"/>
                  </a:lnTo>
                  <a:lnTo>
                    <a:pt x="1336" y="2620"/>
                  </a:lnTo>
                  <a:lnTo>
                    <a:pt x="1336" y="2761"/>
                  </a:lnTo>
                  <a:lnTo>
                    <a:pt x="1380" y="2898"/>
                  </a:lnTo>
                  <a:lnTo>
                    <a:pt x="1424" y="3034"/>
                  </a:lnTo>
                  <a:lnTo>
                    <a:pt x="1472" y="3176"/>
                  </a:lnTo>
                  <a:lnTo>
                    <a:pt x="1565" y="3312"/>
                  </a:lnTo>
                  <a:lnTo>
                    <a:pt x="1658" y="3449"/>
                  </a:lnTo>
                  <a:lnTo>
                    <a:pt x="1750" y="3591"/>
                  </a:lnTo>
                  <a:lnTo>
                    <a:pt x="1838" y="3728"/>
                  </a:lnTo>
                  <a:lnTo>
                    <a:pt x="1931" y="3864"/>
                  </a:lnTo>
                  <a:lnTo>
                    <a:pt x="2072" y="3864"/>
                  </a:lnTo>
                  <a:lnTo>
                    <a:pt x="2117" y="3728"/>
                  </a:lnTo>
                  <a:lnTo>
                    <a:pt x="2254" y="3635"/>
                  </a:lnTo>
                  <a:lnTo>
                    <a:pt x="2302" y="3498"/>
                  </a:lnTo>
                  <a:lnTo>
                    <a:pt x="2395" y="3356"/>
                  </a:lnTo>
                  <a:lnTo>
                    <a:pt x="2483" y="3220"/>
                  </a:lnTo>
                  <a:lnTo>
                    <a:pt x="2576" y="3356"/>
                  </a:lnTo>
                  <a:lnTo>
                    <a:pt x="2717" y="3449"/>
                  </a:lnTo>
                  <a:lnTo>
                    <a:pt x="2809" y="3591"/>
                  </a:lnTo>
                  <a:lnTo>
                    <a:pt x="2809" y="3728"/>
                  </a:lnTo>
                  <a:lnTo>
                    <a:pt x="2761" y="3864"/>
                  </a:lnTo>
                  <a:lnTo>
                    <a:pt x="2668" y="4001"/>
                  </a:lnTo>
                  <a:lnTo>
                    <a:pt x="2717" y="4142"/>
                  </a:lnTo>
                  <a:lnTo>
                    <a:pt x="2854" y="4235"/>
                  </a:lnTo>
                  <a:lnTo>
                    <a:pt x="2946" y="4372"/>
                  </a:lnTo>
                  <a:lnTo>
                    <a:pt x="3083" y="4464"/>
                  </a:lnTo>
                  <a:lnTo>
                    <a:pt x="3220" y="4464"/>
                  </a:lnTo>
                  <a:lnTo>
                    <a:pt x="3361" y="4557"/>
                  </a:lnTo>
                  <a:lnTo>
                    <a:pt x="3497" y="4649"/>
                  </a:lnTo>
                  <a:lnTo>
                    <a:pt x="3634" y="4658"/>
                  </a:lnTo>
                  <a:lnTo>
                    <a:pt x="3775" y="4658"/>
                  </a:lnTo>
                  <a:lnTo>
                    <a:pt x="3912" y="4658"/>
                  </a:lnTo>
                  <a:lnTo>
                    <a:pt x="4049" y="4658"/>
                  </a:lnTo>
                  <a:lnTo>
                    <a:pt x="4190" y="4658"/>
                  </a:lnTo>
                  <a:lnTo>
                    <a:pt x="4190" y="4508"/>
                  </a:lnTo>
                  <a:lnTo>
                    <a:pt x="4190" y="4372"/>
                  </a:lnTo>
                  <a:lnTo>
                    <a:pt x="4199" y="4235"/>
                  </a:lnTo>
                  <a:lnTo>
                    <a:pt x="4199" y="4094"/>
                  </a:lnTo>
                  <a:lnTo>
                    <a:pt x="4199" y="3957"/>
                  </a:lnTo>
                  <a:lnTo>
                    <a:pt x="4199" y="3820"/>
                  </a:lnTo>
                  <a:lnTo>
                    <a:pt x="4199" y="3679"/>
                  </a:lnTo>
                  <a:lnTo>
                    <a:pt x="4199" y="3543"/>
                  </a:lnTo>
                  <a:lnTo>
                    <a:pt x="4199" y="3405"/>
                  </a:lnTo>
                  <a:lnTo>
                    <a:pt x="4199" y="3268"/>
                  </a:lnTo>
                  <a:lnTo>
                    <a:pt x="4199" y="3127"/>
                  </a:lnTo>
                  <a:lnTo>
                    <a:pt x="4199" y="2990"/>
                  </a:lnTo>
                  <a:lnTo>
                    <a:pt x="4199" y="2854"/>
                  </a:lnTo>
                  <a:lnTo>
                    <a:pt x="4199" y="2712"/>
                  </a:lnTo>
                  <a:lnTo>
                    <a:pt x="4199" y="2576"/>
                  </a:lnTo>
                  <a:lnTo>
                    <a:pt x="4199" y="2439"/>
                  </a:lnTo>
                  <a:lnTo>
                    <a:pt x="4141" y="2298"/>
                  </a:lnTo>
                  <a:lnTo>
                    <a:pt x="4005" y="2254"/>
                  </a:lnTo>
                  <a:lnTo>
                    <a:pt x="4022" y="2152"/>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4952880" y="4648320"/>
              <a:ext cx="332280" cy="1548000"/>
            </a:xfrm>
            <a:custGeom>
              <a:avLst/>
              <a:gdLst/>
              <a:ahLst/>
              <a:rect l="0" t="0" r="r" b="b"/>
              <a:pathLst>
                <a:path w="923" h="4300">
                  <a:moveTo>
                    <a:pt x="0" y="0"/>
                  </a:moveTo>
                  <a:lnTo>
                    <a:pt x="92" y="154"/>
                  </a:lnTo>
                  <a:lnTo>
                    <a:pt x="185" y="295"/>
                  </a:lnTo>
                  <a:lnTo>
                    <a:pt x="185" y="432"/>
                  </a:lnTo>
                  <a:lnTo>
                    <a:pt x="185" y="568"/>
                  </a:lnTo>
                  <a:lnTo>
                    <a:pt x="185" y="709"/>
                  </a:lnTo>
                  <a:lnTo>
                    <a:pt x="136" y="846"/>
                  </a:lnTo>
                  <a:lnTo>
                    <a:pt x="136" y="983"/>
                  </a:lnTo>
                  <a:lnTo>
                    <a:pt x="136" y="1124"/>
                  </a:lnTo>
                  <a:lnTo>
                    <a:pt x="136" y="1261"/>
                  </a:lnTo>
                  <a:lnTo>
                    <a:pt x="136" y="1397"/>
                  </a:lnTo>
                  <a:lnTo>
                    <a:pt x="136" y="1538"/>
                  </a:lnTo>
                  <a:lnTo>
                    <a:pt x="136" y="1675"/>
                  </a:lnTo>
                  <a:lnTo>
                    <a:pt x="136" y="1812"/>
                  </a:lnTo>
                  <a:lnTo>
                    <a:pt x="185" y="1949"/>
                  </a:lnTo>
                  <a:lnTo>
                    <a:pt x="185" y="2090"/>
                  </a:lnTo>
                  <a:lnTo>
                    <a:pt x="185" y="2227"/>
                  </a:lnTo>
                  <a:lnTo>
                    <a:pt x="229" y="2364"/>
                  </a:lnTo>
                  <a:lnTo>
                    <a:pt x="278" y="2505"/>
                  </a:lnTo>
                  <a:lnTo>
                    <a:pt x="322" y="2642"/>
                  </a:lnTo>
                  <a:lnTo>
                    <a:pt x="415" y="2779"/>
                  </a:lnTo>
                  <a:lnTo>
                    <a:pt x="508" y="2920"/>
                  </a:lnTo>
                  <a:lnTo>
                    <a:pt x="600" y="3056"/>
                  </a:lnTo>
                  <a:lnTo>
                    <a:pt x="600" y="3193"/>
                  </a:lnTo>
                  <a:lnTo>
                    <a:pt x="644" y="3330"/>
                  </a:lnTo>
                  <a:lnTo>
                    <a:pt x="694" y="3471"/>
                  </a:lnTo>
                  <a:lnTo>
                    <a:pt x="782" y="3608"/>
                  </a:lnTo>
                  <a:lnTo>
                    <a:pt x="875" y="3744"/>
                  </a:lnTo>
                  <a:lnTo>
                    <a:pt x="923" y="3885"/>
                  </a:lnTo>
                  <a:lnTo>
                    <a:pt x="923" y="4022"/>
                  </a:lnTo>
                  <a:lnTo>
                    <a:pt x="923" y="4159"/>
                  </a:lnTo>
                  <a:lnTo>
                    <a:pt x="923" y="4300"/>
                  </a:lnTo>
                  <a:lnTo>
                    <a:pt x="848" y="3811"/>
                  </a:lnTo>
                  <a:lnTo>
                    <a:pt x="0" y="0"/>
                  </a:lnTo>
                  <a:close/>
                </a:path>
              </a:pathLst>
            </a:custGeom>
            <a:solidFill>
              <a:srgbClr val="114ffb"/>
            </a:solidFill>
            <a:ln w="12600">
              <a:solidFill>
                <a:srgbClr val="7b00e4"/>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5135400" y="4937040"/>
              <a:ext cx="1573560" cy="1908360"/>
            </a:xfrm>
            <a:custGeom>
              <a:avLst/>
              <a:gdLst/>
              <a:ahLst/>
              <a:rect l="0" t="0" r="r" b="b"/>
              <a:pathLst>
                <a:path w="4371" h="5301">
                  <a:moveTo>
                    <a:pt x="127" y="44"/>
                  </a:moveTo>
                  <a:lnTo>
                    <a:pt x="273" y="180"/>
                  </a:lnTo>
                  <a:lnTo>
                    <a:pt x="273" y="321"/>
                  </a:lnTo>
                  <a:lnTo>
                    <a:pt x="321" y="458"/>
                  </a:lnTo>
                  <a:lnTo>
                    <a:pt x="366" y="595"/>
                  </a:lnTo>
                  <a:lnTo>
                    <a:pt x="414" y="736"/>
                  </a:lnTo>
                  <a:lnTo>
                    <a:pt x="507" y="873"/>
                  </a:lnTo>
                  <a:lnTo>
                    <a:pt x="595" y="1009"/>
                  </a:lnTo>
                  <a:lnTo>
                    <a:pt x="643" y="1146"/>
                  </a:lnTo>
                  <a:lnTo>
                    <a:pt x="736" y="1287"/>
                  </a:lnTo>
                  <a:lnTo>
                    <a:pt x="780" y="1424"/>
                  </a:lnTo>
                  <a:lnTo>
                    <a:pt x="917" y="1516"/>
                  </a:lnTo>
                  <a:lnTo>
                    <a:pt x="965" y="1653"/>
                  </a:lnTo>
                  <a:lnTo>
                    <a:pt x="1058" y="1794"/>
                  </a:lnTo>
                  <a:lnTo>
                    <a:pt x="1150" y="1931"/>
                  </a:lnTo>
                  <a:lnTo>
                    <a:pt x="1195" y="2068"/>
                  </a:lnTo>
                  <a:lnTo>
                    <a:pt x="1243" y="2204"/>
                  </a:lnTo>
                  <a:lnTo>
                    <a:pt x="1331" y="2345"/>
                  </a:lnTo>
                  <a:lnTo>
                    <a:pt x="1424" y="2482"/>
                  </a:lnTo>
                  <a:lnTo>
                    <a:pt x="1516" y="2619"/>
                  </a:lnTo>
                  <a:lnTo>
                    <a:pt x="1653" y="2761"/>
                  </a:lnTo>
                  <a:lnTo>
                    <a:pt x="1746" y="2898"/>
                  </a:lnTo>
                  <a:lnTo>
                    <a:pt x="1794" y="3034"/>
                  </a:lnTo>
                  <a:lnTo>
                    <a:pt x="1887" y="3176"/>
                  </a:lnTo>
                  <a:lnTo>
                    <a:pt x="1975" y="3312"/>
                  </a:lnTo>
                  <a:lnTo>
                    <a:pt x="2068" y="3449"/>
                  </a:lnTo>
                  <a:lnTo>
                    <a:pt x="2160" y="3586"/>
                  </a:lnTo>
                  <a:lnTo>
                    <a:pt x="2302" y="3727"/>
                  </a:lnTo>
                  <a:lnTo>
                    <a:pt x="2391" y="3863"/>
                  </a:lnTo>
                  <a:lnTo>
                    <a:pt x="2439" y="4000"/>
                  </a:lnTo>
                  <a:lnTo>
                    <a:pt x="2439" y="4141"/>
                  </a:lnTo>
                  <a:lnTo>
                    <a:pt x="2439" y="4278"/>
                  </a:lnTo>
                  <a:lnTo>
                    <a:pt x="2439" y="4415"/>
                  </a:lnTo>
                  <a:lnTo>
                    <a:pt x="2483" y="4556"/>
                  </a:lnTo>
                  <a:lnTo>
                    <a:pt x="2483" y="4692"/>
                  </a:lnTo>
                  <a:lnTo>
                    <a:pt x="2576" y="4829"/>
                  </a:lnTo>
                  <a:lnTo>
                    <a:pt x="2712" y="4970"/>
                  </a:lnTo>
                  <a:lnTo>
                    <a:pt x="2805" y="5107"/>
                  </a:lnTo>
                  <a:lnTo>
                    <a:pt x="2946" y="5244"/>
                  </a:lnTo>
                  <a:lnTo>
                    <a:pt x="3083" y="5301"/>
                  </a:lnTo>
                  <a:lnTo>
                    <a:pt x="3220" y="5301"/>
                  </a:lnTo>
                  <a:lnTo>
                    <a:pt x="3361" y="5301"/>
                  </a:lnTo>
                  <a:lnTo>
                    <a:pt x="3497" y="5301"/>
                  </a:lnTo>
                  <a:lnTo>
                    <a:pt x="3634" y="5301"/>
                  </a:lnTo>
                  <a:lnTo>
                    <a:pt x="3771" y="5301"/>
                  </a:lnTo>
                  <a:lnTo>
                    <a:pt x="3912" y="5301"/>
                  </a:lnTo>
                  <a:lnTo>
                    <a:pt x="4049" y="5301"/>
                  </a:lnTo>
                  <a:lnTo>
                    <a:pt x="4185" y="5301"/>
                  </a:lnTo>
                  <a:lnTo>
                    <a:pt x="4326" y="5301"/>
                  </a:lnTo>
                  <a:lnTo>
                    <a:pt x="4371" y="5151"/>
                  </a:lnTo>
                  <a:lnTo>
                    <a:pt x="4278" y="5014"/>
                  </a:lnTo>
                  <a:lnTo>
                    <a:pt x="4234" y="4878"/>
                  </a:lnTo>
                  <a:lnTo>
                    <a:pt x="4185" y="4737"/>
                  </a:lnTo>
                  <a:lnTo>
                    <a:pt x="4093" y="4600"/>
                  </a:lnTo>
                  <a:lnTo>
                    <a:pt x="4005" y="4463"/>
                  </a:lnTo>
                  <a:lnTo>
                    <a:pt x="3912" y="4322"/>
                  </a:lnTo>
                  <a:lnTo>
                    <a:pt x="3863" y="4185"/>
                  </a:lnTo>
                  <a:lnTo>
                    <a:pt x="3771" y="4049"/>
                  </a:lnTo>
                  <a:lnTo>
                    <a:pt x="3634" y="3912"/>
                  </a:lnTo>
                  <a:lnTo>
                    <a:pt x="3542" y="3771"/>
                  </a:lnTo>
                  <a:lnTo>
                    <a:pt x="3405" y="3634"/>
                  </a:lnTo>
                  <a:lnTo>
                    <a:pt x="3268" y="3542"/>
                  </a:lnTo>
                  <a:lnTo>
                    <a:pt x="3176" y="3405"/>
                  </a:lnTo>
                  <a:lnTo>
                    <a:pt x="3034" y="3312"/>
                  </a:lnTo>
                  <a:lnTo>
                    <a:pt x="2946" y="3176"/>
                  </a:lnTo>
                  <a:lnTo>
                    <a:pt x="2898" y="3034"/>
                  </a:lnTo>
                  <a:lnTo>
                    <a:pt x="2854" y="2898"/>
                  </a:lnTo>
                  <a:lnTo>
                    <a:pt x="2805" y="2761"/>
                  </a:lnTo>
                  <a:lnTo>
                    <a:pt x="2712" y="2619"/>
                  </a:lnTo>
                  <a:lnTo>
                    <a:pt x="2624" y="2482"/>
                  </a:lnTo>
                  <a:lnTo>
                    <a:pt x="2532" y="2345"/>
                  </a:lnTo>
                  <a:lnTo>
                    <a:pt x="2439" y="2204"/>
                  </a:lnTo>
                  <a:lnTo>
                    <a:pt x="2346" y="2068"/>
                  </a:lnTo>
                  <a:lnTo>
                    <a:pt x="2254" y="1931"/>
                  </a:lnTo>
                  <a:lnTo>
                    <a:pt x="2210" y="1794"/>
                  </a:lnTo>
                  <a:lnTo>
                    <a:pt x="2068" y="1702"/>
                  </a:lnTo>
                  <a:lnTo>
                    <a:pt x="1931" y="1609"/>
                  </a:lnTo>
                  <a:lnTo>
                    <a:pt x="1838" y="1468"/>
                  </a:lnTo>
                  <a:lnTo>
                    <a:pt x="1702" y="1380"/>
                  </a:lnTo>
                  <a:lnTo>
                    <a:pt x="1565" y="1287"/>
                  </a:lnTo>
                  <a:lnTo>
                    <a:pt x="1424" y="1195"/>
                  </a:lnTo>
                  <a:lnTo>
                    <a:pt x="1287" y="1102"/>
                  </a:lnTo>
                  <a:lnTo>
                    <a:pt x="1150" y="965"/>
                  </a:lnTo>
                  <a:lnTo>
                    <a:pt x="1009" y="824"/>
                  </a:lnTo>
                  <a:lnTo>
                    <a:pt x="965" y="687"/>
                  </a:lnTo>
                  <a:lnTo>
                    <a:pt x="965" y="551"/>
                  </a:lnTo>
                  <a:lnTo>
                    <a:pt x="1009" y="410"/>
                  </a:lnTo>
                  <a:lnTo>
                    <a:pt x="1058" y="273"/>
                  </a:lnTo>
                  <a:lnTo>
                    <a:pt x="1102" y="136"/>
                  </a:lnTo>
                  <a:lnTo>
                    <a:pt x="1102" y="0"/>
                  </a:lnTo>
                  <a:lnTo>
                    <a:pt x="965" y="44"/>
                  </a:lnTo>
                  <a:lnTo>
                    <a:pt x="873" y="180"/>
                  </a:lnTo>
                  <a:lnTo>
                    <a:pt x="780" y="321"/>
                  </a:lnTo>
                  <a:lnTo>
                    <a:pt x="687" y="458"/>
                  </a:lnTo>
                  <a:lnTo>
                    <a:pt x="687" y="595"/>
                  </a:lnTo>
                  <a:lnTo>
                    <a:pt x="551" y="502"/>
                  </a:lnTo>
                  <a:lnTo>
                    <a:pt x="507" y="366"/>
                  </a:lnTo>
                  <a:lnTo>
                    <a:pt x="414" y="229"/>
                  </a:lnTo>
                  <a:lnTo>
                    <a:pt x="273" y="180"/>
                  </a:lnTo>
                  <a:lnTo>
                    <a:pt x="136" y="88"/>
                  </a:lnTo>
                  <a:lnTo>
                    <a:pt x="0" y="44"/>
                  </a:lnTo>
                  <a:lnTo>
                    <a:pt x="127" y="44"/>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0" y="762120"/>
              <a:ext cx="6510600" cy="4091400"/>
            </a:xfrm>
            <a:custGeom>
              <a:avLst/>
              <a:gdLst/>
              <a:ahLst/>
              <a:rect l="0" t="0" r="r" b="b"/>
              <a:pathLst>
                <a:path w="18085" h="11365">
                  <a:moveTo>
                    <a:pt x="3175" y="0"/>
                  </a:moveTo>
                  <a:lnTo>
                    <a:pt x="3311" y="136"/>
                  </a:lnTo>
                  <a:lnTo>
                    <a:pt x="3404" y="277"/>
                  </a:lnTo>
                  <a:lnTo>
                    <a:pt x="3541" y="366"/>
                  </a:lnTo>
                  <a:lnTo>
                    <a:pt x="3633" y="507"/>
                  </a:lnTo>
                  <a:lnTo>
                    <a:pt x="3726" y="643"/>
                  </a:lnTo>
                  <a:lnTo>
                    <a:pt x="3774" y="780"/>
                  </a:lnTo>
                  <a:lnTo>
                    <a:pt x="3818" y="921"/>
                  </a:lnTo>
                  <a:lnTo>
                    <a:pt x="3867" y="1058"/>
                  </a:lnTo>
                  <a:lnTo>
                    <a:pt x="3867" y="1195"/>
                  </a:lnTo>
                  <a:lnTo>
                    <a:pt x="3867" y="1336"/>
                  </a:lnTo>
                  <a:lnTo>
                    <a:pt x="3867" y="1472"/>
                  </a:lnTo>
                  <a:lnTo>
                    <a:pt x="3867" y="1609"/>
                  </a:lnTo>
                  <a:lnTo>
                    <a:pt x="3818" y="1750"/>
                  </a:lnTo>
                  <a:lnTo>
                    <a:pt x="3818" y="1887"/>
                  </a:lnTo>
                  <a:lnTo>
                    <a:pt x="3818" y="2024"/>
                  </a:lnTo>
                  <a:lnTo>
                    <a:pt x="3818" y="2160"/>
                  </a:lnTo>
                  <a:lnTo>
                    <a:pt x="3818" y="2301"/>
                  </a:lnTo>
                  <a:lnTo>
                    <a:pt x="3726" y="2438"/>
                  </a:lnTo>
                  <a:lnTo>
                    <a:pt x="3589" y="2531"/>
                  </a:lnTo>
                  <a:lnTo>
                    <a:pt x="3496" y="2667"/>
                  </a:lnTo>
                  <a:lnTo>
                    <a:pt x="3404" y="2808"/>
                  </a:lnTo>
                  <a:lnTo>
                    <a:pt x="3267" y="2898"/>
                  </a:lnTo>
                  <a:lnTo>
                    <a:pt x="3130" y="2808"/>
                  </a:lnTo>
                  <a:lnTo>
                    <a:pt x="2989" y="2716"/>
                  </a:lnTo>
                  <a:lnTo>
                    <a:pt x="2853" y="2623"/>
                  </a:lnTo>
                  <a:lnTo>
                    <a:pt x="2716" y="2531"/>
                  </a:lnTo>
                  <a:lnTo>
                    <a:pt x="2575" y="2482"/>
                  </a:lnTo>
                  <a:lnTo>
                    <a:pt x="2438" y="2482"/>
                  </a:lnTo>
                  <a:lnTo>
                    <a:pt x="2301" y="2438"/>
                  </a:lnTo>
                  <a:lnTo>
                    <a:pt x="1979" y="2438"/>
                  </a:lnTo>
                  <a:lnTo>
                    <a:pt x="1838" y="2394"/>
                  </a:lnTo>
                  <a:lnTo>
                    <a:pt x="1702" y="2394"/>
                  </a:lnTo>
                  <a:lnTo>
                    <a:pt x="1565" y="2394"/>
                  </a:lnTo>
                  <a:lnTo>
                    <a:pt x="1424" y="2345"/>
                  </a:lnTo>
                  <a:lnTo>
                    <a:pt x="1287" y="2301"/>
                  </a:lnTo>
                  <a:lnTo>
                    <a:pt x="1150" y="2253"/>
                  </a:lnTo>
                  <a:lnTo>
                    <a:pt x="1014" y="2209"/>
                  </a:lnTo>
                  <a:lnTo>
                    <a:pt x="873" y="2160"/>
                  </a:lnTo>
                  <a:lnTo>
                    <a:pt x="780" y="2301"/>
                  </a:lnTo>
                  <a:lnTo>
                    <a:pt x="780" y="2438"/>
                  </a:lnTo>
                  <a:lnTo>
                    <a:pt x="780" y="2575"/>
                  </a:lnTo>
                  <a:lnTo>
                    <a:pt x="780" y="2716"/>
                  </a:lnTo>
                  <a:lnTo>
                    <a:pt x="780" y="2854"/>
                  </a:lnTo>
                  <a:lnTo>
                    <a:pt x="780" y="2990"/>
                  </a:lnTo>
                  <a:lnTo>
                    <a:pt x="780" y="3131"/>
                  </a:lnTo>
                  <a:lnTo>
                    <a:pt x="780" y="3268"/>
                  </a:lnTo>
                  <a:lnTo>
                    <a:pt x="780" y="3405"/>
                  </a:lnTo>
                  <a:lnTo>
                    <a:pt x="780" y="3542"/>
                  </a:lnTo>
                  <a:lnTo>
                    <a:pt x="780" y="3683"/>
                  </a:lnTo>
                  <a:lnTo>
                    <a:pt x="643" y="3727"/>
                  </a:lnTo>
                  <a:lnTo>
                    <a:pt x="551" y="3868"/>
                  </a:lnTo>
                  <a:lnTo>
                    <a:pt x="414" y="4005"/>
                  </a:lnTo>
                  <a:lnTo>
                    <a:pt x="366" y="4141"/>
                  </a:lnTo>
                  <a:lnTo>
                    <a:pt x="321" y="4278"/>
                  </a:lnTo>
                  <a:lnTo>
                    <a:pt x="321" y="4419"/>
                  </a:lnTo>
                  <a:lnTo>
                    <a:pt x="321" y="4556"/>
                  </a:lnTo>
                  <a:lnTo>
                    <a:pt x="321" y="4692"/>
                  </a:lnTo>
                  <a:lnTo>
                    <a:pt x="321" y="4834"/>
                  </a:lnTo>
                  <a:lnTo>
                    <a:pt x="366" y="4970"/>
                  </a:lnTo>
                  <a:lnTo>
                    <a:pt x="366" y="5107"/>
                  </a:lnTo>
                  <a:lnTo>
                    <a:pt x="414" y="5248"/>
                  </a:lnTo>
                  <a:lnTo>
                    <a:pt x="414" y="5385"/>
                  </a:lnTo>
                  <a:lnTo>
                    <a:pt x="414" y="5521"/>
                  </a:lnTo>
                  <a:lnTo>
                    <a:pt x="414" y="5658"/>
                  </a:lnTo>
                  <a:lnTo>
                    <a:pt x="551" y="5707"/>
                  </a:lnTo>
                  <a:lnTo>
                    <a:pt x="692" y="5751"/>
                  </a:lnTo>
                  <a:lnTo>
                    <a:pt x="829" y="5751"/>
                  </a:lnTo>
                  <a:lnTo>
                    <a:pt x="921" y="5892"/>
                  </a:lnTo>
                  <a:lnTo>
                    <a:pt x="1058" y="6029"/>
                  </a:lnTo>
                  <a:lnTo>
                    <a:pt x="1150" y="6165"/>
                  </a:lnTo>
                  <a:lnTo>
                    <a:pt x="1287" y="6214"/>
                  </a:lnTo>
                  <a:lnTo>
                    <a:pt x="1424" y="6214"/>
                  </a:lnTo>
                  <a:lnTo>
                    <a:pt x="1565" y="6214"/>
                  </a:lnTo>
                  <a:lnTo>
                    <a:pt x="1702" y="6214"/>
                  </a:lnTo>
                  <a:lnTo>
                    <a:pt x="1838" y="6214"/>
                  </a:lnTo>
                  <a:lnTo>
                    <a:pt x="1979" y="6214"/>
                  </a:lnTo>
                  <a:lnTo>
                    <a:pt x="2116" y="6214"/>
                  </a:lnTo>
                  <a:lnTo>
                    <a:pt x="2253" y="6214"/>
                  </a:lnTo>
                  <a:lnTo>
                    <a:pt x="2394" y="6214"/>
                  </a:lnTo>
                  <a:lnTo>
                    <a:pt x="2531" y="6214"/>
                  </a:lnTo>
                  <a:lnTo>
                    <a:pt x="2667" y="6214"/>
                  </a:lnTo>
                  <a:lnTo>
                    <a:pt x="2808" y="6214"/>
                  </a:lnTo>
                  <a:lnTo>
                    <a:pt x="2945" y="6214"/>
                  </a:lnTo>
                  <a:lnTo>
                    <a:pt x="3038" y="6073"/>
                  </a:lnTo>
                  <a:lnTo>
                    <a:pt x="3175" y="6029"/>
                  </a:lnTo>
                  <a:lnTo>
                    <a:pt x="3267" y="5892"/>
                  </a:lnTo>
                  <a:lnTo>
                    <a:pt x="3404" y="5799"/>
                  </a:lnTo>
                  <a:lnTo>
                    <a:pt x="3541" y="5658"/>
                  </a:lnTo>
                  <a:lnTo>
                    <a:pt x="3682" y="5521"/>
                  </a:lnTo>
                  <a:lnTo>
                    <a:pt x="3818" y="5429"/>
                  </a:lnTo>
                  <a:lnTo>
                    <a:pt x="3818" y="5292"/>
                  </a:lnTo>
                  <a:lnTo>
                    <a:pt x="3818" y="5155"/>
                  </a:lnTo>
                  <a:lnTo>
                    <a:pt x="3818" y="4741"/>
                  </a:lnTo>
                  <a:lnTo>
                    <a:pt x="3911" y="4600"/>
                  </a:lnTo>
                  <a:lnTo>
                    <a:pt x="4048" y="4556"/>
                  </a:lnTo>
                  <a:lnTo>
                    <a:pt x="4189" y="4512"/>
                  </a:lnTo>
                  <a:lnTo>
                    <a:pt x="4325" y="4463"/>
                  </a:lnTo>
                  <a:lnTo>
                    <a:pt x="4462" y="4419"/>
                  </a:lnTo>
                  <a:lnTo>
                    <a:pt x="4599" y="4326"/>
                  </a:lnTo>
                  <a:lnTo>
                    <a:pt x="4691" y="4190"/>
                  </a:lnTo>
                  <a:lnTo>
                    <a:pt x="4784" y="4049"/>
                  </a:lnTo>
                  <a:lnTo>
                    <a:pt x="4833" y="3912"/>
                  </a:lnTo>
                  <a:lnTo>
                    <a:pt x="4877" y="3775"/>
                  </a:lnTo>
                  <a:lnTo>
                    <a:pt x="5013" y="3634"/>
                  </a:lnTo>
                  <a:lnTo>
                    <a:pt x="5106" y="3497"/>
                  </a:lnTo>
                  <a:lnTo>
                    <a:pt x="5247" y="3453"/>
                  </a:lnTo>
                  <a:lnTo>
                    <a:pt x="5384" y="3405"/>
                  </a:lnTo>
                  <a:lnTo>
                    <a:pt x="5520" y="3405"/>
                  </a:lnTo>
                  <a:lnTo>
                    <a:pt x="5657" y="3453"/>
                  </a:lnTo>
                  <a:lnTo>
                    <a:pt x="5798" y="3497"/>
                  </a:lnTo>
                  <a:lnTo>
                    <a:pt x="5935" y="3542"/>
                  </a:lnTo>
                  <a:lnTo>
                    <a:pt x="6072" y="3590"/>
                  </a:lnTo>
                  <a:lnTo>
                    <a:pt x="6213" y="3590"/>
                  </a:lnTo>
                  <a:lnTo>
                    <a:pt x="6350" y="3590"/>
                  </a:lnTo>
                  <a:lnTo>
                    <a:pt x="6486" y="3590"/>
                  </a:lnTo>
                  <a:lnTo>
                    <a:pt x="6627" y="3497"/>
                  </a:lnTo>
                  <a:lnTo>
                    <a:pt x="6764" y="3405"/>
                  </a:lnTo>
                  <a:lnTo>
                    <a:pt x="6901" y="3361"/>
                  </a:lnTo>
                  <a:lnTo>
                    <a:pt x="7042" y="3361"/>
                  </a:lnTo>
                  <a:lnTo>
                    <a:pt x="7179" y="3361"/>
                  </a:lnTo>
                  <a:lnTo>
                    <a:pt x="7315" y="3361"/>
                  </a:lnTo>
                  <a:lnTo>
                    <a:pt x="7452" y="3453"/>
                  </a:lnTo>
                  <a:lnTo>
                    <a:pt x="7593" y="3497"/>
                  </a:lnTo>
                  <a:lnTo>
                    <a:pt x="7637" y="3634"/>
                  </a:lnTo>
                  <a:lnTo>
                    <a:pt x="7637" y="3775"/>
                  </a:lnTo>
                  <a:lnTo>
                    <a:pt x="7637" y="3912"/>
                  </a:lnTo>
                  <a:lnTo>
                    <a:pt x="7637" y="4049"/>
                  </a:lnTo>
                  <a:lnTo>
                    <a:pt x="7637" y="4190"/>
                  </a:lnTo>
                  <a:lnTo>
                    <a:pt x="7686" y="4326"/>
                  </a:lnTo>
                  <a:lnTo>
                    <a:pt x="7774" y="4463"/>
                  </a:lnTo>
                  <a:lnTo>
                    <a:pt x="7866" y="4600"/>
                  </a:lnTo>
                  <a:lnTo>
                    <a:pt x="7959" y="4741"/>
                  </a:lnTo>
                  <a:lnTo>
                    <a:pt x="8100" y="4834"/>
                  </a:lnTo>
                  <a:lnTo>
                    <a:pt x="8188" y="4970"/>
                  </a:lnTo>
                  <a:lnTo>
                    <a:pt x="8329" y="5063"/>
                  </a:lnTo>
                  <a:lnTo>
                    <a:pt x="8466" y="5155"/>
                  </a:lnTo>
                  <a:lnTo>
                    <a:pt x="8559" y="5292"/>
                  </a:lnTo>
                  <a:lnTo>
                    <a:pt x="8651" y="5429"/>
                  </a:lnTo>
                  <a:lnTo>
                    <a:pt x="8744" y="5570"/>
                  </a:lnTo>
                  <a:lnTo>
                    <a:pt x="8881" y="5658"/>
                  </a:lnTo>
                  <a:lnTo>
                    <a:pt x="8973" y="5799"/>
                  </a:lnTo>
                  <a:lnTo>
                    <a:pt x="9017" y="5936"/>
                  </a:lnTo>
                  <a:lnTo>
                    <a:pt x="9111" y="6073"/>
                  </a:lnTo>
                  <a:lnTo>
                    <a:pt x="9159" y="6214"/>
                  </a:lnTo>
                  <a:lnTo>
                    <a:pt x="9204" y="6351"/>
                  </a:lnTo>
                  <a:lnTo>
                    <a:pt x="9248" y="6487"/>
                  </a:lnTo>
                  <a:lnTo>
                    <a:pt x="9248" y="6628"/>
                  </a:lnTo>
                  <a:lnTo>
                    <a:pt x="9248" y="6765"/>
                  </a:lnTo>
                  <a:lnTo>
                    <a:pt x="9248" y="6902"/>
                  </a:lnTo>
                  <a:lnTo>
                    <a:pt x="9248" y="7043"/>
                  </a:lnTo>
                  <a:lnTo>
                    <a:pt x="9389" y="7180"/>
                  </a:lnTo>
                  <a:lnTo>
                    <a:pt x="9526" y="7272"/>
                  </a:lnTo>
                  <a:lnTo>
                    <a:pt x="9662" y="7272"/>
                  </a:lnTo>
                  <a:lnTo>
                    <a:pt x="9755" y="7131"/>
                  </a:lnTo>
                  <a:lnTo>
                    <a:pt x="9803" y="6994"/>
                  </a:lnTo>
                  <a:lnTo>
                    <a:pt x="9847" y="6858"/>
                  </a:lnTo>
                  <a:lnTo>
                    <a:pt x="9847" y="6717"/>
                  </a:lnTo>
                  <a:lnTo>
                    <a:pt x="9803" y="6580"/>
                  </a:lnTo>
                  <a:lnTo>
                    <a:pt x="9803" y="6443"/>
                  </a:lnTo>
                  <a:lnTo>
                    <a:pt x="9803" y="6306"/>
                  </a:lnTo>
                  <a:lnTo>
                    <a:pt x="9803" y="6165"/>
                  </a:lnTo>
                  <a:lnTo>
                    <a:pt x="9940" y="6121"/>
                  </a:lnTo>
                  <a:lnTo>
                    <a:pt x="10077" y="6121"/>
                  </a:lnTo>
                  <a:lnTo>
                    <a:pt x="10218" y="6165"/>
                  </a:lnTo>
                  <a:lnTo>
                    <a:pt x="10355" y="6214"/>
                  </a:lnTo>
                  <a:lnTo>
                    <a:pt x="10399" y="6073"/>
                  </a:lnTo>
                  <a:lnTo>
                    <a:pt x="10399" y="5936"/>
                  </a:lnTo>
                  <a:lnTo>
                    <a:pt x="10355" y="5799"/>
                  </a:lnTo>
                  <a:lnTo>
                    <a:pt x="10306" y="5658"/>
                  </a:lnTo>
                  <a:lnTo>
                    <a:pt x="10169" y="5614"/>
                  </a:lnTo>
                  <a:lnTo>
                    <a:pt x="10033" y="5477"/>
                  </a:lnTo>
                  <a:lnTo>
                    <a:pt x="9940" y="5336"/>
                  </a:lnTo>
                  <a:lnTo>
                    <a:pt x="9803" y="5248"/>
                  </a:lnTo>
                  <a:lnTo>
                    <a:pt x="9711" y="5107"/>
                  </a:lnTo>
                  <a:lnTo>
                    <a:pt x="9570" y="5014"/>
                  </a:lnTo>
                  <a:lnTo>
                    <a:pt x="9433" y="4926"/>
                  </a:lnTo>
                  <a:lnTo>
                    <a:pt x="9340" y="4785"/>
                  </a:lnTo>
                  <a:lnTo>
                    <a:pt x="9296" y="4648"/>
                  </a:lnTo>
                  <a:lnTo>
                    <a:pt x="9248" y="4512"/>
                  </a:lnTo>
                  <a:lnTo>
                    <a:pt x="9204" y="4371"/>
                  </a:lnTo>
                  <a:lnTo>
                    <a:pt x="9111" y="4234"/>
                  </a:lnTo>
                  <a:lnTo>
                    <a:pt x="9017" y="4097"/>
                  </a:lnTo>
                  <a:lnTo>
                    <a:pt x="8881" y="3956"/>
                  </a:lnTo>
                  <a:lnTo>
                    <a:pt x="8832" y="3819"/>
                  </a:lnTo>
                  <a:lnTo>
                    <a:pt x="8744" y="3683"/>
                  </a:lnTo>
                  <a:lnTo>
                    <a:pt x="8651" y="3542"/>
                  </a:lnTo>
                  <a:lnTo>
                    <a:pt x="8559" y="3405"/>
                  </a:lnTo>
                  <a:lnTo>
                    <a:pt x="8466" y="3268"/>
                  </a:lnTo>
                  <a:lnTo>
                    <a:pt x="8374" y="3131"/>
                  </a:lnTo>
                  <a:lnTo>
                    <a:pt x="8422" y="2990"/>
                  </a:lnTo>
                  <a:lnTo>
                    <a:pt x="8559" y="2946"/>
                  </a:lnTo>
                  <a:lnTo>
                    <a:pt x="8695" y="2946"/>
                  </a:lnTo>
                  <a:lnTo>
                    <a:pt x="8832" y="2946"/>
                  </a:lnTo>
                  <a:lnTo>
                    <a:pt x="8973" y="3039"/>
                  </a:lnTo>
                  <a:lnTo>
                    <a:pt x="9067" y="3176"/>
                  </a:lnTo>
                  <a:lnTo>
                    <a:pt x="9204" y="3312"/>
                  </a:lnTo>
                  <a:lnTo>
                    <a:pt x="9296" y="3453"/>
                  </a:lnTo>
                  <a:lnTo>
                    <a:pt x="9389" y="3590"/>
                  </a:lnTo>
                  <a:lnTo>
                    <a:pt x="9433" y="3727"/>
                  </a:lnTo>
                  <a:lnTo>
                    <a:pt x="9526" y="3868"/>
                  </a:lnTo>
                  <a:lnTo>
                    <a:pt x="9662" y="4005"/>
                  </a:lnTo>
                  <a:lnTo>
                    <a:pt x="9711" y="4141"/>
                  </a:lnTo>
                  <a:lnTo>
                    <a:pt x="9847" y="4278"/>
                  </a:lnTo>
                  <a:lnTo>
                    <a:pt x="9940" y="4419"/>
                  </a:lnTo>
                  <a:lnTo>
                    <a:pt x="10077" y="4556"/>
                  </a:lnTo>
                  <a:lnTo>
                    <a:pt x="10125" y="4692"/>
                  </a:lnTo>
                  <a:lnTo>
                    <a:pt x="10218" y="4834"/>
                  </a:lnTo>
                  <a:lnTo>
                    <a:pt x="10355" y="4970"/>
                  </a:lnTo>
                  <a:lnTo>
                    <a:pt x="10491" y="5107"/>
                  </a:lnTo>
                  <a:lnTo>
                    <a:pt x="10628" y="5248"/>
                  </a:lnTo>
                  <a:lnTo>
                    <a:pt x="10721" y="5385"/>
                  </a:lnTo>
                  <a:lnTo>
                    <a:pt x="10813" y="5521"/>
                  </a:lnTo>
                  <a:lnTo>
                    <a:pt x="10862" y="5658"/>
                  </a:lnTo>
                  <a:lnTo>
                    <a:pt x="10906" y="5799"/>
                  </a:lnTo>
                  <a:lnTo>
                    <a:pt x="10906" y="5936"/>
                  </a:lnTo>
                  <a:lnTo>
                    <a:pt x="10906" y="6073"/>
                  </a:lnTo>
                  <a:lnTo>
                    <a:pt x="10906" y="6214"/>
                  </a:lnTo>
                  <a:lnTo>
                    <a:pt x="10906" y="6351"/>
                  </a:lnTo>
                  <a:lnTo>
                    <a:pt x="11042" y="6443"/>
                  </a:lnTo>
                  <a:lnTo>
                    <a:pt x="11184" y="6536"/>
                  </a:lnTo>
                  <a:lnTo>
                    <a:pt x="11276" y="6672"/>
                  </a:lnTo>
                  <a:lnTo>
                    <a:pt x="11276" y="6809"/>
                  </a:lnTo>
                  <a:lnTo>
                    <a:pt x="11276" y="6950"/>
                  </a:lnTo>
                  <a:lnTo>
                    <a:pt x="11276" y="7087"/>
                  </a:lnTo>
                  <a:lnTo>
                    <a:pt x="11413" y="7180"/>
                  </a:lnTo>
                  <a:lnTo>
                    <a:pt x="11550" y="7272"/>
                  </a:lnTo>
                  <a:lnTo>
                    <a:pt x="11686" y="7365"/>
                  </a:lnTo>
                  <a:lnTo>
                    <a:pt x="11827" y="7453"/>
                  </a:lnTo>
                  <a:lnTo>
                    <a:pt x="11964" y="7546"/>
                  </a:lnTo>
                  <a:lnTo>
                    <a:pt x="12101" y="7546"/>
                  </a:lnTo>
                  <a:lnTo>
                    <a:pt x="12242" y="7546"/>
                  </a:lnTo>
                  <a:lnTo>
                    <a:pt x="12379" y="7501"/>
                  </a:lnTo>
                  <a:lnTo>
                    <a:pt x="12471" y="7365"/>
                  </a:lnTo>
                  <a:lnTo>
                    <a:pt x="12564" y="7224"/>
                  </a:lnTo>
                  <a:lnTo>
                    <a:pt x="12608" y="7087"/>
                  </a:lnTo>
                  <a:lnTo>
                    <a:pt x="12656" y="6950"/>
                  </a:lnTo>
                  <a:lnTo>
                    <a:pt x="12608" y="6809"/>
                  </a:lnTo>
                  <a:lnTo>
                    <a:pt x="12515" y="6672"/>
                  </a:lnTo>
                  <a:lnTo>
                    <a:pt x="12423" y="6536"/>
                  </a:lnTo>
                  <a:lnTo>
                    <a:pt x="12334" y="6395"/>
                  </a:lnTo>
                  <a:lnTo>
                    <a:pt x="12286" y="6258"/>
                  </a:lnTo>
                  <a:lnTo>
                    <a:pt x="12286" y="6121"/>
                  </a:lnTo>
                  <a:lnTo>
                    <a:pt x="12423" y="5984"/>
                  </a:lnTo>
                  <a:lnTo>
                    <a:pt x="12564" y="5892"/>
                  </a:lnTo>
                  <a:lnTo>
                    <a:pt x="12701" y="5843"/>
                  </a:lnTo>
                  <a:lnTo>
                    <a:pt x="12837" y="5799"/>
                  </a:lnTo>
                  <a:lnTo>
                    <a:pt x="12978" y="5707"/>
                  </a:lnTo>
                  <a:lnTo>
                    <a:pt x="13115" y="5614"/>
                  </a:lnTo>
                  <a:lnTo>
                    <a:pt x="13159" y="5248"/>
                  </a:lnTo>
                  <a:lnTo>
                    <a:pt x="13208" y="4878"/>
                  </a:lnTo>
                  <a:lnTo>
                    <a:pt x="13344" y="4834"/>
                  </a:lnTo>
                  <a:lnTo>
                    <a:pt x="13481" y="4834"/>
                  </a:lnTo>
                  <a:lnTo>
                    <a:pt x="13622" y="4834"/>
                  </a:lnTo>
                  <a:lnTo>
                    <a:pt x="13759" y="4878"/>
                  </a:lnTo>
                  <a:lnTo>
                    <a:pt x="13896" y="4970"/>
                  </a:lnTo>
                  <a:lnTo>
                    <a:pt x="14037" y="5063"/>
                  </a:lnTo>
                  <a:lnTo>
                    <a:pt x="14173" y="5107"/>
                  </a:lnTo>
                  <a:lnTo>
                    <a:pt x="14266" y="4970"/>
                  </a:lnTo>
                  <a:lnTo>
                    <a:pt x="14266" y="4834"/>
                  </a:lnTo>
                  <a:lnTo>
                    <a:pt x="14266" y="4692"/>
                  </a:lnTo>
                  <a:lnTo>
                    <a:pt x="14173" y="4556"/>
                  </a:lnTo>
                  <a:lnTo>
                    <a:pt x="14081" y="4419"/>
                  </a:lnTo>
                  <a:lnTo>
                    <a:pt x="14037" y="4278"/>
                  </a:lnTo>
                  <a:lnTo>
                    <a:pt x="14037" y="4141"/>
                  </a:lnTo>
                  <a:lnTo>
                    <a:pt x="14037" y="4005"/>
                  </a:lnTo>
                  <a:lnTo>
                    <a:pt x="14037" y="3868"/>
                  </a:lnTo>
                  <a:lnTo>
                    <a:pt x="14037" y="3727"/>
                  </a:lnTo>
                  <a:lnTo>
                    <a:pt x="14037" y="3590"/>
                  </a:lnTo>
                  <a:lnTo>
                    <a:pt x="14037" y="3453"/>
                  </a:lnTo>
                  <a:lnTo>
                    <a:pt x="14037" y="3312"/>
                  </a:lnTo>
                  <a:lnTo>
                    <a:pt x="14081" y="2946"/>
                  </a:lnTo>
                  <a:lnTo>
                    <a:pt x="14081" y="2808"/>
                  </a:lnTo>
                  <a:lnTo>
                    <a:pt x="14125" y="2667"/>
                  </a:lnTo>
                  <a:lnTo>
                    <a:pt x="14266" y="2531"/>
                  </a:lnTo>
                  <a:lnTo>
                    <a:pt x="14403" y="2482"/>
                  </a:lnTo>
                  <a:lnTo>
                    <a:pt x="14539" y="2394"/>
                  </a:lnTo>
                  <a:lnTo>
                    <a:pt x="14680" y="2345"/>
                  </a:lnTo>
                  <a:lnTo>
                    <a:pt x="14817" y="2301"/>
                  </a:lnTo>
                  <a:lnTo>
                    <a:pt x="14954" y="2301"/>
                  </a:lnTo>
                  <a:lnTo>
                    <a:pt x="15095" y="2301"/>
                  </a:lnTo>
                  <a:lnTo>
                    <a:pt x="15232" y="2438"/>
                  </a:lnTo>
                  <a:lnTo>
                    <a:pt x="15324" y="2575"/>
                  </a:lnTo>
                  <a:lnTo>
                    <a:pt x="15324" y="2716"/>
                  </a:lnTo>
                  <a:lnTo>
                    <a:pt x="15417" y="2854"/>
                  </a:lnTo>
                  <a:lnTo>
                    <a:pt x="15554" y="2946"/>
                  </a:lnTo>
                  <a:lnTo>
                    <a:pt x="15690" y="3083"/>
                  </a:lnTo>
                  <a:lnTo>
                    <a:pt x="15831" y="3131"/>
                  </a:lnTo>
                  <a:lnTo>
                    <a:pt x="15968" y="3131"/>
                  </a:lnTo>
                  <a:lnTo>
                    <a:pt x="16105" y="3083"/>
                  </a:lnTo>
                  <a:lnTo>
                    <a:pt x="16197" y="2946"/>
                  </a:lnTo>
                  <a:lnTo>
                    <a:pt x="16290" y="2808"/>
                  </a:lnTo>
                  <a:lnTo>
                    <a:pt x="16334" y="2667"/>
                  </a:lnTo>
                  <a:lnTo>
                    <a:pt x="16290" y="2531"/>
                  </a:lnTo>
                  <a:lnTo>
                    <a:pt x="16197" y="2394"/>
                  </a:lnTo>
                  <a:lnTo>
                    <a:pt x="16105" y="2253"/>
                  </a:lnTo>
                  <a:lnTo>
                    <a:pt x="16105" y="2116"/>
                  </a:lnTo>
                  <a:lnTo>
                    <a:pt x="16105" y="1979"/>
                  </a:lnTo>
                  <a:lnTo>
                    <a:pt x="16197" y="1838"/>
                  </a:lnTo>
                  <a:lnTo>
                    <a:pt x="16334" y="1750"/>
                  </a:lnTo>
                  <a:lnTo>
                    <a:pt x="16475" y="1702"/>
                  </a:lnTo>
                  <a:lnTo>
                    <a:pt x="16612" y="1609"/>
                  </a:lnTo>
                  <a:lnTo>
                    <a:pt x="16656" y="1750"/>
                  </a:lnTo>
                  <a:lnTo>
                    <a:pt x="16749" y="1887"/>
                  </a:lnTo>
                  <a:lnTo>
                    <a:pt x="16841" y="2024"/>
                  </a:lnTo>
                  <a:lnTo>
                    <a:pt x="16797" y="2160"/>
                  </a:lnTo>
                  <a:lnTo>
                    <a:pt x="16705" y="2301"/>
                  </a:lnTo>
                  <a:lnTo>
                    <a:pt x="16612" y="2438"/>
                  </a:lnTo>
                  <a:lnTo>
                    <a:pt x="16612" y="2575"/>
                  </a:lnTo>
                  <a:lnTo>
                    <a:pt x="16612" y="2716"/>
                  </a:lnTo>
                  <a:lnTo>
                    <a:pt x="16749" y="2808"/>
                  </a:lnTo>
                  <a:lnTo>
                    <a:pt x="16890" y="2946"/>
                  </a:lnTo>
                  <a:lnTo>
                    <a:pt x="17026" y="2990"/>
                  </a:lnTo>
                  <a:lnTo>
                    <a:pt x="17163" y="3039"/>
                  </a:lnTo>
                  <a:lnTo>
                    <a:pt x="17300" y="3131"/>
                  </a:lnTo>
                  <a:lnTo>
                    <a:pt x="17441" y="3176"/>
                  </a:lnTo>
                  <a:lnTo>
                    <a:pt x="17578" y="3220"/>
                  </a:lnTo>
                  <a:lnTo>
                    <a:pt x="17714" y="3312"/>
                  </a:lnTo>
                  <a:lnTo>
                    <a:pt x="17855" y="3453"/>
                  </a:lnTo>
                  <a:lnTo>
                    <a:pt x="17948" y="3590"/>
                  </a:lnTo>
                  <a:lnTo>
                    <a:pt x="18036" y="3727"/>
                  </a:lnTo>
                  <a:lnTo>
                    <a:pt x="18085" y="3868"/>
                  </a:lnTo>
                  <a:lnTo>
                    <a:pt x="17992" y="4005"/>
                  </a:lnTo>
                  <a:lnTo>
                    <a:pt x="17948" y="4141"/>
                  </a:lnTo>
                  <a:lnTo>
                    <a:pt x="17807" y="4190"/>
                  </a:lnTo>
                  <a:lnTo>
                    <a:pt x="17670" y="4190"/>
                  </a:lnTo>
                  <a:lnTo>
                    <a:pt x="17534" y="4190"/>
                  </a:lnTo>
                  <a:lnTo>
                    <a:pt x="17392" y="4190"/>
                  </a:lnTo>
                  <a:lnTo>
                    <a:pt x="17256" y="4190"/>
                  </a:lnTo>
                  <a:lnTo>
                    <a:pt x="17119" y="4190"/>
                  </a:lnTo>
                  <a:lnTo>
                    <a:pt x="16978" y="4190"/>
                  </a:lnTo>
                  <a:lnTo>
                    <a:pt x="16841" y="4234"/>
                  </a:lnTo>
                  <a:lnTo>
                    <a:pt x="16705" y="4234"/>
                  </a:lnTo>
                  <a:lnTo>
                    <a:pt x="16568" y="4234"/>
                  </a:lnTo>
                  <a:lnTo>
                    <a:pt x="16427" y="4234"/>
                  </a:lnTo>
                  <a:lnTo>
                    <a:pt x="16290" y="4278"/>
                  </a:lnTo>
                  <a:lnTo>
                    <a:pt x="16153" y="4326"/>
                  </a:lnTo>
                  <a:lnTo>
                    <a:pt x="16012" y="4419"/>
                  </a:lnTo>
                  <a:lnTo>
                    <a:pt x="15876" y="4463"/>
                  </a:lnTo>
                  <a:lnTo>
                    <a:pt x="15739" y="4556"/>
                  </a:lnTo>
                  <a:lnTo>
                    <a:pt x="15598" y="4692"/>
                  </a:lnTo>
                  <a:lnTo>
                    <a:pt x="15461" y="4785"/>
                  </a:lnTo>
                  <a:lnTo>
                    <a:pt x="15324" y="4878"/>
                  </a:lnTo>
                  <a:lnTo>
                    <a:pt x="15232" y="5014"/>
                  </a:lnTo>
                  <a:lnTo>
                    <a:pt x="15095" y="5107"/>
                  </a:lnTo>
                  <a:lnTo>
                    <a:pt x="14954" y="5200"/>
                  </a:lnTo>
                  <a:lnTo>
                    <a:pt x="14817" y="5248"/>
                  </a:lnTo>
                  <a:lnTo>
                    <a:pt x="14680" y="5292"/>
                  </a:lnTo>
                  <a:lnTo>
                    <a:pt x="14539" y="5385"/>
                  </a:lnTo>
                  <a:lnTo>
                    <a:pt x="14403" y="5521"/>
                  </a:lnTo>
                  <a:lnTo>
                    <a:pt x="14266" y="5614"/>
                  </a:lnTo>
                  <a:lnTo>
                    <a:pt x="14125" y="5658"/>
                  </a:lnTo>
                  <a:lnTo>
                    <a:pt x="13988" y="5707"/>
                  </a:lnTo>
                  <a:lnTo>
                    <a:pt x="13851" y="5751"/>
                  </a:lnTo>
                  <a:lnTo>
                    <a:pt x="13759" y="5892"/>
                  </a:lnTo>
                  <a:lnTo>
                    <a:pt x="13622" y="5984"/>
                  </a:lnTo>
                  <a:lnTo>
                    <a:pt x="13574" y="6121"/>
                  </a:lnTo>
                  <a:lnTo>
                    <a:pt x="13481" y="6258"/>
                  </a:lnTo>
                  <a:lnTo>
                    <a:pt x="13481" y="6395"/>
                  </a:lnTo>
                  <a:lnTo>
                    <a:pt x="13530" y="6536"/>
                  </a:lnTo>
                  <a:lnTo>
                    <a:pt x="13574" y="6672"/>
                  </a:lnTo>
                  <a:lnTo>
                    <a:pt x="13622" y="6809"/>
                  </a:lnTo>
                  <a:lnTo>
                    <a:pt x="13759" y="6902"/>
                  </a:lnTo>
                  <a:lnTo>
                    <a:pt x="13803" y="7043"/>
                  </a:lnTo>
                  <a:lnTo>
                    <a:pt x="13896" y="7180"/>
                  </a:lnTo>
                  <a:lnTo>
                    <a:pt x="13988" y="7316"/>
                  </a:lnTo>
                  <a:lnTo>
                    <a:pt x="14125" y="7453"/>
                  </a:lnTo>
                  <a:lnTo>
                    <a:pt x="14266" y="7546"/>
                  </a:lnTo>
                  <a:lnTo>
                    <a:pt x="14310" y="7687"/>
                  </a:lnTo>
                  <a:lnTo>
                    <a:pt x="14451" y="7775"/>
                  </a:lnTo>
                  <a:lnTo>
                    <a:pt x="14588" y="7775"/>
                  </a:lnTo>
                  <a:lnTo>
                    <a:pt x="14725" y="7775"/>
                  </a:lnTo>
                  <a:lnTo>
                    <a:pt x="14861" y="7775"/>
                  </a:lnTo>
                  <a:lnTo>
                    <a:pt x="15002" y="7775"/>
                  </a:lnTo>
                  <a:lnTo>
                    <a:pt x="15139" y="7731"/>
                  </a:lnTo>
                  <a:lnTo>
                    <a:pt x="15276" y="7687"/>
                  </a:lnTo>
                  <a:lnTo>
                    <a:pt x="15417" y="7687"/>
                  </a:lnTo>
                  <a:lnTo>
                    <a:pt x="15554" y="7687"/>
                  </a:lnTo>
                  <a:lnTo>
                    <a:pt x="15690" y="7731"/>
                  </a:lnTo>
                  <a:lnTo>
                    <a:pt x="15831" y="7775"/>
                  </a:lnTo>
                  <a:lnTo>
                    <a:pt x="15968" y="7823"/>
                  </a:lnTo>
                  <a:lnTo>
                    <a:pt x="16105" y="7823"/>
                  </a:lnTo>
                  <a:lnTo>
                    <a:pt x="16242" y="7823"/>
                  </a:lnTo>
                  <a:lnTo>
                    <a:pt x="16334" y="7687"/>
                  </a:lnTo>
                  <a:lnTo>
                    <a:pt x="16427" y="7546"/>
                  </a:lnTo>
                  <a:lnTo>
                    <a:pt x="16475" y="7409"/>
                  </a:lnTo>
                  <a:lnTo>
                    <a:pt x="16568" y="7272"/>
                  </a:lnTo>
                  <a:lnTo>
                    <a:pt x="16705" y="7180"/>
                  </a:lnTo>
                  <a:lnTo>
                    <a:pt x="16841" y="7131"/>
                  </a:lnTo>
                  <a:lnTo>
                    <a:pt x="16890" y="7272"/>
                  </a:lnTo>
                  <a:lnTo>
                    <a:pt x="16890" y="7409"/>
                  </a:lnTo>
                  <a:lnTo>
                    <a:pt x="16841" y="7546"/>
                  </a:lnTo>
                  <a:lnTo>
                    <a:pt x="16797" y="7687"/>
                  </a:lnTo>
                  <a:lnTo>
                    <a:pt x="16890" y="7823"/>
                  </a:lnTo>
                  <a:lnTo>
                    <a:pt x="17026" y="7916"/>
                  </a:lnTo>
                  <a:lnTo>
                    <a:pt x="17119" y="8053"/>
                  </a:lnTo>
                  <a:lnTo>
                    <a:pt x="17163" y="8189"/>
                  </a:lnTo>
                  <a:lnTo>
                    <a:pt x="17256" y="8330"/>
                  </a:lnTo>
                  <a:lnTo>
                    <a:pt x="17256" y="8467"/>
                  </a:lnTo>
                  <a:lnTo>
                    <a:pt x="17256" y="8605"/>
                  </a:lnTo>
                  <a:lnTo>
                    <a:pt x="17212" y="8746"/>
                  </a:lnTo>
                  <a:lnTo>
                    <a:pt x="17212" y="8883"/>
                  </a:lnTo>
                  <a:lnTo>
                    <a:pt x="17212" y="9019"/>
                  </a:lnTo>
                  <a:lnTo>
                    <a:pt x="17119" y="9160"/>
                  </a:lnTo>
                  <a:lnTo>
                    <a:pt x="16978" y="9249"/>
                  </a:lnTo>
                  <a:lnTo>
                    <a:pt x="16841" y="9341"/>
                  </a:lnTo>
                  <a:lnTo>
                    <a:pt x="16705" y="9482"/>
                  </a:lnTo>
                  <a:lnTo>
                    <a:pt x="16568" y="9571"/>
                  </a:lnTo>
                  <a:lnTo>
                    <a:pt x="16427" y="9663"/>
                  </a:lnTo>
                  <a:lnTo>
                    <a:pt x="16290" y="9756"/>
                  </a:lnTo>
                  <a:lnTo>
                    <a:pt x="16153" y="9848"/>
                  </a:lnTo>
                  <a:lnTo>
                    <a:pt x="16012" y="9985"/>
                  </a:lnTo>
                  <a:lnTo>
                    <a:pt x="15876" y="10078"/>
                  </a:lnTo>
                  <a:lnTo>
                    <a:pt x="15831" y="10219"/>
                  </a:lnTo>
                  <a:lnTo>
                    <a:pt x="15739" y="10356"/>
                  </a:lnTo>
                  <a:lnTo>
                    <a:pt x="15646" y="10492"/>
                  </a:lnTo>
                  <a:lnTo>
                    <a:pt x="15554" y="10629"/>
                  </a:lnTo>
                  <a:lnTo>
                    <a:pt x="15461" y="10770"/>
                  </a:lnTo>
                  <a:lnTo>
                    <a:pt x="15368" y="10907"/>
                  </a:lnTo>
                  <a:lnTo>
                    <a:pt x="15324" y="11043"/>
                  </a:lnTo>
                  <a:lnTo>
                    <a:pt x="15183" y="11092"/>
                  </a:lnTo>
                  <a:lnTo>
                    <a:pt x="15046" y="11092"/>
                  </a:lnTo>
                  <a:lnTo>
                    <a:pt x="14910" y="11092"/>
                  </a:lnTo>
                  <a:lnTo>
                    <a:pt x="14773" y="11092"/>
                  </a:lnTo>
                  <a:lnTo>
                    <a:pt x="14632" y="11043"/>
                  </a:lnTo>
                  <a:lnTo>
                    <a:pt x="14495" y="11043"/>
                  </a:lnTo>
                  <a:lnTo>
                    <a:pt x="14359" y="10951"/>
                  </a:lnTo>
                  <a:lnTo>
                    <a:pt x="14217" y="10863"/>
                  </a:lnTo>
                  <a:lnTo>
                    <a:pt x="14081" y="10770"/>
                  </a:lnTo>
                  <a:lnTo>
                    <a:pt x="13944" y="10770"/>
                  </a:lnTo>
                  <a:lnTo>
                    <a:pt x="13803" y="10770"/>
                  </a:lnTo>
                  <a:lnTo>
                    <a:pt x="13666" y="10770"/>
                  </a:lnTo>
                  <a:lnTo>
                    <a:pt x="13530" y="10814"/>
                  </a:lnTo>
                  <a:lnTo>
                    <a:pt x="13437" y="10951"/>
                  </a:lnTo>
                  <a:lnTo>
                    <a:pt x="13300" y="11043"/>
                  </a:lnTo>
                  <a:lnTo>
                    <a:pt x="13159" y="11043"/>
                  </a:lnTo>
                  <a:lnTo>
                    <a:pt x="12793" y="11043"/>
                  </a:lnTo>
                  <a:lnTo>
                    <a:pt x="12656" y="11043"/>
                  </a:lnTo>
                  <a:lnTo>
                    <a:pt x="12515" y="11043"/>
                  </a:lnTo>
                  <a:lnTo>
                    <a:pt x="12379" y="11043"/>
                  </a:lnTo>
                  <a:lnTo>
                    <a:pt x="12242" y="11043"/>
                  </a:lnTo>
                  <a:lnTo>
                    <a:pt x="12101" y="10999"/>
                  </a:lnTo>
                  <a:lnTo>
                    <a:pt x="11964" y="10951"/>
                  </a:lnTo>
                  <a:lnTo>
                    <a:pt x="11827" y="10814"/>
                  </a:lnTo>
                  <a:lnTo>
                    <a:pt x="11686" y="10722"/>
                  </a:lnTo>
                  <a:lnTo>
                    <a:pt x="11550" y="10629"/>
                  </a:lnTo>
                  <a:lnTo>
                    <a:pt x="11413" y="10629"/>
                  </a:lnTo>
                  <a:lnTo>
                    <a:pt x="11276" y="10585"/>
                  </a:lnTo>
                  <a:lnTo>
                    <a:pt x="11135" y="10585"/>
                  </a:lnTo>
                  <a:lnTo>
                    <a:pt x="10998" y="10585"/>
                  </a:lnTo>
                  <a:lnTo>
                    <a:pt x="10862" y="10585"/>
                  </a:lnTo>
                  <a:lnTo>
                    <a:pt x="10491" y="10585"/>
                  </a:lnTo>
                  <a:lnTo>
                    <a:pt x="10355" y="10585"/>
                  </a:lnTo>
                  <a:lnTo>
                    <a:pt x="10218" y="10585"/>
                  </a:lnTo>
                  <a:lnTo>
                    <a:pt x="10077" y="10585"/>
                  </a:lnTo>
                  <a:lnTo>
                    <a:pt x="9940" y="10585"/>
                  </a:lnTo>
                  <a:lnTo>
                    <a:pt x="9803" y="10585"/>
                  </a:lnTo>
                  <a:lnTo>
                    <a:pt x="9662" y="10629"/>
                  </a:lnTo>
                  <a:lnTo>
                    <a:pt x="9526" y="10629"/>
                  </a:lnTo>
                  <a:lnTo>
                    <a:pt x="9389" y="10677"/>
                  </a:lnTo>
                  <a:lnTo>
                    <a:pt x="9248" y="10722"/>
                  </a:lnTo>
                  <a:lnTo>
                    <a:pt x="9204" y="10863"/>
                  </a:lnTo>
                  <a:lnTo>
                    <a:pt x="9204" y="10999"/>
                  </a:lnTo>
                  <a:lnTo>
                    <a:pt x="9204" y="11136"/>
                  </a:lnTo>
                  <a:lnTo>
                    <a:pt x="9204" y="11277"/>
                  </a:lnTo>
                  <a:lnTo>
                    <a:pt x="9067" y="11365"/>
                  </a:lnTo>
                  <a:lnTo>
                    <a:pt x="8925" y="11321"/>
                  </a:lnTo>
                  <a:lnTo>
                    <a:pt x="8788" y="11229"/>
                  </a:lnTo>
                  <a:lnTo>
                    <a:pt x="8695" y="11092"/>
                  </a:lnTo>
                  <a:lnTo>
                    <a:pt x="8603" y="10951"/>
                  </a:lnTo>
                  <a:lnTo>
                    <a:pt x="8466" y="10814"/>
                  </a:lnTo>
                  <a:lnTo>
                    <a:pt x="8329" y="10722"/>
                  </a:lnTo>
                  <a:lnTo>
                    <a:pt x="8188" y="10629"/>
                  </a:lnTo>
                  <a:lnTo>
                    <a:pt x="8052" y="10541"/>
                  </a:lnTo>
                  <a:lnTo>
                    <a:pt x="7959" y="10400"/>
                  </a:lnTo>
                  <a:lnTo>
                    <a:pt x="7822" y="10307"/>
                  </a:lnTo>
                  <a:lnTo>
                    <a:pt x="7686" y="10170"/>
                  </a:lnTo>
                  <a:lnTo>
                    <a:pt x="7593" y="10034"/>
                  </a:lnTo>
                  <a:lnTo>
                    <a:pt x="7452" y="9985"/>
                  </a:lnTo>
                  <a:lnTo>
                    <a:pt x="7315" y="9941"/>
                  </a:lnTo>
                  <a:lnTo>
                    <a:pt x="7179" y="9941"/>
                  </a:lnTo>
                  <a:lnTo>
                    <a:pt x="7042" y="9941"/>
                  </a:lnTo>
                  <a:lnTo>
                    <a:pt x="6671" y="9941"/>
                  </a:lnTo>
                  <a:lnTo>
                    <a:pt x="6535" y="9848"/>
                  </a:lnTo>
                  <a:lnTo>
                    <a:pt x="6486" y="9712"/>
                  </a:lnTo>
                  <a:lnTo>
                    <a:pt x="6486" y="9571"/>
                  </a:lnTo>
                  <a:lnTo>
                    <a:pt x="6442" y="9434"/>
                  </a:lnTo>
                  <a:lnTo>
                    <a:pt x="6442" y="9297"/>
                  </a:lnTo>
                  <a:lnTo>
                    <a:pt x="6442" y="9160"/>
                  </a:lnTo>
                  <a:lnTo>
                    <a:pt x="6442" y="9019"/>
                  </a:lnTo>
                  <a:lnTo>
                    <a:pt x="6442" y="8883"/>
                  </a:lnTo>
                  <a:lnTo>
                    <a:pt x="6442" y="8746"/>
                  </a:lnTo>
                  <a:lnTo>
                    <a:pt x="6442" y="8605"/>
                  </a:lnTo>
                  <a:lnTo>
                    <a:pt x="6394" y="8467"/>
                  </a:lnTo>
                  <a:lnTo>
                    <a:pt x="6350" y="8330"/>
                  </a:lnTo>
                  <a:lnTo>
                    <a:pt x="6350" y="8189"/>
                  </a:lnTo>
                  <a:lnTo>
                    <a:pt x="6257" y="8053"/>
                  </a:lnTo>
                  <a:lnTo>
                    <a:pt x="6120" y="7960"/>
                  </a:lnTo>
                  <a:lnTo>
                    <a:pt x="5983" y="7960"/>
                  </a:lnTo>
                  <a:lnTo>
                    <a:pt x="5842" y="7960"/>
                  </a:lnTo>
                  <a:lnTo>
                    <a:pt x="5706" y="7960"/>
                  </a:lnTo>
                  <a:lnTo>
                    <a:pt x="5335" y="7960"/>
                  </a:lnTo>
                  <a:lnTo>
                    <a:pt x="5199" y="8009"/>
                  </a:lnTo>
                  <a:lnTo>
                    <a:pt x="4833" y="8009"/>
                  </a:lnTo>
                  <a:lnTo>
                    <a:pt x="4691" y="8053"/>
                  </a:lnTo>
                  <a:lnTo>
                    <a:pt x="4555" y="8053"/>
                  </a:lnTo>
                  <a:lnTo>
                    <a:pt x="4418" y="8053"/>
                  </a:lnTo>
                  <a:lnTo>
                    <a:pt x="4277" y="8053"/>
                  </a:lnTo>
                  <a:lnTo>
                    <a:pt x="4140" y="8053"/>
                  </a:lnTo>
                  <a:lnTo>
                    <a:pt x="4004" y="7960"/>
                  </a:lnTo>
                  <a:lnTo>
                    <a:pt x="3867" y="7867"/>
                  </a:lnTo>
                  <a:lnTo>
                    <a:pt x="3726" y="7775"/>
                  </a:lnTo>
                  <a:lnTo>
                    <a:pt x="3589" y="7638"/>
                  </a:lnTo>
                  <a:lnTo>
                    <a:pt x="3452" y="7594"/>
                  </a:lnTo>
                  <a:lnTo>
                    <a:pt x="3311" y="7546"/>
                  </a:lnTo>
                  <a:lnTo>
                    <a:pt x="2989" y="7501"/>
                  </a:lnTo>
                  <a:lnTo>
                    <a:pt x="2667" y="7501"/>
                  </a:lnTo>
                  <a:lnTo>
                    <a:pt x="2301" y="7453"/>
                  </a:lnTo>
                  <a:lnTo>
                    <a:pt x="2160" y="7409"/>
                  </a:lnTo>
                  <a:lnTo>
                    <a:pt x="2024" y="7409"/>
                  </a:lnTo>
                  <a:lnTo>
                    <a:pt x="1887" y="7272"/>
                  </a:lnTo>
                  <a:lnTo>
                    <a:pt x="1794" y="7131"/>
                  </a:lnTo>
                  <a:lnTo>
                    <a:pt x="1658" y="7043"/>
                  </a:lnTo>
                  <a:lnTo>
                    <a:pt x="1516" y="6950"/>
                  </a:lnTo>
                  <a:lnTo>
                    <a:pt x="1380" y="6950"/>
                  </a:lnTo>
                  <a:lnTo>
                    <a:pt x="1243" y="6950"/>
                  </a:lnTo>
                  <a:lnTo>
                    <a:pt x="921" y="6950"/>
                  </a:lnTo>
                  <a:lnTo>
                    <a:pt x="780" y="6994"/>
                  </a:lnTo>
                  <a:lnTo>
                    <a:pt x="643" y="7043"/>
                  </a:lnTo>
                  <a:lnTo>
                    <a:pt x="551" y="7180"/>
                  </a:lnTo>
                  <a:lnTo>
                    <a:pt x="458" y="7316"/>
                  </a:lnTo>
                  <a:lnTo>
                    <a:pt x="321" y="7453"/>
                  </a:lnTo>
                  <a:lnTo>
                    <a:pt x="229" y="7594"/>
                  </a:lnTo>
                  <a:lnTo>
                    <a:pt x="92" y="7687"/>
                  </a:lnTo>
                  <a:lnTo>
                    <a:pt x="0" y="7823"/>
                  </a:lnTo>
                  <a:lnTo>
                    <a:pt x="0" y="7687"/>
                  </a:lnTo>
                  <a:lnTo>
                    <a:pt x="0" y="7546"/>
                  </a:lnTo>
                  <a:lnTo>
                    <a:pt x="0" y="7409"/>
                  </a:lnTo>
                  <a:lnTo>
                    <a:pt x="0" y="7272"/>
                  </a:lnTo>
                  <a:lnTo>
                    <a:pt x="0" y="7131"/>
                  </a:lnTo>
                  <a:lnTo>
                    <a:pt x="0" y="6765"/>
                  </a:lnTo>
                  <a:lnTo>
                    <a:pt x="0" y="6351"/>
                  </a:lnTo>
                  <a:lnTo>
                    <a:pt x="0" y="5984"/>
                  </a:lnTo>
                  <a:lnTo>
                    <a:pt x="0" y="5570"/>
                  </a:lnTo>
                  <a:lnTo>
                    <a:pt x="0" y="5155"/>
                  </a:lnTo>
                  <a:lnTo>
                    <a:pt x="0" y="4741"/>
                  </a:lnTo>
                  <a:lnTo>
                    <a:pt x="0" y="4600"/>
                  </a:lnTo>
                  <a:lnTo>
                    <a:pt x="0" y="4463"/>
                  </a:lnTo>
                  <a:lnTo>
                    <a:pt x="0" y="4326"/>
                  </a:lnTo>
                  <a:lnTo>
                    <a:pt x="0" y="4005"/>
                  </a:lnTo>
                  <a:lnTo>
                    <a:pt x="0" y="3590"/>
                  </a:lnTo>
                  <a:lnTo>
                    <a:pt x="0" y="3220"/>
                  </a:lnTo>
                  <a:lnTo>
                    <a:pt x="0" y="2898"/>
                  </a:lnTo>
                  <a:lnTo>
                    <a:pt x="0" y="2575"/>
                  </a:lnTo>
                  <a:lnTo>
                    <a:pt x="0" y="2209"/>
                  </a:lnTo>
                  <a:lnTo>
                    <a:pt x="0" y="1838"/>
                  </a:lnTo>
                  <a:lnTo>
                    <a:pt x="0" y="1424"/>
                  </a:lnTo>
                  <a:lnTo>
                    <a:pt x="0" y="1014"/>
                  </a:lnTo>
                  <a:lnTo>
                    <a:pt x="0" y="599"/>
                  </a:lnTo>
                  <a:lnTo>
                    <a:pt x="0" y="458"/>
                  </a:lnTo>
                  <a:lnTo>
                    <a:pt x="0" y="321"/>
                  </a:lnTo>
                  <a:lnTo>
                    <a:pt x="0" y="185"/>
                  </a:lnTo>
                  <a:lnTo>
                    <a:pt x="136" y="92"/>
                  </a:lnTo>
                  <a:lnTo>
                    <a:pt x="277" y="92"/>
                  </a:lnTo>
                  <a:lnTo>
                    <a:pt x="414" y="92"/>
                  </a:lnTo>
                  <a:lnTo>
                    <a:pt x="551" y="92"/>
                  </a:lnTo>
                  <a:lnTo>
                    <a:pt x="692" y="92"/>
                  </a:lnTo>
                  <a:lnTo>
                    <a:pt x="1058" y="92"/>
                  </a:lnTo>
                  <a:lnTo>
                    <a:pt x="1380" y="92"/>
                  </a:lnTo>
                  <a:lnTo>
                    <a:pt x="1750" y="92"/>
                  </a:lnTo>
                  <a:lnTo>
                    <a:pt x="2160" y="92"/>
                  </a:lnTo>
                  <a:lnTo>
                    <a:pt x="2482" y="92"/>
                  </a:lnTo>
                  <a:lnTo>
                    <a:pt x="2853" y="92"/>
                  </a:lnTo>
                  <a:lnTo>
                    <a:pt x="3175" y="92"/>
                  </a:lnTo>
                  <a:lnTo>
                    <a:pt x="3311" y="92"/>
                  </a:lnTo>
                  <a:lnTo>
                    <a:pt x="3452" y="92"/>
                  </a:lnTo>
                  <a:lnTo>
                    <a:pt x="3175" y="0"/>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4687920" y="2865600"/>
              <a:ext cx="3413520" cy="3480120"/>
            </a:xfrm>
            <a:custGeom>
              <a:avLst/>
              <a:gdLst/>
              <a:ahLst/>
              <a:rect l="0" t="0" r="r" b="b"/>
              <a:pathLst>
                <a:path fill="none" w="9482" h="9667">
                  <a:moveTo>
                    <a:pt x="101" y="5164"/>
                  </a:moveTo>
                  <a:lnTo>
                    <a:pt x="92" y="5341"/>
                  </a:lnTo>
                  <a:lnTo>
                    <a:pt x="136" y="5477"/>
                  </a:lnTo>
                  <a:lnTo>
                    <a:pt x="185" y="5614"/>
                  </a:lnTo>
                  <a:lnTo>
                    <a:pt x="185" y="5755"/>
                  </a:lnTo>
                  <a:lnTo>
                    <a:pt x="229" y="5892"/>
                  </a:lnTo>
                  <a:lnTo>
                    <a:pt x="229" y="6029"/>
                  </a:lnTo>
                  <a:lnTo>
                    <a:pt x="229" y="6165"/>
                  </a:lnTo>
                  <a:lnTo>
                    <a:pt x="277" y="6306"/>
                  </a:lnTo>
                  <a:lnTo>
                    <a:pt x="277" y="6443"/>
                  </a:lnTo>
                  <a:lnTo>
                    <a:pt x="321" y="6580"/>
                  </a:lnTo>
                  <a:lnTo>
                    <a:pt x="370" y="6721"/>
                  </a:lnTo>
                  <a:lnTo>
                    <a:pt x="414" y="6858"/>
                  </a:lnTo>
                  <a:lnTo>
                    <a:pt x="414" y="6994"/>
                  </a:lnTo>
                  <a:lnTo>
                    <a:pt x="458" y="7135"/>
                  </a:lnTo>
                  <a:lnTo>
                    <a:pt x="551" y="7272"/>
                  </a:lnTo>
                  <a:lnTo>
                    <a:pt x="599" y="7409"/>
                  </a:lnTo>
                  <a:lnTo>
                    <a:pt x="692" y="7550"/>
                  </a:lnTo>
                  <a:lnTo>
                    <a:pt x="736" y="7687"/>
                  </a:lnTo>
                  <a:lnTo>
                    <a:pt x="829" y="7823"/>
                  </a:lnTo>
                  <a:lnTo>
                    <a:pt x="873" y="7960"/>
                  </a:lnTo>
                  <a:lnTo>
                    <a:pt x="965" y="8101"/>
                  </a:lnTo>
                  <a:lnTo>
                    <a:pt x="1014" y="8238"/>
                  </a:lnTo>
                  <a:lnTo>
                    <a:pt x="1058" y="8375"/>
                  </a:lnTo>
                  <a:lnTo>
                    <a:pt x="1150" y="8516"/>
                  </a:lnTo>
                  <a:lnTo>
                    <a:pt x="1243" y="8652"/>
                  </a:lnTo>
                  <a:lnTo>
                    <a:pt x="1336" y="8789"/>
                  </a:lnTo>
                  <a:lnTo>
                    <a:pt x="1428" y="8930"/>
                  </a:lnTo>
                  <a:lnTo>
                    <a:pt x="1565" y="9018"/>
                  </a:lnTo>
                  <a:lnTo>
                    <a:pt x="1702" y="9159"/>
                  </a:lnTo>
                  <a:lnTo>
                    <a:pt x="1838" y="9252"/>
                  </a:lnTo>
                  <a:lnTo>
                    <a:pt x="1979" y="9389"/>
                  </a:lnTo>
                  <a:lnTo>
                    <a:pt x="2116" y="9433"/>
                  </a:lnTo>
                  <a:lnTo>
                    <a:pt x="2253" y="9481"/>
                  </a:lnTo>
                  <a:lnTo>
                    <a:pt x="2395" y="9526"/>
                  </a:lnTo>
                  <a:lnTo>
                    <a:pt x="2532" y="9526"/>
                  </a:lnTo>
                  <a:lnTo>
                    <a:pt x="2668" y="9574"/>
                  </a:lnTo>
                  <a:lnTo>
                    <a:pt x="2809" y="9618"/>
                  </a:lnTo>
                  <a:lnTo>
                    <a:pt x="2946" y="9667"/>
                  </a:lnTo>
                  <a:lnTo>
                    <a:pt x="3083" y="9667"/>
                  </a:lnTo>
                  <a:lnTo>
                    <a:pt x="3220" y="9574"/>
                  </a:lnTo>
                  <a:lnTo>
                    <a:pt x="3312" y="9433"/>
                  </a:lnTo>
                  <a:lnTo>
                    <a:pt x="3312" y="9296"/>
                  </a:lnTo>
                  <a:lnTo>
                    <a:pt x="3361" y="9159"/>
                  </a:lnTo>
                  <a:lnTo>
                    <a:pt x="3361" y="9018"/>
                  </a:lnTo>
                  <a:lnTo>
                    <a:pt x="3361" y="8882"/>
                  </a:lnTo>
                  <a:lnTo>
                    <a:pt x="3268" y="8745"/>
                  </a:lnTo>
                  <a:lnTo>
                    <a:pt x="3176" y="8608"/>
                  </a:lnTo>
                  <a:lnTo>
                    <a:pt x="3083" y="8467"/>
                  </a:lnTo>
                  <a:lnTo>
                    <a:pt x="3039" y="8330"/>
                  </a:lnTo>
                  <a:lnTo>
                    <a:pt x="2946" y="8194"/>
                  </a:lnTo>
                  <a:lnTo>
                    <a:pt x="2946" y="8053"/>
                  </a:lnTo>
                  <a:lnTo>
                    <a:pt x="2898" y="7916"/>
                  </a:lnTo>
                  <a:lnTo>
                    <a:pt x="2898" y="7779"/>
                  </a:lnTo>
                  <a:lnTo>
                    <a:pt x="2898" y="7638"/>
                  </a:lnTo>
                  <a:lnTo>
                    <a:pt x="2898" y="7501"/>
                  </a:lnTo>
                  <a:lnTo>
                    <a:pt x="2898" y="7365"/>
                  </a:lnTo>
                  <a:lnTo>
                    <a:pt x="2898" y="7224"/>
                  </a:lnTo>
                  <a:lnTo>
                    <a:pt x="2898" y="7087"/>
                  </a:lnTo>
                  <a:lnTo>
                    <a:pt x="2946" y="6950"/>
                  </a:lnTo>
                  <a:lnTo>
                    <a:pt x="2946" y="6814"/>
                  </a:lnTo>
                  <a:lnTo>
                    <a:pt x="2990" y="6672"/>
                  </a:lnTo>
                  <a:lnTo>
                    <a:pt x="2990" y="6536"/>
                  </a:lnTo>
                  <a:lnTo>
                    <a:pt x="3039" y="6399"/>
                  </a:lnTo>
                  <a:lnTo>
                    <a:pt x="3083" y="6077"/>
                  </a:lnTo>
                  <a:lnTo>
                    <a:pt x="3131" y="5755"/>
                  </a:lnTo>
                  <a:lnTo>
                    <a:pt x="3176" y="5614"/>
                  </a:lnTo>
                  <a:lnTo>
                    <a:pt x="3268" y="5477"/>
                  </a:lnTo>
                  <a:lnTo>
                    <a:pt x="3405" y="5385"/>
                  </a:lnTo>
                  <a:lnTo>
                    <a:pt x="3546" y="5292"/>
                  </a:lnTo>
                  <a:lnTo>
                    <a:pt x="3683" y="5200"/>
                  </a:lnTo>
                  <a:lnTo>
                    <a:pt x="3819" y="5155"/>
                  </a:lnTo>
                  <a:lnTo>
                    <a:pt x="3956" y="5107"/>
                  </a:lnTo>
                  <a:lnTo>
                    <a:pt x="4097" y="5063"/>
                  </a:lnTo>
                  <a:lnTo>
                    <a:pt x="4234" y="5019"/>
                  </a:lnTo>
                  <a:lnTo>
                    <a:pt x="4371" y="5019"/>
                  </a:lnTo>
                  <a:lnTo>
                    <a:pt x="4512" y="4970"/>
                  </a:lnTo>
                  <a:lnTo>
                    <a:pt x="4648" y="4970"/>
                  </a:lnTo>
                  <a:lnTo>
                    <a:pt x="4785" y="4970"/>
                  </a:lnTo>
                  <a:lnTo>
                    <a:pt x="4926" y="4970"/>
                  </a:lnTo>
                  <a:lnTo>
                    <a:pt x="5063" y="4970"/>
                  </a:lnTo>
                  <a:lnTo>
                    <a:pt x="5200" y="4970"/>
                  </a:lnTo>
                  <a:lnTo>
                    <a:pt x="5336" y="4970"/>
                  </a:lnTo>
                  <a:lnTo>
                    <a:pt x="5477" y="4970"/>
                  </a:lnTo>
                  <a:lnTo>
                    <a:pt x="5614" y="5063"/>
                  </a:lnTo>
                  <a:lnTo>
                    <a:pt x="5751" y="5107"/>
                  </a:lnTo>
                  <a:lnTo>
                    <a:pt x="5892" y="5155"/>
                  </a:lnTo>
                  <a:lnTo>
                    <a:pt x="6029" y="5248"/>
                  </a:lnTo>
                  <a:lnTo>
                    <a:pt x="6165" y="5341"/>
                  </a:lnTo>
                  <a:lnTo>
                    <a:pt x="6306" y="5433"/>
                  </a:lnTo>
                  <a:lnTo>
                    <a:pt x="6443" y="5521"/>
                  </a:lnTo>
                  <a:lnTo>
                    <a:pt x="6580" y="5663"/>
                  </a:lnTo>
                  <a:lnTo>
                    <a:pt x="6721" y="5755"/>
                  </a:lnTo>
                  <a:lnTo>
                    <a:pt x="6858" y="5843"/>
                  </a:lnTo>
                  <a:lnTo>
                    <a:pt x="6994" y="5936"/>
                  </a:lnTo>
                  <a:lnTo>
                    <a:pt x="7132" y="6029"/>
                  </a:lnTo>
                  <a:lnTo>
                    <a:pt x="7273" y="6121"/>
                  </a:lnTo>
                  <a:lnTo>
                    <a:pt x="7410" y="6165"/>
                  </a:lnTo>
                  <a:lnTo>
                    <a:pt x="7547" y="6306"/>
                  </a:lnTo>
                  <a:lnTo>
                    <a:pt x="7688" y="6443"/>
                  </a:lnTo>
                  <a:lnTo>
                    <a:pt x="7780" y="6580"/>
                  </a:lnTo>
                  <a:lnTo>
                    <a:pt x="7917" y="6672"/>
                  </a:lnTo>
                  <a:lnTo>
                    <a:pt x="8010" y="6814"/>
                  </a:lnTo>
                  <a:lnTo>
                    <a:pt x="8146" y="6902"/>
                  </a:lnTo>
                  <a:lnTo>
                    <a:pt x="8283" y="7043"/>
                  </a:lnTo>
                  <a:lnTo>
                    <a:pt x="8424" y="7135"/>
                  </a:lnTo>
                  <a:lnTo>
                    <a:pt x="8561" y="7224"/>
                  </a:lnTo>
                  <a:lnTo>
                    <a:pt x="8697" y="7316"/>
                  </a:lnTo>
                  <a:lnTo>
                    <a:pt x="8839" y="7409"/>
                  </a:lnTo>
                  <a:lnTo>
                    <a:pt x="8975" y="7457"/>
                  </a:lnTo>
                  <a:lnTo>
                    <a:pt x="9112" y="7365"/>
                  </a:lnTo>
                  <a:lnTo>
                    <a:pt x="9249" y="7272"/>
                  </a:lnTo>
                  <a:lnTo>
                    <a:pt x="9390" y="7180"/>
                  </a:lnTo>
                  <a:lnTo>
                    <a:pt x="9434" y="7043"/>
                  </a:lnTo>
                  <a:lnTo>
                    <a:pt x="9482" y="6902"/>
                  </a:lnTo>
                  <a:lnTo>
                    <a:pt x="9482" y="6765"/>
                  </a:lnTo>
                  <a:lnTo>
                    <a:pt x="9482" y="6628"/>
                  </a:lnTo>
                  <a:lnTo>
                    <a:pt x="9482" y="6492"/>
                  </a:lnTo>
                  <a:lnTo>
                    <a:pt x="9482" y="6351"/>
                  </a:lnTo>
                  <a:lnTo>
                    <a:pt x="9482" y="6214"/>
                  </a:lnTo>
                  <a:lnTo>
                    <a:pt x="9434" y="6077"/>
                  </a:lnTo>
                  <a:lnTo>
                    <a:pt x="9434" y="5936"/>
                  </a:lnTo>
                  <a:lnTo>
                    <a:pt x="9390" y="5799"/>
                  </a:lnTo>
                  <a:lnTo>
                    <a:pt x="9341" y="5663"/>
                  </a:lnTo>
                  <a:lnTo>
                    <a:pt x="9297" y="5521"/>
                  </a:lnTo>
                  <a:lnTo>
                    <a:pt x="9297" y="5385"/>
                  </a:lnTo>
                  <a:lnTo>
                    <a:pt x="9249" y="5248"/>
                  </a:lnTo>
                  <a:lnTo>
                    <a:pt x="9205" y="5107"/>
                  </a:lnTo>
                  <a:lnTo>
                    <a:pt x="9160" y="4970"/>
                  </a:lnTo>
                  <a:lnTo>
                    <a:pt x="9112" y="4834"/>
                  </a:lnTo>
                  <a:lnTo>
                    <a:pt x="9112" y="4696"/>
                  </a:lnTo>
                  <a:lnTo>
                    <a:pt x="9068" y="4555"/>
                  </a:lnTo>
                  <a:lnTo>
                    <a:pt x="9019" y="4418"/>
                  </a:lnTo>
                  <a:lnTo>
                    <a:pt x="9019" y="4281"/>
                  </a:lnTo>
                  <a:lnTo>
                    <a:pt x="9019" y="4140"/>
                  </a:lnTo>
                  <a:lnTo>
                    <a:pt x="9019" y="4004"/>
                  </a:lnTo>
                  <a:lnTo>
                    <a:pt x="9019" y="3867"/>
                  </a:lnTo>
                  <a:lnTo>
                    <a:pt x="9019" y="3726"/>
                  </a:lnTo>
                  <a:lnTo>
                    <a:pt x="9019" y="3589"/>
                  </a:lnTo>
                  <a:lnTo>
                    <a:pt x="9019" y="3452"/>
                  </a:lnTo>
                  <a:lnTo>
                    <a:pt x="9019" y="3316"/>
                  </a:lnTo>
                  <a:lnTo>
                    <a:pt x="9019" y="3175"/>
                  </a:lnTo>
                  <a:lnTo>
                    <a:pt x="9019" y="3038"/>
                  </a:lnTo>
                  <a:lnTo>
                    <a:pt x="9019" y="2901"/>
                  </a:lnTo>
                  <a:lnTo>
                    <a:pt x="9019" y="2760"/>
                  </a:lnTo>
                  <a:lnTo>
                    <a:pt x="8975" y="2623"/>
                  </a:lnTo>
                  <a:lnTo>
                    <a:pt x="8927" y="2487"/>
                  </a:lnTo>
                  <a:lnTo>
                    <a:pt x="8790" y="2438"/>
                  </a:lnTo>
                  <a:lnTo>
                    <a:pt x="8653" y="2394"/>
                  </a:lnTo>
                  <a:lnTo>
                    <a:pt x="8512" y="2301"/>
                  </a:lnTo>
                  <a:lnTo>
                    <a:pt x="8376" y="2257"/>
                  </a:lnTo>
                  <a:lnTo>
                    <a:pt x="8239" y="2209"/>
                  </a:lnTo>
                  <a:lnTo>
                    <a:pt x="8102" y="2165"/>
                  </a:lnTo>
                  <a:lnTo>
                    <a:pt x="7961" y="2116"/>
                  </a:lnTo>
                  <a:lnTo>
                    <a:pt x="7824" y="2072"/>
                  </a:lnTo>
                  <a:lnTo>
                    <a:pt x="7688" y="2024"/>
                  </a:lnTo>
                  <a:lnTo>
                    <a:pt x="7547" y="1979"/>
                  </a:lnTo>
                  <a:lnTo>
                    <a:pt x="7410" y="1931"/>
                  </a:lnTo>
                  <a:lnTo>
                    <a:pt x="7273" y="1887"/>
                  </a:lnTo>
                  <a:lnTo>
                    <a:pt x="7132" y="1794"/>
                  </a:lnTo>
                  <a:lnTo>
                    <a:pt x="6809" y="1794"/>
                  </a:lnTo>
                  <a:lnTo>
                    <a:pt x="6443" y="1702"/>
                  </a:lnTo>
                  <a:lnTo>
                    <a:pt x="6306" y="1658"/>
                  </a:lnTo>
                  <a:lnTo>
                    <a:pt x="6165" y="1565"/>
                  </a:lnTo>
                  <a:lnTo>
                    <a:pt x="6121" y="1428"/>
                  </a:lnTo>
                  <a:lnTo>
                    <a:pt x="6073" y="1287"/>
                  </a:lnTo>
                  <a:lnTo>
                    <a:pt x="6029" y="1150"/>
                  </a:lnTo>
                  <a:lnTo>
                    <a:pt x="5984" y="1014"/>
                  </a:lnTo>
                  <a:lnTo>
                    <a:pt x="5936" y="873"/>
                  </a:lnTo>
                  <a:lnTo>
                    <a:pt x="5843" y="736"/>
                  </a:lnTo>
                  <a:lnTo>
                    <a:pt x="5799" y="599"/>
                  </a:lnTo>
                  <a:lnTo>
                    <a:pt x="5799" y="463"/>
                  </a:lnTo>
                  <a:lnTo>
                    <a:pt x="5799" y="321"/>
                  </a:lnTo>
                  <a:lnTo>
                    <a:pt x="5663" y="185"/>
                  </a:lnTo>
                  <a:lnTo>
                    <a:pt x="5521" y="92"/>
                  </a:lnTo>
                  <a:lnTo>
                    <a:pt x="5385" y="0"/>
                  </a:lnTo>
                  <a:lnTo>
                    <a:pt x="5248" y="0"/>
                  </a:lnTo>
                  <a:lnTo>
                    <a:pt x="5107" y="0"/>
                  </a:lnTo>
                  <a:lnTo>
                    <a:pt x="4970" y="0"/>
                  </a:lnTo>
                  <a:lnTo>
                    <a:pt x="4834" y="0"/>
                  </a:lnTo>
                  <a:lnTo>
                    <a:pt x="4692" y="0"/>
                  </a:lnTo>
                  <a:lnTo>
                    <a:pt x="4556" y="0"/>
                  </a:lnTo>
                  <a:lnTo>
                    <a:pt x="4419" y="0"/>
                  </a:lnTo>
                  <a:lnTo>
                    <a:pt x="4278" y="0"/>
                  </a:lnTo>
                  <a:lnTo>
                    <a:pt x="4141" y="0"/>
                  </a:lnTo>
                  <a:lnTo>
                    <a:pt x="4005" y="0"/>
                  </a:lnTo>
                  <a:lnTo>
                    <a:pt x="3868" y="0"/>
                  </a:lnTo>
                  <a:lnTo>
                    <a:pt x="3727" y="0"/>
                  </a:lnTo>
                  <a:lnTo>
                    <a:pt x="3590" y="0"/>
                  </a:lnTo>
                  <a:lnTo>
                    <a:pt x="3453" y="92"/>
                  </a:lnTo>
                  <a:lnTo>
                    <a:pt x="3312" y="92"/>
                  </a:lnTo>
                  <a:lnTo>
                    <a:pt x="3176" y="92"/>
                  </a:lnTo>
                  <a:lnTo>
                    <a:pt x="3083" y="229"/>
                  </a:lnTo>
                  <a:lnTo>
                    <a:pt x="2990" y="370"/>
                  </a:lnTo>
                  <a:lnTo>
                    <a:pt x="2898" y="507"/>
                  </a:lnTo>
                  <a:lnTo>
                    <a:pt x="2809" y="643"/>
                  </a:lnTo>
                  <a:lnTo>
                    <a:pt x="2854" y="784"/>
                  </a:lnTo>
                  <a:lnTo>
                    <a:pt x="2898" y="921"/>
                  </a:lnTo>
                  <a:lnTo>
                    <a:pt x="2898" y="1058"/>
                  </a:lnTo>
                  <a:lnTo>
                    <a:pt x="2898" y="1199"/>
                  </a:lnTo>
                  <a:lnTo>
                    <a:pt x="2898" y="1336"/>
                  </a:lnTo>
                  <a:lnTo>
                    <a:pt x="2898" y="1472"/>
                  </a:lnTo>
                  <a:lnTo>
                    <a:pt x="2898" y="1609"/>
                  </a:lnTo>
                  <a:lnTo>
                    <a:pt x="2898" y="1750"/>
                  </a:lnTo>
                  <a:lnTo>
                    <a:pt x="2898" y="1887"/>
                  </a:lnTo>
                  <a:lnTo>
                    <a:pt x="2854" y="2024"/>
                  </a:lnTo>
                  <a:lnTo>
                    <a:pt x="2761" y="2165"/>
                  </a:lnTo>
                  <a:lnTo>
                    <a:pt x="2624" y="2257"/>
                  </a:lnTo>
                  <a:lnTo>
                    <a:pt x="2488" y="2394"/>
                  </a:lnTo>
                  <a:lnTo>
                    <a:pt x="2395" y="2531"/>
                  </a:lnTo>
                  <a:lnTo>
                    <a:pt x="2253" y="2623"/>
                  </a:lnTo>
                  <a:lnTo>
                    <a:pt x="2116" y="2716"/>
                  </a:lnTo>
                  <a:lnTo>
                    <a:pt x="1979" y="2808"/>
                  </a:lnTo>
                  <a:lnTo>
                    <a:pt x="1838" y="2901"/>
                  </a:lnTo>
                  <a:lnTo>
                    <a:pt x="1702" y="2989"/>
                  </a:lnTo>
                  <a:lnTo>
                    <a:pt x="1565" y="3130"/>
                  </a:lnTo>
                  <a:lnTo>
                    <a:pt x="1428" y="3223"/>
                  </a:lnTo>
                  <a:lnTo>
                    <a:pt x="1287" y="3316"/>
                  </a:lnTo>
                  <a:lnTo>
                    <a:pt x="1150" y="3404"/>
                  </a:lnTo>
                  <a:lnTo>
                    <a:pt x="1014" y="3496"/>
                  </a:lnTo>
                  <a:lnTo>
                    <a:pt x="921" y="3638"/>
                  </a:lnTo>
                  <a:lnTo>
                    <a:pt x="829" y="3774"/>
                  </a:lnTo>
                  <a:lnTo>
                    <a:pt x="736" y="3911"/>
                  </a:lnTo>
                  <a:lnTo>
                    <a:pt x="643" y="4048"/>
                  </a:lnTo>
                  <a:lnTo>
                    <a:pt x="551" y="4189"/>
                  </a:lnTo>
                  <a:lnTo>
                    <a:pt x="414" y="4325"/>
                  </a:lnTo>
                  <a:lnTo>
                    <a:pt x="370" y="4462"/>
                  </a:lnTo>
                  <a:lnTo>
                    <a:pt x="277" y="4603"/>
                  </a:lnTo>
                  <a:lnTo>
                    <a:pt x="185" y="4740"/>
                  </a:lnTo>
                  <a:lnTo>
                    <a:pt x="92" y="4878"/>
                  </a:lnTo>
                  <a:lnTo>
                    <a:pt x="44" y="5019"/>
                  </a:lnTo>
                  <a:lnTo>
                    <a:pt x="0" y="5155"/>
                  </a:lnTo>
                  <a:lnTo>
                    <a:pt x="0" y="5292"/>
                  </a:lnTo>
                  <a:lnTo>
                    <a:pt x="101" y="516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5846760" y="2438280"/>
              <a:ext cx="1690920" cy="2399040"/>
            </a:xfrm>
            <a:custGeom>
              <a:avLst/>
              <a:gdLst/>
              <a:ahLst/>
              <a:rect l="0" t="0" r="r" b="b"/>
              <a:pathLst>
                <a:path fill="none" w="4697" h="6664">
                  <a:moveTo>
                    <a:pt x="3233" y="0"/>
                  </a:moveTo>
                  <a:lnTo>
                    <a:pt x="3087" y="35"/>
                  </a:lnTo>
                  <a:lnTo>
                    <a:pt x="2946" y="35"/>
                  </a:lnTo>
                  <a:lnTo>
                    <a:pt x="2809" y="83"/>
                  </a:lnTo>
                  <a:lnTo>
                    <a:pt x="2673" y="127"/>
                  </a:lnTo>
                  <a:lnTo>
                    <a:pt x="2532" y="127"/>
                  </a:lnTo>
                  <a:lnTo>
                    <a:pt x="2395" y="127"/>
                  </a:lnTo>
                  <a:lnTo>
                    <a:pt x="2257" y="127"/>
                  </a:lnTo>
                  <a:lnTo>
                    <a:pt x="2116" y="127"/>
                  </a:lnTo>
                  <a:lnTo>
                    <a:pt x="1979" y="176"/>
                  </a:lnTo>
                  <a:lnTo>
                    <a:pt x="1843" y="220"/>
                  </a:lnTo>
                  <a:lnTo>
                    <a:pt x="1706" y="313"/>
                  </a:lnTo>
                  <a:lnTo>
                    <a:pt x="1565" y="405"/>
                  </a:lnTo>
                  <a:lnTo>
                    <a:pt x="1428" y="498"/>
                  </a:lnTo>
                  <a:lnTo>
                    <a:pt x="1292" y="590"/>
                  </a:lnTo>
                  <a:lnTo>
                    <a:pt x="1199" y="727"/>
                  </a:lnTo>
                  <a:lnTo>
                    <a:pt x="1150" y="864"/>
                  </a:lnTo>
                  <a:lnTo>
                    <a:pt x="1058" y="1001"/>
                  </a:lnTo>
                  <a:lnTo>
                    <a:pt x="921" y="1142"/>
                  </a:lnTo>
                  <a:lnTo>
                    <a:pt x="829" y="1278"/>
                  </a:lnTo>
                  <a:lnTo>
                    <a:pt x="692" y="1371"/>
                  </a:lnTo>
                  <a:lnTo>
                    <a:pt x="599" y="1508"/>
                  </a:lnTo>
                  <a:lnTo>
                    <a:pt x="507" y="1649"/>
                  </a:lnTo>
                  <a:lnTo>
                    <a:pt x="463" y="1785"/>
                  </a:lnTo>
                  <a:lnTo>
                    <a:pt x="414" y="1922"/>
                  </a:lnTo>
                  <a:lnTo>
                    <a:pt x="370" y="2059"/>
                  </a:lnTo>
                  <a:lnTo>
                    <a:pt x="277" y="2200"/>
                  </a:lnTo>
                  <a:lnTo>
                    <a:pt x="185" y="2337"/>
                  </a:lnTo>
                  <a:lnTo>
                    <a:pt x="141" y="2473"/>
                  </a:lnTo>
                  <a:lnTo>
                    <a:pt x="48" y="2614"/>
                  </a:lnTo>
                  <a:lnTo>
                    <a:pt x="0" y="2751"/>
                  </a:lnTo>
                  <a:lnTo>
                    <a:pt x="0" y="2888"/>
                  </a:lnTo>
                  <a:lnTo>
                    <a:pt x="0" y="3029"/>
                  </a:lnTo>
                  <a:lnTo>
                    <a:pt x="48" y="3166"/>
                  </a:lnTo>
                  <a:lnTo>
                    <a:pt x="92" y="3302"/>
                  </a:lnTo>
                  <a:lnTo>
                    <a:pt x="185" y="3444"/>
                  </a:lnTo>
                  <a:lnTo>
                    <a:pt x="326" y="3533"/>
                  </a:lnTo>
                  <a:lnTo>
                    <a:pt x="463" y="3581"/>
                  </a:lnTo>
                  <a:lnTo>
                    <a:pt x="599" y="3718"/>
                  </a:lnTo>
                  <a:lnTo>
                    <a:pt x="692" y="3855"/>
                  </a:lnTo>
                  <a:lnTo>
                    <a:pt x="784" y="3996"/>
                  </a:lnTo>
                  <a:lnTo>
                    <a:pt x="921" y="4088"/>
                  </a:lnTo>
                  <a:lnTo>
                    <a:pt x="970" y="4225"/>
                  </a:lnTo>
                  <a:lnTo>
                    <a:pt x="1014" y="4362"/>
                  </a:lnTo>
                  <a:lnTo>
                    <a:pt x="1014" y="4503"/>
                  </a:lnTo>
                  <a:lnTo>
                    <a:pt x="1014" y="4640"/>
                  </a:lnTo>
                  <a:lnTo>
                    <a:pt x="970" y="4776"/>
                  </a:lnTo>
                  <a:lnTo>
                    <a:pt x="970" y="4913"/>
                  </a:lnTo>
                  <a:lnTo>
                    <a:pt x="1058" y="5054"/>
                  </a:lnTo>
                  <a:lnTo>
                    <a:pt x="1199" y="5147"/>
                  </a:lnTo>
                  <a:lnTo>
                    <a:pt x="1336" y="5191"/>
                  </a:lnTo>
                  <a:lnTo>
                    <a:pt x="1472" y="5191"/>
                  </a:lnTo>
                  <a:lnTo>
                    <a:pt x="1613" y="5147"/>
                  </a:lnTo>
                  <a:lnTo>
                    <a:pt x="1750" y="5054"/>
                  </a:lnTo>
                  <a:lnTo>
                    <a:pt x="1843" y="4913"/>
                  </a:lnTo>
                  <a:lnTo>
                    <a:pt x="1887" y="4776"/>
                  </a:lnTo>
                  <a:lnTo>
                    <a:pt x="1935" y="4640"/>
                  </a:lnTo>
                  <a:lnTo>
                    <a:pt x="2028" y="4503"/>
                  </a:lnTo>
                  <a:lnTo>
                    <a:pt x="2116" y="4362"/>
                  </a:lnTo>
                  <a:lnTo>
                    <a:pt x="2165" y="4225"/>
                  </a:lnTo>
                  <a:lnTo>
                    <a:pt x="2301" y="4177"/>
                  </a:lnTo>
                  <a:lnTo>
                    <a:pt x="2443" y="4225"/>
                  </a:lnTo>
                  <a:lnTo>
                    <a:pt x="2580" y="4318"/>
                  </a:lnTo>
                  <a:lnTo>
                    <a:pt x="2624" y="4454"/>
                  </a:lnTo>
                  <a:lnTo>
                    <a:pt x="2765" y="4591"/>
                  </a:lnTo>
                  <a:lnTo>
                    <a:pt x="2854" y="4732"/>
                  </a:lnTo>
                  <a:lnTo>
                    <a:pt x="2854" y="4869"/>
                  </a:lnTo>
                  <a:lnTo>
                    <a:pt x="2854" y="5006"/>
                  </a:lnTo>
                  <a:lnTo>
                    <a:pt x="2902" y="5147"/>
                  </a:lnTo>
                  <a:lnTo>
                    <a:pt x="2902" y="5283"/>
                  </a:lnTo>
                  <a:lnTo>
                    <a:pt x="2946" y="5420"/>
                  </a:lnTo>
                  <a:lnTo>
                    <a:pt x="2995" y="5561"/>
                  </a:lnTo>
                  <a:lnTo>
                    <a:pt x="3039" y="5698"/>
                  </a:lnTo>
                  <a:lnTo>
                    <a:pt x="3087" y="5835"/>
                  </a:lnTo>
                  <a:lnTo>
                    <a:pt x="3176" y="5971"/>
                  </a:lnTo>
                  <a:lnTo>
                    <a:pt x="3224" y="6112"/>
                  </a:lnTo>
                  <a:lnTo>
                    <a:pt x="3268" y="6249"/>
                  </a:lnTo>
                  <a:lnTo>
                    <a:pt x="3317" y="6386"/>
                  </a:lnTo>
                  <a:lnTo>
                    <a:pt x="3409" y="6527"/>
                  </a:lnTo>
                  <a:lnTo>
                    <a:pt x="3453" y="6664"/>
                  </a:lnTo>
                  <a:lnTo>
                    <a:pt x="3590" y="6664"/>
                  </a:lnTo>
                  <a:lnTo>
                    <a:pt x="3731" y="6664"/>
                  </a:lnTo>
                  <a:lnTo>
                    <a:pt x="3868" y="6664"/>
                  </a:lnTo>
                  <a:lnTo>
                    <a:pt x="4005" y="6664"/>
                  </a:lnTo>
                  <a:lnTo>
                    <a:pt x="4146" y="6664"/>
                  </a:lnTo>
                  <a:lnTo>
                    <a:pt x="4282" y="6664"/>
                  </a:lnTo>
                  <a:lnTo>
                    <a:pt x="4419" y="6571"/>
                  </a:lnTo>
                  <a:lnTo>
                    <a:pt x="4512" y="6434"/>
                  </a:lnTo>
                  <a:lnTo>
                    <a:pt x="4604" y="6293"/>
                  </a:lnTo>
                  <a:lnTo>
                    <a:pt x="4648" y="6156"/>
                  </a:lnTo>
                  <a:lnTo>
                    <a:pt x="4697" y="6020"/>
                  </a:lnTo>
                  <a:lnTo>
                    <a:pt x="4697" y="5883"/>
                  </a:lnTo>
                  <a:lnTo>
                    <a:pt x="4697" y="5742"/>
                  </a:lnTo>
                  <a:lnTo>
                    <a:pt x="4697" y="5605"/>
                  </a:lnTo>
                  <a:lnTo>
                    <a:pt x="4604" y="5469"/>
                  </a:lnTo>
                  <a:lnTo>
                    <a:pt x="4604" y="5147"/>
                  </a:lnTo>
                  <a:lnTo>
                    <a:pt x="4512" y="5006"/>
                  </a:lnTo>
                  <a:lnTo>
                    <a:pt x="4468" y="4869"/>
                  </a:lnTo>
                  <a:lnTo>
                    <a:pt x="4468" y="4732"/>
                  </a:lnTo>
                  <a:lnTo>
                    <a:pt x="4468" y="4591"/>
                  </a:lnTo>
                  <a:lnTo>
                    <a:pt x="4468" y="4454"/>
                  </a:lnTo>
                  <a:lnTo>
                    <a:pt x="4468" y="4318"/>
                  </a:lnTo>
                  <a:lnTo>
                    <a:pt x="4512" y="4177"/>
                  </a:lnTo>
                  <a:lnTo>
                    <a:pt x="4512" y="4040"/>
                  </a:lnTo>
                  <a:lnTo>
                    <a:pt x="4560" y="3903"/>
                  </a:lnTo>
                  <a:lnTo>
                    <a:pt x="4560" y="3766"/>
                  </a:lnTo>
                  <a:lnTo>
                    <a:pt x="4560" y="3625"/>
                  </a:lnTo>
                  <a:lnTo>
                    <a:pt x="4560" y="3489"/>
                  </a:lnTo>
                  <a:lnTo>
                    <a:pt x="4468" y="3352"/>
                  </a:lnTo>
                  <a:lnTo>
                    <a:pt x="4375" y="3210"/>
                  </a:lnTo>
                  <a:lnTo>
                    <a:pt x="4282" y="3073"/>
                  </a:lnTo>
                  <a:lnTo>
                    <a:pt x="4234" y="2936"/>
                  </a:lnTo>
                  <a:lnTo>
                    <a:pt x="4190" y="2795"/>
                  </a:lnTo>
                  <a:lnTo>
                    <a:pt x="4146" y="2659"/>
                  </a:lnTo>
                  <a:lnTo>
                    <a:pt x="4146" y="2522"/>
                  </a:lnTo>
                  <a:lnTo>
                    <a:pt x="4146" y="2200"/>
                  </a:lnTo>
                  <a:lnTo>
                    <a:pt x="4146" y="1830"/>
                  </a:lnTo>
                  <a:lnTo>
                    <a:pt x="4146" y="1415"/>
                  </a:lnTo>
                  <a:lnTo>
                    <a:pt x="4097" y="1278"/>
                  </a:lnTo>
                  <a:lnTo>
                    <a:pt x="4053" y="1142"/>
                  </a:lnTo>
                  <a:lnTo>
                    <a:pt x="3960" y="1001"/>
                  </a:lnTo>
                  <a:lnTo>
                    <a:pt x="3824" y="864"/>
                  </a:lnTo>
                  <a:lnTo>
                    <a:pt x="3731" y="727"/>
                  </a:lnTo>
                  <a:lnTo>
                    <a:pt x="3590" y="590"/>
                  </a:lnTo>
                  <a:lnTo>
                    <a:pt x="3453" y="449"/>
                  </a:lnTo>
                  <a:lnTo>
                    <a:pt x="3361" y="313"/>
                  </a:lnTo>
                  <a:lnTo>
                    <a:pt x="3224" y="176"/>
                  </a:lnTo>
                  <a:lnTo>
                    <a:pt x="3131" y="35"/>
                  </a:lnTo>
                  <a:lnTo>
                    <a:pt x="3233" y="0"/>
                  </a:lnTo>
                </a:path>
              </a:pathLst>
            </a:custGeom>
            <a:ln w="12600">
              <a:solidFill>
                <a:srgbClr val="ffffff"/>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a:off x="380880" y="518148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a:off x="380880" y="594360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txBox="1"/>
            <p:nvPr/>
          </p:nvSpPr>
          <p:spPr>
            <a:xfrm>
              <a:off x="1736640" y="4875120"/>
              <a:ext cx="145584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Narrow"/>
                  <a:ea typeface="Arial Narrow"/>
                </a:rPr>
                <a:t>824 BC</a:t>
              </a:r>
              <a:endParaRPr b="0" lang="en-US" sz="3600" spc="-1" strike="noStrike">
                <a:solidFill>
                  <a:srgbClr val="000000"/>
                </a:solidFill>
                <a:latin typeface="Arial"/>
              </a:endParaRPr>
            </a:p>
          </p:txBody>
        </p:sp>
        <p:sp>
          <p:nvSpPr>
            <p:cNvPr id="546" name=""/>
            <p:cNvSpPr txBox="1"/>
            <p:nvPr/>
          </p:nvSpPr>
          <p:spPr>
            <a:xfrm>
              <a:off x="1660680" y="5637240"/>
              <a:ext cx="145584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Narrow"/>
                  <a:ea typeface="Arial Narrow"/>
                </a:rPr>
                <a:t>640 BC</a:t>
              </a:r>
              <a:endParaRPr b="0" lang="en-US" sz="3600" spc="-1" strike="noStrike">
                <a:solidFill>
                  <a:srgbClr val="000000"/>
                </a:solidFill>
                <a:latin typeface="Arial"/>
              </a:endParaRPr>
            </a:p>
          </p:txBody>
        </p:sp>
        <p:sp>
          <p:nvSpPr>
            <p:cNvPr id="547" name=""/>
            <p:cNvSpPr txBox="1"/>
            <p:nvPr/>
          </p:nvSpPr>
          <p:spPr>
            <a:xfrm>
              <a:off x="5241960" y="3703680"/>
              <a:ext cx="2814480" cy="579600"/>
            </a:xfrm>
            <a:prstGeom prst="rect">
              <a:avLst/>
            </a:prstGeom>
            <a:noFill/>
            <a:ln w="0">
              <a:noFill/>
            </a:ln>
          </p:spPr>
          <p:txBody>
            <a:bodyPr lIns="0" rIns="0" tIns="0" bIns="0" anchor="t">
              <a:noAutofit/>
            </a:bodyPr>
            <a:p>
              <a:pPr>
                <a:lnSpc>
                  <a:spcPct val="100000"/>
                </a:lnSpc>
              </a:pPr>
              <a:r>
                <a:rPr b="1" lang="en-US" sz="3200" spc="-1" strike="noStrike">
                  <a:solidFill>
                    <a:srgbClr val="fafd00"/>
                  </a:solidFill>
                  <a:latin typeface="Arial Narrow"/>
                  <a:ea typeface="Arial Narrow"/>
                </a:rPr>
                <a:t>Assyrian Empire</a:t>
              </a:r>
              <a:endParaRPr b="0" lang="en-US" sz="3200" spc="-1" strike="noStrike">
                <a:solidFill>
                  <a:srgbClr val="000000"/>
                </a:solidFill>
                <a:latin typeface="Arial"/>
              </a:endParaRPr>
            </a:p>
          </p:txBody>
        </p:sp>
        <p:sp>
          <p:nvSpPr>
            <p:cNvPr id="548" name=""/>
            <p:cNvSpPr/>
            <p:nvPr/>
          </p:nvSpPr>
          <p:spPr>
            <a:xfrm>
              <a:off x="5797440" y="4419720"/>
              <a:ext cx="167040" cy="201960"/>
            </a:xfrm>
            <a:custGeom>
              <a:avLst/>
              <a:gdLst/>
              <a:ahLst/>
              <a:rect l="0" t="0" r="r" b="b"/>
              <a:pathLst>
                <a:path w="464" h="561">
                  <a:moveTo>
                    <a:pt x="406" y="0"/>
                  </a:moveTo>
                  <a:lnTo>
                    <a:pt x="229" y="101"/>
                  </a:lnTo>
                  <a:lnTo>
                    <a:pt x="92" y="145"/>
                  </a:lnTo>
                  <a:lnTo>
                    <a:pt x="0" y="287"/>
                  </a:lnTo>
                  <a:lnTo>
                    <a:pt x="48" y="424"/>
                  </a:lnTo>
                  <a:lnTo>
                    <a:pt x="92" y="561"/>
                  </a:lnTo>
                  <a:lnTo>
                    <a:pt x="229" y="561"/>
                  </a:lnTo>
                  <a:lnTo>
                    <a:pt x="322" y="424"/>
                  </a:lnTo>
                  <a:lnTo>
                    <a:pt x="415" y="287"/>
                  </a:lnTo>
                  <a:lnTo>
                    <a:pt x="415" y="145"/>
                  </a:lnTo>
                  <a:lnTo>
                    <a:pt x="464" y="8"/>
                  </a:lnTo>
                  <a:lnTo>
                    <a:pt x="406" y="0"/>
                  </a:lnTo>
                  <a:close/>
                </a:path>
              </a:pathLst>
            </a:custGeom>
            <a:solidFill>
              <a:srgbClr val="438e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9" name=""/>
            <p:cNvSpPr txBox="1"/>
            <p:nvPr/>
          </p:nvSpPr>
          <p:spPr>
            <a:xfrm>
              <a:off x="5927760" y="4251240"/>
              <a:ext cx="1014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Judah</a:t>
              </a:r>
              <a:endParaRPr b="0" lang="en-US" sz="2400" spc="-1" strike="noStrike">
                <a:solidFill>
                  <a:srgbClr val="000000"/>
                </a:solidFill>
                <a:latin typeface="Arial"/>
              </a:endParaRPr>
            </a:p>
          </p:txBody>
        </p:sp>
        <p:sp>
          <p:nvSpPr>
            <p:cNvPr id="550" name=""/>
            <p:cNvSpPr txBox="1"/>
            <p:nvPr/>
          </p:nvSpPr>
          <p:spPr>
            <a:xfrm>
              <a:off x="4784760" y="4937040"/>
              <a:ext cx="9637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gypt</a:t>
              </a:r>
              <a:endParaRPr b="0" lang="en-US" sz="2400" spc="-1" strike="noStrike">
                <a:solidFill>
                  <a:srgbClr val="000000"/>
                </a:solidFill>
                <a:latin typeface="Arial"/>
              </a:endParaRPr>
            </a:p>
          </p:txBody>
        </p:sp>
        <p:sp>
          <p:nvSpPr>
            <p:cNvPr id="551" name=""/>
            <p:cNvSpPr txBox="1"/>
            <p:nvPr/>
          </p:nvSpPr>
          <p:spPr>
            <a:xfrm>
              <a:off x="685800" y="685800"/>
              <a:ext cx="7772400" cy="1143000"/>
            </a:xfrm>
            <a:prstGeom prst="rect">
              <a:avLst/>
            </a:prstGeom>
            <a:noFill/>
            <a:ln w="0">
              <a:noFill/>
            </a:ln>
          </p:spPr>
          <p:txBody>
            <a:bodyPr lIns="0" rIns="0" tIns="0" bIns="0" anchor="t">
              <a:noAutofit/>
            </a:bodyPr>
            <a:p>
              <a:pPr algn="ctr">
                <a:lnSpc>
                  <a:spcPct val="100000"/>
                </a:lnSpc>
              </a:pPr>
              <a:r>
                <a:rPr b="1" lang="en-US" sz="4400" spc="-1" strike="noStrike" u="sng">
                  <a:solidFill>
                    <a:srgbClr val="fafd00"/>
                  </a:solidFill>
                  <a:uFillTx/>
                  <a:latin typeface="Arial"/>
                  <a:ea typeface="Arial"/>
                </a:rPr>
                <a:t>Assyrian Empire</a:t>
              </a:r>
              <a:endParaRPr b="0" lang="en-US" sz="4400" spc="-1" strike="noStrike">
                <a:solidFill>
                  <a:srgbClr val="000000"/>
                </a:solidFill>
                <a:latin typeface="Arial"/>
              </a:endParaRPr>
            </a:p>
          </p:txBody>
        </p:sp>
        <p:sp>
          <p:nvSpPr>
            <p:cNvPr id="552" name=""/>
            <p:cNvSpPr txBox="1"/>
            <p:nvPr/>
          </p:nvSpPr>
          <p:spPr>
            <a:xfrm>
              <a:off x="60480" y="647712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553" name=""/>
          <p:cNvGrpSpPr/>
          <p:nvPr/>
        </p:nvGrpSpPr>
        <p:grpSpPr>
          <a:xfrm>
            <a:off x="0" y="685800"/>
            <a:ext cx="9131760" cy="6159960"/>
            <a:chOff x="0" y="685800"/>
            <a:chExt cx="9131760" cy="6159960"/>
          </a:xfrm>
        </p:grpSpPr>
        <p:sp>
          <p:nvSpPr>
            <p:cNvPr id="554" name=""/>
            <p:cNvSpPr/>
            <p:nvPr/>
          </p:nvSpPr>
          <p:spPr>
            <a:xfrm>
              <a:off x="0" y="762120"/>
              <a:ext cx="9067680" cy="6019920"/>
            </a:xfrm>
            <a:prstGeom prst="rect">
              <a:avLst/>
            </a:prstGeom>
            <a:solidFill>
              <a:srgbClr val="00ae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a:off x="7620120" y="5168880"/>
              <a:ext cx="1511640" cy="1676880"/>
            </a:xfrm>
            <a:custGeom>
              <a:avLst/>
              <a:gdLst/>
              <a:ahLst/>
              <a:rect l="0" t="0" r="r" b="b"/>
              <a:pathLst>
                <a:path w="4199" h="4658">
                  <a:moveTo>
                    <a:pt x="4022" y="2152"/>
                  </a:moveTo>
                  <a:lnTo>
                    <a:pt x="3868" y="2069"/>
                  </a:lnTo>
                  <a:lnTo>
                    <a:pt x="3727" y="2117"/>
                  </a:lnTo>
                  <a:lnTo>
                    <a:pt x="3590" y="2117"/>
                  </a:lnTo>
                  <a:lnTo>
                    <a:pt x="3453" y="2069"/>
                  </a:lnTo>
                  <a:lnTo>
                    <a:pt x="3312" y="1976"/>
                  </a:lnTo>
                  <a:lnTo>
                    <a:pt x="3176" y="1883"/>
                  </a:lnTo>
                  <a:lnTo>
                    <a:pt x="3039" y="1795"/>
                  </a:lnTo>
                  <a:lnTo>
                    <a:pt x="2898" y="1703"/>
                  </a:lnTo>
                  <a:lnTo>
                    <a:pt x="2809" y="1562"/>
                  </a:lnTo>
                  <a:lnTo>
                    <a:pt x="2668" y="1473"/>
                  </a:lnTo>
                  <a:lnTo>
                    <a:pt x="2576" y="1332"/>
                  </a:lnTo>
                  <a:lnTo>
                    <a:pt x="2439" y="1240"/>
                  </a:lnTo>
                  <a:lnTo>
                    <a:pt x="2302" y="1240"/>
                  </a:lnTo>
                  <a:lnTo>
                    <a:pt x="2161" y="1240"/>
                  </a:lnTo>
                  <a:lnTo>
                    <a:pt x="2024" y="1288"/>
                  </a:lnTo>
                  <a:lnTo>
                    <a:pt x="1887" y="1288"/>
                  </a:lnTo>
                  <a:lnTo>
                    <a:pt x="1750" y="1150"/>
                  </a:lnTo>
                  <a:lnTo>
                    <a:pt x="1609" y="1058"/>
                  </a:lnTo>
                  <a:lnTo>
                    <a:pt x="1516" y="917"/>
                  </a:lnTo>
                  <a:lnTo>
                    <a:pt x="1380" y="824"/>
                  </a:lnTo>
                  <a:lnTo>
                    <a:pt x="1243" y="736"/>
                  </a:lnTo>
                  <a:lnTo>
                    <a:pt x="1102" y="643"/>
                  </a:lnTo>
                  <a:lnTo>
                    <a:pt x="965" y="502"/>
                  </a:lnTo>
                  <a:lnTo>
                    <a:pt x="829" y="414"/>
                  </a:lnTo>
                  <a:lnTo>
                    <a:pt x="692" y="321"/>
                  </a:lnTo>
                  <a:lnTo>
                    <a:pt x="551" y="229"/>
                  </a:lnTo>
                  <a:lnTo>
                    <a:pt x="414" y="92"/>
                  </a:lnTo>
                  <a:lnTo>
                    <a:pt x="423" y="35"/>
                  </a:lnTo>
                  <a:lnTo>
                    <a:pt x="277" y="92"/>
                  </a:lnTo>
                  <a:lnTo>
                    <a:pt x="136" y="44"/>
                  </a:lnTo>
                  <a:lnTo>
                    <a:pt x="0" y="0"/>
                  </a:lnTo>
                  <a:lnTo>
                    <a:pt x="0" y="136"/>
                  </a:lnTo>
                  <a:lnTo>
                    <a:pt x="136" y="136"/>
                  </a:lnTo>
                  <a:lnTo>
                    <a:pt x="277" y="180"/>
                  </a:lnTo>
                  <a:lnTo>
                    <a:pt x="414" y="321"/>
                  </a:lnTo>
                  <a:lnTo>
                    <a:pt x="507" y="458"/>
                  </a:lnTo>
                  <a:lnTo>
                    <a:pt x="458" y="595"/>
                  </a:lnTo>
                  <a:lnTo>
                    <a:pt x="414" y="736"/>
                  </a:lnTo>
                  <a:lnTo>
                    <a:pt x="366" y="873"/>
                  </a:lnTo>
                  <a:lnTo>
                    <a:pt x="321" y="1009"/>
                  </a:lnTo>
                  <a:lnTo>
                    <a:pt x="321" y="1150"/>
                  </a:lnTo>
                  <a:lnTo>
                    <a:pt x="321" y="1288"/>
                  </a:lnTo>
                  <a:lnTo>
                    <a:pt x="366" y="1425"/>
                  </a:lnTo>
                  <a:lnTo>
                    <a:pt x="414" y="1562"/>
                  </a:lnTo>
                  <a:lnTo>
                    <a:pt x="507" y="1703"/>
                  </a:lnTo>
                  <a:lnTo>
                    <a:pt x="551" y="1839"/>
                  </a:lnTo>
                  <a:lnTo>
                    <a:pt x="643" y="1976"/>
                  </a:lnTo>
                  <a:lnTo>
                    <a:pt x="780" y="2069"/>
                  </a:lnTo>
                  <a:lnTo>
                    <a:pt x="873" y="2210"/>
                  </a:lnTo>
                  <a:lnTo>
                    <a:pt x="921" y="2346"/>
                  </a:lnTo>
                  <a:lnTo>
                    <a:pt x="1058" y="2439"/>
                  </a:lnTo>
                  <a:lnTo>
                    <a:pt x="1195" y="2532"/>
                  </a:lnTo>
                  <a:lnTo>
                    <a:pt x="1336" y="2620"/>
                  </a:lnTo>
                  <a:lnTo>
                    <a:pt x="1336" y="2761"/>
                  </a:lnTo>
                  <a:lnTo>
                    <a:pt x="1380" y="2898"/>
                  </a:lnTo>
                  <a:lnTo>
                    <a:pt x="1424" y="3034"/>
                  </a:lnTo>
                  <a:lnTo>
                    <a:pt x="1472" y="3176"/>
                  </a:lnTo>
                  <a:lnTo>
                    <a:pt x="1565" y="3312"/>
                  </a:lnTo>
                  <a:lnTo>
                    <a:pt x="1658" y="3449"/>
                  </a:lnTo>
                  <a:lnTo>
                    <a:pt x="1750" y="3591"/>
                  </a:lnTo>
                  <a:lnTo>
                    <a:pt x="1838" y="3728"/>
                  </a:lnTo>
                  <a:lnTo>
                    <a:pt x="1931" y="3864"/>
                  </a:lnTo>
                  <a:lnTo>
                    <a:pt x="2072" y="3864"/>
                  </a:lnTo>
                  <a:lnTo>
                    <a:pt x="2117" y="3728"/>
                  </a:lnTo>
                  <a:lnTo>
                    <a:pt x="2254" y="3635"/>
                  </a:lnTo>
                  <a:lnTo>
                    <a:pt x="2302" y="3498"/>
                  </a:lnTo>
                  <a:lnTo>
                    <a:pt x="2395" y="3356"/>
                  </a:lnTo>
                  <a:lnTo>
                    <a:pt x="2483" y="3220"/>
                  </a:lnTo>
                  <a:lnTo>
                    <a:pt x="2576" y="3356"/>
                  </a:lnTo>
                  <a:lnTo>
                    <a:pt x="2717" y="3449"/>
                  </a:lnTo>
                  <a:lnTo>
                    <a:pt x="2809" y="3591"/>
                  </a:lnTo>
                  <a:lnTo>
                    <a:pt x="2809" y="3728"/>
                  </a:lnTo>
                  <a:lnTo>
                    <a:pt x="2761" y="3864"/>
                  </a:lnTo>
                  <a:lnTo>
                    <a:pt x="2668" y="4001"/>
                  </a:lnTo>
                  <a:lnTo>
                    <a:pt x="2717" y="4142"/>
                  </a:lnTo>
                  <a:lnTo>
                    <a:pt x="2854" y="4235"/>
                  </a:lnTo>
                  <a:lnTo>
                    <a:pt x="2946" y="4372"/>
                  </a:lnTo>
                  <a:lnTo>
                    <a:pt x="3083" y="4464"/>
                  </a:lnTo>
                  <a:lnTo>
                    <a:pt x="3220" y="4464"/>
                  </a:lnTo>
                  <a:lnTo>
                    <a:pt x="3361" y="4557"/>
                  </a:lnTo>
                  <a:lnTo>
                    <a:pt x="3497" y="4649"/>
                  </a:lnTo>
                  <a:lnTo>
                    <a:pt x="3634" y="4658"/>
                  </a:lnTo>
                  <a:lnTo>
                    <a:pt x="3775" y="4658"/>
                  </a:lnTo>
                  <a:lnTo>
                    <a:pt x="3912" y="4658"/>
                  </a:lnTo>
                  <a:lnTo>
                    <a:pt x="4049" y="4658"/>
                  </a:lnTo>
                  <a:lnTo>
                    <a:pt x="4190" y="4658"/>
                  </a:lnTo>
                  <a:lnTo>
                    <a:pt x="4190" y="4508"/>
                  </a:lnTo>
                  <a:lnTo>
                    <a:pt x="4190" y="4372"/>
                  </a:lnTo>
                  <a:lnTo>
                    <a:pt x="4199" y="4235"/>
                  </a:lnTo>
                  <a:lnTo>
                    <a:pt x="4199" y="4094"/>
                  </a:lnTo>
                  <a:lnTo>
                    <a:pt x="4199" y="3957"/>
                  </a:lnTo>
                  <a:lnTo>
                    <a:pt x="4199" y="3820"/>
                  </a:lnTo>
                  <a:lnTo>
                    <a:pt x="4199" y="3679"/>
                  </a:lnTo>
                  <a:lnTo>
                    <a:pt x="4199" y="3543"/>
                  </a:lnTo>
                  <a:lnTo>
                    <a:pt x="4199" y="3405"/>
                  </a:lnTo>
                  <a:lnTo>
                    <a:pt x="4199" y="3268"/>
                  </a:lnTo>
                  <a:lnTo>
                    <a:pt x="4199" y="3127"/>
                  </a:lnTo>
                  <a:lnTo>
                    <a:pt x="4199" y="2990"/>
                  </a:lnTo>
                  <a:lnTo>
                    <a:pt x="4199" y="2854"/>
                  </a:lnTo>
                  <a:lnTo>
                    <a:pt x="4199" y="2712"/>
                  </a:lnTo>
                  <a:lnTo>
                    <a:pt x="4199" y="2576"/>
                  </a:lnTo>
                  <a:lnTo>
                    <a:pt x="4199" y="2439"/>
                  </a:lnTo>
                  <a:lnTo>
                    <a:pt x="4141" y="2298"/>
                  </a:lnTo>
                  <a:lnTo>
                    <a:pt x="4005" y="2254"/>
                  </a:lnTo>
                  <a:lnTo>
                    <a:pt x="4022" y="2152"/>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4952880" y="4648320"/>
              <a:ext cx="332280" cy="1548000"/>
            </a:xfrm>
            <a:custGeom>
              <a:avLst/>
              <a:gdLst/>
              <a:ahLst/>
              <a:rect l="0" t="0" r="r" b="b"/>
              <a:pathLst>
                <a:path w="923" h="4300">
                  <a:moveTo>
                    <a:pt x="0" y="0"/>
                  </a:moveTo>
                  <a:lnTo>
                    <a:pt x="92" y="154"/>
                  </a:lnTo>
                  <a:lnTo>
                    <a:pt x="185" y="295"/>
                  </a:lnTo>
                  <a:lnTo>
                    <a:pt x="185" y="432"/>
                  </a:lnTo>
                  <a:lnTo>
                    <a:pt x="185" y="568"/>
                  </a:lnTo>
                  <a:lnTo>
                    <a:pt x="185" y="709"/>
                  </a:lnTo>
                  <a:lnTo>
                    <a:pt x="136" y="846"/>
                  </a:lnTo>
                  <a:lnTo>
                    <a:pt x="136" y="983"/>
                  </a:lnTo>
                  <a:lnTo>
                    <a:pt x="136" y="1124"/>
                  </a:lnTo>
                  <a:lnTo>
                    <a:pt x="136" y="1261"/>
                  </a:lnTo>
                  <a:lnTo>
                    <a:pt x="136" y="1397"/>
                  </a:lnTo>
                  <a:lnTo>
                    <a:pt x="136" y="1538"/>
                  </a:lnTo>
                  <a:lnTo>
                    <a:pt x="136" y="1675"/>
                  </a:lnTo>
                  <a:lnTo>
                    <a:pt x="136" y="1812"/>
                  </a:lnTo>
                  <a:lnTo>
                    <a:pt x="185" y="1949"/>
                  </a:lnTo>
                  <a:lnTo>
                    <a:pt x="185" y="2090"/>
                  </a:lnTo>
                  <a:lnTo>
                    <a:pt x="185" y="2227"/>
                  </a:lnTo>
                  <a:lnTo>
                    <a:pt x="229" y="2364"/>
                  </a:lnTo>
                  <a:lnTo>
                    <a:pt x="278" y="2505"/>
                  </a:lnTo>
                  <a:lnTo>
                    <a:pt x="322" y="2642"/>
                  </a:lnTo>
                  <a:lnTo>
                    <a:pt x="415" y="2779"/>
                  </a:lnTo>
                  <a:lnTo>
                    <a:pt x="508" y="2920"/>
                  </a:lnTo>
                  <a:lnTo>
                    <a:pt x="600" y="3056"/>
                  </a:lnTo>
                  <a:lnTo>
                    <a:pt x="600" y="3193"/>
                  </a:lnTo>
                  <a:lnTo>
                    <a:pt x="644" y="3330"/>
                  </a:lnTo>
                  <a:lnTo>
                    <a:pt x="694" y="3471"/>
                  </a:lnTo>
                  <a:lnTo>
                    <a:pt x="782" y="3608"/>
                  </a:lnTo>
                  <a:lnTo>
                    <a:pt x="875" y="3744"/>
                  </a:lnTo>
                  <a:lnTo>
                    <a:pt x="923" y="3885"/>
                  </a:lnTo>
                  <a:lnTo>
                    <a:pt x="923" y="4022"/>
                  </a:lnTo>
                  <a:lnTo>
                    <a:pt x="923" y="4159"/>
                  </a:lnTo>
                  <a:lnTo>
                    <a:pt x="923" y="4300"/>
                  </a:lnTo>
                  <a:lnTo>
                    <a:pt x="848" y="3811"/>
                  </a:lnTo>
                  <a:lnTo>
                    <a:pt x="0" y="0"/>
                  </a:lnTo>
                  <a:close/>
                </a:path>
              </a:pathLst>
            </a:custGeom>
            <a:solidFill>
              <a:srgbClr val="114ffb"/>
            </a:solid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5135400" y="4937040"/>
              <a:ext cx="1573560" cy="1908360"/>
            </a:xfrm>
            <a:custGeom>
              <a:avLst/>
              <a:gdLst/>
              <a:ahLst/>
              <a:rect l="0" t="0" r="r" b="b"/>
              <a:pathLst>
                <a:path w="4371" h="5301">
                  <a:moveTo>
                    <a:pt x="127" y="44"/>
                  </a:moveTo>
                  <a:lnTo>
                    <a:pt x="273" y="180"/>
                  </a:lnTo>
                  <a:lnTo>
                    <a:pt x="273" y="321"/>
                  </a:lnTo>
                  <a:lnTo>
                    <a:pt x="321" y="458"/>
                  </a:lnTo>
                  <a:lnTo>
                    <a:pt x="366" y="595"/>
                  </a:lnTo>
                  <a:lnTo>
                    <a:pt x="414" y="736"/>
                  </a:lnTo>
                  <a:lnTo>
                    <a:pt x="507" y="873"/>
                  </a:lnTo>
                  <a:lnTo>
                    <a:pt x="595" y="1009"/>
                  </a:lnTo>
                  <a:lnTo>
                    <a:pt x="643" y="1146"/>
                  </a:lnTo>
                  <a:lnTo>
                    <a:pt x="736" y="1287"/>
                  </a:lnTo>
                  <a:lnTo>
                    <a:pt x="780" y="1424"/>
                  </a:lnTo>
                  <a:lnTo>
                    <a:pt x="917" y="1516"/>
                  </a:lnTo>
                  <a:lnTo>
                    <a:pt x="965" y="1653"/>
                  </a:lnTo>
                  <a:lnTo>
                    <a:pt x="1058" y="1794"/>
                  </a:lnTo>
                  <a:lnTo>
                    <a:pt x="1150" y="1931"/>
                  </a:lnTo>
                  <a:lnTo>
                    <a:pt x="1195" y="2068"/>
                  </a:lnTo>
                  <a:lnTo>
                    <a:pt x="1243" y="2204"/>
                  </a:lnTo>
                  <a:lnTo>
                    <a:pt x="1331" y="2345"/>
                  </a:lnTo>
                  <a:lnTo>
                    <a:pt x="1424" y="2482"/>
                  </a:lnTo>
                  <a:lnTo>
                    <a:pt x="1516" y="2619"/>
                  </a:lnTo>
                  <a:lnTo>
                    <a:pt x="1653" y="2761"/>
                  </a:lnTo>
                  <a:lnTo>
                    <a:pt x="1746" y="2898"/>
                  </a:lnTo>
                  <a:lnTo>
                    <a:pt x="1794" y="3034"/>
                  </a:lnTo>
                  <a:lnTo>
                    <a:pt x="1887" y="3176"/>
                  </a:lnTo>
                  <a:lnTo>
                    <a:pt x="1975" y="3312"/>
                  </a:lnTo>
                  <a:lnTo>
                    <a:pt x="2068" y="3449"/>
                  </a:lnTo>
                  <a:lnTo>
                    <a:pt x="2160" y="3586"/>
                  </a:lnTo>
                  <a:lnTo>
                    <a:pt x="2302" y="3727"/>
                  </a:lnTo>
                  <a:lnTo>
                    <a:pt x="2391" y="3863"/>
                  </a:lnTo>
                  <a:lnTo>
                    <a:pt x="2439" y="4000"/>
                  </a:lnTo>
                  <a:lnTo>
                    <a:pt x="2439" y="4141"/>
                  </a:lnTo>
                  <a:lnTo>
                    <a:pt x="2439" y="4278"/>
                  </a:lnTo>
                  <a:lnTo>
                    <a:pt x="2439" y="4415"/>
                  </a:lnTo>
                  <a:lnTo>
                    <a:pt x="2483" y="4556"/>
                  </a:lnTo>
                  <a:lnTo>
                    <a:pt x="2483" y="4692"/>
                  </a:lnTo>
                  <a:lnTo>
                    <a:pt x="2576" y="4829"/>
                  </a:lnTo>
                  <a:lnTo>
                    <a:pt x="2712" y="4970"/>
                  </a:lnTo>
                  <a:lnTo>
                    <a:pt x="2805" y="5107"/>
                  </a:lnTo>
                  <a:lnTo>
                    <a:pt x="2946" y="5244"/>
                  </a:lnTo>
                  <a:lnTo>
                    <a:pt x="3083" y="5301"/>
                  </a:lnTo>
                  <a:lnTo>
                    <a:pt x="3220" y="5301"/>
                  </a:lnTo>
                  <a:lnTo>
                    <a:pt x="3361" y="5301"/>
                  </a:lnTo>
                  <a:lnTo>
                    <a:pt x="3497" y="5301"/>
                  </a:lnTo>
                  <a:lnTo>
                    <a:pt x="3634" y="5301"/>
                  </a:lnTo>
                  <a:lnTo>
                    <a:pt x="3771" y="5301"/>
                  </a:lnTo>
                  <a:lnTo>
                    <a:pt x="3912" y="5301"/>
                  </a:lnTo>
                  <a:lnTo>
                    <a:pt x="4049" y="5301"/>
                  </a:lnTo>
                  <a:lnTo>
                    <a:pt x="4185" y="5301"/>
                  </a:lnTo>
                  <a:lnTo>
                    <a:pt x="4326" y="5301"/>
                  </a:lnTo>
                  <a:lnTo>
                    <a:pt x="4371" y="5151"/>
                  </a:lnTo>
                  <a:lnTo>
                    <a:pt x="4278" y="5014"/>
                  </a:lnTo>
                  <a:lnTo>
                    <a:pt x="4234" y="4878"/>
                  </a:lnTo>
                  <a:lnTo>
                    <a:pt x="4185" y="4737"/>
                  </a:lnTo>
                  <a:lnTo>
                    <a:pt x="4093" y="4600"/>
                  </a:lnTo>
                  <a:lnTo>
                    <a:pt x="4005" y="4463"/>
                  </a:lnTo>
                  <a:lnTo>
                    <a:pt x="3912" y="4322"/>
                  </a:lnTo>
                  <a:lnTo>
                    <a:pt x="3863" y="4185"/>
                  </a:lnTo>
                  <a:lnTo>
                    <a:pt x="3771" y="4049"/>
                  </a:lnTo>
                  <a:lnTo>
                    <a:pt x="3634" y="3912"/>
                  </a:lnTo>
                  <a:lnTo>
                    <a:pt x="3542" y="3771"/>
                  </a:lnTo>
                  <a:lnTo>
                    <a:pt x="3405" y="3634"/>
                  </a:lnTo>
                  <a:lnTo>
                    <a:pt x="3268" y="3542"/>
                  </a:lnTo>
                  <a:lnTo>
                    <a:pt x="3176" y="3405"/>
                  </a:lnTo>
                  <a:lnTo>
                    <a:pt x="3034" y="3312"/>
                  </a:lnTo>
                  <a:lnTo>
                    <a:pt x="2946" y="3176"/>
                  </a:lnTo>
                  <a:lnTo>
                    <a:pt x="2898" y="3034"/>
                  </a:lnTo>
                  <a:lnTo>
                    <a:pt x="2854" y="2898"/>
                  </a:lnTo>
                  <a:lnTo>
                    <a:pt x="2805" y="2761"/>
                  </a:lnTo>
                  <a:lnTo>
                    <a:pt x="2712" y="2619"/>
                  </a:lnTo>
                  <a:lnTo>
                    <a:pt x="2624" y="2482"/>
                  </a:lnTo>
                  <a:lnTo>
                    <a:pt x="2532" y="2345"/>
                  </a:lnTo>
                  <a:lnTo>
                    <a:pt x="2439" y="2204"/>
                  </a:lnTo>
                  <a:lnTo>
                    <a:pt x="2346" y="2068"/>
                  </a:lnTo>
                  <a:lnTo>
                    <a:pt x="2254" y="1931"/>
                  </a:lnTo>
                  <a:lnTo>
                    <a:pt x="2210" y="1794"/>
                  </a:lnTo>
                  <a:lnTo>
                    <a:pt x="2068" y="1702"/>
                  </a:lnTo>
                  <a:lnTo>
                    <a:pt x="1931" y="1609"/>
                  </a:lnTo>
                  <a:lnTo>
                    <a:pt x="1838" y="1468"/>
                  </a:lnTo>
                  <a:lnTo>
                    <a:pt x="1702" y="1380"/>
                  </a:lnTo>
                  <a:lnTo>
                    <a:pt x="1565" y="1287"/>
                  </a:lnTo>
                  <a:lnTo>
                    <a:pt x="1424" y="1195"/>
                  </a:lnTo>
                  <a:lnTo>
                    <a:pt x="1287" y="1102"/>
                  </a:lnTo>
                  <a:lnTo>
                    <a:pt x="1150" y="965"/>
                  </a:lnTo>
                  <a:lnTo>
                    <a:pt x="1009" y="824"/>
                  </a:lnTo>
                  <a:lnTo>
                    <a:pt x="965" y="687"/>
                  </a:lnTo>
                  <a:lnTo>
                    <a:pt x="965" y="551"/>
                  </a:lnTo>
                  <a:lnTo>
                    <a:pt x="1009" y="410"/>
                  </a:lnTo>
                  <a:lnTo>
                    <a:pt x="1058" y="273"/>
                  </a:lnTo>
                  <a:lnTo>
                    <a:pt x="1102" y="136"/>
                  </a:lnTo>
                  <a:lnTo>
                    <a:pt x="1102" y="0"/>
                  </a:lnTo>
                  <a:lnTo>
                    <a:pt x="965" y="44"/>
                  </a:lnTo>
                  <a:lnTo>
                    <a:pt x="873" y="180"/>
                  </a:lnTo>
                  <a:lnTo>
                    <a:pt x="780" y="321"/>
                  </a:lnTo>
                  <a:lnTo>
                    <a:pt x="687" y="458"/>
                  </a:lnTo>
                  <a:lnTo>
                    <a:pt x="687" y="595"/>
                  </a:lnTo>
                  <a:lnTo>
                    <a:pt x="551" y="502"/>
                  </a:lnTo>
                  <a:lnTo>
                    <a:pt x="507" y="366"/>
                  </a:lnTo>
                  <a:lnTo>
                    <a:pt x="414" y="229"/>
                  </a:lnTo>
                  <a:lnTo>
                    <a:pt x="273" y="180"/>
                  </a:lnTo>
                  <a:lnTo>
                    <a:pt x="136" y="88"/>
                  </a:lnTo>
                  <a:lnTo>
                    <a:pt x="0" y="44"/>
                  </a:lnTo>
                  <a:lnTo>
                    <a:pt x="127" y="44"/>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0" y="762120"/>
              <a:ext cx="6510600" cy="4091400"/>
            </a:xfrm>
            <a:custGeom>
              <a:avLst/>
              <a:gdLst/>
              <a:ahLst/>
              <a:rect l="0" t="0" r="r" b="b"/>
              <a:pathLst>
                <a:path w="18085" h="11365">
                  <a:moveTo>
                    <a:pt x="3175" y="0"/>
                  </a:moveTo>
                  <a:lnTo>
                    <a:pt x="3311" y="136"/>
                  </a:lnTo>
                  <a:lnTo>
                    <a:pt x="3404" y="277"/>
                  </a:lnTo>
                  <a:lnTo>
                    <a:pt x="3541" y="366"/>
                  </a:lnTo>
                  <a:lnTo>
                    <a:pt x="3633" y="507"/>
                  </a:lnTo>
                  <a:lnTo>
                    <a:pt x="3726" y="643"/>
                  </a:lnTo>
                  <a:lnTo>
                    <a:pt x="3774" y="780"/>
                  </a:lnTo>
                  <a:lnTo>
                    <a:pt x="3818" y="921"/>
                  </a:lnTo>
                  <a:lnTo>
                    <a:pt x="3867" y="1058"/>
                  </a:lnTo>
                  <a:lnTo>
                    <a:pt x="3867" y="1195"/>
                  </a:lnTo>
                  <a:lnTo>
                    <a:pt x="3867" y="1336"/>
                  </a:lnTo>
                  <a:lnTo>
                    <a:pt x="3867" y="1472"/>
                  </a:lnTo>
                  <a:lnTo>
                    <a:pt x="3867" y="1609"/>
                  </a:lnTo>
                  <a:lnTo>
                    <a:pt x="3818" y="1750"/>
                  </a:lnTo>
                  <a:lnTo>
                    <a:pt x="3818" y="1887"/>
                  </a:lnTo>
                  <a:lnTo>
                    <a:pt x="3818" y="2024"/>
                  </a:lnTo>
                  <a:lnTo>
                    <a:pt x="3818" y="2160"/>
                  </a:lnTo>
                  <a:lnTo>
                    <a:pt x="3818" y="2301"/>
                  </a:lnTo>
                  <a:lnTo>
                    <a:pt x="3726" y="2438"/>
                  </a:lnTo>
                  <a:lnTo>
                    <a:pt x="3589" y="2531"/>
                  </a:lnTo>
                  <a:lnTo>
                    <a:pt x="3496" y="2667"/>
                  </a:lnTo>
                  <a:lnTo>
                    <a:pt x="3404" y="2808"/>
                  </a:lnTo>
                  <a:lnTo>
                    <a:pt x="3267" y="2898"/>
                  </a:lnTo>
                  <a:lnTo>
                    <a:pt x="3130" y="2808"/>
                  </a:lnTo>
                  <a:lnTo>
                    <a:pt x="2989" y="2716"/>
                  </a:lnTo>
                  <a:lnTo>
                    <a:pt x="2853" y="2623"/>
                  </a:lnTo>
                  <a:lnTo>
                    <a:pt x="2716" y="2531"/>
                  </a:lnTo>
                  <a:lnTo>
                    <a:pt x="2575" y="2482"/>
                  </a:lnTo>
                  <a:lnTo>
                    <a:pt x="2438" y="2482"/>
                  </a:lnTo>
                  <a:lnTo>
                    <a:pt x="2301" y="2438"/>
                  </a:lnTo>
                  <a:lnTo>
                    <a:pt x="1979" y="2438"/>
                  </a:lnTo>
                  <a:lnTo>
                    <a:pt x="1838" y="2394"/>
                  </a:lnTo>
                  <a:lnTo>
                    <a:pt x="1702" y="2394"/>
                  </a:lnTo>
                  <a:lnTo>
                    <a:pt x="1565" y="2394"/>
                  </a:lnTo>
                  <a:lnTo>
                    <a:pt x="1424" y="2345"/>
                  </a:lnTo>
                  <a:lnTo>
                    <a:pt x="1287" y="2301"/>
                  </a:lnTo>
                  <a:lnTo>
                    <a:pt x="1150" y="2253"/>
                  </a:lnTo>
                  <a:lnTo>
                    <a:pt x="1014" y="2209"/>
                  </a:lnTo>
                  <a:lnTo>
                    <a:pt x="873" y="2160"/>
                  </a:lnTo>
                  <a:lnTo>
                    <a:pt x="780" y="2301"/>
                  </a:lnTo>
                  <a:lnTo>
                    <a:pt x="780" y="2438"/>
                  </a:lnTo>
                  <a:lnTo>
                    <a:pt x="780" y="2575"/>
                  </a:lnTo>
                  <a:lnTo>
                    <a:pt x="780" y="2716"/>
                  </a:lnTo>
                  <a:lnTo>
                    <a:pt x="780" y="2854"/>
                  </a:lnTo>
                  <a:lnTo>
                    <a:pt x="780" y="2990"/>
                  </a:lnTo>
                  <a:lnTo>
                    <a:pt x="780" y="3131"/>
                  </a:lnTo>
                  <a:lnTo>
                    <a:pt x="780" y="3268"/>
                  </a:lnTo>
                  <a:lnTo>
                    <a:pt x="780" y="3405"/>
                  </a:lnTo>
                  <a:lnTo>
                    <a:pt x="780" y="3542"/>
                  </a:lnTo>
                  <a:lnTo>
                    <a:pt x="780" y="3683"/>
                  </a:lnTo>
                  <a:lnTo>
                    <a:pt x="643" y="3727"/>
                  </a:lnTo>
                  <a:lnTo>
                    <a:pt x="551" y="3868"/>
                  </a:lnTo>
                  <a:lnTo>
                    <a:pt x="414" y="4005"/>
                  </a:lnTo>
                  <a:lnTo>
                    <a:pt x="366" y="4141"/>
                  </a:lnTo>
                  <a:lnTo>
                    <a:pt x="321" y="4278"/>
                  </a:lnTo>
                  <a:lnTo>
                    <a:pt x="321" y="4419"/>
                  </a:lnTo>
                  <a:lnTo>
                    <a:pt x="321" y="4556"/>
                  </a:lnTo>
                  <a:lnTo>
                    <a:pt x="321" y="4692"/>
                  </a:lnTo>
                  <a:lnTo>
                    <a:pt x="321" y="4834"/>
                  </a:lnTo>
                  <a:lnTo>
                    <a:pt x="366" y="4970"/>
                  </a:lnTo>
                  <a:lnTo>
                    <a:pt x="366" y="5107"/>
                  </a:lnTo>
                  <a:lnTo>
                    <a:pt x="414" y="5248"/>
                  </a:lnTo>
                  <a:lnTo>
                    <a:pt x="414" y="5385"/>
                  </a:lnTo>
                  <a:lnTo>
                    <a:pt x="414" y="5521"/>
                  </a:lnTo>
                  <a:lnTo>
                    <a:pt x="414" y="5658"/>
                  </a:lnTo>
                  <a:lnTo>
                    <a:pt x="551" y="5707"/>
                  </a:lnTo>
                  <a:lnTo>
                    <a:pt x="692" y="5751"/>
                  </a:lnTo>
                  <a:lnTo>
                    <a:pt x="829" y="5751"/>
                  </a:lnTo>
                  <a:lnTo>
                    <a:pt x="921" y="5892"/>
                  </a:lnTo>
                  <a:lnTo>
                    <a:pt x="1058" y="6029"/>
                  </a:lnTo>
                  <a:lnTo>
                    <a:pt x="1150" y="6165"/>
                  </a:lnTo>
                  <a:lnTo>
                    <a:pt x="1287" y="6214"/>
                  </a:lnTo>
                  <a:lnTo>
                    <a:pt x="1424" y="6214"/>
                  </a:lnTo>
                  <a:lnTo>
                    <a:pt x="1565" y="6214"/>
                  </a:lnTo>
                  <a:lnTo>
                    <a:pt x="1702" y="6214"/>
                  </a:lnTo>
                  <a:lnTo>
                    <a:pt x="1838" y="6214"/>
                  </a:lnTo>
                  <a:lnTo>
                    <a:pt x="1979" y="6214"/>
                  </a:lnTo>
                  <a:lnTo>
                    <a:pt x="2116" y="6214"/>
                  </a:lnTo>
                  <a:lnTo>
                    <a:pt x="2253" y="6214"/>
                  </a:lnTo>
                  <a:lnTo>
                    <a:pt x="2394" y="6214"/>
                  </a:lnTo>
                  <a:lnTo>
                    <a:pt x="2531" y="6214"/>
                  </a:lnTo>
                  <a:lnTo>
                    <a:pt x="2667" y="6214"/>
                  </a:lnTo>
                  <a:lnTo>
                    <a:pt x="2808" y="6214"/>
                  </a:lnTo>
                  <a:lnTo>
                    <a:pt x="2945" y="6214"/>
                  </a:lnTo>
                  <a:lnTo>
                    <a:pt x="3038" y="6073"/>
                  </a:lnTo>
                  <a:lnTo>
                    <a:pt x="3175" y="6029"/>
                  </a:lnTo>
                  <a:lnTo>
                    <a:pt x="3267" y="5892"/>
                  </a:lnTo>
                  <a:lnTo>
                    <a:pt x="3404" y="5799"/>
                  </a:lnTo>
                  <a:lnTo>
                    <a:pt x="3541" y="5658"/>
                  </a:lnTo>
                  <a:lnTo>
                    <a:pt x="3682" y="5521"/>
                  </a:lnTo>
                  <a:lnTo>
                    <a:pt x="3818" y="5429"/>
                  </a:lnTo>
                  <a:lnTo>
                    <a:pt x="3818" y="5292"/>
                  </a:lnTo>
                  <a:lnTo>
                    <a:pt x="3818" y="5155"/>
                  </a:lnTo>
                  <a:lnTo>
                    <a:pt x="3818" y="4741"/>
                  </a:lnTo>
                  <a:lnTo>
                    <a:pt x="3911" y="4600"/>
                  </a:lnTo>
                  <a:lnTo>
                    <a:pt x="4048" y="4556"/>
                  </a:lnTo>
                  <a:lnTo>
                    <a:pt x="4189" y="4512"/>
                  </a:lnTo>
                  <a:lnTo>
                    <a:pt x="4325" y="4463"/>
                  </a:lnTo>
                  <a:lnTo>
                    <a:pt x="4462" y="4419"/>
                  </a:lnTo>
                  <a:lnTo>
                    <a:pt x="4599" y="4326"/>
                  </a:lnTo>
                  <a:lnTo>
                    <a:pt x="4691" y="4190"/>
                  </a:lnTo>
                  <a:lnTo>
                    <a:pt x="4784" y="4049"/>
                  </a:lnTo>
                  <a:lnTo>
                    <a:pt x="4833" y="3912"/>
                  </a:lnTo>
                  <a:lnTo>
                    <a:pt x="4877" y="3775"/>
                  </a:lnTo>
                  <a:lnTo>
                    <a:pt x="5013" y="3634"/>
                  </a:lnTo>
                  <a:lnTo>
                    <a:pt x="5106" y="3497"/>
                  </a:lnTo>
                  <a:lnTo>
                    <a:pt x="5247" y="3453"/>
                  </a:lnTo>
                  <a:lnTo>
                    <a:pt x="5384" y="3405"/>
                  </a:lnTo>
                  <a:lnTo>
                    <a:pt x="5520" y="3405"/>
                  </a:lnTo>
                  <a:lnTo>
                    <a:pt x="5657" y="3453"/>
                  </a:lnTo>
                  <a:lnTo>
                    <a:pt x="5798" y="3497"/>
                  </a:lnTo>
                  <a:lnTo>
                    <a:pt x="5935" y="3542"/>
                  </a:lnTo>
                  <a:lnTo>
                    <a:pt x="6072" y="3590"/>
                  </a:lnTo>
                  <a:lnTo>
                    <a:pt x="6213" y="3590"/>
                  </a:lnTo>
                  <a:lnTo>
                    <a:pt x="6350" y="3590"/>
                  </a:lnTo>
                  <a:lnTo>
                    <a:pt x="6486" y="3590"/>
                  </a:lnTo>
                  <a:lnTo>
                    <a:pt x="6627" y="3497"/>
                  </a:lnTo>
                  <a:lnTo>
                    <a:pt x="6764" y="3405"/>
                  </a:lnTo>
                  <a:lnTo>
                    <a:pt x="6901" y="3361"/>
                  </a:lnTo>
                  <a:lnTo>
                    <a:pt x="7042" y="3361"/>
                  </a:lnTo>
                  <a:lnTo>
                    <a:pt x="7179" y="3361"/>
                  </a:lnTo>
                  <a:lnTo>
                    <a:pt x="7315" y="3361"/>
                  </a:lnTo>
                  <a:lnTo>
                    <a:pt x="7452" y="3453"/>
                  </a:lnTo>
                  <a:lnTo>
                    <a:pt x="7593" y="3497"/>
                  </a:lnTo>
                  <a:lnTo>
                    <a:pt x="7637" y="3634"/>
                  </a:lnTo>
                  <a:lnTo>
                    <a:pt x="7637" y="3775"/>
                  </a:lnTo>
                  <a:lnTo>
                    <a:pt x="7637" y="3912"/>
                  </a:lnTo>
                  <a:lnTo>
                    <a:pt x="7637" y="4049"/>
                  </a:lnTo>
                  <a:lnTo>
                    <a:pt x="7637" y="4190"/>
                  </a:lnTo>
                  <a:lnTo>
                    <a:pt x="7686" y="4326"/>
                  </a:lnTo>
                  <a:lnTo>
                    <a:pt x="7774" y="4463"/>
                  </a:lnTo>
                  <a:lnTo>
                    <a:pt x="7866" y="4600"/>
                  </a:lnTo>
                  <a:lnTo>
                    <a:pt x="7959" y="4741"/>
                  </a:lnTo>
                  <a:lnTo>
                    <a:pt x="8100" y="4834"/>
                  </a:lnTo>
                  <a:lnTo>
                    <a:pt x="8188" y="4970"/>
                  </a:lnTo>
                  <a:lnTo>
                    <a:pt x="8329" y="5063"/>
                  </a:lnTo>
                  <a:lnTo>
                    <a:pt x="8466" y="5155"/>
                  </a:lnTo>
                  <a:lnTo>
                    <a:pt x="8559" y="5292"/>
                  </a:lnTo>
                  <a:lnTo>
                    <a:pt x="8651" y="5429"/>
                  </a:lnTo>
                  <a:lnTo>
                    <a:pt x="8744" y="5570"/>
                  </a:lnTo>
                  <a:lnTo>
                    <a:pt x="8881" y="5658"/>
                  </a:lnTo>
                  <a:lnTo>
                    <a:pt x="8973" y="5799"/>
                  </a:lnTo>
                  <a:lnTo>
                    <a:pt x="9017" y="5936"/>
                  </a:lnTo>
                  <a:lnTo>
                    <a:pt x="9111" y="6073"/>
                  </a:lnTo>
                  <a:lnTo>
                    <a:pt x="9159" y="6214"/>
                  </a:lnTo>
                  <a:lnTo>
                    <a:pt x="9204" y="6351"/>
                  </a:lnTo>
                  <a:lnTo>
                    <a:pt x="9248" y="6487"/>
                  </a:lnTo>
                  <a:lnTo>
                    <a:pt x="9248" y="6628"/>
                  </a:lnTo>
                  <a:lnTo>
                    <a:pt x="9248" y="6765"/>
                  </a:lnTo>
                  <a:lnTo>
                    <a:pt x="9248" y="6902"/>
                  </a:lnTo>
                  <a:lnTo>
                    <a:pt x="9248" y="7043"/>
                  </a:lnTo>
                  <a:lnTo>
                    <a:pt x="9389" y="7180"/>
                  </a:lnTo>
                  <a:lnTo>
                    <a:pt x="9526" y="7272"/>
                  </a:lnTo>
                  <a:lnTo>
                    <a:pt x="9662" y="7272"/>
                  </a:lnTo>
                  <a:lnTo>
                    <a:pt x="9755" y="7131"/>
                  </a:lnTo>
                  <a:lnTo>
                    <a:pt x="9803" y="6994"/>
                  </a:lnTo>
                  <a:lnTo>
                    <a:pt x="9847" y="6858"/>
                  </a:lnTo>
                  <a:lnTo>
                    <a:pt x="9847" y="6717"/>
                  </a:lnTo>
                  <a:lnTo>
                    <a:pt x="9803" y="6580"/>
                  </a:lnTo>
                  <a:lnTo>
                    <a:pt x="9803" y="6443"/>
                  </a:lnTo>
                  <a:lnTo>
                    <a:pt x="9803" y="6306"/>
                  </a:lnTo>
                  <a:lnTo>
                    <a:pt x="9803" y="6165"/>
                  </a:lnTo>
                  <a:lnTo>
                    <a:pt x="9940" y="6121"/>
                  </a:lnTo>
                  <a:lnTo>
                    <a:pt x="10077" y="6121"/>
                  </a:lnTo>
                  <a:lnTo>
                    <a:pt x="10218" y="6165"/>
                  </a:lnTo>
                  <a:lnTo>
                    <a:pt x="10355" y="6214"/>
                  </a:lnTo>
                  <a:lnTo>
                    <a:pt x="10399" y="6073"/>
                  </a:lnTo>
                  <a:lnTo>
                    <a:pt x="10399" y="5936"/>
                  </a:lnTo>
                  <a:lnTo>
                    <a:pt x="10355" y="5799"/>
                  </a:lnTo>
                  <a:lnTo>
                    <a:pt x="10306" y="5658"/>
                  </a:lnTo>
                  <a:lnTo>
                    <a:pt x="10169" y="5614"/>
                  </a:lnTo>
                  <a:lnTo>
                    <a:pt x="10033" y="5477"/>
                  </a:lnTo>
                  <a:lnTo>
                    <a:pt x="9940" y="5336"/>
                  </a:lnTo>
                  <a:lnTo>
                    <a:pt x="9803" y="5248"/>
                  </a:lnTo>
                  <a:lnTo>
                    <a:pt x="9711" y="5107"/>
                  </a:lnTo>
                  <a:lnTo>
                    <a:pt x="9570" y="5014"/>
                  </a:lnTo>
                  <a:lnTo>
                    <a:pt x="9433" y="4926"/>
                  </a:lnTo>
                  <a:lnTo>
                    <a:pt x="9340" y="4785"/>
                  </a:lnTo>
                  <a:lnTo>
                    <a:pt x="9296" y="4648"/>
                  </a:lnTo>
                  <a:lnTo>
                    <a:pt x="9248" y="4512"/>
                  </a:lnTo>
                  <a:lnTo>
                    <a:pt x="9204" y="4371"/>
                  </a:lnTo>
                  <a:lnTo>
                    <a:pt x="9111" y="4234"/>
                  </a:lnTo>
                  <a:lnTo>
                    <a:pt x="9017" y="4097"/>
                  </a:lnTo>
                  <a:lnTo>
                    <a:pt x="8881" y="3956"/>
                  </a:lnTo>
                  <a:lnTo>
                    <a:pt x="8832" y="3819"/>
                  </a:lnTo>
                  <a:lnTo>
                    <a:pt x="8744" y="3683"/>
                  </a:lnTo>
                  <a:lnTo>
                    <a:pt x="8651" y="3542"/>
                  </a:lnTo>
                  <a:lnTo>
                    <a:pt x="8559" y="3405"/>
                  </a:lnTo>
                  <a:lnTo>
                    <a:pt x="8466" y="3268"/>
                  </a:lnTo>
                  <a:lnTo>
                    <a:pt x="8374" y="3131"/>
                  </a:lnTo>
                  <a:lnTo>
                    <a:pt x="8422" y="2990"/>
                  </a:lnTo>
                  <a:lnTo>
                    <a:pt x="8559" y="2946"/>
                  </a:lnTo>
                  <a:lnTo>
                    <a:pt x="8695" y="2946"/>
                  </a:lnTo>
                  <a:lnTo>
                    <a:pt x="8832" y="2946"/>
                  </a:lnTo>
                  <a:lnTo>
                    <a:pt x="8973" y="3039"/>
                  </a:lnTo>
                  <a:lnTo>
                    <a:pt x="9067" y="3176"/>
                  </a:lnTo>
                  <a:lnTo>
                    <a:pt x="9204" y="3312"/>
                  </a:lnTo>
                  <a:lnTo>
                    <a:pt x="9296" y="3453"/>
                  </a:lnTo>
                  <a:lnTo>
                    <a:pt x="9389" y="3590"/>
                  </a:lnTo>
                  <a:lnTo>
                    <a:pt x="9433" y="3727"/>
                  </a:lnTo>
                  <a:lnTo>
                    <a:pt x="9526" y="3868"/>
                  </a:lnTo>
                  <a:lnTo>
                    <a:pt x="9662" y="4005"/>
                  </a:lnTo>
                  <a:lnTo>
                    <a:pt x="9711" y="4141"/>
                  </a:lnTo>
                  <a:lnTo>
                    <a:pt x="9847" y="4278"/>
                  </a:lnTo>
                  <a:lnTo>
                    <a:pt x="9940" y="4419"/>
                  </a:lnTo>
                  <a:lnTo>
                    <a:pt x="10077" y="4556"/>
                  </a:lnTo>
                  <a:lnTo>
                    <a:pt x="10125" y="4692"/>
                  </a:lnTo>
                  <a:lnTo>
                    <a:pt x="10218" y="4834"/>
                  </a:lnTo>
                  <a:lnTo>
                    <a:pt x="10355" y="4970"/>
                  </a:lnTo>
                  <a:lnTo>
                    <a:pt x="10491" y="5107"/>
                  </a:lnTo>
                  <a:lnTo>
                    <a:pt x="10628" y="5248"/>
                  </a:lnTo>
                  <a:lnTo>
                    <a:pt x="10721" y="5385"/>
                  </a:lnTo>
                  <a:lnTo>
                    <a:pt x="10813" y="5521"/>
                  </a:lnTo>
                  <a:lnTo>
                    <a:pt x="10862" y="5658"/>
                  </a:lnTo>
                  <a:lnTo>
                    <a:pt x="10906" y="5799"/>
                  </a:lnTo>
                  <a:lnTo>
                    <a:pt x="10906" y="5936"/>
                  </a:lnTo>
                  <a:lnTo>
                    <a:pt x="10906" y="6073"/>
                  </a:lnTo>
                  <a:lnTo>
                    <a:pt x="10906" y="6214"/>
                  </a:lnTo>
                  <a:lnTo>
                    <a:pt x="10906" y="6351"/>
                  </a:lnTo>
                  <a:lnTo>
                    <a:pt x="11042" y="6443"/>
                  </a:lnTo>
                  <a:lnTo>
                    <a:pt x="11184" y="6536"/>
                  </a:lnTo>
                  <a:lnTo>
                    <a:pt x="11276" y="6672"/>
                  </a:lnTo>
                  <a:lnTo>
                    <a:pt x="11276" y="6809"/>
                  </a:lnTo>
                  <a:lnTo>
                    <a:pt x="11276" y="6950"/>
                  </a:lnTo>
                  <a:lnTo>
                    <a:pt x="11276" y="7087"/>
                  </a:lnTo>
                  <a:lnTo>
                    <a:pt x="11413" y="7180"/>
                  </a:lnTo>
                  <a:lnTo>
                    <a:pt x="11550" y="7272"/>
                  </a:lnTo>
                  <a:lnTo>
                    <a:pt x="11686" y="7365"/>
                  </a:lnTo>
                  <a:lnTo>
                    <a:pt x="11827" y="7453"/>
                  </a:lnTo>
                  <a:lnTo>
                    <a:pt x="11964" y="7546"/>
                  </a:lnTo>
                  <a:lnTo>
                    <a:pt x="12101" y="7546"/>
                  </a:lnTo>
                  <a:lnTo>
                    <a:pt x="12242" y="7546"/>
                  </a:lnTo>
                  <a:lnTo>
                    <a:pt x="12379" y="7501"/>
                  </a:lnTo>
                  <a:lnTo>
                    <a:pt x="12471" y="7365"/>
                  </a:lnTo>
                  <a:lnTo>
                    <a:pt x="12564" y="7224"/>
                  </a:lnTo>
                  <a:lnTo>
                    <a:pt x="12608" y="7087"/>
                  </a:lnTo>
                  <a:lnTo>
                    <a:pt x="12656" y="6950"/>
                  </a:lnTo>
                  <a:lnTo>
                    <a:pt x="12608" y="6809"/>
                  </a:lnTo>
                  <a:lnTo>
                    <a:pt x="12515" y="6672"/>
                  </a:lnTo>
                  <a:lnTo>
                    <a:pt x="12423" y="6536"/>
                  </a:lnTo>
                  <a:lnTo>
                    <a:pt x="12334" y="6395"/>
                  </a:lnTo>
                  <a:lnTo>
                    <a:pt x="12286" y="6258"/>
                  </a:lnTo>
                  <a:lnTo>
                    <a:pt x="12286" y="6121"/>
                  </a:lnTo>
                  <a:lnTo>
                    <a:pt x="12423" y="5984"/>
                  </a:lnTo>
                  <a:lnTo>
                    <a:pt x="12564" y="5892"/>
                  </a:lnTo>
                  <a:lnTo>
                    <a:pt x="12701" y="5843"/>
                  </a:lnTo>
                  <a:lnTo>
                    <a:pt x="12837" y="5799"/>
                  </a:lnTo>
                  <a:lnTo>
                    <a:pt x="12978" y="5707"/>
                  </a:lnTo>
                  <a:lnTo>
                    <a:pt x="13115" y="5614"/>
                  </a:lnTo>
                  <a:lnTo>
                    <a:pt x="13159" y="5248"/>
                  </a:lnTo>
                  <a:lnTo>
                    <a:pt x="13208" y="4878"/>
                  </a:lnTo>
                  <a:lnTo>
                    <a:pt x="13344" y="4834"/>
                  </a:lnTo>
                  <a:lnTo>
                    <a:pt x="13481" y="4834"/>
                  </a:lnTo>
                  <a:lnTo>
                    <a:pt x="13622" y="4834"/>
                  </a:lnTo>
                  <a:lnTo>
                    <a:pt x="13759" y="4878"/>
                  </a:lnTo>
                  <a:lnTo>
                    <a:pt x="13896" y="4970"/>
                  </a:lnTo>
                  <a:lnTo>
                    <a:pt x="14037" y="5063"/>
                  </a:lnTo>
                  <a:lnTo>
                    <a:pt x="14173" y="5107"/>
                  </a:lnTo>
                  <a:lnTo>
                    <a:pt x="14266" y="4970"/>
                  </a:lnTo>
                  <a:lnTo>
                    <a:pt x="14266" y="4834"/>
                  </a:lnTo>
                  <a:lnTo>
                    <a:pt x="14266" y="4692"/>
                  </a:lnTo>
                  <a:lnTo>
                    <a:pt x="14173" y="4556"/>
                  </a:lnTo>
                  <a:lnTo>
                    <a:pt x="14081" y="4419"/>
                  </a:lnTo>
                  <a:lnTo>
                    <a:pt x="14037" y="4278"/>
                  </a:lnTo>
                  <a:lnTo>
                    <a:pt x="14037" y="4141"/>
                  </a:lnTo>
                  <a:lnTo>
                    <a:pt x="14037" y="4005"/>
                  </a:lnTo>
                  <a:lnTo>
                    <a:pt x="14037" y="3868"/>
                  </a:lnTo>
                  <a:lnTo>
                    <a:pt x="14037" y="3727"/>
                  </a:lnTo>
                  <a:lnTo>
                    <a:pt x="14037" y="3590"/>
                  </a:lnTo>
                  <a:lnTo>
                    <a:pt x="14037" y="3453"/>
                  </a:lnTo>
                  <a:lnTo>
                    <a:pt x="14037" y="3312"/>
                  </a:lnTo>
                  <a:lnTo>
                    <a:pt x="14081" y="2946"/>
                  </a:lnTo>
                  <a:lnTo>
                    <a:pt x="14081" y="2808"/>
                  </a:lnTo>
                  <a:lnTo>
                    <a:pt x="14125" y="2667"/>
                  </a:lnTo>
                  <a:lnTo>
                    <a:pt x="14266" y="2531"/>
                  </a:lnTo>
                  <a:lnTo>
                    <a:pt x="14403" y="2482"/>
                  </a:lnTo>
                  <a:lnTo>
                    <a:pt x="14539" y="2394"/>
                  </a:lnTo>
                  <a:lnTo>
                    <a:pt x="14680" y="2345"/>
                  </a:lnTo>
                  <a:lnTo>
                    <a:pt x="14817" y="2301"/>
                  </a:lnTo>
                  <a:lnTo>
                    <a:pt x="14954" y="2301"/>
                  </a:lnTo>
                  <a:lnTo>
                    <a:pt x="15095" y="2301"/>
                  </a:lnTo>
                  <a:lnTo>
                    <a:pt x="15232" y="2438"/>
                  </a:lnTo>
                  <a:lnTo>
                    <a:pt x="15324" y="2575"/>
                  </a:lnTo>
                  <a:lnTo>
                    <a:pt x="15324" y="2716"/>
                  </a:lnTo>
                  <a:lnTo>
                    <a:pt x="15417" y="2854"/>
                  </a:lnTo>
                  <a:lnTo>
                    <a:pt x="15554" y="2946"/>
                  </a:lnTo>
                  <a:lnTo>
                    <a:pt x="15690" y="3083"/>
                  </a:lnTo>
                  <a:lnTo>
                    <a:pt x="15831" y="3131"/>
                  </a:lnTo>
                  <a:lnTo>
                    <a:pt x="15968" y="3131"/>
                  </a:lnTo>
                  <a:lnTo>
                    <a:pt x="16105" y="3083"/>
                  </a:lnTo>
                  <a:lnTo>
                    <a:pt x="16197" y="2946"/>
                  </a:lnTo>
                  <a:lnTo>
                    <a:pt x="16290" y="2808"/>
                  </a:lnTo>
                  <a:lnTo>
                    <a:pt x="16334" y="2667"/>
                  </a:lnTo>
                  <a:lnTo>
                    <a:pt x="16290" y="2531"/>
                  </a:lnTo>
                  <a:lnTo>
                    <a:pt x="16197" y="2394"/>
                  </a:lnTo>
                  <a:lnTo>
                    <a:pt x="16105" y="2253"/>
                  </a:lnTo>
                  <a:lnTo>
                    <a:pt x="16105" y="2116"/>
                  </a:lnTo>
                  <a:lnTo>
                    <a:pt x="16105" y="1979"/>
                  </a:lnTo>
                  <a:lnTo>
                    <a:pt x="16197" y="1838"/>
                  </a:lnTo>
                  <a:lnTo>
                    <a:pt x="16334" y="1750"/>
                  </a:lnTo>
                  <a:lnTo>
                    <a:pt x="16475" y="1702"/>
                  </a:lnTo>
                  <a:lnTo>
                    <a:pt x="16612" y="1609"/>
                  </a:lnTo>
                  <a:lnTo>
                    <a:pt x="16656" y="1750"/>
                  </a:lnTo>
                  <a:lnTo>
                    <a:pt x="16749" y="1887"/>
                  </a:lnTo>
                  <a:lnTo>
                    <a:pt x="16841" y="2024"/>
                  </a:lnTo>
                  <a:lnTo>
                    <a:pt x="16797" y="2160"/>
                  </a:lnTo>
                  <a:lnTo>
                    <a:pt x="16705" y="2301"/>
                  </a:lnTo>
                  <a:lnTo>
                    <a:pt x="16612" y="2438"/>
                  </a:lnTo>
                  <a:lnTo>
                    <a:pt x="16612" y="2575"/>
                  </a:lnTo>
                  <a:lnTo>
                    <a:pt x="16612" y="2716"/>
                  </a:lnTo>
                  <a:lnTo>
                    <a:pt x="16749" y="2808"/>
                  </a:lnTo>
                  <a:lnTo>
                    <a:pt x="16890" y="2946"/>
                  </a:lnTo>
                  <a:lnTo>
                    <a:pt x="17026" y="2990"/>
                  </a:lnTo>
                  <a:lnTo>
                    <a:pt x="17163" y="3039"/>
                  </a:lnTo>
                  <a:lnTo>
                    <a:pt x="17300" y="3131"/>
                  </a:lnTo>
                  <a:lnTo>
                    <a:pt x="17441" y="3176"/>
                  </a:lnTo>
                  <a:lnTo>
                    <a:pt x="17578" y="3220"/>
                  </a:lnTo>
                  <a:lnTo>
                    <a:pt x="17714" y="3312"/>
                  </a:lnTo>
                  <a:lnTo>
                    <a:pt x="17855" y="3453"/>
                  </a:lnTo>
                  <a:lnTo>
                    <a:pt x="17948" y="3590"/>
                  </a:lnTo>
                  <a:lnTo>
                    <a:pt x="18036" y="3727"/>
                  </a:lnTo>
                  <a:lnTo>
                    <a:pt x="18085" y="3868"/>
                  </a:lnTo>
                  <a:lnTo>
                    <a:pt x="17992" y="4005"/>
                  </a:lnTo>
                  <a:lnTo>
                    <a:pt x="17948" y="4141"/>
                  </a:lnTo>
                  <a:lnTo>
                    <a:pt x="17807" y="4190"/>
                  </a:lnTo>
                  <a:lnTo>
                    <a:pt x="17670" y="4190"/>
                  </a:lnTo>
                  <a:lnTo>
                    <a:pt x="17534" y="4190"/>
                  </a:lnTo>
                  <a:lnTo>
                    <a:pt x="17392" y="4190"/>
                  </a:lnTo>
                  <a:lnTo>
                    <a:pt x="17256" y="4190"/>
                  </a:lnTo>
                  <a:lnTo>
                    <a:pt x="17119" y="4190"/>
                  </a:lnTo>
                  <a:lnTo>
                    <a:pt x="16978" y="4190"/>
                  </a:lnTo>
                  <a:lnTo>
                    <a:pt x="16841" y="4234"/>
                  </a:lnTo>
                  <a:lnTo>
                    <a:pt x="16705" y="4234"/>
                  </a:lnTo>
                  <a:lnTo>
                    <a:pt x="16568" y="4234"/>
                  </a:lnTo>
                  <a:lnTo>
                    <a:pt x="16427" y="4234"/>
                  </a:lnTo>
                  <a:lnTo>
                    <a:pt x="16290" y="4278"/>
                  </a:lnTo>
                  <a:lnTo>
                    <a:pt x="16153" y="4326"/>
                  </a:lnTo>
                  <a:lnTo>
                    <a:pt x="16012" y="4419"/>
                  </a:lnTo>
                  <a:lnTo>
                    <a:pt x="15876" y="4463"/>
                  </a:lnTo>
                  <a:lnTo>
                    <a:pt x="15739" y="4556"/>
                  </a:lnTo>
                  <a:lnTo>
                    <a:pt x="15598" y="4692"/>
                  </a:lnTo>
                  <a:lnTo>
                    <a:pt x="15461" y="4785"/>
                  </a:lnTo>
                  <a:lnTo>
                    <a:pt x="15324" y="4878"/>
                  </a:lnTo>
                  <a:lnTo>
                    <a:pt x="15232" y="5014"/>
                  </a:lnTo>
                  <a:lnTo>
                    <a:pt x="15095" y="5107"/>
                  </a:lnTo>
                  <a:lnTo>
                    <a:pt x="14954" y="5200"/>
                  </a:lnTo>
                  <a:lnTo>
                    <a:pt x="14817" y="5248"/>
                  </a:lnTo>
                  <a:lnTo>
                    <a:pt x="14680" y="5292"/>
                  </a:lnTo>
                  <a:lnTo>
                    <a:pt x="14539" y="5385"/>
                  </a:lnTo>
                  <a:lnTo>
                    <a:pt x="14403" y="5521"/>
                  </a:lnTo>
                  <a:lnTo>
                    <a:pt x="14266" y="5614"/>
                  </a:lnTo>
                  <a:lnTo>
                    <a:pt x="14125" y="5658"/>
                  </a:lnTo>
                  <a:lnTo>
                    <a:pt x="13988" y="5707"/>
                  </a:lnTo>
                  <a:lnTo>
                    <a:pt x="13851" y="5751"/>
                  </a:lnTo>
                  <a:lnTo>
                    <a:pt x="13759" y="5892"/>
                  </a:lnTo>
                  <a:lnTo>
                    <a:pt x="13622" y="5984"/>
                  </a:lnTo>
                  <a:lnTo>
                    <a:pt x="13574" y="6121"/>
                  </a:lnTo>
                  <a:lnTo>
                    <a:pt x="13481" y="6258"/>
                  </a:lnTo>
                  <a:lnTo>
                    <a:pt x="13481" y="6395"/>
                  </a:lnTo>
                  <a:lnTo>
                    <a:pt x="13530" y="6536"/>
                  </a:lnTo>
                  <a:lnTo>
                    <a:pt x="13574" y="6672"/>
                  </a:lnTo>
                  <a:lnTo>
                    <a:pt x="13622" y="6809"/>
                  </a:lnTo>
                  <a:lnTo>
                    <a:pt x="13759" y="6902"/>
                  </a:lnTo>
                  <a:lnTo>
                    <a:pt x="13803" y="7043"/>
                  </a:lnTo>
                  <a:lnTo>
                    <a:pt x="13896" y="7180"/>
                  </a:lnTo>
                  <a:lnTo>
                    <a:pt x="13988" y="7316"/>
                  </a:lnTo>
                  <a:lnTo>
                    <a:pt x="14125" y="7453"/>
                  </a:lnTo>
                  <a:lnTo>
                    <a:pt x="14266" y="7546"/>
                  </a:lnTo>
                  <a:lnTo>
                    <a:pt x="14310" y="7687"/>
                  </a:lnTo>
                  <a:lnTo>
                    <a:pt x="14451" y="7775"/>
                  </a:lnTo>
                  <a:lnTo>
                    <a:pt x="14588" y="7775"/>
                  </a:lnTo>
                  <a:lnTo>
                    <a:pt x="14725" y="7775"/>
                  </a:lnTo>
                  <a:lnTo>
                    <a:pt x="14861" y="7775"/>
                  </a:lnTo>
                  <a:lnTo>
                    <a:pt x="15002" y="7775"/>
                  </a:lnTo>
                  <a:lnTo>
                    <a:pt x="15139" y="7731"/>
                  </a:lnTo>
                  <a:lnTo>
                    <a:pt x="15276" y="7687"/>
                  </a:lnTo>
                  <a:lnTo>
                    <a:pt x="15417" y="7687"/>
                  </a:lnTo>
                  <a:lnTo>
                    <a:pt x="15554" y="7687"/>
                  </a:lnTo>
                  <a:lnTo>
                    <a:pt x="15690" y="7731"/>
                  </a:lnTo>
                  <a:lnTo>
                    <a:pt x="15831" y="7775"/>
                  </a:lnTo>
                  <a:lnTo>
                    <a:pt x="15968" y="7823"/>
                  </a:lnTo>
                  <a:lnTo>
                    <a:pt x="16105" y="7823"/>
                  </a:lnTo>
                  <a:lnTo>
                    <a:pt x="16242" y="7823"/>
                  </a:lnTo>
                  <a:lnTo>
                    <a:pt x="16334" y="7687"/>
                  </a:lnTo>
                  <a:lnTo>
                    <a:pt x="16427" y="7546"/>
                  </a:lnTo>
                  <a:lnTo>
                    <a:pt x="16475" y="7409"/>
                  </a:lnTo>
                  <a:lnTo>
                    <a:pt x="16568" y="7272"/>
                  </a:lnTo>
                  <a:lnTo>
                    <a:pt x="16705" y="7180"/>
                  </a:lnTo>
                  <a:lnTo>
                    <a:pt x="16841" y="7131"/>
                  </a:lnTo>
                  <a:lnTo>
                    <a:pt x="16890" y="7272"/>
                  </a:lnTo>
                  <a:lnTo>
                    <a:pt x="16890" y="7409"/>
                  </a:lnTo>
                  <a:lnTo>
                    <a:pt x="16841" y="7546"/>
                  </a:lnTo>
                  <a:lnTo>
                    <a:pt x="16797" y="7687"/>
                  </a:lnTo>
                  <a:lnTo>
                    <a:pt x="16890" y="7823"/>
                  </a:lnTo>
                  <a:lnTo>
                    <a:pt x="17026" y="7916"/>
                  </a:lnTo>
                  <a:lnTo>
                    <a:pt x="17119" y="8053"/>
                  </a:lnTo>
                  <a:lnTo>
                    <a:pt x="17163" y="8189"/>
                  </a:lnTo>
                  <a:lnTo>
                    <a:pt x="17256" y="8330"/>
                  </a:lnTo>
                  <a:lnTo>
                    <a:pt x="17256" y="8467"/>
                  </a:lnTo>
                  <a:lnTo>
                    <a:pt x="17256" y="8605"/>
                  </a:lnTo>
                  <a:lnTo>
                    <a:pt x="17212" y="8746"/>
                  </a:lnTo>
                  <a:lnTo>
                    <a:pt x="17212" y="8883"/>
                  </a:lnTo>
                  <a:lnTo>
                    <a:pt x="17212" y="9019"/>
                  </a:lnTo>
                  <a:lnTo>
                    <a:pt x="17119" y="9160"/>
                  </a:lnTo>
                  <a:lnTo>
                    <a:pt x="16978" y="9249"/>
                  </a:lnTo>
                  <a:lnTo>
                    <a:pt x="16841" y="9341"/>
                  </a:lnTo>
                  <a:lnTo>
                    <a:pt x="16705" y="9482"/>
                  </a:lnTo>
                  <a:lnTo>
                    <a:pt x="16568" y="9571"/>
                  </a:lnTo>
                  <a:lnTo>
                    <a:pt x="16427" y="9663"/>
                  </a:lnTo>
                  <a:lnTo>
                    <a:pt x="16290" y="9756"/>
                  </a:lnTo>
                  <a:lnTo>
                    <a:pt x="16153" y="9848"/>
                  </a:lnTo>
                  <a:lnTo>
                    <a:pt x="16012" y="9985"/>
                  </a:lnTo>
                  <a:lnTo>
                    <a:pt x="15876" y="10078"/>
                  </a:lnTo>
                  <a:lnTo>
                    <a:pt x="15831" y="10219"/>
                  </a:lnTo>
                  <a:lnTo>
                    <a:pt x="15739" y="10356"/>
                  </a:lnTo>
                  <a:lnTo>
                    <a:pt x="15646" y="10492"/>
                  </a:lnTo>
                  <a:lnTo>
                    <a:pt x="15554" y="10629"/>
                  </a:lnTo>
                  <a:lnTo>
                    <a:pt x="15461" y="10770"/>
                  </a:lnTo>
                  <a:lnTo>
                    <a:pt x="15368" y="10907"/>
                  </a:lnTo>
                  <a:lnTo>
                    <a:pt x="15324" y="11043"/>
                  </a:lnTo>
                  <a:lnTo>
                    <a:pt x="15183" y="11092"/>
                  </a:lnTo>
                  <a:lnTo>
                    <a:pt x="15046" y="11092"/>
                  </a:lnTo>
                  <a:lnTo>
                    <a:pt x="14910" y="11092"/>
                  </a:lnTo>
                  <a:lnTo>
                    <a:pt x="14773" y="11092"/>
                  </a:lnTo>
                  <a:lnTo>
                    <a:pt x="14632" y="11043"/>
                  </a:lnTo>
                  <a:lnTo>
                    <a:pt x="14495" y="11043"/>
                  </a:lnTo>
                  <a:lnTo>
                    <a:pt x="14359" y="10951"/>
                  </a:lnTo>
                  <a:lnTo>
                    <a:pt x="14217" y="10863"/>
                  </a:lnTo>
                  <a:lnTo>
                    <a:pt x="14081" y="10770"/>
                  </a:lnTo>
                  <a:lnTo>
                    <a:pt x="13944" y="10770"/>
                  </a:lnTo>
                  <a:lnTo>
                    <a:pt x="13803" y="10770"/>
                  </a:lnTo>
                  <a:lnTo>
                    <a:pt x="13666" y="10770"/>
                  </a:lnTo>
                  <a:lnTo>
                    <a:pt x="13530" y="10814"/>
                  </a:lnTo>
                  <a:lnTo>
                    <a:pt x="13437" y="10951"/>
                  </a:lnTo>
                  <a:lnTo>
                    <a:pt x="13300" y="11043"/>
                  </a:lnTo>
                  <a:lnTo>
                    <a:pt x="13159" y="11043"/>
                  </a:lnTo>
                  <a:lnTo>
                    <a:pt x="12793" y="11043"/>
                  </a:lnTo>
                  <a:lnTo>
                    <a:pt x="12656" y="11043"/>
                  </a:lnTo>
                  <a:lnTo>
                    <a:pt x="12515" y="11043"/>
                  </a:lnTo>
                  <a:lnTo>
                    <a:pt x="12379" y="11043"/>
                  </a:lnTo>
                  <a:lnTo>
                    <a:pt x="12242" y="11043"/>
                  </a:lnTo>
                  <a:lnTo>
                    <a:pt x="12101" y="10999"/>
                  </a:lnTo>
                  <a:lnTo>
                    <a:pt x="11964" y="10951"/>
                  </a:lnTo>
                  <a:lnTo>
                    <a:pt x="11827" y="10814"/>
                  </a:lnTo>
                  <a:lnTo>
                    <a:pt x="11686" y="10722"/>
                  </a:lnTo>
                  <a:lnTo>
                    <a:pt x="11550" y="10629"/>
                  </a:lnTo>
                  <a:lnTo>
                    <a:pt x="11413" y="10629"/>
                  </a:lnTo>
                  <a:lnTo>
                    <a:pt x="11276" y="10585"/>
                  </a:lnTo>
                  <a:lnTo>
                    <a:pt x="11135" y="10585"/>
                  </a:lnTo>
                  <a:lnTo>
                    <a:pt x="10998" y="10585"/>
                  </a:lnTo>
                  <a:lnTo>
                    <a:pt x="10862" y="10585"/>
                  </a:lnTo>
                  <a:lnTo>
                    <a:pt x="10491" y="10585"/>
                  </a:lnTo>
                  <a:lnTo>
                    <a:pt x="10355" y="10585"/>
                  </a:lnTo>
                  <a:lnTo>
                    <a:pt x="10218" y="10585"/>
                  </a:lnTo>
                  <a:lnTo>
                    <a:pt x="10077" y="10585"/>
                  </a:lnTo>
                  <a:lnTo>
                    <a:pt x="9940" y="10585"/>
                  </a:lnTo>
                  <a:lnTo>
                    <a:pt x="9803" y="10585"/>
                  </a:lnTo>
                  <a:lnTo>
                    <a:pt x="9662" y="10629"/>
                  </a:lnTo>
                  <a:lnTo>
                    <a:pt x="9526" y="10629"/>
                  </a:lnTo>
                  <a:lnTo>
                    <a:pt x="9389" y="10677"/>
                  </a:lnTo>
                  <a:lnTo>
                    <a:pt x="9248" y="10722"/>
                  </a:lnTo>
                  <a:lnTo>
                    <a:pt x="9204" y="10863"/>
                  </a:lnTo>
                  <a:lnTo>
                    <a:pt x="9204" y="10999"/>
                  </a:lnTo>
                  <a:lnTo>
                    <a:pt x="9204" y="11136"/>
                  </a:lnTo>
                  <a:lnTo>
                    <a:pt x="9204" y="11277"/>
                  </a:lnTo>
                  <a:lnTo>
                    <a:pt x="9067" y="11365"/>
                  </a:lnTo>
                  <a:lnTo>
                    <a:pt x="8925" y="11321"/>
                  </a:lnTo>
                  <a:lnTo>
                    <a:pt x="8788" y="11229"/>
                  </a:lnTo>
                  <a:lnTo>
                    <a:pt x="8695" y="11092"/>
                  </a:lnTo>
                  <a:lnTo>
                    <a:pt x="8603" y="10951"/>
                  </a:lnTo>
                  <a:lnTo>
                    <a:pt x="8466" y="10814"/>
                  </a:lnTo>
                  <a:lnTo>
                    <a:pt x="8329" y="10722"/>
                  </a:lnTo>
                  <a:lnTo>
                    <a:pt x="8188" y="10629"/>
                  </a:lnTo>
                  <a:lnTo>
                    <a:pt x="8052" y="10541"/>
                  </a:lnTo>
                  <a:lnTo>
                    <a:pt x="7959" y="10400"/>
                  </a:lnTo>
                  <a:lnTo>
                    <a:pt x="7822" y="10307"/>
                  </a:lnTo>
                  <a:lnTo>
                    <a:pt x="7686" y="10170"/>
                  </a:lnTo>
                  <a:lnTo>
                    <a:pt x="7593" y="10034"/>
                  </a:lnTo>
                  <a:lnTo>
                    <a:pt x="7452" y="9985"/>
                  </a:lnTo>
                  <a:lnTo>
                    <a:pt x="7315" y="9941"/>
                  </a:lnTo>
                  <a:lnTo>
                    <a:pt x="7179" y="9941"/>
                  </a:lnTo>
                  <a:lnTo>
                    <a:pt x="7042" y="9941"/>
                  </a:lnTo>
                  <a:lnTo>
                    <a:pt x="6671" y="9941"/>
                  </a:lnTo>
                  <a:lnTo>
                    <a:pt x="6535" y="9848"/>
                  </a:lnTo>
                  <a:lnTo>
                    <a:pt x="6486" y="9712"/>
                  </a:lnTo>
                  <a:lnTo>
                    <a:pt x="6486" y="9571"/>
                  </a:lnTo>
                  <a:lnTo>
                    <a:pt x="6442" y="9434"/>
                  </a:lnTo>
                  <a:lnTo>
                    <a:pt x="6442" y="9297"/>
                  </a:lnTo>
                  <a:lnTo>
                    <a:pt x="6442" y="9160"/>
                  </a:lnTo>
                  <a:lnTo>
                    <a:pt x="6442" y="9019"/>
                  </a:lnTo>
                  <a:lnTo>
                    <a:pt x="6442" y="8883"/>
                  </a:lnTo>
                  <a:lnTo>
                    <a:pt x="6442" y="8746"/>
                  </a:lnTo>
                  <a:lnTo>
                    <a:pt x="6442" y="8605"/>
                  </a:lnTo>
                  <a:lnTo>
                    <a:pt x="6394" y="8467"/>
                  </a:lnTo>
                  <a:lnTo>
                    <a:pt x="6350" y="8330"/>
                  </a:lnTo>
                  <a:lnTo>
                    <a:pt x="6350" y="8189"/>
                  </a:lnTo>
                  <a:lnTo>
                    <a:pt x="6257" y="8053"/>
                  </a:lnTo>
                  <a:lnTo>
                    <a:pt x="6120" y="7960"/>
                  </a:lnTo>
                  <a:lnTo>
                    <a:pt x="5983" y="7960"/>
                  </a:lnTo>
                  <a:lnTo>
                    <a:pt x="5842" y="7960"/>
                  </a:lnTo>
                  <a:lnTo>
                    <a:pt x="5706" y="7960"/>
                  </a:lnTo>
                  <a:lnTo>
                    <a:pt x="5335" y="7960"/>
                  </a:lnTo>
                  <a:lnTo>
                    <a:pt x="5199" y="8009"/>
                  </a:lnTo>
                  <a:lnTo>
                    <a:pt x="4833" y="8009"/>
                  </a:lnTo>
                  <a:lnTo>
                    <a:pt x="4691" y="8053"/>
                  </a:lnTo>
                  <a:lnTo>
                    <a:pt x="4555" y="8053"/>
                  </a:lnTo>
                  <a:lnTo>
                    <a:pt x="4418" y="8053"/>
                  </a:lnTo>
                  <a:lnTo>
                    <a:pt x="4277" y="8053"/>
                  </a:lnTo>
                  <a:lnTo>
                    <a:pt x="4140" y="8053"/>
                  </a:lnTo>
                  <a:lnTo>
                    <a:pt x="4004" y="7960"/>
                  </a:lnTo>
                  <a:lnTo>
                    <a:pt x="3867" y="7867"/>
                  </a:lnTo>
                  <a:lnTo>
                    <a:pt x="3726" y="7775"/>
                  </a:lnTo>
                  <a:lnTo>
                    <a:pt x="3589" y="7638"/>
                  </a:lnTo>
                  <a:lnTo>
                    <a:pt x="3452" y="7594"/>
                  </a:lnTo>
                  <a:lnTo>
                    <a:pt x="3311" y="7546"/>
                  </a:lnTo>
                  <a:lnTo>
                    <a:pt x="2989" y="7501"/>
                  </a:lnTo>
                  <a:lnTo>
                    <a:pt x="2667" y="7501"/>
                  </a:lnTo>
                  <a:lnTo>
                    <a:pt x="2301" y="7453"/>
                  </a:lnTo>
                  <a:lnTo>
                    <a:pt x="2160" y="7409"/>
                  </a:lnTo>
                  <a:lnTo>
                    <a:pt x="2024" y="7409"/>
                  </a:lnTo>
                  <a:lnTo>
                    <a:pt x="1887" y="7272"/>
                  </a:lnTo>
                  <a:lnTo>
                    <a:pt x="1794" y="7131"/>
                  </a:lnTo>
                  <a:lnTo>
                    <a:pt x="1658" y="7043"/>
                  </a:lnTo>
                  <a:lnTo>
                    <a:pt x="1516" y="6950"/>
                  </a:lnTo>
                  <a:lnTo>
                    <a:pt x="1380" y="6950"/>
                  </a:lnTo>
                  <a:lnTo>
                    <a:pt x="1243" y="6950"/>
                  </a:lnTo>
                  <a:lnTo>
                    <a:pt x="921" y="6950"/>
                  </a:lnTo>
                  <a:lnTo>
                    <a:pt x="780" y="6994"/>
                  </a:lnTo>
                  <a:lnTo>
                    <a:pt x="643" y="7043"/>
                  </a:lnTo>
                  <a:lnTo>
                    <a:pt x="551" y="7180"/>
                  </a:lnTo>
                  <a:lnTo>
                    <a:pt x="458" y="7316"/>
                  </a:lnTo>
                  <a:lnTo>
                    <a:pt x="321" y="7453"/>
                  </a:lnTo>
                  <a:lnTo>
                    <a:pt x="229" y="7594"/>
                  </a:lnTo>
                  <a:lnTo>
                    <a:pt x="92" y="7687"/>
                  </a:lnTo>
                  <a:lnTo>
                    <a:pt x="0" y="7823"/>
                  </a:lnTo>
                  <a:lnTo>
                    <a:pt x="0" y="7687"/>
                  </a:lnTo>
                  <a:lnTo>
                    <a:pt x="0" y="7546"/>
                  </a:lnTo>
                  <a:lnTo>
                    <a:pt x="0" y="7409"/>
                  </a:lnTo>
                  <a:lnTo>
                    <a:pt x="0" y="7272"/>
                  </a:lnTo>
                  <a:lnTo>
                    <a:pt x="0" y="7131"/>
                  </a:lnTo>
                  <a:lnTo>
                    <a:pt x="0" y="6765"/>
                  </a:lnTo>
                  <a:lnTo>
                    <a:pt x="0" y="6351"/>
                  </a:lnTo>
                  <a:lnTo>
                    <a:pt x="0" y="5984"/>
                  </a:lnTo>
                  <a:lnTo>
                    <a:pt x="0" y="5570"/>
                  </a:lnTo>
                  <a:lnTo>
                    <a:pt x="0" y="5155"/>
                  </a:lnTo>
                  <a:lnTo>
                    <a:pt x="0" y="4741"/>
                  </a:lnTo>
                  <a:lnTo>
                    <a:pt x="0" y="4600"/>
                  </a:lnTo>
                  <a:lnTo>
                    <a:pt x="0" y="4463"/>
                  </a:lnTo>
                  <a:lnTo>
                    <a:pt x="0" y="4326"/>
                  </a:lnTo>
                  <a:lnTo>
                    <a:pt x="0" y="4005"/>
                  </a:lnTo>
                  <a:lnTo>
                    <a:pt x="0" y="3590"/>
                  </a:lnTo>
                  <a:lnTo>
                    <a:pt x="0" y="3220"/>
                  </a:lnTo>
                  <a:lnTo>
                    <a:pt x="0" y="2898"/>
                  </a:lnTo>
                  <a:lnTo>
                    <a:pt x="0" y="2575"/>
                  </a:lnTo>
                  <a:lnTo>
                    <a:pt x="0" y="2209"/>
                  </a:lnTo>
                  <a:lnTo>
                    <a:pt x="0" y="1838"/>
                  </a:lnTo>
                  <a:lnTo>
                    <a:pt x="0" y="1424"/>
                  </a:lnTo>
                  <a:lnTo>
                    <a:pt x="0" y="1014"/>
                  </a:lnTo>
                  <a:lnTo>
                    <a:pt x="0" y="599"/>
                  </a:lnTo>
                  <a:lnTo>
                    <a:pt x="0" y="458"/>
                  </a:lnTo>
                  <a:lnTo>
                    <a:pt x="0" y="321"/>
                  </a:lnTo>
                  <a:lnTo>
                    <a:pt x="0" y="185"/>
                  </a:lnTo>
                  <a:lnTo>
                    <a:pt x="136" y="92"/>
                  </a:lnTo>
                  <a:lnTo>
                    <a:pt x="277" y="92"/>
                  </a:lnTo>
                  <a:lnTo>
                    <a:pt x="414" y="92"/>
                  </a:lnTo>
                  <a:lnTo>
                    <a:pt x="551" y="92"/>
                  </a:lnTo>
                  <a:lnTo>
                    <a:pt x="692" y="92"/>
                  </a:lnTo>
                  <a:lnTo>
                    <a:pt x="1058" y="92"/>
                  </a:lnTo>
                  <a:lnTo>
                    <a:pt x="1380" y="92"/>
                  </a:lnTo>
                  <a:lnTo>
                    <a:pt x="1750" y="92"/>
                  </a:lnTo>
                  <a:lnTo>
                    <a:pt x="2160" y="92"/>
                  </a:lnTo>
                  <a:lnTo>
                    <a:pt x="2482" y="92"/>
                  </a:lnTo>
                  <a:lnTo>
                    <a:pt x="2853" y="92"/>
                  </a:lnTo>
                  <a:lnTo>
                    <a:pt x="3175" y="92"/>
                  </a:lnTo>
                  <a:lnTo>
                    <a:pt x="3311" y="92"/>
                  </a:lnTo>
                  <a:lnTo>
                    <a:pt x="3452" y="92"/>
                  </a:lnTo>
                  <a:lnTo>
                    <a:pt x="3175" y="0"/>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5797440" y="4419720"/>
              <a:ext cx="167040" cy="201960"/>
            </a:xfrm>
            <a:custGeom>
              <a:avLst/>
              <a:gdLst/>
              <a:ahLst/>
              <a:rect l="0" t="0" r="r" b="b"/>
              <a:pathLst>
                <a:path w="464" h="561">
                  <a:moveTo>
                    <a:pt x="406" y="0"/>
                  </a:moveTo>
                  <a:lnTo>
                    <a:pt x="229" y="101"/>
                  </a:lnTo>
                  <a:lnTo>
                    <a:pt x="92" y="145"/>
                  </a:lnTo>
                  <a:lnTo>
                    <a:pt x="0" y="287"/>
                  </a:lnTo>
                  <a:lnTo>
                    <a:pt x="48" y="424"/>
                  </a:lnTo>
                  <a:lnTo>
                    <a:pt x="92" y="561"/>
                  </a:lnTo>
                  <a:lnTo>
                    <a:pt x="229" y="561"/>
                  </a:lnTo>
                  <a:lnTo>
                    <a:pt x="322" y="424"/>
                  </a:lnTo>
                  <a:lnTo>
                    <a:pt x="415" y="287"/>
                  </a:lnTo>
                  <a:lnTo>
                    <a:pt x="415" y="145"/>
                  </a:lnTo>
                  <a:lnTo>
                    <a:pt x="464" y="8"/>
                  </a:lnTo>
                  <a:lnTo>
                    <a:pt x="406" y="0"/>
                  </a:lnTo>
                  <a:close/>
                </a:path>
              </a:pathLst>
            </a:custGeom>
            <a:solidFill>
              <a:srgbClr val="438e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txBox="1"/>
            <p:nvPr/>
          </p:nvSpPr>
          <p:spPr>
            <a:xfrm>
              <a:off x="5927760" y="4175280"/>
              <a:ext cx="1014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Judah</a:t>
              </a:r>
              <a:endParaRPr b="0" lang="en-US" sz="2400" spc="-1" strike="noStrike">
                <a:solidFill>
                  <a:srgbClr val="000000"/>
                </a:solidFill>
                <a:latin typeface="Arial"/>
              </a:endParaRPr>
            </a:p>
          </p:txBody>
        </p:sp>
        <p:sp>
          <p:nvSpPr>
            <p:cNvPr id="561" name=""/>
            <p:cNvSpPr txBox="1"/>
            <p:nvPr/>
          </p:nvSpPr>
          <p:spPr>
            <a:xfrm>
              <a:off x="4098960" y="4770360"/>
              <a:ext cx="103680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Narrow"/>
                  <a:ea typeface="Arial Narrow"/>
                </a:rPr>
                <a:t>Egypt</a:t>
              </a:r>
              <a:endParaRPr b="0" lang="en-US" sz="3200" spc="-1" strike="noStrike">
                <a:solidFill>
                  <a:srgbClr val="000000"/>
                </a:solidFill>
                <a:latin typeface="Arial"/>
              </a:endParaRPr>
            </a:p>
          </p:txBody>
        </p:sp>
        <p:sp>
          <p:nvSpPr>
            <p:cNvPr id="562" name=""/>
            <p:cNvSpPr/>
            <p:nvPr/>
          </p:nvSpPr>
          <p:spPr>
            <a:xfrm>
              <a:off x="5202360" y="2916360"/>
              <a:ext cx="2649960" cy="3262680"/>
            </a:xfrm>
            <a:custGeom>
              <a:avLst/>
              <a:gdLst/>
              <a:ahLst/>
              <a:rect l="0" t="0" r="r" b="b"/>
              <a:pathLst>
                <a:path fill="none" w="7361" h="9063">
                  <a:moveTo>
                    <a:pt x="366" y="5023"/>
                  </a:moveTo>
                  <a:lnTo>
                    <a:pt x="458" y="5200"/>
                  </a:lnTo>
                  <a:lnTo>
                    <a:pt x="502" y="5336"/>
                  </a:lnTo>
                  <a:lnTo>
                    <a:pt x="366" y="5380"/>
                  </a:lnTo>
                  <a:lnTo>
                    <a:pt x="229" y="5429"/>
                  </a:lnTo>
                  <a:lnTo>
                    <a:pt x="88" y="5473"/>
                  </a:lnTo>
                  <a:lnTo>
                    <a:pt x="0" y="5614"/>
                  </a:lnTo>
                  <a:lnTo>
                    <a:pt x="44" y="5751"/>
                  </a:lnTo>
                  <a:lnTo>
                    <a:pt x="136" y="5887"/>
                  </a:lnTo>
                  <a:lnTo>
                    <a:pt x="229" y="6024"/>
                  </a:lnTo>
                  <a:lnTo>
                    <a:pt x="366" y="6165"/>
                  </a:lnTo>
                  <a:lnTo>
                    <a:pt x="458" y="6302"/>
                  </a:lnTo>
                  <a:lnTo>
                    <a:pt x="595" y="6439"/>
                  </a:lnTo>
                  <a:lnTo>
                    <a:pt x="687" y="6580"/>
                  </a:lnTo>
                  <a:lnTo>
                    <a:pt x="780" y="6717"/>
                  </a:lnTo>
                  <a:lnTo>
                    <a:pt x="824" y="6854"/>
                  </a:lnTo>
                  <a:lnTo>
                    <a:pt x="917" y="6995"/>
                  </a:lnTo>
                  <a:lnTo>
                    <a:pt x="1009" y="7132"/>
                  </a:lnTo>
                  <a:lnTo>
                    <a:pt x="1102" y="7269"/>
                  </a:lnTo>
                  <a:lnTo>
                    <a:pt x="1239" y="7361"/>
                  </a:lnTo>
                  <a:lnTo>
                    <a:pt x="1331" y="7498"/>
                  </a:lnTo>
                  <a:lnTo>
                    <a:pt x="1468" y="7591"/>
                  </a:lnTo>
                  <a:lnTo>
                    <a:pt x="1516" y="7732"/>
                  </a:lnTo>
                  <a:lnTo>
                    <a:pt x="1609" y="7868"/>
                  </a:lnTo>
                  <a:lnTo>
                    <a:pt x="1702" y="8005"/>
                  </a:lnTo>
                  <a:lnTo>
                    <a:pt x="1790" y="8142"/>
                  </a:lnTo>
                  <a:lnTo>
                    <a:pt x="1883" y="8283"/>
                  </a:lnTo>
                  <a:lnTo>
                    <a:pt x="1976" y="8420"/>
                  </a:lnTo>
                  <a:lnTo>
                    <a:pt x="2069" y="8556"/>
                  </a:lnTo>
                  <a:lnTo>
                    <a:pt x="2205" y="8697"/>
                  </a:lnTo>
                  <a:lnTo>
                    <a:pt x="2298" y="8834"/>
                  </a:lnTo>
                  <a:lnTo>
                    <a:pt x="2391" y="8971"/>
                  </a:lnTo>
                  <a:lnTo>
                    <a:pt x="2527" y="9063"/>
                  </a:lnTo>
                  <a:lnTo>
                    <a:pt x="2668" y="9063"/>
                  </a:lnTo>
                  <a:lnTo>
                    <a:pt x="2805" y="8971"/>
                  </a:lnTo>
                  <a:lnTo>
                    <a:pt x="2942" y="8878"/>
                  </a:lnTo>
                  <a:lnTo>
                    <a:pt x="3083" y="8834"/>
                  </a:lnTo>
                  <a:lnTo>
                    <a:pt x="3220" y="8834"/>
                  </a:lnTo>
                  <a:lnTo>
                    <a:pt x="3356" y="8790"/>
                  </a:lnTo>
                  <a:lnTo>
                    <a:pt x="3497" y="8742"/>
                  </a:lnTo>
                  <a:lnTo>
                    <a:pt x="3634" y="8697"/>
                  </a:lnTo>
                  <a:lnTo>
                    <a:pt x="3771" y="8649"/>
                  </a:lnTo>
                  <a:lnTo>
                    <a:pt x="3908" y="8605"/>
                  </a:lnTo>
                  <a:lnTo>
                    <a:pt x="4049" y="8556"/>
                  </a:lnTo>
                  <a:lnTo>
                    <a:pt x="4185" y="8512"/>
                  </a:lnTo>
                  <a:lnTo>
                    <a:pt x="4322" y="8512"/>
                  </a:lnTo>
                  <a:lnTo>
                    <a:pt x="4463" y="8468"/>
                  </a:lnTo>
                  <a:lnTo>
                    <a:pt x="4600" y="8420"/>
                  </a:lnTo>
                  <a:lnTo>
                    <a:pt x="4737" y="8376"/>
                  </a:lnTo>
                  <a:lnTo>
                    <a:pt x="4878" y="8327"/>
                  </a:lnTo>
                  <a:lnTo>
                    <a:pt x="5014" y="8283"/>
                  </a:lnTo>
                  <a:lnTo>
                    <a:pt x="5151" y="8234"/>
                  </a:lnTo>
                  <a:lnTo>
                    <a:pt x="5292" y="8190"/>
                  </a:lnTo>
                  <a:lnTo>
                    <a:pt x="5429" y="8098"/>
                  </a:lnTo>
                  <a:lnTo>
                    <a:pt x="5844" y="8005"/>
                  </a:lnTo>
                  <a:lnTo>
                    <a:pt x="5981" y="7961"/>
                  </a:lnTo>
                  <a:lnTo>
                    <a:pt x="6118" y="7868"/>
                  </a:lnTo>
                  <a:lnTo>
                    <a:pt x="6259" y="7776"/>
                  </a:lnTo>
                  <a:lnTo>
                    <a:pt x="6352" y="7639"/>
                  </a:lnTo>
                  <a:lnTo>
                    <a:pt x="6488" y="7547"/>
                  </a:lnTo>
                  <a:lnTo>
                    <a:pt x="6625" y="7454"/>
                  </a:lnTo>
                  <a:lnTo>
                    <a:pt x="6762" y="7410"/>
                  </a:lnTo>
                  <a:lnTo>
                    <a:pt x="6903" y="7317"/>
                  </a:lnTo>
                  <a:lnTo>
                    <a:pt x="7039" y="7269"/>
                  </a:lnTo>
                  <a:lnTo>
                    <a:pt x="7176" y="7176"/>
                  </a:lnTo>
                  <a:lnTo>
                    <a:pt x="7317" y="7039"/>
                  </a:lnTo>
                  <a:lnTo>
                    <a:pt x="7361" y="6903"/>
                  </a:lnTo>
                  <a:lnTo>
                    <a:pt x="7317" y="6761"/>
                  </a:lnTo>
                  <a:lnTo>
                    <a:pt x="7225" y="6624"/>
                  </a:lnTo>
                  <a:lnTo>
                    <a:pt x="7132" y="6487"/>
                  </a:lnTo>
                  <a:lnTo>
                    <a:pt x="7132" y="6350"/>
                  </a:lnTo>
                  <a:lnTo>
                    <a:pt x="7084" y="6209"/>
                  </a:lnTo>
                  <a:lnTo>
                    <a:pt x="6995" y="6073"/>
                  </a:lnTo>
                  <a:lnTo>
                    <a:pt x="6995" y="5936"/>
                  </a:lnTo>
                  <a:lnTo>
                    <a:pt x="6995" y="5795"/>
                  </a:lnTo>
                  <a:lnTo>
                    <a:pt x="6947" y="5658"/>
                  </a:lnTo>
                  <a:lnTo>
                    <a:pt x="6903" y="5336"/>
                  </a:lnTo>
                  <a:lnTo>
                    <a:pt x="6854" y="5200"/>
                  </a:lnTo>
                  <a:lnTo>
                    <a:pt x="6810" y="5058"/>
                  </a:lnTo>
                  <a:lnTo>
                    <a:pt x="6762" y="4922"/>
                  </a:lnTo>
                  <a:lnTo>
                    <a:pt x="6673" y="4785"/>
                  </a:lnTo>
                  <a:lnTo>
                    <a:pt x="6625" y="4644"/>
                  </a:lnTo>
                  <a:lnTo>
                    <a:pt x="6581" y="4234"/>
                  </a:lnTo>
                  <a:lnTo>
                    <a:pt x="6532" y="4093"/>
                  </a:lnTo>
                  <a:lnTo>
                    <a:pt x="6488" y="3956"/>
                  </a:lnTo>
                  <a:lnTo>
                    <a:pt x="6440" y="3819"/>
                  </a:lnTo>
                  <a:lnTo>
                    <a:pt x="6396" y="3678"/>
                  </a:lnTo>
                  <a:lnTo>
                    <a:pt x="6352" y="3542"/>
                  </a:lnTo>
                  <a:lnTo>
                    <a:pt x="6259" y="3127"/>
                  </a:lnTo>
                  <a:lnTo>
                    <a:pt x="6210" y="2712"/>
                  </a:lnTo>
                  <a:lnTo>
                    <a:pt x="6118" y="2576"/>
                  </a:lnTo>
                  <a:lnTo>
                    <a:pt x="5981" y="2439"/>
                  </a:lnTo>
                  <a:lnTo>
                    <a:pt x="5981" y="2116"/>
                  </a:lnTo>
                  <a:lnTo>
                    <a:pt x="5844" y="2024"/>
                  </a:lnTo>
                  <a:lnTo>
                    <a:pt x="5752" y="1882"/>
                  </a:lnTo>
                  <a:lnTo>
                    <a:pt x="5659" y="1746"/>
                  </a:lnTo>
                  <a:lnTo>
                    <a:pt x="5522" y="1653"/>
                  </a:lnTo>
                  <a:lnTo>
                    <a:pt x="5429" y="1516"/>
                  </a:lnTo>
                  <a:lnTo>
                    <a:pt x="5336" y="1380"/>
                  </a:lnTo>
                  <a:lnTo>
                    <a:pt x="5200" y="1239"/>
                  </a:lnTo>
                  <a:lnTo>
                    <a:pt x="4878" y="1146"/>
                  </a:lnTo>
                  <a:lnTo>
                    <a:pt x="4829" y="824"/>
                  </a:lnTo>
                  <a:lnTo>
                    <a:pt x="4737" y="458"/>
                  </a:lnTo>
                  <a:lnTo>
                    <a:pt x="4415" y="410"/>
                  </a:lnTo>
                  <a:lnTo>
                    <a:pt x="4322" y="273"/>
                  </a:lnTo>
                  <a:lnTo>
                    <a:pt x="4185" y="136"/>
                  </a:lnTo>
                  <a:lnTo>
                    <a:pt x="4049" y="44"/>
                  </a:lnTo>
                  <a:lnTo>
                    <a:pt x="3908" y="44"/>
                  </a:lnTo>
                  <a:lnTo>
                    <a:pt x="3771" y="0"/>
                  </a:lnTo>
                  <a:lnTo>
                    <a:pt x="3634" y="0"/>
                  </a:lnTo>
                  <a:lnTo>
                    <a:pt x="3497" y="44"/>
                  </a:lnTo>
                  <a:lnTo>
                    <a:pt x="3356" y="44"/>
                  </a:lnTo>
                  <a:lnTo>
                    <a:pt x="3220" y="44"/>
                  </a:lnTo>
                  <a:lnTo>
                    <a:pt x="3083" y="88"/>
                  </a:lnTo>
                  <a:lnTo>
                    <a:pt x="2942" y="136"/>
                  </a:lnTo>
                  <a:lnTo>
                    <a:pt x="2805" y="136"/>
                  </a:lnTo>
                  <a:lnTo>
                    <a:pt x="2668" y="229"/>
                  </a:lnTo>
                  <a:lnTo>
                    <a:pt x="2527" y="366"/>
                  </a:lnTo>
                  <a:lnTo>
                    <a:pt x="2391" y="458"/>
                  </a:lnTo>
                  <a:lnTo>
                    <a:pt x="2254" y="551"/>
                  </a:lnTo>
                  <a:lnTo>
                    <a:pt x="2117" y="687"/>
                  </a:lnTo>
                  <a:lnTo>
                    <a:pt x="1976" y="824"/>
                  </a:lnTo>
                  <a:lnTo>
                    <a:pt x="1838" y="917"/>
                  </a:lnTo>
                  <a:lnTo>
                    <a:pt x="1746" y="1058"/>
                  </a:lnTo>
                  <a:lnTo>
                    <a:pt x="1609" y="1195"/>
                  </a:lnTo>
                  <a:lnTo>
                    <a:pt x="1468" y="1287"/>
                  </a:lnTo>
                  <a:lnTo>
                    <a:pt x="1380" y="1424"/>
                  </a:lnTo>
                  <a:lnTo>
                    <a:pt x="1287" y="1561"/>
                  </a:lnTo>
                  <a:lnTo>
                    <a:pt x="1195" y="1702"/>
                  </a:lnTo>
                  <a:lnTo>
                    <a:pt x="1146" y="1838"/>
                  </a:lnTo>
                  <a:lnTo>
                    <a:pt x="1102" y="1975"/>
                  </a:lnTo>
                  <a:lnTo>
                    <a:pt x="1058" y="2116"/>
                  </a:lnTo>
                  <a:lnTo>
                    <a:pt x="1195" y="2160"/>
                  </a:lnTo>
                  <a:lnTo>
                    <a:pt x="1331" y="2160"/>
                  </a:lnTo>
                  <a:lnTo>
                    <a:pt x="1468" y="2204"/>
                  </a:lnTo>
                  <a:lnTo>
                    <a:pt x="1609" y="2253"/>
                  </a:lnTo>
                  <a:lnTo>
                    <a:pt x="1746" y="2253"/>
                  </a:lnTo>
                  <a:lnTo>
                    <a:pt x="1883" y="2253"/>
                  </a:lnTo>
                  <a:lnTo>
                    <a:pt x="2025" y="2298"/>
                  </a:lnTo>
                  <a:lnTo>
                    <a:pt x="2161" y="2391"/>
                  </a:lnTo>
                  <a:lnTo>
                    <a:pt x="2161" y="2527"/>
                  </a:lnTo>
                  <a:lnTo>
                    <a:pt x="2069" y="2668"/>
                  </a:lnTo>
                  <a:lnTo>
                    <a:pt x="1976" y="2805"/>
                  </a:lnTo>
                  <a:lnTo>
                    <a:pt x="1838" y="2849"/>
                  </a:lnTo>
                  <a:lnTo>
                    <a:pt x="1702" y="2942"/>
                  </a:lnTo>
                  <a:lnTo>
                    <a:pt x="1561" y="3034"/>
                  </a:lnTo>
                  <a:lnTo>
                    <a:pt x="1424" y="3083"/>
                  </a:lnTo>
                  <a:lnTo>
                    <a:pt x="1287" y="3175"/>
                  </a:lnTo>
                  <a:lnTo>
                    <a:pt x="1146" y="3264"/>
                  </a:lnTo>
                  <a:lnTo>
                    <a:pt x="1009" y="3405"/>
                  </a:lnTo>
                  <a:lnTo>
                    <a:pt x="917" y="3542"/>
                  </a:lnTo>
                  <a:lnTo>
                    <a:pt x="824" y="3678"/>
                  </a:lnTo>
                  <a:lnTo>
                    <a:pt x="687" y="3771"/>
                  </a:lnTo>
                  <a:lnTo>
                    <a:pt x="643" y="3908"/>
                  </a:lnTo>
                  <a:lnTo>
                    <a:pt x="502" y="4049"/>
                  </a:lnTo>
                  <a:lnTo>
                    <a:pt x="410" y="4185"/>
                  </a:lnTo>
                  <a:lnTo>
                    <a:pt x="366" y="4322"/>
                  </a:lnTo>
                  <a:lnTo>
                    <a:pt x="366" y="4463"/>
                  </a:lnTo>
                  <a:lnTo>
                    <a:pt x="321" y="4600"/>
                  </a:lnTo>
                  <a:lnTo>
                    <a:pt x="273" y="4737"/>
                  </a:lnTo>
                  <a:lnTo>
                    <a:pt x="229" y="4878"/>
                  </a:lnTo>
                  <a:lnTo>
                    <a:pt x="366" y="502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3" name=""/>
            <p:cNvSpPr txBox="1"/>
            <p:nvPr/>
          </p:nvSpPr>
          <p:spPr>
            <a:xfrm>
              <a:off x="5622840" y="4694400"/>
              <a:ext cx="2073240" cy="920880"/>
            </a:xfrm>
            <a:prstGeom prst="rect">
              <a:avLst/>
            </a:prstGeom>
            <a:noFill/>
            <a:ln w="0">
              <a:noFill/>
            </a:ln>
          </p:spPr>
          <p:txBody>
            <a:bodyPr lIns="0" rIns="0" tIns="0" bIns="0" anchor="t">
              <a:noAutofit/>
            </a:bodyPr>
            <a:p>
              <a:pPr algn="ctr">
                <a:lnSpc>
                  <a:spcPct val="85000"/>
                </a:lnSpc>
              </a:pPr>
              <a:r>
                <a:rPr b="1" lang="en-US" sz="3200" spc="-1" strike="noStrike">
                  <a:solidFill>
                    <a:srgbClr val="fafd00"/>
                  </a:solidFill>
                  <a:latin typeface="Arial Narrow"/>
                  <a:ea typeface="Arial Narrow"/>
                </a:rPr>
                <a:t>Babylonian Empire</a:t>
              </a:r>
              <a:endParaRPr b="0" lang="en-US" sz="3200" spc="-1" strike="noStrike">
                <a:solidFill>
                  <a:srgbClr val="000000"/>
                </a:solidFill>
                <a:latin typeface="Arial"/>
              </a:endParaRPr>
            </a:p>
          </p:txBody>
        </p:sp>
        <p:sp>
          <p:nvSpPr>
            <p:cNvPr id="564" name=""/>
            <p:cNvSpPr/>
            <p:nvPr/>
          </p:nvSpPr>
          <p:spPr>
            <a:xfrm>
              <a:off x="6907320" y="1243080"/>
              <a:ext cx="945000" cy="1341720"/>
            </a:xfrm>
            <a:custGeom>
              <a:avLst/>
              <a:gdLst/>
              <a:ahLst/>
              <a:rect l="0" t="0" r="r" b="b"/>
              <a:pathLst>
                <a:path w="2625" h="3727">
                  <a:moveTo>
                    <a:pt x="922" y="145"/>
                  </a:moveTo>
                  <a:lnTo>
                    <a:pt x="785" y="273"/>
                  </a:lnTo>
                  <a:lnTo>
                    <a:pt x="643" y="366"/>
                  </a:lnTo>
                  <a:lnTo>
                    <a:pt x="507" y="458"/>
                  </a:lnTo>
                  <a:lnTo>
                    <a:pt x="370" y="458"/>
                  </a:lnTo>
                  <a:lnTo>
                    <a:pt x="229" y="458"/>
                  </a:lnTo>
                  <a:lnTo>
                    <a:pt x="141" y="595"/>
                  </a:lnTo>
                  <a:lnTo>
                    <a:pt x="48" y="736"/>
                  </a:lnTo>
                  <a:lnTo>
                    <a:pt x="48" y="873"/>
                  </a:lnTo>
                  <a:lnTo>
                    <a:pt x="0" y="1009"/>
                  </a:lnTo>
                  <a:lnTo>
                    <a:pt x="0" y="1146"/>
                  </a:lnTo>
                  <a:lnTo>
                    <a:pt x="0" y="1287"/>
                  </a:lnTo>
                  <a:lnTo>
                    <a:pt x="48" y="1424"/>
                  </a:lnTo>
                  <a:lnTo>
                    <a:pt x="92" y="1561"/>
                  </a:lnTo>
                  <a:lnTo>
                    <a:pt x="185" y="1702"/>
                  </a:lnTo>
                  <a:lnTo>
                    <a:pt x="277" y="1838"/>
                  </a:lnTo>
                  <a:lnTo>
                    <a:pt x="414" y="1976"/>
                  </a:lnTo>
                  <a:lnTo>
                    <a:pt x="555" y="2069"/>
                  </a:lnTo>
                  <a:lnTo>
                    <a:pt x="693" y="2161"/>
                  </a:lnTo>
                  <a:lnTo>
                    <a:pt x="830" y="2254"/>
                  </a:lnTo>
                  <a:lnTo>
                    <a:pt x="966" y="2298"/>
                  </a:lnTo>
                  <a:lnTo>
                    <a:pt x="1107" y="2391"/>
                  </a:lnTo>
                  <a:lnTo>
                    <a:pt x="1244" y="2483"/>
                  </a:lnTo>
                  <a:lnTo>
                    <a:pt x="1107" y="2620"/>
                  </a:lnTo>
                  <a:lnTo>
                    <a:pt x="1059" y="2761"/>
                  </a:lnTo>
                  <a:lnTo>
                    <a:pt x="1059" y="2898"/>
                  </a:lnTo>
                  <a:lnTo>
                    <a:pt x="1059" y="3034"/>
                  </a:lnTo>
                  <a:lnTo>
                    <a:pt x="1059" y="3176"/>
                  </a:lnTo>
                  <a:lnTo>
                    <a:pt x="1107" y="3312"/>
                  </a:lnTo>
                  <a:lnTo>
                    <a:pt x="1244" y="3449"/>
                  </a:lnTo>
                  <a:lnTo>
                    <a:pt x="1381" y="3542"/>
                  </a:lnTo>
                  <a:lnTo>
                    <a:pt x="1522" y="3634"/>
                  </a:lnTo>
                  <a:lnTo>
                    <a:pt x="1659" y="3678"/>
                  </a:lnTo>
                  <a:lnTo>
                    <a:pt x="1795" y="3727"/>
                  </a:lnTo>
                  <a:lnTo>
                    <a:pt x="1936" y="3727"/>
                  </a:lnTo>
                  <a:lnTo>
                    <a:pt x="2074" y="3727"/>
                  </a:lnTo>
                  <a:lnTo>
                    <a:pt x="2211" y="3678"/>
                  </a:lnTo>
                  <a:lnTo>
                    <a:pt x="2347" y="3590"/>
                  </a:lnTo>
                  <a:lnTo>
                    <a:pt x="2440" y="3449"/>
                  </a:lnTo>
                  <a:lnTo>
                    <a:pt x="2533" y="3312"/>
                  </a:lnTo>
                  <a:lnTo>
                    <a:pt x="2581" y="3176"/>
                  </a:lnTo>
                  <a:lnTo>
                    <a:pt x="2581" y="3034"/>
                  </a:lnTo>
                  <a:lnTo>
                    <a:pt x="2625" y="2898"/>
                  </a:lnTo>
                  <a:lnTo>
                    <a:pt x="2625" y="2761"/>
                  </a:lnTo>
                  <a:lnTo>
                    <a:pt x="2625" y="2620"/>
                  </a:lnTo>
                  <a:lnTo>
                    <a:pt x="2625" y="2483"/>
                  </a:lnTo>
                  <a:lnTo>
                    <a:pt x="2625" y="2346"/>
                  </a:lnTo>
                  <a:lnTo>
                    <a:pt x="2489" y="2254"/>
                  </a:lnTo>
                  <a:lnTo>
                    <a:pt x="2347" y="2254"/>
                  </a:lnTo>
                  <a:lnTo>
                    <a:pt x="2211" y="2254"/>
                  </a:lnTo>
                  <a:lnTo>
                    <a:pt x="2118" y="2117"/>
                  </a:lnTo>
                  <a:lnTo>
                    <a:pt x="2259" y="2025"/>
                  </a:lnTo>
                  <a:lnTo>
                    <a:pt x="2396" y="2025"/>
                  </a:lnTo>
                  <a:lnTo>
                    <a:pt x="2533" y="1976"/>
                  </a:lnTo>
                  <a:lnTo>
                    <a:pt x="2581" y="1838"/>
                  </a:lnTo>
                  <a:lnTo>
                    <a:pt x="2581" y="1702"/>
                  </a:lnTo>
                  <a:lnTo>
                    <a:pt x="2581" y="1561"/>
                  </a:lnTo>
                  <a:lnTo>
                    <a:pt x="2581" y="1424"/>
                  </a:lnTo>
                  <a:lnTo>
                    <a:pt x="2440" y="1380"/>
                  </a:lnTo>
                  <a:lnTo>
                    <a:pt x="2303" y="1380"/>
                  </a:lnTo>
                  <a:lnTo>
                    <a:pt x="2167" y="1472"/>
                  </a:lnTo>
                  <a:lnTo>
                    <a:pt x="2074" y="1609"/>
                  </a:lnTo>
                  <a:lnTo>
                    <a:pt x="1981" y="1746"/>
                  </a:lnTo>
                  <a:lnTo>
                    <a:pt x="1888" y="1609"/>
                  </a:lnTo>
                  <a:lnTo>
                    <a:pt x="1795" y="1472"/>
                  </a:lnTo>
                  <a:lnTo>
                    <a:pt x="1659" y="1424"/>
                  </a:lnTo>
                  <a:lnTo>
                    <a:pt x="1522" y="1331"/>
                  </a:lnTo>
                  <a:lnTo>
                    <a:pt x="1381" y="1239"/>
                  </a:lnTo>
                  <a:lnTo>
                    <a:pt x="1337" y="1102"/>
                  </a:lnTo>
                  <a:lnTo>
                    <a:pt x="1381" y="965"/>
                  </a:lnTo>
                  <a:lnTo>
                    <a:pt x="1522" y="873"/>
                  </a:lnTo>
                  <a:lnTo>
                    <a:pt x="1659" y="824"/>
                  </a:lnTo>
                  <a:lnTo>
                    <a:pt x="1795" y="736"/>
                  </a:lnTo>
                  <a:lnTo>
                    <a:pt x="1888" y="595"/>
                  </a:lnTo>
                  <a:lnTo>
                    <a:pt x="1888" y="229"/>
                  </a:lnTo>
                  <a:lnTo>
                    <a:pt x="1888" y="88"/>
                  </a:lnTo>
                  <a:lnTo>
                    <a:pt x="1751" y="44"/>
                  </a:lnTo>
                  <a:lnTo>
                    <a:pt x="1614" y="0"/>
                  </a:lnTo>
                  <a:lnTo>
                    <a:pt x="1473" y="0"/>
                  </a:lnTo>
                  <a:lnTo>
                    <a:pt x="1337" y="0"/>
                  </a:lnTo>
                  <a:lnTo>
                    <a:pt x="1200" y="44"/>
                  </a:lnTo>
                  <a:lnTo>
                    <a:pt x="1059" y="136"/>
                  </a:lnTo>
                  <a:lnTo>
                    <a:pt x="922" y="136"/>
                  </a:lnTo>
                  <a:lnTo>
                    <a:pt x="922" y="145"/>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8332920" y="1143000"/>
              <a:ext cx="381240" cy="579960"/>
            </a:xfrm>
            <a:custGeom>
              <a:avLst/>
              <a:gdLst/>
              <a:ahLst/>
              <a:rect l="0" t="0" r="r" b="b"/>
              <a:pathLst>
                <a:path w="1059" h="1611">
                  <a:moveTo>
                    <a:pt x="561" y="0"/>
                  </a:moveTo>
                  <a:lnTo>
                    <a:pt x="414" y="0"/>
                  </a:lnTo>
                  <a:lnTo>
                    <a:pt x="321" y="136"/>
                  </a:lnTo>
                  <a:lnTo>
                    <a:pt x="180" y="277"/>
                  </a:lnTo>
                  <a:lnTo>
                    <a:pt x="44" y="366"/>
                  </a:lnTo>
                  <a:lnTo>
                    <a:pt x="0" y="508"/>
                  </a:lnTo>
                  <a:lnTo>
                    <a:pt x="44" y="644"/>
                  </a:lnTo>
                  <a:lnTo>
                    <a:pt x="92" y="781"/>
                  </a:lnTo>
                  <a:lnTo>
                    <a:pt x="92" y="922"/>
                  </a:lnTo>
                  <a:lnTo>
                    <a:pt x="180" y="1059"/>
                  </a:lnTo>
                  <a:lnTo>
                    <a:pt x="273" y="1196"/>
                  </a:lnTo>
                  <a:lnTo>
                    <a:pt x="414" y="1196"/>
                  </a:lnTo>
                  <a:lnTo>
                    <a:pt x="552" y="1196"/>
                  </a:lnTo>
                  <a:lnTo>
                    <a:pt x="688" y="1196"/>
                  </a:lnTo>
                  <a:lnTo>
                    <a:pt x="688" y="1338"/>
                  </a:lnTo>
                  <a:lnTo>
                    <a:pt x="737" y="1474"/>
                  </a:lnTo>
                  <a:lnTo>
                    <a:pt x="781" y="1611"/>
                  </a:lnTo>
                  <a:lnTo>
                    <a:pt x="874" y="1474"/>
                  </a:lnTo>
                  <a:lnTo>
                    <a:pt x="966" y="1338"/>
                  </a:lnTo>
                  <a:lnTo>
                    <a:pt x="1059" y="1196"/>
                  </a:lnTo>
                  <a:lnTo>
                    <a:pt x="1059" y="1059"/>
                  </a:lnTo>
                  <a:lnTo>
                    <a:pt x="1059" y="922"/>
                  </a:lnTo>
                  <a:lnTo>
                    <a:pt x="1010" y="781"/>
                  </a:lnTo>
                  <a:lnTo>
                    <a:pt x="966" y="644"/>
                  </a:lnTo>
                  <a:lnTo>
                    <a:pt x="966" y="508"/>
                  </a:lnTo>
                  <a:lnTo>
                    <a:pt x="918" y="366"/>
                  </a:lnTo>
                  <a:lnTo>
                    <a:pt x="874" y="229"/>
                  </a:lnTo>
                  <a:lnTo>
                    <a:pt x="781" y="92"/>
                  </a:lnTo>
                  <a:lnTo>
                    <a:pt x="644" y="92"/>
                  </a:lnTo>
                  <a:lnTo>
                    <a:pt x="561" y="0"/>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5830920" y="2154240"/>
              <a:ext cx="3279960" cy="4008960"/>
            </a:xfrm>
            <a:custGeom>
              <a:avLst/>
              <a:gdLst/>
              <a:ahLst/>
              <a:rect l="0" t="0" r="r" b="b"/>
              <a:pathLst>
                <a:path fill="none" w="9111" h="11136">
                  <a:moveTo>
                    <a:pt x="524" y="2694"/>
                  </a:moveTo>
                  <a:lnTo>
                    <a:pt x="370" y="2575"/>
                  </a:lnTo>
                  <a:lnTo>
                    <a:pt x="229" y="2482"/>
                  </a:lnTo>
                  <a:lnTo>
                    <a:pt x="92" y="2345"/>
                  </a:lnTo>
                  <a:lnTo>
                    <a:pt x="44" y="2204"/>
                  </a:lnTo>
                  <a:lnTo>
                    <a:pt x="44" y="2068"/>
                  </a:lnTo>
                  <a:lnTo>
                    <a:pt x="0" y="1931"/>
                  </a:lnTo>
                  <a:lnTo>
                    <a:pt x="0" y="1790"/>
                  </a:lnTo>
                  <a:lnTo>
                    <a:pt x="0" y="1653"/>
                  </a:lnTo>
                  <a:lnTo>
                    <a:pt x="0" y="1516"/>
                  </a:lnTo>
                  <a:lnTo>
                    <a:pt x="0" y="1380"/>
                  </a:lnTo>
                  <a:lnTo>
                    <a:pt x="44" y="1239"/>
                  </a:lnTo>
                  <a:lnTo>
                    <a:pt x="136" y="1102"/>
                  </a:lnTo>
                  <a:lnTo>
                    <a:pt x="136" y="965"/>
                  </a:lnTo>
                  <a:lnTo>
                    <a:pt x="229" y="824"/>
                  </a:lnTo>
                  <a:lnTo>
                    <a:pt x="370" y="732"/>
                  </a:lnTo>
                  <a:lnTo>
                    <a:pt x="414" y="595"/>
                  </a:lnTo>
                  <a:lnTo>
                    <a:pt x="414" y="458"/>
                  </a:lnTo>
                  <a:lnTo>
                    <a:pt x="458" y="321"/>
                  </a:lnTo>
                  <a:lnTo>
                    <a:pt x="599" y="180"/>
                  </a:lnTo>
                  <a:lnTo>
                    <a:pt x="736" y="88"/>
                  </a:lnTo>
                  <a:lnTo>
                    <a:pt x="873" y="44"/>
                  </a:lnTo>
                  <a:lnTo>
                    <a:pt x="1014" y="44"/>
                  </a:lnTo>
                  <a:lnTo>
                    <a:pt x="1150" y="44"/>
                  </a:lnTo>
                  <a:lnTo>
                    <a:pt x="1287" y="44"/>
                  </a:lnTo>
                  <a:lnTo>
                    <a:pt x="1428" y="44"/>
                  </a:lnTo>
                  <a:lnTo>
                    <a:pt x="1565" y="44"/>
                  </a:lnTo>
                  <a:lnTo>
                    <a:pt x="1702" y="44"/>
                  </a:lnTo>
                  <a:lnTo>
                    <a:pt x="1838" y="44"/>
                  </a:lnTo>
                  <a:lnTo>
                    <a:pt x="1979" y="44"/>
                  </a:lnTo>
                  <a:lnTo>
                    <a:pt x="2116" y="44"/>
                  </a:lnTo>
                  <a:lnTo>
                    <a:pt x="2253" y="0"/>
                  </a:lnTo>
                  <a:lnTo>
                    <a:pt x="2394" y="0"/>
                  </a:lnTo>
                  <a:lnTo>
                    <a:pt x="2531" y="0"/>
                  </a:lnTo>
                  <a:lnTo>
                    <a:pt x="2667" y="0"/>
                  </a:lnTo>
                  <a:lnTo>
                    <a:pt x="2808" y="0"/>
                  </a:lnTo>
                  <a:lnTo>
                    <a:pt x="2945" y="44"/>
                  </a:lnTo>
                  <a:lnTo>
                    <a:pt x="3082" y="44"/>
                  </a:lnTo>
                  <a:lnTo>
                    <a:pt x="3452" y="88"/>
                  </a:lnTo>
                  <a:lnTo>
                    <a:pt x="3589" y="136"/>
                  </a:lnTo>
                  <a:lnTo>
                    <a:pt x="3726" y="180"/>
                  </a:lnTo>
                  <a:lnTo>
                    <a:pt x="3867" y="180"/>
                  </a:lnTo>
                  <a:lnTo>
                    <a:pt x="4004" y="229"/>
                  </a:lnTo>
                  <a:lnTo>
                    <a:pt x="4140" y="273"/>
                  </a:lnTo>
                  <a:lnTo>
                    <a:pt x="4277" y="321"/>
                  </a:lnTo>
                  <a:lnTo>
                    <a:pt x="4418" y="321"/>
                  </a:lnTo>
                  <a:lnTo>
                    <a:pt x="4834" y="321"/>
                  </a:lnTo>
                  <a:lnTo>
                    <a:pt x="4970" y="321"/>
                  </a:lnTo>
                  <a:lnTo>
                    <a:pt x="5107" y="321"/>
                  </a:lnTo>
                  <a:lnTo>
                    <a:pt x="5248" y="321"/>
                  </a:lnTo>
                  <a:lnTo>
                    <a:pt x="5385" y="366"/>
                  </a:lnTo>
                  <a:lnTo>
                    <a:pt x="5521" y="410"/>
                  </a:lnTo>
                  <a:lnTo>
                    <a:pt x="5663" y="458"/>
                  </a:lnTo>
                  <a:lnTo>
                    <a:pt x="5799" y="458"/>
                  </a:lnTo>
                  <a:lnTo>
                    <a:pt x="5936" y="458"/>
                  </a:lnTo>
                  <a:lnTo>
                    <a:pt x="6258" y="458"/>
                  </a:lnTo>
                  <a:lnTo>
                    <a:pt x="6395" y="458"/>
                  </a:lnTo>
                  <a:lnTo>
                    <a:pt x="6536" y="458"/>
                  </a:lnTo>
                  <a:lnTo>
                    <a:pt x="6672" y="410"/>
                  </a:lnTo>
                  <a:lnTo>
                    <a:pt x="7043" y="366"/>
                  </a:lnTo>
                  <a:lnTo>
                    <a:pt x="7409" y="366"/>
                  </a:lnTo>
                  <a:lnTo>
                    <a:pt x="7731" y="366"/>
                  </a:lnTo>
                  <a:lnTo>
                    <a:pt x="8101" y="321"/>
                  </a:lnTo>
                  <a:lnTo>
                    <a:pt x="8423" y="321"/>
                  </a:lnTo>
                  <a:lnTo>
                    <a:pt x="8789" y="321"/>
                  </a:lnTo>
                  <a:lnTo>
                    <a:pt x="8926" y="321"/>
                  </a:lnTo>
                  <a:lnTo>
                    <a:pt x="9067" y="321"/>
                  </a:lnTo>
                  <a:lnTo>
                    <a:pt x="9111" y="458"/>
                  </a:lnTo>
                  <a:lnTo>
                    <a:pt x="9111" y="595"/>
                  </a:lnTo>
                  <a:lnTo>
                    <a:pt x="9111" y="732"/>
                  </a:lnTo>
                  <a:lnTo>
                    <a:pt x="9111" y="873"/>
                  </a:lnTo>
                  <a:lnTo>
                    <a:pt x="9111" y="1009"/>
                  </a:lnTo>
                  <a:lnTo>
                    <a:pt x="9111" y="1146"/>
                  </a:lnTo>
                  <a:lnTo>
                    <a:pt x="9111" y="1287"/>
                  </a:lnTo>
                  <a:lnTo>
                    <a:pt x="9111" y="1424"/>
                  </a:lnTo>
                  <a:lnTo>
                    <a:pt x="9111" y="1561"/>
                  </a:lnTo>
                  <a:lnTo>
                    <a:pt x="9111" y="1702"/>
                  </a:lnTo>
                  <a:lnTo>
                    <a:pt x="9111" y="2068"/>
                  </a:lnTo>
                  <a:lnTo>
                    <a:pt x="9111" y="2482"/>
                  </a:lnTo>
                  <a:lnTo>
                    <a:pt x="9111" y="2849"/>
                  </a:lnTo>
                  <a:lnTo>
                    <a:pt x="9111" y="3176"/>
                  </a:lnTo>
                  <a:lnTo>
                    <a:pt x="9111" y="3542"/>
                  </a:lnTo>
                  <a:lnTo>
                    <a:pt x="9111" y="3863"/>
                  </a:lnTo>
                  <a:lnTo>
                    <a:pt x="9111" y="4234"/>
                  </a:lnTo>
                  <a:lnTo>
                    <a:pt x="9111" y="4556"/>
                  </a:lnTo>
                  <a:lnTo>
                    <a:pt x="9111" y="4692"/>
                  </a:lnTo>
                  <a:lnTo>
                    <a:pt x="9111" y="4829"/>
                  </a:lnTo>
                  <a:lnTo>
                    <a:pt x="9111" y="5244"/>
                  </a:lnTo>
                  <a:lnTo>
                    <a:pt x="9111" y="5658"/>
                  </a:lnTo>
                  <a:lnTo>
                    <a:pt x="9111" y="5795"/>
                  </a:lnTo>
                  <a:lnTo>
                    <a:pt x="9111" y="6165"/>
                  </a:lnTo>
                  <a:lnTo>
                    <a:pt x="9111" y="6302"/>
                  </a:lnTo>
                  <a:lnTo>
                    <a:pt x="9111" y="6624"/>
                  </a:lnTo>
                  <a:lnTo>
                    <a:pt x="9111" y="7038"/>
                  </a:lnTo>
                  <a:lnTo>
                    <a:pt x="9111" y="7175"/>
                  </a:lnTo>
                  <a:lnTo>
                    <a:pt x="9111" y="7497"/>
                  </a:lnTo>
                  <a:lnTo>
                    <a:pt x="9111" y="7638"/>
                  </a:lnTo>
                  <a:lnTo>
                    <a:pt x="9111" y="7775"/>
                  </a:lnTo>
                  <a:lnTo>
                    <a:pt x="9111" y="7912"/>
                  </a:lnTo>
                  <a:lnTo>
                    <a:pt x="9111" y="8053"/>
                  </a:lnTo>
                  <a:lnTo>
                    <a:pt x="9111" y="8189"/>
                  </a:lnTo>
                  <a:lnTo>
                    <a:pt x="9111" y="8326"/>
                  </a:lnTo>
                  <a:lnTo>
                    <a:pt x="9111" y="8468"/>
                  </a:lnTo>
                  <a:lnTo>
                    <a:pt x="9111" y="8605"/>
                  </a:lnTo>
                  <a:lnTo>
                    <a:pt x="9111" y="8742"/>
                  </a:lnTo>
                  <a:lnTo>
                    <a:pt x="9111" y="8878"/>
                  </a:lnTo>
                  <a:lnTo>
                    <a:pt x="9111" y="9293"/>
                  </a:lnTo>
                  <a:lnTo>
                    <a:pt x="9111" y="9434"/>
                  </a:lnTo>
                  <a:lnTo>
                    <a:pt x="9111" y="9571"/>
                  </a:lnTo>
                  <a:lnTo>
                    <a:pt x="9111" y="9707"/>
                  </a:lnTo>
                  <a:lnTo>
                    <a:pt x="9111" y="9848"/>
                  </a:lnTo>
                  <a:lnTo>
                    <a:pt x="9111" y="9985"/>
                  </a:lnTo>
                  <a:lnTo>
                    <a:pt x="9111" y="10122"/>
                  </a:lnTo>
                  <a:lnTo>
                    <a:pt x="9111" y="10259"/>
                  </a:lnTo>
                  <a:lnTo>
                    <a:pt x="9111" y="10400"/>
                  </a:lnTo>
                  <a:lnTo>
                    <a:pt x="9111" y="10536"/>
                  </a:lnTo>
                  <a:lnTo>
                    <a:pt x="9111" y="10673"/>
                  </a:lnTo>
                  <a:lnTo>
                    <a:pt x="9111" y="10814"/>
                  </a:lnTo>
                  <a:lnTo>
                    <a:pt x="9111" y="10951"/>
                  </a:lnTo>
                  <a:lnTo>
                    <a:pt x="8974" y="11043"/>
                  </a:lnTo>
                  <a:lnTo>
                    <a:pt x="8838" y="11088"/>
                  </a:lnTo>
                  <a:lnTo>
                    <a:pt x="8696" y="11136"/>
                  </a:lnTo>
                  <a:lnTo>
                    <a:pt x="8560" y="11136"/>
                  </a:lnTo>
                  <a:lnTo>
                    <a:pt x="8423" y="11136"/>
                  </a:lnTo>
                  <a:lnTo>
                    <a:pt x="8282" y="11136"/>
                  </a:lnTo>
                  <a:lnTo>
                    <a:pt x="8145" y="11088"/>
                  </a:lnTo>
                  <a:lnTo>
                    <a:pt x="8009" y="11043"/>
                  </a:lnTo>
                  <a:lnTo>
                    <a:pt x="7867" y="10995"/>
                  </a:lnTo>
                  <a:lnTo>
                    <a:pt x="7731" y="10858"/>
                  </a:lnTo>
                  <a:lnTo>
                    <a:pt x="7594" y="10766"/>
                  </a:lnTo>
                  <a:lnTo>
                    <a:pt x="7453" y="10673"/>
                  </a:lnTo>
                  <a:lnTo>
                    <a:pt x="7316" y="10585"/>
                  </a:lnTo>
                  <a:lnTo>
                    <a:pt x="7180" y="10492"/>
                  </a:lnTo>
                  <a:lnTo>
                    <a:pt x="7043" y="10400"/>
                  </a:lnTo>
                  <a:lnTo>
                    <a:pt x="6902" y="10307"/>
                  </a:lnTo>
                  <a:lnTo>
                    <a:pt x="6765" y="10259"/>
                  </a:lnTo>
                  <a:lnTo>
                    <a:pt x="6628" y="10170"/>
                  </a:lnTo>
                  <a:lnTo>
                    <a:pt x="6487" y="10078"/>
                  </a:lnTo>
                  <a:lnTo>
                    <a:pt x="6351" y="9985"/>
                  </a:lnTo>
                  <a:lnTo>
                    <a:pt x="6214" y="9893"/>
                  </a:lnTo>
                  <a:lnTo>
                    <a:pt x="6073" y="9756"/>
                  </a:lnTo>
                  <a:lnTo>
                    <a:pt x="5936" y="9615"/>
                  </a:lnTo>
                  <a:lnTo>
                    <a:pt x="5799" y="9527"/>
                  </a:lnTo>
                  <a:lnTo>
                    <a:pt x="5751" y="9385"/>
                  </a:lnTo>
                  <a:lnTo>
                    <a:pt x="5614" y="9341"/>
                  </a:lnTo>
                  <a:lnTo>
                    <a:pt x="5521" y="9200"/>
                  </a:lnTo>
                  <a:lnTo>
                    <a:pt x="5521" y="9063"/>
                  </a:lnTo>
                  <a:lnTo>
                    <a:pt x="5521" y="8927"/>
                  </a:lnTo>
                  <a:lnTo>
                    <a:pt x="5521" y="8790"/>
                  </a:lnTo>
                  <a:lnTo>
                    <a:pt x="5385" y="8742"/>
                  </a:lnTo>
                  <a:lnTo>
                    <a:pt x="5248" y="8649"/>
                  </a:lnTo>
                  <a:lnTo>
                    <a:pt x="5155" y="8512"/>
                  </a:lnTo>
                  <a:lnTo>
                    <a:pt x="5155" y="8376"/>
                  </a:lnTo>
                  <a:lnTo>
                    <a:pt x="5155" y="8233"/>
                  </a:lnTo>
                  <a:lnTo>
                    <a:pt x="5155" y="8097"/>
                  </a:lnTo>
                  <a:lnTo>
                    <a:pt x="5155" y="7960"/>
                  </a:lnTo>
                  <a:lnTo>
                    <a:pt x="5155" y="7819"/>
                  </a:lnTo>
                  <a:lnTo>
                    <a:pt x="5107" y="7682"/>
                  </a:lnTo>
                  <a:lnTo>
                    <a:pt x="5107" y="7546"/>
                  </a:lnTo>
                  <a:lnTo>
                    <a:pt x="5063" y="7409"/>
                  </a:lnTo>
                  <a:lnTo>
                    <a:pt x="5014" y="7268"/>
                  </a:lnTo>
                  <a:lnTo>
                    <a:pt x="4970" y="7131"/>
                  </a:lnTo>
                  <a:lnTo>
                    <a:pt x="4926" y="6994"/>
                  </a:lnTo>
                  <a:lnTo>
                    <a:pt x="4926" y="6853"/>
                  </a:lnTo>
                  <a:lnTo>
                    <a:pt x="4878" y="6717"/>
                  </a:lnTo>
                  <a:lnTo>
                    <a:pt x="4834" y="6580"/>
                  </a:lnTo>
                  <a:lnTo>
                    <a:pt x="4785" y="6439"/>
                  </a:lnTo>
                  <a:lnTo>
                    <a:pt x="4741" y="6302"/>
                  </a:lnTo>
                  <a:lnTo>
                    <a:pt x="4692" y="6165"/>
                  </a:lnTo>
                  <a:lnTo>
                    <a:pt x="4692" y="6024"/>
                  </a:lnTo>
                  <a:lnTo>
                    <a:pt x="4692" y="5887"/>
                  </a:lnTo>
                  <a:lnTo>
                    <a:pt x="4692" y="5751"/>
                  </a:lnTo>
                  <a:lnTo>
                    <a:pt x="4692" y="5614"/>
                  </a:lnTo>
                  <a:lnTo>
                    <a:pt x="4604" y="5473"/>
                  </a:lnTo>
                  <a:lnTo>
                    <a:pt x="4556" y="5336"/>
                  </a:lnTo>
                  <a:lnTo>
                    <a:pt x="4511" y="5200"/>
                  </a:lnTo>
                  <a:lnTo>
                    <a:pt x="4462" y="5058"/>
                  </a:lnTo>
                  <a:lnTo>
                    <a:pt x="4418" y="4922"/>
                  </a:lnTo>
                  <a:lnTo>
                    <a:pt x="4370" y="4785"/>
                  </a:lnTo>
                  <a:lnTo>
                    <a:pt x="4325" y="4644"/>
                  </a:lnTo>
                  <a:lnTo>
                    <a:pt x="4325" y="4507"/>
                  </a:lnTo>
                  <a:lnTo>
                    <a:pt x="4277" y="4371"/>
                  </a:lnTo>
                  <a:lnTo>
                    <a:pt x="4189" y="4234"/>
                  </a:lnTo>
                  <a:lnTo>
                    <a:pt x="4096" y="4093"/>
                  </a:lnTo>
                  <a:lnTo>
                    <a:pt x="4004" y="3956"/>
                  </a:lnTo>
                  <a:lnTo>
                    <a:pt x="3911" y="3819"/>
                  </a:lnTo>
                  <a:lnTo>
                    <a:pt x="3818" y="3678"/>
                  </a:lnTo>
                  <a:lnTo>
                    <a:pt x="3682" y="3586"/>
                  </a:lnTo>
                  <a:lnTo>
                    <a:pt x="3545" y="3497"/>
                  </a:lnTo>
                  <a:lnTo>
                    <a:pt x="3404" y="3405"/>
                  </a:lnTo>
                  <a:lnTo>
                    <a:pt x="3267" y="3356"/>
                  </a:lnTo>
                  <a:lnTo>
                    <a:pt x="3130" y="3264"/>
                  </a:lnTo>
                  <a:lnTo>
                    <a:pt x="3038" y="3127"/>
                  </a:lnTo>
                  <a:lnTo>
                    <a:pt x="3038" y="2990"/>
                  </a:lnTo>
                  <a:lnTo>
                    <a:pt x="3038" y="2849"/>
                  </a:lnTo>
                  <a:lnTo>
                    <a:pt x="3038" y="2711"/>
                  </a:lnTo>
                  <a:lnTo>
                    <a:pt x="2897" y="2667"/>
                  </a:lnTo>
                  <a:lnTo>
                    <a:pt x="2760" y="2619"/>
                  </a:lnTo>
                  <a:lnTo>
                    <a:pt x="2623" y="2526"/>
                  </a:lnTo>
                  <a:lnTo>
                    <a:pt x="2487" y="2438"/>
                  </a:lnTo>
                  <a:lnTo>
                    <a:pt x="2345" y="2345"/>
                  </a:lnTo>
                  <a:lnTo>
                    <a:pt x="2209" y="2253"/>
                  </a:lnTo>
                  <a:lnTo>
                    <a:pt x="2072" y="2160"/>
                  </a:lnTo>
                  <a:lnTo>
                    <a:pt x="1931" y="2116"/>
                  </a:lnTo>
                  <a:lnTo>
                    <a:pt x="1794" y="2068"/>
                  </a:lnTo>
                  <a:lnTo>
                    <a:pt x="1658" y="2068"/>
                  </a:lnTo>
                  <a:lnTo>
                    <a:pt x="1516" y="2068"/>
                  </a:lnTo>
                  <a:lnTo>
                    <a:pt x="1380" y="2068"/>
                  </a:lnTo>
                  <a:lnTo>
                    <a:pt x="1243" y="2160"/>
                  </a:lnTo>
                  <a:lnTo>
                    <a:pt x="1102" y="2204"/>
                  </a:lnTo>
                  <a:lnTo>
                    <a:pt x="965" y="2253"/>
                  </a:lnTo>
                  <a:lnTo>
                    <a:pt x="829" y="2297"/>
                  </a:lnTo>
                  <a:lnTo>
                    <a:pt x="692" y="2345"/>
                  </a:lnTo>
                  <a:lnTo>
                    <a:pt x="643" y="2482"/>
                  </a:lnTo>
                  <a:lnTo>
                    <a:pt x="551" y="2619"/>
                  </a:lnTo>
                  <a:lnTo>
                    <a:pt x="524" y="2694"/>
                  </a:lnTo>
                </a:path>
              </a:pathLst>
            </a:custGeom>
            <a:ln w="12600">
              <a:solidFill>
                <a:srgbClr val="ffffff"/>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567" name=""/>
            <p:cNvSpPr txBox="1"/>
            <p:nvPr/>
          </p:nvSpPr>
          <p:spPr>
            <a:xfrm>
              <a:off x="7234200" y="2673360"/>
              <a:ext cx="1652760" cy="968400"/>
            </a:xfrm>
            <a:prstGeom prst="rect">
              <a:avLst/>
            </a:prstGeom>
            <a:noFill/>
            <a:ln w="0">
              <a:noFill/>
            </a:ln>
          </p:spPr>
          <p:txBody>
            <a:bodyPr lIns="0" rIns="0" tIns="0" bIns="0" anchor="t">
              <a:noAutofit/>
            </a:bodyPr>
            <a:p>
              <a:pPr algn="ctr">
                <a:lnSpc>
                  <a:spcPct val="90000"/>
                </a:lnSpc>
              </a:pPr>
              <a:r>
                <a:rPr b="1" lang="en-US" sz="3200" spc="-1" strike="noStrike">
                  <a:solidFill>
                    <a:srgbClr val="ffffff"/>
                  </a:solidFill>
                  <a:latin typeface="Arial"/>
                  <a:ea typeface="Arial"/>
                </a:rPr>
                <a:t>Persian</a:t>
              </a:r>
              <a:endParaRPr b="0" lang="en-US" sz="3200" spc="-1" strike="noStrike">
                <a:solidFill>
                  <a:srgbClr val="000000"/>
                </a:solidFill>
                <a:latin typeface="Arial"/>
              </a:endParaRPr>
            </a:p>
            <a:p>
              <a:pPr algn="ctr">
                <a:lnSpc>
                  <a:spcPct val="90000"/>
                </a:lnSpc>
              </a:pPr>
              <a:r>
                <a:rPr b="1" lang="en-US" sz="3200" spc="-1" strike="noStrike">
                  <a:solidFill>
                    <a:srgbClr val="ffffff"/>
                  </a:solidFill>
                  <a:latin typeface="Arial"/>
                  <a:ea typeface="Arial"/>
                </a:rPr>
                <a:t>Empire</a:t>
              </a:r>
              <a:endParaRPr b="0" lang="en-US" sz="3200" spc="-1" strike="noStrike">
                <a:solidFill>
                  <a:srgbClr val="000000"/>
                </a:solidFill>
                <a:latin typeface="Arial"/>
              </a:endParaRPr>
            </a:p>
          </p:txBody>
        </p:sp>
        <p:sp>
          <p:nvSpPr>
            <p:cNvPr id="568" name=""/>
            <p:cNvSpPr/>
            <p:nvPr/>
          </p:nvSpPr>
          <p:spPr>
            <a:xfrm>
              <a:off x="3529080" y="4456080"/>
              <a:ext cx="2551320" cy="1938600"/>
            </a:xfrm>
            <a:custGeom>
              <a:avLst/>
              <a:gdLst/>
              <a:ahLst/>
              <a:rect l="0" t="0" r="r" b="b"/>
              <a:pathLst>
                <a:path fill="none" w="7087" h="5385">
                  <a:moveTo>
                    <a:pt x="357" y="321"/>
                  </a:moveTo>
                  <a:lnTo>
                    <a:pt x="366" y="458"/>
                  </a:lnTo>
                  <a:lnTo>
                    <a:pt x="366" y="599"/>
                  </a:lnTo>
                  <a:lnTo>
                    <a:pt x="321" y="736"/>
                  </a:lnTo>
                  <a:lnTo>
                    <a:pt x="229" y="873"/>
                  </a:lnTo>
                  <a:lnTo>
                    <a:pt x="180" y="1014"/>
                  </a:lnTo>
                  <a:lnTo>
                    <a:pt x="136" y="1150"/>
                  </a:lnTo>
                  <a:lnTo>
                    <a:pt x="44" y="1287"/>
                  </a:lnTo>
                  <a:lnTo>
                    <a:pt x="0" y="1424"/>
                  </a:lnTo>
                  <a:lnTo>
                    <a:pt x="136" y="1516"/>
                  </a:lnTo>
                  <a:lnTo>
                    <a:pt x="273" y="1565"/>
                  </a:lnTo>
                  <a:lnTo>
                    <a:pt x="414" y="1609"/>
                  </a:lnTo>
                  <a:lnTo>
                    <a:pt x="551" y="1658"/>
                  </a:lnTo>
                  <a:lnTo>
                    <a:pt x="687" y="1702"/>
                  </a:lnTo>
                  <a:lnTo>
                    <a:pt x="1009" y="1702"/>
                  </a:lnTo>
                  <a:lnTo>
                    <a:pt x="1146" y="1746"/>
                  </a:lnTo>
                  <a:lnTo>
                    <a:pt x="1287" y="1794"/>
                  </a:lnTo>
                  <a:lnTo>
                    <a:pt x="1424" y="1838"/>
                  </a:lnTo>
                  <a:lnTo>
                    <a:pt x="1561" y="1887"/>
                  </a:lnTo>
                  <a:lnTo>
                    <a:pt x="1702" y="1979"/>
                  </a:lnTo>
                  <a:lnTo>
                    <a:pt x="1838" y="2072"/>
                  </a:lnTo>
                  <a:lnTo>
                    <a:pt x="1975" y="2160"/>
                  </a:lnTo>
                  <a:lnTo>
                    <a:pt x="2116" y="2253"/>
                  </a:lnTo>
                  <a:lnTo>
                    <a:pt x="2253" y="2394"/>
                  </a:lnTo>
                  <a:lnTo>
                    <a:pt x="2390" y="2482"/>
                  </a:lnTo>
                  <a:lnTo>
                    <a:pt x="2482" y="2623"/>
                  </a:lnTo>
                  <a:lnTo>
                    <a:pt x="2619" y="2717"/>
                  </a:lnTo>
                  <a:lnTo>
                    <a:pt x="2711" y="2854"/>
                  </a:lnTo>
                  <a:lnTo>
                    <a:pt x="2853" y="2990"/>
                  </a:lnTo>
                  <a:lnTo>
                    <a:pt x="2989" y="3131"/>
                  </a:lnTo>
                  <a:lnTo>
                    <a:pt x="3082" y="3268"/>
                  </a:lnTo>
                  <a:lnTo>
                    <a:pt x="3175" y="3405"/>
                  </a:lnTo>
                  <a:lnTo>
                    <a:pt x="3219" y="3542"/>
                  </a:lnTo>
                  <a:lnTo>
                    <a:pt x="3311" y="3683"/>
                  </a:lnTo>
                  <a:lnTo>
                    <a:pt x="3355" y="3819"/>
                  </a:lnTo>
                  <a:lnTo>
                    <a:pt x="3448" y="3956"/>
                  </a:lnTo>
                  <a:lnTo>
                    <a:pt x="3496" y="4097"/>
                  </a:lnTo>
                  <a:lnTo>
                    <a:pt x="3541" y="4234"/>
                  </a:lnTo>
                  <a:lnTo>
                    <a:pt x="3590" y="4371"/>
                  </a:lnTo>
                  <a:lnTo>
                    <a:pt x="3590" y="4512"/>
                  </a:lnTo>
                  <a:lnTo>
                    <a:pt x="3590" y="4648"/>
                  </a:lnTo>
                  <a:lnTo>
                    <a:pt x="3634" y="4785"/>
                  </a:lnTo>
                  <a:lnTo>
                    <a:pt x="3634" y="4922"/>
                  </a:lnTo>
                  <a:lnTo>
                    <a:pt x="3678" y="5063"/>
                  </a:lnTo>
                  <a:lnTo>
                    <a:pt x="3727" y="5200"/>
                  </a:lnTo>
                  <a:lnTo>
                    <a:pt x="3863" y="5336"/>
                  </a:lnTo>
                  <a:lnTo>
                    <a:pt x="4000" y="5385"/>
                  </a:lnTo>
                  <a:lnTo>
                    <a:pt x="4141" y="5385"/>
                  </a:lnTo>
                  <a:lnTo>
                    <a:pt x="4278" y="5385"/>
                  </a:lnTo>
                  <a:lnTo>
                    <a:pt x="4415" y="5385"/>
                  </a:lnTo>
                  <a:lnTo>
                    <a:pt x="4556" y="5385"/>
                  </a:lnTo>
                  <a:lnTo>
                    <a:pt x="4692" y="5336"/>
                  </a:lnTo>
                  <a:lnTo>
                    <a:pt x="4829" y="5336"/>
                  </a:lnTo>
                  <a:lnTo>
                    <a:pt x="4970" y="5292"/>
                  </a:lnTo>
                  <a:lnTo>
                    <a:pt x="5107" y="5248"/>
                  </a:lnTo>
                  <a:lnTo>
                    <a:pt x="5244" y="5200"/>
                  </a:lnTo>
                  <a:lnTo>
                    <a:pt x="5380" y="5200"/>
                  </a:lnTo>
                  <a:lnTo>
                    <a:pt x="5751" y="5155"/>
                  </a:lnTo>
                  <a:lnTo>
                    <a:pt x="6073" y="5155"/>
                  </a:lnTo>
                  <a:lnTo>
                    <a:pt x="6209" y="5107"/>
                  </a:lnTo>
                  <a:lnTo>
                    <a:pt x="6351" y="5107"/>
                  </a:lnTo>
                  <a:lnTo>
                    <a:pt x="6487" y="5107"/>
                  </a:lnTo>
                  <a:lnTo>
                    <a:pt x="6624" y="5063"/>
                  </a:lnTo>
                  <a:lnTo>
                    <a:pt x="6765" y="5014"/>
                  </a:lnTo>
                  <a:lnTo>
                    <a:pt x="6902" y="4970"/>
                  </a:lnTo>
                  <a:lnTo>
                    <a:pt x="7038" y="4970"/>
                  </a:lnTo>
                  <a:lnTo>
                    <a:pt x="7087" y="4834"/>
                  </a:lnTo>
                  <a:lnTo>
                    <a:pt x="7087" y="4692"/>
                  </a:lnTo>
                  <a:lnTo>
                    <a:pt x="6946" y="4600"/>
                  </a:lnTo>
                  <a:lnTo>
                    <a:pt x="6902" y="4463"/>
                  </a:lnTo>
                  <a:lnTo>
                    <a:pt x="6809" y="4326"/>
                  </a:lnTo>
                  <a:lnTo>
                    <a:pt x="6717" y="4190"/>
                  </a:lnTo>
                  <a:lnTo>
                    <a:pt x="6624" y="4049"/>
                  </a:lnTo>
                  <a:lnTo>
                    <a:pt x="6531" y="3912"/>
                  </a:lnTo>
                  <a:lnTo>
                    <a:pt x="6395" y="3819"/>
                  </a:lnTo>
                  <a:lnTo>
                    <a:pt x="6258" y="3727"/>
                  </a:lnTo>
                  <a:lnTo>
                    <a:pt x="6165" y="3590"/>
                  </a:lnTo>
                  <a:lnTo>
                    <a:pt x="6117" y="3453"/>
                  </a:lnTo>
                  <a:lnTo>
                    <a:pt x="6029" y="3312"/>
                  </a:lnTo>
                  <a:lnTo>
                    <a:pt x="5936" y="3176"/>
                  </a:lnTo>
                  <a:lnTo>
                    <a:pt x="5843" y="3039"/>
                  </a:lnTo>
                  <a:lnTo>
                    <a:pt x="5795" y="2898"/>
                  </a:lnTo>
                  <a:lnTo>
                    <a:pt x="5658" y="2805"/>
                  </a:lnTo>
                  <a:lnTo>
                    <a:pt x="5566" y="2667"/>
                  </a:lnTo>
                  <a:lnTo>
                    <a:pt x="5429" y="2575"/>
                  </a:lnTo>
                  <a:lnTo>
                    <a:pt x="5336" y="2438"/>
                  </a:lnTo>
                  <a:lnTo>
                    <a:pt x="5244" y="2301"/>
                  </a:lnTo>
                  <a:lnTo>
                    <a:pt x="5151" y="2160"/>
                  </a:lnTo>
                  <a:lnTo>
                    <a:pt x="5058" y="2024"/>
                  </a:lnTo>
                  <a:lnTo>
                    <a:pt x="4970" y="1887"/>
                  </a:lnTo>
                  <a:lnTo>
                    <a:pt x="4878" y="1746"/>
                  </a:lnTo>
                  <a:lnTo>
                    <a:pt x="4785" y="1609"/>
                  </a:lnTo>
                  <a:lnTo>
                    <a:pt x="4692" y="1472"/>
                  </a:lnTo>
                  <a:lnTo>
                    <a:pt x="4600" y="1336"/>
                  </a:lnTo>
                  <a:lnTo>
                    <a:pt x="4737" y="1243"/>
                  </a:lnTo>
                  <a:lnTo>
                    <a:pt x="4878" y="1195"/>
                  </a:lnTo>
                  <a:lnTo>
                    <a:pt x="5014" y="1150"/>
                  </a:lnTo>
                  <a:lnTo>
                    <a:pt x="5151" y="1150"/>
                  </a:lnTo>
                  <a:lnTo>
                    <a:pt x="5200" y="1014"/>
                  </a:lnTo>
                  <a:lnTo>
                    <a:pt x="5107" y="873"/>
                  </a:lnTo>
                  <a:lnTo>
                    <a:pt x="5014" y="736"/>
                  </a:lnTo>
                  <a:lnTo>
                    <a:pt x="4878" y="687"/>
                  </a:lnTo>
                  <a:lnTo>
                    <a:pt x="4829" y="551"/>
                  </a:lnTo>
                  <a:lnTo>
                    <a:pt x="4692" y="458"/>
                  </a:lnTo>
                  <a:lnTo>
                    <a:pt x="4556" y="414"/>
                  </a:lnTo>
                  <a:lnTo>
                    <a:pt x="4415" y="321"/>
                  </a:lnTo>
                  <a:lnTo>
                    <a:pt x="4278" y="277"/>
                  </a:lnTo>
                  <a:lnTo>
                    <a:pt x="4141" y="277"/>
                  </a:lnTo>
                  <a:lnTo>
                    <a:pt x="4000" y="277"/>
                  </a:lnTo>
                  <a:lnTo>
                    <a:pt x="3863" y="277"/>
                  </a:lnTo>
                  <a:lnTo>
                    <a:pt x="3727" y="277"/>
                  </a:lnTo>
                  <a:lnTo>
                    <a:pt x="3590" y="321"/>
                  </a:lnTo>
                  <a:lnTo>
                    <a:pt x="3448" y="366"/>
                  </a:lnTo>
                  <a:lnTo>
                    <a:pt x="3311" y="414"/>
                  </a:lnTo>
                  <a:lnTo>
                    <a:pt x="2941" y="414"/>
                  </a:lnTo>
                  <a:lnTo>
                    <a:pt x="2804" y="414"/>
                  </a:lnTo>
                  <a:lnTo>
                    <a:pt x="2667" y="414"/>
                  </a:lnTo>
                  <a:lnTo>
                    <a:pt x="2531" y="414"/>
                  </a:lnTo>
                  <a:lnTo>
                    <a:pt x="2390" y="366"/>
                  </a:lnTo>
                  <a:lnTo>
                    <a:pt x="2253" y="277"/>
                  </a:lnTo>
                  <a:lnTo>
                    <a:pt x="2116" y="185"/>
                  </a:lnTo>
                  <a:lnTo>
                    <a:pt x="1975" y="136"/>
                  </a:lnTo>
                  <a:lnTo>
                    <a:pt x="1561" y="92"/>
                  </a:lnTo>
                  <a:lnTo>
                    <a:pt x="1239" y="92"/>
                  </a:lnTo>
                  <a:lnTo>
                    <a:pt x="1102" y="44"/>
                  </a:lnTo>
                  <a:lnTo>
                    <a:pt x="965" y="0"/>
                  </a:lnTo>
                  <a:lnTo>
                    <a:pt x="824" y="0"/>
                  </a:lnTo>
                  <a:lnTo>
                    <a:pt x="687" y="0"/>
                  </a:lnTo>
                  <a:lnTo>
                    <a:pt x="551" y="0"/>
                  </a:lnTo>
                  <a:lnTo>
                    <a:pt x="414" y="0"/>
                  </a:lnTo>
                  <a:lnTo>
                    <a:pt x="366" y="136"/>
                  </a:lnTo>
                  <a:lnTo>
                    <a:pt x="357" y="321"/>
                  </a:lnTo>
                </a:path>
              </a:pathLst>
            </a:custGeom>
            <a:ln w="12600">
              <a:solidFill>
                <a:srgbClr val="ffffff"/>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txBox="1"/>
            <p:nvPr/>
          </p:nvSpPr>
          <p:spPr>
            <a:xfrm>
              <a:off x="2575080" y="3627360"/>
              <a:ext cx="296244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Mediterranean</a:t>
              </a:r>
              <a:endParaRPr b="0" lang="en-US" sz="3200" spc="-1" strike="noStrike">
                <a:solidFill>
                  <a:srgbClr val="000000"/>
                </a:solidFill>
                <a:latin typeface="Arial"/>
              </a:endParaRPr>
            </a:p>
          </p:txBody>
        </p:sp>
        <p:sp>
          <p:nvSpPr>
            <p:cNvPr id="570" name=""/>
            <p:cNvSpPr txBox="1"/>
            <p:nvPr/>
          </p:nvSpPr>
          <p:spPr>
            <a:xfrm>
              <a:off x="762120" y="685800"/>
              <a:ext cx="7772400" cy="1143000"/>
            </a:xfrm>
            <a:prstGeom prst="rect">
              <a:avLst/>
            </a:prstGeom>
            <a:noFill/>
            <a:ln w="0">
              <a:noFill/>
            </a:ln>
          </p:spPr>
          <p:txBody>
            <a:bodyPr lIns="0" rIns="0" tIns="0" bIns="0" anchor="t">
              <a:noAutofit/>
            </a:bodyPr>
            <a:p>
              <a:pPr algn="ctr">
                <a:lnSpc>
                  <a:spcPct val="100000"/>
                </a:lnSpc>
              </a:pPr>
              <a:r>
                <a:rPr b="1" lang="en-US" sz="5400" spc="-1" strike="noStrike" u="sng">
                  <a:solidFill>
                    <a:srgbClr val="fafd00"/>
                  </a:solidFill>
                  <a:uFillTx/>
                  <a:latin typeface="Arial"/>
                  <a:ea typeface="Arial"/>
                </a:rPr>
                <a:t>Babylonian Empire</a:t>
              </a:r>
              <a:endParaRPr b="0" lang="en-US" sz="5400" spc="-1" strike="noStrike">
                <a:solidFill>
                  <a:srgbClr val="000000"/>
                </a:solidFill>
                <a:latin typeface="Arial"/>
              </a:endParaRPr>
            </a:p>
          </p:txBody>
        </p:sp>
        <p:sp>
          <p:nvSpPr>
            <p:cNvPr id="571" name=""/>
            <p:cNvSpPr txBox="1"/>
            <p:nvPr/>
          </p:nvSpPr>
          <p:spPr>
            <a:xfrm>
              <a:off x="60480" y="647712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572" name=""/>
          <p:cNvGrpSpPr/>
          <p:nvPr/>
        </p:nvGrpSpPr>
        <p:grpSpPr>
          <a:xfrm>
            <a:off x="60480" y="0"/>
            <a:ext cx="9034920" cy="6845400"/>
            <a:chOff x="60480" y="0"/>
            <a:chExt cx="9034920" cy="6845400"/>
          </a:xfrm>
        </p:grpSpPr>
        <p:pic>
          <p:nvPicPr>
            <p:cNvPr id="573" name="" descr=""/>
            <p:cNvPicPr/>
            <p:nvPr/>
          </p:nvPicPr>
          <p:blipFill>
            <a:blip r:embed="rId1"/>
            <a:stretch/>
          </p:blipFill>
          <p:spPr>
            <a:xfrm>
              <a:off x="69840" y="0"/>
              <a:ext cx="8947080" cy="6845400"/>
            </a:xfrm>
            <a:prstGeom prst="rect">
              <a:avLst/>
            </a:prstGeom>
            <a:ln w="0">
              <a:noFill/>
            </a:ln>
          </p:spPr>
        </p:pic>
        <p:sp>
          <p:nvSpPr>
            <p:cNvPr id="574"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1" lang="en-US" sz="4400" spc="-1" strike="noStrike" u="sng">
                  <a:solidFill>
                    <a:srgbClr val="fafd00"/>
                  </a:solidFill>
                  <a:uFillTx/>
                  <a:latin typeface="Arial"/>
                  <a:ea typeface="Arial"/>
                </a:rPr>
                <a:t>Persian Empire</a:t>
              </a:r>
              <a:endParaRPr b="0" lang="en-US" sz="4400" spc="-1" strike="noStrike">
                <a:solidFill>
                  <a:srgbClr val="000000"/>
                </a:solidFill>
                <a:latin typeface="Arial"/>
              </a:endParaRPr>
            </a:p>
          </p:txBody>
        </p:sp>
        <p:sp>
          <p:nvSpPr>
            <p:cNvPr id="575" name=""/>
            <p:cNvSpPr txBox="1"/>
            <p:nvPr/>
          </p:nvSpPr>
          <p:spPr>
            <a:xfrm>
              <a:off x="5241960" y="2452680"/>
              <a:ext cx="2014560" cy="824040"/>
            </a:xfrm>
            <a:prstGeom prst="rect">
              <a:avLst/>
            </a:prstGeom>
            <a:noFill/>
            <a:ln w="0">
              <a:noFill/>
            </a:ln>
          </p:spPr>
          <p:txBody>
            <a:bodyPr lIns="0" rIns="0" tIns="0" bIns="0" anchor="t">
              <a:noAutofit/>
            </a:bodyPr>
            <a:p>
              <a:pPr>
                <a:lnSpc>
                  <a:spcPct val="100000"/>
                </a:lnSpc>
              </a:pPr>
              <a:r>
                <a:rPr b="1" lang="en-US" sz="4800" spc="-1" strike="noStrike">
                  <a:solidFill>
                    <a:srgbClr val="fafd00"/>
                  </a:solidFill>
                  <a:latin typeface="Arial"/>
                  <a:ea typeface="Arial"/>
                </a:rPr>
                <a:t>Persia</a:t>
              </a:r>
              <a:endParaRPr b="0" lang="en-US" sz="4800" spc="-1" strike="noStrike">
                <a:solidFill>
                  <a:srgbClr val="000000"/>
                </a:solidFill>
                <a:latin typeface="Arial"/>
              </a:endParaRPr>
            </a:p>
          </p:txBody>
        </p:sp>
        <p:sp>
          <p:nvSpPr>
            <p:cNvPr id="576" name=""/>
            <p:cNvSpPr/>
            <p:nvPr/>
          </p:nvSpPr>
          <p:spPr>
            <a:xfrm>
              <a:off x="2087640" y="1359000"/>
              <a:ext cx="7007760" cy="4273920"/>
            </a:xfrm>
            <a:custGeom>
              <a:avLst/>
              <a:gdLst/>
              <a:ahLst/>
              <a:rect l="0" t="0" r="r" b="b"/>
              <a:pathLst>
                <a:path fill="none" w="19466" h="11872">
                  <a:moveTo>
                    <a:pt x="127" y="7444"/>
                  </a:moveTo>
                  <a:lnTo>
                    <a:pt x="273" y="7501"/>
                  </a:lnTo>
                  <a:lnTo>
                    <a:pt x="414" y="7590"/>
                  </a:lnTo>
                  <a:lnTo>
                    <a:pt x="551" y="7682"/>
                  </a:lnTo>
                  <a:lnTo>
                    <a:pt x="687" y="7731"/>
                  </a:lnTo>
                  <a:lnTo>
                    <a:pt x="829" y="7823"/>
                  </a:lnTo>
                  <a:lnTo>
                    <a:pt x="965" y="7912"/>
                  </a:lnTo>
                  <a:lnTo>
                    <a:pt x="1102" y="8004"/>
                  </a:lnTo>
                  <a:lnTo>
                    <a:pt x="1243" y="8097"/>
                  </a:lnTo>
                  <a:lnTo>
                    <a:pt x="1380" y="8145"/>
                  </a:lnTo>
                  <a:lnTo>
                    <a:pt x="1516" y="8189"/>
                  </a:lnTo>
                  <a:lnTo>
                    <a:pt x="1653" y="8282"/>
                  </a:lnTo>
                  <a:lnTo>
                    <a:pt x="1794" y="8375"/>
                  </a:lnTo>
                  <a:lnTo>
                    <a:pt x="1931" y="8467"/>
                  </a:lnTo>
                  <a:lnTo>
                    <a:pt x="2024" y="8604"/>
                  </a:lnTo>
                  <a:lnTo>
                    <a:pt x="2116" y="8741"/>
                  </a:lnTo>
                  <a:lnTo>
                    <a:pt x="2209" y="8882"/>
                  </a:lnTo>
                  <a:lnTo>
                    <a:pt x="2301" y="9019"/>
                  </a:lnTo>
                  <a:lnTo>
                    <a:pt x="2390" y="9156"/>
                  </a:lnTo>
                  <a:lnTo>
                    <a:pt x="2482" y="9293"/>
                  </a:lnTo>
                  <a:lnTo>
                    <a:pt x="2623" y="9385"/>
                  </a:lnTo>
                  <a:lnTo>
                    <a:pt x="2760" y="9478"/>
                  </a:lnTo>
                  <a:lnTo>
                    <a:pt x="2897" y="9526"/>
                  </a:lnTo>
                  <a:lnTo>
                    <a:pt x="3033" y="9619"/>
                  </a:lnTo>
                  <a:lnTo>
                    <a:pt x="3175" y="9707"/>
                  </a:lnTo>
                  <a:lnTo>
                    <a:pt x="3311" y="9848"/>
                  </a:lnTo>
                  <a:lnTo>
                    <a:pt x="3448" y="9985"/>
                  </a:lnTo>
                  <a:lnTo>
                    <a:pt x="3589" y="10078"/>
                  </a:lnTo>
                  <a:lnTo>
                    <a:pt x="3726" y="10122"/>
                  </a:lnTo>
                  <a:lnTo>
                    <a:pt x="4092" y="10122"/>
                  </a:lnTo>
                  <a:lnTo>
                    <a:pt x="4506" y="10122"/>
                  </a:lnTo>
                  <a:lnTo>
                    <a:pt x="4922" y="10122"/>
                  </a:lnTo>
                  <a:lnTo>
                    <a:pt x="5063" y="10122"/>
                  </a:lnTo>
                  <a:lnTo>
                    <a:pt x="5200" y="10122"/>
                  </a:lnTo>
                  <a:lnTo>
                    <a:pt x="5336" y="10078"/>
                  </a:lnTo>
                  <a:lnTo>
                    <a:pt x="5429" y="9941"/>
                  </a:lnTo>
                  <a:lnTo>
                    <a:pt x="5521" y="9800"/>
                  </a:lnTo>
                  <a:lnTo>
                    <a:pt x="5521" y="9663"/>
                  </a:lnTo>
                  <a:lnTo>
                    <a:pt x="5429" y="9526"/>
                  </a:lnTo>
                  <a:lnTo>
                    <a:pt x="5336" y="9385"/>
                  </a:lnTo>
                  <a:lnTo>
                    <a:pt x="5244" y="9249"/>
                  </a:lnTo>
                  <a:lnTo>
                    <a:pt x="5151" y="9112"/>
                  </a:lnTo>
                  <a:lnTo>
                    <a:pt x="5063" y="8971"/>
                  </a:lnTo>
                  <a:lnTo>
                    <a:pt x="4970" y="8833"/>
                  </a:lnTo>
                  <a:lnTo>
                    <a:pt x="4922" y="8696"/>
                  </a:lnTo>
                  <a:lnTo>
                    <a:pt x="4922" y="8560"/>
                  </a:lnTo>
                  <a:lnTo>
                    <a:pt x="4922" y="8419"/>
                  </a:lnTo>
                  <a:lnTo>
                    <a:pt x="4970" y="8282"/>
                  </a:lnTo>
                  <a:lnTo>
                    <a:pt x="5014" y="8145"/>
                  </a:lnTo>
                  <a:lnTo>
                    <a:pt x="5107" y="8004"/>
                  </a:lnTo>
                  <a:lnTo>
                    <a:pt x="5244" y="7867"/>
                  </a:lnTo>
                  <a:lnTo>
                    <a:pt x="5385" y="7775"/>
                  </a:lnTo>
                  <a:lnTo>
                    <a:pt x="5521" y="7682"/>
                  </a:lnTo>
                  <a:lnTo>
                    <a:pt x="5658" y="7638"/>
                  </a:lnTo>
                  <a:lnTo>
                    <a:pt x="5799" y="7590"/>
                  </a:lnTo>
                  <a:lnTo>
                    <a:pt x="5936" y="7501"/>
                  </a:lnTo>
                  <a:lnTo>
                    <a:pt x="6073" y="7409"/>
                  </a:lnTo>
                  <a:lnTo>
                    <a:pt x="6209" y="7316"/>
                  </a:lnTo>
                  <a:lnTo>
                    <a:pt x="6350" y="7224"/>
                  </a:lnTo>
                  <a:lnTo>
                    <a:pt x="6487" y="7175"/>
                  </a:lnTo>
                  <a:lnTo>
                    <a:pt x="6624" y="7131"/>
                  </a:lnTo>
                  <a:lnTo>
                    <a:pt x="6765" y="7038"/>
                  </a:lnTo>
                  <a:lnTo>
                    <a:pt x="6902" y="6946"/>
                  </a:lnTo>
                  <a:lnTo>
                    <a:pt x="7316" y="6853"/>
                  </a:lnTo>
                  <a:lnTo>
                    <a:pt x="7731" y="6765"/>
                  </a:lnTo>
                  <a:lnTo>
                    <a:pt x="7867" y="6717"/>
                  </a:lnTo>
                  <a:lnTo>
                    <a:pt x="8004" y="6624"/>
                  </a:lnTo>
                  <a:lnTo>
                    <a:pt x="8145" y="6624"/>
                  </a:lnTo>
                  <a:lnTo>
                    <a:pt x="8282" y="6672"/>
                  </a:lnTo>
                  <a:lnTo>
                    <a:pt x="8419" y="6717"/>
                  </a:lnTo>
                  <a:lnTo>
                    <a:pt x="8560" y="6853"/>
                  </a:lnTo>
                  <a:lnTo>
                    <a:pt x="8696" y="6946"/>
                  </a:lnTo>
                  <a:lnTo>
                    <a:pt x="8833" y="7087"/>
                  </a:lnTo>
                  <a:lnTo>
                    <a:pt x="8926" y="7224"/>
                  </a:lnTo>
                  <a:lnTo>
                    <a:pt x="9062" y="7316"/>
                  </a:lnTo>
                  <a:lnTo>
                    <a:pt x="9155" y="7453"/>
                  </a:lnTo>
                  <a:lnTo>
                    <a:pt x="9296" y="7546"/>
                  </a:lnTo>
                  <a:lnTo>
                    <a:pt x="9384" y="7682"/>
                  </a:lnTo>
                  <a:lnTo>
                    <a:pt x="9525" y="7823"/>
                  </a:lnTo>
                  <a:lnTo>
                    <a:pt x="9618" y="7960"/>
                  </a:lnTo>
                  <a:lnTo>
                    <a:pt x="9711" y="8097"/>
                  </a:lnTo>
                  <a:lnTo>
                    <a:pt x="9847" y="8233"/>
                  </a:lnTo>
                  <a:lnTo>
                    <a:pt x="9984" y="8375"/>
                  </a:lnTo>
                  <a:lnTo>
                    <a:pt x="10121" y="8419"/>
                  </a:lnTo>
                  <a:lnTo>
                    <a:pt x="10213" y="8560"/>
                  </a:lnTo>
                  <a:lnTo>
                    <a:pt x="10306" y="8696"/>
                  </a:lnTo>
                  <a:lnTo>
                    <a:pt x="10399" y="8833"/>
                  </a:lnTo>
                  <a:lnTo>
                    <a:pt x="10491" y="8971"/>
                  </a:lnTo>
                  <a:lnTo>
                    <a:pt x="10628" y="9063"/>
                  </a:lnTo>
                  <a:lnTo>
                    <a:pt x="10721" y="9205"/>
                  </a:lnTo>
                  <a:lnTo>
                    <a:pt x="10857" y="9293"/>
                  </a:lnTo>
                  <a:lnTo>
                    <a:pt x="10998" y="9385"/>
                  </a:lnTo>
                  <a:lnTo>
                    <a:pt x="11135" y="9434"/>
                  </a:lnTo>
                  <a:lnTo>
                    <a:pt x="11272" y="9526"/>
                  </a:lnTo>
                  <a:lnTo>
                    <a:pt x="11413" y="9663"/>
                  </a:lnTo>
                  <a:lnTo>
                    <a:pt x="11550" y="9756"/>
                  </a:lnTo>
                  <a:lnTo>
                    <a:pt x="11686" y="9800"/>
                  </a:lnTo>
                  <a:lnTo>
                    <a:pt x="11827" y="9893"/>
                  </a:lnTo>
                  <a:lnTo>
                    <a:pt x="11964" y="10029"/>
                  </a:lnTo>
                  <a:lnTo>
                    <a:pt x="12101" y="10122"/>
                  </a:lnTo>
                  <a:lnTo>
                    <a:pt x="12237" y="10263"/>
                  </a:lnTo>
                  <a:lnTo>
                    <a:pt x="12379" y="10400"/>
                  </a:lnTo>
                  <a:lnTo>
                    <a:pt x="12471" y="10536"/>
                  </a:lnTo>
                  <a:lnTo>
                    <a:pt x="12608" y="10629"/>
                  </a:lnTo>
                  <a:lnTo>
                    <a:pt x="12745" y="10677"/>
                  </a:lnTo>
                  <a:lnTo>
                    <a:pt x="12886" y="10722"/>
                  </a:lnTo>
                  <a:lnTo>
                    <a:pt x="13022" y="10766"/>
                  </a:lnTo>
                  <a:lnTo>
                    <a:pt x="13159" y="10766"/>
                  </a:lnTo>
                  <a:lnTo>
                    <a:pt x="13296" y="10814"/>
                  </a:lnTo>
                  <a:lnTo>
                    <a:pt x="13437" y="10814"/>
                  </a:lnTo>
                  <a:lnTo>
                    <a:pt x="13574" y="10814"/>
                  </a:lnTo>
                  <a:lnTo>
                    <a:pt x="13710" y="10814"/>
                  </a:lnTo>
                  <a:lnTo>
                    <a:pt x="13851" y="10814"/>
                  </a:lnTo>
                  <a:lnTo>
                    <a:pt x="13988" y="10766"/>
                  </a:lnTo>
                  <a:lnTo>
                    <a:pt x="14125" y="10766"/>
                  </a:lnTo>
                  <a:lnTo>
                    <a:pt x="14266" y="10858"/>
                  </a:lnTo>
                  <a:lnTo>
                    <a:pt x="14403" y="10858"/>
                  </a:lnTo>
                  <a:lnTo>
                    <a:pt x="14539" y="10951"/>
                  </a:lnTo>
                  <a:lnTo>
                    <a:pt x="14677" y="11043"/>
                  </a:lnTo>
                  <a:lnTo>
                    <a:pt x="14818" y="11180"/>
                  </a:lnTo>
                  <a:lnTo>
                    <a:pt x="14955" y="11273"/>
                  </a:lnTo>
                  <a:lnTo>
                    <a:pt x="15092" y="11321"/>
                  </a:lnTo>
                  <a:lnTo>
                    <a:pt x="15233" y="11365"/>
                  </a:lnTo>
                  <a:lnTo>
                    <a:pt x="15369" y="11409"/>
                  </a:lnTo>
                  <a:lnTo>
                    <a:pt x="15506" y="11409"/>
                  </a:lnTo>
                  <a:lnTo>
                    <a:pt x="15647" y="11458"/>
                  </a:lnTo>
                  <a:lnTo>
                    <a:pt x="15784" y="11458"/>
                  </a:lnTo>
                  <a:lnTo>
                    <a:pt x="15921" y="11502"/>
                  </a:lnTo>
                  <a:lnTo>
                    <a:pt x="16062" y="11551"/>
                  </a:lnTo>
                  <a:lnTo>
                    <a:pt x="16198" y="11595"/>
                  </a:lnTo>
                  <a:lnTo>
                    <a:pt x="16335" y="11595"/>
                  </a:lnTo>
                  <a:lnTo>
                    <a:pt x="16472" y="11643"/>
                  </a:lnTo>
                  <a:lnTo>
                    <a:pt x="16613" y="11687"/>
                  </a:lnTo>
                  <a:lnTo>
                    <a:pt x="16750" y="11687"/>
                  </a:lnTo>
                  <a:lnTo>
                    <a:pt x="16886" y="11736"/>
                  </a:lnTo>
                  <a:lnTo>
                    <a:pt x="17027" y="11780"/>
                  </a:lnTo>
                  <a:lnTo>
                    <a:pt x="17442" y="11824"/>
                  </a:lnTo>
                  <a:lnTo>
                    <a:pt x="17579" y="11824"/>
                  </a:lnTo>
                  <a:lnTo>
                    <a:pt x="17901" y="11872"/>
                  </a:lnTo>
                  <a:lnTo>
                    <a:pt x="18037" y="11872"/>
                  </a:lnTo>
                  <a:lnTo>
                    <a:pt x="18178" y="11872"/>
                  </a:lnTo>
                  <a:lnTo>
                    <a:pt x="18315" y="11780"/>
                  </a:lnTo>
                  <a:lnTo>
                    <a:pt x="18408" y="11643"/>
                  </a:lnTo>
                  <a:lnTo>
                    <a:pt x="18452" y="11502"/>
                  </a:lnTo>
                  <a:lnTo>
                    <a:pt x="18544" y="11365"/>
                  </a:lnTo>
                  <a:lnTo>
                    <a:pt x="18588" y="10951"/>
                  </a:lnTo>
                  <a:lnTo>
                    <a:pt x="18588" y="10585"/>
                  </a:lnTo>
                  <a:lnTo>
                    <a:pt x="18637" y="10214"/>
                  </a:lnTo>
                  <a:lnTo>
                    <a:pt x="18637" y="9848"/>
                  </a:lnTo>
                  <a:lnTo>
                    <a:pt x="18681" y="9526"/>
                  </a:lnTo>
                  <a:lnTo>
                    <a:pt x="18681" y="9385"/>
                  </a:lnTo>
                  <a:lnTo>
                    <a:pt x="18681" y="8971"/>
                  </a:lnTo>
                  <a:lnTo>
                    <a:pt x="18730" y="8833"/>
                  </a:lnTo>
                  <a:lnTo>
                    <a:pt x="18774" y="8696"/>
                  </a:lnTo>
                  <a:lnTo>
                    <a:pt x="18774" y="8560"/>
                  </a:lnTo>
                  <a:lnTo>
                    <a:pt x="18822" y="8189"/>
                  </a:lnTo>
                  <a:lnTo>
                    <a:pt x="18866" y="7823"/>
                  </a:lnTo>
                  <a:lnTo>
                    <a:pt x="18866" y="7501"/>
                  </a:lnTo>
                  <a:lnTo>
                    <a:pt x="18910" y="7360"/>
                  </a:lnTo>
                  <a:lnTo>
                    <a:pt x="18959" y="7224"/>
                  </a:lnTo>
                  <a:lnTo>
                    <a:pt x="18959" y="7087"/>
                  </a:lnTo>
                  <a:lnTo>
                    <a:pt x="19052" y="6946"/>
                  </a:lnTo>
                  <a:lnTo>
                    <a:pt x="19096" y="6580"/>
                  </a:lnTo>
                  <a:lnTo>
                    <a:pt x="19144" y="6209"/>
                  </a:lnTo>
                  <a:lnTo>
                    <a:pt x="19188" y="5887"/>
                  </a:lnTo>
                  <a:lnTo>
                    <a:pt x="19237" y="5429"/>
                  </a:lnTo>
                  <a:lnTo>
                    <a:pt x="19281" y="5107"/>
                  </a:lnTo>
                  <a:lnTo>
                    <a:pt x="19281" y="4785"/>
                  </a:lnTo>
                  <a:lnTo>
                    <a:pt x="19325" y="4415"/>
                  </a:lnTo>
                  <a:lnTo>
                    <a:pt x="19373" y="4049"/>
                  </a:lnTo>
                  <a:lnTo>
                    <a:pt x="19418" y="3912"/>
                  </a:lnTo>
                  <a:lnTo>
                    <a:pt x="19466" y="3771"/>
                  </a:lnTo>
                  <a:lnTo>
                    <a:pt x="19466" y="3634"/>
                  </a:lnTo>
                  <a:lnTo>
                    <a:pt x="19466" y="3497"/>
                  </a:lnTo>
                  <a:lnTo>
                    <a:pt x="19466" y="3356"/>
                  </a:lnTo>
                  <a:lnTo>
                    <a:pt x="19466" y="3220"/>
                  </a:lnTo>
                  <a:lnTo>
                    <a:pt x="19418" y="3083"/>
                  </a:lnTo>
                  <a:lnTo>
                    <a:pt x="19418" y="2941"/>
                  </a:lnTo>
                  <a:lnTo>
                    <a:pt x="19281" y="2853"/>
                  </a:lnTo>
                  <a:lnTo>
                    <a:pt x="19188" y="2711"/>
                  </a:lnTo>
                  <a:lnTo>
                    <a:pt x="19096" y="2575"/>
                  </a:lnTo>
                  <a:lnTo>
                    <a:pt x="18959" y="2438"/>
                  </a:lnTo>
                  <a:lnTo>
                    <a:pt x="18822" y="2345"/>
                  </a:lnTo>
                  <a:lnTo>
                    <a:pt x="18681" y="2209"/>
                  </a:lnTo>
                  <a:lnTo>
                    <a:pt x="18544" y="2116"/>
                  </a:lnTo>
                  <a:lnTo>
                    <a:pt x="18408" y="1975"/>
                  </a:lnTo>
                  <a:lnTo>
                    <a:pt x="18267" y="1882"/>
                  </a:lnTo>
                  <a:lnTo>
                    <a:pt x="18130" y="1794"/>
                  </a:lnTo>
                  <a:lnTo>
                    <a:pt x="17993" y="1746"/>
                  </a:lnTo>
                  <a:lnTo>
                    <a:pt x="17852" y="1746"/>
                  </a:lnTo>
                  <a:lnTo>
                    <a:pt x="17715" y="1746"/>
                  </a:lnTo>
                  <a:lnTo>
                    <a:pt x="17579" y="1746"/>
                  </a:lnTo>
                  <a:lnTo>
                    <a:pt x="17442" y="1746"/>
                  </a:lnTo>
                  <a:lnTo>
                    <a:pt x="17072" y="1746"/>
                  </a:lnTo>
                  <a:lnTo>
                    <a:pt x="16564" y="1702"/>
                  </a:lnTo>
                  <a:lnTo>
                    <a:pt x="16243" y="1653"/>
                  </a:lnTo>
                  <a:lnTo>
                    <a:pt x="15735" y="1609"/>
                  </a:lnTo>
                  <a:lnTo>
                    <a:pt x="15233" y="1609"/>
                  </a:lnTo>
                  <a:lnTo>
                    <a:pt x="14911" y="1561"/>
                  </a:lnTo>
                  <a:lnTo>
                    <a:pt x="14447" y="1561"/>
                  </a:lnTo>
                  <a:lnTo>
                    <a:pt x="14081" y="1516"/>
                  </a:lnTo>
                  <a:lnTo>
                    <a:pt x="13618" y="1516"/>
                  </a:lnTo>
                  <a:lnTo>
                    <a:pt x="13296" y="1472"/>
                  </a:lnTo>
                  <a:lnTo>
                    <a:pt x="12974" y="1472"/>
                  </a:lnTo>
                  <a:lnTo>
                    <a:pt x="12608" y="1424"/>
                  </a:lnTo>
                  <a:lnTo>
                    <a:pt x="12471" y="1331"/>
                  </a:lnTo>
                  <a:lnTo>
                    <a:pt x="12330" y="1195"/>
                  </a:lnTo>
                  <a:lnTo>
                    <a:pt x="12193" y="1058"/>
                  </a:lnTo>
                  <a:lnTo>
                    <a:pt x="11827" y="1009"/>
                  </a:lnTo>
                  <a:lnTo>
                    <a:pt x="11735" y="873"/>
                  </a:lnTo>
                  <a:lnTo>
                    <a:pt x="11594" y="824"/>
                  </a:lnTo>
                  <a:lnTo>
                    <a:pt x="11457" y="687"/>
                  </a:lnTo>
                  <a:lnTo>
                    <a:pt x="11320" y="551"/>
                  </a:lnTo>
                  <a:lnTo>
                    <a:pt x="11179" y="458"/>
                  </a:lnTo>
                  <a:lnTo>
                    <a:pt x="11042" y="366"/>
                  </a:lnTo>
                  <a:lnTo>
                    <a:pt x="10906" y="321"/>
                  </a:lnTo>
                  <a:lnTo>
                    <a:pt x="10769" y="229"/>
                  </a:lnTo>
                  <a:lnTo>
                    <a:pt x="10355" y="180"/>
                  </a:lnTo>
                  <a:lnTo>
                    <a:pt x="9984" y="136"/>
                  </a:lnTo>
                  <a:lnTo>
                    <a:pt x="9847" y="44"/>
                  </a:lnTo>
                  <a:lnTo>
                    <a:pt x="9711" y="44"/>
                  </a:lnTo>
                  <a:lnTo>
                    <a:pt x="9570" y="0"/>
                  </a:lnTo>
                  <a:lnTo>
                    <a:pt x="9433" y="0"/>
                  </a:lnTo>
                  <a:lnTo>
                    <a:pt x="9296" y="0"/>
                  </a:lnTo>
                  <a:lnTo>
                    <a:pt x="9155" y="44"/>
                  </a:lnTo>
                  <a:lnTo>
                    <a:pt x="9018" y="136"/>
                  </a:lnTo>
                  <a:lnTo>
                    <a:pt x="8882" y="229"/>
                  </a:lnTo>
                  <a:lnTo>
                    <a:pt x="8741" y="321"/>
                  </a:lnTo>
                  <a:lnTo>
                    <a:pt x="8604" y="414"/>
                  </a:lnTo>
                  <a:lnTo>
                    <a:pt x="8467" y="502"/>
                  </a:lnTo>
                  <a:lnTo>
                    <a:pt x="8326" y="595"/>
                  </a:lnTo>
                  <a:lnTo>
                    <a:pt x="8189" y="687"/>
                  </a:lnTo>
                  <a:lnTo>
                    <a:pt x="8053" y="780"/>
                  </a:lnTo>
                  <a:lnTo>
                    <a:pt x="7916" y="824"/>
                  </a:lnTo>
                  <a:lnTo>
                    <a:pt x="7775" y="873"/>
                  </a:lnTo>
                  <a:lnTo>
                    <a:pt x="7453" y="873"/>
                  </a:lnTo>
                  <a:lnTo>
                    <a:pt x="7131" y="917"/>
                  </a:lnTo>
                  <a:lnTo>
                    <a:pt x="6994" y="917"/>
                  </a:lnTo>
                  <a:lnTo>
                    <a:pt x="6858" y="965"/>
                  </a:lnTo>
                  <a:lnTo>
                    <a:pt x="6443" y="965"/>
                  </a:lnTo>
                  <a:lnTo>
                    <a:pt x="6302" y="917"/>
                  </a:lnTo>
                  <a:lnTo>
                    <a:pt x="5936" y="873"/>
                  </a:lnTo>
                  <a:lnTo>
                    <a:pt x="5566" y="824"/>
                  </a:lnTo>
                  <a:lnTo>
                    <a:pt x="5244" y="780"/>
                  </a:lnTo>
                  <a:lnTo>
                    <a:pt x="4878" y="736"/>
                  </a:lnTo>
                  <a:lnTo>
                    <a:pt x="4740" y="736"/>
                  </a:lnTo>
                  <a:lnTo>
                    <a:pt x="4599" y="824"/>
                  </a:lnTo>
                  <a:lnTo>
                    <a:pt x="4555" y="965"/>
                  </a:lnTo>
                  <a:lnTo>
                    <a:pt x="4462" y="1102"/>
                  </a:lnTo>
                  <a:lnTo>
                    <a:pt x="4370" y="1239"/>
                  </a:lnTo>
                  <a:lnTo>
                    <a:pt x="4233" y="1331"/>
                  </a:lnTo>
                  <a:lnTo>
                    <a:pt x="4092" y="1472"/>
                  </a:lnTo>
                  <a:lnTo>
                    <a:pt x="3955" y="1516"/>
                  </a:lnTo>
                  <a:lnTo>
                    <a:pt x="3818" y="1609"/>
                  </a:lnTo>
                  <a:lnTo>
                    <a:pt x="3682" y="1609"/>
                  </a:lnTo>
                  <a:lnTo>
                    <a:pt x="3541" y="1653"/>
                  </a:lnTo>
                  <a:lnTo>
                    <a:pt x="3404" y="1702"/>
                  </a:lnTo>
                  <a:lnTo>
                    <a:pt x="3267" y="1702"/>
                  </a:lnTo>
                  <a:lnTo>
                    <a:pt x="3126" y="1702"/>
                  </a:lnTo>
                  <a:lnTo>
                    <a:pt x="2989" y="1702"/>
                  </a:lnTo>
                  <a:lnTo>
                    <a:pt x="2853" y="1746"/>
                  </a:lnTo>
                  <a:lnTo>
                    <a:pt x="2711" y="1794"/>
                  </a:lnTo>
                  <a:lnTo>
                    <a:pt x="2575" y="1794"/>
                  </a:lnTo>
                  <a:lnTo>
                    <a:pt x="2438" y="1838"/>
                  </a:lnTo>
                  <a:lnTo>
                    <a:pt x="2301" y="1838"/>
                  </a:lnTo>
                  <a:lnTo>
                    <a:pt x="2160" y="1882"/>
                  </a:lnTo>
                  <a:lnTo>
                    <a:pt x="2024" y="1975"/>
                  </a:lnTo>
                  <a:lnTo>
                    <a:pt x="1887" y="2068"/>
                  </a:lnTo>
                  <a:lnTo>
                    <a:pt x="1838" y="2209"/>
                  </a:lnTo>
                  <a:lnTo>
                    <a:pt x="1794" y="2345"/>
                  </a:lnTo>
                  <a:lnTo>
                    <a:pt x="1702" y="2482"/>
                  </a:lnTo>
                  <a:lnTo>
                    <a:pt x="1702" y="2619"/>
                  </a:lnTo>
                  <a:lnTo>
                    <a:pt x="1794" y="2760"/>
                  </a:lnTo>
                  <a:lnTo>
                    <a:pt x="1887" y="2897"/>
                  </a:lnTo>
                  <a:lnTo>
                    <a:pt x="1975" y="3034"/>
                  </a:lnTo>
                  <a:lnTo>
                    <a:pt x="2024" y="3176"/>
                  </a:lnTo>
                  <a:lnTo>
                    <a:pt x="2024" y="3312"/>
                  </a:lnTo>
                  <a:lnTo>
                    <a:pt x="2024" y="3449"/>
                  </a:lnTo>
                  <a:lnTo>
                    <a:pt x="2116" y="3590"/>
                  </a:lnTo>
                  <a:lnTo>
                    <a:pt x="2160" y="3727"/>
                  </a:lnTo>
                  <a:lnTo>
                    <a:pt x="2253" y="3863"/>
                  </a:lnTo>
                  <a:lnTo>
                    <a:pt x="2390" y="3956"/>
                  </a:lnTo>
                  <a:lnTo>
                    <a:pt x="2531" y="4000"/>
                  </a:lnTo>
                  <a:lnTo>
                    <a:pt x="2667" y="4049"/>
                  </a:lnTo>
                  <a:lnTo>
                    <a:pt x="2711" y="4185"/>
                  </a:lnTo>
                  <a:lnTo>
                    <a:pt x="2711" y="4326"/>
                  </a:lnTo>
                  <a:lnTo>
                    <a:pt x="2711" y="4463"/>
                  </a:lnTo>
                  <a:lnTo>
                    <a:pt x="2711" y="4600"/>
                  </a:lnTo>
                  <a:lnTo>
                    <a:pt x="2623" y="4737"/>
                  </a:lnTo>
                  <a:lnTo>
                    <a:pt x="2575" y="4878"/>
                  </a:lnTo>
                  <a:lnTo>
                    <a:pt x="2667" y="5014"/>
                  </a:lnTo>
                  <a:lnTo>
                    <a:pt x="2804" y="5107"/>
                  </a:lnTo>
                  <a:lnTo>
                    <a:pt x="2945" y="5200"/>
                  </a:lnTo>
                  <a:lnTo>
                    <a:pt x="2989" y="5336"/>
                  </a:lnTo>
                  <a:lnTo>
                    <a:pt x="2989" y="5473"/>
                  </a:lnTo>
                  <a:lnTo>
                    <a:pt x="2853" y="5614"/>
                  </a:lnTo>
                  <a:lnTo>
                    <a:pt x="2711" y="5707"/>
                  </a:lnTo>
                  <a:lnTo>
                    <a:pt x="2623" y="5843"/>
                  </a:lnTo>
                  <a:lnTo>
                    <a:pt x="2482" y="5843"/>
                  </a:lnTo>
                  <a:lnTo>
                    <a:pt x="2345" y="5887"/>
                  </a:lnTo>
                  <a:lnTo>
                    <a:pt x="2209" y="5887"/>
                  </a:lnTo>
                  <a:lnTo>
                    <a:pt x="2068" y="5887"/>
                  </a:lnTo>
                  <a:lnTo>
                    <a:pt x="1931" y="5936"/>
                  </a:lnTo>
                  <a:lnTo>
                    <a:pt x="1794" y="5936"/>
                  </a:lnTo>
                  <a:lnTo>
                    <a:pt x="1424" y="5980"/>
                  </a:lnTo>
                  <a:lnTo>
                    <a:pt x="1287" y="6029"/>
                  </a:lnTo>
                  <a:lnTo>
                    <a:pt x="1150" y="6073"/>
                  </a:lnTo>
                  <a:lnTo>
                    <a:pt x="1009" y="6117"/>
                  </a:lnTo>
                  <a:lnTo>
                    <a:pt x="873" y="6165"/>
                  </a:lnTo>
                  <a:lnTo>
                    <a:pt x="736" y="6258"/>
                  </a:lnTo>
                  <a:lnTo>
                    <a:pt x="595" y="6302"/>
                  </a:lnTo>
                  <a:lnTo>
                    <a:pt x="458" y="6395"/>
                  </a:lnTo>
                  <a:lnTo>
                    <a:pt x="321" y="6487"/>
                  </a:lnTo>
                  <a:lnTo>
                    <a:pt x="185" y="6580"/>
                  </a:lnTo>
                  <a:lnTo>
                    <a:pt x="92" y="6717"/>
                  </a:lnTo>
                  <a:lnTo>
                    <a:pt x="0" y="6853"/>
                  </a:lnTo>
                  <a:lnTo>
                    <a:pt x="0" y="6994"/>
                  </a:lnTo>
                  <a:lnTo>
                    <a:pt x="0" y="7131"/>
                  </a:lnTo>
                  <a:lnTo>
                    <a:pt x="44" y="7268"/>
                  </a:lnTo>
                  <a:lnTo>
                    <a:pt x="92" y="7409"/>
                  </a:lnTo>
                  <a:lnTo>
                    <a:pt x="127" y="744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3968640" y="3809880"/>
              <a:ext cx="167040" cy="201960"/>
            </a:xfrm>
            <a:custGeom>
              <a:avLst/>
              <a:gdLst/>
              <a:ahLst/>
              <a:rect l="0" t="0" r="r" b="b"/>
              <a:pathLst>
                <a:path w="464" h="561">
                  <a:moveTo>
                    <a:pt x="406" y="0"/>
                  </a:moveTo>
                  <a:lnTo>
                    <a:pt x="229" y="101"/>
                  </a:lnTo>
                  <a:lnTo>
                    <a:pt x="92" y="145"/>
                  </a:lnTo>
                  <a:lnTo>
                    <a:pt x="0" y="287"/>
                  </a:lnTo>
                  <a:lnTo>
                    <a:pt x="48" y="424"/>
                  </a:lnTo>
                  <a:lnTo>
                    <a:pt x="92" y="561"/>
                  </a:lnTo>
                  <a:lnTo>
                    <a:pt x="229" y="561"/>
                  </a:lnTo>
                  <a:lnTo>
                    <a:pt x="322" y="424"/>
                  </a:lnTo>
                  <a:lnTo>
                    <a:pt x="415" y="287"/>
                  </a:lnTo>
                  <a:lnTo>
                    <a:pt x="415" y="145"/>
                  </a:lnTo>
                  <a:lnTo>
                    <a:pt x="464" y="8"/>
                  </a:lnTo>
                  <a:lnTo>
                    <a:pt x="406" y="0"/>
                  </a:lnTo>
                  <a:close/>
                </a:path>
              </a:pathLst>
            </a:custGeom>
            <a:solidFill>
              <a:srgbClr val="00ae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8" name=""/>
            <p:cNvSpPr txBox="1"/>
            <p:nvPr/>
          </p:nvSpPr>
          <p:spPr>
            <a:xfrm>
              <a:off x="3870360" y="3413160"/>
              <a:ext cx="1014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Judah</a:t>
              </a:r>
              <a:endParaRPr b="0" lang="en-US" sz="2400" spc="-1" strike="noStrike">
                <a:solidFill>
                  <a:srgbClr val="000000"/>
                </a:solidFill>
                <a:latin typeface="Arial"/>
              </a:endParaRPr>
            </a:p>
          </p:txBody>
        </p:sp>
        <p:sp>
          <p:nvSpPr>
            <p:cNvPr id="579" name=""/>
            <p:cNvSpPr txBox="1"/>
            <p:nvPr/>
          </p:nvSpPr>
          <p:spPr>
            <a:xfrm>
              <a:off x="2803680" y="4160880"/>
              <a:ext cx="103680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Narrow"/>
                  <a:ea typeface="Arial Narrow"/>
                </a:rPr>
                <a:t>Egypt</a:t>
              </a:r>
              <a:endParaRPr b="0" lang="en-US" sz="3200" spc="-1" strike="noStrike">
                <a:solidFill>
                  <a:srgbClr val="000000"/>
                </a:solidFill>
                <a:latin typeface="Arial"/>
              </a:endParaRPr>
            </a:p>
          </p:txBody>
        </p:sp>
        <p:sp>
          <p:nvSpPr>
            <p:cNvPr id="580" name=""/>
            <p:cNvSpPr txBox="1"/>
            <p:nvPr/>
          </p:nvSpPr>
          <p:spPr>
            <a:xfrm>
              <a:off x="1050840" y="2865600"/>
              <a:ext cx="296244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Mediterranean</a:t>
              </a:r>
              <a:endParaRPr b="0" lang="en-US" sz="3200" spc="-1" strike="noStrike">
                <a:solidFill>
                  <a:srgbClr val="000000"/>
                </a:solidFill>
                <a:latin typeface="Arial"/>
              </a:endParaRPr>
            </a:p>
          </p:txBody>
        </p:sp>
        <p:sp>
          <p:nvSpPr>
            <p:cNvPr id="581" name=""/>
            <p:cNvSpPr txBox="1"/>
            <p:nvPr/>
          </p:nvSpPr>
          <p:spPr>
            <a:xfrm>
              <a:off x="60480" y="647712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81" name=""/>
          <p:cNvGrpSpPr/>
          <p:nvPr/>
        </p:nvGrpSpPr>
        <p:grpSpPr>
          <a:xfrm>
            <a:off x="685800" y="609480"/>
            <a:ext cx="7848360" cy="5789880"/>
            <a:chOff x="685800" y="609480"/>
            <a:chExt cx="7848360" cy="5789880"/>
          </a:xfrm>
        </p:grpSpPr>
        <p:sp>
          <p:nvSpPr>
            <p:cNvPr id="8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6000" spc="-1" strike="noStrike" u="sng">
                  <a:solidFill>
                    <a:srgbClr val="fafd00"/>
                  </a:solidFill>
                  <a:uFillTx/>
                  <a:latin typeface="Arial"/>
                  <a:ea typeface="Arial"/>
                </a:rPr>
                <a:t>Bible Lands</a:t>
              </a:r>
              <a:endParaRPr b="0" lang="en-US" sz="6000" spc="-1" strike="noStrike">
                <a:solidFill>
                  <a:srgbClr val="000000"/>
                </a:solidFill>
                <a:latin typeface="Arial"/>
              </a:endParaRPr>
            </a:p>
          </p:txBody>
        </p:sp>
        <p:sp>
          <p:nvSpPr>
            <p:cNvPr id="8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c0fef9"/>
                </a:buClr>
                <a:buSzPct val="75000"/>
                <a:buFont typeface="Monotype Sorts"/>
                <a:buChar char=""/>
              </a:pPr>
              <a:r>
                <a:rPr b="1" lang="en-US" sz="4800" spc="-1" strike="noStrike">
                  <a:solidFill>
                    <a:srgbClr val="ffffff"/>
                  </a:solidFill>
                  <a:latin typeface="Times New Roman"/>
                  <a:ea typeface="Times New Roman"/>
                </a:rPr>
                <a:t>  </a:t>
              </a:r>
              <a:r>
                <a:rPr b="1" lang="en-US" sz="4800" spc="-1" strike="noStrike">
                  <a:solidFill>
                    <a:srgbClr val="ffffff"/>
                  </a:solidFill>
                  <a:latin typeface="Times New Roman"/>
                  <a:ea typeface="Times New Roman"/>
                </a:rPr>
                <a:t>Southern Europe</a:t>
              </a:r>
              <a:endParaRPr b="0" lang="en-US" sz="4800" spc="-1" strike="noStrike">
                <a:solidFill>
                  <a:srgbClr val="000000"/>
                </a:solidFill>
                <a:latin typeface="Arial"/>
              </a:endParaRPr>
            </a:p>
            <a:p>
              <a:pPr marL="343080" indent="-343080">
                <a:lnSpc>
                  <a:spcPct val="100000"/>
                </a:lnSpc>
                <a:spcBef>
                  <a:spcPts val="479"/>
                </a:spcBef>
                <a:buClr>
                  <a:srgbClr val="c0fef9"/>
                </a:buClr>
                <a:buSzPct val="75000"/>
                <a:buFont typeface="Monotype Sorts"/>
                <a:buChar char=""/>
              </a:pPr>
              <a:r>
                <a:rPr b="1" lang="en-US" sz="4800" spc="-1" strike="noStrike">
                  <a:solidFill>
                    <a:srgbClr val="ffffff"/>
                  </a:solidFill>
                  <a:latin typeface="Times New Roman"/>
                  <a:ea typeface="Times New Roman"/>
                </a:rPr>
                <a:t>  </a:t>
              </a:r>
              <a:r>
                <a:rPr b="1" lang="en-US" sz="4800" spc="-1" strike="noStrike">
                  <a:solidFill>
                    <a:srgbClr val="ffffff"/>
                  </a:solidFill>
                  <a:latin typeface="Times New Roman"/>
                  <a:ea typeface="Times New Roman"/>
                </a:rPr>
                <a:t>Middle East</a:t>
              </a:r>
              <a:endParaRPr b="0" lang="en-US" sz="4800" spc="-1" strike="noStrike">
                <a:solidFill>
                  <a:srgbClr val="000000"/>
                </a:solidFill>
                <a:latin typeface="Arial"/>
              </a:endParaRPr>
            </a:p>
            <a:p>
              <a:pPr marL="343080" indent="-343080">
                <a:lnSpc>
                  <a:spcPct val="100000"/>
                </a:lnSpc>
                <a:spcBef>
                  <a:spcPts val="479"/>
                </a:spcBef>
                <a:buClr>
                  <a:srgbClr val="c0fef9"/>
                </a:buClr>
                <a:buSzPct val="75000"/>
                <a:buFont typeface="Monotype Sorts"/>
                <a:buChar char=""/>
              </a:pPr>
              <a:r>
                <a:rPr b="1" lang="en-US" sz="4800" spc="-1" strike="noStrike">
                  <a:solidFill>
                    <a:srgbClr val="ffffff"/>
                  </a:solidFill>
                  <a:latin typeface="Times New Roman"/>
                  <a:ea typeface="Times New Roman"/>
                </a:rPr>
                <a:t>  </a:t>
              </a:r>
              <a:r>
                <a:rPr b="1" lang="en-US" sz="4800" spc="-1" strike="noStrike">
                  <a:solidFill>
                    <a:srgbClr val="ffffff"/>
                  </a:solidFill>
                  <a:latin typeface="Times New Roman"/>
                  <a:ea typeface="Times New Roman"/>
                </a:rPr>
                <a:t>Asia Minor</a:t>
              </a:r>
              <a:endParaRPr b="0" lang="en-US" sz="4800" spc="-1" strike="noStrike">
                <a:solidFill>
                  <a:srgbClr val="000000"/>
                </a:solidFill>
                <a:latin typeface="Arial"/>
              </a:endParaRPr>
            </a:p>
            <a:p>
              <a:pPr marL="343080" indent="-343080">
                <a:lnSpc>
                  <a:spcPct val="100000"/>
                </a:lnSpc>
                <a:spcBef>
                  <a:spcPts val="479"/>
                </a:spcBef>
                <a:buClr>
                  <a:srgbClr val="c0fef9"/>
                </a:buClr>
                <a:buSzPct val="75000"/>
                <a:buFont typeface="Monotype Sorts"/>
                <a:buChar char=""/>
              </a:pPr>
              <a:r>
                <a:rPr b="1" lang="en-US" sz="4800" spc="-1" strike="noStrike">
                  <a:solidFill>
                    <a:srgbClr val="ffffff"/>
                  </a:solidFill>
                  <a:latin typeface="Times New Roman"/>
                  <a:ea typeface="Times New Roman"/>
                </a:rPr>
                <a:t>  </a:t>
              </a:r>
              <a:r>
                <a:rPr b="1" lang="en-US" sz="4800" spc="-1" strike="noStrike">
                  <a:solidFill>
                    <a:srgbClr val="ffffff"/>
                  </a:solidFill>
                  <a:latin typeface="Times New Roman"/>
                  <a:ea typeface="Times New Roman"/>
                </a:rPr>
                <a:t>North Africa</a:t>
              </a:r>
              <a:endParaRPr b="0" lang="en-US" sz="4800" spc="-1" strike="noStrike">
                <a:solidFill>
                  <a:srgbClr val="000000"/>
                </a:solidFill>
                <a:latin typeface="Arial"/>
              </a:endParaRPr>
            </a:p>
          </p:txBody>
        </p:sp>
        <p:pic>
          <p:nvPicPr>
            <p:cNvPr id="84" name="" descr=""/>
            <p:cNvPicPr/>
            <p:nvPr/>
          </p:nvPicPr>
          <p:blipFill>
            <a:blip r:embed="rId1"/>
            <a:stretch/>
          </p:blipFill>
          <p:spPr>
            <a:xfrm>
              <a:off x="5181480" y="3200400"/>
              <a:ext cx="3352680" cy="3198960"/>
            </a:xfrm>
            <a:prstGeom prst="rect">
              <a:avLst/>
            </a:prstGeom>
            <a:ln w="0">
              <a:noFill/>
            </a:ln>
          </p:spPr>
        </p:pic>
        <p:sp>
          <p:nvSpPr>
            <p:cNvPr id="85" name=""/>
            <p:cNvSpPr/>
            <p:nvPr/>
          </p:nvSpPr>
          <p:spPr>
            <a:xfrm>
              <a:off x="5715000" y="4191120"/>
              <a:ext cx="1523880" cy="1066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txBox="1"/>
            <p:nvPr/>
          </p:nvSpPr>
          <p:spPr>
            <a:xfrm>
              <a:off x="898560" y="6041880"/>
              <a:ext cx="14558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582" name=""/>
          <p:cNvGrpSpPr/>
          <p:nvPr/>
        </p:nvGrpSpPr>
        <p:grpSpPr>
          <a:xfrm>
            <a:off x="60480" y="1523880"/>
            <a:ext cx="9070920" cy="5321520"/>
            <a:chOff x="60480" y="1523880"/>
            <a:chExt cx="9070920" cy="5321520"/>
          </a:xfrm>
        </p:grpSpPr>
        <p:pic>
          <p:nvPicPr>
            <p:cNvPr id="583" name="" descr=""/>
            <p:cNvPicPr/>
            <p:nvPr/>
          </p:nvPicPr>
          <p:blipFill>
            <a:blip r:embed="rId1"/>
            <a:stretch/>
          </p:blipFill>
          <p:spPr>
            <a:xfrm>
              <a:off x="69840" y="1606680"/>
              <a:ext cx="9061560" cy="5238720"/>
            </a:xfrm>
            <a:prstGeom prst="rect">
              <a:avLst/>
            </a:prstGeom>
            <a:ln w="0">
              <a:noFill/>
            </a:ln>
          </p:spPr>
        </p:pic>
        <p:sp>
          <p:nvSpPr>
            <p:cNvPr id="584" name=""/>
            <p:cNvSpPr txBox="1"/>
            <p:nvPr/>
          </p:nvSpPr>
          <p:spPr>
            <a:xfrm>
              <a:off x="685800" y="1523880"/>
              <a:ext cx="7772400" cy="1143000"/>
            </a:xfrm>
            <a:prstGeom prst="rect">
              <a:avLst/>
            </a:prstGeom>
            <a:noFill/>
            <a:ln w="0">
              <a:noFill/>
            </a:ln>
          </p:spPr>
          <p:txBody>
            <a:bodyPr lIns="0" rIns="0" tIns="0" bIns="0" anchor="t">
              <a:noAutofit/>
            </a:bodyPr>
            <a:p>
              <a:pPr algn="ctr">
                <a:lnSpc>
                  <a:spcPct val="100000"/>
                </a:lnSpc>
              </a:pPr>
              <a:r>
                <a:rPr b="1" lang="en-US" sz="4800" spc="-1" strike="noStrike" u="sng">
                  <a:solidFill>
                    <a:srgbClr val="fafd00"/>
                  </a:solidFill>
                  <a:uFillTx/>
                  <a:latin typeface="Arial"/>
                  <a:ea typeface="Arial"/>
                </a:rPr>
                <a:t>Alexander The Great</a:t>
              </a:r>
              <a:endParaRPr b="0" lang="en-US" sz="4800" spc="-1" strike="noStrike">
                <a:solidFill>
                  <a:srgbClr val="000000"/>
                </a:solidFill>
                <a:latin typeface="Arial"/>
              </a:endParaRPr>
            </a:p>
          </p:txBody>
        </p:sp>
        <p:sp>
          <p:nvSpPr>
            <p:cNvPr id="585" name=""/>
            <p:cNvSpPr/>
            <p:nvPr/>
          </p:nvSpPr>
          <p:spPr>
            <a:xfrm>
              <a:off x="1920960" y="2567160"/>
              <a:ext cx="6710760" cy="3513600"/>
            </a:xfrm>
            <a:custGeom>
              <a:avLst/>
              <a:gdLst/>
              <a:ahLst/>
              <a:rect l="0" t="0" r="r" b="b"/>
              <a:pathLst>
                <a:path fill="none" w="18641" h="9760">
                  <a:moveTo>
                    <a:pt x="1225" y="5993"/>
                  </a:moveTo>
                  <a:lnTo>
                    <a:pt x="1243" y="6170"/>
                  </a:lnTo>
                  <a:lnTo>
                    <a:pt x="1199" y="6306"/>
                  </a:lnTo>
                  <a:lnTo>
                    <a:pt x="1150" y="6443"/>
                  </a:lnTo>
                  <a:lnTo>
                    <a:pt x="1106" y="6584"/>
                  </a:lnTo>
                  <a:lnTo>
                    <a:pt x="970" y="6672"/>
                  </a:lnTo>
                  <a:lnTo>
                    <a:pt x="829" y="6721"/>
                  </a:lnTo>
                  <a:lnTo>
                    <a:pt x="692" y="6814"/>
                  </a:lnTo>
                  <a:lnTo>
                    <a:pt x="555" y="6906"/>
                  </a:lnTo>
                  <a:lnTo>
                    <a:pt x="414" y="6950"/>
                  </a:lnTo>
                  <a:lnTo>
                    <a:pt x="507" y="7087"/>
                  </a:lnTo>
                  <a:lnTo>
                    <a:pt x="648" y="7135"/>
                  </a:lnTo>
                  <a:lnTo>
                    <a:pt x="784" y="7228"/>
                  </a:lnTo>
                  <a:lnTo>
                    <a:pt x="921" y="7322"/>
                  </a:lnTo>
                  <a:lnTo>
                    <a:pt x="1058" y="7366"/>
                  </a:lnTo>
                  <a:lnTo>
                    <a:pt x="1199" y="7458"/>
                  </a:lnTo>
                  <a:lnTo>
                    <a:pt x="1292" y="7595"/>
                  </a:lnTo>
                  <a:lnTo>
                    <a:pt x="1380" y="7732"/>
                  </a:lnTo>
                  <a:lnTo>
                    <a:pt x="1428" y="7873"/>
                  </a:lnTo>
                  <a:lnTo>
                    <a:pt x="1472" y="8010"/>
                  </a:lnTo>
                  <a:lnTo>
                    <a:pt x="1472" y="8146"/>
                  </a:lnTo>
                  <a:lnTo>
                    <a:pt x="1521" y="8287"/>
                  </a:lnTo>
                  <a:lnTo>
                    <a:pt x="1613" y="8424"/>
                  </a:lnTo>
                  <a:lnTo>
                    <a:pt x="1658" y="8561"/>
                  </a:lnTo>
                  <a:lnTo>
                    <a:pt x="1794" y="8702"/>
                  </a:lnTo>
                  <a:lnTo>
                    <a:pt x="1935" y="8790"/>
                  </a:lnTo>
                  <a:lnTo>
                    <a:pt x="2072" y="8931"/>
                  </a:lnTo>
                  <a:lnTo>
                    <a:pt x="2209" y="8931"/>
                  </a:lnTo>
                  <a:lnTo>
                    <a:pt x="2350" y="8931"/>
                  </a:lnTo>
                  <a:lnTo>
                    <a:pt x="2487" y="8931"/>
                  </a:lnTo>
                  <a:lnTo>
                    <a:pt x="2623" y="8883"/>
                  </a:lnTo>
                  <a:lnTo>
                    <a:pt x="2672" y="8746"/>
                  </a:lnTo>
                  <a:lnTo>
                    <a:pt x="2716" y="8609"/>
                  </a:lnTo>
                  <a:lnTo>
                    <a:pt x="2716" y="8468"/>
                  </a:lnTo>
                  <a:lnTo>
                    <a:pt x="2764" y="8331"/>
                  </a:lnTo>
                  <a:lnTo>
                    <a:pt x="2764" y="8195"/>
                  </a:lnTo>
                  <a:lnTo>
                    <a:pt x="2764" y="8054"/>
                  </a:lnTo>
                  <a:lnTo>
                    <a:pt x="2764" y="7917"/>
                  </a:lnTo>
                  <a:lnTo>
                    <a:pt x="2764" y="7780"/>
                  </a:lnTo>
                  <a:lnTo>
                    <a:pt x="2764" y="7644"/>
                  </a:lnTo>
                  <a:lnTo>
                    <a:pt x="2764" y="7502"/>
                  </a:lnTo>
                  <a:lnTo>
                    <a:pt x="2672" y="7366"/>
                  </a:lnTo>
                  <a:lnTo>
                    <a:pt x="2579" y="7228"/>
                  </a:lnTo>
                  <a:lnTo>
                    <a:pt x="2531" y="7087"/>
                  </a:lnTo>
                  <a:lnTo>
                    <a:pt x="2531" y="6950"/>
                  </a:lnTo>
                  <a:lnTo>
                    <a:pt x="2579" y="6584"/>
                  </a:lnTo>
                  <a:lnTo>
                    <a:pt x="2623" y="6443"/>
                  </a:lnTo>
                  <a:lnTo>
                    <a:pt x="2764" y="6351"/>
                  </a:lnTo>
                  <a:lnTo>
                    <a:pt x="2901" y="6262"/>
                  </a:lnTo>
                  <a:lnTo>
                    <a:pt x="3038" y="6214"/>
                  </a:lnTo>
                  <a:lnTo>
                    <a:pt x="3175" y="6170"/>
                  </a:lnTo>
                  <a:lnTo>
                    <a:pt x="3589" y="6077"/>
                  </a:lnTo>
                  <a:lnTo>
                    <a:pt x="3959" y="6029"/>
                  </a:lnTo>
                  <a:lnTo>
                    <a:pt x="4096" y="5936"/>
                  </a:lnTo>
                  <a:lnTo>
                    <a:pt x="4467" y="5892"/>
                  </a:lnTo>
                  <a:lnTo>
                    <a:pt x="4789" y="5848"/>
                  </a:lnTo>
                  <a:lnTo>
                    <a:pt x="4926" y="5799"/>
                  </a:lnTo>
                  <a:lnTo>
                    <a:pt x="5063" y="5707"/>
                  </a:lnTo>
                  <a:lnTo>
                    <a:pt x="5111" y="5570"/>
                  </a:lnTo>
                  <a:lnTo>
                    <a:pt x="5155" y="5433"/>
                  </a:lnTo>
                  <a:lnTo>
                    <a:pt x="5155" y="5292"/>
                  </a:lnTo>
                  <a:lnTo>
                    <a:pt x="5248" y="5155"/>
                  </a:lnTo>
                  <a:lnTo>
                    <a:pt x="5385" y="5155"/>
                  </a:lnTo>
                  <a:lnTo>
                    <a:pt x="5526" y="5248"/>
                  </a:lnTo>
                  <a:lnTo>
                    <a:pt x="5663" y="5341"/>
                  </a:lnTo>
                  <a:lnTo>
                    <a:pt x="5799" y="5433"/>
                  </a:lnTo>
                  <a:lnTo>
                    <a:pt x="5940" y="5526"/>
                  </a:lnTo>
                  <a:lnTo>
                    <a:pt x="6077" y="5614"/>
                  </a:lnTo>
                  <a:lnTo>
                    <a:pt x="6170" y="5755"/>
                  </a:lnTo>
                  <a:lnTo>
                    <a:pt x="6306" y="5892"/>
                  </a:lnTo>
                  <a:lnTo>
                    <a:pt x="6399" y="6029"/>
                  </a:lnTo>
                  <a:lnTo>
                    <a:pt x="6492" y="6170"/>
                  </a:lnTo>
                  <a:lnTo>
                    <a:pt x="6536" y="6306"/>
                  </a:lnTo>
                  <a:lnTo>
                    <a:pt x="6672" y="6399"/>
                  </a:lnTo>
                  <a:lnTo>
                    <a:pt x="7043" y="6492"/>
                  </a:lnTo>
                  <a:lnTo>
                    <a:pt x="7180" y="6584"/>
                  </a:lnTo>
                  <a:lnTo>
                    <a:pt x="7321" y="6721"/>
                  </a:lnTo>
                  <a:lnTo>
                    <a:pt x="7409" y="6858"/>
                  </a:lnTo>
                  <a:lnTo>
                    <a:pt x="7501" y="6994"/>
                  </a:lnTo>
                  <a:lnTo>
                    <a:pt x="7501" y="7135"/>
                  </a:lnTo>
                  <a:lnTo>
                    <a:pt x="7594" y="7272"/>
                  </a:lnTo>
                  <a:lnTo>
                    <a:pt x="7731" y="7366"/>
                  </a:lnTo>
                  <a:lnTo>
                    <a:pt x="7823" y="7502"/>
                  </a:lnTo>
                  <a:lnTo>
                    <a:pt x="7964" y="7644"/>
                  </a:lnTo>
                  <a:lnTo>
                    <a:pt x="8101" y="7780"/>
                  </a:lnTo>
                  <a:lnTo>
                    <a:pt x="8238" y="7873"/>
                  </a:lnTo>
                  <a:lnTo>
                    <a:pt x="8379" y="7965"/>
                  </a:lnTo>
                  <a:lnTo>
                    <a:pt x="8516" y="8102"/>
                  </a:lnTo>
                  <a:lnTo>
                    <a:pt x="8652" y="8195"/>
                  </a:lnTo>
                  <a:lnTo>
                    <a:pt x="8789" y="8287"/>
                  </a:lnTo>
                  <a:lnTo>
                    <a:pt x="8930" y="8424"/>
                  </a:lnTo>
                  <a:lnTo>
                    <a:pt x="9067" y="8468"/>
                  </a:lnTo>
                  <a:lnTo>
                    <a:pt x="9204" y="8561"/>
                  </a:lnTo>
                  <a:lnTo>
                    <a:pt x="9345" y="8609"/>
                  </a:lnTo>
                  <a:lnTo>
                    <a:pt x="9481" y="8653"/>
                  </a:lnTo>
                  <a:lnTo>
                    <a:pt x="9618" y="8702"/>
                  </a:lnTo>
                  <a:lnTo>
                    <a:pt x="9759" y="8702"/>
                  </a:lnTo>
                  <a:lnTo>
                    <a:pt x="9896" y="8702"/>
                  </a:lnTo>
                  <a:lnTo>
                    <a:pt x="10033" y="8702"/>
                  </a:lnTo>
                  <a:lnTo>
                    <a:pt x="10174" y="8609"/>
                  </a:lnTo>
                  <a:lnTo>
                    <a:pt x="10310" y="8517"/>
                  </a:lnTo>
                  <a:lnTo>
                    <a:pt x="10447" y="8517"/>
                  </a:lnTo>
                  <a:lnTo>
                    <a:pt x="10584" y="8517"/>
                  </a:lnTo>
                  <a:lnTo>
                    <a:pt x="10725" y="8561"/>
                  </a:lnTo>
                  <a:lnTo>
                    <a:pt x="10862" y="8653"/>
                  </a:lnTo>
                  <a:lnTo>
                    <a:pt x="10954" y="8790"/>
                  </a:lnTo>
                  <a:lnTo>
                    <a:pt x="11091" y="8883"/>
                  </a:lnTo>
                  <a:lnTo>
                    <a:pt x="11184" y="9024"/>
                  </a:lnTo>
                  <a:lnTo>
                    <a:pt x="11320" y="9112"/>
                  </a:lnTo>
                  <a:lnTo>
                    <a:pt x="11461" y="9205"/>
                  </a:lnTo>
                  <a:lnTo>
                    <a:pt x="11598" y="9297"/>
                  </a:lnTo>
                  <a:lnTo>
                    <a:pt x="11691" y="9438"/>
                  </a:lnTo>
                  <a:lnTo>
                    <a:pt x="11827" y="9527"/>
                  </a:lnTo>
                  <a:lnTo>
                    <a:pt x="11964" y="9619"/>
                  </a:lnTo>
                  <a:lnTo>
                    <a:pt x="12105" y="9668"/>
                  </a:lnTo>
                  <a:lnTo>
                    <a:pt x="12242" y="9712"/>
                  </a:lnTo>
                  <a:lnTo>
                    <a:pt x="12379" y="9760"/>
                  </a:lnTo>
                  <a:lnTo>
                    <a:pt x="12520" y="9760"/>
                  </a:lnTo>
                  <a:lnTo>
                    <a:pt x="12656" y="9760"/>
                  </a:lnTo>
                  <a:lnTo>
                    <a:pt x="12793" y="9760"/>
                  </a:lnTo>
                  <a:lnTo>
                    <a:pt x="12934" y="9760"/>
                  </a:lnTo>
                  <a:lnTo>
                    <a:pt x="13256" y="9760"/>
                  </a:lnTo>
                  <a:lnTo>
                    <a:pt x="13393" y="9712"/>
                  </a:lnTo>
                  <a:lnTo>
                    <a:pt x="13759" y="9712"/>
                  </a:lnTo>
                  <a:lnTo>
                    <a:pt x="13900" y="9668"/>
                  </a:lnTo>
                  <a:lnTo>
                    <a:pt x="14038" y="9619"/>
                  </a:lnTo>
                  <a:lnTo>
                    <a:pt x="14174" y="9575"/>
                  </a:lnTo>
                  <a:lnTo>
                    <a:pt x="14315" y="9482"/>
                  </a:lnTo>
                  <a:lnTo>
                    <a:pt x="14408" y="9346"/>
                  </a:lnTo>
                  <a:lnTo>
                    <a:pt x="14545" y="9253"/>
                  </a:lnTo>
                  <a:lnTo>
                    <a:pt x="14681" y="9112"/>
                  </a:lnTo>
                  <a:lnTo>
                    <a:pt x="14818" y="9024"/>
                  </a:lnTo>
                  <a:lnTo>
                    <a:pt x="14911" y="8883"/>
                  </a:lnTo>
                  <a:lnTo>
                    <a:pt x="15003" y="8746"/>
                  </a:lnTo>
                  <a:lnTo>
                    <a:pt x="15096" y="8609"/>
                  </a:lnTo>
                  <a:lnTo>
                    <a:pt x="15189" y="8468"/>
                  </a:lnTo>
                  <a:lnTo>
                    <a:pt x="15189" y="8331"/>
                  </a:lnTo>
                  <a:lnTo>
                    <a:pt x="15233" y="8195"/>
                  </a:lnTo>
                  <a:lnTo>
                    <a:pt x="15233" y="8054"/>
                  </a:lnTo>
                  <a:lnTo>
                    <a:pt x="15281" y="7917"/>
                  </a:lnTo>
                  <a:lnTo>
                    <a:pt x="15374" y="7780"/>
                  </a:lnTo>
                  <a:lnTo>
                    <a:pt x="15418" y="7644"/>
                  </a:lnTo>
                  <a:lnTo>
                    <a:pt x="15510" y="7502"/>
                  </a:lnTo>
                  <a:lnTo>
                    <a:pt x="15647" y="7087"/>
                  </a:lnTo>
                  <a:lnTo>
                    <a:pt x="15696" y="6765"/>
                  </a:lnTo>
                  <a:lnTo>
                    <a:pt x="15788" y="6628"/>
                  </a:lnTo>
                  <a:lnTo>
                    <a:pt x="15925" y="6492"/>
                  </a:lnTo>
                  <a:lnTo>
                    <a:pt x="16018" y="6351"/>
                  </a:lnTo>
                  <a:lnTo>
                    <a:pt x="16154" y="6214"/>
                  </a:lnTo>
                  <a:lnTo>
                    <a:pt x="16291" y="6121"/>
                  </a:lnTo>
                  <a:lnTo>
                    <a:pt x="16706" y="6029"/>
                  </a:lnTo>
                  <a:lnTo>
                    <a:pt x="17120" y="5984"/>
                  </a:lnTo>
                  <a:lnTo>
                    <a:pt x="17490" y="5892"/>
                  </a:lnTo>
                  <a:lnTo>
                    <a:pt x="17856" y="5848"/>
                  </a:lnTo>
                  <a:lnTo>
                    <a:pt x="18408" y="5755"/>
                  </a:lnTo>
                  <a:lnTo>
                    <a:pt x="18549" y="5663"/>
                  </a:lnTo>
                  <a:lnTo>
                    <a:pt x="18641" y="5526"/>
                  </a:lnTo>
                  <a:lnTo>
                    <a:pt x="18641" y="5385"/>
                  </a:lnTo>
                  <a:lnTo>
                    <a:pt x="18641" y="5248"/>
                  </a:lnTo>
                  <a:lnTo>
                    <a:pt x="18641" y="5111"/>
                  </a:lnTo>
                  <a:lnTo>
                    <a:pt x="18641" y="4970"/>
                  </a:lnTo>
                  <a:lnTo>
                    <a:pt x="18593" y="4834"/>
                  </a:lnTo>
                  <a:lnTo>
                    <a:pt x="18593" y="4697"/>
                  </a:lnTo>
                  <a:lnTo>
                    <a:pt x="18549" y="4556"/>
                  </a:lnTo>
                  <a:lnTo>
                    <a:pt x="18500" y="4419"/>
                  </a:lnTo>
                  <a:lnTo>
                    <a:pt x="18456" y="4282"/>
                  </a:lnTo>
                  <a:lnTo>
                    <a:pt x="18315" y="4190"/>
                  </a:lnTo>
                  <a:lnTo>
                    <a:pt x="18227" y="4053"/>
                  </a:lnTo>
                  <a:lnTo>
                    <a:pt x="18086" y="3960"/>
                  </a:lnTo>
                  <a:lnTo>
                    <a:pt x="17949" y="3868"/>
                  </a:lnTo>
                  <a:lnTo>
                    <a:pt x="17812" y="3819"/>
                  </a:lnTo>
                  <a:lnTo>
                    <a:pt x="17671" y="3731"/>
                  </a:lnTo>
                  <a:lnTo>
                    <a:pt x="17535" y="3639"/>
                  </a:lnTo>
                  <a:lnTo>
                    <a:pt x="17398" y="3546"/>
                  </a:lnTo>
                  <a:lnTo>
                    <a:pt x="17257" y="3453"/>
                  </a:lnTo>
                  <a:lnTo>
                    <a:pt x="17120" y="3409"/>
                  </a:lnTo>
                  <a:lnTo>
                    <a:pt x="16983" y="3317"/>
                  </a:lnTo>
                  <a:lnTo>
                    <a:pt x="16847" y="3224"/>
                  </a:lnTo>
                  <a:lnTo>
                    <a:pt x="16432" y="3087"/>
                  </a:lnTo>
                  <a:lnTo>
                    <a:pt x="16291" y="2946"/>
                  </a:lnTo>
                  <a:lnTo>
                    <a:pt x="16198" y="2809"/>
                  </a:lnTo>
                  <a:lnTo>
                    <a:pt x="16198" y="2394"/>
                  </a:lnTo>
                  <a:lnTo>
                    <a:pt x="16198" y="1979"/>
                  </a:lnTo>
                  <a:lnTo>
                    <a:pt x="16198" y="1658"/>
                  </a:lnTo>
                  <a:lnTo>
                    <a:pt x="16198" y="1336"/>
                  </a:lnTo>
                  <a:lnTo>
                    <a:pt x="16198" y="921"/>
                  </a:lnTo>
                  <a:lnTo>
                    <a:pt x="16198" y="599"/>
                  </a:lnTo>
                  <a:lnTo>
                    <a:pt x="16198" y="233"/>
                  </a:lnTo>
                  <a:lnTo>
                    <a:pt x="16198" y="92"/>
                  </a:lnTo>
                  <a:lnTo>
                    <a:pt x="16062" y="0"/>
                  </a:lnTo>
                  <a:lnTo>
                    <a:pt x="15925" y="48"/>
                  </a:lnTo>
                  <a:lnTo>
                    <a:pt x="15788" y="92"/>
                  </a:lnTo>
                  <a:lnTo>
                    <a:pt x="15696" y="233"/>
                  </a:lnTo>
                  <a:lnTo>
                    <a:pt x="15555" y="277"/>
                  </a:lnTo>
                  <a:lnTo>
                    <a:pt x="15418" y="277"/>
                  </a:lnTo>
                  <a:lnTo>
                    <a:pt x="15281" y="277"/>
                  </a:lnTo>
                  <a:lnTo>
                    <a:pt x="15140" y="277"/>
                  </a:lnTo>
                  <a:lnTo>
                    <a:pt x="15003" y="277"/>
                  </a:lnTo>
                  <a:lnTo>
                    <a:pt x="14867" y="321"/>
                  </a:lnTo>
                  <a:lnTo>
                    <a:pt x="14730" y="414"/>
                  </a:lnTo>
                  <a:lnTo>
                    <a:pt x="14589" y="463"/>
                  </a:lnTo>
                  <a:lnTo>
                    <a:pt x="14452" y="555"/>
                  </a:lnTo>
                  <a:lnTo>
                    <a:pt x="14315" y="599"/>
                  </a:lnTo>
                  <a:lnTo>
                    <a:pt x="13900" y="643"/>
                  </a:lnTo>
                  <a:lnTo>
                    <a:pt x="13578" y="692"/>
                  </a:lnTo>
                  <a:lnTo>
                    <a:pt x="13256" y="736"/>
                  </a:lnTo>
                  <a:lnTo>
                    <a:pt x="12749" y="784"/>
                  </a:lnTo>
                  <a:lnTo>
                    <a:pt x="12334" y="877"/>
                  </a:lnTo>
                  <a:lnTo>
                    <a:pt x="11964" y="921"/>
                  </a:lnTo>
                  <a:lnTo>
                    <a:pt x="11827" y="1014"/>
                  </a:lnTo>
                  <a:lnTo>
                    <a:pt x="11505" y="1014"/>
                  </a:lnTo>
                  <a:lnTo>
                    <a:pt x="11139" y="1058"/>
                  </a:lnTo>
                  <a:lnTo>
                    <a:pt x="10998" y="1106"/>
                  </a:lnTo>
                  <a:lnTo>
                    <a:pt x="10862" y="1106"/>
                  </a:lnTo>
                  <a:lnTo>
                    <a:pt x="10725" y="1106"/>
                  </a:lnTo>
                  <a:lnTo>
                    <a:pt x="10584" y="1106"/>
                  </a:lnTo>
                  <a:lnTo>
                    <a:pt x="10447" y="1106"/>
                  </a:lnTo>
                  <a:lnTo>
                    <a:pt x="10310" y="1106"/>
                  </a:lnTo>
                  <a:lnTo>
                    <a:pt x="10174" y="1106"/>
                  </a:lnTo>
                  <a:lnTo>
                    <a:pt x="10033" y="1150"/>
                  </a:lnTo>
                  <a:lnTo>
                    <a:pt x="9711" y="1150"/>
                  </a:lnTo>
                  <a:lnTo>
                    <a:pt x="9574" y="1150"/>
                  </a:lnTo>
                  <a:lnTo>
                    <a:pt x="9437" y="1150"/>
                  </a:lnTo>
                  <a:lnTo>
                    <a:pt x="9296" y="1150"/>
                  </a:lnTo>
                  <a:lnTo>
                    <a:pt x="9159" y="1150"/>
                  </a:lnTo>
                  <a:lnTo>
                    <a:pt x="8789" y="1199"/>
                  </a:lnTo>
                  <a:lnTo>
                    <a:pt x="8652" y="1292"/>
                  </a:lnTo>
                  <a:lnTo>
                    <a:pt x="8516" y="1380"/>
                  </a:lnTo>
                  <a:lnTo>
                    <a:pt x="8379" y="1428"/>
                  </a:lnTo>
                  <a:lnTo>
                    <a:pt x="8238" y="1521"/>
                  </a:lnTo>
                  <a:lnTo>
                    <a:pt x="8101" y="1521"/>
                  </a:lnTo>
                  <a:lnTo>
                    <a:pt x="7964" y="1565"/>
                  </a:lnTo>
                  <a:lnTo>
                    <a:pt x="7594" y="1613"/>
                  </a:lnTo>
                  <a:lnTo>
                    <a:pt x="7180" y="1702"/>
                  </a:lnTo>
                  <a:lnTo>
                    <a:pt x="7043" y="1750"/>
                  </a:lnTo>
                  <a:lnTo>
                    <a:pt x="6672" y="1750"/>
                  </a:lnTo>
                  <a:lnTo>
                    <a:pt x="6536" y="1750"/>
                  </a:lnTo>
                  <a:lnTo>
                    <a:pt x="6170" y="1702"/>
                  </a:lnTo>
                  <a:lnTo>
                    <a:pt x="6029" y="1658"/>
                  </a:lnTo>
                  <a:lnTo>
                    <a:pt x="5892" y="1658"/>
                  </a:lnTo>
                  <a:lnTo>
                    <a:pt x="5755" y="1613"/>
                  </a:lnTo>
                  <a:lnTo>
                    <a:pt x="5614" y="1613"/>
                  </a:lnTo>
                  <a:lnTo>
                    <a:pt x="5477" y="1565"/>
                  </a:lnTo>
                  <a:lnTo>
                    <a:pt x="5341" y="1565"/>
                  </a:lnTo>
                  <a:lnTo>
                    <a:pt x="5204" y="1565"/>
                  </a:lnTo>
                  <a:lnTo>
                    <a:pt x="5063" y="1565"/>
                  </a:lnTo>
                  <a:lnTo>
                    <a:pt x="4926" y="1565"/>
                  </a:lnTo>
                  <a:lnTo>
                    <a:pt x="4789" y="1565"/>
                  </a:lnTo>
                  <a:lnTo>
                    <a:pt x="4647" y="1613"/>
                  </a:lnTo>
                  <a:lnTo>
                    <a:pt x="4511" y="1750"/>
                  </a:lnTo>
                  <a:lnTo>
                    <a:pt x="4374" y="1794"/>
                  </a:lnTo>
                  <a:lnTo>
                    <a:pt x="4233" y="1887"/>
                  </a:lnTo>
                  <a:lnTo>
                    <a:pt x="4096" y="1887"/>
                  </a:lnTo>
                  <a:lnTo>
                    <a:pt x="3959" y="1887"/>
                  </a:lnTo>
                  <a:lnTo>
                    <a:pt x="3823" y="1794"/>
                  </a:lnTo>
                  <a:lnTo>
                    <a:pt x="3730" y="1658"/>
                  </a:lnTo>
                  <a:lnTo>
                    <a:pt x="3638" y="1521"/>
                  </a:lnTo>
                  <a:lnTo>
                    <a:pt x="3496" y="1472"/>
                  </a:lnTo>
                  <a:lnTo>
                    <a:pt x="3360" y="1428"/>
                  </a:lnTo>
                  <a:lnTo>
                    <a:pt x="3223" y="1428"/>
                  </a:lnTo>
                  <a:lnTo>
                    <a:pt x="3086" y="1565"/>
                  </a:lnTo>
                  <a:lnTo>
                    <a:pt x="3038" y="1702"/>
                  </a:lnTo>
                  <a:lnTo>
                    <a:pt x="2994" y="1843"/>
                  </a:lnTo>
                  <a:lnTo>
                    <a:pt x="2945" y="1979"/>
                  </a:lnTo>
                  <a:lnTo>
                    <a:pt x="2808" y="2072"/>
                  </a:lnTo>
                  <a:lnTo>
                    <a:pt x="2672" y="2028"/>
                  </a:lnTo>
                  <a:lnTo>
                    <a:pt x="2531" y="1935"/>
                  </a:lnTo>
                  <a:lnTo>
                    <a:pt x="2487" y="1794"/>
                  </a:lnTo>
                  <a:lnTo>
                    <a:pt x="2487" y="1658"/>
                  </a:lnTo>
                  <a:lnTo>
                    <a:pt x="2487" y="1521"/>
                  </a:lnTo>
                  <a:lnTo>
                    <a:pt x="2487" y="1380"/>
                  </a:lnTo>
                  <a:lnTo>
                    <a:pt x="2487" y="1243"/>
                  </a:lnTo>
                  <a:lnTo>
                    <a:pt x="2487" y="1106"/>
                  </a:lnTo>
                  <a:lnTo>
                    <a:pt x="2487" y="970"/>
                  </a:lnTo>
                  <a:lnTo>
                    <a:pt x="2487" y="829"/>
                  </a:lnTo>
                  <a:lnTo>
                    <a:pt x="2487" y="692"/>
                  </a:lnTo>
                  <a:lnTo>
                    <a:pt x="2394" y="555"/>
                  </a:lnTo>
                  <a:lnTo>
                    <a:pt x="2257" y="463"/>
                  </a:lnTo>
                  <a:lnTo>
                    <a:pt x="2116" y="463"/>
                  </a:lnTo>
                  <a:lnTo>
                    <a:pt x="1979" y="507"/>
                  </a:lnTo>
                  <a:lnTo>
                    <a:pt x="1843" y="599"/>
                  </a:lnTo>
                  <a:lnTo>
                    <a:pt x="1706" y="692"/>
                  </a:lnTo>
                  <a:lnTo>
                    <a:pt x="1658" y="829"/>
                  </a:lnTo>
                  <a:lnTo>
                    <a:pt x="1565" y="970"/>
                  </a:lnTo>
                  <a:lnTo>
                    <a:pt x="1472" y="1106"/>
                  </a:lnTo>
                  <a:lnTo>
                    <a:pt x="1380" y="1243"/>
                  </a:lnTo>
                  <a:lnTo>
                    <a:pt x="1292" y="1380"/>
                  </a:lnTo>
                  <a:lnTo>
                    <a:pt x="1150" y="1472"/>
                  </a:lnTo>
                  <a:lnTo>
                    <a:pt x="1014" y="1565"/>
                  </a:lnTo>
                  <a:lnTo>
                    <a:pt x="877" y="1613"/>
                  </a:lnTo>
                  <a:lnTo>
                    <a:pt x="736" y="1702"/>
                  </a:lnTo>
                  <a:lnTo>
                    <a:pt x="599" y="1750"/>
                  </a:lnTo>
                  <a:lnTo>
                    <a:pt x="507" y="1887"/>
                  </a:lnTo>
                  <a:lnTo>
                    <a:pt x="370" y="2028"/>
                  </a:lnTo>
                  <a:lnTo>
                    <a:pt x="233" y="2116"/>
                  </a:lnTo>
                  <a:lnTo>
                    <a:pt x="141" y="2257"/>
                  </a:lnTo>
                  <a:lnTo>
                    <a:pt x="0" y="2301"/>
                  </a:lnTo>
                  <a:lnTo>
                    <a:pt x="0" y="2438"/>
                  </a:lnTo>
                  <a:lnTo>
                    <a:pt x="92" y="2580"/>
                  </a:lnTo>
                  <a:lnTo>
                    <a:pt x="233" y="2624"/>
                  </a:lnTo>
                  <a:lnTo>
                    <a:pt x="370" y="2624"/>
                  </a:lnTo>
                  <a:lnTo>
                    <a:pt x="507" y="2673"/>
                  </a:lnTo>
                  <a:lnTo>
                    <a:pt x="648" y="2761"/>
                  </a:lnTo>
                  <a:lnTo>
                    <a:pt x="784" y="2854"/>
                  </a:lnTo>
                  <a:lnTo>
                    <a:pt x="692" y="2995"/>
                  </a:lnTo>
                  <a:lnTo>
                    <a:pt x="555" y="3131"/>
                  </a:lnTo>
                  <a:lnTo>
                    <a:pt x="463" y="3268"/>
                  </a:lnTo>
                  <a:lnTo>
                    <a:pt x="321" y="3361"/>
                  </a:lnTo>
                  <a:lnTo>
                    <a:pt x="185" y="3453"/>
                  </a:lnTo>
                  <a:lnTo>
                    <a:pt x="92" y="3590"/>
                  </a:lnTo>
                  <a:lnTo>
                    <a:pt x="92" y="3731"/>
                  </a:lnTo>
                  <a:lnTo>
                    <a:pt x="92" y="3868"/>
                  </a:lnTo>
                  <a:lnTo>
                    <a:pt x="92" y="4005"/>
                  </a:lnTo>
                  <a:lnTo>
                    <a:pt x="92" y="4146"/>
                  </a:lnTo>
                  <a:lnTo>
                    <a:pt x="141" y="4282"/>
                  </a:lnTo>
                  <a:lnTo>
                    <a:pt x="277" y="4419"/>
                  </a:lnTo>
                  <a:lnTo>
                    <a:pt x="414" y="4512"/>
                  </a:lnTo>
                  <a:lnTo>
                    <a:pt x="555" y="4512"/>
                  </a:lnTo>
                  <a:lnTo>
                    <a:pt x="692" y="4468"/>
                  </a:lnTo>
                  <a:lnTo>
                    <a:pt x="829" y="4468"/>
                  </a:lnTo>
                  <a:lnTo>
                    <a:pt x="970" y="4419"/>
                  </a:lnTo>
                  <a:lnTo>
                    <a:pt x="1106" y="4419"/>
                  </a:lnTo>
                  <a:lnTo>
                    <a:pt x="1243" y="4419"/>
                  </a:lnTo>
                  <a:lnTo>
                    <a:pt x="1380" y="4419"/>
                  </a:lnTo>
                  <a:lnTo>
                    <a:pt x="1521" y="4468"/>
                  </a:lnTo>
                  <a:lnTo>
                    <a:pt x="1658" y="4512"/>
                  </a:lnTo>
                  <a:lnTo>
                    <a:pt x="1750" y="4648"/>
                  </a:lnTo>
                  <a:lnTo>
                    <a:pt x="1887" y="4741"/>
                  </a:lnTo>
                  <a:lnTo>
                    <a:pt x="2028" y="4878"/>
                  </a:lnTo>
                  <a:lnTo>
                    <a:pt x="2165" y="5019"/>
                  </a:lnTo>
                  <a:lnTo>
                    <a:pt x="2257" y="5155"/>
                  </a:lnTo>
                  <a:lnTo>
                    <a:pt x="2350" y="5292"/>
                  </a:lnTo>
                  <a:lnTo>
                    <a:pt x="2350" y="5433"/>
                  </a:lnTo>
                  <a:lnTo>
                    <a:pt x="2209" y="5477"/>
                  </a:lnTo>
                  <a:lnTo>
                    <a:pt x="2072" y="5570"/>
                  </a:lnTo>
                  <a:lnTo>
                    <a:pt x="1935" y="5663"/>
                  </a:lnTo>
                  <a:lnTo>
                    <a:pt x="1794" y="5707"/>
                  </a:lnTo>
                  <a:lnTo>
                    <a:pt x="1658" y="5799"/>
                  </a:lnTo>
                  <a:lnTo>
                    <a:pt x="1521" y="5892"/>
                  </a:lnTo>
                  <a:lnTo>
                    <a:pt x="1428" y="6029"/>
                  </a:lnTo>
                  <a:lnTo>
                    <a:pt x="1292" y="6121"/>
                  </a:lnTo>
                  <a:lnTo>
                    <a:pt x="1225" y="599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861840" y="4267080"/>
              <a:ext cx="479880" cy="371880"/>
            </a:xfrm>
            <a:custGeom>
              <a:avLst/>
              <a:gdLst/>
              <a:ahLst/>
              <a:rect l="0" t="0" r="r" b="b"/>
              <a:pathLst>
                <a:path fill="none" w="1333" h="1033">
                  <a:moveTo>
                    <a:pt x="1205" y="0"/>
                  </a:moveTo>
                  <a:lnTo>
                    <a:pt x="1060" y="66"/>
                  </a:lnTo>
                  <a:lnTo>
                    <a:pt x="918" y="66"/>
                  </a:lnTo>
                  <a:lnTo>
                    <a:pt x="781" y="66"/>
                  </a:lnTo>
                  <a:lnTo>
                    <a:pt x="644" y="66"/>
                  </a:lnTo>
                  <a:lnTo>
                    <a:pt x="503" y="110"/>
                  </a:lnTo>
                  <a:lnTo>
                    <a:pt x="367" y="202"/>
                  </a:lnTo>
                  <a:lnTo>
                    <a:pt x="229" y="296"/>
                  </a:lnTo>
                  <a:lnTo>
                    <a:pt x="88" y="340"/>
                  </a:lnTo>
                  <a:lnTo>
                    <a:pt x="0" y="481"/>
                  </a:lnTo>
                  <a:lnTo>
                    <a:pt x="0" y="618"/>
                  </a:lnTo>
                  <a:lnTo>
                    <a:pt x="0" y="755"/>
                  </a:lnTo>
                  <a:lnTo>
                    <a:pt x="0" y="892"/>
                  </a:lnTo>
                  <a:lnTo>
                    <a:pt x="136" y="941"/>
                  </a:lnTo>
                  <a:lnTo>
                    <a:pt x="273" y="941"/>
                  </a:lnTo>
                  <a:lnTo>
                    <a:pt x="415" y="985"/>
                  </a:lnTo>
                  <a:lnTo>
                    <a:pt x="552" y="985"/>
                  </a:lnTo>
                  <a:lnTo>
                    <a:pt x="688" y="1033"/>
                  </a:lnTo>
                  <a:lnTo>
                    <a:pt x="825" y="1033"/>
                  </a:lnTo>
                  <a:lnTo>
                    <a:pt x="966" y="892"/>
                  </a:lnTo>
                  <a:lnTo>
                    <a:pt x="1104" y="804"/>
                  </a:lnTo>
                  <a:lnTo>
                    <a:pt x="1241" y="710"/>
                  </a:lnTo>
                  <a:lnTo>
                    <a:pt x="1333" y="569"/>
                  </a:lnTo>
                  <a:lnTo>
                    <a:pt x="1333" y="433"/>
                  </a:lnTo>
                  <a:lnTo>
                    <a:pt x="1289" y="296"/>
                  </a:lnTo>
                  <a:lnTo>
                    <a:pt x="1241" y="154"/>
                  </a:lnTo>
                  <a:lnTo>
                    <a:pt x="1205"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7" name=""/>
            <p:cNvSpPr txBox="1"/>
            <p:nvPr/>
          </p:nvSpPr>
          <p:spPr>
            <a:xfrm>
              <a:off x="2651040" y="3611520"/>
              <a:ext cx="5091120" cy="701640"/>
            </a:xfrm>
            <a:prstGeom prst="rect">
              <a:avLst/>
            </a:prstGeom>
            <a:noFill/>
            <a:ln w="0">
              <a:noFill/>
            </a:ln>
          </p:spPr>
          <p:txBody>
            <a:bodyPr lIns="0" rIns="0" tIns="0" bIns="0" anchor="t">
              <a:noAutofit/>
            </a:bodyPr>
            <a:p>
              <a:pPr>
                <a:lnSpc>
                  <a:spcPct val="100000"/>
                </a:lnSpc>
              </a:pPr>
              <a:r>
                <a:rPr b="1" lang="en-US" sz="4000" spc="-1" strike="noStrike">
                  <a:solidFill>
                    <a:srgbClr val="fafd00"/>
                  </a:solidFill>
                  <a:latin typeface="Arial Narrow"/>
                  <a:ea typeface="Arial Narrow"/>
                </a:rPr>
                <a:t>The Empire of Alexander</a:t>
              </a:r>
              <a:endParaRPr b="0" lang="en-US" sz="4000" spc="-1" strike="noStrike">
                <a:solidFill>
                  <a:srgbClr val="000000"/>
                </a:solidFill>
                <a:latin typeface="Arial"/>
              </a:endParaRPr>
            </a:p>
          </p:txBody>
        </p:sp>
        <p:sp>
          <p:nvSpPr>
            <p:cNvPr id="588" name=""/>
            <p:cNvSpPr txBox="1"/>
            <p:nvPr/>
          </p:nvSpPr>
          <p:spPr>
            <a:xfrm>
              <a:off x="7604280" y="5364000"/>
              <a:ext cx="1370160" cy="701640"/>
            </a:xfrm>
            <a:prstGeom prst="rect">
              <a:avLst/>
            </a:prstGeom>
            <a:noFill/>
            <a:ln w="0">
              <a:noFill/>
            </a:ln>
          </p:spPr>
          <p:txBody>
            <a:bodyPr lIns="0" rIns="0" tIns="0" bIns="0" anchor="t">
              <a:noAutofit/>
            </a:bodyPr>
            <a:p>
              <a:pPr>
                <a:lnSpc>
                  <a:spcPct val="100000"/>
                </a:lnSpc>
              </a:pPr>
              <a:r>
                <a:rPr b="1" lang="en-US" sz="4000" spc="-1" strike="noStrike">
                  <a:solidFill>
                    <a:srgbClr val="ffffff"/>
                  </a:solidFill>
                  <a:latin typeface="Arial"/>
                  <a:ea typeface="Arial"/>
                </a:rPr>
                <a:t>India</a:t>
              </a:r>
              <a:endParaRPr b="0" lang="en-US" sz="4000" spc="-1" strike="noStrike">
                <a:solidFill>
                  <a:srgbClr val="000000"/>
                </a:solidFill>
                <a:latin typeface="Arial"/>
              </a:endParaRPr>
            </a:p>
          </p:txBody>
        </p:sp>
        <p:sp>
          <p:nvSpPr>
            <p:cNvPr id="589" name=""/>
            <p:cNvSpPr txBox="1"/>
            <p:nvPr/>
          </p:nvSpPr>
          <p:spPr>
            <a:xfrm>
              <a:off x="2117880" y="4937040"/>
              <a:ext cx="878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Narrow"/>
                  <a:ea typeface="Arial Narrow"/>
                </a:rPr>
                <a:t>Egypt</a:t>
              </a:r>
              <a:endParaRPr b="0" lang="en-US" sz="2400" spc="-1" strike="noStrike">
                <a:solidFill>
                  <a:srgbClr val="000000"/>
                </a:solidFill>
                <a:latin typeface="Arial"/>
              </a:endParaRPr>
            </a:p>
          </p:txBody>
        </p:sp>
        <p:sp>
          <p:nvSpPr>
            <p:cNvPr id="590" name=""/>
            <p:cNvSpPr/>
            <p:nvPr/>
          </p:nvSpPr>
          <p:spPr>
            <a:xfrm>
              <a:off x="3054240" y="4495680"/>
              <a:ext cx="167040" cy="201960"/>
            </a:xfrm>
            <a:custGeom>
              <a:avLst/>
              <a:gdLst/>
              <a:ahLst/>
              <a:rect l="0" t="0" r="r" b="b"/>
              <a:pathLst>
                <a:path w="464" h="561">
                  <a:moveTo>
                    <a:pt x="406" y="0"/>
                  </a:moveTo>
                  <a:lnTo>
                    <a:pt x="229" y="101"/>
                  </a:lnTo>
                  <a:lnTo>
                    <a:pt x="92" y="145"/>
                  </a:lnTo>
                  <a:lnTo>
                    <a:pt x="0" y="287"/>
                  </a:lnTo>
                  <a:lnTo>
                    <a:pt x="48" y="424"/>
                  </a:lnTo>
                  <a:lnTo>
                    <a:pt x="92" y="561"/>
                  </a:lnTo>
                  <a:lnTo>
                    <a:pt x="229" y="561"/>
                  </a:lnTo>
                  <a:lnTo>
                    <a:pt x="322" y="424"/>
                  </a:lnTo>
                  <a:lnTo>
                    <a:pt x="415" y="287"/>
                  </a:lnTo>
                  <a:lnTo>
                    <a:pt x="415" y="145"/>
                  </a:lnTo>
                  <a:lnTo>
                    <a:pt x="464" y="8"/>
                  </a:lnTo>
                  <a:lnTo>
                    <a:pt x="406" y="0"/>
                  </a:lnTo>
                  <a:close/>
                </a:path>
              </a:pathLst>
            </a:custGeom>
            <a:solidFill>
              <a:srgbClr val="00ae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1" name=""/>
            <p:cNvSpPr txBox="1"/>
            <p:nvPr/>
          </p:nvSpPr>
          <p:spPr>
            <a:xfrm>
              <a:off x="2955960" y="4098960"/>
              <a:ext cx="1014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Judah</a:t>
              </a:r>
              <a:endParaRPr b="0" lang="en-US" sz="2400" spc="-1" strike="noStrike">
                <a:solidFill>
                  <a:srgbClr val="000000"/>
                </a:solidFill>
                <a:latin typeface="Arial"/>
              </a:endParaRPr>
            </a:p>
          </p:txBody>
        </p:sp>
        <p:sp>
          <p:nvSpPr>
            <p:cNvPr id="592" name=""/>
            <p:cNvSpPr txBox="1"/>
            <p:nvPr/>
          </p:nvSpPr>
          <p:spPr>
            <a:xfrm>
              <a:off x="60480" y="647712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3" name=""/>
          <p:cNvSpPr txBox="1"/>
          <p:nvPr/>
        </p:nvSpPr>
        <p:spPr>
          <a:xfrm>
            <a:off x="228600" y="685800"/>
            <a:ext cx="4114800" cy="1362600"/>
          </a:xfrm>
          <a:prstGeom prst="rect">
            <a:avLst/>
          </a:prstGeom>
          <a:noFill/>
          <a:ln w="0">
            <a:noFill/>
          </a:ln>
        </p:spPr>
        <p:txBody>
          <a:bodyPr lIns="0" rIns="0" tIns="0" bIns="0" anchor="t">
            <a:noAutofit/>
          </a:bodyPr>
          <a:p>
            <a:pPr>
              <a:lnSpc>
                <a:spcPct val="100000"/>
              </a:lnSpc>
            </a:pPr>
            <a:r>
              <a:rPr b="1" lang="en-US" sz="4800" spc="-1" strike="noStrike" u="sng">
                <a:solidFill>
                  <a:srgbClr val="fafd00"/>
                </a:solidFill>
                <a:uFillTx/>
                <a:latin typeface="Arial"/>
                <a:ea typeface="Arial"/>
              </a:rPr>
              <a:t>Roman Empire</a:t>
            </a:r>
            <a:endParaRPr b="0" lang="en-US" sz="4800" spc="-1" strike="noStrike">
              <a:solidFill>
                <a:srgbClr val="000000"/>
              </a:solidFill>
              <a:latin typeface="Arial"/>
            </a:endParaRPr>
          </a:p>
        </p:txBody>
      </p:sp>
      <p:sp>
        <p:nvSpPr>
          <p:cNvPr id="594" name=""/>
          <p:cNvSpPr txBox="1"/>
          <p:nvPr/>
        </p:nvSpPr>
        <p:spPr>
          <a:xfrm>
            <a:off x="0" y="2209680"/>
            <a:ext cx="2666880" cy="4572000"/>
          </a:xfrm>
          <a:prstGeom prst="rect">
            <a:avLst/>
          </a:prstGeom>
          <a:noFill/>
          <a:ln w="0">
            <a:noFill/>
          </a:ln>
        </p:spPr>
        <p:txBody>
          <a:bodyPr lIns="0" rIns="0" tIns="0" bIns="0" anchor="t">
            <a:noAutofit/>
          </a:bodyPr>
          <a:p>
            <a:pPr marL="343080" indent="-343080">
              <a:lnSpc>
                <a:spcPct val="100000"/>
              </a:lnSpc>
              <a:spcBef>
                <a:spcPts val="479"/>
              </a:spcBef>
              <a:buClr>
                <a:srgbClr val="c0fef9"/>
              </a:buClr>
              <a:buSzPct val="75000"/>
              <a:buFont typeface="Monotype Sorts"/>
              <a:buChar char=""/>
            </a:pPr>
            <a:r>
              <a:rPr b="0" lang="en-US" sz="3200" spc="-1" strike="noStrike">
                <a:solidFill>
                  <a:srgbClr val="ffffff"/>
                </a:solidFill>
                <a:latin typeface="Arial"/>
                <a:ea typeface="Arial"/>
              </a:rPr>
              <a:t>The Roman Empire spread from Great Britain to Israel and included Spain and Asia Minor.</a:t>
            </a:r>
            <a:endParaRPr b="0" lang="en-US" sz="3200" spc="-1" strike="noStrike">
              <a:solidFill>
                <a:srgbClr val="000000"/>
              </a:solidFill>
              <a:latin typeface="Arial"/>
            </a:endParaRPr>
          </a:p>
        </p:txBody>
      </p:sp>
      <p:grpSp>
        <p:nvGrpSpPr>
          <p:cNvPr id="595" name=""/>
          <p:cNvGrpSpPr/>
          <p:nvPr/>
        </p:nvGrpSpPr>
        <p:grpSpPr>
          <a:xfrm>
            <a:off x="2523960" y="0"/>
            <a:ext cx="6570720" cy="6845400"/>
            <a:chOff x="2523960" y="0"/>
            <a:chExt cx="6570720" cy="6845400"/>
          </a:xfrm>
        </p:grpSpPr>
        <p:pic>
          <p:nvPicPr>
            <p:cNvPr id="596" name="" descr=""/>
            <p:cNvPicPr/>
            <p:nvPr/>
          </p:nvPicPr>
          <p:blipFill>
            <a:blip r:embed="rId1"/>
            <a:stretch/>
          </p:blipFill>
          <p:spPr>
            <a:xfrm>
              <a:off x="2523960" y="0"/>
              <a:ext cx="6570720" cy="6845400"/>
            </a:xfrm>
            <a:prstGeom prst="rect">
              <a:avLst/>
            </a:prstGeom>
            <a:ln w="0">
              <a:noFill/>
            </a:ln>
          </p:spPr>
        </p:pic>
        <p:sp>
          <p:nvSpPr>
            <p:cNvPr id="597" name=""/>
            <p:cNvSpPr/>
            <p:nvPr/>
          </p:nvSpPr>
          <p:spPr>
            <a:xfrm>
              <a:off x="2600280" y="977760"/>
              <a:ext cx="5269320" cy="4521600"/>
            </a:xfrm>
            <a:custGeom>
              <a:avLst/>
              <a:gdLst/>
              <a:ahLst/>
              <a:rect l="0" t="0" r="r" b="b"/>
              <a:pathLst>
                <a:path fill="none" w="14637" h="12560">
                  <a:moveTo>
                    <a:pt x="3996" y="35"/>
                  </a:moveTo>
                  <a:lnTo>
                    <a:pt x="3819" y="44"/>
                  </a:lnTo>
                  <a:lnTo>
                    <a:pt x="3683" y="0"/>
                  </a:lnTo>
                  <a:lnTo>
                    <a:pt x="3545" y="0"/>
                  </a:lnTo>
                  <a:lnTo>
                    <a:pt x="3404" y="0"/>
                  </a:lnTo>
                  <a:lnTo>
                    <a:pt x="3267" y="0"/>
                  </a:lnTo>
                  <a:lnTo>
                    <a:pt x="3130" y="0"/>
                  </a:lnTo>
                  <a:lnTo>
                    <a:pt x="2994" y="0"/>
                  </a:lnTo>
                  <a:lnTo>
                    <a:pt x="2853" y="0"/>
                  </a:lnTo>
                  <a:lnTo>
                    <a:pt x="2716" y="92"/>
                  </a:lnTo>
                  <a:lnTo>
                    <a:pt x="2667" y="229"/>
                  </a:lnTo>
                  <a:lnTo>
                    <a:pt x="2623" y="366"/>
                  </a:lnTo>
                  <a:lnTo>
                    <a:pt x="2623" y="502"/>
                  </a:lnTo>
                  <a:lnTo>
                    <a:pt x="2531" y="643"/>
                  </a:lnTo>
                  <a:lnTo>
                    <a:pt x="2394" y="736"/>
                  </a:lnTo>
                  <a:lnTo>
                    <a:pt x="2257" y="824"/>
                  </a:lnTo>
                  <a:lnTo>
                    <a:pt x="2116" y="965"/>
                  </a:lnTo>
                  <a:lnTo>
                    <a:pt x="2024" y="1102"/>
                  </a:lnTo>
                  <a:lnTo>
                    <a:pt x="1979" y="1239"/>
                  </a:lnTo>
                  <a:lnTo>
                    <a:pt x="1979" y="1380"/>
                  </a:lnTo>
                  <a:lnTo>
                    <a:pt x="2072" y="1516"/>
                  </a:lnTo>
                  <a:lnTo>
                    <a:pt x="2209" y="1609"/>
                  </a:lnTo>
                  <a:lnTo>
                    <a:pt x="2345" y="1702"/>
                  </a:lnTo>
                  <a:lnTo>
                    <a:pt x="2438" y="1838"/>
                  </a:lnTo>
                  <a:lnTo>
                    <a:pt x="2531" y="1975"/>
                  </a:lnTo>
                  <a:lnTo>
                    <a:pt x="2579" y="2116"/>
                  </a:lnTo>
                  <a:lnTo>
                    <a:pt x="2623" y="2253"/>
                  </a:lnTo>
                  <a:lnTo>
                    <a:pt x="2623" y="2390"/>
                  </a:lnTo>
                  <a:lnTo>
                    <a:pt x="2667" y="2531"/>
                  </a:lnTo>
                  <a:lnTo>
                    <a:pt x="2667" y="2667"/>
                  </a:lnTo>
                  <a:lnTo>
                    <a:pt x="2667" y="2804"/>
                  </a:lnTo>
                  <a:lnTo>
                    <a:pt x="2667" y="2941"/>
                  </a:lnTo>
                  <a:lnTo>
                    <a:pt x="2667" y="3082"/>
                  </a:lnTo>
                  <a:lnTo>
                    <a:pt x="2579" y="3220"/>
                  </a:lnTo>
                  <a:lnTo>
                    <a:pt x="2487" y="3356"/>
                  </a:lnTo>
                  <a:lnTo>
                    <a:pt x="2438" y="3497"/>
                  </a:lnTo>
                  <a:lnTo>
                    <a:pt x="2345" y="3634"/>
                  </a:lnTo>
                  <a:lnTo>
                    <a:pt x="2301" y="3771"/>
                  </a:lnTo>
                  <a:lnTo>
                    <a:pt x="2209" y="3912"/>
                  </a:lnTo>
                  <a:lnTo>
                    <a:pt x="2072" y="3819"/>
                  </a:lnTo>
                  <a:lnTo>
                    <a:pt x="1979" y="3678"/>
                  </a:lnTo>
                  <a:lnTo>
                    <a:pt x="1843" y="3542"/>
                  </a:lnTo>
                  <a:lnTo>
                    <a:pt x="1702" y="3449"/>
                  </a:lnTo>
                  <a:lnTo>
                    <a:pt x="1565" y="3312"/>
                  </a:lnTo>
                  <a:lnTo>
                    <a:pt x="1428" y="3268"/>
                  </a:lnTo>
                  <a:lnTo>
                    <a:pt x="1287" y="3268"/>
                  </a:lnTo>
                  <a:lnTo>
                    <a:pt x="1150" y="3268"/>
                  </a:lnTo>
                  <a:lnTo>
                    <a:pt x="1014" y="3268"/>
                  </a:lnTo>
                  <a:lnTo>
                    <a:pt x="877" y="3268"/>
                  </a:lnTo>
                  <a:lnTo>
                    <a:pt x="736" y="3268"/>
                  </a:lnTo>
                  <a:lnTo>
                    <a:pt x="599" y="3268"/>
                  </a:lnTo>
                  <a:lnTo>
                    <a:pt x="507" y="3405"/>
                  </a:lnTo>
                  <a:lnTo>
                    <a:pt x="414" y="3542"/>
                  </a:lnTo>
                  <a:lnTo>
                    <a:pt x="414" y="3678"/>
                  </a:lnTo>
                  <a:lnTo>
                    <a:pt x="414" y="3819"/>
                  </a:lnTo>
                  <a:lnTo>
                    <a:pt x="414" y="3956"/>
                  </a:lnTo>
                  <a:lnTo>
                    <a:pt x="414" y="4093"/>
                  </a:lnTo>
                  <a:lnTo>
                    <a:pt x="321" y="4234"/>
                  </a:lnTo>
                  <a:lnTo>
                    <a:pt x="185" y="4326"/>
                  </a:lnTo>
                  <a:lnTo>
                    <a:pt x="48" y="4415"/>
                  </a:lnTo>
                  <a:lnTo>
                    <a:pt x="0" y="4556"/>
                  </a:lnTo>
                  <a:lnTo>
                    <a:pt x="0" y="4692"/>
                  </a:lnTo>
                  <a:lnTo>
                    <a:pt x="0" y="4829"/>
                  </a:lnTo>
                  <a:lnTo>
                    <a:pt x="0" y="4970"/>
                  </a:lnTo>
                  <a:lnTo>
                    <a:pt x="0" y="5107"/>
                  </a:lnTo>
                  <a:lnTo>
                    <a:pt x="48" y="5244"/>
                  </a:lnTo>
                  <a:lnTo>
                    <a:pt x="48" y="5385"/>
                  </a:lnTo>
                  <a:lnTo>
                    <a:pt x="141" y="5521"/>
                  </a:lnTo>
                  <a:lnTo>
                    <a:pt x="277" y="5658"/>
                  </a:lnTo>
                  <a:lnTo>
                    <a:pt x="370" y="5795"/>
                  </a:lnTo>
                  <a:lnTo>
                    <a:pt x="414" y="5936"/>
                  </a:lnTo>
                  <a:lnTo>
                    <a:pt x="507" y="6073"/>
                  </a:lnTo>
                  <a:lnTo>
                    <a:pt x="551" y="6209"/>
                  </a:lnTo>
                  <a:lnTo>
                    <a:pt x="551" y="6351"/>
                  </a:lnTo>
                  <a:lnTo>
                    <a:pt x="551" y="6487"/>
                  </a:lnTo>
                  <a:lnTo>
                    <a:pt x="551" y="6624"/>
                  </a:lnTo>
                  <a:lnTo>
                    <a:pt x="551" y="6765"/>
                  </a:lnTo>
                  <a:lnTo>
                    <a:pt x="551" y="6902"/>
                  </a:lnTo>
                  <a:lnTo>
                    <a:pt x="551" y="7038"/>
                  </a:lnTo>
                  <a:lnTo>
                    <a:pt x="507" y="7175"/>
                  </a:lnTo>
                  <a:lnTo>
                    <a:pt x="414" y="7316"/>
                  </a:lnTo>
                  <a:lnTo>
                    <a:pt x="321" y="7453"/>
                  </a:lnTo>
                  <a:lnTo>
                    <a:pt x="277" y="7590"/>
                  </a:lnTo>
                  <a:lnTo>
                    <a:pt x="277" y="7731"/>
                  </a:lnTo>
                  <a:lnTo>
                    <a:pt x="277" y="7867"/>
                  </a:lnTo>
                  <a:lnTo>
                    <a:pt x="321" y="8004"/>
                  </a:lnTo>
                  <a:lnTo>
                    <a:pt x="370" y="8145"/>
                  </a:lnTo>
                  <a:lnTo>
                    <a:pt x="507" y="8189"/>
                  </a:lnTo>
                  <a:lnTo>
                    <a:pt x="643" y="8233"/>
                  </a:lnTo>
                  <a:lnTo>
                    <a:pt x="1058" y="8282"/>
                  </a:lnTo>
                  <a:lnTo>
                    <a:pt x="1380" y="8282"/>
                  </a:lnTo>
                  <a:lnTo>
                    <a:pt x="1794" y="8326"/>
                  </a:lnTo>
                  <a:lnTo>
                    <a:pt x="1935" y="8326"/>
                  </a:lnTo>
                  <a:lnTo>
                    <a:pt x="2072" y="8326"/>
                  </a:lnTo>
                  <a:lnTo>
                    <a:pt x="2209" y="8375"/>
                  </a:lnTo>
                  <a:lnTo>
                    <a:pt x="2579" y="8467"/>
                  </a:lnTo>
                  <a:lnTo>
                    <a:pt x="2994" y="8511"/>
                  </a:lnTo>
                  <a:lnTo>
                    <a:pt x="3360" y="8560"/>
                  </a:lnTo>
                  <a:lnTo>
                    <a:pt x="3683" y="8604"/>
                  </a:lnTo>
                  <a:lnTo>
                    <a:pt x="4005" y="8648"/>
                  </a:lnTo>
                  <a:lnTo>
                    <a:pt x="4141" y="8741"/>
                  </a:lnTo>
                  <a:lnTo>
                    <a:pt x="4190" y="8882"/>
                  </a:lnTo>
                  <a:lnTo>
                    <a:pt x="4190" y="9018"/>
                  </a:lnTo>
                  <a:lnTo>
                    <a:pt x="4234" y="9155"/>
                  </a:lnTo>
                  <a:lnTo>
                    <a:pt x="4282" y="9292"/>
                  </a:lnTo>
                  <a:lnTo>
                    <a:pt x="4375" y="9434"/>
                  </a:lnTo>
                  <a:lnTo>
                    <a:pt x="4463" y="9571"/>
                  </a:lnTo>
                  <a:lnTo>
                    <a:pt x="4512" y="9707"/>
                  </a:lnTo>
                  <a:lnTo>
                    <a:pt x="4648" y="9848"/>
                  </a:lnTo>
                  <a:lnTo>
                    <a:pt x="4785" y="9941"/>
                  </a:lnTo>
                  <a:lnTo>
                    <a:pt x="4926" y="10029"/>
                  </a:lnTo>
                  <a:lnTo>
                    <a:pt x="5292" y="10078"/>
                  </a:lnTo>
                  <a:lnTo>
                    <a:pt x="5614" y="10122"/>
                  </a:lnTo>
                  <a:lnTo>
                    <a:pt x="5755" y="10214"/>
                  </a:lnTo>
                  <a:lnTo>
                    <a:pt x="5892" y="10351"/>
                  </a:lnTo>
                  <a:lnTo>
                    <a:pt x="6029" y="10444"/>
                  </a:lnTo>
                  <a:lnTo>
                    <a:pt x="6170" y="10536"/>
                  </a:lnTo>
                  <a:lnTo>
                    <a:pt x="6306" y="10677"/>
                  </a:lnTo>
                  <a:lnTo>
                    <a:pt x="6443" y="10766"/>
                  </a:lnTo>
                  <a:lnTo>
                    <a:pt x="6580" y="10858"/>
                  </a:lnTo>
                  <a:lnTo>
                    <a:pt x="6721" y="10951"/>
                  </a:lnTo>
                  <a:lnTo>
                    <a:pt x="6858" y="11043"/>
                  </a:lnTo>
                  <a:lnTo>
                    <a:pt x="6994" y="11136"/>
                  </a:lnTo>
                  <a:lnTo>
                    <a:pt x="7135" y="11180"/>
                  </a:lnTo>
                  <a:lnTo>
                    <a:pt x="7501" y="11229"/>
                  </a:lnTo>
                  <a:lnTo>
                    <a:pt x="7916" y="11321"/>
                  </a:lnTo>
                  <a:lnTo>
                    <a:pt x="8053" y="11409"/>
                  </a:lnTo>
                  <a:lnTo>
                    <a:pt x="8375" y="11409"/>
                  </a:lnTo>
                  <a:lnTo>
                    <a:pt x="8516" y="11502"/>
                  </a:lnTo>
                  <a:lnTo>
                    <a:pt x="8652" y="11595"/>
                  </a:lnTo>
                  <a:lnTo>
                    <a:pt x="8789" y="11736"/>
                  </a:lnTo>
                  <a:lnTo>
                    <a:pt x="8930" y="11824"/>
                  </a:lnTo>
                  <a:lnTo>
                    <a:pt x="9018" y="11965"/>
                  </a:lnTo>
                  <a:lnTo>
                    <a:pt x="9159" y="12058"/>
                  </a:lnTo>
                  <a:lnTo>
                    <a:pt x="9296" y="12146"/>
                  </a:lnTo>
                  <a:lnTo>
                    <a:pt x="9433" y="12238"/>
                  </a:lnTo>
                  <a:lnTo>
                    <a:pt x="9574" y="12331"/>
                  </a:lnTo>
                  <a:lnTo>
                    <a:pt x="9711" y="12424"/>
                  </a:lnTo>
                  <a:lnTo>
                    <a:pt x="9847" y="12516"/>
                  </a:lnTo>
                  <a:lnTo>
                    <a:pt x="9989" y="12560"/>
                  </a:lnTo>
                  <a:lnTo>
                    <a:pt x="10125" y="12560"/>
                  </a:lnTo>
                  <a:lnTo>
                    <a:pt x="10262" y="12560"/>
                  </a:lnTo>
                  <a:lnTo>
                    <a:pt x="10403" y="12560"/>
                  </a:lnTo>
                  <a:lnTo>
                    <a:pt x="10540" y="12560"/>
                  </a:lnTo>
                  <a:lnTo>
                    <a:pt x="10676" y="12516"/>
                  </a:lnTo>
                  <a:lnTo>
                    <a:pt x="10813" y="12468"/>
                  </a:lnTo>
                  <a:lnTo>
                    <a:pt x="10954" y="12380"/>
                  </a:lnTo>
                  <a:lnTo>
                    <a:pt x="11092" y="12287"/>
                  </a:lnTo>
                  <a:lnTo>
                    <a:pt x="11229" y="12238"/>
                  </a:lnTo>
                  <a:lnTo>
                    <a:pt x="11370" y="12194"/>
                  </a:lnTo>
                  <a:lnTo>
                    <a:pt x="11506" y="12146"/>
                  </a:lnTo>
                  <a:lnTo>
                    <a:pt x="11643" y="12009"/>
                  </a:lnTo>
                  <a:lnTo>
                    <a:pt x="11692" y="11872"/>
                  </a:lnTo>
                  <a:lnTo>
                    <a:pt x="11736" y="11736"/>
                  </a:lnTo>
                  <a:lnTo>
                    <a:pt x="11736" y="11595"/>
                  </a:lnTo>
                  <a:lnTo>
                    <a:pt x="11643" y="11458"/>
                  </a:lnTo>
                  <a:lnTo>
                    <a:pt x="11551" y="11321"/>
                  </a:lnTo>
                  <a:lnTo>
                    <a:pt x="11462" y="11180"/>
                  </a:lnTo>
                  <a:lnTo>
                    <a:pt x="11414" y="11043"/>
                  </a:lnTo>
                  <a:lnTo>
                    <a:pt x="11414" y="10907"/>
                  </a:lnTo>
                  <a:lnTo>
                    <a:pt x="11414" y="10766"/>
                  </a:lnTo>
                  <a:lnTo>
                    <a:pt x="11414" y="10629"/>
                  </a:lnTo>
                  <a:lnTo>
                    <a:pt x="11414" y="10492"/>
                  </a:lnTo>
                  <a:lnTo>
                    <a:pt x="11551" y="10444"/>
                  </a:lnTo>
                  <a:lnTo>
                    <a:pt x="11692" y="10351"/>
                  </a:lnTo>
                  <a:lnTo>
                    <a:pt x="11828" y="10307"/>
                  </a:lnTo>
                  <a:lnTo>
                    <a:pt x="11965" y="10263"/>
                  </a:lnTo>
                  <a:lnTo>
                    <a:pt x="12106" y="10214"/>
                  </a:lnTo>
                  <a:lnTo>
                    <a:pt x="12243" y="10122"/>
                  </a:lnTo>
                  <a:lnTo>
                    <a:pt x="12380" y="10078"/>
                  </a:lnTo>
                  <a:lnTo>
                    <a:pt x="12521" y="9985"/>
                  </a:lnTo>
                  <a:lnTo>
                    <a:pt x="12657" y="9893"/>
                  </a:lnTo>
                  <a:lnTo>
                    <a:pt x="12750" y="9756"/>
                  </a:lnTo>
                  <a:lnTo>
                    <a:pt x="12887" y="9619"/>
                  </a:lnTo>
                  <a:lnTo>
                    <a:pt x="12979" y="9478"/>
                  </a:lnTo>
                  <a:lnTo>
                    <a:pt x="13072" y="9340"/>
                  </a:lnTo>
                  <a:lnTo>
                    <a:pt x="13209" y="9204"/>
                  </a:lnTo>
                  <a:lnTo>
                    <a:pt x="13253" y="9062"/>
                  </a:lnTo>
                  <a:lnTo>
                    <a:pt x="13345" y="8926"/>
                  </a:lnTo>
                  <a:lnTo>
                    <a:pt x="13394" y="8789"/>
                  </a:lnTo>
                  <a:lnTo>
                    <a:pt x="13438" y="8648"/>
                  </a:lnTo>
                  <a:lnTo>
                    <a:pt x="13486" y="8511"/>
                  </a:lnTo>
                  <a:lnTo>
                    <a:pt x="13531" y="8375"/>
                  </a:lnTo>
                  <a:lnTo>
                    <a:pt x="13579" y="8233"/>
                  </a:lnTo>
                  <a:lnTo>
                    <a:pt x="13579" y="7867"/>
                  </a:lnTo>
                  <a:lnTo>
                    <a:pt x="13623" y="7453"/>
                  </a:lnTo>
                  <a:lnTo>
                    <a:pt x="13623" y="7316"/>
                  </a:lnTo>
                  <a:lnTo>
                    <a:pt x="13623" y="7175"/>
                  </a:lnTo>
                  <a:lnTo>
                    <a:pt x="13623" y="7038"/>
                  </a:lnTo>
                  <a:lnTo>
                    <a:pt x="13623" y="6902"/>
                  </a:lnTo>
                  <a:lnTo>
                    <a:pt x="13623" y="6765"/>
                  </a:lnTo>
                  <a:lnTo>
                    <a:pt x="13623" y="6624"/>
                  </a:lnTo>
                  <a:lnTo>
                    <a:pt x="13716" y="6487"/>
                  </a:lnTo>
                  <a:lnTo>
                    <a:pt x="13808" y="6351"/>
                  </a:lnTo>
                  <a:lnTo>
                    <a:pt x="13852" y="6209"/>
                  </a:lnTo>
                  <a:lnTo>
                    <a:pt x="13901" y="6073"/>
                  </a:lnTo>
                  <a:lnTo>
                    <a:pt x="13989" y="5936"/>
                  </a:lnTo>
                  <a:lnTo>
                    <a:pt x="14130" y="5843"/>
                  </a:lnTo>
                  <a:lnTo>
                    <a:pt x="14267" y="5707"/>
                  </a:lnTo>
                  <a:lnTo>
                    <a:pt x="14360" y="5566"/>
                  </a:lnTo>
                  <a:lnTo>
                    <a:pt x="14452" y="5200"/>
                  </a:lnTo>
                  <a:lnTo>
                    <a:pt x="14589" y="5107"/>
                  </a:lnTo>
                  <a:lnTo>
                    <a:pt x="14637" y="4970"/>
                  </a:lnTo>
                  <a:lnTo>
                    <a:pt x="14637" y="4829"/>
                  </a:lnTo>
                  <a:lnTo>
                    <a:pt x="14589" y="4692"/>
                  </a:lnTo>
                  <a:lnTo>
                    <a:pt x="14452" y="4600"/>
                  </a:lnTo>
                  <a:lnTo>
                    <a:pt x="14311" y="4556"/>
                  </a:lnTo>
                  <a:lnTo>
                    <a:pt x="14174" y="4507"/>
                  </a:lnTo>
                  <a:lnTo>
                    <a:pt x="14038" y="4463"/>
                  </a:lnTo>
                  <a:lnTo>
                    <a:pt x="13901" y="4463"/>
                  </a:lnTo>
                  <a:lnTo>
                    <a:pt x="13760" y="4463"/>
                  </a:lnTo>
                  <a:lnTo>
                    <a:pt x="13623" y="4415"/>
                  </a:lnTo>
                  <a:lnTo>
                    <a:pt x="13486" y="4415"/>
                  </a:lnTo>
                  <a:lnTo>
                    <a:pt x="13345" y="4415"/>
                  </a:lnTo>
                  <a:lnTo>
                    <a:pt x="13209" y="4415"/>
                  </a:lnTo>
                  <a:lnTo>
                    <a:pt x="13072" y="4371"/>
                  </a:lnTo>
                  <a:lnTo>
                    <a:pt x="12931" y="4278"/>
                  </a:lnTo>
                  <a:lnTo>
                    <a:pt x="12843" y="4141"/>
                  </a:lnTo>
                  <a:lnTo>
                    <a:pt x="12794" y="4000"/>
                  </a:lnTo>
                  <a:lnTo>
                    <a:pt x="12702" y="3863"/>
                  </a:lnTo>
                  <a:lnTo>
                    <a:pt x="12565" y="3727"/>
                  </a:lnTo>
                  <a:lnTo>
                    <a:pt x="12472" y="3590"/>
                  </a:lnTo>
                  <a:lnTo>
                    <a:pt x="12380" y="3449"/>
                  </a:lnTo>
                  <a:lnTo>
                    <a:pt x="12335" y="3312"/>
                  </a:lnTo>
                  <a:lnTo>
                    <a:pt x="12335" y="3176"/>
                  </a:lnTo>
                  <a:lnTo>
                    <a:pt x="12335" y="3033"/>
                  </a:lnTo>
                  <a:lnTo>
                    <a:pt x="12335" y="2897"/>
                  </a:lnTo>
                  <a:lnTo>
                    <a:pt x="12335" y="2760"/>
                  </a:lnTo>
                  <a:lnTo>
                    <a:pt x="12335" y="2619"/>
                  </a:lnTo>
                  <a:lnTo>
                    <a:pt x="12194" y="2619"/>
                  </a:lnTo>
                  <a:lnTo>
                    <a:pt x="12058" y="2711"/>
                  </a:lnTo>
                  <a:lnTo>
                    <a:pt x="11921" y="2804"/>
                  </a:lnTo>
                  <a:lnTo>
                    <a:pt x="11828" y="2941"/>
                  </a:lnTo>
                  <a:lnTo>
                    <a:pt x="11736" y="3082"/>
                  </a:lnTo>
                  <a:lnTo>
                    <a:pt x="11599" y="3126"/>
                  </a:lnTo>
                  <a:lnTo>
                    <a:pt x="11462" y="3126"/>
                  </a:lnTo>
                  <a:lnTo>
                    <a:pt x="11321" y="3176"/>
                  </a:lnTo>
                  <a:lnTo>
                    <a:pt x="11185" y="3176"/>
                  </a:lnTo>
                  <a:lnTo>
                    <a:pt x="11048" y="3126"/>
                  </a:lnTo>
                  <a:lnTo>
                    <a:pt x="10906" y="3126"/>
                  </a:lnTo>
                  <a:lnTo>
                    <a:pt x="10769" y="3126"/>
                  </a:lnTo>
                  <a:lnTo>
                    <a:pt x="10632" y="3176"/>
                  </a:lnTo>
                  <a:lnTo>
                    <a:pt x="10491" y="3220"/>
                  </a:lnTo>
                  <a:lnTo>
                    <a:pt x="10355" y="3268"/>
                  </a:lnTo>
                  <a:lnTo>
                    <a:pt x="10218" y="3312"/>
                  </a:lnTo>
                  <a:lnTo>
                    <a:pt x="10077" y="3405"/>
                  </a:lnTo>
                  <a:lnTo>
                    <a:pt x="9989" y="3542"/>
                  </a:lnTo>
                  <a:lnTo>
                    <a:pt x="9940" y="3678"/>
                  </a:lnTo>
                  <a:lnTo>
                    <a:pt x="9940" y="3819"/>
                  </a:lnTo>
                  <a:lnTo>
                    <a:pt x="9896" y="3956"/>
                  </a:lnTo>
                  <a:lnTo>
                    <a:pt x="9896" y="4093"/>
                  </a:lnTo>
                  <a:lnTo>
                    <a:pt x="9803" y="4234"/>
                  </a:lnTo>
                  <a:lnTo>
                    <a:pt x="9711" y="4371"/>
                  </a:lnTo>
                  <a:lnTo>
                    <a:pt x="9574" y="4507"/>
                  </a:lnTo>
                  <a:lnTo>
                    <a:pt x="9433" y="4648"/>
                  </a:lnTo>
                  <a:lnTo>
                    <a:pt x="9296" y="4648"/>
                  </a:lnTo>
                  <a:lnTo>
                    <a:pt x="8930" y="4648"/>
                  </a:lnTo>
                  <a:lnTo>
                    <a:pt x="8789" y="4648"/>
                  </a:lnTo>
                  <a:lnTo>
                    <a:pt x="8652" y="4600"/>
                  </a:lnTo>
                  <a:lnTo>
                    <a:pt x="8516" y="4600"/>
                  </a:lnTo>
                  <a:lnTo>
                    <a:pt x="8375" y="4600"/>
                  </a:lnTo>
                  <a:lnTo>
                    <a:pt x="8238" y="4556"/>
                  </a:lnTo>
                  <a:lnTo>
                    <a:pt x="8101" y="4463"/>
                  </a:lnTo>
                  <a:lnTo>
                    <a:pt x="7960" y="4371"/>
                  </a:lnTo>
                  <a:lnTo>
                    <a:pt x="7872" y="4234"/>
                  </a:lnTo>
                  <a:lnTo>
                    <a:pt x="7823" y="4093"/>
                  </a:lnTo>
                  <a:lnTo>
                    <a:pt x="7731" y="3956"/>
                  </a:lnTo>
                  <a:lnTo>
                    <a:pt x="7638" y="3819"/>
                  </a:lnTo>
                  <a:lnTo>
                    <a:pt x="7550" y="3678"/>
                  </a:lnTo>
                  <a:lnTo>
                    <a:pt x="7457" y="3542"/>
                  </a:lnTo>
                  <a:lnTo>
                    <a:pt x="7316" y="3405"/>
                  </a:lnTo>
                  <a:lnTo>
                    <a:pt x="7180" y="3356"/>
                  </a:lnTo>
                  <a:lnTo>
                    <a:pt x="7043" y="3268"/>
                  </a:lnTo>
                  <a:lnTo>
                    <a:pt x="6902" y="3268"/>
                  </a:lnTo>
                  <a:lnTo>
                    <a:pt x="6765" y="3220"/>
                  </a:lnTo>
                  <a:lnTo>
                    <a:pt x="6628" y="3220"/>
                  </a:lnTo>
                  <a:lnTo>
                    <a:pt x="6492" y="3220"/>
                  </a:lnTo>
                  <a:lnTo>
                    <a:pt x="6351" y="3176"/>
                  </a:lnTo>
                  <a:lnTo>
                    <a:pt x="6214" y="3176"/>
                  </a:lnTo>
                  <a:lnTo>
                    <a:pt x="6077" y="3176"/>
                  </a:lnTo>
                  <a:lnTo>
                    <a:pt x="5936" y="3082"/>
                  </a:lnTo>
                  <a:lnTo>
                    <a:pt x="5799" y="3082"/>
                  </a:lnTo>
                  <a:lnTo>
                    <a:pt x="5663" y="3033"/>
                  </a:lnTo>
                  <a:lnTo>
                    <a:pt x="5521" y="3033"/>
                  </a:lnTo>
                  <a:lnTo>
                    <a:pt x="5385" y="2989"/>
                  </a:lnTo>
                  <a:lnTo>
                    <a:pt x="5248" y="2989"/>
                  </a:lnTo>
                  <a:lnTo>
                    <a:pt x="5111" y="2941"/>
                  </a:lnTo>
                  <a:lnTo>
                    <a:pt x="4970" y="2853"/>
                  </a:lnTo>
                  <a:lnTo>
                    <a:pt x="4926" y="2711"/>
                  </a:lnTo>
                  <a:lnTo>
                    <a:pt x="4785" y="2575"/>
                  </a:lnTo>
                  <a:lnTo>
                    <a:pt x="4697" y="2438"/>
                  </a:lnTo>
                  <a:lnTo>
                    <a:pt x="4648" y="2297"/>
                  </a:lnTo>
                  <a:lnTo>
                    <a:pt x="4604" y="2160"/>
                  </a:lnTo>
                  <a:lnTo>
                    <a:pt x="4604" y="2024"/>
                  </a:lnTo>
                  <a:lnTo>
                    <a:pt x="4604" y="1882"/>
                  </a:lnTo>
                  <a:lnTo>
                    <a:pt x="4604" y="1746"/>
                  </a:lnTo>
                  <a:lnTo>
                    <a:pt x="4604" y="1609"/>
                  </a:lnTo>
                  <a:lnTo>
                    <a:pt x="4604" y="1472"/>
                  </a:lnTo>
                  <a:lnTo>
                    <a:pt x="4512" y="1331"/>
                  </a:lnTo>
                  <a:lnTo>
                    <a:pt x="4463" y="1195"/>
                  </a:lnTo>
                  <a:lnTo>
                    <a:pt x="4419" y="1058"/>
                  </a:lnTo>
                  <a:lnTo>
                    <a:pt x="4375" y="917"/>
                  </a:lnTo>
                  <a:lnTo>
                    <a:pt x="4282" y="780"/>
                  </a:lnTo>
                  <a:lnTo>
                    <a:pt x="4282" y="643"/>
                  </a:lnTo>
                  <a:lnTo>
                    <a:pt x="4234" y="502"/>
                  </a:lnTo>
                  <a:lnTo>
                    <a:pt x="4141" y="366"/>
                  </a:lnTo>
                  <a:lnTo>
                    <a:pt x="4053" y="229"/>
                  </a:lnTo>
                  <a:lnTo>
                    <a:pt x="3996" y="3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txBox="1"/>
            <p:nvPr/>
          </p:nvSpPr>
          <p:spPr>
            <a:xfrm>
              <a:off x="3794040" y="3382920"/>
              <a:ext cx="3124080" cy="701640"/>
            </a:xfrm>
            <a:prstGeom prst="rect">
              <a:avLst/>
            </a:prstGeom>
            <a:noFill/>
            <a:ln w="0">
              <a:noFill/>
            </a:ln>
          </p:spPr>
          <p:txBody>
            <a:bodyPr lIns="0" rIns="0" tIns="0" bIns="0" anchor="t">
              <a:noAutofit/>
            </a:bodyPr>
            <a:p>
              <a:pPr>
                <a:lnSpc>
                  <a:spcPct val="100000"/>
                </a:lnSpc>
              </a:pPr>
              <a:r>
                <a:rPr b="1" lang="en-US" sz="4000" spc="-1" strike="noStrike">
                  <a:solidFill>
                    <a:srgbClr val="fafd00"/>
                  </a:solidFill>
                  <a:latin typeface="Arial Narrow"/>
                  <a:ea typeface="Arial Narrow"/>
                </a:rPr>
                <a:t>Roman Empire</a:t>
              </a:r>
              <a:endParaRPr b="0" lang="en-US" sz="4000" spc="-1" strike="noStrike">
                <a:solidFill>
                  <a:srgbClr val="000000"/>
                </a:solidFill>
                <a:latin typeface="Arial"/>
              </a:endParaRPr>
            </a:p>
          </p:txBody>
        </p:sp>
        <p:sp>
          <p:nvSpPr>
            <p:cNvPr id="599" name=""/>
            <p:cNvSpPr txBox="1"/>
            <p:nvPr/>
          </p:nvSpPr>
          <p:spPr>
            <a:xfrm>
              <a:off x="2955960" y="351000"/>
              <a:ext cx="123984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Narrow"/>
                  <a:ea typeface="Arial Narrow"/>
                </a:rPr>
                <a:t>Britain</a:t>
              </a:r>
              <a:endParaRPr b="0" lang="en-US" sz="3200" spc="-1" strike="noStrike">
                <a:solidFill>
                  <a:srgbClr val="000000"/>
                </a:solidFill>
                <a:latin typeface="Arial"/>
              </a:endParaRPr>
            </a:p>
          </p:txBody>
        </p:sp>
        <p:sp>
          <p:nvSpPr>
            <p:cNvPr id="600" name=""/>
            <p:cNvSpPr txBox="1"/>
            <p:nvPr/>
          </p:nvSpPr>
          <p:spPr>
            <a:xfrm>
              <a:off x="4175280" y="2498760"/>
              <a:ext cx="9968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Rome</a:t>
              </a:r>
              <a:endParaRPr b="0" lang="en-US" sz="2400" spc="-1" strike="noStrike">
                <a:solidFill>
                  <a:srgbClr val="000000"/>
                </a:solidFill>
                <a:latin typeface="Arial"/>
              </a:endParaRPr>
            </a:p>
          </p:txBody>
        </p:sp>
        <p:sp>
          <p:nvSpPr>
            <p:cNvPr id="601" name=""/>
            <p:cNvSpPr/>
            <p:nvPr/>
          </p:nvSpPr>
          <p:spPr>
            <a:xfrm>
              <a:off x="4724280" y="2743200"/>
              <a:ext cx="228960" cy="228960"/>
            </a:xfrm>
            <a:custGeom>
              <a:avLst/>
              <a:gdLst/>
              <a:ahLst/>
              <a:rect l="0" t="0" r="r" b="b"/>
              <a:pathLst>
                <a:path w="636" h="636">
                  <a:moveTo>
                    <a:pt x="317" y="0"/>
                  </a:moveTo>
                  <a:lnTo>
                    <a:pt x="243" y="243"/>
                  </a:lnTo>
                  <a:lnTo>
                    <a:pt x="0" y="243"/>
                  </a:lnTo>
                  <a:lnTo>
                    <a:pt x="197" y="394"/>
                  </a:lnTo>
                  <a:lnTo>
                    <a:pt x="123" y="636"/>
                  </a:lnTo>
                  <a:lnTo>
                    <a:pt x="317" y="496"/>
                  </a:lnTo>
                  <a:lnTo>
                    <a:pt x="512" y="636"/>
                  </a:lnTo>
                  <a:lnTo>
                    <a:pt x="437" y="394"/>
                  </a:lnTo>
                  <a:lnTo>
                    <a:pt x="636" y="242"/>
                  </a:lnTo>
                  <a:lnTo>
                    <a:pt x="392" y="242"/>
                  </a:lnTo>
                  <a:lnTo>
                    <a:pt x="317" y="0"/>
                  </a:lnTo>
                  <a:close/>
                </a:path>
              </a:pathLst>
            </a:custGeom>
            <a:solidFill>
              <a:srgbClr val="fc0128"/>
            </a:solid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6711840" y="4343400"/>
              <a:ext cx="167040" cy="201960"/>
            </a:xfrm>
            <a:custGeom>
              <a:avLst/>
              <a:gdLst/>
              <a:ahLst/>
              <a:rect l="0" t="0" r="r" b="b"/>
              <a:pathLst>
                <a:path w="464" h="561">
                  <a:moveTo>
                    <a:pt x="406" y="0"/>
                  </a:moveTo>
                  <a:lnTo>
                    <a:pt x="229" y="101"/>
                  </a:lnTo>
                  <a:lnTo>
                    <a:pt x="92" y="145"/>
                  </a:lnTo>
                  <a:lnTo>
                    <a:pt x="0" y="287"/>
                  </a:lnTo>
                  <a:lnTo>
                    <a:pt x="48" y="424"/>
                  </a:lnTo>
                  <a:lnTo>
                    <a:pt x="92" y="561"/>
                  </a:lnTo>
                  <a:lnTo>
                    <a:pt x="229" y="561"/>
                  </a:lnTo>
                  <a:lnTo>
                    <a:pt x="322" y="424"/>
                  </a:lnTo>
                  <a:lnTo>
                    <a:pt x="415" y="287"/>
                  </a:lnTo>
                  <a:lnTo>
                    <a:pt x="415" y="145"/>
                  </a:lnTo>
                  <a:lnTo>
                    <a:pt x="464" y="8"/>
                  </a:lnTo>
                  <a:lnTo>
                    <a:pt x="406" y="0"/>
                  </a:lnTo>
                  <a:close/>
                </a:path>
              </a:pathLst>
            </a:cu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3" name=""/>
            <p:cNvSpPr txBox="1"/>
            <p:nvPr/>
          </p:nvSpPr>
          <p:spPr>
            <a:xfrm>
              <a:off x="6613560" y="3946680"/>
              <a:ext cx="1014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Judah</a:t>
              </a:r>
              <a:endParaRPr b="0" lang="en-US" sz="2400" spc="-1" strike="noStrike">
                <a:solidFill>
                  <a:srgbClr val="000000"/>
                </a:solidFill>
                <a:latin typeface="Arial"/>
              </a:endParaRPr>
            </a:p>
          </p:txBody>
        </p:sp>
        <p:sp>
          <p:nvSpPr>
            <p:cNvPr id="604" name=""/>
            <p:cNvSpPr txBox="1"/>
            <p:nvPr/>
          </p:nvSpPr>
          <p:spPr>
            <a:xfrm>
              <a:off x="2546280" y="652608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5" name=""/>
          <p:cNvSpPr txBox="1"/>
          <p:nvPr/>
        </p:nvSpPr>
        <p:spPr>
          <a:xfrm>
            <a:off x="5715000" y="1685880"/>
            <a:ext cx="3352680" cy="4181400"/>
          </a:xfrm>
          <a:prstGeom prst="rect">
            <a:avLst/>
          </a:prstGeom>
          <a:noFill/>
          <a:ln w="0">
            <a:noFill/>
          </a:ln>
        </p:spPr>
        <p:txBody>
          <a:bodyPr lIns="0" rIns="0" tIns="0" bIns="0" anchor="t">
            <a:noAutofit/>
          </a:bodyPr>
          <a:p>
            <a:pPr marL="343080" indent="-343080">
              <a:lnSpc>
                <a:spcPct val="100000"/>
              </a:lnSpc>
              <a:spcBef>
                <a:spcPts val="479"/>
              </a:spcBef>
              <a:buClr>
                <a:srgbClr val="7b00e4"/>
              </a:buClr>
              <a:buSzPct val="75000"/>
              <a:buFont typeface="Monotype Sorts"/>
              <a:buChar char=""/>
            </a:pPr>
            <a:r>
              <a:rPr b="1" lang="en-US" sz="4400" spc="-1" strike="noStrike">
                <a:solidFill>
                  <a:srgbClr val="fafd00"/>
                </a:solidFill>
                <a:latin typeface="Book Antiqua"/>
                <a:ea typeface="Book Antiqua"/>
              </a:rPr>
              <a:t> </a:t>
            </a:r>
            <a:r>
              <a:rPr b="1" lang="en-US" sz="4400" spc="-1" strike="noStrike">
                <a:solidFill>
                  <a:srgbClr val="fafd00"/>
                </a:solidFill>
                <a:latin typeface="Book Antiqua"/>
                <a:ea typeface="Book Antiqua"/>
              </a:rPr>
              <a:t>Israel in the New Testament</a:t>
            </a:r>
            <a:endParaRPr b="0" lang="en-US" sz="4400" spc="-1" strike="noStrike">
              <a:solidFill>
                <a:srgbClr val="000000"/>
              </a:solidFill>
              <a:latin typeface="Arial"/>
            </a:endParaRPr>
          </a:p>
        </p:txBody>
      </p:sp>
      <p:grpSp>
        <p:nvGrpSpPr>
          <p:cNvPr id="606" name=""/>
          <p:cNvGrpSpPr/>
          <p:nvPr/>
        </p:nvGrpSpPr>
        <p:grpSpPr>
          <a:xfrm>
            <a:off x="-380880" y="0"/>
            <a:ext cx="6157800" cy="6858000"/>
            <a:chOff x="-380880" y="0"/>
            <a:chExt cx="6157800" cy="6858000"/>
          </a:xfrm>
        </p:grpSpPr>
        <p:pic>
          <p:nvPicPr>
            <p:cNvPr id="607" name="" descr=""/>
            <p:cNvPicPr/>
            <p:nvPr/>
          </p:nvPicPr>
          <p:blipFill>
            <a:blip r:embed="rId1"/>
            <a:stretch/>
          </p:blipFill>
          <p:spPr>
            <a:xfrm>
              <a:off x="384120" y="0"/>
              <a:ext cx="5362560" cy="6835680"/>
            </a:xfrm>
            <a:prstGeom prst="rect">
              <a:avLst/>
            </a:prstGeom>
            <a:ln w="0">
              <a:noFill/>
            </a:ln>
          </p:spPr>
        </p:pic>
        <p:sp>
          <p:nvSpPr>
            <p:cNvPr id="608" name=""/>
            <p:cNvSpPr/>
            <p:nvPr/>
          </p:nvSpPr>
          <p:spPr>
            <a:xfrm>
              <a:off x="3841920" y="838080"/>
              <a:ext cx="305280" cy="228960"/>
            </a:xfrm>
            <a:custGeom>
              <a:avLst/>
              <a:gdLst/>
              <a:ahLst/>
              <a:rect l="0" t="0" r="r" b="b"/>
              <a:pathLst>
                <a:path w="848" h="636">
                  <a:moveTo>
                    <a:pt x="424" y="0"/>
                  </a:moveTo>
                  <a:lnTo>
                    <a:pt x="325" y="243"/>
                  </a:lnTo>
                  <a:lnTo>
                    <a:pt x="0" y="243"/>
                  </a:lnTo>
                  <a:lnTo>
                    <a:pt x="264" y="394"/>
                  </a:lnTo>
                  <a:lnTo>
                    <a:pt x="164" y="636"/>
                  </a:lnTo>
                  <a:lnTo>
                    <a:pt x="424" y="496"/>
                  </a:lnTo>
                  <a:lnTo>
                    <a:pt x="684" y="636"/>
                  </a:lnTo>
                  <a:lnTo>
                    <a:pt x="583" y="394"/>
                  </a:lnTo>
                  <a:lnTo>
                    <a:pt x="848" y="242"/>
                  </a:lnTo>
                  <a:lnTo>
                    <a:pt x="523" y="242"/>
                  </a:lnTo>
                  <a:lnTo>
                    <a:pt x="424"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3162240" y="5321160"/>
              <a:ext cx="305280" cy="228960"/>
            </a:xfrm>
            <a:custGeom>
              <a:avLst/>
              <a:gdLst/>
              <a:ahLst/>
              <a:rect l="0" t="0" r="r" b="b"/>
              <a:pathLst>
                <a:path w="848" h="636">
                  <a:moveTo>
                    <a:pt x="424" y="0"/>
                  </a:moveTo>
                  <a:lnTo>
                    <a:pt x="325" y="243"/>
                  </a:lnTo>
                  <a:lnTo>
                    <a:pt x="0" y="243"/>
                  </a:lnTo>
                  <a:lnTo>
                    <a:pt x="264" y="394"/>
                  </a:lnTo>
                  <a:lnTo>
                    <a:pt x="164" y="636"/>
                  </a:lnTo>
                  <a:lnTo>
                    <a:pt x="424" y="496"/>
                  </a:lnTo>
                  <a:lnTo>
                    <a:pt x="684" y="636"/>
                  </a:lnTo>
                  <a:lnTo>
                    <a:pt x="583" y="394"/>
                  </a:lnTo>
                  <a:lnTo>
                    <a:pt x="848" y="242"/>
                  </a:lnTo>
                  <a:lnTo>
                    <a:pt x="523" y="242"/>
                  </a:lnTo>
                  <a:lnTo>
                    <a:pt x="424"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1600200" y="5299200"/>
              <a:ext cx="305280" cy="228960"/>
            </a:xfrm>
            <a:custGeom>
              <a:avLst/>
              <a:gdLst/>
              <a:ahLst/>
              <a:rect l="0" t="0" r="r" b="b"/>
              <a:pathLst>
                <a:path w="848" h="636">
                  <a:moveTo>
                    <a:pt x="424" y="0"/>
                  </a:moveTo>
                  <a:lnTo>
                    <a:pt x="325" y="243"/>
                  </a:lnTo>
                  <a:lnTo>
                    <a:pt x="0" y="243"/>
                  </a:lnTo>
                  <a:lnTo>
                    <a:pt x="264" y="394"/>
                  </a:lnTo>
                  <a:lnTo>
                    <a:pt x="164" y="636"/>
                  </a:lnTo>
                  <a:lnTo>
                    <a:pt x="424" y="496"/>
                  </a:lnTo>
                  <a:lnTo>
                    <a:pt x="684" y="636"/>
                  </a:lnTo>
                  <a:lnTo>
                    <a:pt x="583" y="394"/>
                  </a:lnTo>
                  <a:lnTo>
                    <a:pt x="848" y="242"/>
                  </a:lnTo>
                  <a:lnTo>
                    <a:pt x="523" y="242"/>
                  </a:lnTo>
                  <a:lnTo>
                    <a:pt x="424"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3087720" y="4378320"/>
              <a:ext cx="305280" cy="228960"/>
            </a:xfrm>
            <a:custGeom>
              <a:avLst/>
              <a:gdLst/>
              <a:ahLst/>
              <a:rect l="0" t="0" r="r" b="b"/>
              <a:pathLst>
                <a:path w="848" h="636">
                  <a:moveTo>
                    <a:pt x="424" y="0"/>
                  </a:moveTo>
                  <a:lnTo>
                    <a:pt x="325" y="243"/>
                  </a:lnTo>
                  <a:lnTo>
                    <a:pt x="0" y="243"/>
                  </a:lnTo>
                  <a:lnTo>
                    <a:pt x="264" y="394"/>
                  </a:lnTo>
                  <a:lnTo>
                    <a:pt x="164" y="636"/>
                  </a:lnTo>
                  <a:lnTo>
                    <a:pt x="424" y="496"/>
                  </a:lnTo>
                  <a:lnTo>
                    <a:pt x="684" y="636"/>
                  </a:lnTo>
                  <a:lnTo>
                    <a:pt x="583" y="394"/>
                  </a:lnTo>
                  <a:lnTo>
                    <a:pt x="848" y="242"/>
                  </a:lnTo>
                  <a:lnTo>
                    <a:pt x="523" y="242"/>
                  </a:lnTo>
                  <a:lnTo>
                    <a:pt x="424"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3689280" y="4029120"/>
              <a:ext cx="305280" cy="228960"/>
            </a:xfrm>
            <a:custGeom>
              <a:avLst/>
              <a:gdLst/>
              <a:ahLst/>
              <a:rect l="0" t="0" r="r" b="b"/>
              <a:pathLst>
                <a:path w="848" h="636">
                  <a:moveTo>
                    <a:pt x="424" y="0"/>
                  </a:moveTo>
                  <a:lnTo>
                    <a:pt x="325" y="243"/>
                  </a:lnTo>
                  <a:lnTo>
                    <a:pt x="0" y="243"/>
                  </a:lnTo>
                  <a:lnTo>
                    <a:pt x="264" y="394"/>
                  </a:lnTo>
                  <a:lnTo>
                    <a:pt x="164" y="636"/>
                  </a:lnTo>
                  <a:lnTo>
                    <a:pt x="424" y="496"/>
                  </a:lnTo>
                  <a:lnTo>
                    <a:pt x="684" y="636"/>
                  </a:lnTo>
                  <a:lnTo>
                    <a:pt x="583" y="394"/>
                  </a:lnTo>
                  <a:lnTo>
                    <a:pt x="848" y="242"/>
                  </a:lnTo>
                  <a:lnTo>
                    <a:pt x="523" y="242"/>
                  </a:lnTo>
                  <a:lnTo>
                    <a:pt x="424"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1847880" y="3697200"/>
              <a:ext cx="305280" cy="228960"/>
            </a:xfrm>
            <a:custGeom>
              <a:avLst/>
              <a:gdLst/>
              <a:ahLst/>
              <a:rect l="0" t="0" r="r" b="b"/>
              <a:pathLst>
                <a:path w="848" h="636">
                  <a:moveTo>
                    <a:pt x="424" y="0"/>
                  </a:moveTo>
                  <a:lnTo>
                    <a:pt x="325" y="243"/>
                  </a:lnTo>
                  <a:lnTo>
                    <a:pt x="0" y="243"/>
                  </a:lnTo>
                  <a:lnTo>
                    <a:pt x="264" y="394"/>
                  </a:lnTo>
                  <a:lnTo>
                    <a:pt x="164" y="636"/>
                  </a:lnTo>
                  <a:lnTo>
                    <a:pt x="424" y="496"/>
                  </a:lnTo>
                  <a:lnTo>
                    <a:pt x="684" y="636"/>
                  </a:lnTo>
                  <a:lnTo>
                    <a:pt x="583" y="394"/>
                  </a:lnTo>
                  <a:lnTo>
                    <a:pt x="848" y="242"/>
                  </a:lnTo>
                  <a:lnTo>
                    <a:pt x="523" y="242"/>
                  </a:lnTo>
                  <a:lnTo>
                    <a:pt x="424"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3249720" y="2862360"/>
              <a:ext cx="305280" cy="228960"/>
            </a:xfrm>
            <a:custGeom>
              <a:avLst/>
              <a:gdLst/>
              <a:ahLst/>
              <a:rect l="0" t="0" r="r" b="b"/>
              <a:pathLst>
                <a:path w="848" h="636">
                  <a:moveTo>
                    <a:pt x="424" y="0"/>
                  </a:moveTo>
                  <a:lnTo>
                    <a:pt x="325" y="243"/>
                  </a:lnTo>
                  <a:lnTo>
                    <a:pt x="0" y="243"/>
                  </a:lnTo>
                  <a:lnTo>
                    <a:pt x="264" y="394"/>
                  </a:lnTo>
                  <a:lnTo>
                    <a:pt x="164" y="636"/>
                  </a:lnTo>
                  <a:lnTo>
                    <a:pt x="424" y="496"/>
                  </a:lnTo>
                  <a:lnTo>
                    <a:pt x="684" y="636"/>
                  </a:lnTo>
                  <a:lnTo>
                    <a:pt x="583" y="394"/>
                  </a:lnTo>
                  <a:lnTo>
                    <a:pt x="848" y="242"/>
                  </a:lnTo>
                  <a:lnTo>
                    <a:pt x="523" y="242"/>
                  </a:lnTo>
                  <a:lnTo>
                    <a:pt x="424"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1943280" y="2184480"/>
              <a:ext cx="305280" cy="228960"/>
            </a:xfrm>
            <a:custGeom>
              <a:avLst/>
              <a:gdLst/>
              <a:ahLst/>
              <a:rect l="0" t="0" r="r" b="b"/>
              <a:pathLst>
                <a:path w="848" h="636">
                  <a:moveTo>
                    <a:pt x="424" y="0"/>
                  </a:moveTo>
                  <a:lnTo>
                    <a:pt x="325" y="243"/>
                  </a:lnTo>
                  <a:lnTo>
                    <a:pt x="0" y="243"/>
                  </a:lnTo>
                  <a:lnTo>
                    <a:pt x="264" y="394"/>
                  </a:lnTo>
                  <a:lnTo>
                    <a:pt x="164" y="636"/>
                  </a:lnTo>
                  <a:lnTo>
                    <a:pt x="424" y="496"/>
                  </a:lnTo>
                  <a:lnTo>
                    <a:pt x="684" y="636"/>
                  </a:lnTo>
                  <a:lnTo>
                    <a:pt x="583" y="394"/>
                  </a:lnTo>
                  <a:lnTo>
                    <a:pt x="848" y="242"/>
                  </a:lnTo>
                  <a:lnTo>
                    <a:pt x="523" y="242"/>
                  </a:lnTo>
                  <a:lnTo>
                    <a:pt x="424"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3328920" y="1643040"/>
              <a:ext cx="305280" cy="228960"/>
            </a:xfrm>
            <a:custGeom>
              <a:avLst/>
              <a:gdLst/>
              <a:ahLst/>
              <a:rect l="0" t="0" r="r" b="b"/>
              <a:pathLst>
                <a:path w="848" h="636">
                  <a:moveTo>
                    <a:pt x="424" y="0"/>
                  </a:moveTo>
                  <a:lnTo>
                    <a:pt x="325" y="243"/>
                  </a:lnTo>
                  <a:lnTo>
                    <a:pt x="0" y="243"/>
                  </a:lnTo>
                  <a:lnTo>
                    <a:pt x="264" y="394"/>
                  </a:lnTo>
                  <a:lnTo>
                    <a:pt x="164" y="636"/>
                  </a:lnTo>
                  <a:lnTo>
                    <a:pt x="424" y="496"/>
                  </a:lnTo>
                  <a:lnTo>
                    <a:pt x="684" y="636"/>
                  </a:lnTo>
                  <a:lnTo>
                    <a:pt x="583" y="394"/>
                  </a:lnTo>
                  <a:lnTo>
                    <a:pt x="848" y="242"/>
                  </a:lnTo>
                  <a:lnTo>
                    <a:pt x="523" y="242"/>
                  </a:lnTo>
                  <a:lnTo>
                    <a:pt x="424"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txBox="1"/>
            <p:nvPr/>
          </p:nvSpPr>
          <p:spPr>
            <a:xfrm>
              <a:off x="4089240" y="596880"/>
              <a:ext cx="1436760" cy="457200"/>
            </a:xfrm>
            <a:prstGeom prst="rect">
              <a:avLst/>
            </a:prstGeom>
            <a:noFill/>
            <a:ln w="0">
              <a:noFill/>
            </a:ln>
          </p:spPr>
          <p:txBody>
            <a:bodyPr lIns="0" rIns="0" tIns="0" bIns="0" anchor="t">
              <a:noAutofit/>
            </a:bodyPr>
            <a:p>
              <a:pPr>
                <a:lnSpc>
                  <a:spcPct val="100000"/>
                </a:lnSpc>
              </a:pPr>
              <a:r>
                <a:rPr b="1" i="1" lang="en-US" sz="2400" spc="-1" strike="noStrike">
                  <a:solidFill>
                    <a:srgbClr val="ffffff"/>
                  </a:solidFill>
                  <a:latin typeface="Times New Roman"/>
                  <a:ea typeface="Times New Roman"/>
                </a:rPr>
                <a:t>Bethsaida</a:t>
              </a:r>
              <a:endParaRPr b="0" lang="en-US" sz="2400" spc="-1" strike="noStrike">
                <a:solidFill>
                  <a:srgbClr val="000000"/>
                </a:solidFill>
                <a:latin typeface="Arial"/>
              </a:endParaRPr>
            </a:p>
          </p:txBody>
        </p:sp>
        <p:sp>
          <p:nvSpPr>
            <p:cNvPr id="618" name=""/>
            <p:cNvSpPr txBox="1"/>
            <p:nvPr/>
          </p:nvSpPr>
          <p:spPr>
            <a:xfrm>
              <a:off x="2409840" y="1255680"/>
              <a:ext cx="1335240" cy="457200"/>
            </a:xfrm>
            <a:prstGeom prst="rect">
              <a:avLst/>
            </a:prstGeom>
            <a:noFill/>
            <a:ln w="0">
              <a:noFill/>
            </a:ln>
          </p:spPr>
          <p:txBody>
            <a:bodyPr lIns="0" rIns="0" tIns="0" bIns="0" anchor="t">
              <a:noAutofit/>
            </a:bodyPr>
            <a:p>
              <a:pPr>
                <a:lnSpc>
                  <a:spcPct val="100000"/>
                </a:lnSpc>
              </a:pPr>
              <a:r>
                <a:rPr b="1" i="1" lang="en-US" sz="2400" spc="-1" strike="noStrike">
                  <a:solidFill>
                    <a:srgbClr val="ffffff"/>
                  </a:solidFill>
                  <a:latin typeface="Times New Roman"/>
                  <a:ea typeface="Times New Roman"/>
                </a:rPr>
                <a:t>Nazareth</a:t>
              </a:r>
              <a:endParaRPr b="0" lang="en-US" sz="2400" spc="-1" strike="noStrike">
                <a:solidFill>
                  <a:srgbClr val="000000"/>
                </a:solidFill>
                <a:latin typeface="Arial"/>
              </a:endParaRPr>
            </a:p>
          </p:txBody>
        </p:sp>
        <p:sp>
          <p:nvSpPr>
            <p:cNvPr id="619" name=""/>
            <p:cNvSpPr txBox="1"/>
            <p:nvPr/>
          </p:nvSpPr>
          <p:spPr>
            <a:xfrm>
              <a:off x="2098800" y="1859040"/>
              <a:ext cx="1352520" cy="457200"/>
            </a:xfrm>
            <a:prstGeom prst="rect">
              <a:avLst/>
            </a:prstGeom>
            <a:noFill/>
            <a:ln w="0">
              <a:noFill/>
            </a:ln>
          </p:spPr>
          <p:txBody>
            <a:bodyPr lIns="0" rIns="0" tIns="0" bIns="0" anchor="t">
              <a:noAutofit/>
            </a:bodyPr>
            <a:p>
              <a:pPr>
                <a:lnSpc>
                  <a:spcPct val="100000"/>
                </a:lnSpc>
              </a:pPr>
              <a:r>
                <a:rPr b="1" i="1" lang="en-US" sz="2400" spc="-1" strike="noStrike">
                  <a:solidFill>
                    <a:srgbClr val="ffffff"/>
                  </a:solidFill>
                  <a:latin typeface="Times New Roman"/>
                  <a:ea typeface="Times New Roman"/>
                </a:rPr>
                <a:t>Caesarea</a:t>
              </a:r>
              <a:endParaRPr b="0" lang="en-US" sz="2400" spc="-1" strike="noStrike">
                <a:solidFill>
                  <a:srgbClr val="000000"/>
                </a:solidFill>
                <a:latin typeface="Arial"/>
              </a:endParaRPr>
            </a:p>
          </p:txBody>
        </p:sp>
        <p:sp>
          <p:nvSpPr>
            <p:cNvPr id="620" name=""/>
            <p:cNvSpPr txBox="1"/>
            <p:nvPr/>
          </p:nvSpPr>
          <p:spPr>
            <a:xfrm>
              <a:off x="2773440" y="2536920"/>
              <a:ext cx="1251000" cy="457200"/>
            </a:xfrm>
            <a:prstGeom prst="rect">
              <a:avLst/>
            </a:prstGeom>
            <a:noFill/>
            <a:ln w="0">
              <a:noFill/>
            </a:ln>
          </p:spPr>
          <p:txBody>
            <a:bodyPr lIns="0" rIns="0" tIns="0" bIns="0" anchor="t">
              <a:noAutofit/>
            </a:bodyPr>
            <a:p>
              <a:pPr>
                <a:lnSpc>
                  <a:spcPct val="100000"/>
                </a:lnSpc>
              </a:pPr>
              <a:r>
                <a:rPr b="1" i="1" lang="en-US" sz="2400" spc="-1" strike="noStrike">
                  <a:solidFill>
                    <a:srgbClr val="ffffff"/>
                  </a:solidFill>
                  <a:latin typeface="Times New Roman"/>
                  <a:ea typeface="Times New Roman"/>
                </a:rPr>
                <a:t>Samaria</a:t>
              </a:r>
              <a:endParaRPr b="0" lang="en-US" sz="2400" spc="-1" strike="noStrike">
                <a:solidFill>
                  <a:srgbClr val="000000"/>
                </a:solidFill>
                <a:latin typeface="Arial"/>
              </a:endParaRPr>
            </a:p>
          </p:txBody>
        </p:sp>
        <p:sp>
          <p:nvSpPr>
            <p:cNvPr id="621" name=""/>
            <p:cNvSpPr txBox="1"/>
            <p:nvPr/>
          </p:nvSpPr>
          <p:spPr>
            <a:xfrm>
              <a:off x="1976400" y="3333600"/>
              <a:ext cx="946080" cy="457200"/>
            </a:xfrm>
            <a:prstGeom prst="rect">
              <a:avLst/>
            </a:prstGeom>
            <a:noFill/>
            <a:ln w="0">
              <a:noFill/>
            </a:ln>
          </p:spPr>
          <p:txBody>
            <a:bodyPr lIns="0" rIns="0" tIns="0" bIns="0" anchor="t">
              <a:noAutofit/>
            </a:bodyPr>
            <a:p>
              <a:pPr>
                <a:lnSpc>
                  <a:spcPct val="100000"/>
                </a:lnSpc>
              </a:pPr>
              <a:r>
                <a:rPr b="1" i="1" lang="en-US" sz="2400" spc="-1" strike="noStrike">
                  <a:solidFill>
                    <a:srgbClr val="ffffff"/>
                  </a:solidFill>
                  <a:latin typeface="Times New Roman"/>
                  <a:ea typeface="Times New Roman"/>
                </a:rPr>
                <a:t>Joppa</a:t>
              </a:r>
              <a:endParaRPr b="0" lang="en-US" sz="2400" spc="-1" strike="noStrike">
                <a:solidFill>
                  <a:srgbClr val="000000"/>
                </a:solidFill>
                <a:latin typeface="Arial"/>
              </a:endParaRPr>
            </a:p>
          </p:txBody>
        </p:sp>
        <p:sp>
          <p:nvSpPr>
            <p:cNvPr id="622" name=""/>
            <p:cNvSpPr txBox="1"/>
            <p:nvPr/>
          </p:nvSpPr>
          <p:spPr>
            <a:xfrm>
              <a:off x="3154320" y="3697200"/>
              <a:ext cx="1131840" cy="457200"/>
            </a:xfrm>
            <a:prstGeom prst="rect">
              <a:avLst/>
            </a:prstGeom>
            <a:noFill/>
            <a:ln w="0">
              <a:noFill/>
            </a:ln>
          </p:spPr>
          <p:txBody>
            <a:bodyPr lIns="0" rIns="0" tIns="0" bIns="0" anchor="t">
              <a:noAutofit/>
            </a:bodyPr>
            <a:p>
              <a:pPr>
                <a:lnSpc>
                  <a:spcPct val="100000"/>
                </a:lnSpc>
              </a:pPr>
              <a:r>
                <a:rPr b="1" i="1" lang="en-US" sz="2400" spc="-1" strike="noStrike">
                  <a:solidFill>
                    <a:srgbClr val="ffffff"/>
                  </a:solidFill>
                  <a:latin typeface="Times New Roman"/>
                  <a:ea typeface="Times New Roman"/>
                </a:rPr>
                <a:t>Jericho</a:t>
              </a:r>
              <a:endParaRPr b="0" lang="en-US" sz="2400" spc="-1" strike="noStrike">
                <a:solidFill>
                  <a:srgbClr val="000000"/>
                </a:solidFill>
                <a:latin typeface="Arial"/>
              </a:endParaRPr>
            </a:p>
          </p:txBody>
        </p:sp>
        <p:sp>
          <p:nvSpPr>
            <p:cNvPr id="623" name=""/>
            <p:cNvSpPr txBox="1"/>
            <p:nvPr/>
          </p:nvSpPr>
          <p:spPr>
            <a:xfrm>
              <a:off x="2116080" y="4032360"/>
              <a:ext cx="1704960" cy="519120"/>
            </a:xfrm>
            <a:prstGeom prst="rect">
              <a:avLst/>
            </a:prstGeom>
            <a:noFill/>
            <a:ln w="0">
              <a:noFill/>
            </a:ln>
          </p:spPr>
          <p:txBody>
            <a:bodyPr lIns="0" rIns="0" tIns="0" bIns="0" anchor="t">
              <a:noAutofit/>
            </a:bodyPr>
            <a:p>
              <a:pPr>
                <a:lnSpc>
                  <a:spcPct val="100000"/>
                </a:lnSpc>
              </a:pPr>
              <a:r>
                <a:rPr b="1" i="1" lang="en-US" sz="2800" spc="-1" strike="noStrike">
                  <a:solidFill>
                    <a:srgbClr val="ffffff"/>
                  </a:solidFill>
                  <a:latin typeface="Times New Roman"/>
                  <a:ea typeface="Times New Roman"/>
                </a:rPr>
                <a:t>Jerusalem</a:t>
              </a:r>
              <a:endParaRPr b="0" lang="en-US" sz="2800" spc="-1" strike="noStrike">
                <a:solidFill>
                  <a:srgbClr val="000000"/>
                </a:solidFill>
                <a:latin typeface="Arial"/>
              </a:endParaRPr>
            </a:p>
          </p:txBody>
        </p:sp>
        <p:sp>
          <p:nvSpPr>
            <p:cNvPr id="624" name=""/>
            <p:cNvSpPr txBox="1"/>
            <p:nvPr/>
          </p:nvSpPr>
          <p:spPr>
            <a:xfrm>
              <a:off x="2598840" y="4944960"/>
              <a:ext cx="1149480" cy="457200"/>
            </a:xfrm>
            <a:prstGeom prst="rect">
              <a:avLst/>
            </a:prstGeom>
            <a:noFill/>
            <a:ln w="0">
              <a:noFill/>
            </a:ln>
          </p:spPr>
          <p:txBody>
            <a:bodyPr lIns="0" rIns="0" tIns="0" bIns="0" anchor="t">
              <a:noAutofit/>
            </a:bodyPr>
            <a:p>
              <a:pPr>
                <a:lnSpc>
                  <a:spcPct val="100000"/>
                </a:lnSpc>
              </a:pPr>
              <a:r>
                <a:rPr b="1" i="1" lang="en-US" sz="2400" spc="-1" strike="noStrike">
                  <a:solidFill>
                    <a:srgbClr val="ffffff"/>
                  </a:solidFill>
                  <a:latin typeface="Times New Roman"/>
                  <a:ea typeface="Times New Roman"/>
                </a:rPr>
                <a:t>Hebron</a:t>
              </a:r>
              <a:endParaRPr b="0" lang="en-US" sz="2400" spc="-1" strike="noStrike">
                <a:solidFill>
                  <a:srgbClr val="000000"/>
                </a:solidFill>
                <a:latin typeface="Arial"/>
              </a:endParaRPr>
            </a:p>
          </p:txBody>
        </p:sp>
        <p:sp>
          <p:nvSpPr>
            <p:cNvPr id="625" name=""/>
            <p:cNvSpPr txBox="1"/>
            <p:nvPr/>
          </p:nvSpPr>
          <p:spPr>
            <a:xfrm>
              <a:off x="1784520" y="5256360"/>
              <a:ext cx="912960" cy="457200"/>
            </a:xfrm>
            <a:prstGeom prst="rect">
              <a:avLst/>
            </a:prstGeom>
            <a:noFill/>
            <a:ln w="0">
              <a:noFill/>
            </a:ln>
          </p:spPr>
          <p:txBody>
            <a:bodyPr lIns="0" rIns="0" tIns="0" bIns="0" anchor="t">
              <a:noAutofit/>
            </a:bodyPr>
            <a:p>
              <a:pPr>
                <a:lnSpc>
                  <a:spcPct val="100000"/>
                </a:lnSpc>
              </a:pPr>
              <a:r>
                <a:rPr b="1" i="1" lang="en-US" sz="2400" spc="-1" strike="noStrike">
                  <a:solidFill>
                    <a:srgbClr val="ffffff"/>
                  </a:solidFill>
                  <a:latin typeface="Arial"/>
                  <a:ea typeface="Arial"/>
                </a:rPr>
                <a:t>Gaza</a:t>
              </a:r>
              <a:endParaRPr b="0" lang="en-US" sz="2400" spc="-1" strike="noStrike">
                <a:solidFill>
                  <a:srgbClr val="000000"/>
                </a:solidFill>
                <a:latin typeface="Arial"/>
              </a:endParaRPr>
            </a:p>
          </p:txBody>
        </p:sp>
        <p:sp>
          <p:nvSpPr>
            <p:cNvPr id="626" name=""/>
            <p:cNvSpPr txBox="1"/>
            <p:nvPr/>
          </p:nvSpPr>
          <p:spPr>
            <a:xfrm>
              <a:off x="3760920" y="1120680"/>
              <a:ext cx="2016000" cy="426960"/>
            </a:xfrm>
            <a:prstGeom prst="rect">
              <a:avLst/>
            </a:prstGeom>
            <a:noFill/>
            <a:ln w="0">
              <a:noFill/>
            </a:ln>
          </p:spPr>
          <p:txBody>
            <a:bodyPr lIns="0" rIns="0" tIns="0" bIns="0" anchor="t">
              <a:noAutofit/>
            </a:bodyPr>
            <a:p>
              <a:pPr>
                <a:lnSpc>
                  <a:spcPct val="100000"/>
                </a:lnSpc>
              </a:pPr>
              <a:r>
                <a:rPr b="1" lang="en-US" sz="2200" spc="-1" strike="noStrike">
                  <a:solidFill>
                    <a:srgbClr val="ffffff"/>
                  </a:solidFill>
                  <a:latin typeface="Arial"/>
                  <a:ea typeface="Arial"/>
                </a:rPr>
                <a:t>Sea of Galilee</a:t>
              </a:r>
              <a:endParaRPr b="0" lang="en-US" sz="2200" spc="-1" strike="noStrike">
                <a:solidFill>
                  <a:srgbClr val="000000"/>
                </a:solidFill>
                <a:latin typeface="Arial"/>
              </a:endParaRPr>
            </a:p>
          </p:txBody>
        </p:sp>
        <p:sp>
          <p:nvSpPr>
            <p:cNvPr id="627" name=""/>
            <p:cNvSpPr txBox="1"/>
            <p:nvPr/>
          </p:nvSpPr>
          <p:spPr>
            <a:xfrm>
              <a:off x="4054320" y="4943520"/>
              <a:ext cx="155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Dead Sea</a:t>
              </a:r>
              <a:endParaRPr b="0" lang="en-US" sz="2400" spc="-1" strike="noStrike">
                <a:solidFill>
                  <a:srgbClr val="000000"/>
                </a:solidFill>
                <a:latin typeface="Arial"/>
              </a:endParaRPr>
            </a:p>
          </p:txBody>
        </p:sp>
        <p:sp>
          <p:nvSpPr>
            <p:cNvPr id="628" name=""/>
            <p:cNvSpPr txBox="1"/>
            <p:nvPr/>
          </p:nvSpPr>
          <p:spPr>
            <a:xfrm>
              <a:off x="3274920" y="2449440"/>
              <a:ext cx="1911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Jordan River</a:t>
              </a:r>
              <a:endParaRPr b="0" lang="en-US" sz="2400" spc="-1" strike="noStrike">
                <a:solidFill>
                  <a:srgbClr val="000000"/>
                </a:solidFill>
                <a:latin typeface="Arial"/>
              </a:endParaRPr>
            </a:p>
          </p:txBody>
        </p:sp>
        <p:sp>
          <p:nvSpPr>
            <p:cNvPr id="629" name=""/>
            <p:cNvSpPr txBox="1"/>
            <p:nvPr/>
          </p:nvSpPr>
          <p:spPr>
            <a:xfrm>
              <a:off x="-380880" y="2570040"/>
              <a:ext cx="3309840" cy="641520"/>
            </a:xfrm>
            <a:prstGeom prst="rect">
              <a:avLst/>
            </a:prstGeom>
            <a:noFill/>
            <a:ln w="0">
              <a:noFill/>
            </a:ln>
          </p:spPr>
          <p:txBody>
            <a:bodyPr lIns="0" rIns="0" tIns="0" bIns="0" anchor="t">
              <a:noAutofit/>
            </a:bodyPr>
            <a:p>
              <a:pPr>
                <a:lnSpc>
                  <a:spcPct val="100000"/>
                </a:lnSpc>
              </a:pPr>
              <a:r>
                <a:rPr b="1" i="1" lang="en-US" sz="3600" spc="-1" strike="noStrike">
                  <a:solidFill>
                    <a:srgbClr val="ffffff"/>
                  </a:solidFill>
                  <a:latin typeface="Arial"/>
                  <a:ea typeface="Arial"/>
                </a:rPr>
                <a:t>Mediterranean</a:t>
              </a:r>
              <a:endParaRPr b="0" lang="en-US" sz="3600" spc="-1" strike="noStrike">
                <a:solidFill>
                  <a:srgbClr val="000000"/>
                </a:solidFill>
                <a:latin typeface="Arial"/>
              </a:endParaRPr>
            </a:p>
          </p:txBody>
        </p:sp>
        <p:sp>
          <p:nvSpPr>
            <p:cNvPr id="630" name=""/>
            <p:cNvSpPr txBox="1"/>
            <p:nvPr/>
          </p:nvSpPr>
          <p:spPr>
            <a:xfrm>
              <a:off x="4228920" y="6521400"/>
              <a:ext cx="15159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NASA PHOTO</a:t>
              </a:r>
              <a:endParaRPr b="0" lang="en-US" sz="1600" spc="-1" strike="noStrike">
                <a:solidFill>
                  <a:srgbClr val="000000"/>
                </a:solidFill>
                <a:latin typeface="Arial"/>
              </a:endParaRPr>
            </a:p>
          </p:txBody>
        </p:sp>
        <p:sp>
          <p:nvSpPr>
            <p:cNvPr id="631" name=""/>
            <p:cNvSpPr txBox="1"/>
            <p:nvPr/>
          </p:nvSpPr>
          <p:spPr>
            <a:xfrm>
              <a:off x="506520" y="6613560"/>
              <a:ext cx="239400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EBibleTeacher.com</a:t>
              </a:r>
              <a:endParaRPr b="0" lang="en-US" sz="1000" spc="-1" strike="noStrike">
                <a:solidFill>
                  <a:srgbClr val="000000"/>
                </a:solidFill>
                <a:latin typeface="Arial"/>
              </a:endParaRPr>
            </a:p>
          </p:txBody>
        </p:sp>
        <p:sp>
          <p:nvSpPr>
            <p:cNvPr id="632" name=""/>
            <p:cNvSpPr txBox="1"/>
            <p:nvPr/>
          </p:nvSpPr>
          <p:spPr>
            <a:xfrm>
              <a:off x="3994200" y="0"/>
              <a:ext cx="1352520" cy="676440"/>
            </a:xfrm>
            <a:prstGeom prst="rect">
              <a:avLst/>
            </a:prstGeom>
            <a:noFill/>
            <a:ln w="0">
              <a:noFill/>
            </a:ln>
          </p:spPr>
          <p:txBody>
            <a:bodyPr lIns="0" rIns="0" tIns="0" bIns="0" anchor="t">
              <a:noAutofit/>
            </a:bodyPr>
            <a:p>
              <a:pPr>
                <a:lnSpc>
                  <a:spcPct val="80000"/>
                </a:lnSpc>
              </a:pPr>
              <a:r>
                <a:rPr b="1" i="1" lang="en-US" sz="2400" spc="-1" strike="noStrike">
                  <a:solidFill>
                    <a:srgbClr val="ffffff"/>
                  </a:solidFill>
                  <a:latin typeface="Times New Roman"/>
                  <a:ea typeface="Times New Roman"/>
                </a:rPr>
                <a:t>Caesarea</a:t>
              </a:r>
              <a:endParaRPr b="0" lang="en-US" sz="2400" spc="-1" strike="noStrike">
                <a:solidFill>
                  <a:srgbClr val="000000"/>
                </a:solidFill>
                <a:latin typeface="Arial"/>
              </a:endParaRPr>
            </a:p>
            <a:p>
              <a:pPr>
                <a:lnSpc>
                  <a:spcPct val="80000"/>
                </a:lnSpc>
              </a:pPr>
              <a:r>
                <a:rPr b="1" i="1" lang="en-US" sz="2400" spc="-1" strike="noStrike">
                  <a:solidFill>
                    <a:srgbClr val="ffffff"/>
                  </a:solidFill>
                  <a:latin typeface="Times New Roman"/>
                  <a:ea typeface="Times New Roman"/>
                </a:rPr>
                <a:t>Philippi</a:t>
              </a:r>
              <a:endParaRPr b="0" lang="en-US" sz="2400" spc="-1" strike="noStrike">
                <a:solidFill>
                  <a:srgbClr val="000000"/>
                </a:solidFill>
                <a:latin typeface="Arial"/>
              </a:endParaRPr>
            </a:p>
          </p:txBody>
        </p:sp>
        <p:sp>
          <p:nvSpPr>
            <p:cNvPr id="633" name=""/>
            <p:cNvSpPr/>
            <p:nvPr/>
          </p:nvSpPr>
          <p:spPr>
            <a:xfrm>
              <a:off x="3605040" y="844560"/>
              <a:ext cx="305280" cy="228960"/>
            </a:xfrm>
            <a:custGeom>
              <a:avLst/>
              <a:gdLst/>
              <a:ahLst/>
              <a:rect l="0" t="0" r="r" b="b"/>
              <a:pathLst>
                <a:path w="848" h="636">
                  <a:moveTo>
                    <a:pt x="424" y="0"/>
                  </a:moveTo>
                  <a:lnTo>
                    <a:pt x="325" y="243"/>
                  </a:lnTo>
                  <a:lnTo>
                    <a:pt x="0" y="243"/>
                  </a:lnTo>
                  <a:lnTo>
                    <a:pt x="264" y="394"/>
                  </a:lnTo>
                  <a:lnTo>
                    <a:pt x="164" y="636"/>
                  </a:lnTo>
                  <a:lnTo>
                    <a:pt x="424" y="496"/>
                  </a:lnTo>
                  <a:lnTo>
                    <a:pt x="684" y="636"/>
                  </a:lnTo>
                  <a:lnTo>
                    <a:pt x="583" y="394"/>
                  </a:lnTo>
                  <a:lnTo>
                    <a:pt x="848" y="242"/>
                  </a:lnTo>
                  <a:lnTo>
                    <a:pt x="523" y="242"/>
                  </a:lnTo>
                  <a:lnTo>
                    <a:pt x="424"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2487600" y="0"/>
              <a:ext cx="305280" cy="228960"/>
            </a:xfrm>
            <a:custGeom>
              <a:avLst/>
              <a:gdLst/>
              <a:ahLst/>
              <a:rect l="0" t="0" r="r" b="b"/>
              <a:pathLst>
                <a:path w="848" h="636">
                  <a:moveTo>
                    <a:pt x="424" y="0"/>
                  </a:moveTo>
                  <a:lnTo>
                    <a:pt x="325" y="243"/>
                  </a:lnTo>
                  <a:lnTo>
                    <a:pt x="0" y="243"/>
                  </a:lnTo>
                  <a:lnTo>
                    <a:pt x="264" y="394"/>
                  </a:lnTo>
                  <a:lnTo>
                    <a:pt x="164" y="636"/>
                  </a:lnTo>
                  <a:lnTo>
                    <a:pt x="424" y="496"/>
                  </a:lnTo>
                  <a:lnTo>
                    <a:pt x="684" y="636"/>
                  </a:lnTo>
                  <a:lnTo>
                    <a:pt x="583" y="394"/>
                  </a:lnTo>
                  <a:lnTo>
                    <a:pt x="848" y="242"/>
                  </a:lnTo>
                  <a:lnTo>
                    <a:pt x="523" y="242"/>
                  </a:lnTo>
                  <a:lnTo>
                    <a:pt x="424"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txBox="1"/>
            <p:nvPr/>
          </p:nvSpPr>
          <p:spPr>
            <a:xfrm>
              <a:off x="2671920" y="0"/>
              <a:ext cx="912960" cy="457200"/>
            </a:xfrm>
            <a:prstGeom prst="rect">
              <a:avLst/>
            </a:prstGeom>
            <a:noFill/>
            <a:ln w="0">
              <a:noFill/>
            </a:ln>
          </p:spPr>
          <p:txBody>
            <a:bodyPr lIns="0" rIns="0" tIns="0" bIns="0" anchor="t">
              <a:noAutofit/>
            </a:bodyPr>
            <a:p>
              <a:pPr>
                <a:lnSpc>
                  <a:spcPct val="100000"/>
                </a:lnSpc>
              </a:pPr>
              <a:r>
                <a:rPr b="1" i="1" lang="en-US" sz="2400" spc="-1" strike="noStrike">
                  <a:solidFill>
                    <a:srgbClr val="ffffff"/>
                  </a:solidFill>
                  <a:latin typeface="Times New Roman"/>
                  <a:ea typeface="Times New Roman"/>
                </a:rPr>
                <a:t>Sidon</a:t>
              </a:r>
              <a:endParaRPr b="0" lang="en-US" sz="2400" spc="-1" strike="noStrike">
                <a:solidFill>
                  <a:srgbClr val="000000"/>
                </a:solidFill>
                <a:latin typeface="Arial"/>
              </a:endParaRPr>
            </a:p>
          </p:txBody>
        </p:sp>
        <p:sp>
          <p:nvSpPr>
            <p:cNvPr id="636" name=""/>
            <p:cNvSpPr/>
            <p:nvPr/>
          </p:nvSpPr>
          <p:spPr>
            <a:xfrm>
              <a:off x="2298600" y="284040"/>
              <a:ext cx="305280" cy="228960"/>
            </a:xfrm>
            <a:custGeom>
              <a:avLst/>
              <a:gdLst/>
              <a:ahLst/>
              <a:rect l="0" t="0" r="r" b="b"/>
              <a:pathLst>
                <a:path w="848" h="636">
                  <a:moveTo>
                    <a:pt x="424" y="0"/>
                  </a:moveTo>
                  <a:lnTo>
                    <a:pt x="325" y="244"/>
                  </a:lnTo>
                  <a:lnTo>
                    <a:pt x="0" y="244"/>
                  </a:lnTo>
                  <a:lnTo>
                    <a:pt x="264" y="394"/>
                  </a:lnTo>
                  <a:lnTo>
                    <a:pt x="164" y="636"/>
                  </a:lnTo>
                  <a:lnTo>
                    <a:pt x="424" y="497"/>
                  </a:lnTo>
                  <a:lnTo>
                    <a:pt x="684" y="636"/>
                  </a:lnTo>
                  <a:lnTo>
                    <a:pt x="583" y="394"/>
                  </a:lnTo>
                  <a:lnTo>
                    <a:pt x="848" y="243"/>
                  </a:lnTo>
                  <a:lnTo>
                    <a:pt x="523" y="243"/>
                  </a:lnTo>
                  <a:lnTo>
                    <a:pt x="424"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txBox="1"/>
            <p:nvPr/>
          </p:nvSpPr>
          <p:spPr>
            <a:xfrm>
              <a:off x="1574640" y="203040"/>
              <a:ext cx="758880" cy="457200"/>
            </a:xfrm>
            <a:prstGeom prst="rect">
              <a:avLst/>
            </a:prstGeom>
            <a:noFill/>
            <a:ln w="0">
              <a:noFill/>
            </a:ln>
          </p:spPr>
          <p:txBody>
            <a:bodyPr lIns="0" rIns="0" tIns="0" bIns="0" anchor="t">
              <a:noAutofit/>
            </a:bodyPr>
            <a:p>
              <a:pPr>
                <a:lnSpc>
                  <a:spcPct val="100000"/>
                </a:lnSpc>
              </a:pPr>
              <a:r>
                <a:rPr b="1" i="1" lang="en-US" sz="2400" spc="-1" strike="noStrike">
                  <a:solidFill>
                    <a:srgbClr val="ffffff"/>
                  </a:solidFill>
                  <a:latin typeface="Times New Roman"/>
                  <a:ea typeface="Times New Roman"/>
                </a:rPr>
                <a:t>Tyre</a:t>
              </a:r>
              <a:endParaRPr b="0" lang="en-US" sz="2400" spc="-1" strike="noStrike">
                <a:solidFill>
                  <a:srgbClr val="000000"/>
                </a:solidFill>
                <a:latin typeface="Arial"/>
              </a:endParaRPr>
            </a:p>
          </p:txBody>
        </p:sp>
        <p:sp>
          <p:nvSpPr>
            <p:cNvPr id="638" name=""/>
            <p:cNvSpPr/>
            <p:nvPr/>
          </p:nvSpPr>
          <p:spPr>
            <a:xfrm>
              <a:off x="3724200" y="249120"/>
              <a:ext cx="305280" cy="228960"/>
            </a:xfrm>
            <a:custGeom>
              <a:avLst/>
              <a:gdLst/>
              <a:ahLst/>
              <a:rect l="0" t="0" r="r" b="b"/>
              <a:pathLst>
                <a:path w="848" h="636">
                  <a:moveTo>
                    <a:pt x="424" y="0"/>
                  </a:moveTo>
                  <a:lnTo>
                    <a:pt x="325" y="243"/>
                  </a:lnTo>
                  <a:lnTo>
                    <a:pt x="0" y="243"/>
                  </a:lnTo>
                  <a:lnTo>
                    <a:pt x="264" y="394"/>
                  </a:lnTo>
                  <a:lnTo>
                    <a:pt x="164" y="636"/>
                  </a:lnTo>
                  <a:lnTo>
                    <a:pt x="424" y="496"/>
                  </a:lnTo>
                  <a:lnTo>
                    <a:pt x="684" y="636"/>
                  </a:lnTo>
                  <a:lnTo>
                    <a:pt x="583" y="394"/>
                  </a:lnTo>
                  <a:lnTo>
                    <a:pt x="848" y="242"/>
                  </a:lnTo>
                  <a:lnTo>
                    <a:pt x="523" y="242"/>
                  </a:lnTo>
                  <a:lnTo>
                    <a:pt x="424"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txBox="1"/>
            <p:nvPr/>
          </p:nvSpPr>
          <p:spPr>
            <a:xfrm>
              <a:off x="2052720" y="633240"/>
              <a:ext cx="1674720" cy="457200"/>
            </a:xfrm>
            <a:prstGeom prst="rect">
              <a:avLst/>
            </a:prstGeom>
            <a:noFill/>
            <a:ln w="0">
              <a:noFill/>
            </a:ln>
          </p:spPr>
          <p:txBody>
            <a:bodyPr lIns="0" rIns="0" tIns="0" bIns="0" anchor="t">
              <a:noAutofit/>
            </a:bodyPr>
            <a:p>
              <a:pPr>
                <a:lnSpc>
                  <a:spcPct val="100000"/>
                </a:lnSpc>
              </a:pPr>
              <a:r>
                <a:rPr b="1" i="1" lang="en-US" sz="2400" spc="-1" strike="noStrike">
                  <a:solidFill>
                    <a:srgbClr val="ffffff"/>
                  </a:solidFill>
                  <a:latin typeface="Times New Roman"/>
                  <a:ea typeface="Times New Roman"/>
                </a:rPr>
                <a:t>Capernaum</a:t>
              </a:r>
              <a:endParaRPr b="0" lang="en-US" sz="2400" spc="-1" strike="noStrike">
                <a:solidFill>
                  <a:srgbClr val="000000"/>
                </a:solidFill>
                <a:latin typeface="Arial"/>
              </a:endParaRPr>
            </a:p>
          </p:txBody>
        </p:sp>
        <p:sp>
          <p:nvSpPr>
            <p:cNvPr id="640" name=""/>
            <p:cNvSpPr txBox="1"/>
            <p:nvPr/>
          </p:nvSpPr>
          <p:spPr>
            <a:xfrm>
              <a:off x="1247760" y="6064200"/>
              <a:ext cx="4340160" cy="579600"/>
            </a:xfrm>
            <a:prstGeom prst="rect">
              <a:avLst/>
            </a:prstGeom>
            <a:noFill/>
            <a:ln w="0">
              <a:noFill/>
            </a:ln>
          </p:spPr>
          <p:txBody>
            <a:bodyPr lIns="0" rIns="0" tIns="0" bIns="0" anchor="t">
              <a:noAutofit/>
            </a:bodyPr>
            <a:p>
              <a:pPr>
                <a:lnSpc>
                  <a:spcPct val="100000"/>
                </a:lnSpc>
              </a:pPr>
              <a:r>
                <a:rPr b="1" lang="en-US" sz="3200" spc="-1" strike="noStrike" u="sng">
                  <a:solidFill>
                    <a:srgbClr val="fafd00"/>
                  </a:solidFill>
                  <a:uFillTx/>
                  <a:latin typeface="Arial"/>
                  <a:ea typeface="Arial"/>
                </a:rPr>
                <a:t>New Testament Israel</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41" name=""/>
          <p:cNvSpPr txBox="1"/>
          <p:nvPr/>
        </p:nvSpPr>
        <p:spPr>
          <a:xfrm>
            <a:off x="5715000" y="1685880"/>
            <a:ext cx="3352680" cy="4181400"/>
          </a:xfrm>
          <a:prstGeom prst="rect">
            <a:avLst/>
          </a:prstGeom>
          <a:noFill/>
          <a:ln w="0">
            <a:noFill/>
          </a:ln>
        </p:spPr>
        <p:txBody>
          <a:bodyPr lIns="0" rIns="0" tIns="0" bIns="0" anchor="t">
            <a:noAutofit/>
          </a:bodyPr>
          <a:p>
            <a:pPr marL="343080" indent="-343080" algn="ctr">
              <a:lnSpc>
                <a:spcPct val="100000"/>
              </a:lnSpc>
              <a:spcBef>
                <a:spcPts val="479"/>
              </a:spcBef>
            </a:pPr>
            <a:r>
              <a:rPr b="1" lang="en-US" sz="4000" spc="-1" strike="noStrike">
                <a:solidFill>
                  <a:srgbClr val="fafd00"/>
                </a:solidFill>
                <a:latin typeface="Arial Black"/>
                <a:ea typeface="Arial Black"/>
              </a:rPr>
              <a:t>The Childhood of Jesus</a:t>
            </a:r>
            <a:endParaRPr b="0" lang="en-US" sz="4000" spc="-1" strike="noStrike">
              <a:solidFill>
                <a:srgbClr val="000000"/>
              </a:solidFill>
              <a:latin typeface="Arial"/>
            </a:endParaRPr>
          </a:p>
        </p:txBody>
      </p:sp>
      <p:grpSp>
        <p:nvGrpSpPr>
          <p:cNvPr id="642" name=""/>
          <p:cNvGrpSpPr/>
          <p:nvPr/>
        </p:nvGrpSpPr>
        <p:grpSpPr>
          <a:xfrm>
            <a:off x="-380880" y="0"/>
            <a:ext cx="6157800" cy="6858000"/>
            <a:chOff x="-380880" y="0"/>
            <a:chExt cx="6157800" cy="6858000"/>
          </a:xfrm>
        </p:grpSpPr>
        <p:pic>
          <p:nvPicPr>
            <p:cNvPr id="643" name="" descr=""/>
            <p:cNvPicPr/>
            <p:nvPr/>
          </p:nvPicPr>
          <p:blipFill>
            <a:blip r:embed="rId1"/>
            <a:stretch/>
          </p:blipFill>
          <p:spPr>
            <a:xfrm>
              <a:off x="384120" y="0"/>
              <a:ext cx="5362560" cy="6835680"/>
            </a:xfrm>
            <a:prstGeom prst="rect">
              <a:avLst/>
            </a:prstGeom>
            <a:ln w="0">
              <a:noFill/>
            </a:ln>
          </p:spPr>
        </p:pic>
        <p:sp>
          <p:nvSpPr>
            <p:cNvPr id="644" name=""/>
            <p:cNvSpPr/>
            <p:nvPr/>
          </p:nvSpPr>
          <p:spPr>
            <a:xfrm>
              <a:off x="3087720" y="4378320"/>
              <a:ext cx="305280" cy="228960"/>
            </a:xfrm>
            <a:custGeom>
              <a:avLst/>
              <a:gdLst/>
              <a:ahLst/>
              <a:rect l="0" t="0" r="r" b="b"/>
              <a:pathLst>
                <a:path w="848" h="636">
                  <a:moveTo>
                    <a:pt x="424" y="0"/>
                  </a:moveTo>
                  <a:lnTo>
                    <a:pt x="325" y="243"/>
                  </a:lnTo>
                  <a:lnTo>
                    <a:pt x="0" y="243"/>
                  </a:lnTo>
                  <a:lnTo>
                    <a:pt x="264" y="394"/>
                  </a:lnTo>
                  <a:lnTo>
                    <a:pt x="164" y="636"/>
                  </a:lnTo>
                  <a:lnTo>
                    <a:pt x="424" y="496"/>
                  </a:lnTo>
                  <a:lnTo>
                    <a:pt x="684" y="636"/>
                  </a:lnTo>
                  <a:lnTo>
                    <a:pt x="583" y="394"/>
                  </a:lnTo>
                  <a:lnTo>
                    <a:pt x="848" y="242"/>
                  </a:lnTo>
                  <a:lnTo>
                    <a:pt x="523" y="242"/>
                  </a:lnTo>
                  <a:lnTo>
                    <a:pt x="424"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3328920" y="1643040"/>
              <a:ext cx="305280" cy="228960"/>
            </a:xfrm>
            <a:custGeom>
              <a:avLst/>
              <a:gdLst/>
              <a:ahLst/>
              <a:rect l="0" t="0" r="r" b="b"/>
              <a:pathLst>
                <a:path w="848" h="636">
                  <a:moveTo>
                    <a:pt x="424" y="0"/>
                  </a:moveTo>
                  <a:lnTo>
                    <a:pt x="325" y="243"/>
                  </a:lnTo>
                  <a:lnTo>
                    <a:pt x="0" y="243"/>
                  </a:lnTo>
                  <a:lnTo>
                    <a:pt x="264" y="394"/>
                  </a:lnTo>
                  <a:lnTo>
                    <a:pt x="164" y="636"/>
                  </a:lnTo>
                  <a:lnTo>
                    <a:pt x="424" y="496"/>
                  </a:lnTo>
                  <a:lnTo>
                    <a:pt x="684" y="636"/>
                  </a:lnTo>
                  <a:lnTo>
                    <a:pt x="583" y="394"/>
                  </a:lnTo>
                  <a:lnTo>
                    <a:pt x="848" y="242"/>
                  </a:lnTo>
                  <a:lnTo>
                    <a:pt x="523" y="242"/>
                  </a:lnTo>
                  <a:lnTo>
                    <a:pt x="424"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6" name=""/>
            <p:cNvSpPr txBox="1"/>
            <p:nvPr/>
          </p:nvSpPr>
          <p:spPr>
            <a:xfrm>
              <a:off x="2409840" y="1255680"/>
              <a:ext cx="1335240" cy="457200"/>
            </a:xfrm>
            <a:prstGeom prst="rect">
              <a:avLst/>
            </a:prstGeom>
            <a:noFill/>
            <a:ln w="0">
              <a:noFill/>
            </a:ln>
          </p:spPr>
          <p:txBody>
            <a:bodyPr lIns="0" rIns="0" tIns="0" bIns="0" anchor="t">
              <a:noAutofit/>
            </a:bodyPr>
            <a:p>
              <a:pPr>
                <a:lnSpc>
                  <a:spcPct val="100000"/>
                </a:lnSpc>
              </a:pPr>
              <a:r>
                <a:rPr b="1" i="1" lang="en-US" sz="2400" spc="-1" strike="noStrike">
                  <a:solidFill>
                    <a:srgbClr val="ffffff"/>
                  </a:solidFill>
                  <a:latin typeface="Times New Roman"/>
                  <a:ea typeface="Times New Roman"/>
                </a:rPr>
                <a:t>Nazareth</a:t>
              </a:r>
              <a:endParaRPr b="0" lang="en-US" sz="2400" spc="-1" strike="noStrike">
                <a:solidFill>
                  <a:srgbClr val="000000"/>
                </a:solidFill>
                <a:latin typeface="Arial"/>
              </a:endParaRPr>
            </a:p>
          </p:txBody>
        </p:sp>
        <p:sp>
          <p:nvSpPr>
            <p:cNvPr id="647" name=""/>
            <p:cNvSpPr txBox="1"/>
            <p:nvPr/>
          </p:nvSpPr>
          <p:spPr>
            <a:xfrm>
              <a:off x="1401840" y="5737320"/>
              <a:ext cx="912960" cy="457200"/>
            </a:xfrm>
            <a:prstGeom prst="rect">
              <a:avLst/>
            </a:prstGeom>
            <a:noFill/>
            <a:ln w="0">
              <a:noFill/>
            </a:ln>
          </p:spPr>
          <p:txBody>
            <a:bodyPr lIns="0" rIns="0" tIns="0" bIns="0" anchor="t">
              <a:noAutofit/>
            </a:bodyPr>
            <a:p>
              <a:pPr>
                <a:lnSpc>
                  <a:spcPct val="100000"/>
                </a:lnSpc>
              </a:pPr>
              <a:r>
                <a:rPr b="1" i="1" lang="en-US" sz="2400" spc="-1" strike="noStrike">
                  <a:solidFill>
                    <a:srgbClr val="ffffff"/>
                  </a:solidFill>
                  <a:latin typeface="Times New Roman"/>
                  <a:ea typeface="Times New Roman"/>
                </a:rPr>
                <a:t>Egypt</a:t>
              </a:r>
              <a:endParaRPr b="0" lang="en-US" sz="2400" spc="-1" strike="noStrike">
                <a:solidFill>
                  <a:srgbClr val="000000"/>
                </a:solidFill>
                <a:latin typeface="Arial"/>
              </a:endParaRPr>
            </a:p>
          </p:txBody>
        </p:sp>
        <p:sp>
          <p:nvSpPr>
            <p:cNvPr id="648" name=""/>
            <p:cNvSpPr txBox="1"/>
            <p:nvPr/>
          </p:nvSpPr>
          <p:spPr>
            <a:xfrm>
              <a:off x="2116080" y="4032360"/>
              <a:ext cx="1704960" cy="519120"/>
            </a:xfrm>
            <a:prstGeom prst="rect">
              <a:avLst/>
            </a:prstGeom>
            <a:noFill/>
            <a:ln w="0">
              <a:noFill/>
            </a:ln>
          </p:spPr>
          <p:txBody>
            <a:bodyPr lIns="0" rIns="0" tIns="0" bIns="0" anchor="t">
              <a:noAutofit/>
            </a:bodyPr>
            <a:p>
              <a:pPr>
                <a:lnSpc>
                  <a:spcPct val="100000"/>
                </a:lnSpc>
              </a:pPr>
              <a:r>
                <a:rPr b="1" i="1" lang="en-US" sz="2800" spc="-1" strike="noStrike">
                  <a:solidFill>
                    <a:srgbClr val="ffffff"/>
                  </a:solidFill>
                  <a:latin typeface="Times New Roman"/>
                  <a:ea typeface="Times New Roman"/>
                </a:rPr>
                <a:t>Jerusalem</a:t>
              </a:r>
              <a:endParaRPr b="0" lang="en-US" sz="2800" spc="-1" strike="noStrike">
                <a:solidFill>
                  <a:srgbClr val="000000"/>
                </a:solidFill>
                <a:latin typeface="Arial"/>
              </a:endParaRPr>
            </a:p>
          </p:txBody>
        </p:sp>
        <p:sp>
          <p:nvSpPr>
            <p:cNvPr id="649" name=""/>
            <p:cNvSpPr txBox="1"/>
            <p:nvPr/>
          </p:nvSpPr>
          <p:spPr>
            <a:xfrm>
              <a:off x="1913040" y="4869000"/>
              <a:ext cx="1538280" cy="457200"/>
            </a:xfrm>
            <a:prstGeom prst="rect">
              <a:avLst/>
            </a:prstGeom>
            <a:noFill/>
            <a:ln w="0">
              <a:noFill/>
            </a:ln>
          </p:spPr>
          <p:txBody>
            <a:bodyPr lIns="0" rIns="0" tIns="0" bIns="0" anchor="t">
              <a:noAutofit/>
            </a:bodyPr>
            <a:p>
              <a:pPr>
                <a:lnSpc>
                  <a:spcPct val="100000"/>
                </a:lnSpc>
              </a:pPr>
              <a:r>
                <a:rPr b="1" i="1" lang="en-US" sz="2400" spc="-1" strike="noStrike">
                  <a:solidFill>
                    <a:srgbClr val="ffffff"/>
                  </a:solidFill>
                  <a:latin typeface="Times New Roman"/>
                  <a:ea typeface="Times New Roman"/>
                </a:rPr>
                <a:t>Bethlehem</a:t>
              </a:r>
              <a:endParaRPr b="0" lang="en-US" sz="2400" spc="-1" strike="noStrike">
                <a:solidFill>
                  <a:srgbClr val="000000"/>
                </a:solidFill>
                <a:latin typeface="Arial"/>
              </a:endParaRPr>
            </a:p>
          </p:txBody>
        </p:sp>
        <p:sp>
          <p:nvSpPr>
            <p:cNvPr id="650" name=""/>
            <p:cNvSpPr txBox="1"/>
            <p:nvPr/>
          </p:nvSpPr>
          <p:spPr>
            <a:xfrm>
              <a:off x="3760920" y="1120680"/>
              <a:ext cx="2016000" cy="426960"/>
            </a:xfrm>
            <a:prstGeom prst="rect">
              <a:avLst/>
            </a:prstGeom>
            <a:noFill/>
            <a:ln w="0">
              <a:noFill/>
            </a:ln>
          </p:spPr>
          <p:txBody>
            <a:bodyPr lIns="0" rIns="0" tIns="0" bIns="0" anchor="t">
              <a:noAutofit/>
            </a:bodyPr>
            <a:p>
              <a:pPr>
                <a:lnSpc>
                  <a:spcPct val="100000"/>
                </a:lnSpc>
              </a:pPr>
              <a:r>
                <a:rPr b="1" lang="en-US" sz="2200" spc="-1" strike="noStrike">
                  <a:solidFill>
                    <a:srgbClr val="ffffff"/>
                  </a:solidFill>
                  <a:latin typeface="Arial"/>
                  <a:ea typeface="Arial"/>
                </a:rPr>
                <a:t>Sea of Galilee</a:t>
              </a:r>
              <a:endParaRPr b="0" lang="en-US" sz="2200" spc="-1" strike="noStrike">
                <a:solidFill>
                  <a:srgbClr val="000000"/>
                </a:solidFill>
                <a:latin typeface="Arial"/>
              </a:endParaRPr>
            </a:p>
          </p:txBody>
        </p:sp>
        <p:sp>
          <p:nvSpPr>
            <p:cNvPr id="651" name=""/>
            <p:cNvSpPr txBox="1"/>
            <p:nvPr/>
          </p:nvSpPr>
          <p:spPr>
            <a:xfrm>
              <a:off x="4054320" y="4943520"/>
              <a:ext cx="155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Dead Sea</a:t>
              </a:r>
              <a:endParaRPr b="0" lang="en-US" sz="2400" spc="-1" strike="noStrike">
                <a:solidFill>
                  <a:srgbClr val="000000"/>
                </a:solidFill>
                <a:latin typeface="Arial"/>
              </a:endParaRPr>
            </a:p>
          </p:txBody>
        </p:sp>
        <p:sp>
          <p:nvSpPr>
            <p:cNvPr id="652" name=""/>
            <p:cNvSpPr txBox="1"/>
            <p:nvPr/>
          </p:nvSpPr>
          <p:spPr>
            <a:xfrm>
              <a:off x="3274920" y="2449440"/>
              <a:ext cx="1911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Jordan River</a:t>
              </a:r>
              <a:endParaRPr b="0" lang="en-US" sz="2400" spc="-1" strike="noStrike">
                <a:solidFill>
                  <a:srgbClr val="000000"/>
                </a:solidFill>
                <a:latin typeface="Arial"/>
              </a:endParaRPr>
            </a:p>
          </p:txBody>
        </p:sp>
        <p:sp>
          <p:nvSpPr>
            <p:cNvPr id="653" name=""/>
            <p:cNvSpPr txBox="1"/>
            <p:nvPr/>
          </p:nvSpPr>
          <p:spPr>
            <a:xfrm>
              <a:off x="-380880" y="2570040"/>
              <a:ext cx="3309840" cy="641520"/>
            </a:xfrm>
            <a:prstGeom prst="rect">
              <a:avLst/>
            </a:prstGeom>
            <a:noFill/>
            <a:ln w="0">
              <a:noFill/>
            </a:ln>
          </p:spPr>
          <p:txBody>
            <a:bodyPr lIns="0" rIns="0" tIns="0" bIns="0" anchor="t">
              <a:noAutofit/>
            </a:bodyPr>
            <a:p>
              <a:pPr>
                <a:lnSpc>
                  <a:spcPct val="100000"/>
                </a:lnSpc>
              </a:pPr>
              <a:r>
                <a:rPr b="1" i="1" lang="en-US" sz="3600" spc="-1" strike="noStrike">
                  <a:solidFill>
                    <a:srgbClr val="ffffff"/>
                  </a:solidFill>
                  <a:latin typeface="Arial"/>
                  <a:ea typeface="Arial"/>
                </a:rPr>
                <a:t>Mediterranean</a:t>
              </a:r>
              <a:endParaRPr b="0" lang="en-US" sz="3600" spc="-1" strike="noStrike">
                <a:solidFill>
                  <a:srgbClr val="000000"/>
                </a:solidFill>
                <a:latin typeface="Arial"/>
              </a:endParaRPr>
            </a:p>
          </p:txBody>
        </p:sp>
        <p:sp>
          <p:nvSpPr>
            <p:cNvPr id="654" name=""/>
            <p:cNvSpPr txBox="1"/>
            <p:nvPr/>
          </p:nvSpPr>
          <p:spPr>
            <a:xfrm>
              <a:off x="4228920" y="6521400"/>
              <a:ext cx="15159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NASA PHOTO</a:t>
              </a:r>
              <a:endParaRPr b="0" lang="en-US" sz="1600" spc="-1" strike="noStrike">
                <a:solidFill>
                  <a:srgbClr val="000000"/>
                </a:solidFill>
                <a:latin typeface="Arial"/>
              </a:endParaRPr>
            </a:p>
          </p:txBody>
        </p:sp>
        <p:sp>
          <p:nvSpPr>
            <p:cNvPr id="655" name=""/>
            <p:cNvSpPr txBox="1"/>
            <p:nvPr/>
          </p:nvSpPr>
          <p:spPr>
            <a:xfrm>
              <a:off x="506520" y="6613560"/>
              <a:ext cx="239400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ttaylor@midwest.net</a:t>
              </a:r>
              <a:endParaRPr b="0" lang="en-US" sz="1000" spc="-1" strike="noStrike">
                <a:solidFill>
                  <a:srgbClr val="000000"/>
                </a:solidFill>
                <a:latin typeface="Arial"/>
              </a:endParaRPr>
            </a:p>
          </p:txBody>
        </p:sp>
        <p:sp>
          <p:nvSpPr>
            <p:cNvPr id="656" name=""/>
            <p:cNvSpPr txBox="1"/>
            <p:nvPr/>
          </p:nvSpPr>
          <p:spPr>
            <a:xfrm>
              <a:off x="1476360" y="6108840"/>
              <a:ext cx="4175280" cy="519120"/>
            </a:xfrm>
            <a:prstGeom prst="rect">
              <a:avLst/>
            </a:prstGeom>
            <a:noFill/>
            <a:ln w="0">
              <a:noFill/>
            </a:ln>
          </p:spPr>
          <p:txBody>
            <a:bodyPr lIns="0" rIns="0" tIns="0" bIns="0" anchor="t">
              <a:noAutofit/>
            </a:bodyPr>
            <a:p>
              <a:pPr>
                <a:lnSpc>
                  <a:spcPct val="100000"/>
                </a:lnSpc>
              </a:pPr>
              <a:r>
                <a:rPr b="1" lang="en-US" sz="2800" spc="-1" strike="noStrike" u="sng">
                  <a:solidFill>
                    <a:srgbClr val="fafd00"/>
                  </a:solidFill>
                  <a:uFillTx/>
                  <a:latin typeface="Arial"/>
                  <a:ea typeface="Arial"/>
                </a:rPr>
                <a:t>Jesus’ Childhood Israel</a:t>
              </a:r>
              <a:endParaRPr b="0" lang="en-US" sz="2800" spc="-1" strike="noStrike">
                <a:solidFill>
                  <a:srgbClr val="000000"/>
                </a:solidFill>
                <a:latin typeface="Arial"/>
              </a:endParaRPr>
            </a:p>
          </p:txBody>
        </p:sp>
        <p:sp>
          <p:nvSpPr>
            <p:cNvPr id="657" name=""/>
            <p:cNvSpPr/>
            <p:nvPr/>
          </p:nvSpPr>
          <p:spPr>
            <a:xfrm>
              <a:off x="3011400" y="4606920"/>
              <a:ext cx="305280" cy="228960"/>
            </a:xfrm>
            <a:custGeom>
              <a:avLst/>
              <a:gdLst/>
              <a:ahLst/>
              <a:rect l="0" t="0" r="r" b="b"/>
              <a:pathLst>
                <a:path w="848" h="636">
                  <a:moveTo>
                    <a:pt x="424" y="0"/>
                  </a:moveTo>
                  <a:lnTo>
                    <a:pt x="325" y="243"/>
                  </a:lnTo>
                  <a:lnTo>
                    <a:pt x="0" y="243"/>
                  </a:lnTo>
                  <a:lnTo>
                    <a:pt x="264" y="394"/>
                  </a:lnTo>
                  <a:lnTo>
                    <a:pt x="164" y="636"/>
                  </a:lnTo>
                  <a:lnTo>
                    <a:pt x="424" y="496"/>
                  </a:lnTo>
                  <a:lnTo>
                    <a:pt x="684" y="636"/>
                  </a:lnTo>
                  <a:lnTo>
                    <a:pt x="583" y="394"/>
                  </a:lnTo>
                  <a:lnTo>
                    <a:pt x="848" y="242"/>
                  </a:lnTo>
                  <a:lnTo>
                    <a:pt x="523" y="242"/>
                  </a:lnTo>
                  <a:lnTo>
                    <a:pt x="424"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1066680" y="6248520"/>
              <a:ext cx="533880" cy="228960"/>
            </a:xfrm>
            <a:custGeom>
              <a:avLst/>
              <a:gdLst/>
              <a:ahLst/>
              <a:rect l="0" t="0" r="r" b="b"/>
              <a:pathLst>
                <a:path w="1483" h="636">
                  <a:moveTo>
                    <a:pt x="1483" y="211"/>
                  </a:moveTo>
                  <a:lnTo>
                    <a:pt x="1483" y="423"/>
                  </a:lnTo>
                  <a:lnTo>
                    <a:pt x="445" y="423"/>
                  </a:lnTo>
                  <a:lnTo>
                    <a:pt x="445" y="636"/>
                  </a:lnTo>
                  <a:lnTo>
                    <a:pt x="0" y="317"/>
                  </a:lnTo>
                  <a:lnTo>
                    <a:pt x="445" y="0"/>
                  </a:lnTo>
                  <a:lnTo>
                    <a:pt x="445" y="211"/>
                  </a:lnTo>
                  <a:lnTo>
                    <a:pt x="1483" y="211"/>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659" name=""/>
          <p:cNvGrpSpPr/>
          <p:nvPr/>
        </p:nvGrpSpPr>
        <p:grpSpPr>
          <a:xfrm>
            <a:off x="0" y="1440"/>
            <a:ext cx="9131400" cy="6838920"/>
            <a:chOff x="0" y="1440"/>
            <a:chExt cx="9131400" cy="6838920"/>
          </a:xfrm>
        </p:grpSpPr>
        <p:grpSp>
          <p:nvGrpSpPr>
            <p:cNvPr id="660" name=""/>
            <p:cNvGrpSpPr/>
            <p:nvPr/>
          </p:nvGrpSpPr>
          <p:grpSpPr>
            <a:xfrm>
              <a:off x="0" y="1440"/>
              <a:ext cx="9131400" cy="6838920"/>
              <a:chOff x="0" y="1440"/>
              <a:chExt cx="9131400" cy="6838920"/>
            </a:xfrm>
          </p:grpSpPr>
          <p:sp>
            <p:nvSpPr>
              <p:cNvPr id="661" name=""/>
              <p:cNvSpPr txBox="1"/>
              <p:nvPr/>
            </p:nvSpPr>
            <p:spPr>
              <a:xfrm>
                <a:off x="685800" y="590400"/>
                <a:ext cx="8381880" cy="1162080"/>
              </a:xfrm>
              <a:prstGeom prst="rect">
                <a:avLst/>
              </a:prstGeom>
              <a:noFill/>
              <a:ln w="0">
                <a:noFill/>
              </a:ln>
            </p:spPr>
            <p:txBody>
              <a:bodyPr lIns="0" rIns="0" tIns="0" bIns="0" anchor="t">
                <a:noAutofit/>
              </a:bodyPr>
              <a:p>
                <a:pPr algn="ctr">
                  <a:lnSpc>
                    <a:spcPct val="100000"/>
                  </a:lnSpc>
                </a:pPr>
                <a:r>
                  <a:rPr b="1" lang="en-US" sz="5400" spc="-1" strike="noStrike" u="sng">
                    <a:solidFill>
                      <a:srgbClr val="c0fef9"/>
                    </a:solidFill>
                    <a:uFillTx/>
                    <a:latin typeface="Book Antiqua"/>
                    <a:ea typeface="Book Antiqua"/>
                  </a:rPr>
                  <a:t>Click to add title</a:t>
                </a:r>
                <a:endParaRPr b="0" lang="en-US" sz="5400" spc="-1" strike="noStrike">
                  <a:solidFill>
                    <a:srgbClr val="000000"/>
                  </a:solidFill>
                  <a:latin typeface="Arial"/>
                </a:endParaRPr>
              </a:p>
            </p:txBody>
          </p:sp>
          <p:sp>
            <p:nvSpPr>
              <p:cNvPr id="662" name=""/>
              <p:cNvSpPr txBox="1"/>
              <p:nvPr/>
            </p:nvSpPr>
            <p:spPr>
              <a:xfrm>
                <a:off x="762120" y="1981080"/>
                <a:ext cx="8305920" cy="4133880"/>
              </a:xfrm>
              <a:prstGeom prst="rect">
                <a:avLst/>
              </a:prstGeom>
              <a:noFill/>
              <a:ln w="0">
                <a:noFill/>
              </a:ln>
            </p:spPr>
            <p:txBody>
              <a:bodyPr lIns="0" rIns="0" tIns="0" bIns="0" anchor="t">
                <a:noAutofit/>
              </a:bodyPr>
              <a:p>
                <a:pPr marL="343080" indent="-343080">
                  <a:lnSpc>
                    <a:spcPct val="100000"/>
                  </a:lnSpc>
                  <a:spcBef>
                    <a:spcPts val="479"/>
                  </a:spcBef>
                  <a:buClr>
                    <a:srgbClr val="c0fef9"/>
                  </a:buClr>
                  <a:buFont typeface="Monotype Sorts"/>
                  <a:buChar char=""/>
                </a:pPr>
                <a:r>
                  <a:rPr b="1" lang="en-US" sz="3600" spc="-1" strike="noStrike">
                    <a:solidFill>
                      <a:srgbClr val="ffffff"/>
                    </a:solidFill>
                    <a:latin typeface="Arial"/>
                    <a:ea typeface="Arial"/>
                  </a:rPr>
                  <a:t>Click to add text</a:t>
                </a:r>
                <a:endParaRPr b="0" lang="en-US" sz="3600" spc="-1" strike="noStrike">
                  <a:solidFill>
                    <a:srgbClr val="000000"/>
                  </a:solidFill>
                  <a:latin typeface="Arial"/>
                </a:endParaRPr>
              </a:p>
            </p:txBody>
          </p:sp>
          <p:pic>
            <p:nvPicPr>
              <p:cNvPr id="663" name="" descr=""/>
              <p:cNvPicPr/>
              <p:nvPr/>
            </p:nvPicPr>
            <p:blipFill>
              <a:blip r:embed="rId1"/>
              <a:stretch/>
            </p:blipFill>
            <p:spPr>
              <a:xfrm>
                <a:off x="0" y="1440"/>
                <a:ext cx="9131400" cy="6838920"/>
              </a:xfrm>
              <a:prstGeom prst="rect">
                <a:avLst/>
              </a:prstGeom>
              <a:ln w="0">
                <a:noFill/>
              </a:ln>
            </p:spPr>
          </p:pic>
          <p:sp>
            <p:nvSpPr>
              <p:cNvPr id="664" name=""/>
              <p:cNvSpPr/>
              <p:nvPr/>
            </p:nvSpPr>
            <p:spPr>
              <a:xfrm>
                <a:off x="6400800" y="5562720"/>
                <a:ext cx="457560" cy="838440"/>
              </a:xfrm>
              <a:custGeom>
                <a:avLst/>
                <a:gdLst/>
                <a:ahLst/>
                <a:rect l="0" t="0" r="r" b="b"/>
                <a:pathLst>
                  <a:path w="1271" h="2329">
                    <a:moveTo>
                      <a:pt x="422" y="0"/>
                    </a:moveTo>
                    <a:lnTo>
                      <a:pt x="846" y="0"/>
                    </a:lnTo>
                    <a:lnTo>
                      <a:pt x="846" y="1630"/>
                    </a:lnTo>
                    <a:lnTo>
                      <a:pt x="1271" y="1630"/>
                    </a:lnTo>
                    <a:lnTo>
                      <a:pt x="635" y="2329"/>
                    </a:lnTo>
                    <a:lnTo>
                      <a:pt x="0" y="1630"/>
                    </a:lnTo>
                    <a:lnTo>
                      <a:pt x="422" y="1630"/>
                    </a:lnTo>
                    <a:lnTo>
                      <a:pt x="422" y="0"/>
                    </a:lnTo>
                    <a:close/>
                  </a:path>
                </a:pathLst>
              </a:cu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5" name=""/>
              <p:cNvSpPr txBox="1"/>
              <p:nvPr/>
            </p:nvSpPr>
            <p:spPr>
              <a:xfrm>
                <a:off x="6765840" y="5364000"/>
                <a:ext cx="1511280" cy="701640"/>
              </a:xfrm>
              <a:prstGeom prst="rect">
                <a:avLst/>
              </a:prstGeom>
              <a:noFill/>
              <a:ln w="0">
                <a:noFill/>
              </a:ln>
            </p:spPr>
            <p:txBody>
              <a:bodyPr lIns="0" rIns="0" tIns="0" bIns="0" anchor="t">
                <a:noAutofit/>
              </a:bodyPr>
              <a:p>
                <a:pPr>
                  <a:lnSpc>
                    <a:spcPct val="100000"/>
                  </a:lnSpc>
                </a:pPr>
                <a:r>
                  <a:rPr b="1" lang="en-US" sz="4000" spc="-1" strike="noStrike">
                    <a:solidFill>
                      <a:srgbClr val="fafd00"/>
                    </a:solidFill>
                    <a:latin typeface="Arial"/>
                    <a:ea typeface="Arial"/>
                  </a:rPr>
                  <a:t>Israel</a:t>
                </a:r>
                <a:endParaRPr b="0" lang="en-US" sz="4000" spc="-1" strike="noStrike">
                  <a:solidFill>
                    <a:srgbClr val="000000"/>
                  </a:solidFill>
                  <a:latin typeface="Arial"/>
                </a:endParaRPr>
              </a:p>
            </p:txBody>
          </p:sp>
        </p:grpSp>
        <p:sp>
          <p:nvSpPr>
            <p:cNvPr id="666" name=""/>
            <p:cNvSpPr txBox="1"/>
            <p:nvPr/>
          </p:nvSpPr>
          <p:spPr>
            <a:xfrm>
              <a:off x="0" y="4932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667" name=""/>
          <p:cNvGrpSpPr/>
          <p:nvPr/>
        </p:nvGrpSpPr>
        <p:grpSpPr>
          <a:xfrm>
            <a:off x="0" y="722160"/>
            <a:ext cx="9131760" cy="6123600"/>
            <a:chOff x="0" y="722160"/>
            <a:chExt cx="9131760" cy="6123600"/>
          </a:xfrm>
        </p:grpSpPr>
        <p:sp>
          <p:nvSpPr>
            <p:cNvPr id="668" name=""/>
            <p:cNvSpPr/>
            <p:nvPr/>
          </p:nvSpPr>
          <p:spPr>
            <a:xfrm>
              <a:off x="63360" y="825480"/>
              <a:ext cx="9067680" cy="6019920"/>
            </a:xfrm>
            <a:prstGeom prst="rect">
              <a:avLst/>
            </a:prstGeom>
            <a:solidFill>
              <a:srgbClr val="00ae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txBox="1"/>
            <p:nvPr/>
          </p:nvSpPr>
          <p:spPr>
            <a:xfrm>
              <a:off x="2879640" y="3382920"/>
              <a:ext cx="116352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Israel</a:t>
              </a:r>
              <a:endParaRPr b="0" lang="en-US" sz="3600" spc="-1" strike="noStrike">
                <a:solidFill>
                  <a:srgbClr val="000000"/>
                </a:solidFill>
                <a:latin typeface="Arial"/>
              </a:endParaRPr>
            </a:p>
          </p:txBody>
        </p:sp>
        <p:sp>
          <p:nvSpPr>
            <p:cNvPr id="670" name=""/>
            <p:cNvSpPr/>
            <p:nvPr/>
          </p:nvSpPr>
          <p:spPr>
            <a:xfrm>
              <a:off x="7620120" y="5168880"/>
              <a:ext cx="1511640" cy="1676880"/>
            </a:xfrm>
            <a:custGeom>
              <a:avLst/>
              <a:gdLst/>
              <a:ahLst/>
              <a:rect l="0" t="0" r="r" b="b"/>
              <a:pathLst>
                <a:path w="4199" h="4658">
                  <a:moveTo>
                    <a:pt x="4022" y="2152"/>
                  </a:moveTo>
                  <a:lnTo>
                    <a:pt x="3868" y="2069"/>
                  </a:lnTo>
                  <a:lnTo>
                    <a:pt x="3727" y="2117"/>
                  </a:lnTo>
                  <a:lnTo>
                    <a:pt x="3590" y="2117"/>
                  </a:lnTo>
                  <a:lnTo>
                    <a:pt x="3453" y="2069"/>
                  </a:lnTo>
                  <a:lnTo>
                    <a:pt x="3312" y="1976"/>
                  </a:lnTo>
                  <a:lnTo>
                    <a:pt x="3176" y="1883"/>
                  </a:lnTo>
                  <a:lnTo>
                    <a:pt x="3039" y="1795"/>
                  </a:lnTo>
                  <a:lnTo>
                    <a:pt x="2898" y="1703"/>
                  </a:lnTo>
                  <a:lnTo>
                    <a:pt x="2809" y="1562"/>
                  </a:lnTo>
                  <a:lnTo>
                    <a:pt x="2668" y="1473"/>
                  </a:lnTo>
                  <a:lnTo>
                    <a:pt x="2576" y="1332"/>
                  </a:lnTo>
                  <a:lnTo>
                    <a:pt x="2439" y="1240"/>
                  </a:lnTo>
                  <a:lnTo>
                    <a:pt x="2302" y="1240"/>
                  </a:lnTo>
                  <a:lnTo>
                    <a:pt x="2161" y="1240"/>
                  </a:lnTo>
                  <a:lnTo>
                    <a:pt x="2024" y="1288"/>
                  </a:lnTo>
                  <a:lnTo>
                    <a:pt x="1887" y="1288"/>
                  </a:lnTo>
                  <a:lnTo>
                    <a:pt x="1750" y="1150"/>
                  </a:lnTo>
                  <a:lnTo>
                    <a:pt x="1609" y="1058"/>
                  </a:lnTo>
                  <a:lnTo>
                    <a:pt x="1516" y="917"/>
                  </a:lnTo>
                  <a:lnTo>
                    <a:pt x="1380" y="824"/>
                  </a:lnTo>
                  <a:lnTo>
                    <a:pt x="1243" y="736"/>
                  </a:lnTo>
                  <a:lnTo>
                    <a:pt x="1102" y="643"/>
                  </a:lnTo>
                  <a:lnTo>
                    <a:pt x="965" y="502"/>
                  </a:lnTo>
                  <a:lnTo>
                    <a:pt x="829" y="414"/>
                  </a:lnTo>
                  <a:lnTo>
                    <a:pt x="692" y="321"/>
                  </a:lnTo>
                  <a:lnTo>
                    <a:pt x="551" y="229"/>
                  </a:lnTo>
                  <a:lnTo>
                    <a:pt x="414" y="92"/>
                  </a:lnTo>
                  <a:lnTo>
                    <a:pt x="423" y="35"/>
                  </a:lnTo>
                  <a:lnTo>
                    <a:pt x="277" y="92"/>
                  </a:lnTo>
                  <a:lnTo>
                    <a:pt x="136" y="44"/>
                  </a:lnTo>
                  <a:lnTo>
                    <a:pt x="0" y="0"/>
                  </a:lnTo>
                  <a:lnTo>
                    <a:pt x="0" y="136"/>
                  </a:lnTo>
                  <a:lnTo>
                    <a:pt x="136" y="136"/>
                  </a:lnTo>
                  <a:lnTo>
                    <a:pt x="277" y="180"/>
                  </a:lnTo>
                  <a:lnTo>
                    <a:pt x="414" y="321"/>
                  </a:lnTo>
                  <a:lnTo>
                    <a:pt x="507" y="458"/>
                  </a:lnTo>
                  <a:lnTo>
                    <a:pt x="458" y="595"/>
                  </a:lnTo>
                  <a:lnTo>
                    <a:pt x="414" y="736"/>
                  </a:lnTo>
                  <a:lnTo>
                    <a:pt x="366" y="873"/>
                  </a:lnTo>
                  <a:lnTo>
                    <a:pt x="321" y="1009"/>
                  </a:lnTo>
                  <a:lnTo>
                    <a:pt x="321" y="1150"/>
                  </a:lnTo>
                  <a:lnTo>
                    <a:pt x="321" y="1288"/>
                  </a:lnTo>
                  <a:lnTo>
                    <a:pt x="366" y="1425"/>
                  </a:lnTo>
                  <a:lnTo>
                    <a:pt x="414" y="1562"/>
                  </a:lnTo>
                  <a:lnTo>
                    <a:pt x="507" y="1703"/>
                  </a:lnTo>
                  <a:lnTo>
                    <a:pt x="551" y="1839"/>
                  </a:lnTo>
                  <a:lnTo>
                    <a:pt x="643" y="1976"/>
                  </a:lnTo>
                  <a:lnTo>
                    <a:pt x="780" y="2069"/>
                  </a:lnTo>
                  <a:lnTo>
                    <a:pt x="873" y="2210"/>
                  </a:lnTo>
                  <a:lnTo>
                    <a:pt x="921" y="2346"/>
                  </a:lnTo>
                  <a:lnTo>
                    <a:pt x="1058" y="2439"/>
                  </a:lnTo>
                  <a:lnTo>
                    <a:pt x="1195" y="2532"/>
                  </a:lnTo>
                  <a:lnTo>
                    <a:pt x="1336" y="2620"/>
                  </a:lnTo>
                  <a:lnTo>
                    <a:pt x="1336" y="2761"/>
                  </a:lnTo>
                  <a:lnTo>
                    <a:pt x="1380" y="2898"/>
                  </a:lnTo>
                  <a:lnTo>
                    <a:pt x="1424" y="3034"/>
                  </a:lnTo>
                  <a:lnTo>
                    <a:pt x="1472" y="3176"/>
                  </a:lnTo>
                  <a:lnTo>
                    <a:pt x="1565" y="3312"/>
                  </a:lnTo>
                  <a:lnTo>
                    <a:pt x="1658" y="3449"/>
                  </a:lnTo>
                  <a:lnTo>
                    <a:pt x="1750" y="3591"/>
                  </a:lnTo>
                  <a:lnTo>
                    <a:pt x="1838" y="3728"/>
                  </a:lnTo>
                  <a:lnTo>
                    <a:pt x="1931" y="3864"/>
                  </a:lnTo>
                  <a:lnTo>
                    <a:pt x="2072" y="3864"/>
                  </a:lnTo>
                  <a:lnTo>
                    <a:pt x="2117" y="3728"/>
                  </a:lnTo>
                  <a:lnTo>
                    <a:pt x="2254" y="3635"/>
                  </a:lnTo>
                  <a:lnTo>
                    <a:pt x="2302" y="3498"/>
                  </a:lnTo>
                  <a:lnTo>
                    <a:pt x="2395" y="3356"/>
                  </a:lnTo>
                  <a:lnTo>
                    <a:pt x="2483" y="3220"/>
                  </a:lnTo>
                  <a:lnTo>
                    <a:pt x="2576" y="3356"/>
                  </a:lnTo>
                  <a:lnTo>
                    <a:pt x="2717" y="3449"/>
                  </a:lnTo>
                  <a:lnTo>
                    <a:pt x="2809" y="3591"/>
                  </a:lnTo>
                  <a:lnTo>
                    <a:pt x="2809" y="3728"/>
                  </a:lnTo>
                  <a:lnTo>
                    <a:pt x="2761" y="3864"/>
                  </a:lnTo>
                  <a:lnTo>
                    <a:pt x="2668" y="4001"/>
                  </a:lnTo>
                  <a:lnTo>
                    <a:pt x="2717" y="4142"/>
                  </a:lnTo>
                  <a:lnTo>
                    <a:pt x="2854" y="4235"/>
                  </a:lnTo>
                  <a:lnTo>
                    <a:pt x="2946" y="4372"/>
                  </a:lnTo>
                  <a:lnTo>
                    <a:pt x="3083" y="4464"/>
                  </a:lnTo>
                  <a:lnTo>
                    <a:pt x="3220" y="4464"/>
                  </a:lnTo>
                  <a:lnTo>
                    <a:pt x="3361" y="4557"/>
                  </a:lnTo>
                  <a:lnTo>
                    <a:pt x="3497" y="4649"/>
                  </a:lnTo>
                  <a:lnTo>
                    <a:pt x="3634" y="4658"/>
                  </a:lnTo>
                  <a:lnTo>
                    <a:pt x="3775" y="4658"/>
                  </a:lnTo>
                  <a:lnTo>
                    <a:pt x="3912" y="4658"/>
                  </a:lnTo>
                  <a:lnTo>
                    <a:pt x="4049" y="4658"/>
                  </a:lnTo>
                  <a:lnTo>
                    <a:pt x="4190" y="4658"/>
                  </a:lnTo>
                  <a:lnTo>
                    <a:pt x="4190" y="4508"/>
                  </a:lnTo>
                  <a:lnTo>
                    <a:pt x="4190" y="4372"/>
                  </a:lnTo>
                  <a:lnTo>
                    <a:pt x="4199" y="4235"/>
                  </a:lnTo>
                  <a:lnTo>
                    <a:pt x="4199" y="4094"/>
                  </a:lnTo>
                  <a:lnTo>
                    <a:pt x="4199" y="3957"/>
                  </a:lnTo>
                  <a:lnTo>
                    <a:pt x="4199" y="3820"/>
                  </a:lnTo>
                  <a:lnTo>
                    <a:pt x="4199" y="3679"/>
                  </a:lnTo>
                  <a:lnTo>
                    <a:pt x="4199" y="3543"/>
                  </a:lnTo>
                  <a:lnTo>
                    <a:pt x="4199" y="3405"/>
                  </a:lnTo>
                  <a:lnTo>
                    <a:pt x="4199" y="3268"/>
                  </a:lnTo>
                  <a:lnTo>
                    <a:pt x="4199" y="3127"/>
                  </a:lnTo>
                  <a:lnTo>
                    <a:pt x="4199" y="2990"/>
                  </a:lnTo>
                  <a:lnTo>
                    <a:pt x="4199" y="2854"/>
                  </a:lnTo>
                  <a:lnTo>
                    <a:pt x="4199" y="2712"/>
                  </a:lnTo>
                  <a:lnTo>
                    <a:pt x="4199" y="2576"/>
                  </a:lnTo>
                  <a:lnTo>
                    <a:pt x="4199" y="2439"/>
                  </a:lnTo>
                  <a:lnTo>
                    <a:pt x="4141" y="2298"/>
                  </a:lnTo>
                  <a:lnTo>
                    <a:pt x="4005" y="2254"/>
                  </a:lnTo>
                  <a:lnTo>
                    <a:pt x="4022" y="2152"/>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0" y="762120"/>
              <a:ext cx="6510600" cy="4091400"/>
            </a:xfrm>
            <a:custGeom>
              <a:avLst/>
              <a:gdLst/>
              <a:ahLst/>
              <a:rect l="0" t="0" r="r" b="b"/>
              <a:pathLst>
                <a:path w="18085" h="11365">
                  <a:moveTo>
                    <a:pt x="3175" y="0"/>
                  </a:moveTo>
                  <a:lnTo>
                    <a:pt x="3311" y="136"/>
                  </a:lnTo>
                  <a:lnTo>
                    <a:pt x="3404" y="277"/>
                  </a:lnTo>
                  <a:lnTo>
                    <a:pt x="3541" y="366"/>
                  </a:lnTo>
                  <a:lnTo>
                    <a:pt x="3633" y="507"/>
                  </a:lnTo>
                  <a:lnTo>
                    <a:pt x="3726" y="643"/>
                  </a:lnTo>
                  <a:lnTo>
                    <a:pt x="3774" y="780"/>
                  </a:lnTo>
                  <a:lnTo>
                    <a:pt x="3818" y="921"/>
                  </a:lnTo>
                  <a:lnTo>
                    <a:pt x="3867" y="1058"/>
                  </a:lnTo>
                  <a:lnTo>
                    <a:pt x="3867" y="1195"/>
                  </a:lnTo>
                  <a:lnTo>
                    <a:pt x="3867" y="1336"/>
                  </a:lnTo>
                  <a:lnTo>
                    <a:pt x="3867" y="1472"/>
                  </a:lnTo>
                  <a:lnTo>
                    <a:pt x="3867" y="1609"/>
                  </a:lnTo>
                  <a:lnTo>
                    <a:pt x="3818" y="1750"/>
                  </a:lnTo>
                  <a:lnTo>
                    <a:pt x="3818" y="1887"/>
                  </a:lnTo>
                  <a:lnTo>
                    <a:pt x="3818" y="2024"/>
                  </a:lnTo>
                  <a:lnTo>
                    <a:pt x="3818" y="2160"/>
                  </a:lnTo>
                  <a:lnTo>
                    <a:pt x="3818" y="2301"/>
                  </a:lnTo>
                  <a:lnTo>
                    <a:pt x="3726" y="2438"/>
                  </a:lnTo>
                  <a:lnTo>
                    <a:pt x="3589" y="2531"/>
                  </a:lnTo>
                  <a:lnTo>
                    <a:pt x="3496" y="2667"/>
                  </a:lnTo>
                  <a:lnTo>
                    <a:pt x="3404" y="2808"/>
                  </a:lnTo>
                  <a:lnTo>
                    <a:pt x="3267" y="2898"/>
                  </a:lnTo>
                  <a:lnTo>
                    <a:pt x="3130" y="2808"/>
                  </a:lnTo>
                  <a:lnTo>
                    <a:pt x="2989" y="2716"/>
                  </a:lnTo>
                  <a:lnTo>
                    <a:pt x="2853" y="2623"/>
                  </a:lnTo>
                  <a:lnTo>
                    <a:pt x="2716" y="2531"/>
                  </a:lnTo>
                  <a:lnTo>
                    <a:pt x="2575" y="2482"/>
                  </a:lnTo>
                  <a:lnTo>
                    <a:pt x="2438" y="2482"/>
                  </a:lnTo>
                  <a:lnTo>
                    <a:pt x="2301" y="2438"/>
                  </a:lnTo>
                  <a:lnTo>
                    <a:pt x="1979" y="2438"/>
                  </a:lnTo>
                  <a:lnTo>
                    <a:pt x="1838" y="2394"/>
                  </a:lnTo>
                  <a:lnTo>
                    <a:pt x="1702" y="2394"/>
                  </a:lnTo>
                  <a:lnTo>
                    <a:pt x="1565" y="2394"/>
                  </a:lnTo>
                  <a:lnTo>
                    <a:pt x="1424" y="2345"/>
                  </a:lnTo>
                  <a:lnTo>
                    <a:pt x="1287" y="2301"/>
                  </a:lnTo>
                  <a:lnTo>
                    <a:pt x="1150" y="2253"/>
                  </a:lnTo>
                  <a:lnTo>
                    <a:pt x="1014" y="2209"/>
                  </a:lnTo>
                  <a:lnTo>
                    <a:pt x="873" y="2160"/>
                  </a:lnTo>
                  <a:lnTo>
                    <a:pt x="780" y="2301"/>
                  </a:lnTo>
                  <a:lnTo>
                    <a:pt x="780" y="2438"/>
                  </a:lnTo>
                  <a:lnTo>
                    <a:pt x="780" y="2575"/>
                  </a:lnTo>
                  <a:lnTo>
                    <a:pt x="780" y="2716"/>
                  </a:lnTo>
                  <a:lnTo>
                    <a:pt x="780" y="2854"/>
                  </a:lnTo>
                  <a:lnTo>
                    <a:pt x="780" y="2990"/>
                  </a:lnTo>
                  <a:lnTo>
                    <a:pt x="780" y="3131"/>
                  </a:lnTo>
                  <a:lnTo>
                    <a:pt x="780" y="3268"/>
                  </a:lnTo>
                  <a:lnTo>
                    <a:pt x="780" y="3405"/>
                  </a:lnTo>
                  <a:lnTo>
                    <a:pt x="780" y="3542"/>
                  </a:lnTo>
                  <a:lnTo>
                    <a:pt x="780" y="3683"/>
                  </a:lnTo>
                  <a:lnTo>
                    <a:pt x="643" y="3727"/>
                  </a:lnTo>
                  <a:lnTo>
                    <a:pt x="551" y="3868"/>
                  </a:lnTo>
                  <a:lnTo>
                    <a:pt x="414" y="4005"/>
                  </a:lnTo>
                  <a:lnTo>
                    <a:pt x="366" y="4141"/>
                  </a:lnTo>
                  <a:lnTo>
                    <a:pt x="321" y="4278"/>
                  </a:lnTo>
                  <a:lnTo>
                    <a:pt x="321" y="4419"/>
                  </a:lnTo>
                  <a:lnTo>
                    <a:pt x="321" y="4556"/>
                  </a:lnTo>
                  <a:lnTo>
                    <a:pt x="321" y="4692"/>
                  </a:lnTo>
                  <a:lnTo>
                    <a:pt x="321" y="4834"/>
                  </a:lnTo>
                  <a:lnTo>
                    <a:pt x="366" y="4970"/>
                  </a:lnTo>
                  <a:lnTo>
                    <a:pt x="366" y="5107"/>
                  </a:lnTo>
                  <a:lnTo>
                    <a:pt x="414" y="5248"/>
                  </a:lnTo>
                  <a:lnTo>
                    <a:pt x="414" y="5385"/>
                  </a:lnTo>
                  <a:lnTo>
                    <a:pt x="414" y="5521"/>
                  </a:lnTo>
                  <a:lnTo>
                    <a:pt x="414" y="5658"/>
                  </a:lnTo>
                  <a:lnTo>
                    <a:pt x="551" y="5707"/>
                  </a:lnTo>
                  <a:lnTo>
                    <a:pt x="692" y="5751"/>
                  </a:lnTo>
                  <a:lnTo>
                    <a:pt x="829" y="5751"/>
                  </a:lnTo>
                  <a:lnTo>
                    <a:pt x="921" y="5892"/>
                  </a:lnTo>
                  <a:lnTo>
                    <a:pt x="1058" y="6029"/>
                  </a:lnTo>
                  <a:lnTo>
                    <a:pt x="1150" y="6165"/>
                  </a:lnTo>
                  <a:lnTo>
                    <a:pt x="1287" y="6214"/>
                  </a:lnTo>
                  <a:lnTo>
                    <a:pt x="1424" y="6214"/>
                  </a:lnTo>
                  <a:lnTo>
                    <a:pt x="1565" y="6214"/>
                  </a:lnTo>
                  <a:lnTo>
                    <a:pt x="1702" y="6214"/>
                  </a:lnTo>
                  <a:lnTo>
                    <a:pt x="1838" y="6214"/>
                  </a:lnTo>
                  <a:lnTo>
                    <a:pt x="1979" y="6214"/>
                  </a:lnTo>
                  <a:lnTo>
                    <a:pt x="2116" y="6214"/>
                  </a:lnTo>
                  <a:lnTo>
                    <a:pt x="2253" y="6214"/>
                  </a:lnTo>
                  <a:lnTo>
                    <a:pt x="2394" y="6214"/>
                  </a:lnTo>
                  <a:lnTo>
                    <a:pt x="2531" y="6214"/>
                  </a:lnTo>
                  <a:lnTo>
                    <a:pt x="2667" y="6214"/>
                  </a:lnTo>
                  <a:lnTo>
                    <a:pt x="2808" y="6214"/>
                  </a:lnTo>
                  <a:lnTo>
                    <a:pt x="2945" y="6214"/>
                  </a:lnTo>
                  <a:lnTo>
                    <a:pt x="3038" y="6073"/>
                  </a:lnTo>
                  <a:lnTo>
                    <a:pt x="3175" y="6029"/>
                  </a:lnTo>
                  <a:lnTo>
                    <a:pt x="3267" y="5892"/>
                  </a:lnTo>
                  <a:lnTo>
                    <a:pt x="3404" y="5799"/>
                  </a:lnTo>
                  <a:lnTo>
                    <a:pt x="3541" y="5658"/>
                  </a:lnTo>
                  <a:lnTo>
                    <a:pt x="3682" y="5521"/>
                  </a:lnTo>
                  <a:lnTo>
                    <a:pt x="3818" y="5429"/>
                  </a:lnTo>
                  <a:lnTo>
                    <a:pt x="3818" y="5292"/>
                  </a:lnTo>
                  <a:lnTo>
                    <a:pt x="3818" y="5155"/>
                  </a:lnTo>
                  <a:lnTo>
                    <a:pt x="3818" y="4741"/>
                  </a:lnTo>
                  <a:lnTo>
                    <a:pt x="3911" y="4600"/>
                  </a:lnTo>
                  <a:lnTo>
                    <a:pt x="4048" y="4556"/>
                  </a:lnTo>
                  <a:lnTo>
                    <a:pt x="4189" y="4512"/>
                  </a:lnTo>
                  <a:lnTo>
                    <a:pt x="4325" y="4463"/>
                  </a:lnTo>
                  <a:lnTo>
                    <a:pt x="4462" y="4419"/>
                  </a:lnTo>
                  <a:lnTo>
                    <a:pt x="4599" y="4326"/>
                  </a:lnTo>
                  <a:lnTo>
                    <a:pt x="4691" y="4190"/>
                  </a:lnTo>
                  <a:lnTo>
                    <a:pt x="4784" y="4049"/>
                  </a:lnTo>
                  <a:lnTo>
                    <a:pt x="4833" y="3912"/>
                  </a:lnTo>
                  <a:lnTo>
                    <a:pt x="4877" y="3775"/>
                  </a:lnTo>
                  <a:lnTo>
                    <a:pt x="5013" y="3634"/>
                  </a:lnTo>
                  <a:lnTo>
                    <a:pt x="5106" y="3497"/>
                  </a:lnTo>
                  <a:lnTo>
                    <a:pt x="5247" y="3453"/>
                  </a:lnTo>
                  <a:lnTo>
                    <a:pt x="5384" y="3405"/>
                  </a:lnTo>
                  <a:lnTo>
                    <a:pt x="5520" y="3405"/>
                  </a:lnTo>
                  <a:lnTo>
                    <a:pt x="5657" y="3453"/>
                  </a:lnTo>
                  <a:lnTo>
                    <a:pt x="5798" y="3497"/>
                  </a:lnTo>
                  <a:lnTo>
                    <a:pt x="5935" y="3542"/>
                  </a:lnTo>
                  <a:lnTo>
                    <a:pt x="6072" y="3590"/>
                  </a:lnTo>
                  <a:lnTo>
                    <a:pt x="6213" y="3590"/>
                  </a:lnTo>
                  <a:lnTo>
                    <a:pt x="6350" y="3590"/>
                  </a:lnTo>
                  <a:lnTo>
                    <a:pt x="6486" y="3590"/>
                  </a:lnTo>
                  <a:lnTo>
                    <a:pt x="6627" y="3497"/>
                  </a:lnTo>
                  <a:lnTo>
                    <a:pt x="6764" y="3405"/>
                  </a:lnTo>
                  <a:lnTo>
                    <a:pt x="6901" y="3361"/>
                  </a:lnTo>
                  <a:lnTo>
                    <a:pt x="7042" y="3361"/>
                  </a:lnTo>
                  <a:lnTo>
                    <a:pt x="7179" y="3361"/>
                  </a:lnTo>
                  <a:lnTo>
                    <a:pt x="7315" y="3361"/>
                  </a:lnTo>
                  <a:lnTo>
                    <a:pt x="7452" y="3453"/>
                  </a:lnTo>
                  <a:lnTo>
                    <a:pt x="7593" y="3497"/>
                  </a:lnTo>
                  <a:lnTo>
                    <a:pt x="7637" y="3634"/>
                  </a:lnTo>
                  <a:lnTo>
                    <a:pt x="7637" y="3775"/>
                  </a:lnTo>
                  <a:lnTo>
                    <a:pt x="7637" y="3912"/>
                  </a:lnTo>
                  <a:lnTo>
                    <a:pt x="7637" y="4049"/>
                  </a:lnTo>
                  <a:lnTo>
                    <a:pt x="7637" y="4190"/>
                  </a:lnTo>
                  <a:lnTo>
                    <a:pt x="7686" y="4326"/>
                  </a:lnTo>
                  <a:lnTo>
                    <a:pt x="7774" y="4463"/>
                  </a:lnTo>
                  <a:lnTo>
                    <a:pt x="7866" y="4600"/>
                  </a:lnTo>
                  <a:lnTo>
                    <a:pt x="7959" y="4741"/>
                  </a:lnTo>
                  <a:lnTo>
                    <a:pt x="8100" y="4834"/>
                  </a:lnTo>
                  <a:lnTo>
                    <a:pt x="8188" y="4970"/>
                  </a:lnTo>
                  <a:lnTo>
                    <a:pt x="8329" y="5063"/>
                  </a:lnTo>
                  <a:lnTo>
                    <a:pt x="8466" y="5155"/>
                  </a:lnTo>
                  <a:lnTo>
                    <a:pt x="8559" y="5292"/>
                  </a:lnTo>
                  <a:lnTo>
                    <a:pt x="8651" y="5429"/>
                  </a:lnTo>
                  <a:lnTo>
                    <a:pt x="8744" y="5570"/>
                  </a:lnTo>
                  <a:lnTo>
                    <a:pt x="8881" y="5658"/>
                  </a:lnTo>
                  <a:lnTo>
                    <a:pt x="8973" y="5799"/>
                  </a:lnTo>
                  <a:lnTo>
                    <a:pt x="9017" y="5936"/>
                  </a:lnTo>
                  <a:lnTo>
                    <a:pt x="9111" y="6073"/>
                  </a:lnTo>
                  <a:lnTo>
                    <a:pt x="9159" y="6214"/>
                  </a:lnTo>
                  <a:lnTo>
                    <a:pt x="9204" y="6351"/>
                  </a:lnTo>
                  <a:lnTo>
                    <a:pt x="9248" y="6487"/>
                  </a:lnTo>
                  <a:lnTo>
                    <a:pt x="9248" y="6628"/>
                  </a:lnTo>
                  <a:lnTo>
                    <a:pt x="9248" y="6765"/>
                  </a:lnTo>
                  <a:lnTo>
                    <a:pt x="9248" y="6902"/>
                  </a:lnTo>
                  <a:lnTo>
                    <a:pt x="9248" y="7043"/>
                  </a:lnTo>
                  <a:lnTo>
                    <a:pt x="9389" y="7180"/>
                  </a:lnTo>
                  <a:lnTo>
                    <a:pt x="9526" y="7272"/>
                  </a:lnTo>
                  <a:lnTo>
                    <a:pt x="9662" y="7272"/>
                  </a:lnTo>
                  <a:lnTo>
                    <a:pt x="9755" y="7131"/>
                  </a:lnTo>
                  <a:lnTo>
                    <a:pt x="9803" y="6994"/>
                  </a:lnTo>
                  <a:lnTo>
                    <a:pt x="9847" y="6858"/>
                  </a:lnTo>
                  <a:lnTo>
                    <a:pt x="9847" y="6717"/>
                  </a:lnTo>
                  <a:lnTo>
                    <a:pt x="9803" y="6580"/>
                  </a:lnTo>
                  <a:lnTo>
                    <a:pt x="9803" y="6443"/>
                  </a:lnTo>
                  <a:lnTo>
                    <a:pt x="9803" y="6306"/>
                  </a:lnTo>
                  <a:lnTo>
                    <a:pt x="9803" y="6165"/>
                  </a:lnTo>
                  <a:lnTo>
                    <a:pt x="9940" y="6121"/>
                  </a:lnTo>
                  <a:lnTo>
                    <a:pt x="10077" y="6121"/>
                  </a:lnTo>
                  <a:lnTo>
                    <a:pt x="10218" y="6165"/>
                  </a:lnTo>
                  <a:lnTo>
                    <a:pt x="10355" y="6214"/>
                  </a:lnTo>
                  <a:lnTo>
                    <a:pt x="10399" y="6073"/>
                  </a:lnTo>
                  <a:lnTo>
                    <a:pt x="10399" y="5936"/>
                  </a:lnTo>
                  <a:lnTo>
                    <a:pt x="10355" y="5799"/>
                  </a:lnTo>
                  <a:lnTo>
                    <a:pt x="10306" y="5658"/>
                  </a:lnTo>
                  <a:lnTo>
                    <a:pt x="10169" y="5614"/>
                  </a:lnTo>
                  <a:lnTo>
                    <a:pt x="10033" y="5477"/>
                  </a:lnTo>
                  <a:lnTo>
                    <a:pt x="9940" y="5336"/>
                  </a:lnTo>
                  <a:lnTo>
                    <a:pt x="9803" y="5248"/>
                  </a:lnTo>
                  <a:lnTo>
                    <a:pt x="9711" y="5107"/>
                  </a:lnTo>
                  <a:lnTo>
                    <a:pt x="9570" y="5014"/>
                  </a:lnTo>
                  <a:lnTo>
                    <a:pt x="9433" y="4926"/>
                  </a:lnTo>
                  <a:lnTo>
                    <a:pt x="9340" y="4785"/>
                  </a:lnTo>
                  <a:lnTo>
                    <a:pt x="9296" y="4648"/>
                  </a:lnTo>
                  <a:lnTo>
                    <a:pt x="9248" y="4512"/>
                  </a:lnTo>
                  <a:lnTo>
                    <a:pt x="9204" y="4371"/>
                  </a:lnTo>
                  <a:lnTo>
                    <a:pt x="9111" y="4234"/>
                  </a:lnTo>
                  <a:lnTo>
                    <a:pt x="9017" y="4097"/>
                  </a:lnTo>
                  <a:lnTo>
                    <a:pt x="8881" y="3956"/>
                  </a:lnTo>
                  <a:lnTo>
                    <a:pt x="8832" y="3819"/>
                  </a:lnTo>
                  <a:lnTo>
                    <a:pt x="8744" y="3683"/>
                  </a:lnTo>
                  <a:lnTo>
                    <a:pt x="8651" y="3542"/>
                  </a:lnTo>
                  <a:lnTo>
                    <a:pt x="8559" y="3405"/>
                  </a:lnTo>
                  <a:lnTo>
                    <a:pt x="8466" y="3268"/>
                  </a:lnTo>
                  <a:lnTo>
                    <a:pt x="8374" y="3131"/>
                  </a:lnTo>
                  <a:lnTo>
                    <a:pt x="8422" y="2990"/>
                  </a:lnTo>
                  <a:lnTo>
                    <a:pt x="8559" y="2946"/>
                  </a:lnTo>
                  <a:lnTo>
                    <a:pt x="8695" y="2946"/>
                  </a:lnTo>
                  <a:lnTo>
                    <a:pt x="8832" y="2946"/>
                  </a:lnTo>
                  <a:lnTo>
                    <a:pt x="8973" y="3039"/>
                  </a:lnTo>
                  <a:lnTo>
                    <a:pt x="9067" y="3176"/>
                  </a:lnTo>
                  <a:lnTo>
                    <a:pt x="9204" y="3312"/>
                  </a:lnTo>
                  <a:lnTo>
                    <a:pt x="9296" y="3453"/>
                  </a:lnTo>
                  <a:lnTo>
                    <a:pt x="9389" y="3590"/>
                  </a:lnTo>
                  <a:lnTo>
                    <a:pt x="9433" y="3727"/>
                  </a:lnTo>
                  <a:lnTo>
                    <a:pt x="9526" y="3868"/>
                  </a:lnTo>
                  <a:lnTo>
                    <a:pt x="9662" y="4005"/>
                  </a:lnTo>
                  <a:lnTo>
                    <a:pt x="9711" y="4141"/>
                  </a:lnTo>
                  <a:lnTo>
                    <a:pt x="9847" y="4278"/>
                  </a:lnTo>
                  <a:lnTo>
                    <a:pt x="9940" y="4419"/>
                  </a:lnTo>
                  <a:lnTo>
                    <a:pt x="10077" y="4556"/>
                  </a:lnTo>
                  <a:lnTo>
                    <a:pt x="10125" y="4692"/>
                  </a:lnTo>
                  <a:lnTo>
                    <a:pt x="10218" y="4834"/>
                  </a:lnTo>
                  <a:lnTo>
                    <a:pt x="10355" y="4970"/>
                  </a:lnTo>
                  <a:lnTo>
                    <a:pt x="10491" y="5107"/>
                  </a:lnTo>
                  <a:lnTo>
                    <a:pt x="10628" y="5248"/>
                  </a:lnTo>
                  <a:lnTo>
                    <a:pt x="10721" y="5385"/>
                  </a:lnTo>
                  <a:lnTo>
                    <a:pt x="10813" y="5521"/>
                  </a:lnTo>
                  <a:lnTo>
                    <a:pt x="10862" y="5658"/>
                  </a:lnTo>
                  <a:lnTo>
                    <a:pt x="10906" y="5799"/>
                  </a:lnTo>
                  <a:lnTo>
                    <a:pt x="10906" y="5936"/>
                  </a:lnTo>
                  <a:lnTo>
                    <a:pt x="10906" y="6073"/>
                  </a:lnTo>
                  <a:lnTo>
                    <a:pt x="10906" y="6214"/>
                  </a:lnTo>
                  <a:lnTo>
                    <a:pt x="10906" y="6351"/>
                  </a:lnTo>
                  <a:lnTo>
                    <a:pt x="11042" y="6443"/>
                  </a:lnTo>
                  <a:lnTo>
                    <a:pt x="11184" y="6536"/>
                  </a:lnTo>
                  <a:lnTo>
                    <a:pt x="11276" y="6672"/>
                  </a:lnTo>
                  <a:lnTo>
                    <a:pt x="11276" y="6809"/>
                  </a:lnTo>
                  <a:lnTo>
                    <a:pt x="11276" y="6950"/>
                  </a:lnTo>
                  <a:lnTo>
                    <a:pt x="11276" y="7087"/>
                  </a:lnTo>
                  <a:lnTo>
                    <a:pt x="11413" y="7180"/>
                  </a:lnTo>
                  <a:lnTo>
                    <a:pt x="11550" y="7272"/>
                  </a:lnTo>
                  <a:lnTo>
                    <a:pt x="11686" y="7365"/>
                  </a:lnTo>
                  <a:lnTo>
                    <a:pt x="11827" y="7453"/>
                  </a:lnTo>
                  <a:lnTo>
                    <a:pt x="11964" y="7546"/>
                  </a:lnTo>
                  <a:lnTo>
                    <a:pt x="12101" y="7546"/>
                  </a:lnTo>
                  <a:lnTo>
                    <a:pt x="12242" y="7546"/>
                  </a:lnTo>
                  <a:lnTo>
                    <a:pt x="12379" y="7501"/>
                  </a:lnTo>
                  <a:lnTo>
                    <a:pt x="12471" y="7365"/>
                  </a:lnTo>
                  <a:lnTo>
                    <a:pt x="12564" y="7224"/>
                  </a:lnTo>
                  <a:lnTo>
                    <a:pt x="12608" y="7087"/>
                  </a:lnTo>
                  <a:lnTo>
                    <a:pt x="12656" y="6950"/>
                  </a:lnTo>
                  <a:lnTo>
                    <a:pt x="12608" y="6809"/>
                  </a:lnTo>
                  <a:lnTo>
                    <a:pt x="12515" y="6672"/>
                  </a:lnTo>
                  <a:lnTo>
                    <a:pt x="12423" y="6536"/>
                  </a:lnTo>
                  <a:lnTo>
                    <a:pt x="12334" y="6395"/>
                  </a:lnTo>
                  <a:lnTo>
                    <a:pt x="12286" y="6258"/>
                  </a:lnTo>
                  <a:lnTo>
                    <a:pt x="12286" y="6121"/>
                  </a:lnTo>
                  <a:lnTo>
                    <a:pt x="12423" y="5984"/>
                  </a:lnTo>
                  <a:lnTo>
                    <a:pt x="12564" y="5892"/>
                  </a:lnTo>
                  <a:lnTo>
                    <a:pt x="12701" y="5843"/>
                  </a:lnTo>
                  <a:lnTo>
                    <a:pt x="12837" y="5799"/>
                  </a:lnTo>
                  <a:lnTo>
                    <a:pt x="12978" y="5707"/>
                  </a:lnTo>
                  <a:lnTo>
                    <a:pt x="13115" y="5614"/>
                  </a:lnTo>
                  <a:lnTo>
                    <a:pt x="13159" y="5248"/>
                  </a:lnTo>
                  <a:lnTo>
                    <a:pt x="13208" y="4878"/>
                  </a:lnTo>
                  <a:lnTo>
                    <a:pt x="13344" y="4834"/>
                  </a:lnTo>
                  <a:lnTo>
                    <a:pt x="13481" y="4834"/>
                  </a:lnTo>
                  <a:lnTo>
                    <a:pt x="13622" y="4834"/>
                  </a:lnTo>
                  <a:lnTo>
                    <a:pt x="13759" y="4878"/>
                  </a:lnTo>
                  <a:lnTo>
                    <a:pt x="13896" y="4970"/>
                  </a:lnTo>
                  <a:lnTo>
                    <a:pt x="14037" y="5063"/>
                  </a:lnTo>
                  <a:lnTo>
                    <a:pt x="14173" y="5107"/>
                  </a:lnTo>
                  <a:lnTo>
                    <a:pt x="14266" y="4970"/>
                  </a:lnTo>
                  <a:lnTo>
                    <a:pt x="14266" y="4834"/>
                  </a:lnTo>
                  <a:lnTo>
                    <a:pt x="14266" y="4692"/>
                  </a:lnTo>
                  <a:lnTo>
                    <a:pt x="14173" y="4556"/>
                  </a:lnTo>
                  <a:lnTo>
                    <a:pt x="14081" y="4419"/>
                  </a:lnTo>
                  <a:lnTo>
                    <a:pt x="14037" y="4278"/>
                  </a:lnTo>
                  <a:lnTo>
                    <a:pt x="14037" y="4141"/>
                  </a:lnTo>
                  <a:lnTo>
                    <a:pt x="14037" y="4005"/>
                  </a:lnTo>
                  <a:lnTo>
                    <a:pt x="14037" y="3868"/>
                  </a:lnTo>
                  <a:lnTo>
                    <a:pt x="14037" y="3727"/>
                  </a:lnTo>
                  <a:lnTo>
                    <a:pt x="14037" y="3590"/>
                  </a:lnTo>
                  <a:lnTo>
                    <a:pt x="14037" y="3453"/>
                  </a:lnTo>
                  <a:lnTo>
                    <a:pt x="14037" y="3312"/>
                  </a:lnTo>
                  <a:lnTo>
                    <a:pt x="14081" y="2946"/>
                  </a:lnTo>
                  <a:lnTo>
                    <a:pt x="14081" y="2808"/>
                  </a:lnTo>
                  <a:lnTo>
                    <a:pt x="14125" y="2667"/>
                  </a:lnTo>
                  <a:lnTo>
                    <a:pt x="14266" y="2531"/>
                  </a:lnTo>
                  <a:lnTo>
                    <a:pt x="14403" y="2482"/>
                  </a:lnTo>
                  <a:lnTo>
                    <a:pt x="14539" y="2394"/>
                  </a:lnTo>
                  <a:lnTo>
                    <a:pt x="14680" y="2345"/>
                  </a:lnTo>
                  <a:lnTo>
                    <a:pt x="14817" y="2301"/>
                  </a:lnTo>
                  <a:lnTo>
                    <a:pt x="14954" y="2301"/>
                  </a:lnTo>
                  <a:lnTo>
                    <a:pt x="15095" y="2301"/>
                  </a:lnTo>
                  <a:lnTo>
                    <a:pt x="15232" y="2438"/>
                  </a:lnTo>
                  <a:lnTo>
                    <a:pt x="15324" y="2575"/>
                  </a:lnTo>
                  <a:lnTo>
                    <a:pt x="15324" y="2716"/>
                  </a:lnTo>
                  <a:lnTo>
                    <a:pt x="15417" y="2854"/>
                  </a:lnTo>
                  <a:lnTo>
                    <a:pt x="15554" y="2946"/>
                  </a:lnTo>
                  <a:lnTo>
                    <a:pt x="15690" y="3083"/>
                  </a:lnTo>
                  <a:lnTo>
                    <a:pt x="15831" y="3131"/>
                  </a:lnTo>
                  <a:lnTo>
                    <a:pt x="15968" y="3131"/>
                  </a:lnTo>
                  <a:lnTo>
                    <a:pt x="16105" y="3083"/>
                  </a:lnTo>
                  <a:lnTo>
                    <a:pt x="16197" y="2946"/>
                  </a:lnTo>
                  <a:lnTo>
                    <a:pt x="16290" y="2808"/>
                  </a:lnTo>
                  <a:lnTo>
                    <a:pt x="16334" y="2667"/>
                  </a:lnTo>
                  <a:lnTo>
                    <a:pt x="16290" y="2531"/>
                  </a:lnTo>
                  <a:lnTo>
                    <a:pt x="16197" y="2394"/>
                  </a:lnTo>
                  <a:lnTo>
                    <a:pt x="16105" y="2253"/>
                  </a:lnTo>
                  <a:lnTo>
                    <a:pt x="16105" y="2116"/>
                  </a:lnTo>
                  <a:lnTo>
                    <a:pt x="16105" y="1979"/>
                  </a:lnTo>
                  <a:lnTo>
                    <a:pt x="16197" y="1838"/>
                  </a:lnTo>
                  <a:lnTo>
                    <a:pt x="16334" y="1750"/>
                  </a:lnTo>
                  <a:lnTo>
                    <a:pt x="16475" y="1702"/>
                  </a:lnTo>
                  <a:lnTo>
                    <a:pt x="16612" y="1609"/>
                  </a:lnTo>
                  <a:lnTo>
                    <a:pt x="16656" y="1750"/>
                  </a:lnTo>
                  <a:lnTo>
                    <a:pt x="16749" y="1887"/>
                  </a:lnTo>
                  <a:lnTo>
                    <a:pt x="16841" y="2024"/>
                  </a:lnTo>
                  <a:lnTo>
                    <a:pt x="16797" y="2160"/>
                  </a:lnTo>
                  <a:lnTo>
                    <a:pt x="16705" y="2301"/>
                  </a:lnTo>
                  <a:lnTo>
                    <a:pt x="16612" y="2438"/>
                  </a:lnTo>
                  <a:lnTo>
                    <a:pt x="16612" y="2575"/>
                  </a:lnTo>
                  <a:lnTo>
                    <a:pt x="16612" y="2716"/>
                  </a:lnTo>
                  <a:lnTo>
                    <a:pt x="16749" y="2808"/>
                  </a:lnTo>
                  <a:lnTo>
                    <a:pt x="16890" y="2946"/>
                  </a:lnTo>
                  <a:lnTo>
                    <a:pt x="17026" y="2990"/>
                  </a:lnTo>
                  <a:lnTo>
                    <a:pt x="17163" y="3039"/>
                  </a:lnTo>
                  <a:lnTo>
                    <a:pt x="17300" y="3131"/>
                  </a:lnTo>
                  <a:lnTo>
                    <a:pt x="17441" y="3176"/>
                  </a:lnTo>
                  <a:lnTo>
                    <a:pt x="17578" y="3220"/>
                  </a:lnTo>
                  <a:lnTo>
                    <a:pt x="17714" y="3312"/>
                  </a:lnTo>
                  <a:lnTo>
                    <a:pt x="17855" y="3453"/>
                  </a:lnTo>
                  <a:lnTo>
                    <a:pt x="17948" y="3590"/>
                  </a:lnTo>
                  <a:lnTo>
                    <a:pt x="18036" y="3727"/>
                  </a:lnTo>
                  <a:lnTo>
                    <a:pt x="18085" y="3868"/>
                  </a:lnTo>
                  <a:lnTo>
                    <a:pt x="17992" y="4005"/>
                  </a:lnTo>
                  <a:lnTo>
                    <a:pt x="17948" y="4141"/>
                  </a:lnTo>
                  <a:lnTo>
                    <a:pt x="17807" y="4190"/>
                  </a:lnTo>
                  <a:lnTo>
                    <a:pt x="17670" y="4190"/>
                  </a:lnTo>
                  <a:lnTo>
                    <a:pt x="17534" y="4190"/>
                  </a:lnTo>
                  <a:lnTo>
                    <a:pt x="17392" y="4190"/>
                  </a:lnTo>
                  <a:lnTo>
                    <a:pt x="17256" y="4190"/>
                  </a:lnTo>
                  <a:lnTo>
                    <a:pt x="17119" y="4190"/>
                  </a:lnTo>
                  <a:lnTo>
                    <a:pt x="16978" y="4190"/>
                  </a:lnTo>
                  <a:lnTo>
                    <a:pt x="16841" y="4234"/>
                  </a:lnTo>
                  <a:lnTo>
                    <a:pt x="16705" y="4234"/>
                  </a:lnTo>
                  <a:lnTo>
                    <a:pt x="16568" y="4234"/>
                  </a:lnTo>
                  <a:lnTo>
                    <a:pt x="16427" y="4234"/>
                  </a:lnTo>
                  <a:lnTo>
                    <a:pt x="16290" y="4278"/>
                  </a:lnTo>
                  <a:lnTo>
                    <a:pt x="16153" y="4326"/>
                  </a:lnTo>
                  <a:lnTo>
                    <a:pt x="16012" y="4419"/>
                  </a:lnTo>
                  <a:lnTo>
                    <a:pt x="15876" y="4463"/>
                  </a:lnTo>
                  <a:lnTo>
                    <a:pt x="15739" y="4556"/>
                  </a:lnTo>
                  <a:lnTo>
                    <a:pt x="15598" y="4692"/>
                  </a:lnTo>
                  <a:lnTo>
                    <a:pt x="15461" y="4785"/>
                  </a:lnTo>
                  <a:lnTo>
                    <a:pt x="15324" y="4878"/>
                  </a:lnTo>
                  <a:lnTo>
                    <a:pt x="15232" y="5014"/>
                  </a:lnTo>
                  <a:lnTo>
                    <a:pt x="15095" y="5107"/>
                  </a:lnTo>
                  <a:lnTo>
                    <a:pt x="14954" y="5200"/>
                  </a:lnTo>
                  <a:lnTo>
                    <a:pt x="14817" y="5248"/>
                  </a:lnTo>
                  <a:lnTo>
                    <a:pt x="14680" y="5292"/>
                  </a:lnTo>
                  <a:lnTo>
                    <a:pt x="14539" y="5385"/>
                  </a:lnTo>
                  <a:lnTo>
                    <a:pt x="14403" y="5521"/>
                  </a:lnTo>
                  <a:lnTo>
                    <a:pt x="14266" y="5614"/>
                  </a:lnTo>
                  <a:lnTo>
                    <a:pt x="14125" y="5658"/>
                  </a:lnTo>
                  <a:lnTo>
                    <a:pt x="13988" y="5707"/>
                  </a:lnTo>
                  <a:lnTo>
                    <a:pt x="13851" y="5751"/>
                  </a:lnTo>
                  <a:lnTo>
                    <a:pt x="13759" y="5892"/>
                  </a:lnTo>
                  <a:lnTo>
                    <a:pt x="13622" y="5984"/>
                  </a:lnTo>
                  <a:lnTo>
                    <a:pt x="13574" y="6121"/>
                  </a:lnTo>
                  <a:lnTo>
                    <a:pt x="13481" y="6258"/>
                  </a:lnTo>
                  <a:lnTo>
                    <a:pt x="13481" y="6395"/>
                  </a:lnTo>
                  <a:lnTo>
                    <a:pt x="13530" y="6536"/>
                  </a:lnTo>
                  <a:lnTo>
                    <a:pt x="13574" y="6672"/>
                  </a:lnTo>
                  <a:lnTo>
                    <a:pt x="13622" y="6809"/>
                  </a:lnTo>
                  <a:lnTo>
                    <a:pt x="13759" y="6902"/>
                  </a:lnTo>
                  <a:lnTo>
                    <a:pt x="13803" y="7043"/>
                  </a:lnTo>
                  <a:lnTo>
                    <a:pt x="13896" y="7180"/>
                  </a:lnTo>
                  <a:lnTo>
                    <a:pt x="13988" y="7316"/>
                  </a:lnTo>
                  <a:lnTo>
                    <a:pt x="14125" y="7453"/>
                  </a:lnTo>
                  <a:lnTo>
                    <a:pt x="14266" y="7546"/>
                  </a:lnTo>
                  <a:lnTo>
                    <a:pt x="14310" y="7687"/>
                  </a:lnTo>
                  <a:lnTo>
                    <a:pt x="14451" y="7775"/>
                  </a:lnTo>
                  <a:lnTo>
                    <a:pt x="14588" y="7775"/>
                  </a:lnTo>
                  <a:lnTo>
                    <a:pt x="14725" y="7775"/>
                  </a:lnTo>
                  <a:lnTo>
                    <a:pt x="14861" y="7775"/>
                  </a:lnTo>
                  <a:lnTo>
                    <a:pt x="15002" y="7775"/>
                  </a:lnTo>
                  <a:lnTo>
                    <a:pt x="15139" y="7731"/>
                  </a:lnTo>
                  <a:lnTo>
                    <a:pt x="15276" y="7687"/>
                  </a:lnTo>
                  <a:lnTo>
                    <a:pt x="15417" y="7687"/>
                  </a:lnTo>
                  <a:lnTo>
                    <a:pt x="15554" y="7687"/>
                  </a:lnTo>
                  <a:lnTo>
                    <a:pt x="15690" y="7731"/>
                  </a:lnTo>
                  <a:lnTo>
                    <a:pt x="15831" y="7775"/>
                  </a:lnTo>
                  <a:lnTo>
                    <a:pt x="15968" y="7823"/>
                  </a:lnTo>
                  <a:lnTo>
                    <a:pt x="16105" y="7823"/>
                  </a:lnTo>
                  <a:lnTo>
                    <a:pt x="16242" y="7823"/>
                  </a:lnTo>
                  <a:lnTo>
                    <a:pt x="16334" y="7687"/>
                  </a:lnTo>
                  <a:lnTo>
                    <a:pt x="16427" y="7546"/>
                  </a:lnTo>
                  <a:lnTo>
                    <a:pt x="16475" y="7409"/>
                  </a:lnTo>
                  <a:lnTo>
                    <a:pt x="16568" y="7272"/>
                  </a:lnTo>
                  <a:lnTo>
                    <a:pt x="16705" y="7180"/>
                  </a:lnTo>
                  <a:lnTo>
                    <a:pt x="16841" y="7131"/>
                  </a:lnTo>
                  <a:lnTo>
                    <a:pt x="16890" y="7272"/>
                  </a:lnTo>
                  <a:lnTo>
                    <a:pt x="16890" y="7409"/>
                  </a:lnTo>
                  <a:lnTo>
                    <a:pt x="16841" y="7546"/>
                  </a:lnTo>
                  <a:lnTo>
                    <a:pt x="16797" y="7687"/>
                  </a:lnTo>
                  <a:lnTo>
                    <a:pt x="16890" y="7823"/>
                  </a:lnTo>
                  <a:lnTo>
                    <a:pt x="17026" y="7916"/>
                  </a:lnTo>
                  <a:lnTo>
                    <a:pt x="17119" y="8053"/>
                  </a:lnTo>
                  <a:lnTo>
                    <a:pt x="17163" y="8189"/>
                  </a:lnTo>
                  <a:lnTo>
                    <a:pt x="17256" y="8330"/>
                  </a:lnTo>
                  <a:lnTo>
                    <a:pt x="17256" y="8467"/>
                  </a:lnTo>
                  <a:lnTo>
                    <a:pt x="17256" y="8605"/>
                  </a:lnTo>
                  <a:lnTo>
                    <a:pt x="17212" y="8746"/>
                  </a:lnTo>
                  <a:lnTo>
                    <a:pt x="17212" y="8883"/>
                  </a:lnTo>
                  <a:lnTo>
                    <a:pt x="17212" y="9019"/>
                  </a:lnTo>
                  <a:lnTo>
                    <a:pt x="17119" y="9160"/>
                  </a:lnTo>
                  <a:lnTo>
                    <a:pt x="16978" y="9249"/>
                  </a:lnTo>
                  <a:lnTo>
                    <a:pt x="16841" y="9341"/>
                  </a:lnTo>
                  <a:lnTo>
                    <a:pt x="16705" y="9482"/>
                  </a:lnTo>
                  <a:lnTo>
                    <a:pt x="16568" y="9571"/>
                  </a:lnTo>
                  <a:lnTo>
                    <a:pt x="16427" y="9663"/>
                  </a:lnTo>
                  <a:lnTo>
                    <a:pt x="16290" y="9756"/>
                  </a:lnTo>
                  <a:lnTo>
                    <a:pt x="16153" y="9848"/>
                  </a:lnTo>
                  <a:lnTo>
                    <a:pt x="16012" y="9985"/>
                  </a:lnTo>
                  <a:lnTo>
                    <a:pt x="15876" y="10078"/>
                  </a:lnTo>
                  <a:lnTo>
                    <a:pt x="15831" y="10219"/>
                  </a:lnTo>
                  <a:lnTo>
                    <a:pt x="15739" y="10356"/>
                  </a:lnTo>
                  <a:lnTo>
                    <a:pt x="15646" y="10492"/>
                  </a:lnTo>
                  <a:lnTo>
                    <a:pt x="15554" y="10629"/>
                  </a:lnTo>
                  <a:lnTo>
                    <a:pt x="15461" y="10770"/>
                  </a:lnTo>
                  <a:lnTo>
                    <a:pt x="15368" y="10907"/>
                  </a:lnTo>
                  <a:lnTo>
                    <a:pt x="15324" y="11043"/>
                  </a:lnTo>
                  <a:lnTo>
                    <a:pt x="15183" y="11092"/>
                  </a:lnTo>
                  <a:lnTo>
                    <a:pt x="15046" y="11092"/>
                  </a:lnTo>
                  <a:lnTo>
                    <a:pt x="14910" y="11092"/>
                  </a:lnTo>
                  <a:lnTo>
                    <a:pt x="14773" y="11092"/>
                  </a:lnTo>
                  <a:lnTo>
                    <a:pt x="14632" y="11043"/>
                  </a:lnTo>
                  <a:lnTo>
                    <a:pt x="14495" y="11043"/>
                  </a:lnTo>
                  <a:lnTo>
                    <a:pt x="14359" y="10951"/>
                  </a:lnTo>
                  <a:lnTo>
                    <a:pt x="14217" y="10863"/>
                  </a:lnTo>
                  <a:lnTo>
                    <a:pt x="14081" y="10770"/>
                  </a:lnTo>
                  <a:lnTo>
                    <a:pt x="13944" y="10770"/>
                  </a:lnTo>
                  <a:lnTo>
                    <a:pt x="13803" y="10770"/>
                  </a:lnTo>
                  <a:lnTo>
                    <a:pt x="13666" y="10770"/>
                  </a:lnTo>
                  <a:lnTo>
                    <a:pt x="13530" y="10814"/>
                  </a:lnTo>
                  <a:lnTo>
                    <a:pt x="13437" y="10951"/>
                  </a:lnTo>
                  <a:lnTo>
                    <a:pt x="13300" y="11043"/>
                  </a:lnTo>
                  <a:lnTo>
                    <a:pt x="13159" y="11043"/>
                  </a:lnTo>
                  <a:lnTo>
                    <a:pt x="12793" y="11043"/>
                  </a:lnTo>
                  <a:lnTo>
                    <a:pt x="12656" y="11043"/>
                  </a:lnTo>
                  <a:lnTo>
                    <a:pt x="12515" y="11043"/>
                  </a:lnTo>
                  <a:lnTo>
                    <a:pt x="12379" y="11043"/>
                  </a:lnTo>
                  <a:lnTo>
                    <a:pt x="12242" y="11043"/>
                  </a:lnTo>
                  <a:lnTo>
                    <a:pt x="12101" y="10999"/>
                  </a:lnTo>
                  <a:lnTo>
                    <a:pt x="11964" y="10951"/>
                  </a:lnTo>
                  <a:lnTo>
                    <a:pt x="11827" y="10814"/>
                  </a:lnTo>
                  <a:lnTo>
                    <a:pt x="11686" y="10722"/>
                  </a:lnTo>
                  <a:lnTo>
                    <a:pt x="11550" y="10629"/>
                  </a:lnTo>
                  <a:lnTo>
                    <a:pt x="11413" y="10629"/>
                  </a:lnTo>
                  <a:lnTo>
                    <a:pt x="11276" y="10585"/>
                  </a:lnTo>
                  <a:lnTo>
                    <a:pt x="11135" y="10585"/>
                  </a:lnTo>
                  <a:lnTo>
                    <a:pt x="10998" y="10585"/>
                  </a:lnTo>
                  <a:lnTo>
                    <a:pt x="10862" y="10585"/>
                  </a:lnTo>
                  <a:lnTo>
                    <a:pt x="10491" y="10585"/>
                  </a:lnTo>
                  <a:lnTo>
                    <a:pt x="10355" y="10585"/>
                  </a:lnTo>
                  <a:lnTo>
                    <a:pt x="10218" y="10585"/>
                  </a:lnTo>
                  <a:lnTo>
                    <a:pt x="10077" y="10585"/>
                  </a:lnTo>
                  <a:lnTo>
                    <a:pt x="9940" y="10585"/>
                  </a:lnTo>
                  <a:lnTo>
                    <a:pt x="9803" y="10585"/>
                  </a:lnTo>
                  <a:lnTo>
                    <a:pt x="9662" y="10629"/>
                  </a:lnTo>
                  <a:lnTo>
                    <a:pt x="9526" y="10629"/>
                  </a:lnTo>
                  <a:lnTo>
                    <a:pt x="9389" y="10677"/>
                  </a:lnTo>
                  <a:lnTo>
                    <a:pt x="9248" y="10722"/>
                  </a:lnTo>
                  <a:lnTo>
                    <a:pt x="9204" y="10863"/>
                  </a:lnTo>
                  <a:lnTo>
                    <a:pt x="9204" y="10999"/>
                  </a:lnTo>
                  <a:lnTo>
                    <a:pt x="9204" y="11136"/>
                  </a:lnTo>
                  <a:lnTo>
                    <a:pt x="9204" y="11277"/>
                  </a:lnTo>
                  <a:lnTo>
                    <a:pt x="9067" y="11365"/>
                  </a:lnTo>
                  <a:lnTo>
                    <a:pt x="8925" y="11321"/>
                  </a:lnTo>
                  <a:lnTo>
                    <a:pt x="8788" y="11229"/>
                  </a:lnTo>
                  <a:lnTo>
                    <a:pt x="8695" y="11092"/>
                  </a:lnTo>
                  <a:lnTo>
                    <a:pt x="8603" y="10951"/>
                  </a:lnTo>
                  <a:lnTo>
                    <a:pt x="8466" y="10814"/>
                  </a:lnTo>
                  <a:lnTo>
                    <a:pt x="8329" y="10722"/>
                  </a:lnTo>
                  <a:lnTo>
                    <a:pt x="8188" y="10629"/>
                  </a:lnTo>
                  <a:lnTo>
                    <a:pt x="8052" y="10541"/>
                  </a:lnTo>
                  <a:lnTo>
                    <a:pt x="7959" y="10400"/>
                  </a:lnTo>
                  <a:lnTo>
                    <a:pt x="7822" y="10307"/>
                  </a:lnTo>
                  <a:lnTo>
                    <a:pt x="7686" y="10170"/>
                  </a:lnTo>
                  <a:lnTo>
                    <a:pt x="7593" y="10034"/>
                  </a:lnTo>
                  <a:lnTo>
                    <a:pt x="7452" y="9985"/>
                  </a:lnTo>
                  <a:lnTo>
                    <a:pt x="7315" y="9941"/>
                  </a:lnTo>
                  <a:lnTo>
                    <a:pt x="7179" y="9941"/>
                  </a:lnTo>
                  <a:lnTo>
                    <a:pt x="7042" y="9941"/>
                  </a:lnTo>
                  <a:lnTo>
                    <a:pt x="6671" y="9941"/>
                  </a:lnTo>
                  <a:lnTo>
                    <a:pt x="6535" y="9848"/>
                  </a:lnTo>
                  <a:lnTo>
                    <a:pt x="6486" y="9712"/>
                  </a:lnTo>
                  <a:lnTo>
                    <a:pt x="6486" y="9571"/>
                  </a:lnTo>
                  <a:lnTo>
                    <a:pt x="6442" y="9434"/>
                  </a:lnTo>
                  <a:lnTo>
                    <a:pt x="6442" y="9297"/>
                  </a:lnTo>
                  <a:lnTo>
                    <a:pt x="6442" y="9160"/>
                  </a:lnTo>
                  <a:lnTo>
                    <a:pt x="6442" y="9019"/>
                  </a:lnTo>
                  <a:lnTo>
                    <a:pt x="6442" y="8883"/>
                  </a:lnTo>
                  <a:lnTo>
                    <a:pt x="6442" y="8746"/>
                  </a:lnTo>
                  <a:lnTo>
                    <a:pt x="6442" y="8605"/>
                  </a:lnTo>
                  <a:lnTo>
                    <a:pt x="6394" y="8467"/>
                  </a:lnTo>
                  <a:lnTo>
                    <a:pt x="6350" y="8330"/>
                  </a:lnTo>
                  <a:lnTo>
                    <a:pt x="6350" y="8189"/>
                  </a:lnTo>
                  <a:lnTo>
                    <a:pt x="6257" y="8053"/>
                  </a:lnTo>
                  <a:lnTo>
                    <a:pt x="6120" y="7960"/>
                  </a:lnTo>
                  <a:lnTo>
                    <a:pt x="5983" y="7960"/>
                  </a:lnTo>
                  <a:lnTo>
                    <a:pt x="5842" y="7960"/>
                  </a:lnTo>
                  <a:lnTo>
                    <a:pt x="5706" y="7960"/>
                  </a:lnTo>
                  <a:lnTo>
                    <a:pt x="5335" y="7960"/>
                  </a:lnTo>
                  <a:lnTo>
                    <a:pt x="5199" y="8009"/>
                  </a:lnTo>
                  <a:lnTo>
                    <a:pt x="4833" y="8009"/>
                  </a:lnTo>
                  <a:lnTo>
                    <a:pt x="4691" y="8053"/>
                  </a:lnTo>
                  <a:lnTo>
                    <a:pt x="4555" y="8053"/>
                  </a:lnTo>
                  <a:lnTo>
                    <a:pt x="4418" y="8053"/>
                  </a:lnTo>
                  <a:lnTo>
                    <a:pt x="4277" y="8053"/>
                  </a:lnTo>
                  <a:lnTo>
                    <a:pt x="4140" y="8053"/>
                  </a:lnTo>
                  <a:lnTo>
                    <a:pt x="4004" y="7960"/>
                  </a:lnTo>
                  <a:lnTo>
                    <a:pt x="3867" y="7867"/>
                  </a:lnTo>
                  <a:lnTo>
                    <a:pt x="3726" y="7775"/>
                  </a:lnTo>
                  <a:lnTo>
                    <a:pt x="3589" y="7638"/>
                  </a:lnTo>
                  <a:lnTo>
                    <a:pt x="3452" y="7594"/>
                  </a:lnTo>
                  <a:lnTo>
                    <a:pt x="3311" y="7546"/>
                  </a:lnTo>
                  <a:lnTo>
                    <a:pt x="2989" y="7501"/>
                  </a:lnTo>
                  <a:lnTo>
                    <a:pt x="2667" y="7501"/>
                  </a:lnTo>
                  <a:lnTo>
                    <a:pt x="2301" y="7453"/>
                  </a:lnTo>
                  <a:lnTo>
                    <a:pt x="2160" y="7409"/>
                  </a:lnTo>
                  <a:lnTo>
                    <a:pt x="2024" y="7409"/>
                  </a:lnTo>
                  <a:lnTo>
                    <a:pt x="1887" y="7272"/>
                  </a:lnTo>
                  <a:lnTo>
                    <a:pt x="1794" y="7131"/>
                  </a:lnTo>
                  <a:lnTo>
                    <a:pt x="1658" y="7043"/>
                  </a:lnTo>
                  <a:lnTo>
                    <a:pt x="1516" y="6950"/>
                  </a:lnTo>
                  <a:lnTo>
                    <a:pt x="1380" y="6950"/>
                  </a:lnTo>
                  <a:lnTo>
                    <a:pt x="1243" y="6950"/>
                  </a:lnTo>
                  <a:lnTo>
                    <a:pt x="921" y="6950"/>
                  </a:lnTo>
                  <a:lnTo>
                    <a:pt x="780" y="6994"/>
                  </a:lnTo>
                  <a:lnTo>
                    <a:pt x="643" y="7043"/>
                  </a:lnTo>
                  <a:lnTo>
                    <a:pt x="551" y="7180"/>
                  </a:lnTo>
                  <a:lnTo>
                    <a:pt x="458" y="7316"/>
                  </a:lnTo>
                  <a:lnTo>
                    <a:pt x="321" y="7453"/>
                  </a:lnTo>
                  <a:lnTo>
                    <a:pt x="229" y="7594"/>
                  </a:lnTo>
                  <a:lnTo>
                    <a:pt x="92" y="7687"/>
                  </a:lnTo>
                  <a:lnTo>
                    <a:pt x="0" y="7823"/>
                  </a:lnTo>
                  <a:lnTo>
                    <a:pt x="0" y="7687"/>
                  </a:lnTo>
                  <a:lnTo>
                    <a:pt x="0" y="7546"/>
                  </a:lnTo>
                  <a:lnTo>
                    <a:pt x="0" y="7409"/>
                  </a:lnTo>
                  <a:lnTo>
                    <a:pt x="0" y="7272"/>
                  </a:lnTo>
                  <a:lnTo>
                    <a:pt x="0" y="7131"/>
                  </a:lnTo>
                  <a:lnTo>
                    <a:pt x="0" y="6765"/>
                  </a:lnTo>
                  <a:lnTo>
                    <a:pt x="0" y="6351"/>
                  </a:lnTo>
                  <a:lnTo>
                    <a:pt x="0" y="5984"/>
                  </a:lnTo>
                  <a:lnTo>
                    <a:pt x="0" y="5570"/>
                  </a:lnTo>
                  <a:lnTo>
                    <a:pt x="0" y="5155"/>
                  </a:lnTo>
                  <a:lnTo>
                    <a:pt x="0" y="4741"/>
                  </a:lnTo>
                  <a:lnTo>
                    <a:pt x="0" y="4600"/>
                  </a:lnTo>
                  <a:lnTo>
                    <a:pt x="0" y="4463"/>
                  </a:lnTo>
                  <a:lnTo>
                    <a:pt x="0" y="4326"/>
                  </a:lnTo>
                  <a:lnTo>
                    <a:pt x="0" y="4005"/>
                  </a:lnTo>
                  <a:lnTo>
                    <a:pt x="0" y="3590"/>
                  </a:lnTo>
                  <a:lnTo>
                    <a:pt x="0" y="3220"/>
                  </a:lnTo>
                  <a:lnTo>
                    <a:pt x="0" y="2898"/>
                  </a:lnTo>
                  <a:lnTo>
                    <a:pt x="0" y="2575"/>
                  </a:lnTo>
                  <a:lnTo>
                    <a:pt x="0" y="2209"/>
                  </a:lnTo>
                  <a:lnTo>
                    <a:pt x="0" y="1838"/>
                  </a:lnTo>
                  <a:lnTo>
                    <a:pt x="0" y="1424"/>
                  </a:lnTo>
                  <a:lnTo>
                    <a:pt x="0" y="1014"/>
                  </a:lnTo>
                  <a:lnTo>
                    <a:pt x="0" y="599"/>
                  </a:lnTo>
                  <a:lnTo>
                    <a:pt x="0" y="458"/>
                  </a:lnTo>
                  <a:lnTo>
                    <a:pt x="0" y="321"/>
                  </a:lnTo>
                  <a:lnTo>
                    <a:pt x="0" y="185"/>
                  </a:lnTo>
                  <a:lnTo>
                    <a:pt x="136" y="92"/>
                  </a:lnTo>
                  <a:lnTo>
                    <a:pt x="277" y="92"/>
                  </a:lnTo>
                  <a:lnTo>
                    <a:pt x="414" y="92"/>
                  </a:lnTo>
                  <a:lnTo>
                    <a:pt x="551" y="92"/>
                  </a:lnTo>
                  <a:lnTo>
                    <a:pt x="692" y="92"/>
                  </a:lnTo>
                  <a:lnTo>
                    <a:pt x="1058" y="92"/>
                  </a:lnTo>
                  <a:lnTo>
                    <a:pt x="1380" y="92"/>
                  </a:lnTo>
                  <a:lnTo>
                    <a:pt x="1750" y="92"/>
                  </a:lnTo>
                  <a:lnTo>
                    <a:pt x="2160" y="92"/>
                  </a:lnTo>
                  <a:lnTo>
                    <a:pt x="2482" y="92"/>
                  </a:lnTo>
                  <a:lnTo>
                    <a:pt x="2853" y="92"/>
                  </a:lnTo>
                  <a:lnTo>
                    <a:pt x="3175" y="92"/>
                  </a:lnTo>
                  <a:lnTo>
                    <a:pt x="3311" y="92"/>
                  </a:lnTo>
                  <a:lnTo>
                    <a:pt x="3452" y="92"/>
                  </a:lnTo>
                  <a:lnTo>
                    <a:pt x="3175" y="0"/>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4952880" y="4648320"/>
              <a:ext cx="332280" cy="1548000"/>
            </a:xfrm>
            <a:custGeom>
              <a:avLst/>
              <a:gdLst/>
              <a:ahLst/>
              <a:rect l="0" t="0" r="r" b="b"/>
              <a:pathLst>
                <a:path w="923" h="4300">
                  <a:moveTo>
                    <a:pt x="0" y="0"/>
                  </a:moveTo>
                  <a:lnTo>
                    <a:pt x="92" y="154"/>
                  </a:lnTo>
                  <a:lnTo>
                    <a:pt x="185" y="295"/>
                  </a:lnTo>
                  <a:lnTo>
                    <a:pt x="185" y="432"/>
                  </a:lnTo>
                  <a:lnTo>
                    <a:pt x="185" y="568"/>
                  </a:lnTo>
                  <a:lnTo>
                    <a:pt x="185" y="709"/>
                  </a:lnTo>
                  <a:lnTo>
                    <a:pt x="136" y="846"/>
                  </a:lnTo>
                  <a:lnTo>
                    <a:pt x="136" y="983"/>
                  </a:lnTo>
                  <a:lnTo>
                    <a:pt x="136" y="1124"/>
                  </a:lnTo>
                  <a:lnTo>
                    <a:pt x="136" y="1261"/>
                  </a:lnTo>
                  <a:lnTo>
                    <a:pt x="136" y="1397"/>
                  </a:lnTo>
                  <a:lnTo>
                    <a:pt x="136" y="1538"/>
                  </a:lnTo>
                  <a:lnTo>
                    <a:pt x="136" y="1675"/>
                  </a:lnTo>
                  <a:lnTo>
                    <a:pt x="136" y="1812"/>
                  </a:lnTo>
                  <a:lnTo>
                    <a:pt x="185" y="1949"/>
                  </a:lnTo>
                  <a:lnTo>
                    <a:pt x="185" y="2090"/>
                  </a:lnTo>
                  <a:lnTo>
                    <a:pt x="185" y="2227"/>
                  </a:lnTo>
                  <a:lnTo>
                    <a:pt x="229" y="2364"/>
                  </a:lnTo>
                  <a:lnTo>
                    <a:pt x="278" y="2505"/>
                  </a:lnTo>
                  <a:lnTo>
                    <a:pt x="322" y="2642"/>
                  </a:lnTo>
                  <a:lnTo>
                    <a:pt x="415" y="2779"/>
                  </a:lnTo>
                  <a:lnTo>
                    <a:pt x="508" y="2920"/>
                  </a:lnTo>
                  <a:lnTo>
                    <a:pt x="600" y="3056"/>
                  </a:lnTo>
                  <a:lnTo>
                    <a:pt x="600" y="3193"/>
                  </a:lnTo>
                  <a:lnTo>
                    <a:pt x="644" y="3330"/>
                  </a:lnTo>
                  <a:lnTo>
                    <a:pt x="694" y="3471"/>
                  </a:lnTo>
                  <a:lnTo>
                    <a:pt x="782" y="3608"/>
                  </a:lnTo>
                  <a:lnTo>
                    <a:pt x="875" y="3744"/>
                  </a:lnTo>
                  <a:lnTo>
                    <a:pt x="923" y="3885"/>
                  </a:lnTo>
                  <a:lnTo>
                    <a:pt x="923" y="4022"/>
                  </a:lnTo>
                  <a:lnTo>
                    <a:pt x="923" y="4159"/>
                  </a:lnTo>
                  <a:lnTo>
                    <a:pt x="923" y="4300"/>
                  </a:lnTo>
                  <a:lnTo>
                    <a:pt x="848" y="3811"/>
                  </a:lnTo>
                  <a:lnTo>
                    <a:pt x="0" y="0"/>
                  </a:lnTo>
                  <a:close/>
                </a:path>
              </a:pathLst>
            </a:custGeom>
            <a:solidFill>
              <a:srgbClr val="114ffb"/>
            </a:solid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5135400" y="4937040"/>
              <a:ext cx="1573560" cy="1908360"/>
            </a:xfrm>
            <a:custGeom>
              <a:avLst/>
              <a:gdLst/>
              <a:ahLst/>
              <a:rect l="0" t="0" r="r" b="b"/>
              <a:pathLst>
                <a:path w="4371" h="5301">
                  <a:moveTo>
                    <a:pt x="127" y="44"/>
                  </a:moveTo>
                  <a:lnTo>
                    <a:pt x="273" y="180"/>
                  </a:lnTo>
                  <a:lnTo>
                    <a:pt x="273" y="321"/>
                  </a:lnTo>
                  <a:lnTo>
                    <a:pt x="321" y="458"/>
                  </a:lnTo>
                  <a:lnTo>
                    <a:pt x="366" y="595"/>
                  </a:lnTo>
                  <a:lnTo>
                    <a:pt x="414" y="736"/>
                  </a:lnTo>
                  <a:lnTo>
                    <a:pt x="507" y="873"/>
                  </a:lnTo>
                  <a:lnTo>
                    <a:pt x="595" y="1009"/>
                  </a:lnTo>
                  <a:lnTo>
                    <a:pt x="643" y="1146"/>
                  </a:lnTo>
                  <a:lnTo>
                    <a:pt x="736" y="1287"/>
                  </a:lnTo>
                  <a:lnTo>
                    <a:pt x="780" y="1424"/>
                  </a:lnTo>
                  <a:lnTo>
                    <a:pt x="917" y="1516"/>
                  </a:lnTo>
                  <a:lnTo>
                    <a:pt x="965" y="1653"/>
                  </a:lnTo>
                  <a:lnTo>
                    <a:pt x="1058" y="1794"/>
                  </a:lnTo>
                  <a:lnTo>
                    <a:pt x="1150" y="1931"/>
                  </a:lnTo>
                  <a:lnTo>
                    <a:pt x="1195" y="2068"/>
                  </a:lnTo>
                  <a:lnTo>
                    <a:pt x="1243" y="2204"/>
                  </a:lnTo>
                  <a:lnTo>
                    <a:pt x="1331" y="2345"/>
                  </a:lnTo>
                  <a:lnTo>
                    <a:pt x="1424" y="2482"/>
                  </a:lnTo>
                  <a:lnTo>
                    <a:pt x="1516" y="2619"/>
                  </a:lnTo>
                  <a:lnTo>
                    <a:pt x="1653" y="2761"/>
                  </a:lnTo>
                  <a:lnTo>
                    <a:pt x="1746" y="2898"/>
                  </a:lnTo>
                  <a:lnTo>
                    <a:pt x="1794" y="3034"/>
                  </a:lnTo>
                  <a:lnTo>
                    <a:pt x="1887" y="3176"/>
                  </a:lnTo>
                  <a:lnTo>
                    <a:pt x="1975" y="3312"/>
                  </a:lnTo>
                  <a:lnTo>
                    <a:pt x="2068" y="3449"/>
                  </a:lnTo>
                  <a:lnTo>
                    <a:pt x="2160" y="3586"/>
                  </a:lnTo>
                  <a:lnTo>
                    <a:pt x="2302" y="3727"/>
                  </a:lnTo>
                  <a:lnTo>
                    <a:pt x="2391" y="3863"/>
                  </a:lnTo>
                  <a:lnTo>
                    <a:pt x="2439" y="4000"/>
                  </a:lnTo>
                  <a:lnTo>
                    <a:pt x="2439" y="4141"/>
                  </a:lnTo>
                  <a:lnTo>
                    <a:pt x="2439" y="4278"/>
                  </a:lnTo>
                  <a:lnTo>
                    <a:pt x="2439" y="4415"/>
                  </a:lnTo>
                  <a:lnTo>
                    <a:pt x="2483" y="4556"/>
                  </a:lnTo>
                  <a:lnTo>
                    <a:pt x="2483" y="4692"/>
                  </a:lnTo>
                  <a:lnTo>
                    <a:pt x="2576" y="4829"/>
                  </a:lnTo>
                  <a:lnTo>
                    <a:pt x="2712" y="4970"/>
                  </a:lnTo>
                  <a:lnTo>
                    <a:pt x="2805" y="5107"/>
                  </a:lnTo>
                  <a:lnTo>
                    <a:pt x="2946" y="5244"/>
                  </a:lnTo>
                  <a:lnTo>
                    <a:pt x="3083" y="5301"/>
                  </a:lnTo>
                  <a:lnTo>
                    <a:pt x="3220" y="5301"/>
                  </a:lnTo>
                  <a:lnTo>
                    <a:pt x="3361" y="5301"/>
                  </a:lnTo>
                  <a:lnTo>
                    <a:pt x="3497" y="5301"/>
                  </a:lnTo>
                  <a:lnTo>
                    <a:pt x="3634" y="5301"/>
                  </a:lnTo>
                  <a:lnTo>
                    <a:pt x="3771" y="5301"/>
                  </a:lnTo>
                  <a:lnTo>
                    <a:pt x="3912" y="5301"/>
                  </a:lnTo>
                  <a:lnTo>
                    <a:pt x="4049" y="5301"/>
                  </a:lnTo>
                  <a:lnTo>
                    <a:pt x="4185" y="5301"/>
                  </a:lnTo>
                  <a:lnTo>
                    <a:pt x="4326" y="5301"/>
                  </a:lnTo>
                  <a:lnTo>
                    <a:pt x="4371" y="5151"/>
                  </a:lnTo>
                  <a:lnTo>
                    <a:pt x="4278" y="5014"/>
                  </a:lnTo>
                  <a:lnTo>
                    <a:pt x="4234" y="4878"/>
                  </a:lnTo>
                  <a:lnTo>
                    <a:pt x="4185" y="4737"/>
                  </a:lnTo>
                  <a:lnTo>
                    <a:pt x="4093" y="4600"/>
                  </a:lnTo>
                  <a:lnTo>
                    <a:pt x="4005" y="4463"/>
                  </a:lnTo>
                  <a:lnTo>
                    <a:pt x="3912" y="4322"/>
                  </a:lnTo>
                  <a:lnTo>
                    <a:pt x="3863" y="4185"/>
                  </a:lnTo>
                  <a:lnTo>
                    <a:pt x="3771" y="4049"/>
                  </a:lnTo>
                  <a:lnTo>
                    <a:pt x="3634" y="3912"/>
                  </a:lnTo>
                  <a:lnTo>
                    <a:pt x="3542" y="3771"/>
                  </a:lnTo>
                  <a:lnTo>
                    <a:pt x="3405" y="3634"/>
                  </a:lnTo>
                  <a:lnTo>
                    <a:pt x="3268" y="3542"/>
                  </a:lnTo>
                  <a:lnTo>
                    <a:pt x="3176" y="3405"/>
                  </a:lnTo>
                  <a:lnTo>
                    <a:pt x="3034" y="3312"/>
                  </a:lnTo>
                  <a:lnTo>
                    <a:pt x="2946" y="3176"/>
                  </a:lnTo>
                  <a:lnTo>
                    <a:pt x="2898" y="3034"/>
                  </a:lnTo>
                  <a:lnTo>
                    <a:pt x="2854" y="2898"/>
                  </a:lnTo>
                  <a:lnTo>
                    <a:pt x="2805" y="2761"/>
                  </a:lnTo>
                  <a:lnTo>
                    <a:pt x="2712" y="2619"/>
                  </a:lnTo>
                  <a:lnTo>
                    <a:pt x="2624" y="2482"/>
                  </a:lnTo>
                  <a:lnTo>
                    <a:pt x="2532" y="2345"/>
                  </a:lnTo>
                  <a:lnTo>
                    <a:pt x="2439" y="2204"/>
                  </a:lnTo>
                  <a:lnTo>
                    <a:pt x="2346" y="2068"/>
                  </a:lnTo>
                  <a:lnTo>
                    <a:pt x="2254" y="1931"/>
                  </a:lnTo>
                  <a:lnTo>
                    <a:pt x="2210" y="1794"/>
                  </a:lnTo>
                  <a:lnTo>
                    <a:pt x="2068" y="1702"/>
                  </a:lnTo>
                  <a:lnTo>
                    <a:pt x="1931" y="1609"/>
                  </a:lnTo>
                  <a:lnTo>
                    <a:pt x="1838" y="1468"/>
                  </a:lnTo>
                  <a:lnTo>
                    <a:pt x="1702" y="1380"/>
                  </a:lnTo>
                  <a:lnTo>
                    <a:pt x="1565" y="1287"/>
                  </a:lnTo>
                  <a:lnTo>
                    <a:pt x="1424" y="1195"/>
                  </a:lnTo>
                  <a:lnTo>
                    <a:pt x="1287" y="1102"/>
                  </a:lnTo>
                  <a:lnTo>
                    <a:pt x="1150" y="965"/>
                  </a:lnTo>
                  <a:lnTo>
                    <a:pt x="1009" y="824"/>
                  </a:lnTo>
                  <a:lnTo>
                    <a:pt x="965" y="687"/>
                  </a:lnTo>
                  <a:lnTo>
                    <a:pt x="965" y="551"/>
                  </a:lnTo>
                  <a:lnTo>
                    <a:pt x="1009" y="410"/>
                  </a:lnTo>
                  <a:lnTo>
                    <a:pt x="1058" y="273"/>
                  </a:lnTo>
                  <a:lnTo>
                    <a:pt x="1102" y="136"/>
                  </a:lnTo>
                  <a:lnTo>
                    <a:pt x="1102" y="0"/>
                  </a:lnTo>
                  <a:lnTo>
                    <a:pt x="965" y="44"/>
                  </a:lnTo>
                  <a:lnTo>
                    <a:pt x="873" y="180"/>
                  </a:lnTo>
                  <a:lnTo>
                    <a:pt x="780" y="321"/>
                  </a:lnTo>
                  <a:lnTo>
                    <a:pt x="687" y="458"/>
                  </a:lnTo>
                  <a:lnTo>
                    <a:pt x="687" y="595"/>
                  </a:lnTo>
                  <a:lnTo>
                    <a:pt x="551" y="502"/>
                  </a:lnTo>
                  <a:lnTo>
                    <a:pt x="507" y="366"/>
                  </a:lnTo>
                  <a:lnTo>
                    <a:pt x="414" y="229"/>
                  </a:lnTo>
                  <a:lnTo>
                    <a:pt x="273" y="180"/>
                  </a:lnTo>
                  <a:lnTo>
                    <a:pt x="136" y="88"/>
                  </a:lnTo>
                  <a:lnTo>
                    <a:pt x="0" y="44"/>
                  </a:lnTo>
                  <a:lnTo>
                    <a:pt x="127" y="44"/>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380880" y="6172200"/>
              <a:ext cx="1219320" cy="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5" name=""/>
            <p:cNvSpPr/>
            <p:nvPr/>
          </p:nvSpPr>
          <p:spPr>
            <a:xfrm>
              <a:off x="1736640" y="5180040"/>
              <a:ext cx="4351320" cy="64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6" name=""/>
            <p:cNvSpPr txBox="1"/>
            <p:nvPr/>
          </p:nvSpPr>
          <p:spPr>
            <a:xfrm>
              <a:off x="1660680" y="5865840"/>
              <a:ext cx="4476600" cy="641520"/>
            </a:xfrm>
            <a:prstGeom prst="rect">
              <a:avLst/>
            </a:prstGeom>
            <a:noFill/>
            <a:ln w="0">
              <a:noFill/>
            </a:ln>
          </p:spPr>
          <p:txBody>
            <a:bodyPr lIns="0" rIns="0" tIns="0" bIns="0" anchor="t">
              <a:noAutofit/>
            </a:bodyPr>
            <a:p>
              <a:pPr>
                <a:lnSpc>
                  <a:spcPct val="100000"/>
                </a:lnSpc>
              </a:pPr>
              <a:r>
                <a:rPr b="1" lang="en-US" sz="3600" spc="-1" strike="noStrike">
                  <a:solidFill>
                    <a:srgbClr val="fcfeb9"/>
                  </a:solidFill>
                  <a:latin typeface="Arial Narrow"/>
                  <a:ea typeface="Arial Narrow"/>
                </a:rPr>
                <a:t>2nd Missionary Journey</a:t>
              </a:r>
              <a:endParaRPr b="0" lang="en-US" sz="3600" spc="-1" strike="noStrike">
                <a:solidFill>
                  <a:srgbClr val="000000"/>
                </a:solidFill>
                <a:latin typeface="Arial"/>
              </a:endParaRPr>
            </a:p>
          </p:txBody>
        </p:sp>
        <p:sp>
          <p:nvSpPr>
            <p:cNvPr id="677" name=""/>
            <p:cNvSpPr/>
            <p:nvPr/>
          </p:nvSpPr>
          <p:spPr>
            <a:xfrm>
              <a:off x="5797440" y="4419720"/>
              <a:ext cx="167040" cy="201960"/>
            </a:xfrm>
            <a:custGeom>
              <a:avLst/>
              <a:gdLst/>
              <a:ahLst/>
              <a:rect l="0" t="0" r="r" b="b"/>
              <a:pathLst>
                <a:path w="464" h="561">
                  <a:moveTo>
                    <a:pt x="406" y="0"/>
                  </a:moveTo>
                  <a:lnTo>
                    <a:pt x="229" y="101"/>
                  </a:lnTo>
                  <a:lnTo>
                    <a:pt x="92" y="145"/>
                  </a:lnTo>
                  <a:lnTo>
                    <a:pt x="0" y="287"/>
                  </a:lnTo>
                  <a:lnTo>
                    <a:pt x="48" y="424"/>
                  </a:lnTo>
                  <a:lnTo>
                    <a:pt x="92" y="561"/>
                  </a:lnTo>
                  <a:lnTo>
                    <a:pt x="229" y="561"/>
                  </a:lnTo>
                  <a:lnTo>
                    <a:pt x="322" y="424"/>
                  </a:lnTo>
                  <a:lnTo>
                    <a:pt x="415" y="287"/>
                  </a:lnTo>
                  <a:lnTo>
                    <a:pt x="415" y="145"/>
                  </a:lnTo>
                  <a:lnTo>
                    <a:pt x="464" y="8"/>
                  </a:lnTo>
                  <a:lnTo>
                    <a:pt x="406"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8" name=""/>
            <p:cNvSpPr txBox="1"/>
            <p:nvPr/>
          </p:nvSpPr>
          <p:spPr>
            <a:xfrm>
              <a:off x="5851440" y="4465800"/>
              <a:ext cx="2058840" cy="579600"/>
            </a:xfrm>
            <a:prstGeom prst="rect">
              <a:avLst/>
            </a:prstGeom>
            <a:noFill/>
            <a:ln w="0">
              <a:noFill/>
            </a:ln>
          </p:spPr>
          <p:txBody>
            <a:bodyPr lIns="0" rIns="0" tIns="0" bIns="0" anchor="t">
              <a:noAutofit/>
            </a:bodyPr>
            <a:p>
              <a:pPr>
                <a:lnSpc>
                  <a:spcPct val="100000"/>
                </a:lnSpc>
              </a:pPr>
              <a:r>
                <a:rPr b="0" lang="en-US" sz="3200" spc="-1" strike="noStrike">
                  <a:solidFill>
                    <a:srgbClr val="fcfeb9"/>
                  </a:solidFill>
                  <a:latin typeface="Arial"/>
                  <a:ea typeface="Arial"/>
                </a:rPr>
                <a:t>Jerusalem</a:t>
              </a:r>
              <a:endParaRPr b="0" lang="en-US" sz="3200" spc="-1" strike="noStrike">
                <a:solidFill>
                  <a:srgbClr val="000000"/>
                </a:solidFill>
                <a:latin typeface="Arial"/>
              </a:endParaRPr>
            </a:p>
          </p:txBody>
        </p:sp>
        <p:sp>
          <p:nvSpPr>
            <p:cNvPr id="679" name=""/>
            <p:cNvSpPr txBox="1"/>
            <p:nvPr/>
          </p:nvSpPr>
          <p:spPr>
            <a:xfrm>
              <a:off x="4784760" y="4937040"/>
              <a:ext cx="963720" cy="457200"/>
            </a:xfrm>
            <a:prstGeom prst="rect">
              <a:avLst/>
            </a:prstGeom>
            <a:noFill/>
            <a:ln w="0">
              <a:noFill/>
            </a:ln>
          </p:spPr>
          <p:txBody>
            <a:bodyPr lIns="0" rIns="0" tIns="0" bIns="0" anchor="t">
              <a:noAutofit/>
            </a:bodyPr>
            <a:p>
              <a:pPr>
                <a:lnSpc>
                  <a:spcPct val="100000"/>
                </a:lnSpc>
              </a:pPr>
              <a:r>
                <a:rPr b="0" lang="en-US" sz="2400" spc="-1" strike="noStrike">
                  <a:solidFill>
                    <a:srgbClr val="fcfeb9"/>
                  </a:solidFill>
                  <a:latin typeface="Arial"/>
                  <a:ea typeface="Arial"/>
                </a:rPr>
                <a:t>Egypt</a:t>
              </a:r>
              <a:endParaRPr b="0" lang="en-US" sz="2400" spc="-1" strike="noStrike">
                <a:solidFill>
                  <a:srgbClr val="000000"/>
                </a:solidFill>
                <a:latin typeface="Arial"/>
              </a:endParaRPr>
            </a:p>
          </p:txBody>
        </p:sp>
        <p:sp>
          <p:nvSpPr>
            <p:cNvPr id="680" name=""/>
            <p:cNvSpPr txBox="1"/>
            <p:nvPr/>
          </p:nvSpPr>
          <p:spPr>
            <a:xfrm>
              <a:off x="654120" y="722160"/>
              <a:ext cx="8381880" cy="1162080"/>
            </a:xfrm>
            <a:prstGeom prst="rect">
              <a:avLst/>
            </a:prstGeom>
            <a:noFill/>
            <a:ln w="0">
              <a:noFill/>
            </a:ln>
          </p:spPr>
          <p:txBody>
            <a:bodyPr lIns="0" rIns="0" tIns="0" bIns="0" anchor="t">
              <a:noAutofit/>
            </a:bodyPr>
            <a:p>
              <a:pPr algn="ctr">
                <a:lnSpc>
                  <a:spcPct val="100000"/>
                </a:lnSpc>
              </a:pPr>
              <a:r>
                <a:rPr b="1" lang="en-US" sz="6000" spc="-1" strike="noStrike" u="sng">
                  <a:solidFill>
                    <a:srgbClr val="f6bf69"/>
                  </a:solidFill>
                  <a:uFillTx/>
                  <a:latin typeface="Book Antiqua"/>
                  <a:ea typeface="Book Antiqua"/>
                </a:rPr>
                <a:t>Paul’s Journeys</a:t>
              </a:r>
              <a:endParaRPr b="0" lang="en-US" sz="6000" spc="-1" strike="noStrike">
                <a:solidFill>
                  <a:srgbClr val="000000"/>
                </a:solidFill>
                <a:latin typeface="Arial"/>
              </a:endParaRPr>
            </a:p>
          </p:txBody>
        </p:sp>
        <p:sp>
          <p:nvSpPr>
            <p:cNvPr id="681" name=""/>
            <p:cNvSpPr/>
            <p:nvPr/>
          </p:nvSpPr>
          <p:spPr>
            <a:xfrm>
              <a:off x="3048120" y="243828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2" name=""/>
            <p:cNvSpPr txBox="1"/>
            <p:nvPr/>
          </p:nvSpPr>
          <p:spPr>
            <a:xfrm>
              <a:off x="1584360" y="1979640"/>
              <a:ext cx="1454040" cy="641520"/>
            </a:xfrm>
            <a:prstGeom prst="rect">
              <a:avLst/>
            </a:prstGeom>
            <a:noFill/>
            <a:ln w="0">
              <a:noFill/>
            </a:ln>
          </p:spPr>
          <p:txBody>
            <a:bodyPr lIns="0" rIns="0" tIns="0" bIns="0" anchor="t">
              <a:noAutofit/>
            </a:bodyPr>
            <a:p>
              <a:pPr>
                <a:lnSpc>
                  <a:spcPct val="100000"/>
                </a:lnSpc>
              </a:pPr>
              <a:r>
                <a:rPr b="1" lang="en-US" sz="3600" spc="-1" strike="noStrike">
                  <a:solidFill>
                    <a:srgbClr val="fcfeb9"/>
                  </a:solidFill>
                  <a:latin typeface="Arial"/>
                  <a:ea typeface="Arial"/>
                </a:rPr>
                <a:t>Rome</a:t>
              </a:r>
              <a:endParaRPr b="0" lang="en-US" sz="3600" spc="-1" strike="noStrike">
                <a:solidFill>
                  <a:srgbClr val="000000"/>
                </a:solidFill>
                <a:latin typeface="Arial"/>
              </a:endParaRPr>
            </a:p>
          </p:txBody>
        </p:sp>
        <p:sp>
          <p:nvSpPr>
            <p:cNvPr id="683" name=""/>
            <p:cNvSpPr/>
            <p:nvPr/>
          </p:nvSpPr>
          <p:spPr>
            <a:xfrm>
              <a:off x="4495680" y="251460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4" name=""/>
            <p:cNvSpPr/>
            <p:nvPr/>
          </p:nvSpPr>
          <p:spPr>
            <a:xfrm>
              <a:off x="4343400" y="281952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4267080" y="312408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txBox="1"/>
            <p:nvPr/>
          </p:nvSpPr>
          <p:spPr>
            <a:xfrm>
              <a:off x="4632480" y="2208240"/>
              <a:ext cx="141300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Phillipi</a:t>
              </a:r>
              <a:endParaRPr b="0" lang="en-US" sz="3600" spc="-1" strike="noStrike">
                <a:solidFill>
                  <a:srgbClr val="000000"/>
                </a:solidFill>
                <a:latin typeface="Arial"/>
              </a:endParaRPr>
            </a:p>
          </p:txBody>
        </p:sp>
        <p:sp>
          <p:nvSpPr>
            <p:cNvPr id="687" name=""/>
            <p:cNvSpPr txBox="1"/>
            <p:nvPr/>
          </p:nvSpPr>
          <p:spPr>
            <a:xfrm>
              <a:off x="2955960" y="3427560"/>
              <a:ext cx="151596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Corinth</a:t>
              </a:r>
              <a:endParaRPr b="0" lang="en-US" sz="3600" spc="-1" strike="noStrike">
                <a:solidFill>
                  <a:srgbClr val="000000"/>
                </a:solidFill>
                <a:latin typeface="Arial"/>
              </a:endParaRPr>
            </a:p>
          </p:txBody>
        </p:sp>
        <p:sp>
          <p:nvSpPr>
            <p:cNvPr id="688" name=""/>
            <p:cNvSpPr txBox="1"/>
            <p:nvPr/>
          </p:nvSpPr>
          <p:spPr>
            <a:xfrm>
              <a:off x="3260880" y="2513160"/>
              <a:ext cx="126828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Thess</a:t>
              </a:r>
              <a:endParaRPr b="0" lang="en-US" sz="3600" spc="-1" strike="noStrike">
                <a:solidFill>
                  <a:srgbClr val="000000"/>
                </a:solidFill>
                <a:latin typeface="Arial"/>
              </a:endParaRPr>
            </a:p>
          </p:txBody>
        </p:sp>
        <p:sp>
          <p:nvSpPr>
            <p:cNvPr id="689" name=""/>
            <p:cNvSpPr txBox="1"/>
            <p:nvPr/>
          </p:nvSpPr>
          <p:spPr>
            <a:xfrm>
              <a:off x="2955960" y="2817720"/>
              <a:ext cx="145404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Athens</a:t>
              </a:r>
              <a:endParaRPr b="0" lang="en-US" sz="3600" spc="-1" strike="noStrike">
                <a:solidFill>
                  <a:srgbClr val="000000"/>
                </a:solidFill>
                <a:latin typeface="Arial"/>
              </a:endParaRPr>
            </a:p>
          </p:txBody>
        </p:sp>
        <p:sp>
          <p:nvSpPr>
            <p:cNvPr id="690" name=""/>
            <p:cNvSpPr/>
            <p:nvPr/>
          </p:nvSpPr>
          <p:spPr>
            <a:xfrm>
              <a:off x="4191120" y="342900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flipH="1">
              <a:off x="6095880" y="3581280"/>
              <a:ext cx="76320" cy="15264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2" name=""/>
            <p:cNvSpPr/>
            <p:nvPr/>
          </p:nvSpPr>
          <p:spPr>
            <a:xfrm flipH="1" flipV="1">
              <a:off x="6172200" y="3581280"/>
              <a:ext cx="127080" cy="92160"/>
            </a:xfrm>
            <a:prstGeom prst="line">
              <a:avLst/>
            </a:prstGeom>
            <a:ln w="38160">
              <a:solidFill>
                <a:srgbClr val="fafd00"/>
              </a:solidFill>
              <a:round/>
            </a:ln>
          </p:spPr>
          <p:style>
            <a:lnRef idx="0"/>
            <a:fillRef idx="0"/>
            <a:effectRef idx="0"/>
            <a:fontRef idx="minor"/>
          </p:style>
          <p:txBody>
            <a:bodyPr lIns="109080" rIns="109080" tIns="28080" bIns="28080" anchor="t">
              <a:noAutofit/>
            </a:bodyPr>
            <a:p>
              <a:endParaRPr b="0" lang="en-US" sz="1800" spc="-1" strike="noStrike">
                <a:solidFill>
                  <a:srgbClr val="000000"/>
                </a:solidFill>
                <a:latin typeface="Arial"/>
              </a:endParaRPr>
            </a:p>
          </p:txBody>
        </p:sp>
        <p:sp>
          <p:nvSpPr>
            <p:cNvPr id="693" name=""/>
            <p:cNvSpPr/>
            <p:nvPr/>
          </p:nvSpPr>
          <p:spPr>
            <a:xfrm>
              <a:off x="4917960" y="2935440"/>
              <a:ext cx="90720" cy="15372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4" name=""/>
            <p:cNvSpPr/>
            <p:nvPr/>
          </p:nvSpPr>
          <p:spPr>
            <a:xfrm flipH="1">
              <a:off x="4917960" y="2895480"/>
              <a:ext cx="141480" cy="39960"/>
            </a:xfrm>
            <a:prstGeom prst="line">
              <a:avLst/>
            </a:prstGeom>
            <a:ln w="38160">
              <a:solidFill>
                <a:srgbClr val="fafd00"/>
              </a:solidFill>
              <a:round/>
            </a:ln>
          </p:spPr>
          <p:style>
            <a:lnRef idx="0"/>
            <a:fillRef idx="0"/>
            <a:effectRef idx="0"/>
            <a:fontRef idx="minor"/>
          </p:style>
          <p:txBody>
            <a:bodyPr lIns="109080" rIns="109080" tIns="-24120" bIns="-24120" anchor="t">
              <a:noAutofit/>
            </a:bodyPr>
            <a:p>
              <a:endParaRPr b="0" lang="en-US" sz="1800" spc="-1" strike="noStrike">
                <a:solidFill>
                  <a:srgbClr val="000000"/>
                </a:solidFill>
                <a:latin typeface="Arial"/>
              </a:endParaRPr>
            </a:p>
          </p:txBody>
        </p:sp>
        <p:sp>
          <p:nvSpPr>
            <p:cNvPr id="695" name=""/>
            <p:cNvSpPr/>
            <p:nvPr/>
          </p:nvSpPr>
          <p:spPr>
            <a:xfrm flipH="1">
              <a:off x="4581360" y="3473280"/>
              <a:ext cx="96840" cy="113040"/>
            </a:xfrm>
            <a:prstGeom prst="line">
              <a:avLst/>
            </a:prstGeom>
            <a:ln w="38160">
              <a:solidFill>
                <a:srgbClr val="fafd00"/>
              </a:solidFill>
              <a:round/>
            </a:ln>
          </p:spPr>
          <p:style>
            <a:lnRef idx="0"/>
            <a:fillRef idx="0"/>
            <a:effectRef idx="0"/>
            <a:fontRef idx="minor"/>
          </p:style>
          <p:txBody>
            <a:bodyPr lIns="109080" rIns="109080" tIns="48960" bIns="48960" anchor="t">
              <a:noAutofit/>
            </a:bodyPr>
            <a:p>
              <a:endParaRPr b="0" lang="en-US" sz="1800" spc="-1" strike="noStrike">
                <a:solidFill>
                  <a:srgbClr val="000000"/>
                </a:solidFill>
                <a:latin typeface="Arial"/>
              </a:endParaRPr>
            </a:p>
          </p:txBody>
        </p:sp>
        <p:sp>
          <p:nvSpPr>
            <p:cNvPr id="696" name=""/>
            <p:cNvSpPr/>
            <p:nvPr/>
          </p:nvSpPr>
          <p:spPr>
            <a:xfrm>
              <a:off x="4541760" y="3398760"/>
              <a:ext cx="136440" cy="74520"/>
            </a:xfrm>
            <a:prstGeom prst="line">
              <a:avLst/>
            </a:prstGeom>
            <a:ln w="38160">
              <a:solidFill>
                <a:srgbClr val="fafd00"/>
              </a:solidFill>
              <a:round/>
            </a:ln>
          </p:spPr>
          <p:style>
            <a:lnRef idx="0"/>
            <a:fillRef idx="0"/>
            <a:effectRef idx="0"/>
            <a:fontRef idx="minor"/>
          </p:style>
          <p:txBody>
            <a:bodyPr lIns="109080" rIns="109080" tIns="10440" bIns="10440" anchor="t">
              <a:noAutofit/>
            </a:bodyPr>
            <a:p>
              <a:endParaRPr b="0" lang="en-US" sz="1800" spc="-1" strike="noStrike">
                <a:solidFill>
                  <a:srgbClr val="000000"/>
                </a:solidFill>
                <a:latin typeface="Arial"/>
              </a:endParaRPr>
            </a:p>
          </p:txBody>
        </p:sp>
        <p:sp>
          <p:nvSpPr>
            <p:cNvPr id="697" name=""/>
            <p:cNvSpPr/>
            <p:nvPr/>
          </p:nvSpPr>
          <p:spPr>
            <a:xfrm flipH="1" flipV="1">
              <a:off x="5410080" y="3971880"/>
              <a:ext cx="150840" cy="14400"/>
            </a:xfrm>
            <a:prstGeom prst="line">
              <a:avLst/>
            </a:prstGeom>
            <a:ln w="38160">
              <a:solidFill>
                <a:srgbClr val="fafd00"/>
              </a:solidFill>
              <a:round/>
            </a:ln>
          </p:spPr>
          <p:style>
            <a:lnRef idx="0"/>
            <a:fillRef idx="0"/>
            <a:effectRef idx="0"/>
            <a:fontRef idx="minor"/>
          </p:style>
          <p:txBody>
            <a:bodyPr lIns="109080" rIns="109080" tIns="-49680" bIns="-49680" anchor="t">
              <a:noAutofit/>
            </a:bodyPr>
            <a:p>
              <a:endParaRPr b="0" lang="en-US" sz="1800" spc="-1" strike="noStrike">
                <a:solidFill>
                  <a:srgbClr val="000000"/>
                </a:solidFill>
                <a:latin typeface="Arial"/>
              </a:endParaRPr>
            </a:p>
          </p:txBody>
        </p:sp>
        <p:sp>
          <p:nvSpPr>
            <p:cNvPr id="698" name=""/>
            <p:cNvSpPr/>
            <p:nvPr/>
          </p:nvSpPr>
          <p:spPr>
            <a:xfrm>
              <a:off x="5516640" y="3819600"/>
              <a:ext cx="44280" cy="16668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9" name=""/>
            <p:cNvSpPr txBox="1"/>
            <p:nvPr/>
          </p:nvSpPr>
          <p:spPr>
            <a:xfrm>
              <a:off x="3968640" y="4076640"/>
              <a:ext cx="185112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Caesarea</a:t>
              </a:r>
              <a:endParaRPr b="0" lang="en-US" sz="3600" spc="-1" strike="noStrike">
                <a:solidFill>
                  <a:srgbClr val="000000"/>
                </a:solidFill>
                <a:latin typeface="Arial"/>
              </a:endParaRPr>
            </a:p>
          </p:txBody>
        </p:sp>
        <p:sp>
          <p:nvSpPr>
            <p:cNvPr id="700" name=""/>
            <p:cNvSpPr/>
            <p:nvPr/>
          </p:nvSpPr>
          <p:spPr>
            <a:xfrm>
              <a:off x="5734080" y="426240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4340160" y="2666880"/>
              <a:ext cx="1905480" cy="1838520"/>
            </a:xfrm>
            <a:custGeom>
              <a:avLst/>
              <a:gdLst/>
              <a:ahLst/>
              <a:rect l="0" t="0" r="r" b="b"/>
              <a:pathLst>
                <a:path fill="none" w="5293" h="5107">
                  <a:moveTo>
                    <a:pt x="4235" y="5107"/>
                  </a:moveTo>
                  <a:lnTo>
                    <a:pt x="4372" y="5014"/>
                  </a:lnTo>
                  <a:lnTo>
                    <a:pt x="4464" y="4878"/>
                  </a:lnTo>
                  <a:lnTo>
                    <a:pt x="4601" y="4741"/>
                  </a:lnTo>
                  <a:lnTo>
                    <a:pt x="4649" y="4600"/>
                  </a:lnTo>
                  <a:lnTo>
                    <a:pt x="4786" y="4512"/>
                  </a:lnTo>
                  <a:lnTo>
                    <a:pt x="4879" y="4371"/>
                  </a:lnTo>
                  <a:lnTo>
                    <a:pt x="5015" y="4278"/>
                  </a:lnTo>
                  <a:lnTo>
                    <a:pt x="5108" y="4141"/>
                  </a:lnTo>
                  <a:lnTo>
                    <a:pt x="5201" y="4005"/>
                  </a:lnTo>
                  <a:lnTo>
                    <a:pt x="5293" y="3868"/>
                  </a:lnTo>
                  <a:lnTo>
                    <a:pt x="5293" y="3727"/>
                  </a:lnTo>
                  <a:lnTo>
                    <a:pt x="5293" y="3590"/>
                  </a:lnTo>
                  <a:lnTo>
                    <a:pt x="5245" y="3453"/>
                  </a:lnTo>
                  <a:lnTo>
                    <a:pt x="5245" y="3312"/>
                  </a:lnTo>
                  <a:lnTo>
                    <a:pt x="5201" y="3176"/>
                  </a:lnTo>
                  <a:lnTo>
                    <a:pt x="5156" y="3039"/>
                  </a:lnTo>
                  <a:lnTo>
                    <a:pt x="5108" y="2898"/>
                  </a:lnTo>
                  <a:lnTo>
                    <a:pt x="5108" y="2761"/>
                  </a:lnTo>
                  <a:lnTo>
                    <a:pt x="5108" y="2624"/>
                  </a:lnTo>
                  <a:lnTo>
                    <a:pt x="5015" y="2482"/>
                  </a:lnTo>
                  <a:lnTo>
                    <a:pt x="5015" y="2345"/>
                  </a:lnTo>
                  <a:lnTo>
                    <a:pt x="4971" y="2209"/>
                  </a:lnTo>
                  <a:lnTo>
                    <a:pt x="4971" y="2072"/>
                  </a:lnTo>
                  <a:lnTo>
                    <a:pt x="4923" y="1931"/>
                  </a:lnTo>
                  <a:lnTo>
                    <a:pt x="4786" y="1794"/>
                  </a:lnTo>
                  <a:lnTo>
                    <a:pt x="4693" y="1658"/>
                  </a:lnTo>
                  <a:lnTo>
                    <a:pt x="4557" y="1609"/>
                  </a:lnTo>
                  <a:lnTo>
                    <a:pt x="4464" y="1750"/>
                  </a:lnTo>
                  <a:lnTo>
                    <a:pt x="4327" y="1838"/>
                  </a:lnTo>
                  <a:lnTo>
                    <a:pt x="4235" y="1979"/>
                  </a:lnTo>
                  <a:lnTo>
                    <a:pt x="4235" y="1838"/>
                  </a:lnTo>
                  <a:lnTo>
                    <a:pt x="4098" y="1750"/>
                  </a:lnTo>
                  <a:lnTo>
                    <a:pt x="3956" y="1609"/>
                  </a:lnTo>
                  <a:lnTo>
                    <a:pt x="3819" y="1565"/>
                  </a:lnTo>
                  <a:lnTo>
                    <a:pt x="3683" y="1516"/>
                  </a:lnTo>
                  <a:lnTo>
                    <a:pt x="3542" y="1516"/>
                  </a:lnTo>
                  <a:lnTo>
                    <a:pt x="3405" y="1516"/>
                  </a:lnTo>
                  <a:lnTo>
                    <a:pt x="3268" y="1516"/>
                  </a:lnTo>
                  <a:lnTo>
                    <a:pt x="3127" y="1516"/>
                  </a:lnTo>
                  <a:lnTo>
                    <a:pt x="2990" y="1472"/>
                  </a:lnTo>
                  <a:lnTo>
                    <a:pt x="2898" y="1336"/>
                  </a:lnTo>
                  <a:lnTo>
                    <a:pt x="2761" y="1243"/>
                  </a:lnTo>
                  <a:lnTo>
                    <a:pt x="2624" y="1150"/>
                  </a:lnTo>
                  <a:lnTo>
                    <a:pt x="2483" y="1058"/>
                  </a:lnTo>
                  <a:lnTo>
                    <a:pt x="2346" y="1058"/>
                  </a:lnTo>
                  <a:lnTo>
                    <a:pt x="2210" y="1014"/>
                  </a:lnTo>
                  <a:lnTo>
                    <a:pt x="2069" y="965"/>
                  </a:lnTo>
                  <a:lnTo>
                    <a:pt x="1932" y="921"/>
                  </a:lnTo>
                  <a:lnTo>
                    <a:pt x="1795" y="873"/>
                  </a:lnTo>
                  <a:lnTo>
                    <a:pt x="1659" y="829"/>
                  </a:lnTo>
                  <a:lnTo>
                    <a:pt x="1566" y="692"/>
                  </a:lnTo>
                  <a:lnTo>
                    <a:pt x="1517" y="551"/>
                  </a:lnTo>
                  <a:lnTo>
                    <a:pt x="1425" y="414"/>
                  </a:lnTo>
                  <a:lnTo>
                    <a:pt x="1337" y="277"/>
                  </a:lnTo>
                  <a:lnTo>
                    <a:pt x="1195" y="185"/>
                  </a:lnTo>
                  <a:lnTo>
                    <a:pt x="1102" y="44"/>
                  </a:lnTo>
                  <a:lnTo>
                    <a:pt x="965" y="44"/>
                  </a:lnTo>
                  <a:lnTo>
                    <a:pt x="829" y="0"/>
                  </a:lnTo>
                  <a:lnTo>
                    <a:pt x="687" y="0"/>
                  </a:lnTo>
                  <a:lnTo>
                    <a:pt x="599" y="136"/>
                  </a:lnTo>
                  <a:lnTo>
                    <a:pt x="599" y="277"/>
                  </a:lnTo>
                  <a:lnTo>
                    <a:pt x="551" y="414"/>
                  </a:lnTo>
                  <a:lnTo>
                    <a:pt x="414" y="507"/>
                  </a:lnTo>
                  <a:lnTo>
                    <a:pt x="277" y="599"/>
                  </a:lnTo>
                  <a:lnTo>
                    <a:pt x="185" y="736"/>
                  </a:lnTo>
                  <a:lnTo>
                    <a:pt x="277" y="873"/>
                  </a:lnTo>
                  <a:lnTo>
                    <a:pt x="366" y="1014"/>
                  </a:lnTo>
                  <a:lnTo>
                    <a:pt x="507" y="1150"/>
                  </a:lnTo>
                  <a:lnTo>
                    <a:pt x="551" y="1287"/>
                  </a:lnTo>
                  <a:lnTo>
                    <a:pt x="551" y="1424"/>
                  </a:lnTo>
                  <a:lnTo>
                    <a:pt x="414" y="1516"/>
                  </a:lnTo>
                  <a:lnTo>
                    <a:pt x="277" y="1565"/>
                  </a:lnTo>
                  <a:lnTo>
                    <a:pt x="136" y="1658"/>
                  </a:lnTo>
                  <a:lnTo>
                    <a:pt x="92" y="1794"/>
                  </a:lnTo>
                  <a:lnTo>
                    <a:pt x="92" y="1931"/>
                  </a:lnTo>
                  <a:lnTo>
                    <a:pt x="44" y="2072"/>
                  </a:lnTo>
                  <a:lnTo>
                    <a:pt x="44" y="2209"/>
                  </a:lnTo>
                  <a:lnTo>
                    <a:pt x="0" y="2345"/>
                  </a:lnTo>
                  <a:lnTo>
                    <a:pt x="0" y="2482"/>
                  </a:lnTo>
                  <a:lnTo>
                    <a:pt x="136" y="2576"/>
                  </a:lnTo>
                  <a:lnTo>
                    <a:pt x="277" y="2482"/>
                  </a:lnTo>
                  <a:lnTo>
                    <a:pt x="414" y="2394"/>
                  </a:lnTo>
                  <a:lnTo>
                    <a:pt x="551" y="2345"/>
                  </a:lnTo>
                  <a:lnTo>
                    <a:pt x="687" y="2301"/>
                  </a:lnTo>
                  <a:lnTo>
                    <a:pt x="829" y="2301"/>
                  </a:lnTo>
                  <a:lnTo>
                    <a:pt x="965" y="2301"/>
                  </a:lnTo>
                  <a:lnTo>
                    <a:pt x="1102" y="2253"/>
                  </a:lnTo>
                  <a:lnTo>
                    <a:pt x="1243" y="2209"/>
                  </a:lnTo>
                  <a:lnTo>
                    <a:pt x="1381" y="2160"/>
                  </a:lnTo>
                  <a:lnTo>
                    <a:pt x="1517" y="2072"/>
                  </a:lnTo>
                  <a:lnTo>
                    <a:pt x="1659" y="1979"/>
                  </a:lnTo>
                  <a:lnTo>
                    <a:pt x="1795" y="1979"/>
                  </a:lnTo>
                  <a:lnTo>
                    <a:pt x="1932" y="1931"/>
                  </a:lnTo>
                  <a:lnTo>
                    <a:pt x="2025" y="2072"/>
                  </a:lnTo>
                  <a:lnTo>
                    <a:pt x="1932" y="2209"/>
                  </a:lnTo>
                  <a:lnTo>
                    <a:pt x="1888" y="2345"/>
                  </a:lnTo>
                  <a:lnTo>
                    <a:pt x="1888" y="2482"/>
                  </a:lnTo>
                  <a:lnTo>
                    <a:pt x="1932" y="2624"/>
                  </a:lnTo>
                  <a:lnTo>
                    <a:pt x="2025" y="2761"/>
                  </a:lnTo>
                  <a:lnTo>
                    <a:pt x="2161" y="2854"/>
                  </a:lnTo>
                  <a:lnTo>
                    <a:pt x="2302" y="2898"/>
                  </a:lnTo>
                  <a:lnTo>
                    <a:pt x="2439" y="2898"/>
                  </a:lnTo>
                  <a:lnTo>
                    <a:pt x="2576" y="2946"/>
                  </a:lnTo>
                  <a:lnTo>
                    <a:pt x="2717" y="3039"/>
                  </a:lnTo>
                  <a:lnTo>
                    <a:pt x="2854" y="3176"/>
                  </a:lnTo>
                  <a:lnTo>
                    <a:pt x="2990" y="3268"/>
                  </a:lnTo>
                  <a:lnTo>
                    <a:pt x="3127" y="3361"/>
                  </a:lnTo>
                  <a:lnTo>
                    <a:pt x="3176" y="3497"/>
                  </a:lnTo>
                  <a:lnTo>
                    <a:pt x="3312" y="3590"/>
                  </a:lnTo>
                  <a:lnTo>
                    <a:pt x="3453" y="3727"/>
                  </a:lnTo>
                  <a:lnTo>
                    <a:pt x="3542" y="3868"/>
                  </a:lnTo>
                  <a:lnTo>
                    <a:pt x="3683" y="4005"/>
                  </a:lnTo>
                  <a:lnTo>
                    <a:pt x="3819" y="4097"/>
                  </a:lnTo>
                  <a:lnTo>
                    <a:pt x="3912" y="4234"/>
                  </a:lnTo>
                  <a:lnTo>
                    <a:pt x="4050" y="4371"/>
                  </a:lnTo>
                  <a:lnTo>
                    <a:pt x="4142" y="4512"/>
                  </a:lnTo>
                  <a:lnTo>
                    <a:pt x="4186" y="4648"/>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2" name=""/>
            <p:cNvSpPr/>
            <p:nvPr/>
          </p:nvSpPr>
          <p:spPr>
            <a:xfrm>
              <a:off x="5022720" y="325440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txBox="1"/>
            <p:nvPr/>
          </p:nvSpPr>
          <p:spPr>
            <a:xfrm>
              <a:off x="5229360" y="3281400"/>
              <a:ext cx="174636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Ephesus</a:t>
              </a:r>
              <a:endParaRPr b="0" lang="en-US" sz="3600" spc="-1" strike="noStrike">
                <a:solidFill>
                  <a:srgbClr val="000000"/>
                </a:solidFill>
                <a:latin typeface="Arial"/>
              </a:endParaRPr>
            </a:p>
          </p:txBody>
        </p:sp>
        <p:sp>
          <p:nvSpPr>
            <p:cNvPr id="704" name=""/>
            <p:cNvSpPr txBox="1"/>
            <p:nvPr/>
          </p:nvSpPr>
          <p:spPr>
            <a:xfrm>
              <a:off x="6004080" y="3960720"/>
              <a:ext cx="1163520" cy="641520"/>
            </a:xfrm>
            <a:prstGeom prst="rect">
              <a:avLst/>
            </a:prstGeom>
            <a:noFill/>
            <a:ln w="0">
              <a:noFill/>
            </a:ln>
          </p:spPr>
          <p:txBody>
            <a:bodyPr lIns="0" rIns="0" tIns="0" bIns="0" anchor="t">
              <a:noAutofit/>
            </a:bodyPr>
            <a:p>
              <a:pPr>
                <a:lnSpc>
                  <a:spcPct val="100000"/>
                </a:lnSpc>
              </a:pPr>
              <a:r>
                <a:rPr b="1" lang="en-US" sz="3600" spc="-1" strike="noStrike">
                  <a:solidFill>
                    <a:srgbClr val="f6bf69"/>
                  </a:solidFill>
                  <a:latin typeface="Arial Narrow"/>
                  <a:ea typeface="Arial Narrow"/>
                </a:rPr>
                <a:t>Israel</a:t>
              </a:r>
              <a:endParaRPr b="0" lang="en-US" sz="3600" spc="-1" strike="noStrike">
                <a:solidFill>
                  <a:srgbClr val="000000"/>
                </a:solidFill>
                <a:latin typeface="Arial"/>
              </a:endParaRPr>
            </a:p>
          </p:txBody>
        </p:sp>
        <p:sp>
          <p:nvSpPr>
            <p:cNvPr id="705" name=""/>
            <p:cNvSpPr txBox="1"/>
            <p:nvPr/>
          </p:nvSpPr>
          <p:spPr>
            <a:xfrm>
              <a:off x="60480" y="647712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706" name=""/>
          <p:cNvGrpSpPr/>
          <p:nvPr/>
        </p:nvGrpSpPr>
        <p:grpSpPr>
          <a:xfrm>
            <a:off x="0" y="590400"/>
            <a:ext cx="9131760" cy="6255360"/>
            <a:chOff x="0" y="590400"/>
            <a:chExt cx="9131760" cy="6255360"/>
          </a:xfrm>
        </p:grpSpPr>
        <p:sp>
          <p:nvSpPr>
            <p:cNvPr id="707" name=""/>
            <p:cNvSpPr txBox="1"/>
            <p:nvPr/>
          </p:nvSpPr>
          <p:spPr>
            <a:xfrm>
              <a:off x="685800" y="590400"/>
              <a:ext cx="8381880" cy="1162080"/>
            </a:xfrm>
            <a:prstGeom prst="rect">
              <a:avLst/>
            </a:prstGeom>
            <a:noFill/>
            <a:ln w="0">
              <a:noFill/>
            </a:ln>
          </p:spPr>
          <p:txBody>
            <a:bodyPr lIns="0" rIns="0" tIns="0" bIns="0" anchor="t">
              <a:noAutofit/>
            </a:bodyPr>
            <a:p>
              <a:pPr algn="ctr">
                <a:lnSpc>
                  <a:spcPct val="100000"/>
                </a:lnSpc>
              </a:pPr>
              <a:r>
                <a:rPr b="1" lang="en-US" sz="5400" spc="-1" strike="noStrike" u="sng">
                  <a:solidFill>
                    <a:srgbClr val="c0fef9"/>
                  </a:solidFill>
                  <a:uFillTx/>
                  <a:latin typeface="Book Antiqua"/>
                  <a:ea typeface="Book Antiqua"/>
                </a:rPr>
                <a:t>Click to add title</a:t>
              </a:r>
              <a:endParaRPr b="0" lang="en-US" sz="5400" spc="-1" strike="noStrike">
                <a:solidFill>
                  <a:srgbClr val="000000"/>
                </a:solidFill>
                <a:latin typeface="Arial"/>
              </a:endParaRPr>
            </a:p>
          </p:txBody>
        </p:sp>
        <p:sp>
          <p:nvSpPr>
            <p:cNvPr id="708" name=""/>
            <p:cNvSpPr txBox="1"/>
            <p:nvPr/>
          </p:nvSpPr>
          <p:spPr>
            <a:xfrm>
              <a:off x="762120" y="1981080"/>
              <a:ext cx="8305920" cy="4133880"/>
            </a:xfrm>
            <a:prstGeom prst="rect">
              <a:avLst/>
            </a:prstGeom>
            <a:noFill/>
            <a:ln w="0">
              <a:noFill/>
            </a:ln>
          </p:spPr>
          <p:txBody>
            <a:bodyPr lIns="0" rIns="0" tIns="0" bIns="0" anchor="t">
              <a:noAutofit/>
            </a:bodyPr>
            <a:p>
              <a:pPr marL="343080" indent="-343080">
                <a:lnSpc>
                  <a:spcPct val="100000"/>
                </a:lnSpc>
                <a:spcBef>
                  <a:spcPts val="479"/>
                </a:spcBef>
                <a:buClr>
                  <a:srgbClr val="c0fef9"/>
                </a:buClr>
                <a:buFont typeface="Monotype Sorts"/>
                <a:buChar char=""/>
              </a:pPr>
              <a:r>
                <a:rPr b="1" lang="en-US" sz="3600" spc="-1" strike="noStrike">
                  <a:solidFill>
                    <a:srgbClr val="ffffff"/>
                  </a:solidFill>
                  <a:latin typeface="Arial"/>
                  <a:ea typeface="Arial"/>
                </a:rPr>
                <a:t>Click to add text</a:t>
              </a:r>
              <a:endParaRPr b="0" lang="en-US" sz="3600" spc="-1" strike="noStrike">
                <a:solidFill>
                  <a:srgbClr val="000000"/>
                </a:solidFill>
                <a:latin typeface="Arial"/>
              </a:endParaRPr>
            </a:p>
          </p:txBody>
        </p:sp>
        <p:sp>
          <p:nvSpPr>
            <p:cNvPr id="709" name=""/>
            <p:cNvSpPr/>
            <p:nvPr/>
          </p:nvSpPr>
          <p:spPr>
            <a:xfrm>
              <a:off x="0" y="762120"/>
              <a:ext cx="9067680" cy="6019920"/>
            </a:xfrm>
            <a:prstGeom prst="rect">
              <a:avLst/>
            </a:prstGeom>
            <a:solidFill>
              <a:srgbClr val="00ae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a:off x="6934320" y="1981080"/>
              <a:ext cx="2133720" cy="41338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1" name=""/>
            <p:cNvSpPr/>
            <p:nvPr/>
          </p:nvSpPr>
          <p:spPr>
            <a:xfrm>
              <a:off x="7620120" y="5168880"/>
              <a:ext cx="1511640" cy="1676880"/>
            </a:xfrm>
            <a:custGeom>
              <a:avLst/>
              <a:gdLst/>
              <a:ahLst/>
              <a:rect l="0" t="0" r="r" b="b"/>
              <a:pathLst>
                <a:path w="4199" h="4658">
                  <a:moveTo>
                    <a:pt x="4022" y="2152"/>
                  </a:moveTo>
                  <a:lnTo>
                    <a:pt x="3868" y="2069"/>
                  </a:lnTo>
                  <a:lnTo>
                    <a:pt x="3727" y="2117"/>
                  </a:lnTo>
                  <a:lnTo>
                    <a:pt x="3590" y="2117"/>
                  </a:lnTo>
                  <a:lnTo>
                    <a:pt x="3453" y="2069"/>
                  </a:lnTo>
                  <a:lnTo>
                    <a:pt x="3312" y="1976"/>
                  </a:lnTo>
                  <a:lnTo>
                    <a:pt x="3176" y="1883"/>
                  </a:lnTo>
                  <a:lnTo>
                    <a:pt x="3039" y="1795"/>
                  </a:lnTo>
                  <a:lnTo>
                    <a:pt x="2898" y="1703"/>
                  </a:lnTo>
                  <a:lnTo>
                    <a:pt x="2809" y="1562"/>
                  </a:lnTo>
                  <a:lnTo>
                    <a:pt x="2668" y="1473"/>
                  </a:lnTo>
                  <a:lnTo>
                    <a:pt x="2576" y="1332"/>
                  </a:lnTo>
                  <a:lnTo>
                    <a:pt x="2439" y="1240"/>
                  </a:lnTo>
                  <a:lnTo>
                    <a:pt x="2302" y="1240"/>
                  </a:lnTo>
                  <a:lnTo>
                    <a:pt x="2161" y="1240"/>
                  </a:lnTo>
                  <a:lnTo>
                    <a:pt x="2024" y="1288"/>
                  </a:lnTo>
                  <a:lnTo>
                    <a:pt x="1887" y="1288"/>
                  </a:lnTo>
                  <a:lnTo>
                    <a:pt x="1750" y="1150"/>
                  </a:lnTo>
                  <a:lnTo>
                    <a:pt x="1609" y="1058"/>
                  </a:lnTo>
                  <a:lnTo>
                    <a:pt x="1516" y="917"/>
                  </a:lnTo>
                  <a:lnTo>
                    <a:pt x="1380" y="824"/>
                  </a:lnTo>
                  <a:lnTo>
                    <a:pt x="1243" y="736"/>
                  </a:lnTo>
                  <a:lnTo>
                    <a:pt x="1102" y="643"/>
                  </a:lnTo>
                  <a:lnTo>
                    <a:pt x="965" y="502"/>
                  </a:lnTo>
                  <a:lnTo>
                    <a:pt x="829" y="414"/>
                  </a:lnTo>
                  <a:lnTo>
                    <a:pt x="692" y="321"/>
                  </a:lnTo>
                  <a:lnTo>
                    <a:pt x="551" y="229"/>
                  </a:lnTo>
                  <a:lnTo>
                    <a:pt x="414" y="92"/>
                  </a:lnTo>
                  <a:lnTo>
                    <a:pt x="423" y="35"/>
                  </a:lnTo>
                  <a:lnTo>
                    <a:pt x="277" y="92"/>
                  </a:lnTo>
                  <a:lnTo>
                    <a:pt x="136" y="44"/>
                  </a:lnTo>
                  <a:lnTo>
                    <a:pt x="0" y="0"/>
                  </a:lnTo>
                  <a:lnTo>
                    <a:pt x="0" y="136"/>
                  </a:lnTo>
                  <a:lnTo>
                    <a:pt x="136" y="136"/>
                  </a:lnTo>
                  <a:lnTo>
                    <a:pt x="277" y="180"/>
                  </a:lnTo>
                  <a:lnTo>
                    <a:pt x="414" y="321"/>
                  </a:lnTo>
                  <a:lnTo>
                    <a:pt x="507" y="458"/>
                  </a:lnTo>
                  <a:lnTo>
                    <a:pt x="458" y="595"/>
                  </a:lnTo>
                  <a:lnTo>
                    <a:pt x="414" y="736"/>
                  </a:lnTo>
                  <a:lnTo>
                    <a:pt x="366" y="873"/>
                  </a:lnTo>
                  <a:lnTo>
                    <a:pt x="321" y="1009"/>
                  </a:lnTo>
                  <a:lnTo>
                    <a:pt x="321" y="1150"/>
                  </a:lnTo>
                  <a:lnTo>
                    <a:pt x="321" y="1288"/>
                  </a:lnTo>
                  <a:lnTo>
                    <a:pt x="366" y="1425"/>
                  </a:lnTo>
                  <a:lnTo>
                    <a:pt x="414" y="1562"/>
                  </a:lnTo>
                  <a:lnTo>
                    <a:pt x="507" y="1703"/>
                  </a:lnTo>
                  <a:lnTo>
                    <a:pt x="551" y="1839"/>
                  </a:lnTo>
                  <a:lnTo>
                    <a:pt x="643" y="1976"/>
                  </a:lnTo>
                  <a:lnTo>
                    <a:pt x="780" y="2069"/>
                  </a:lnTo>
                  <a:lnTo>
                    <a:pt x="873" y="2210"/>
                  </a:lnTo>
                  <a:lnTo>
                    <a:pt x="921" y="2346"/>
                  </a:lnTo>
                  <a:lnTo>
                    <a:pt x="1058" y="2439"/>
                  </a:lnTo>
                  <a:lnTo>
                    <a:pt x="1195" y="2532"/>
                  </a:lnTo>
                  <a:lnTo>
                    <a:pt x="1336" y="2620"/>
                  </a:lnTo>
                  <a:lnTo>
                    <a:pt x="1336" y="2761"/>
                  </a:lnTo>
                  <a:lnTo>
                    <a:pt x="1380" y="2898"/>
                  </a:lnTo>
                  <a:lnTo>
                    <a:pt x="1424" y="3034"/>
                  </a:lnTo>
                  <a:lnTo>
                    <a:pt x="1472" y="3176"/>
                  </a:lnTo>
                  <a:lnTo>
                    <a:pt x="1565" y="3312"/>
                  </a:lnTo>
                  <a:lnTo>
                    <a:pt x="1658" y="3449"/>
                  </a:lnTo>
                  <a:lnTo>
                    <a:pt x="1750" y="3591"/>
                  </a:lnTo>
                  <a:lnTo>
                    <a:pt x="1838" y="3728"/>
                  </a:lnTo>
                  <a:lnTo>
                    <a:pt x="1931" y="3864"/>
                  </a:lnTo>
                  <a:lnTo>
                    <a:pt x="2072" y="3864"/>
                  </a:lnTo>
                  <a:lnTo>
                    <a:pt x="2117" y="3728"/>
                  </a:lnTo>
                  <a:lnTo>
                    <a:pt x="2254" y="3635"/>
                  </a:lnTo>
                  <a:lnTo>
                    <a:pt x="2302" y="3498"/>
                  </a:lnTo>
                  <a:lnTo>
                    <a:pt x="2395" y="3356"/>
                  </a:lnTo>
                  <a:lnTo>
                    <a:pt x="2483" y="3220"/>
                  </a:lnTo>
                  <a:lnTo>
                    <a:pt x="2576" y="3356"/>
                  </a:lnTo>
                  <a:lnTo>
                    <a:pt x="2717" y="3449"/>
                  </a:lnTo>
                  <a:lnTo>
                    <a:pt x="2809" y="3591"/>
                  </a:lnTo>
                  <a:lnTo>
                    <a:pt x="2809" y="3728"/>
                  </a:lnTo>
                  <a:lnTo>
                    <a:pt x="2761" y="3864"/>
                  </a:lnTo>
                  <a:lnTo>
                    <a:pt x="2668" y="4001"/>
                  </a:lnTo>
                  <a:lnTo>
                    <a:pt x="2717" y="4142"/>
                  </a:lnTo>
                  <a:lnTo>
                    <a:pt x="2854" y="4235"/>
                  </a:lnTo>
                  <a:lnTo>
                    <a:pt x="2946" y="4372"/>
                  </a:lnTo>
                  <a:lnTo>
                    <a:pt x="3083" y="4464"/>
                  </a:lnTo>
                  <a:lnTo>
                    <a:pt x="3220" y="4464"/>
                  </a:lnTo>
                  <a:lnTo>
                    <a:pt x="3361" y="4557"/>
                  </a:lnTo>
                  <a:lnTo>
                    <a:pt x="3497" y="4649"/>
                  </a:lnTo>
                  <a:lnTo>
                    <a:pt x="3634" y="4658"/>
                  </a:lnTo>
                  <a:lnTo>
                    <a:pt x="3775" y="4658"/>
                  </a:lnTo>
                  <a:lnTo>
                    <a:pt x="3912" y="4658"/>
                  </a:lnTo>
                  <a:lnTo>
                    <a:pt x="4049" y="4658"/>
                  </a:lnTo>
                  <a:lnTo>
                    <a:pt x="4190" y="4658"/>
                  </a:lnTo>
                  <a:lnTo>
                    <a:pt x="4190" y="4508"/>
                  </a:lnTo>
                  <a:lnTo>
                    <a:pt x="4190" y="4372"/>
                  </a:lnTo>
                  <a:lnTo>
                    <a:pt x="4199" y="4235"/>
                  </a:lnTo>
                  <a:lnTo>
                    <a:pt x="4199" y="4094"/>
                  </a:lnTo>
                  <a:lnTo>
                    <a:pt x="4199" y="3957"/>
                  </a:lnTo>
                  <a:lnTo>
                    <a:pt x="4199" y="3820"/>
                  </a:lnTo>
                  <a:lnTo>
                    <a:pt x="4199" y="3679"/>
                  </a:lnTo>
                  <a:lnTo>
                    <a:pt x="4199" y="3543"/>
                  </a:lnTo>
                  <a:lnTo>
                    <a:pt x="4199" y="3405"/>
                  </a:lnTo>
                  <a:lnTo>
                    <a:pt x="4199" y="3268"/>
                  </a:lnTo>
                  <a:lnTo>
                    <a:pt x="4199" y="3127"/>
                  </a:lnTo>
                  <a:lnTo>
                    <a:pt x="4199" y="2990"/>
                  </a:lnTo>
                  <a:lnTo>
                    <a:pt x="4199" y="2854"/>
                  </a:lnTo>
                  <a:lnTo>
                    <a:pt x="4199" y="2712"/>
                  </a:lnTo>
                  <a:lnTo>
                    <a:pt x="4199" y="2576"/>
                  </a:lnTo>
                  <a:lnTo>
                    <a:pt x="4199" y="2439"/>
                  </a:lnTo>
                  <a:lnTo>
                    <a:pt x="4141" y="2298"/>
                  </a:lnTo>
                  <a:lnTo>
                    <a:pt x="4005" y="2254"/>
                  </a:lnTo>
                  <a:lnTo>
                    <a:pt x="4022" y="2152"/>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4952880" y="4648320"/>
              <a:ext cx="332280" cy="1548000"/>
            </a:xfrm>
            <a:custGeom>
              <a:avLst/>
              <a:gdLst/>
              <a:ahLst/>
              <a:rect l="0" t="0" r="r" b="b"/>
              <a:pathLst>
                <a:path fill="none" w="923" h="4300">
                  <a:moveTo>
                    <a:pt x="0" y="0"/>
                  </a:moveTo>
                  <a:lnTo>
                    <a:pt x="92" y="154"/>
                  </a:lnTo>
                  <a:lnTo>
                    <a:pt x="185" y="295"/>
                  </a:lnTo>
                  <a:lnTo>
                    <a:pt x="185" y="432"/>
                  </a:lnTo>
                  <a:lnTo>
                    <a:pt x="185" y="568"/>
                  </a:lnTo>
                  <a:lnTo>
                    <a:pt x="185" y="709"/>
                  </a:lnTo>
                  <a:lnTo>
                    <a:pt x="136" y="846"/>
                  </a:lnTo>
                  <a:lnTo>
                    <a:pt x="136" y="983"/>
                  </a:lnTo>
                  <a:lnTo>
                    <a:pt x="136" y="1124"/>
                  </a:lnTo>
                  <a:lnTo>
                    <a:pt x="136" y="1261"/>
                  </a:lnTo>
                  <a:lnTo>
                    <a:pt x="136" y="1397"/>
                  </a:lnTo>
                  <a:lnTo>
                    <a:pt x="136" y="1538"/>
                  </a:lnTo>
                  <a:lnTo>
                    <a:pt x="136" y="1675"/>
                  </a:lnTo>
                  <a:lnTo>
                    <a:pt x="136" y="1812"/>
                  </a:lnTo>
                  <a:lnTo>
                    <a:pt x="185" y="1949"/>
                  </a:lnTo>
                  <a:lnTo>
                    <a:pt x="185" y="2090"/>
                  </a:lnTo>
                  <a:lnTo>
                    <a:pt x="185" y="2227"/>
                  </a:lnTo>
                  <a:lnTo>
                    <a:pt x="229" y="2364"/>
                  </a:lnTo>
                  <a:lnTo>
                    <a:pt x="278" y="2505"/>
                  </a:lnTo>
                  <a:lnTo>
                    <a:pt x="322" y="2642"/>
                  </a:lnTo>
                  <a:lnTo>
                    <a:pt x="415" y="2779"/>
                  </a:lnTo>
                  <a:lnTo>
                    <a:pt x="508" y="2920"/>
                  </a:lnTo>
                  <a:lnTo>
                    <a:pt x="600" y="3056"/>
                  </a:lnTo>
                  <a:lnTo>
                    <a:pt x="600" y="3193"/>
                  </a:lnTo>
                  <a:lnTo>
                    <a:pt x="644" y="3330"/>
                  </a:lnTo>
                  <a:lnTo>
                    <a:pt x="694" y="3471"/>
                  </a:lnTo>
                  <a:lnTo>
                    <a:pt x="782" y="3608"/>
                  </a:lnTo>
                  <a:lnTo>
                    <a:pt x="875" y="3744"/>
                  </a:lnTo>
                  <a:lnTo>
                    <a:pt x="923" y="3885"/>
                  </a:lnTo>
                  <a:lnTo>
                    <a:pt x="923" y="4022"/>
                  </a:lnTo>
                  <a:lnTo>
                    <a:pt x="923" y="4159"/>
                  </a:lnTo>
                  <a:lnTo>
                    <a:pt x="923" y="4300"/>
                  </a:lnTo>
                  <a:lnTo>
                    <a:pt x="848" y="381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5135400" y="4937040"/>
              <a:ext cx="1573560" cy="1908360"/>
            </a:xfrm>
            <a:custGeom>
              <a:avLst/>
              <a:gdLst/>
              <a:ahLst/>
              <a:rect l="0" t="0" r="r" b="b"/>
              <a:pathLst>
                <a:path w="4371" h="5301">
                  <a:moveTo>
                    <a:pt x="127" y="44"/>
                  </a:moveTo>
                  <a:lnTo>
                    <a:pt x="273" y="180"/>
                  </a:lnTo>
                  <a:lnTo>
                    <a:pt x="273" y="321"/>
                  </a:lnTo>
                  <a:lnTo>
                    <a:pt x="321" y="458"/>
                  </a:lnTo>
                  <a:lnTo>
                    <a:pt x="366" y="595"/>
                  </a:lnTo>
                  <a:lnTo>
                    <a:pt x="414" y="736"/>
                  </a:lnTo>
                  <a:lnTo>
                    <a:pt x="507" y="873"/>
                  </a:lnTo>
                  <a:lnTo>
                    <a:pt x="595" y="1009"/>
                  </a:lnTo>
                  <a:lnTo>
                    <a:pt x="643" y="1146"/>
                  </a:lnTo>
                  <a:lnTo>
                    <a:pt x="736" y="1287"/>
                  </a:lnTo>
                  <a:lnTo>
                    <a:pt x="780" y="1424"/>
                  </a:lnTo>
                  <a:lnTo>
                    <a:pt x="917" y="1516"/>
                  </a:lnTo>
                  <a:lnTo>
                    <a:pt x="965" y="1653"/>
                  </a:lnTo>
                  <a:lnTo>
                    <a:pt x="1058" y="1794"/>
                  </a:lnTo>
                  <a:lnTo>
                    <a:pt x="1150" y="1931"/>
                  </a:lnTo>
                  <a:lnTo>
                    <a:pt x="1195" y="2068"/>
                  </a:lnTo>
                  <a:lnTo>
                    <a:pt x="1243" y="2204"/>
                  </a:lnTo>
                  <a:lnTo>
                    <a:pt x="1331" y="2345"/>
                  </a:lnTo>
                  <a:lnTo>
                    <a:pt x="1424" y="2482"/>
                  </a:lnTo>
                  <a:lnTo>
                    <a:pt x="1516" y="2619"/>
                  </a:lnTo>
                  <a:lnTo>
                    <a:pt x="1653" y="2761"/>
                  </a:lnTo>
                  <a:lnTo>
                    <a:pt x="1746" y="2898"/>
                  </a:lnTo>
                  <a:lnTo>
                    <a:pt x="1794" y="3034"/>
                  </a:lnTo>
                  <a:lnTo>
                    <a:pt x="1887" y="3176"/>
                  </a:lnTo>
                  <a:lnTo>
                    <a:pt x="1975" y="3312"/>
                  </a:lnTo>
                  <a:lnTo>
                    <a:pt x="2068" y="3449"/>
                  </a:lnTo>
                  <a:lnTo>
                    <a:pt x="2160" y="3586"/>
                  </a:lnTo>
                  <a:lnTo>
                    <a:pt x="2302" y="3727"/>
                  </a:lnTo>
                  <a:lnTo>
                    <a:pt x="2391" y="3863"/>
                  </a:lnTo>
                  <a:lnTo>
                    <a:pt x="2439" y="4000"/>
                  </a:lnTo>
                  <a:lnTo>
                    <a:pt x="2439" y="4141"/>
                  </a:lnTo>
                  <a:lnTo>
                    <a:pt x="2439" y="4278"/>
                  </a:lnTo>
                  <a:lnTo>
                    <a:pt x="2439" y="4415"/>
                  </a:lnTo>
                  <a:lnTo>
                    <a:pt x="2483" y="4556"/>
                  </a:lnTo>
                  <a:lnTo>
                    <a:pt x="2483" y="4692"/>
                  </a:lnTo>
                  <a:lnTo>
                    <a:pt x="2576" y="4829"/>
                  </a:lnTo>
                  <a:lnTo>
                    <a:pt x="2712" y="4970"/>
                  </a:lnTo>
                  <a:lnTo>
                    <a:pt x="2805" y="5107"/>
                  </a:lnTo>
                  <a:lnTo>
                    <a:pt x="2946" y="5244"/>
                  </a:lnTo>
                  <a:lnTo>
                    <a:pt x="3083" y="5301"/>
                  </a:lnTo>
                  <a:lnTo>
                    <a:pt x="3220" y="5301"/>
                  </a:lnTo>
                  <a:lnTo>
                    <a:pt x="3361" y="5301"/>
                  </a:lnTo>
                  <a:lnTo>
                    <a:pt x="3497" y="5301"/>
                  </a:lnTo>
                  <a:lnTo>
                    <a:pt x="3634" y="5301"/>
                  </a:lnTo>
                  <a:lnTo>
                    <a:pt x="3771" y="5301"/>
                  </a:lnTo>
                  <a:lnTo>
                    <a:pt x="3912" y="5301"/>
                  </a:lnTo>
                  <a:lnTo>
                    <a:pt x="4049" y="5301"/>
                  </a:lnTo>
                  <a:lnTo>
                    <a:pt x="4185" y="5301"/>
                  </a:lnTo>
                  <a:lnTo>
                    <a:pt x="4326" y="5301"/>
                  </a:lnTo>
                  <a:lnTo>
                    <a:pt x="4371" y="5151"/>
                  </a:lnTo>
                  <a:lnTo>
                    <a:pt x="4278" y="5014"/>
                  </a:lnTo>
                  <a:lnTo>
                    <a:pt x="4234" y="4878"/>
                  </a:lnTo>
                  <a:lnTo>
                    <a:pt x="4185" y="4737"/>
                  </a:lnTo>
                  <a:lnTo>
                    <a:pt x="4093" y="4600"/>
                  </a:lnTo>
                  <a:lnTo>
                    <a:pt x="4005" y="4463"/>
                  </a:lnTo>
                  <a:lnTo>
                    <a:pt x="3912" y="4322"/>
                  </a:lnTo>
                  <a:lnTo>
                    <a:pt x="3863" y="4185"/>
                  </a:lnTo>
                  <a:lnTo>
                    <a:pt x="3771" y="4049"/>
                  </a:lnTo>
                  <a:lnTo>
                    <a:pt x="3634" y="3912"/>
                  </a:lnTo>
                  <a:lnTo>
                    <a:pt x="3542" y="3771"/>
                  </a:lnTo>
                  <a:lnTo>
                    <a:pt x="3405" y="3634"/>
                  </a:lnTo>
                  <a:lnTo>
                    <a:pt x="3268" y="3542"/>
                  </a:lnTo>
                  <a:lnTo>
                    <a:pt x="3176" y="3405"/>
                  </a:lnTo>
                  <a:lnTo>
                    <a:pt x="3034" y="3312"/>
                  </a:lnTo>
                  <a:lnTo>
                    <a:pt x="2946" y="3176"/>
                  </a:lnTo>
                  <a:lnTo>
                    <a:pt x="2898" y="3034"/>
                  </a:lnTo>
                  <a:lnTo>
                    <a:pt x="2854" y="2898"/>
                  </a:lnTo>
                  <a:lnTo>
                    <a:pt x="2805" y="2761"/>
                  </a:lnTo>
                  <a:lnTo>
                    <a:pt x="2712" y="2619"/>
                  </a:lnTo>
                  <a:lnTo>
                    <a:pt x="2624" y="2482"/>
                  </a:lnTo>
                  <a:lnTo>
                    <a:pt x="2532" y="2345"/>
                  </a:lnTo>
                  <a:lnTo>
                    <a:pt x="2439" y="2204"/>
                  </a:lnTo>
                  <a:lnTo>
                    <a:pt x="2346" y="2068"/>
                  </a:lnTo>
                  <a:lnTo>
                    <a:pt x="2254" y="1931"/>
                  </a:lnTo>
                  <a:lnTo>
                    <a:pt x="2210" y="1794"/>
                  </a:lnTo>
                  <a:lnTo>
                    <a:pt x="2068" y="1702"/>
                  </a:lnTo>
                  <a:lnTo>
                    <a:pt x="1931" y="1609"/>
                  </a:lnTo>
                  <a:lnTo>
                    <a:pt x="1838" y="1468"/>
                  </a:lnTo>
                  <a:lnTo>
                    <a:pt x="1702" y="1380"/>
                  </a:lnTo>
                  <a:lnTo>
                    <a:pt x="1565" y="1287"/>
                  </a:lnTo>
                  <a:lnTo>
                    <a:pt x="1424" y="1195"/>
                  </a:lnTo>
                  <a:lnTo>
                    <a:pt x="1287" y="1102"/>
                  </a:lnTo>
                  <a:lnTo>
                    <a:pt x="1150" y="965"/>
                  </a:lnTo>
                  <a:lnTo>
                    <a:pt x="1009" y="824"/>
                  </a:lnTo>
                  <a:lnTo>
                    <a:pt x="965" y="687"/>
                  </a:lnTo>
                  <a:lnTo>
                    <a:pt x="965" y="551"/>
                  </a:lnTo>
                  <a:lnTo>
                    <a:pt x="1009" y="410"/>
                  </a:lnTo>
                  <a:lnTo>
                    <a:pt x="1058" y="273"/>
                  </a:lnTo>
                  <a:lnTo>
                    <a:pt x="1102" y="136"/>
                  </a:lnTo>
                  <a:lnTo>
                    <a:pt x="1102" y="0"/>
                  </a:lnTo>
                  <a:lnTo>
                    <a:pt x="965" y="44"/>
                  </a:lnTo>
                  <a:lnTo>
                    <a:pt x="873" y="180"/>
                  </a:lnTo>
                  <a:lnTo>
                    <a:pt x="780" y="321"/>
                  </a:lnTo>
                  <a:lnTo>
                    <a:pt x="687" y="458"/>
                  </a:lnTo>
                  <a:lnTo>
                    <a:pt x="687" y="595"/>
                  </a:lnTo>
                  <a:lnTo>
                    <a:pt x="551" y="502"/>
                  </a:lnTo>
                  <a:lnTo>
                    <a:pt x="507" y="366"/>
                  </a:lnTo>
                  <a:lnTo>
                    <a:pt x="414" y="229"/>
                  </a:lnTo>
                  <a:lnTo>
                    <a:pt x="273" y="180"/>
                  </a:lnTo>
                  <a:lnTo>
                    <a:pt x="136" y="88"/>
                  </a:lnTo>
                  <a:lnTo>
                    <a:pt x="0" y="44"/>
                  </a:lnTo>
                  <a:lnTo>
                    <a:pt x="127" y="44"/>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0" y="762120"/>
              <a:ext cx="6510600" cy="4091400"/>
            </a:xfrm>
            <a:custGeom>
              <a:avLst/>
              <a:gdLst/>
              <a:ahLst/>
              <a:rect l="0" t="0" r="r" b="b"/>
              <a:pathLst>
                <a:path w="18085" h="11365">
                  <a:moveTo>
                    <a:pt x="3175" y="0"/>
                  </a:moveTo>
                  <a:lnTo>
                    <a:pt x="3311" y="136"/>
                  </a:lnTo>
                  <a:lnTo>
                    <a:pt x="3404" y="277"/>
                  </a:lnTo>
                  <a:lnTo>
                    <a:pt x="3541" y="366"/>
                  </a:lnTo>
                  <a:lnTo>
                    <a:pt x="3633" y="507"/>
                  </a:lnTo>
                  <a:lnTo>
                    <a:pt x="3726" y="643"/>
                  </a:lnTo>
                  <a:lnTo>
                    <a:pt x="3774" y="780"/>
                  </a:lnTo>
                  <a:lnTo>
                    <a:pt x="3818" y="921"/>
                  </a:lnTo>
                  <a:lnTo>
                    <a:pt x="3867" y="1058"/>
                  </a:lnTo>
                  <a:lnTo>
                    <a:pt x="3867" y="1195"/>
                  </a:lnTo>
                  <a:lnTo>
                    <a:pt x="3867" y="1336"/>
                  </a:lnTo>
                  <a:lnTo>
                    <a:pt x="3867" y="1472"/>
                  </a:lnTo>
                  <a:lnTo>
                    <a:pt x="3867" y="1609"/>
                  </a:lnTo>
                  <a:lnTo>
                    <a:pt x="3818" y="1750"/>
                  </a:lnTo>
                  <a:lnTo>
                    <a:pt x="3818" y="1887"/>
                  </a:lnTo>
                  <a:lnTo>
                    <a:pt x="3818" y="2024"/>
                  </a:lnTo>
                  <a:lnTo>
                    <a:pt x="3818" y="2160"/>
                  </a:lnTo>
                  <a:lnTo>
                    <a:pt x="3818" y="2301"/>
                  </a:lnTo>
                  <a:lnTo>
                    <a:pt x="3726" y="2438"/>
                  </a:lnTo>
                  <a:lnTo>
                    <a:pt x="3589" y="2531"/>
                  </a:lnTo>
                  <a:lnTo>
                    <a:pt x="3496" y="2667"/>
                  </a:lnTo>
                  <a:lnTo>
                    <a:pt x="3404" y="2808"/>
                  </a:lnTo>
                  <a:lnTo>
                    <a:pt x="3267" y="2898"/>
                  </a:lnTo>
                  <a:lnTo>
                    <a:pt x="3130" y="2808"/>
                  </a:lnTo>
                  <a:lnTo>
                    <a:pt x="2989" y="2716"/>
                  </a:lnTo>
                  <a:lnTo>
                    <a:pt x="2853" y="2623"/>
                  </a:lnTo>
                  <a:lnTo>
                    <a:pt x="2716" y="2531"/>
                  </a:lnTo>
                  <a:lnTo>
                    <a:pt x="2575" y="2482"/>
                  </a:lnTo>
                  <a:lnTo>
                    <a:pt x="2438" y="2482"/>
                  </a:lnTo>
                  <a:lnTo>
                    <a:pt x="2301" y="2438"/>
                  </a:lnTo>
                  <a:lnTo>
                    <a:pt x="1979" y="2438"/>
                  </a:lnTo>
                  <a:lnTo>
                    <a:pt x="1838" y="2394"/>
                  </a:lnTo>
                  <a:lnTo>
                    <a:pt x="1702" y="2394"/>
                  </a:lnTo>
                  <a:lnTo>
                    <a:pt x="1565" y="2394"/>
                  </a:lnTo>
                  <a:lnTo>
                    <a:pt x="1424" y="2345"/>
                  </a:lnTo>
                  <a:lnTo>
                    <a:pt x="1287" y="2301"/>
                  </a:lnTo>
                  <a:lnTo>
                    <a:pt x="1150" y="2253"/>
                  </a:lnTo>
                  <a:lnTo>
                    <a:pt x="1014" y="2209"/>
                  </a:lnTo>
                  <a:lnTo>
                    <a:pt x="873" y="2160"/>
                  </a:lnTo>
                  <a:lnTo>
                    <a:pt x="780" y="2301"/>
                  </a:lnTo>
                  <a:lnTo>
                    <a:pt x="780" y="2438"/>
                  </a:lnTo>
                  <a:lnTo>
                    <a:pt x="780" y="2575"/>
                  </a:lnTo>
                  <a:lnTo>
                    <a:pt x="780" y="2716"/>
                  </a:lnTo>
                  <a:lnTo>
                    <a:pt x="780" y="2854"/>
                  </a:lnTo>
                  <a:lnTo>
                    <a:pt x="780" y="2990"/>
                  </a:lnTo>
                  <a:lnTo>
                    <a:pt x="780" y="3131"/>
                  </a:lnTo>
                  <a:lnTo>
                    <a:pt x="780" y="3268"/>
                  </a:lnTo>
                  <a:lnTo>
                    <a:pt x="780" y="3405"/>
                  </a:lnTo>
                  <a:lnTo>
                    <a:pt x="780" y="3542"/>
                  </a:lnTo>
                  <a:lnTo>
                    <a:pt x="780" y="3683"/>
                  </a:lnTo>
                  <a:lnTo>
                    <a:pt x="643" y="3727"/>
                  </a:lnTo>
                  <a:lnTo>
                    <a:pt x="551" y="3868"/>
                  </a:lnTo>
                  <a:lnTo>
                    <a:pt x="414" y="4005"/>
                  </a:lnTo>
                  <a:lnTo>
                    <a:pt x="366" y="4141"/>
                  </a:lnTo>
                  <a:lnTo>
                    <a:pt x="321" y="4278"/>
                  </a:lnTo>
                  <a:lnTo>
                    <a:pt x="321" y="4419"/>
                  </a:lnTo>
                  <a:lnTo>
                    <a:pt x="321" y="4556"/>
                  </a:lnTo>
                  <a:lnTo>
                    <a:pt x="321" y="4692"/>
                  </a:lnTo>
                  <a:lnTo>
                    <a:pt x="321" y="4834"/>
                  </a:lnTo>
                  <a:lnTo>
                    <a:pt x="366" y="4970"/>
                  </a:lnTo>
                  <a:lnTo>
                    <a:pt x="366" y="5107"/>
                  </a:lnTo>
                  <a:lnTo>
                    <a:pt x="414" y="5248"/>
                  </a:lnTo>
                  <a:lnTo>
                    <a:pt x="414" y="5385"/>
                  </a:lnTo>
                  <a:lnTo>
                    <a:pt x="414" y="5521"/>
                  </a:lnTo>
                  <a:lnTo>
                    <a:pt x="414" y="5658"/>
                  </a:lnTo>
                  <a:lnTo>
                    <a:pt x="551" y="5707"/>
                  </a:lnTo>
                  <a:lnTo>
                    <a:pt x="692" y="5751"/>
                  </a:lnTo>
                  <a:lnTo>
                    <a:pt x="829" y="5751"/>
                  </a:lnTo>
                  <a:lnTo>
                    <a:pt x="921" y="5892"/>
                  </a:lnTo>
                  <a:lnTo>
                    <a:pt x="1058" y="6029"/>
                  </a:lnTo>
                  <a:lnTo>
                    <a:pt x="1150" y="6165"/>
                  </a:lnTo>
                  <a:lnTo>
                    <a:pt x="1287" y="6214"/>
                  </a:lnTo>
                  <a:lnTo>
                    <a:pt x="1424" y="6214"/>
                  </a:lnTo>
                  <a:lnTo>
                    <a:pt x="1565" y="6214"/>
                  </a:lnTo>
                  <a:lnTo>
                    <a:pt x="1702" y="6214"/>
                  </a:lnTo>
                  <a:lnTo>
                    <a:pt x="1838" y="6214"/>
                  </a:lnTo>
                  <a:lnTo>
                    <a:pt x="1979" y="6214"/>
                  </a:lnTo>
                  <a:lnTo>
                    <a:pt x="2116" y="6214"/>
                  </a:lnTo>
                  <a:lnTo>
                    <a:pt x="2253" y="6214"/>
                  </a:lnTo>
                  <a:lnTo>
                    <a:pt x="2394" y="6214"/>
                  </a:lnTo>
                  <a:lnTo>
                    <a:pt x="2531" y="6214"/>
                  </a:lnTo>
                  <a:lnTo>
                    <a:pt x="2667" y="6214"/>
                  </a:lnTo>
                  <a:lnTo>
                    <a:pt x="2808" y="6214"/>
                  </a:lnTo>
                  <a:lnTo>
                    <a:pt x="2945" y="6214"/>
                  </a:lnTo>
                  <a:lnTo>
                    <a:pt x="3038" y="6073"/>
                  </a:lnTo>
                  <a:lnTo>
                    <a:pt x="3175" y="6029"/>
                  </a:lnTo>
                  <a:lnTo>
                    <a:pt x="3267" y="5892"/>
                  </a:lnTo>
                  <a:lnTo>
                    <a:pt x="3404" y="5799"/>
                  </a:lnTo>
                  <a:lnTo>
                    <a:pt x="3541" y="5658"/>
                  </a:lnTo>
                  <a:lnTo>
                    <a:pt x="3682" y="5521"/>
                  </a:lnTo>
                  <a:lnTo>
                    <a:pt x="3818" y="5429"/>
                  </a:lnTo>
                  <a:lnTo>
                    <a:pt x="3818" y="5292"/>
                  </a:lnTo>
                  <a:lnTo>
                    <a:pt x="3818" y="5155"/>
                  </a:lnTo>
                  <a:lnTo>
                    <a:pt x="3818" y="4741"/>
                  </a:lnTo>
                  <a:lnTo>
                    <a:pt x="3911" y="4600"/>
                  </a:lnTo>
                  <a:lnTo>
                    <a:pt x="4048" y="4556"/>
                  </a:lnTo>
                  <a:lnTo>
                    <a:pt x="4189" y="4512"/>
                  </a:lnTo>
                  <a:lnTo>
                    <a:pt x="4325" y="4463"/>
                  </a:lnTo>
                  <a:lnTo>
                    <a:pt x="4462" y="4419"/>
                  </a:lnTo>
                  <a:lnTo>
                    <a:pt x="4599" y="4326"/>
                  </a:lnTo>
                  <a:lnTo>
                    <a:pt x="4691" y="4190"/>
                  </a:lnTo>
                  <a:lnTo>
                    <a:pt x="4784" y="4049"/>
                  </a:lnTo>
                  <a:lnTo>
                    <a:pt x="4833" y="3912"/>
                  </a:lnTo>
                  <a:lnTo>
                    <a:pt x="4877" y="3775"/>
                  </a:lnTo>
                  <a:lnTo>
                    <a:pt x="5013" y="3634"/>
                  </a:lnTo>
                  <a:lnTo>
                    <a:pt x="5106" y="3497"/>
                  </a:lnTo>
                  <a:lnTo>
                    <a:pt x="5247" y="3453"/>
                  </a:lnTo>
                  <a:lnTo>
                    <a:pt x="5384" y="3405"/>
                  </a:lnTo>
                  <a:lnTo>
                    <a:pt x="5520" y="3405"/>
                  </a:lnTo>
                  <a:lnTo>
                    <a:pt x="5657" y="3453"/>
                  </a:lnTo>
                  <a:lnTo>
                    <a:pt x="5798" y="3497"/>
                  </a:lnTo>
                  <a:lnTo>
                    <a:pt x="5935" y="3542"/>
                  </a:lnTo>
                  <a:lnTo>
                    <a:pt x="6072" y="3590"/>
                  </a:lnTo>
                  <a:lnTo>
                    <a:pt x="6213" y="3590"/>
                  </a:lnTo>
                  <a:lnTo>
                    <a:pt x="6350" y="3590"/>
                  </a:lnTo>
                  <a:lnTo>
                    <a:pt x="6486" y="3590"/>
                  </a:lnTo>
                  <a:lnTo>
                    <a:pt x="6627" y="3497"/>
                  </a:lnTo>
                  <a:lnTo>
                    <a:pt x="6764" y="3405"/>
                  </a:lnTo>
                  <a:lnTo>
                    <a:pt x="6901" y="3361"/>
                  </a:lnTo>
                  <a:lnTo>
                    <a:pt x="7042" y="3361"/>
                  </a:lnTo>
                  <a:lnTo>
                    <a:pt x="7179" y="3361"/>
                  </a:lnTo>
                  <a:lnTo>
                    <a:pt x="7315" y="3361"/>
                  </a:lnTo>
                  <a:lnTo>
                    <a:pt x="7452" y="3453"/>
                  </a:lnTo>
                  <a:lnTo>
                    <a:pt x="7593" y="3497"/>
                  </a:lnTo>
                  <a:lnTo>
                    <a:pt x="7637" y="3634"/>
                  </a:lnTo>
                  <a:lnTo>
                    <a:pt x="7637" y="3775"/>
                  </a:lnTo>
                  <a:lnTo>
                    <a:pt x="7637" y="3912"/>
                  </a:lnTo>
                  <a:lnTo>
                    <a:pt x="7637" y="4049"/>
                  </a:lnTo>
                  <a:lnTo>
                    <a:pt x="7637" y="4190"/>
                  </a:lnTo>
                  <a:lnTo>
                    <a:pt x="7686" y="4326"/>
                  </a:lnTo>
                  <a:lnTo>
                    <a:pt x="7774" y="4463"/>
                  </a:lnTo>
                  <a:lnTo>
                    <a:pt x="7866" y="4600"/>
                  </a:lnTo>
                  <a:lnTo>
                    <a:pt x="7959" y="4741"/>
                  </a:lnTo>
                  <a:lnTo>
                    <a:pt x="8100" y="4834"/>
                  </a:lnTo>
                  <a:lnTo>
                    <a:pt x="8188" y="4970"/>
                  </a:lnTo>
                  <a:lnTo>
                    <a:pt x="8329" y="5063"/>
                  </a:lnTo>
                  <a:lnTo>
                    <a:pt x="8466" y="5155"/>
                  </a:lnTo>
                  <a:lnTo>
                    <a:pt x="8559" y="5292"/>
                  </a:lnTo>
                  <a:lnTo>
                    <a:pt x="8651" y="5429"/>
                  </a:lnTo>
                  <a:lnTo>
                    <a:pt x="8744" y="5570"/>
                  </a:lnTo>
                  <a:lnTo>
                    <a:pt x="8881" y="5658"/>
                  </a:lnTo>
                  <a:lnTo>
                    <a:pt x="8973" y="5799"/>
                  </a:lnTo>
                  <a:lnTo>
                    <a:pt x="9017" y="5936"/>
                  </a:lnTo>
                  <a:lnTo>
                    <a:pt x="9111" y="6073"/>
                  </a:lnTo>
                  <a:lnTo>
                    <a:pt x="9159" y="6214"/>
                  </a:lnTo>
                  <a:lnTo>
                    <a:pt x="9204" y="6351"/>
                  </a:lnTo>
                  <a:lnTo>
                    <a:pt x="9248" y="6487"/>
                  </a:lnTo>
                  <a:lnTo>
                    <a:pt x="9248" y="6628"/>
                  </a:lnTo>
                  <a:lnTo>
                    <a:pt x="9248" y="6765"/>
                  </a:lnTo>
                  <a:lnTo>
                    <a:pt x="9248" y="6902"/>
                  </a:lnTo>
                  <a:lnTo>
                    <a:pt x="9248" y="7043"/>
                  </a:lnTo>
                  <a:lnTo>
                    <a:pt x="9389" y="7180"/>
                  </a:lnTo>
                  <a:lnTo>
                    <a:pt x="9526" y="7272"/>
                  </a:lnTo>
                  <a:lnTo>
                    <a:pt x="9662" y="7272"/>
                  </a:lnTo>
                  <a:lnTo>
                    <a:pt x="9755" y="7131"/>
                  </a:lnTo>
                  <a:lnTo>
                    <a:pt x="9803" y="6994"/>
                  </a:lnTo>
                  <a:lnTo>
                    <a:pt x="9847" y="6858"/>
                  </a:lnTo>
                  <a:lnTo>
                    <a:pt x="9847" y="6717"/>
                  </a:lnTo>
                  <a:lnTo>
                    <a:pt x="9803" y="6580"/>
                  </a:lnTo>
                  <a:lnTo>
                    <a:pt x="9803" y="6443"/>
                  </a:lnTo>
                  <a:lnTo>
                    <a:pt x="9803" y="6306"/>
                  </a:lnTo>
                  <a:lnTo>
                    <a:pt x="9803" y="6165"/>
                  </a:lnTo>
                  <a:lnTo>
                    <a:pt x="9940" y="6121"/>
                  </a:lnTo>
                  <a:lnTo>
                    <a:pt x="10077" y="6121"/>
                  </a:lnTo>
                  <a:lnTo>
                    <a:pt x="10218" y="6165"/>
                  </a:lnTo>
                  <a:lnTo>
                    <a:pt x="10355" y="6214"/>
                  </a:lnTo>
                  <a:lnTo>
                    <a:pt x="10399" y="6073"/>
                  </a:lnTo>
                  <a:lnTo>
                    <a:pt x="10399" y="5936"/>
                  </a:lnTo>
                  <a:lnTo>
                    <a:pt x="10355" y="5799"/>
                  </a:lnTo>
                  <a:lnTo>
                    <a:pt x="10306" y="5658"/>
                  </a:lnTo>
                  <a:lnTo>
                    <a:pt x="10169" y="5614"/>
                  </a:lnTo>
                  <a:lnTo>
                    <a:pt x="10033" y="5477"/>
                  </a:lnTo>
                  <a:lnTo>
                    <a:pt x="9940" y="5336"/>
                  </a:lnTo>
                  <a:lnTo>
                    <a:pt x="9803" y="5248"/>
                  </a:lnTo>
                  <a:lnTo>
                    <a:pt x="9711" y="5107"/>
                  </a:lnTo>
                  <a:lnTo>
                    <a:pt x="9570" y="5014"/>
                  </a:lnTo>
                  <a:lnTo>
                    <a:pt x="9433" y="4926"/>
                  </a:lnTo>
                  <a:lnTo>
                    <a:pt x="9340" y="4785"/>
                  </a:lnTo>
                  <a:lnTo>
                    <a:pt x="9296" y="4648"/>
                  </a:lnTo>
                  <a:lnTo>
                    <a:pt x="9248" y="4512"/>
                  </a:lnTo>
                  <a:lnTo>
                    <a:pt x="9204" y="4371"/>
                  </a:lnTo>
                  <a:lnTo>
                    <a:pt x="9111" y="4234"/>
                  </a:lnTo>
                  <a:lnTo>
                    <a:pt x="9017" y="4097"/>
                  </a:lnTo>
                  <a:lnTo>
                    <a:pt x="8881" y="3956"/>
                  </a:lnTo>
                  <a:lnTo>
                    <a:pt x="8832" y="3819"/>
                  </a:lnTo>
                  <a:lnTo>
                    <a:pt x="8744" y="3683"/>
                  </a:lnTo>
                  <a:lnTo>
                    <a:pt x="8651" y="3542"/>
                  </a:lnTo>
                  <a:lnTo>
                    <a:pt x="8559" y="3405"/>
                  </a:lnTo>
                  <a:lnTo>
                    <a:pt x="8466" y="3268"/>
                  </a:lnTo>
                  <a:lnTo>
                    <a:pt x="8374" y="3131"/>
                  </a:lnTo>
                  <a:lnTo>
                    <a:pt x="8422" y="2990"/>
                  </a:lnTo>
                  <a:lnTo>
                    <a:pt x="8559" y="2946"/>
                  </a:lnTo>
                  <a:lnTo>
                    <a:pt x="8695" y="2946"/>
                  </a:lnTo>
                  <a:lnTo>
                    <a:pt x="8832" y="2946"/>
                  </a:lnTo>
                  <a:lnTo>
                    <a:pt x="8973" y="3039"/>
                  </a:lnTo>
                  <a:lnTo>
                    <a:pt x="9067" y="3176"/>
                  </a:lnTo>
                  <a:lnTo>
                    <a:pt x="9204" y="3312"/>
                  </a:lnTo>
                  <a:lnTo>
                    <a:pt x="9296" y="3453"/>
                  </a:lnTo>
                  <a:lnTo>
                    <a:pt x="9389" y="3590"/>
                  </a:lnTo>
                  <a:lnTo>
                    <a:pt x="9433" y="3727"/>
                  </a:lnTo>
                  <a:lnTo>
                    <a:pt x="9526" y="3868"/>
                  </a:lnTo>
                  <a:lnTo>
                    <a:pt x="9662" y="4005"/>
                  </a:lnTo>
                  <a:lnTo>
                    <a:pt x="9711" y="4141"/>
                  </a:lnTo>
                  <a:lnTo>
                    <a:pt x="9847" y="4278"/>
                  </a:lnTo>
                  <a:lnTo>
                    <a:pt x="9940" y="4419"/>
                  </a:lnTo>
                  <a:lnTo>
                    <a:pt x="10077" y="4556"/>
                  </a:lnTo>
                  <a:lnTo>
                    <a:pt x="10125" y="4692"/>
                  </a:lnTo>
                  <a:lnTo>
                    <a:pt x="10218" y="4834"/>
                  </a:lnTo>
                  <a:lnTo>
                    <a:pt x="10355" y="4970"/>
                  </a:lnTo>
                  <a:lnTo>
                    <a:pt x="10491" y="5107"/>
                  </a:lnTo>
                  <a:lnTo>
                    <a:pt x="10628" y="5248"/>
                  </a:lnTo>
                  <a:lnTo>
                    <a:pt x="10721" y="5385"/>
                  </a:lnTo>
                  <a:lnTo>
                    <a:pt x="10813" y="5521"/>
                  </a:lnTo>
                  <a:lnTo>
                    <a:pt x="10862" y="5658"/>
                  </a:lnTo>
                  <a:lnTo>
                    <a:pt x="10906" y="5799"/>
                  </a:lnTo>
                  <a:lnTo>
                    <a:pt x="10906" y="5936"/>
                  </a:lnTo>
                  <a:lnTo>
                    <a:pt x="10906" y="6073"/>
                  </a:lnTo>
                  <a:lnTo>
                    <a:pt x="10906" y="6214"/>
                  </a:lnTo>
                  <a:lnTo>
                    <a:pt x="10906" y="6351"/>
                  </a:lnTo>
                  <a:lnTo>
                    <a:pt x="11042" y="6443"/>
                  </a:lnTo>
                  <a:lnTo>
                    <a:pt x="11184" y="6536"/>
                  </a:lnTo>
                  <a:lnTo>
                    <a:pt x="11276" y="6672"/>
                  </a:lnTo>
                  <a:lnTo>
                    <a:pt x="11276" y="6809"/>
                  </a:lnTo>
                  <a:lnTo>
                    <a:pt x="11276" y="6950"/>
                  </a:lnTo>
                  <a:lnTo>
                    <a:pt x="11276" y="7087"/>
                  </a:lnTo>
                  <a:lnTo>
                    <a:pt x="11413" y="7180"/>
                  </a:lnTo>
                  <a:lnTo>
                    <a:pt x="11550" y="7272"/>
                  </a:lnTo>
                  <a:lnTo>
                    <a:pt x="11686" y="7365"/>
                  </a:lnTo>
                  <a:lnTo>
                    <a:pt x="11827" y="7453"/>
                  </a:lnTo>
                  <a:lnTo>
                    <a:pt x="11964" y="7546"/>
                  </a:lnTo>
                  <a:lnTo>
                    <a:pt x="12101" y="7546"/>
                  </a:lnTo>
                  <a:lnTo>
                    <a:pt x="12242" y="7546"/>
                  </a:lnTo>
                  <a:lnTo>
                    <a:pt x="12379" y="7501"/>
                  </a:lnTo>
                  <a:lnTo>
                    <a:pt x="12471" y="7365"/>
                  </a:lnTo>
                  <a:lnTo>
                    <a:pt x="12564" y="7224"/>
                  </a:lnTo>
                  <a:lnTo>
                    <a:pt x="12608" y="7087"/>
                  </a:lnTo>
                  <a:lnTo>
                    <a:pt x="12656" y="6950"/>
                  </a:lnTo>
                  <a:lnTo>
                    <a:pt x="12608" y="6809"/>
                  </a:lnTo>
                  <a:lnTo>
                    <a:pt x="12515" y="6672"/>
                  </a:lnTo>
                  <a:lnTo>
                    <a:pt x="12423" y="6536"/>
                  </a:lnTo>
                  <a:lnTo>
                    <a:pt x="12334" y="6395"/>
                  </a:lnTo>
                  <a:lnTo>
                    <a:pt x="12286" y="6258"/>
                  </a:lnTo>
                  <a:lnTo>
                    <a:pt x="12286" y="6121"/>
                  </a:lnTo>
                  <a:lnTo>
                    <a:pt x="12423" y="5984"/>
                  </a:lnTo>
                  <a:lnTo>
                    <a:pt x="12564" y="5892"/>
                  </a:lnTo>
                  <a:lnTo>
                    <a:pt x="12701" y="5843"/>
                  </a:lnTo>
                  <a:lnTo>
                    <a:pt x="12837" y="5799"/>
                  </a:lnTo>
                  <a:lnTo>
                    <a:pt x="12978" y="5707"/>
                  </a:lnTo>
                  <a:lnTo>
                    <a:pt x="13115" y="5614"/>
                  </a:lnTo>
                  <a:lnTo>
                    <a:pt x="13159" y="5248"/>
                  </a:lnTo>
                  <a:lnTo>
                    <a:pt x="13208" y="4878"/>
                  </a:lnTo>
                  <a:lnTo>
                    <a:pt x="13344" y="4834"/>
                  </a:lnTo>
                  <a:lnTo>
                    <a:pt x="13481" y="4834"/>
                  </a:lnTo>
                  <a:lnTo>
                    <a:pt x="13622" y="4834"/>
                  </a:lnTo>
                  <a:lnTo>
                    <a:pt x="13759" y="4878"/>
                  </a:lnTo>
                  <a:lnTo>
                    <a:pt x="13896" y="4970"/>
                  </a:lnTo>
                  <a:lnTo>
                    <a:pt x="14037" y="5063"/>
                  </a:lnTo>
                  <a:lnTo>
                    <a:pt x="14173" y="5107"/>
                  </a:lnTo>
                  <a:lnTo>
                    <a:pt x="14266" y="4970"/>
                  </a:lnTo>
                  <a:lnTo>
                    <a:pt x="14266" y="4834"/>
                  </a:lnTo>
                  <a:lnTo>
                    <a:pt x="14266" y="4692"/>
                  </a:lnTo>
                  <a:lnTo>
                    <a:pt x="14173" y="4556"/>
                  </a:lnTo>
                  <a:lnTo>
                    <a:pt x="14081" y="4419"/>
                  </a:lnTo>
                  <a:lnTo>
                    <a:pt x="14037" y="4278"/>
                  </a:lnTo>
                  <a:lnTo>
                    <a:pt x="14037" y="4141"/>
                  </a:lnTo>
                  <a:lnTo>
                    <a:pt x="14037" y="4005"/>
                  </a:lnTo>
                  <a:lnTo>
                    <a:pt x="14037" y="3868"/>
                  </a:lnTo>
                  <a:lnTo>
                    <a:pt x="14037" y="3727"/>
                  </a:lnTo>
                  <a:lnTo>
                    <a:pt x="14037" y="3590"/>
                  </a:lnTo>
                  <a:lnTo>
                    <a:pt x="14037" y="3453"/>
                  </a:lnTo>
                  <a:lnTo>
                    <a:pt x="14037" y="3312"/>
                  </a:lnTo>
                  <a:lnTo>
                    <a:pt x="14081" y="2946"/>
                  </a:lnTo>
                  <a:lnTo>
                    <a:pt x="14081" y="2808"/>
                  </a:lnTo>
                  <a:lnTo>
                    <a:pt x="14125" y="2667"/>
                  </a:lnTo>
                  <a:lnTo>
                    <a:pt x="14266" y="2531"/>
                  </a:lnTo>
                  <a:lnTo>
                    <a:pt x="14403" y="2482"/>
                  </a:lnTo>
                  <a:lnTo>
                    <a:pt x="14539" y="2394"/>
                  </a:lnTo>
                  <a:lnTo>
                    <a:pt x="14680" y="2345"/>
                  </a:lnTo>
                  <a:lnTo>
                    <a:pt x="14817" y="2301"/>
                  </a:lnTo>
                  <a:lnTo>
                    <a:pt x="14954" y="2301"/>
                  </a:lnTo>
                  <a:lnTo>
                    <a:pt x="15095" y="2301"/>
                  </a:lnTo>
                  <a:lnTo>
                    <a:pt x="15232" y="2438"/>
                  </a:lnTo>
                  <a:lnTo>
                    <a:pt x="15324" y="2575"/>
                  </a:lnTo>
                  <a:lnTo>
                    <a:pt x="15324" y="2716"/>
                  </a:lnTo>
                  <a:lnTo>
                    <a:pt x="15417" y="2854"/>
                  </a:lnTo>
                  <a:lnTo>
                    <a:pt x="15554" y="2946"/>
                  </a:lnTo>
                  <a:lnTo>
                    <a:pt x="15690" y="3083"/>
                  </a:lnTo>
                  <a:lnTo>
                    <a:pt x="15831" y="3131"/>
                  </a:lnTo>
                  <a:lnTo>
                    <a:pt x="15968" y="3131"/>
                  </a:lnTo>
                  <a:lnTo>
                    <a:pt x="16105" y="3083"/>
                  </a:lnTo>
                  <a:lnTo>
                    <a:pt x="16197" y="2946"/>
                  </a:lnTo>
                  <a:lnTo>
                    <a:pt x="16290" y="2808"/>
                  </a:lnTo>
                  <a:lnTo>
                    <a:pt x="16334" y="2667"/>
                  </a:lnTo>
                  <a:lnTo>
                    <a:pt x="16290" y="2531"/>
                  </a:lnTo>
                  <a:lnTo>
                    <a:pt x="16197" y="2394"/>
                  </a:lnTo>
                  <a:lnTo>
                    <a:pt x="16105" y="2253"/>
                  </a:lnTo>
                  <a:lnTo>
                    <a:pt x="16105" y="2116"/>
                  </a:lnTo>
                  <a:lnTo>
                    <a:pt x="16105" y="1979"/>
                  </a:lnTo>
                  <a:lnTo>
                    <a:pt x="16197" y="1838"/>
                  </a:lnTo>
                  <a:lnTo>
                    <a:pt x="16334" y="1750"/>
                  </a:lnTo>
                  <a:lnTo>
                    <a:pt x="16475" y="1702"/>
                  </a:lnTo>
                  <a:lnTo>
                    <a:pt x="16612" y="1609"/>
                  </a:lnTo>
                  <a:lnTo>
                    <a:pt x="16656" y="1750"/>
                  </a:lnTo>
                  <a:lnTo>
                    <a:pt x="16749" y="1887"/>
                  </a:lnTo>
                  <a:lnTo>
                    <a:pt x="16841" y="2024"/>
                  </a:lnTo>
                  <a:lnTo>
                    <a:pt x="16797" y="2160"/>
                  </a:lnTo>
                  <a:lnTo>
                    <a:pt x="16705" y="2301"/>
                  </a:lnTo>
                  <a:lnTo>
                    <a:pt x="16612" y="2438"/>
                  </a:lnTo>
                  <a:lnTo>
                    <a:pt x="16612" y="2575"/>
                  </a:lnTo>
                  <a:lnTo>
                    <a:pt x="16612" y="2716"/>
                  </a:lnTo>
                  <a:lnTo>
                    <a:pt x="16749" y="2808"/>
                  </a:lnTo>
                  <a:lnTo>
                    <a:pt x="16890" y="2946"/>
                  </a:lnTo>
                  <a:lnTo>
                    <a:pt x="17026" y="2990"/>
                  </a:lnTo>
                  <a:lnTo>
                    <a:pt x="17163" y="3039"/>
                  </a:lnTo>
                  <a:lnTo>
                    <a:pt x="17300" y="3131"/>
                  </a:lnTo>
                  <a:lnTo>
                    <a:pt x="17441" y="3176"/>
                  </a:lnTo>
                  <a:lnTo>
                    <a:pt x="17578" y="3220"/>
                  </a:lnTo>
                  <a:lnTo>
                    <a:pt x="17714" y="3312"/>
                  </a:lnTo>
                  <a:lnTo>
                    <a:pt x="17855" y="3453"/>
                  </a:lnTo>
                  <a:lnTo>
                    <a:pt x="17948" y="3590"/>
                  </a:lnTo>
                  <a:lnTo>
                    <a:pt x="18036" y="3727"/>
                  </a:lnTo>
                  <a:lnTo>
                    <a:pt x="18085" y="3868"/>
                  </a:lnTo>
                  <a:lnTo>
                    <a:pt x="17992" y="4005"/>
                  </a:lnTo>
                  <a:lnTo>
                    <a:pt x="17948" y="4141"/>
                  </a:lnTo>
                  <a:lnTo>
                    <a:pt x="17807" y="4190"/>
                  </a:lnTo>
                  <a:lnTo>
                    <a:pt x="17670" y="4190"/>
                  </a:lnTo>
                  <a:lnTo>
                    <a:pt x="17534" y="4190"/>
                  </a:lnTo>
                  <a:lnTo>
                    <a:pt x="17392" y="4190"/>
                  </a:lnTo>
                  <a:lnTo>
                    <a:pt x="17256" y="4190"/>
                  </a:lnTo>
                  <a:lnTo>
                    <a:pt x="17119" y="4190"/>
                  </a:lnTo>
                  <a:lnTo>
                    <a:pt x="16978" y="4190"/>
                  </a:lnTo>
                  <a:lnTo>
                    <a:pt x="16841" y="4234"/>
                  </a:lnTo>
                  <a:lnTo>
                    <a:pt x="16705" y="4234"/>
                  </a:lnTo>
                  <a:lnTo>
                    <a:pt x="16568" y="4234"/>
                  </a:lnTo>
                  <a:lnTo>
                    <a:pt x="16427" y="4234"/>
                  </a:lnTo>
                  <a:lnTo>
                    <a:pt x="16290" y="4278"/>
                  </a:lnTo>
                  <a:lnTo>
                    <a:pt x="16153" y="4326"/>
                  </a:lnTo>
                  <a:lnTo>
                    <a:pt x="16012" y="4419"/>
                  </a:lnTo>
                  <a:lnTo>
                    <a:pt x="15876" y="4463"/>
                  </a:lnTo>
                  <a:lnTo>
                    <a:pt x="15739" y="4556"/>
                  </a:lnTo>
                  <a:lnTo>
                    <a:pt x="15598" y="4692"/>
                  </a:lnTo>
                  <a:lnTo>
                    <a:pt x="15461" y="4785"/>
                  </a:lnTo>
                  <a:lnTo>
                    <a:pt x="15324" y="4878"/>
                  </a:lnTo>
                  <a:lnTo>
                    <a:pt x="15232" y="5014"/>
                  </a:lnTo>
                  <a:lnTo>
                    <a:pt x="15095" y="5107"/>
                  </a:lnTo>
                  <a:lnTo>
                    <a:pt x="14954" y="5200"/>
                  </a:lnTo>
                  <a:lnTo>
                    <a:pt x="14817" y="5248"/>
                  </a:lnTo>
                  <a:lnTo>
                    <a:pt x="14680" y="5292"/>
                  </a:lnTo>
                  <a:lnTo>
                    <a:pt x="14539" y="5385"/>
                  </a:lnTo>
                  <a:lnTo>
                    <a:pt x="14403" y="5521"/>
                  </a:lnTo>
                  <a:lnTo>
                    <a:pt x="14266" y="5614"/>
                  </a:lnTo>
                  <a:lnTo>
                    <a:pt x="14125" y="5658"/>
                  </a:lnTo>
                  <a:lnTo>
                    <a:pt x="13988" y="5707"/>
                  </a:lnTo>
                  <a:lnTo>
                    <a:pt x="13851" y="5751"/>
                  </a:lnTo>
                  <a:lnTo>
                    <a:pt x="13759" y="5892"/>
                  </a:lnTo>
                  <a:lnTo>
                    <a:pt x="13622" y="5984"/>
                  </a:lnTo>
                  <a:lnTo>
                    <a:pt x="13574" y="6121"/>
                  </a:lnTo>
                  <a:lnTo>
                    <a:pt x="13481" y="6258"/>
                  </a:lnTo>
                  <a:lnTo>
                    <a:pt x="13481" y="6395"/>
                  </a:lnTo>
                  <a:lnTo>
                    <a:pt x="13530" y="6536"/>
                  </a:lnTo>
                  <a:lnTo>
                    <a:pt x="13574" y="6672"/>
                  </a:lnTo>
                  <a:lnTo>
                    <a:pt x="13622" y="6809"/>
                  </a:lnTo>
                  <a:lnTo>
                    <a:pt x="13759" y="6902"/>
                  </a:lnTo>
                  <a:lnTo>
                    <a:pt x="13803" y="7043"/>
                  </a:lnTo>
                  <a:lnTo>
                    <a:pt x="13896" y="7180"/>
                  </a:lnTo>
                  <a:lnTo>
                    <a:pt x="13988" y="7316"/>
                  </a:lnTo>
                  <a:lnTo>
                    <a:pt x="14125" y="7453"/>
                  </a:lnTo>
                  <a:lnTo>
                    <a:pt x="14266" y="7546"/>
                  </a:lnTo>
                  <a:lnTo>
                    <a:pt x="14310" y="7687"/>
                  </a:lnTo>
                  <a:lnTo>
                    <a:pt x="14451" y="7775"/>
                  </a:lnTo>
                  <a:lnTo>
                    <a:pt x="14588" y="7775"/>
                  </a:lnTo>
                  <a:lnTo>
                    <a:pt x="14725" y="7775"/>
                  </a:lnTo>
                  <a:lnTo>
                    <a:pt x="14861" y="7775"/>
                  </a:lnTo>
                  <a:lnTo>
                    <a:pt x="15002" y="7775"/>
                  </a:lnTo>
                  <a:lnTo>
                    <a:pt x="15139" y="7731"/>
                  </a:lnTo>
                  <a:lnTo>
                    <a:pt x="15276" y="7687"/>
                  </a:lnTo>
                  <a:lnTo>
                    <a:pt x="15417" y="7687"/>
                  </a:lnTo>
                  <a:lnTo>
                    <a:pt x="15554" y="7687"/>
                  </a:lnTo>
                  <a:lnTo>
                    <a:pt x="15690" y="7731"/>
                  </a:lnTo>
                  <a:lnTo>
                    <a:pt x="15831" y="7775"/>
                  </a:lnTo>
                  <a:lnTo>
                    <a:pt x="15968" y="7823"/>
                  </a:lnTo>
                  <a:lnTo>
                    <a:pt x="16105" y="7823"/>
                  </a:lnTo>
                  <a:lnTo>
                    <a:pt x="16242" y="7823"/>
                  </a:lnTo>
                  <a:lnTo>
                    <a:pt x="16334" y="7687"/>
                  </a:lnTo>
                  <a:lnTo>
                    <a:pt x="16427" y="7546"/>
                  </a:lnTo>
                  <a:lnTo>
                    <a:pt x="16475" y="7409"/>
                  </a:lnTo>
                  <a:lnTo>
                    <a:pt x="16568" y="7272"/>
                  </a:lnTo>
                  <a:lnTo>
                    <a:pt x="16705" y="7180"/>
                  </a:lnTo>
                  <a:lnTo>
                    <a:pt x="16841" y="7131"/>
                  </a:lnTo>
                  <a:lnTo>
                    <a:pt x="16890" y="7272"/>
                  </a:lnTo>
                  <a:lnTo>
                    <a:pt x="16890" y="7409"/>
                  </a:lnTo>
                  <a:lnTo>
                    <a:pt x="16841" y="7546"/>
                  </a:lnTo>
                  <a:lnTo>
                    <a:pt x="16797" y="7687"/>
                  </a:lnTo>
                  <a:lnTo>
                    <a:pt x="16890" y="7823"/>
                  </a:lnTo>
                  <a:lnTo>
                    <a:pt x="17026" y="7916"/>
                  </a:lnTo>
                  <a:lnTo>
                    <a:pt x="17119" y="8053"/>
                  </a:lnTo>
                  <a:lnTo>
                    <a:pt x="17163" y="8189"/>
                  </a:lnTo>
                  <a:lnTo>
                    <a:pt x="17256" y="8330"/>
                  </a:lnTo>
                  <a:lnTo>
                    <a:pt x="17256" y="8467"/>
                  </a:lnTo>
                  <a:lnTo>
                    <a:pt x="17256" y="8605"/>
                  </a:lnTo>
                  <a:lnTo>
                    <a:pt x="17212" y="8746"/>
                  </a:lnTo>
                  <a:lnTo>
                    <a:pt x="17212" y="8883"/>
                  </a:lnTo>
                  <a:lnTo>
                    <a:pt x="17212" y="9019"/>
                  </a:lnTo>
                  <a:lnTo>
                    <a:pt x="17119" y="9160"/>
                  </a:lnTo>
                  <a:lnTo>
                    <a:pt x="16978" y="9249"/>
                  </a:lnTo>
                  <a:lnTo>
                    <a:pt x="16841" y="9341"/>
                  </a:lnTo>
                  <a:lnTo>
                    <a:pt x="16705" y="9482"/>
                  </a:lnTo>
                  <a:lnTo>
                    <a:pt x="16568" y="9571"/>
                  </a:lnTo>
                  <a:lnTo>
                    <a:pt x="16427" y="9663"/>
                  </a:lnTo>
                  <a:lnTo>
                    <a:pt x="16290" y="9756"/>
                  </a:lnTo>
                  <a:lnTo>
                    <a:pt x="16153" y="9848"/>
                  </a:lnTo>
                  <a:lnTo>
                    <a:pt x="16012" y="9985"/>
                  </a:lnTo>
                  <a:lnTo>
                    <a:pt x="15876" y="10078"/>
                  </a:lnTo>
                  <a:lnTo>
                    <a:pt x="15831" y="10219"/>
                  </a:lnTo>
                  <a:lnTo>
                    <a:pt x="15739" y="10356"/>
                  </a:lnTo>
                  <a:lnTo>
                    <a:pt x="15646" y="10492"/>
                  </a:lnTo>
                  <a:lnTo>
                    <a:pt x="15554" y="10629"/>
                  </a:lnTo>
                  <a:lnTo>
                    <a:pt x="15461" y="10770"/>
                  </a:lnTo>
                  <a:lnTo>
                    <a:pt x="15368" y="10907"/>
                  </a:lnTo>
                  <a:lnTo>
                    <a:pt x="15324" y="11043"/>
                  </a:lnTo>
                  <a:lnTo>
                    <a:pt x="15183" y="11092"/>
                  </a:lnTo>
                  <a:lnTo>
                    <a:pt x="15046" y="11092"/>
                  </a:lnTo>
                  <a:lnTo>
                    <a:pt x="14910" y="11092"/>
                  </a:lnTo>
                  <a:lnTo>
                    <a:pt x="14773" y="11092"/>
                  </a:lnTo>
                  <a:lnTo>
                    <a:pt x="14632" y="11043"/>
                  </a:lnTo>
                  <a:lnTo>
                    <a:pt x="14495" y="11043"/>
                  </a:lnTo>
                  <a:lnTo>
                    <a:pt x="14359" y="10951"/>
                  </a:lnTo>
                  <a:lnTo>
                    <a:pt x="14217" y="10863"/>
                  </a:lnTo>
                  <a:lnTo>
                    <a:pt x="14081" y="10770"/>
                  </a:lnTo>
                  <a:lnTo>
                    <a:pt x="13944" y="10770"/>
                  </a:lnTo>
                  <a:lnTo>
                    <a:pt x="13803" y="10770"/>
                  </a:lnTo>
                  <a:lnTo>
                    <a:pt x="13666" y="10770"/>
                  </a:lnTo>
                  <a:lnTo>
                    <a:pt x="13530" y="10814"/>
                  </a:lnTo>
                  <a:lnTo>
                    <a:pt x="13437" y="10951"/>
                  </a:lnTo>
                  <a:lnTo>
                    <a:pt x="13300" y="11043"/>
                  </a:lnTo>
                  <a:lnTo>
                    <a:pt x="13159" y="11043"/>
                  </a:lnTo>
                  <a:lnTo>
                    <a:pt x="12793" y="11043"/>
                  </a:lnTo>
                  <a:lnTo>
                    <a:pt x="12656" y="11043"/>
                  </a:lnTo>
                  <a:lnTo>
                    <a:pt x="12515" y="11043"/>
                  </a:lnTo>
                  <a:lnTo>
                    <a:pt x="12379" y="11043"/>
                  </a:lnTo>
                  <a:lnTo>
                    <a:pt x="12242" y="11043"/>
                  </a:lnTo>
                  <a:lnTo>
                    <a:pt x="12101" y="10999"/>
                  </a:lnTo>
                  <a:lnTo>
                    <a:pt x="11964" y="10951"/>
                  </a:lnTo>
                  <a:lnTo>
                    <a:pt x="11827" y="10814"/>
                  </a:lnTo>
                  <a:lnTo>
                    <a:pt x="11686" y="10722"/>
                  </a:lnTo>
                  <a:lnTo>
                    <a:pt x="11550" y="10629"/>
                  </a:lnTo>
                  <a:lnTo>
                    <a:pt x="11413" y="10629"/>
                  </a:lnTo>
                  <a:lnTo>
                    <a:pt x="11276" y="10585"/>
                  </a:lnTo>
                  <a:lnTo>
                    <a:pt x="11135" y="10585"/>
                  </a:lnTo>
                  <a:lnTo>
                    <a:pt x="10998" y="10585"/>
                  </a:lnTo>
                  <a:lnTo>
                    <a:pt x="10862" y="10585"/>
                  </a:lnTo>
                  <a:lnTo>
                    <a:pt x="10491" y="10585"/>
                  </a:lnTo>
                  <a:lnTo>
                    <a:pt x="10355" y="10585"/>
                  </a:lnTo>
                  <a:lnTo>
                    <a:pt x="10218" y="10585"/>
                  </a:lnTo>
                  <a:lnTo>
                    <a:pt x="10077" y="10585"/>
                  </a:lnTo>
                  <a:lnTo>
                    <a:pt x="9940" y="10585"/>
                  </a:lnTo>
                  <a:lnTo>
                    <a:pt x="9803" y="10585"/>
                  </a:lnTo>
                  <a:lnTo>
                    <a:pt x="9662" y="10629"/>
                  </a:lnTo>
                  <a:lnTo>
                    <a:pt x="9526" y="10629"/>
                  </a:lnTo>
                  <a:lnTo>
                    <a:pt x="9389" y="10677"/>
                  </a:lnTo>
                  <a:lnTo>
                    <a:pt x="9248" y="10722"/>
                  </a:lnTo>
                  <a:lnTo>
                    <a:pt x="9204" y="10863"/>
                  </a:lnTo>
                  <a:lnTo>
                    <a:pt x="9204" y="10999"/>
                  </a:lnTo>
                  <a:lnTo>
                    <a:pt x="9204" y="11136"/>
                  </a:lnTo>
                  <a:lnTo>
                    <a:pt x="9204" y="11277"/>
                  </a:lnTo>
                  <a:lnTo>
                    <a:pt x="9067" y="11365"/>
                  </a:lnTo>
                  <a:lnTo>
                    <a:pt x="8925" y="11321"/>
                  </a:lnTo>
                  <a:lnTo>
                    <a:pt x="8788" y="11229"/>
                  </a:lnTo>
                  <a:lnTo>
                    <a:pt x="8695" y="11092"/>
                  </a:lnTo>
                  <a:lnTo>
                    <a:pt x="8603" y="10951"/>
                  </a:lnTo>
                  <a:lnTo>
                    <a:pt x="8466" y="10814"/>
                  </a:lnTo>
                  <a:lnTo>
                    <a:pt x="8329" y="10722"/>
                  </a:lnTo>
                  <a:lnTo>
                    <a:pt x="8188" y="10629"/>
                  </a:lnTo>
                  <a:lnTo>
                    <a:pt x="8052" y="10541"/>
                  </a:lnTo>
                  <a:lnTo>
                    <a:pt x="7959" y="10400"/>
                  </a:lnTo>
                  <a:lnTo>
                    <a:pt x="7822" y="10307"/>
                  </a:lnTo>
                  <a:lnTo>
                    <a:pt x="7686" y="10170"/>
                  </a:lnTo>
                  <a:lnTo>
                    <a:pt x="7593" y="10034"/>
                  </a:lnTo>
                  <a:lnTo>
                    <a:pt x="7452" y="9985"/>
                  </a:lnTo>
                  <a:lnTo>
                    <a:pt x="7315" y="9941"/>
                  </a:lnTo>
                  <a:lnTo>
                    <a:pt x="7179" y="9941"/>
                  </a:lnTo>
                  <a:lnTo>
                    <a:pt x="7042" y="9941"/>
                  </a:lnTo>
                  <a:lnTo>
                    <a:pt x="6671" y="9941"/>
                  </a:lnTo>
                  <a:lnTo>
                    <a:pt x="6535" y="9848"/>
                  </a:lnTo>
                  <a:lnTo>
                    <a:pt x="6486" y="9712"/>
                  </a:lnTo>
                  <a:lnTo>
                    <a:pt x="6486" y="9571"/>
                  </a:lnTo>
                  <a:lnTo>
                    <a:pt x="6442" y="9434"/>
                  </a:lnTo>
                  <a:lnTo>
                    <a:pt x="6442" y="9297"/>
                  </a:lnTo>
                  <a:lnTo>
                    <a:pt x="6442" y="9160"/>
                  </a:lnTo>
                  <a:lnTo>
                    <a:pt x="6442" y="9019"/>
                  </a:lnTo>
                  <a:lnTo>
                    <a:pt x="6442" y="8883"/>
                  </a:lnTo>
                  <a:lnTo>
                    <a:pt x="6442" y="8746"/>
                  </a:lnTo>
                  <a:lnTo>
                    <a:pt x="6442" y="8605"/>
                  </a:lnTo>
                  <a:lnTo>
                    <a:pt x="6394" y="8467"/>
                  </a:lnTo>
                  <a:lnTo>
                    <a:pt x="6350" y="8330"/>
                  </a:lnTo>
                  <a:lnTo>
                    <a:pt x="6350" y="8189"/>
                  </a:lnTo>
                  <a:lnTo>
                    <a:pt x="6257" y="8053"/>
                  </a:lnTo>
                  <a:lnTo>
                    <a:pt x="6120" y="7960"/>
                  </a:lnTo>
                  <a:lnTo>
                    <a:pt x="5983" y="7960"/>
                  </a:lnTo>
                  <a:lnTo>
                    <a:pt x="5842" y="7960"/>
                  </a:lnTo>
                  <a:lnTo>
                    <a:pt x="5706" y="7960"/>
                  </a:lnTo>
                  <a:lnTo>
                    <a:pt x="5335" y="7960"/>
                  </a:lnTo>
                  <a:lnTo>
                    <a:pt x="5199" y="8009"/>
                  </a:lnTo>
                  <a:lnTo>
                    <a:pt x="4833" y="8009"/>
                  </a:lnTo>
                  <a:lnTo>
                    <a:pt x="4691" y="8053"/>
                  </a:lnTo>
                  <a:lnTo>
                    <a:pt x="4555" y="8053"/>
                  </a:lnTo>
                  <a:lnTo>
                    <a:pt x="4418" y="8053"/>
                  </a:lnTo>
                  <a:lnTo>
                    <a:pt x="4277" y="8053"/>
                  </a:lnTo>
                  <a:lnTo>
                    <a:pt x="4140" y="8053"/>
                  </a:lnTo>
                  <a:lnTo>
                    <a:pt x="4004" y="7960"/>
                  </a:lnTo>
                  <a:lnTo>
                    <a:pt x="3867" y="7867"/>
                  </a:lnTo>
                  <a:lnTo>
                    <a:pt x="3726" y="7775"/>
                  </a:lnTo>
                  <a:lnTo>
                    <a:pt x="3589" y="7638"/>
                  </a:lnTo>
                  <a:lnTo>
                    <a:pt x="3452" y="7594"/>
                  </a:lnTo>
                  <a:lnTo>
                    <a:pt x="3311" y="7546"/>
                  </a:lnTo>
                  <a:lnTo>
                    <a:pt x="2989" y="7501"/>
                  </a:lnTo>
                  <a:lnTo>
                    <a:pt x="2667" y="7501"/>
                  </a:lnTo>
                  <a:lnTo>
                    <a:pt x="2301" y="7453"/>
                  </a:lnTo>
                  <a:lnTo>
                    <a:pt x="2160" y="7409"/>
                  </a:lnTo>
                  <a:lnTo>
                    <a:pt x="2024" y="7409"/>
                  </a:lnTo>
                  <a:lnTo>
                    <a:pt x="1887" y="7272"/>
                  </a:lnTo>
                  <a:lnTo>
                    <a:pt x="1794" y="7131"/>
                  </a:lnTo>
                  <a:lnTo>
                    <a:pt x="1658" y="7043"/>
                  </a:lnTo>
                  <a:lnTo>
                    <a:pt x="1516" y="6950"/>
                  </a:lnTo>
                  <a:lnTo>
                    <a:pt x="1380" y="6950"/>
                  </a:lnTo>
                  <a:lnTo>
                    <a:pt x="1243" y="6950"/>
                  </a:lnTo>
                  <a:lnTo>
                    <a:pt x="921" y="6950"/>
                  </a:lnTo>
                  <a:lnTo>
                    <a:pt x="780" y="6994"/>
                  </a:lnTo>
                  <a:lnTo>
                    <a:pt x="643" y="7043"/>
                  </a:lnTo>
                  <a:lnTo>
                    <a:pt x="551" y="7180"/>
                  </a:lnTo>
                  <a:lnTo>
                    <a:pt x="458" y="7316"/>
                  </a:lnTo>
                  <a:lnTo>
                    <a:pt x="321" y="7453"/>
                  </a:lnTo>
                  <a:lnTo>
                    <a:pt x="229" y="7594"/>
                  </a:lnTo>
                  <a:lnTo>
                    <a:pt x="92" y="7687"/>
                  </a:lnTo>
                  <a:lnTo>
                    <a:pt x="0" y="7823"/>
                  </a:lnTo>
                  <a:lnTo>
                    <a:pt x="0" y="7687"/>
                  </a:lnTo>
                  <a:lnTo>
                    <a:pt x="0" y="7546"/>
                  </a:lnTo>
                  <a:lnTo>
                    <a:pt x="0" y="7409"/>
                  </a:lnTo>
                  <a:lnTo>
                    <a:pt x="0" y="7272"/>
                  </a:lnTo>
                  <a:lnTo>
                    <a:pt x="0" y="7131"/>
                  </a:lnTo>
                  <a:lnTo>
                    <a:pt x="0" y="6765"/>
                  </a:lnTo>
                  <a:lnTo>
                    <a:pt x="0" y="6351"/>
                  </a:lnTo>
                  <a:lnTo>
                    <a:pt x="0" y="5984"/>
                  </a:lnTo>
                  <a:lnTo>
                    <a:pt x="0" y="5570"/>
                  </a:lnTo>
                  <a:lnTo>
                    <a:pt x="0" y="5155"/>
                  </a:lnTo>
                  <a:lnTo>
                    <a:pt x="0" y="4741"/>
                  </a:lnTo>
                  <a:lnTo>
                    <a:pt x="0" y="4600"/>
                  </a:lnTo>
                  <a:lnTo>
                    <a:pt x="0" y="4463"/>
                  </a:lnTo>
                  <a:lnTo>
                    <a:pt x="0" y="4326"/>
                  </a:lnTo>
                  <a:lnTo>
                    <a:pt x="0" y="4005"/>
                  </a:lnTo>
                  <a:lnTo>
                    <a:pt x="0" y="3590"/>
                  </a:lnTo>
                  <a:lnTo>
                    <a:pt x="0" y="3220"/>
                  </a:lnTo>
                  <a:lnTo>
                    <a:pt x="0" y="2898"/>
                  </a:lnTo>
                  <a:lnTo>
                    <a:pt x="0" y="2575"/>
                  </a:lnTo>
                  <a:lnTo>
                    <a:pt x="0" y="2209"/>
                  </a:lnTo>
                  <a:lnTo>
                    <a:pt x="0" y="1838"/>
                  </a:lnTo>
                  <a:lnTo>
                    <a:pt x="0" y="1424"/>
                  </a:lnTo>
                  <a:lnTo>
                    <a:pt x="0" y="1014"/>
                  </a:lnTo>
                  <a:lnTo>
                    <a:pt x="0" y="599"/>
                  </a:lnTo>
                  <a:lnTo>
                    <a:pt x="0" y="458"/>
                  </a:lnTo>
                  <a:lnTo>
                    <a:pt x="0" y="321"/>
                  </a:lnTo>
                  <a:lnTo>
                    <a:pt x="0" y="185"/>
                  </a:lnTo>
                  <a:lnTo>
                    <a:pt x="136" y="92"/>
                  </a:lnTo>
                  <a:lnTo>
                    <a:pt x="277" y="92"/>
                  </a:lnTo>
                  <a:lnTo>
                    <a:pt x="414" y="92"/>
                  </a:lnTo>
                  <a:lnTo>
                    <a:pt x="551" y="92"/>
                  </a:lnTo>
                  <a:lnTo>
                    <a:pt x="692" y="92"/>
                  </a:lnTo>
                  <a:lnTo>
                    <a:pt x="1058" y="92"/>
                  </a:lnTo>
                  <a:lnTo>
                    <a:pt x="1380" y="92"/>
                  </a:lnTo>
                  <a:lnTo>
                    <a:pt x="1750" y="92"/>
                  </a:lnTo>
                  <a:lnTo>
                    <a:pt x="2160" y="92"/>
                  </a:lnTo>
                  <a:lnTo>
                    <a:pt x="2482" y="92"/>
                  </a:lnTo>
                  <a:lnTo>
                    <a:pt x="2853" y="92"/>
                  </a:lnTo>
                  <a:lnTo>
                    <a:pt x="3175" y="92"/>
                  </a:lnTo>
                  <a:lnTo>
                    <a:pt x="3311" y="92"/>
                  </a:lnTo>
                  <a:lnTo>
                    <a:pt x="3452" y="92"/>
                  </a:lnTo>
                  <a:lnTo>
                    <a:pt x="3175" y="0"/>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380880" y="6172200"/>
              <a:ext cx="1219320" cy="0"/>
            </a:xfrm>
            <a:prstGeom prst="line">
              <a:avLst/>
            </a:prstGeom>
            <a:ln w="12600">
              <a:solidFill>
                <a:srgbClr val="fafd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1736640" y="5180040"/>
              <a:ext cx="4351320" cy="64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7" name=""/>
            <p:cNvSpPr txBox="1"/>
            <p:nvPr/>
          </p:nvSpPr>
          <p:spPr>
            <a:xfrm>
              <a:off x="1660680" y="5865840"/>
              <a:ext cx="439272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Narrow"/>
                  <a:ea typeface="Arial Narrow"/>
                </a:rPr>
                <a:t>3rd Missionary Journey</a:t>
              </a:r>
              <a:endParaRPr b="0" lang="en-US" sz="3600" spc="-1" strike="noStrike">
                <a:solidFill>
                  <a:srgbClr val="000000"/>
                </a:solidFill>
                <a:latin typeface="Arial"/>
              </a:endParaRPr>
            </a:p>
          </p:txBody>
        </p:sp>
        <p:sp>
          <p:nvSpPr>
            <p:cNvPr id="718" name=""/>
            <p:cNvSpPr txBox="1"/>
            <p:nvPr/>
          </p:nvSpPr>
          <p:spPr>
            <a:xfrm>
              <a:off x="6004080" y="3808440"/>
              <a:ext cx="1163520" cy="641520"/>
            </a:xfrm>
            <a:prstGeom prst="rect">
              <a:avLst/>
            </a:prstGeom>
            <a:noFill/>
            <a:ln w="0">
              <a:noFill/>
            </a:ln>
          </p:spPr>
          <p:txBody>
            <a:bodyPr lIns="0" rIns="0" tIns="0" bIns="0" anchor="t">
              <a:noAutofit/>
            </a:bodyPr>
            <a:p>
              <a:pPr>
                <a:lnSpc>
                  <a:spcPct val="100000"/>
                </a:lnSpc>
              </a:pPr>
              <a:r>
                <a:rPr b="1" lang="en-US" sz="3600" spc="-1" strike="noStrike">
                  <a:solidFill>
                    <a:srgbClr val="f6bf69"/>
                  </a:solidFill>
                  <a:latin typeface="Arial Narrow"/>
                  <a:ea typeface="Arial Narrow"/>
                </a:rPr>
                <a:t>Israel</a:t>
              </a:r>
              <a:endParaRPr b="0" lang="en-US" sz="3600" spc="-1" strike="noStrike">
                <a:solidFill>
                  <a:srgbClr val="000000"/>
                </a:solidFill>
                <a:latin typeface="Arial"/>
              </a:endParaRPr>
            </a:p>
          </p:txBody>
        </p:sp>
        <p:sp>
          <p:nvSpPr>
            <p:cNvPr id="719" name=""/>
            <p:cNvSpPr/>
            <p:nvPr/>
          </p:nvSpPr>
          <p:spPr>
            <a:xfrm>
              <a:off x="5797440" y="4419720"/>
              <a:ext cx="167040" cy="201960"/>
            </a:xfrm>
            <a:custGeom>
              <a:avLst/>
              <a:gdLst/>
              <a:ahLst/>
              <a:rect l="0" t="0" r="r" b="b"/>
              <a:pathLst>
                <a:path w="464" h="561">
                  <a:moveTo>
                    <a:pt x="406" y="0"/>
                  </a:moveTo>
                  <a:lnTo>
                    <a:pt x="229" y="101"/>
                  </a:lnTo>
                  <a:lnTo>
                    <a:pt x="92" y="145"/>
                  </a:lnTo>
                  <a:lnTo>
                    <a:pt x="0" y="287"/>
                  </a:lnTo>
                  <a:lnTo>
                    <a:pt x="48" y="424"/>
                  </a:lnTo>
                  <a:lnTo>
                    <a:pt x="92" y="561"/>
                  </a:lnTo>
                  <a:lnTo>
                    <a:pt x="229" y="561"/>
                  </a:lnTo>
                  <a:lnTo>
                    <a:pt x="322" y="424"/>
                  </a:lnTo>
                  <a:lnTo>
                    <a:pt x="415" y="287"/>
                  </a:lnTo>
                  <a:lnTo>
                    <a:pt x="415" y="145"/>
                  </a:lnTo>
                  <a:lnTo>
                    <a:pt x="464" y="8"/>
                  </a:lnTo>
                  <a:lnTo>
                    <a:pt x="406"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txBox="1"/>
            <p:nvPr/>
          </p:nvSpPr>
          <p:spPr>
            <a:xfrm>
              <a:off x="5927760" y="4276800"/>
              <a:ext cx="2058840" cy="579600"/>
            </a:xfrm>
            <a:prstGeom prst="rect">
              <a:avLst/>
            </a:prstGeom>
            <a:noFill/>
            <a:ln w="0">
              <a:noFill/>
            </a:ln>
          </p:spPr>
          <p:txBody>
            <a:bodyPr lIns="0" rIns="0" tIns="0" bIns="0" anchor="t">
              <a:noAutofit/>
            </a:bodyPr>
            <a:p>
              <a:pPr>
                <a:lnSpc>
                  <a:spcPct val="100000"/>
                </a:lnSpc>
              </a:pPr>
              <a:r>
                <a:rPr b="0" lang="en-US" sz="3200" spc="-1" strike="noStrike">
                  <a:solidFill>
                    <a:srgbClr val="fafd00"/>
                  </a:solidFill>
                  <a:latin typeface="Arial"/>
                  <a:ea typeface="Arial"/>
                </a:rPr>
                <a:t>Jerusalem</a:t>
              </a:r>
              <a:endParaRPr b="0" lang="en-US" sz="3200" spc="-1" strike="noStrike">
                <a:solidFill>
                  <a:srgbClr val="000000"/>
                </a:solidFill>
                <a:latin typeface="Arial"/>
              </a:endParaRPr>
            </a:p>
          </p:txBody>
        </p:sp>
        <p:sp>
          <p:nvSpPr>
            <p:cNvPr id="721" name=""/>
            <p:cNvSpPr txBox="1"/>
            <p:nvPr/>
          </p:nvSpPr>
          <p:spPr>
            <a:xfrm>
              <a:off x="4784760" y="4937040"/>
              <a:ext cx="9637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gypt</a:t>
              </a:r>
              <a:endParaRPr b="0" lang="en-US" sz="2400" spc="-1" strike="noStrike">
                <a:solidFill>
                  <a:srgbClr val="000000"/>
                </a:solidFill>
                <a:latin typeface="Arial"/>
              </a:endParaRPr>
            </a:p>
          </p:txBody>
        </p:sp>
        <p:sp>
          <p:nvSpPr>
            <p:cNvPr id="722" name=""/>
            <p:cNvSpPr txBox="1"/>
            <p:nvPr/>
          </p:nvSpPr>
          <p:spPr>
            <a:xfrm>
              <a:off x="685800" y="690480"/>
              <a:ext cx="8381880" cy="1162080"/>
            </a:xfrm>
            <a:prstGeom prst="rect">
              <a:avLst/>
            </a:prstGeom>
            <a:noFill/>
            <a:ln w="0">
              <a:noFill/>
            </a:ln>
          </p:spPr>
          <p:txBody>
            <a:bodyPr lIns="0" rIns="0" tIns="0" bIns="0" anchor="t">
              <a:noAutofit/>
            </a:bodyPr>
            <a:p>
              <a:pPr algn="ctr">
                <a:lnSpc>
                  <a:spcPct val="100000"/>
                </a:lnSpc>
              </a:pPr>
              <a:r>
                <a:rPr b="1" lang="en-US" sz="6000" spc="-1" strike="noStrike" u="sng">
                  <a:solidFill>
                    <a:srgbClr val="f6bf69"/>
                  </a:solidFill>
                  <a:uFillTx/>
                  <a:latin typeface="Book Antiqua"/>
                  <a:ea typeface="Book Antiqua"/>
                </a:rPr>
                <a:t>Paul’s Journeys</a:t>
              </a:r>
              <a:endParaRPr b="0" lang="en-US" sz="6000" spc="-1" strike="noStrike">
                <a:solidFill>
                  <a:srgbClr val="000000"/>
                </a:solidFill>
                <a:latin typeface="Arial"/>
              </a:endParaRPr>
            </a:p>
          </p:txBody>
        </p:sp>
        <p:sp>
          <p:nvSpPr>
            <p:cNvPr id="723" name=""/>
            <p:cNvSpPr/>
            <p:nvPr/>
          </p:nvSpPr>
          <p:spPr>
            <a:xfrm>
              <a:off x="3048120" y="243828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4" name=""/>
            <p:cNvSpPr txBox="1"/>
            <p:nvPr/>
          </p:nvSpPr>
          <p:spPr>
            <a:xfrm>
              <a:off x="1596960" y="1873080"/>
              <a:ext cx="145404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Rome</a:t>
              </a:r>
              <a:endParaRPr b="0" lang="en-US" sz="3600" spc="-1" strike="noStrike">
                <a:solidFill>
                  <a:srgbClr val="000000"/>
                </a:solidFill>
                <a:latin typeface="Arial"/>
              </a:endParaRPr>
            </a:p>
          </p:txBody>
        </p:sp>
        <p:sp>
          <p:nvSpPr>
            <p:cNvPr id="725" name=""/>
            <p:cNvSpPr txBox="1"/>
            <p:nvPr/>
          </p:nvSpPr>
          <p:spPr>
            <a:xfrm>
              <a:off x="6391440" y="2886120"/>
              <a:ext cx="157968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Antioch</a:t>
              </a:r>
              <a:endParaRPr b="0" lang="en-US" sz="3600" spc="-1" strike="noStrike">
                <a:solidFill>
                  <a:srgbClr val="000000"/>
                </a:solidFill>
                <a:latin typeface="Arial"/>
              </a:endParaRPr>
            </a:p>
          </p:txBody>
        </p:sp>
        <p:sp>
          <p:nvSpPr>
            <p:cNvPr id="726" name=""/>
            <p:cNvSpPr/>
            <p:nvPr/>
          </p:nvSpPr>
          <p:spPr>
            <a:xfrm>
              <a:off x="5797440" y="4419720"/>
              <a:ext cx="167040" cy="201960"/>
            </a:xfrm>
            <a:custGeom>
              <a:avLst/>
              <a:gdLst/>
              <a:ahLst/>
              <a:rect l="0" t="0" r="r" b="b"/>
              <a:pathLst>
                <a:path w="464" h="561">
                  <a:moveTo>
                    <a:pt x="406" y="0"/>
                  </a:moveTo>
                  <a:lnTo>
                    <a:pt x="229" y="101"/>
                  </a:lnTo>
                  <a:lnTo>
                    <a:pt x="92" y="145"/>
                  </a:lnTo>
                  <a:lnTo>
                    <a:pt x="0" y="287"/>
                  </a:lnTo>
                  <a:lnTo>
                    <a:pt x="48" y="424"/>
                  </a:lnTo>
                  <a:lnTo>
                    <a:pt x="92" y="561"/>
                  </a:lnTo>
                  <a:lnTo>
                    <a:pt x="229" y="561"/>
                  </a:lnTo>
                  <a:lnTo>
                    <a:pt x="322" y="424"/>
                  </a:lnTo>
                  <a:lnTo>
                    <a:pt x="415" y="287"/>
                  </a:lnTo>
                  <a:lnTo>
                    <a:pt x="415" y="145"/>
                  </a:lnTo>
                  <a:lnTo>
                    <a:pt x="464" y="8"/>
                  </a:lnTo>
                  <a:lnTo>
                    <a:pt x="406"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3048120" y="243828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4495680" y="251460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4343400" y="281952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4267080" y="312408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txBox="1"/>
            <p:nvPr/>
          </p:nvSpPr>
          <p:spPr>
            <a:xfrm>
              <a:off x="4632480" y="2208240"/>
              <a:ext cx="141300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Phillipi</a:t>
              </a:r>
              <a:endParaRPr b="0" lang="en-US" sz="3600" spc="-1" strike="noStrike">
                <a:solidFill>
                  <a:srgbClr val="000000"/>
                </a:solidFill>
                <a:latin typeface="Arial"/>
              </a:endParaRPr>
            </a:p>
          </p:txBody>
        </p:sp>
        <p:sp>
          <p:nvSpPr>
            <p:cNvPr id="732" name=""/>
            <p:cNvSpPr txBox="1"/>
            <p:nvPr/>
          </p:nvSpPr>
          <p:spPr>
            <a:xfrm>
              <a:off x="2838600" y="3494160"/>
              <a:ext cx="151596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Corinth</a:t>
              </a:r>
              <a:endParaRPr b="0" lang="en-US" sz="3600" spc="-1" strike="noStrike">
                <a:solidFill>
                  <a:srgbClr val="000000"/>
                </a:solidFill>
                <a:latin typeface="Arial"/>
              </a:endParaRPr>
            </a:p>
          </p:txBody>
        </p:sp>
        <p:sp>
          <p:nvSpPr>
            <p:cNvPr id="733" name=""/>
            <p:cNvSpPr txBox="1"/>
            <p:nvPr/>
          </p:nvSpPr>
          <p:spPr>
            <a:xfrm>
              <a:off x="3260880" y="2513160"/>
              <a:ext cx="126828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Thess</a:t>
              </a:r>
              <a:endParaRPr b="0" lang="en-US" sz="3600" spc="-1" strike="noStrike">
                <a:solidFill>
                  <a:srgbClr val="000000"/>
                </a:solidFill>
                <a:latin typeface="Arial"/>
              </a:endParaRPr>
            </a:p>
          </p:txBody>
        </p:sp>
        <p:sp>
          <p:nvSpPr>
            <p:cNvPr id="734" name=""/>
            <p:cNvSpPr txBox="1"/>
            <p:nvPr/>
          </p:nvSpPr>
          <p:spPr>
            <a:xfrm>
              <a:off x="2955960" y="2817720"/>
              <a:ext cx="145404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Athens</a:t>
              </a:r>
              <a:endParaRPr b="0" lang="en-US" sz="3600" spc="-1" strike="noStrike">
                <a:solidFill>
                  <a:srgbClr val="000000"/>
                </a:solidFill>
                <a:latin typeface="Arial"/>
              </a:endParaRPr>
            </a:p>
          </p:txBody>
        </p:sp>
        <p:sp>
          <p:nvSpPr>
            <p:cNvPr id="735" name=""/>
            <p:cNvSpPr/>
            <p:nvPr/>
          </p:nvSpPr>
          <p:spPr>
            <a:xfrm>
              <a:off x="4191120" y="342900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flipH="1">
              <a:off x="6095880" y="3581280"/>
              <a:ext cx="76320" cy="15264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7" name=""/>
            <p:cNvSpPr/>
            <p:nvPr/>
          </p:nvSpPr>
          <p:spPr>
            <a:xfrm flipH="1" flipV="1">
              <a:off x="6172200" y="3581280"/>
              <a:ext cx="127080" cy="92160"/>
            </a:xfrm>
            <a:prstGeom prst="line">
              <a:avLst/>
            </a:prstGeom>
            <a:ln w="38160">
              <a:solidFill>
                <a:srgbClr val="fafd00"/>
              </a:solidFill>
              <a:round/>
            </a:ln>
          </p:spPr>
          <p:style>
            <a:lnRef idx="0"/>
            <a:fillRef idx="0"/>
            <a:effectRef idx="0"/>
            <a:fontRef idx="minor"/>
          </p:style>
          <p:txBody>
            <a:bodyPr lIns="109080" rIns="109080" tIns="28080" bIns="28080" anchor="t">
              <a:noAutofit/>
            </a:bodyPr>
            <a:p>
              <a:endParaRPr b="0" lang="en-US" sz="1800" spc="-1" strike="noStrike">
                <a:solidFill>
                  <a:srgbClr val="000000"/>
                </a:solidFill>
                <a:latin typeface="Arial"/>
              </a:endParaRPr>
            </a:p>
          </p:txBody>
        </p:sp>
        <p:sp>
          <p:nvSpPr>
            <p:cNvPr id="738" name=""/>
            <p:cNvSpPr/>
            <p:nvPr/>
          </p:nvSpPr>
          <p:spPr>
            <a:xfrm>
              <a:off x="4816440" y="2900520"/>
              <a:ext cx="4680" cy="18252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9" name=""/>
            <p:cNvSpPr/>
            <p:nvPr/>
          </p:nvSpPr>
          <p:spPr>
            <a:xfrm flipH="1" flipV="1">
              <a:off x="4842000" y="2894040"/>
              <a:ext cx="145800" cy="1440"/>
            </a:xfrm>
            <a:prstGeom prst="line">
              <a:avLst/>
            </a:prstGeom>
            <a:ln w="38160">
              <a:solidFill>
                <a:srgbClr val="fafd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740" name=""/>
            <p:cNvSpPr/>
            <p:nvPr/>
          </p:nvSpPr>
          <p:spPr>
            <a:xfrm flipH="1" flipV="1">
              <a:off x="4398840" y="3316320"/>
              <a:ext cx="96840" cy="106200"/>
            </a:xfrm>
            <a:prstGeom prst="line">
              <a:avLst/>
            </a:prstGeom>
            <a:ln w="38160">
              <a:solidFill>
                <a:srgbClr val="fafd00"/>
              </a:solidFill>
              <a:round/>
            </a:ln>
          </p:spPr>
          <p:style>
            <a:lnRef idx="0"/>
            <a:fillRef idx="0"/>
            <a:effectRef idx="0"/>
            <a:fontRef idx="minor"/>
          </p:style>
          <p:txBody>
            <a:bodyPr lIns="109080" rIns="109080" tIns="42120" bIns="42120" anchor="t">
              <a:noAutofit/>
            </a:bodyPr>
            <a:p>
              <a:endParaRPr b="0" lang="en-US" sz="1800" spc="-1" strike="noStrike">
                <a:solidFill>
                  <a:srgbClr val="000000"/>
                </a:solidFill>
                <a:latin typeface="Arial"/>
              </a:endParaRPr>
            </a:p>
          </p:txBody>
        </p:sp>
        <p:sp>
          <p:nvSpPr>
            <p:cNvPr id="741" name=""/>
            <p:cNvSpPr/>
            <p:nvPr/>
          </p:nvSpPr>
          <p:spPr>
            <a:xfrm flipV="1">
              <a:off x="4302000" y="3327480"/>
              <a:ext cx="101880" cy="106200"/>
            </a:xfrm>
            <a:prstGeom prst="line">
              <a:avLst/>
            </a:prstGeom>
            <a:ln w="38160">
              <a:solidFill>
                <a:srgbClr val="fafd00"/>
              </a:solidFill>
              <a:round/>
            </a:ln>
          </p:spPr>
          <p:style>
            <a:lnRef idx="0"/>
            <a:fillRef idx="0"/>
            <a:effectRef idx="0"/>
            <a:fontRef idx="minor"/>
          </p:style>
          <p:txBody>
            <a:bodyPr lIns="109080" rIns="109080" tIns="42120" bIns="42120" anchor="t">
              <a:noAutofit/>
            </a:bodyPr>
            <a:p>
              <a:endParaRPr b="0" lang="en-US" sz="1800" spc="-1" strike="noStrike">
                <a:solidFill>
                  <a:srgbClr val="000000"/>
                </a:solidFill>
                <a:latin typeface="Arial"/>
              </a:endParaRPr>
            </a:p>
          </p:txBody>
        </p:sp>
        <p:sp>
          <p:nvSpPr>
            <p:cNvPr id="742" name=""/>
            <p:cNvSpPr/>
            <p:nvPr/>
          </p:nvSpPr>
          <p:spPr>
            <a:xfrm flipH="1" flipV="1">
              <a:off x="5283360" y="3976560"/>
              <a:ext cx="150480" cy="14400"/>
            </a:xfrm>
            <a:prstGeom prst="line">
              <a:avLst/>
            </a:prstGeom>
            <a:ln w="38160">
              <a:solidFill>
                <a:srgbClr val="fafd00"/>
              </a:solidFill>
              <a:round/>
            </a:ln>
          </p:spPr>
          <p:style>
            <a:lnRef idx="0"/>
            <a:fillRef idx="0"/>
            <a:effectRef idx="0"/>
            <a:fontRef idx="minor"/>
          </p:style>
          <p:txBody>
            <a:bodyPr lIns="109080" rIns="109080" tIns="-49680" bIns="-49680" anchor="t">
              <a:noAutofit/>
            </a:bodyPr>
            <a:p>
              <a:endParaRPr b="0" lang="en-US" sz="1800" spc="-1" strike="noStrike">
                <a:solidFill>
                  <a:srgbClr val="000000"/>
                </a:solidFill>
                <a:latin typeface="Arial"/>
              </a:endParaRPr>
            </a:p>
          </p:txBody>
        </p:sp>
        <p:sp>
          <p:nvSpPr>
            <p:cNvPr id="743" name=""/>
            <p:cNvSpPr/>
            <p:nvPr/>
          </p:nvSpPr>
          <p:spPr>
            <a:xfrm>
              <a:off x="5403960" y="3819600"/>
              <a:ext cx="44280" cy="16668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4" name=""/>
            <p:cNvSpPr txBox="1"/>
            <p:nvPr/>
          </p:nvSpPr>
          <p:spPr>
            <a:xfrm>
              <a:off x="3968640" y="4076640"/>
              <a:ext cx="185112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Caesarea</a:t>
              </a:r>
              <a:endParaRPr b="0" lang="en-US" sz="3600" spc="-1" strike="noStrike">
                <a:solidFill>
                  <a:srgbClr val="000000"/>
                </a:solidFill>
                <a:latin typeface="Arial"/>
              </a:endParaRPr>
            </a:p>
          </p:txBody>
        </p:sp>
        <p:sp>
          <p:nvSpPr>
            <p:cNvPr id="745" name=""/>
            <p:cNvSpPr/>
            <p:nvPr/>
          </p:nvSpPr>
          <p:spPr>
            <a:xfrm>
              <a:off x="5734080" y="426240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5022720" y="325440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txBox="1"/>
            <p:nvPr/>
          </p:nvSpPr>
          <p:spPr>
            <a:xfrm>
              <a:off x="5229360" y="3281400"/>
              <a:ext cx="174636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Ephesus</a:t>
              </a:r>
              <a:endParaRPr b="0" lang="en-US" sz="3600" spc="-1" strike="noStrike">
                <a:solidFill>
                  <a:srgbClr val="000000"/>
                </a:solidFill>
                <a:latin typeface="Arial"/>
              </a:endParaRPr>
            </a:p>
          </p:txBody>
        </p:sp>
        <p:sp>
          <p:nvSpPr>
            <p:cNvPr id="748" name=""/>
            <p:cNvSpPr/>
            <p:nvPr/>
          </p:nvSpPr>
          <p:spPr>
            <a:xfrm>
              <a:off x="4322880" y="2633760"/>
              <a:ext cx="1856160" cy="1889640"/>
            </a:xfrm>
            <a:custGeom>
              <a:avLst/>
              <a:gdLst/>
              <a:ahLst/>
              <a:rect l="0" t="0" r="r" b="b"/>
              <a:pathLst>
                <a:path fill="none" w="5156" h="5249">
                  <a:moveTo>
                    <a:pt x="5156" y="2624"/>
                  </a:moveTo>
                  <a:lnTo>
                    <a:pt x="5156" y="2488"/>
                  </a:lnTo>
                  <a:lnTo>
                    <a:pt x="5156" y="2346"/>
                  </a:lnTo>
                  <a:lnTo>
                    <a:pt x="5156" y="2210"/>
                  </a:lnTo>
                  <a:lnTo>
                    <a:pt x="5064" y="2073"/>
                  </a:lnTo>
                  <a:lnTo>
                    <a:pt x="4927" y="1980"/>
                  </a:lnTo>
                  <a:lnTo>
                    <a:pt x="4835" y="1844"/>
                  </a:lnTo>
                  <a:lnTo>
                    <a:pt x="4698" y="1703"/>
                  </a:lnTo>
                  <a:lnTo>
                    <a:pt x="4561" y="1844"/>
                  </a:lnTo>
                  <a:lnTo>
                    <a:pt x="4469" y="1980"/>
                  </a:lnTo>
                  <a:lnTo>
                    <a:pt x="4376" y="2117"/>
                  </a:lnTo>
                  <a:lnTo>
                    <a:pt x="4235" y="2073"/>
                  </a:lnTo>
                  <a:lnTo>
                    <a:pt x="4098" y="1980"/>
                  </a:lnTo>
                  <a:lnTo>
                    <a:pt x="3961" y="1932"/>
                  </a:lnTo>
                  <a:lnTo>
                    <a:pt x="3824" y="1932"/>
                  </a:lnTo>
                  <a:lnTo>
                    <a:pt x="3683" y="1980"/>
                  </a:lnTo>
                  <a:lnTo>
                    <a:pt x="3639" y="1844"/>
                  </a:lnTo>
                  <a:lnTo>
                    <a:pt x="3639" y="1703"/>
                  </a:lnTo>
                  <a:lnTo>
                    <a:pt x="3639" y="1566"/>
                  </a:lnTo>
                  <a:lnTo>
                    <a:pt x="3502" y="1566"/>
                  </a:lnTo>
                  <a:lnTo>
                    <a:pt x="3361" y="1566"/>
                  </a:lnTo>
                  <a:lnTo>
                    <a:pt x="3224" y="1473"/>
                  </a:lnTo>
                  <a:lnTo>
                    <a:pt x="3087" y="1566"/>
                  </a:lnTo>
                  <a:lnTo>
                    <a:pt x="2946" y="1659"/>
                  </a:lnTo>
                  <a:lnTo>
                    <a:pt x="2809" y="1751"/>
                  </a:lnTo>
                  <a:lnTo>
                    <a:pt x="2673" y="1795"/>
                  </a:lnTo>
                  <a:lnTo>
                    <a:pt x="2532" y="1932"/>
                  </a:lnTo>
                  <a:lnTo>
                    <a:pt x="2395" y="2073"/>
                  </a:lnTo>
                  <a:lnTo>
                    <a:pt x="2258" y="2117"/>
                  </a:lnTo>
                  <a:lnTo>
                    <a:pt x="2117" y="2117"/>
                  </a:lnTo>
                  <a:lnTo>
                    <a:pt x="1980" y="2117"/>
                  </a:lnTo>
                  <a:lnTo>
                    <a:pt x="1844" y="2073"/>
                  </a:lnTo>
                  <a:lnTo>
                    <a:pt x="1707" y="1980"/>
                  </a:lnTo>
                  <a:lnTo>
                    <a:pt x="1566" y="1888"/>
                  </a:lnTo>
                  <a:lnTo>
                    <a:pt x="1566" y="1751"/>
                  </a:lnTo>
                  <a:lnTo>
                    <a:pt x="1614" y="1610"/>
                  </a:lnTo>
                  <a:lnTo>
                    <a:pt x="1659" y="1473"/>
                  </a:lnTo>
                  <a:lnTo>
                    <a:pt x="1707" y="1337"/>
                  </a:lnTo>
                  <a:lnTo>
                    <a:pt x="1707" y="1195"/>
                  </a:lnTo>
                  <a:lnTo>
                    <a:pt x="1659" y="1058"/>
                  </a:lnTo>
                  <a:lnTo>
                    <a:pt x="1522" y="921"/>
                  </a:lnTo>
                  <a:lnTo>
                    <a:pt x="1429" y="784"/>
                  </a:lnTo>
                  <a:lnTo>
                    <a:pt x="1337" y="643"/>
                  </a:lnTo>
                  <a:lnTo>
                    <a:pt x="1243" y="507"/>
                  </a:lnTo>
                  <a:lnTo>
                    <a:pt x="1150" y="370"/>
                  </a:lnTo>
                  <a:lnTo>
                    <a:pt x="1058" y="229"/>
                  </a:lnTo>
                  <a:lnTo>
                    <a:pt x="921" y="185"/>
                  </a:lnTo>
                  <a:lnTo>
                    <a:pt x="784" y="136"/>
                  </a:lnTo>
                  <a:lnTo>
                    <a:pt x="736" y="277"/>
                  </a:lnTo>
                  <a:lnTo>
                    <a:pt x="692" y="414"/>
                  </a:lnTo>
                  <a:lnTo>
                    <a:pt x="599" y="551"/>
                  </a:lnTo>
                  <a:lnTo>
                    <a:pt x="555" y="692"/>
                  </a:lnTo>
                  <a:lnTo>
                    <a:pt x="463" y="829"/>
                  </a:lnTo>
                  <a:lnTo>
                    <a:pt x="463" y="965"/>
                  </a:lnTo>
                  <a:lnTo>
                    <a:pt x="326" y="1014"/>
                  </a:lnTo>
                  <a:lnTo>
                    <a:pt x="185" y="921"/>
                  </a:lnTo>
                  <a:lnTo>
                    <a:pt x="141" y="1058"/>
                  </a:lnTo>
                  <a:lnTo>
                    <a:pt x="141" y="1195"/>
                  </a:lnTo>
                  <a:lnTo>
                    <a:pt x="141" y="1337"/>
                  </a:lnTo>
                  <a:lnTo>
                    <a:pt x="141" y="1473"/>
                  </a:lnTo>
                  <a:lnTo>
                    <a:pt x="141" y="1610"/>
                  </a:lnTo>
                  <a:lnTo>
                    <a:pt x="185" y="1751"/>
                  </a:lnTo>
                  <a:lnTo>
                    <a:pt x="233" y="1888"/>
                  </a:lnTo>
                  <a:lnTo>
                    <a:pt x="233" y="2025"/>
                  </a:lnTo>
                  <a:lnTo>
                    <a:pt x="233" y="2166"/>
                  </a:lnTo>
                  <a:lnTo>
                    <a:pt x="185" y="2302"/>
                  </a:lnTo>
                  <a:lnTo>
                    <a:pt x="92" y="2439"/>
                  </a:lnTo>
                  <a:lnTo>
                    <a:pt x="0" y="2576"/>
                  </a:lnTo>
                  <a:lnTo>
                    <a:pt x="92" y="2439"/>
                  </a:lnTo>
                  <a:lnTo>
                    <a:pt x="141" y="2302"/>
                  </a:lnTo>
                  <a:lnTo>
                    <a:pt x="233" y="2166"/>
                  </a:lnTo>
                  <a:lnTo>
                    <a:pt x="233" y="2025"/>
                  </a:lnTo>
                  <a:lnTo>
                    <a:pt x="185" y="1888"/>
                  </a:lnTo>
                  <a:lnTo>
                    <a:pt x="185" y="1751"/>
                  </a:lnTo>
                  <a:lnTo>
                    <a:pt x="141" y="1610"/>
                  </a:lnTo>
                  <a:lnTo>
                    <a:pt x="141" y="1473"/>
                  </a:lnTo>
                  <a:lnTo>
                    <a:pt x="141" y="1337"/>
                  </a:lnTo>
                  <a:lnTo>
                    <a:pt x="185" y="1195"/>
                  </a:lnTo>
                  <a:lnTo>
                    <a:pt x="277" y="1058"/>
                  </a:lnTo>
                  <a:lnTo>
                    <a:pt x="277" y="921"/>
                  </a:lnTo>
                  <a:lnTo>
                    <a:pt x="326" y="784"/>
                  </a:lnTo>
                  <a:lnTo>
                    <a:pt x="463" y="692"/>
                  </a:lnTo>
                  <a:lnTo>
                    <a:pt x="599" y="692"/>
                  </a:lnTo>
                  <a:lnTo>
                    <a:pt x="648" y="551"/>
                  </a:lnTo>
                  <a:lnTo>
                    <a:pt x="692" y="414"/>
                  </a:lnTo>
                  <a:lnTo>
                    <a:pt x="736" y="277"/>
                  </a:lnTo>
                  <a:lnTo>
                    <a:pt x="784" y="136"/>
                  </a:lnTo>
                  <a:lnTo>
                    <a:pt x="829" y="0"/>
                  </a:lnTo>
                  <a:lnTo>
                    <a:pt x="970" y="0"/>
                  </a:lnTo>
                  <a:lnTo>
                    <a:pt x="1106" y="136"/>
                  </a:lnTo>
                  <a:lnTo>
                    <a:pt x="1243" y="277"/>
                  </a:lnTo>
                  <a:lnTo>
                    <a:pt x="1293" y="414"/>
                  </a:lnTo>
                  <a:lnTo>
                    <a:pt x="1337" y="551"/>
                  </a:lnTo>
                  <a:lnTo>
                    <a:pt x="1429" y="692"/>
                  </a:lnTo>
                  <a:lnTo>
                    <a:pt x="1522" y="829"/>
                  </a:lnTo>
                  <a:lnTo>
                    <a:pt x="1566" y="965"/>
                  </a:lnTo>
                  <a:lnTo>
                    <a:pt x="1614" y="1106"/>
                  </a:lnTo>
                  <a:lnTo>
                    <a:pt x="1566" y="1243"/>
                  </a:lnTo>
                  <a:lnTo>
                    <a:pt x="1522" y="1381"/>
                  </a:lnTo>
                  <a:lnTo>
                    <a:pt x="1473" y="1517"/>
                  </a:lnTo>
                  <a:lnTo>
                    <a:pt x="1429" y="1659"/>
                  </a:lnTo>
                  <a:lnTo>
                    <a:pt x="1429" y="1795"/>
                  </a:lnTo>
                  <a:lnTo>
                    <a:pt x="1429" y="1932"/>
                  </a:lnTo>
                  <a:lnTo>
                    <a:pt x="1473" y="2073"/>
                  </a:lnTo>
                  <a:lnTo>
                    <a:pt x="1566" y="2210"/>
                  </a:lnTo>
                  <a:lnTo>
                    <a:pt x="1707" y="2302"/>
                  </a:lnTo>
                  <a:lnTo>
                    <a:pt x="1844" y="2439"/>
                  </a:lnTo>
                  <a:lnTo>
                    <a:pt x="1980" y="2488"/>
                  </a:lnTo>
                  <a:lnTo>
                    <a:pt x="2117" y="2576"/>
                  </a:lnTo>
                  <a:lnTo>
                    <a:pt x="2258" y="2576"/>
                  </a:lnTo>
                  <a:lnTo>
                    <a:pt x="2395" y="2576"/>
                  </a:lnTo>
                  <a:lnTo>
                    <a:pt x="2395" y="2717"/>
                  </a:lnTo>
                  <a:lnTo>
                    <a:pt x="2488" y="2854"/>
                  </a:lnTo>
                  <a:lnTo>
                    <a:pt x="2488" y="2990"/>
                  </a:lnTo>
                  <a:lnTo>
                    <a:pt x="2532" y="3131"/>
                  </a:lnTo>
                  <a:lnTo>
                    <a:pt x="2580" y="3268"/>
                  </a:lnTo>
                  <a:lnTo>
                    <a:pt x="2717" y="3405"/>
                  </a:lnTo>
                  <a:lnTo>
                    <a:pt x="2854" y="3497"/>
                  </a:lnTo>
                  <a:lnTo>
                    <a:pt x="2946" y="3634"/>
                  </a:lnTo>
                  <a:lnTo>
                    <a:pt x="3087" y="3727"/>
                  </a:lnTo>
                  <a:lnTo>
                    <a:pt x="3224" y="3819"/>
                  </a:lnTo>
                  <a:lnTo>
                    <a:pt x="3361" y="3961"/>
                  </a:lnTo>
                  <a:lnTo>
                    <a:pt x="3502" y="4050"/>
                  </a:lnTo>
                  <a:lnTo>
                    <a:pt x="3590" y="4191"/>
                  </a:lnTo>
                  <a:lnTo>
                    <a:pt x="3731" y="4283"/>
                  </a:lnTo>
                  <a:lnTo>
                    <a:pt x="3824" y="4420"/>
                  </a:lnTo>
                  <a:lnTo>
                    <a:pt x="3961" y="4513"/>
                  </a:lnTo>
                  <a:lnTo>
                    <a:pt x="4098" y="4605"/>
                  </a:lnTo>
                  <a:lnTo>
                    <a:pt x="4235" y="4693"/>
                  </a:lnTo>
                  <a:lnTo>
                    <a:pt x="4327" y="4835"/>
                  </a:lnTo>
                  <a:lnTo>
                    <a:pt x="4420" y="4971"/>
                  </a:lnTo>
                  <a:lnTo>
                    <a:pt x="4513" y="5108"/>
                  </a:lnTo>
                  <a:lnTo>
                    <a:pt x="4513" y="5249"/>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49" name=""/>
            <p:cNvSpPr/>
            <p:nvPr/>
          </p:nvSpPr>
          <p:spPr>
            <a:xfrm>
              <a:off x="6215040" y="333540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6046920" y="3301920"/>
              <a:ext cx="4680" cy="18252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1" name=""/>
            <p:cNvSpPr/>
            <p:nvPr/>
          </p:nvSpPr>
          <p:spPr>
            <a:xfrm flipH="1" flipV="1">
              <a:off x="6072120" y="3295800"/>
              <a:ext cx="146160" cy="1440"/>
            </a:xfrm>
            <a:prstGeom prst="line">
              <a:avLst/>
            </a:prstGeom>
            <a:ln w="38160">
              <a:solidFill>
                <a:srgbClr val="fafd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752" name=""/>
            <p:cNvSpPr txBox="1"/>
            <p:nvPr/>
          </p:nvSpPr>
          <p:spPr>
            <a:xfrm>
              <a:off x="60480" y="647712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753" name=""/>
          <p:cNvGrpSpPr/>
          <p:nvPr/>
        </p:nvGrpSpPr>
        <p:grpSpPr>
          <a:xfrm>
            <a:off x="0" y="590400"/>
            <a:ext cx="9131760" cy="6255360"/>
            <a:chOff x="0" y="590400"/>
            <a:chExt cx="9131760" cy="6255360"/>
          </a:xfrm>
        </p:grpSpPr>
        <p:sp>
          <p:nvSpPr>
            <p:cNvPr id="754" name=""/>
            <p:cNvSpPr txBox="1"/>
            <p:nvPr/>
          </p:nvSpPr>
          <p:spPr>
            <a:xfrm>
              <a:off x="685800" y="590400"/>
              <a:ext cx="8381880" cy="1162080"/>
            </a:xfrm>
            <a:prstGeom prst="rect">
              <a:avLst/>
            </a:prstGeom>
            <a:noFill/>
            <a:ln w="0">
              <a:noFill/>
            </a:ln>
          </p:spPr>
          <p:txBody>
            <a:bodyPr lIns="0" rIns="0" tIns="0" bIns="0" anchor="t">
              <a:noAutofit/>
            </a:bodyPr>
            <a:p>
              <a:pPr algn="ctr">
                <a:lnSpc>
                  <a:spcPct val="100000"/>
                </a:lnSpc>
              </a:pPr>
              <a:r>
                <a:rPr b="1" lang="en-US" sz="5400" spc="-1" strike="noStrike" u="sng">
                  <a:solidFill>
                    <a:srgbClr val="c0fef9"/>
                  </a:solidFill>
                  <a:uFillTx/>
                  <a:latin typeface="Book Antiqua"/>
                  <a:ea typeface="Book Antiqua"/>
                </a:rPr>
                <a:t>Click to add title</a:t>
              </a:r>
              <a:endParaRPr b="0" lang="en-US" sz="5400" spc="-1" strike="noStrike">
                <a:solidFill>
                  <a:srgbClr val="000000"/>
                </a:solidFill>
                <a:latin typeface="Arial"/>
              </a:endParaRPr>
            </a:p>
          </p:txBody>
        </p:sp>
        <p:sp>
          <p:nvSpPr>
            <p:cNvPr id="755" name=""/>
            <p:cNvSpPr txBox="1"/>
            <p:nvPr/>
          </p:nvSpPr>
          <p:spPr>
            <a:xfrm>
              <a:off x="762120" y="1981080"/>
              <a:ext cx="8305920" cy="4133880"/>
            </a:xfrm>
            <a:prstGeom prst="rect">
              <a:avLst/>
            </a:prstGeom>
            <a:noFill/>
            <a:ln w="0">
              <a:noFill/>
            </a:ln>
          </p:spPr>
          <p:txBody>
            <a:bodyPr lIns="0" rIns="0" tIns="0" bIns="0" anchor="t">
              <a:noAutofit/>
            </a:bodyPr>
            <a:p>
              <a:pPr marL="343080" indent="-343080">
                <a:lnSpc>
                  <a:spcPct val="100000"/>
                </a:lnSpc>
                <a:spcBef>
                  <a:spcPts val="479"/>
                </a:spcBef>
                <a:buClr>
                  <a:srgbClr val="c0fef9"/>
                </a:buClr>
                <a:buFont typeface="Monotype Sorts"/>
                <a:buChar char=""/>
              </a:pPr>
              <a:r>
                <a:rPr b="1" lang="en-US" sz="3600" spc="-1" strike="noStrike">
                  <a:solidFill>
                    <a:srgbClr val="ffffff"/>
                  </a:solidFill>
                  <a:latin typeface="Arial"/>
                  <a:ea typeface="Arial"/>
                </a:rPr>
                <a:t>Click to add text</a:t>
              </a:r>
              <a:endParaRPr b="0" lang="en-US" sz="3600" spc="-1" strike="noStrike">
                <a:solidFill>
                  <a:srgbClr val="000000"/>
                </a:solidFill>
                <a:latin typeface="Arial"/>
              </a:endParaRPr>
            </a:p>
          </p:txBody>
        </p:sp>
        <p:sp>
          <p:nvSpPr>
            <p:cNvPr id="756" name=""/>
            <p:cNvSpPr/>
            <p:nvPr/>
          </p:nvSpPr>
          <p:spPr>
            <a:xfrm>
              <a:off x="4816440" y="2900520"/>
              <a:ext cx="4680" cy="18252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7" name=""/>
            <p:cNvSpPr/>
            <p:nvPr/>
          </p:nvSpPr>
          <p:spPr>
            <a:xfrm flipH="1" flipV="1">
              <a:off x="4842000" y="2894040"/>
              <a:ext cx="145800" cy="1440"/>
            </a:xfrm>
            <a:prstGeom prst="line">
              <a:avLst/>
            </a:prstGeom>
            <a:ln w="38160">
              <a:solidFill>
                <a:srgbClr val="fafd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758" name=""/>
            <p:cNvSpPr/>
            <p:nvPr/>
          </p:nvSpPr>
          <p:spPr>
            <a:xfrm>
              <a:off x="63360" y="709560"/>
              <a:ext cx="9067680" cy="6019920"/>
            </a:xfrm>
            <a:prstGeom prst="rect">
              <a:avLst/>
            </a:prstGeom>
            <a:solidFill>
              <a:srgbClr val="00ae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txBox="1"/>
            <p:nvPr/>
          </p:nvSpPr>
          <p:spPr>
            <a:xfrm>
              <a:off x="2879640" y="3382920"/>
              <a:ext cx="116352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Israel</a:t>
              </a:r>
              <a:endParaRPr b="0" lang="en-US" sz="3600" spc="-1" strike="noStrike">
                <a:solidFill>
                  <a:srgbClr val="000000"/>
                </a:solidFill>
                <a:latin typeface="Arial"/>
              </a:endParaRPr>
            </a:p>
          </p:txBody>
        </p:sp>
        <p:sp>
          <p:nvSpPr>
            <p:cNvPr id="760" name=""/>
            <p:cNvSpPr/>
            <p:nvPr/>
          </p:nvSpPr>
          <p:spPr>
            <a:xfrm>
              <a:off x="7620120" y="5168880"/>
              <a:ext cx="1511640" cy="1676880"/>
            </a:xfrm>
            <a:custGeom>
              <a:avLst/>
              <a:gdLst/>
              <a:ahLst/>
              <a:rect l="0" t="0" r="r" b="b"/>
              <a:pathLst>
                <a:path w="4199" h="4658">
                  <a:moveTo>
                    <a:pt x="4022" y="2152"/>
                  </a:moveTo>
                  <a:lnTo>
                    <a:pt x="3868" y="2069"/>
                  </a:lnTo>
                  <a:lnTo>
                    <a:pt x="3727" y="2117"/>
                  </a:lnTo>
                  <a:lnTo>
                    <a:pt x="3590" y="2117"/>
                  </a:lnTo>
                  <a:lnTo>
                    <a:pt x="3453" y="2069"/>
                  </a:lnTo>
                  <a:lnTo>
                    <a:pt x="3312" y="1976"/>
                  </a:lnTo>
                  <a:lnTo>
                    <a:pt x="3176" y="1883"/>
                  </a:lnTo>
                  <a:lnTo>
                    <a:pt x="3039" y="1795"/>
                  </a:lnTo>
                  <a:lnTo>
                    <a:pt x="2898" y="1703"/>
                  </a:lnTo>
                  <a:lnTo>
                    <a:pt x="2809" y="1562"/>
                  </a:lnTo>
                  <a:lnTo>
                    <a:pt x="2668" y="1473"/>
                  </a:lnTo>
                  <a:lnTo>
                    <a:pt x="2576" y="1332"/>
                  </a:lnTo>
                  <a:lnTo>
                    <a:pt x="2439" y="1240"/>
                  </a:lnTo>
                  <a:lnTo>
                    <a:pt x="2302" y="1240"/>
                  </a:lnTo>
                  <a:lnTo>
                    <a:pt x="2161" y="1240"/>
                  </a:lnTo>
                  <a:lnTo>
                    <a:pt x="2024" y="1288"/>
                  </a:lnTo>
                  <a:lnTo>
                    <a:pt x="1887" y="1288"/>
                  </a:lnTo>
                  <a:lnTo>
                    <a:pt x="1750" y="1150"/>
                  </a:lnTo>
                  <a:lnTo>
                    <a:pt x="1609" y="1058"/>
                  </a:lnTo>
                  <a:lnTo>
                    <a:pt x="1516" y="917"/>
                  </a:lnTo>
                  <a:lnTo>
                    <a:pt x="1380" y="824"/>
                  </a:lnTo>
                  <a:lnTo>
                    <a:pt x="1243" y="736"/>
                  </a:lnTo>
                  <a:lnTo>
                    <a:pt x="1102" y="643"/>
                  </a:lnTo>
                  <a:lnTo>
                    <a:pt x="965" y="502"/>
                  </a:lnTo>
                  <a:lnTo>
                    <a:pt x="829" y="414"/>
                  </a:lnTo>
                  <a:lnTo>
                    <a:pt x="692" y="321"/>
                  </a:lnTo>
                  <a:lnTo>
                    <a:pt x="551" y="229"/>
                  </a:lnTo>
                  <a:lnTo>
                    <a:pt x="414" y="92"/>
                  </a:lnTo>
                  <a:lnTo>
                    <a:pt x="423" y="35"/>
                  </a:lnTo>
                  <a:lnTo>
                    <a:pt x="277" y="92"/>
                  </a:lnTo>
                  <a:lnTo>
                    <a:pt x="136" y="44"/>
                  </a:lnTo>
                  <a:lnTo>
                    <a:pt x="0" y="0"/>
                  </a:lnTo>
                  <a:lnTo>
                    <a:pt x="0" y="136"/>
                  </a:lnTo>
                  <a:lnTo>
                    <a:pt x="136" y="136"/>
                  </a:lnTo>
                  <a:lnTo>
                    <a:pt x="277" y="180"/>
                  </a:lnTo>
                  <a:lnTo>
                    <a:pt x="414" y="321"/>
                  </a:lnTo>
                  <a:lnTo>
                    <a:pt x="507" y="458"/>
                  </a:lnTo>
                  <a:lnTo>
                    <a:pt x="458" y="595"/>
                  </a:lnTo>
                  <a:lnTo>
                    <a:pt x="414" y="736"/>
                  </a:lnTo>
                  <a:lnTo>
                    <a:pt x="366" y="873"/>
                  </a:lnTo>
                  <a:lnTo>
                    <a:pt x="321" y="1009"/>
                  </a:lnTo>
                  <a:lnTo>
                    <a:pt x="321" y="1150"/>
                  </a:lnTo>
                  <a:lnTo>
                    <a:pt x="321" y="1288"/>
                  </a:lnTo>
                  <a:lnTo>
                    <a:pt x="366" y="1425"/>
                  </a:lnTo>
                  <a:lnTo>
                    <a:pt x="414" y="1562"/>
                  </a:lnTo>
                  <a:lnTo>
                    <a:pt x="507" y="1703"/>
                  </a:lnTo>
                  <a:lnTo>
                    <a:pt x="551" y="1839"/>
                  </a:lnTo>
                  <a:lnTo>
                    <a:pt x="643" y="1976"/>
                  </a:lnTo>
                  <a:lnTo>
                    <a:pt x="780" y="2069"/>
                  </a:lnTo>
                  <a:lnTo>
                    <a:pt x="873" y="2210"/>
                  </a:lnTo>
                  <a:lnTo>
                    <a:pt x="921" y="2346"/>
                  </a:lnTo>
                  <a:lnTo>
                    <a:pt x="1058" y="2439"/>
                  </a:lnTo>
                  <a:lnTo>
                    <a:pt x="1195" y="2532"/>
                  </a:lnTo>
                  <a:lnTo>
                    <a:pt x="1336" y="2620"/>
                  </a:lnTo>
                  <a:lnTo>
                    <a:pt x="1336" y="2761"/>
                  </a:lnTo>
                  <a:lnTo>
                    <a:pt x="1380" y="2898"/>
                  </a:lnTo>
                  <a:lnTo>
                    <a:pt x="1424" y="3034"/>
                  </a:lnTo>
                  <a:lnTo>
                    <a:pt x="1472" y="3176"/>
                  </a:lnTo>
                  <a:lnTo>
                    <a:pt x="1565" y="3312"/>
                  </a:lnTo>
                  <a:lnTo>
                    <a:pt x="1658" y="3449"/>
                  </a:lnTo>
                  <a:lnTo>
                    <a:pt x="1750" y="3591"/>
                  </a:lnTo>
                  <a:lnTo>
                    <a:pt x="1838" y="3728"/>
                  </a:lnTo>
                  <a:lnTo>
                    <a:pt x="1931" y="3864"/>
                  </a:lnTo>
                  <a:lnTo>
                    <a:pt x="2072" y="3864"/>
                  </a:lnTo>
                  <a:lnTo>
                    <a:pt x="2117" y="3728"/>
                  </a:lnTo>
                  <a:lnTo>
                    <a:pt x="2254" y="3635"/>
                  </a:lnTo>
                  <a:lnTo>
                    <a:pt x="2302" y="3498"/>
                  </a:lnTo>
                  <a:lnTo>
                    <a:pt x="2395" y="3356"/>
                  </a:lnTo>
                  <a:lnTo>
                    <a:pt x="2483" y="3220"/>
                  </a:lnTo>
                  <a:lnTo>
                    <a:pt x="2576" y="3356"/>
                  </a:lnTo>
                  <a:lnTo>
                    <a:pt x="2717" y="3449"/>
                  </a:lnTo>
                  <a:lnTo>
                    <a:pt x="2809" y="3591"/>
                  </a:lnTo>
                  <a:lnTo>
                    <a:pt x="2809" y="3728"/>
                  </a:lnTo>
                  <a:lnTo>
                    <a:pt x="2761" y="3864"/>
                  </a:lnTo>
                  <a:lnTo>
                    <a:pt x="2668" y="4001"/>
                  </a:lnTo>
                  <a:lnTo>
                    <a:pt x="2717" y="4142"/>
                  </a:lnTo>
                  <a:lnTo>
                    <a:pt x="2854" y="4235"/>
                  </a:lnTo>
                  <a:lnTo>
                    <a:pt x="2946" y="4372"/>
                  </a:lnTo>
                  <a:lnTo>
                    <a:pt x="3083" y="4464"/>
                  </a:lnTo>
                  <a:lnTo>
                    <a:pt x="3220" y="4464"/>
                  </a:lnTo>
                  <a:lnTo>
                    <a:pt x="3361" y="4557"/>
                  </a:lnTo>
                  <a:lnTo>
                    <a:pt x="3497" y="4649"/>
                  </a:lnTo>
                  <a:lnTo>
                    <a:pt x="3634" y="4658"/>
                  </a:lnTo>
                  <a:lnTo>
                    <a:pt x="3775" y="4658"/>
                  </a:lnTo>
                  <a:lnTo>
                    <a:pt x="3912" y="4658"/>
                  </a:lnTo>
                  <a:lnTo>
                    <a:pt x="4049" y="4658"/>
                  </a:lnTo>
                  <a:lnTo>
                    <a:pt x="4190" y="4658"/>
                  </a:lnTo>
                  <a:lnTo>
                    <a:pt x="4190" y="4508"/>
                  </a:lnTo>
                  <a:lnTo>
                    <a:pt x="4190" y="4372"/>
                  </a:lnTo>
                  <a:lnTo>
                    <a:pt x="4199" y="4235"/>
                  </a:lnTo>
                  <a:lnTo>
                    <a:pt x="4199" y="4094"/>
                  </a:lnTo>
                  <a:lnTo>
                    <a:pt x="4199" y="3957"/>
                  </a:lnTo>
                  <a:lnTo>
                    <a:pt x="4199" y="3820"/>
                  </a:lnTo>
                  <a:lnTo>
                    <a:pt x="4199" y="3679"/>
                  </a:lnTo>
                  <a:lnTo>
                    <a:pt x="4199" y="3543"/>
                  </a:lnTo>
                  <a:lnTo>
                    <a:pt x="4199" y="3405"/>
                  </a:lnTo>
                  <a:lnTo>
                    <a:pt x="4199" y="3268"/>
                  </a:lnTo>
                  <a:lnTo>
                    <a:pt x="4199" y="3127"/>
                  </a:lnTo>
                  <a:lnTo>
                    <a:pt x="4199" y="2990"/>
                  </a:lnTo>
                  <a:lnTo>
                    <a:pt x="4199" y="2854"/>
                  </a:lnTo>
                  <a:lnTo>
                    <a:pt x="4199" y="2712"/>
                  </a:lnTo>
                  <a:lnTo>
                    <a:pt x="4199" y="2576"/>
                  </a:lnTo>
                  <a:lnTo>
                    <a:pt x="4199" y="2439"/>
                  </a:lnTo>
                  <a:lnTo>
                    <a:pt x="4141" y="2298"/>
                  </a:lnTo>
                  <a:lnTo>
                    <a:pt x="4005" y="2254"/>
                  </a:lnTo>
                  <a:lnTo>
                    <a:pt x="4022" y="2152"/>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p:nvPr/>
          </p:nvSpPr>
          <p:spPr>
            <a:xfrm>
              <a:off x="0" y="762120"/>
              <a:ext cx="6510600" cy="4091400"/>
            </a:xfrm>
            <a:custGeom>
              <a:avLst/>
              <a:gdLst/>
              <a:ahLst/>
              <a:rect l="0" t="0" r="r" b="b"/>
              <a:pathLst>
                <a:path w="18085" h="11365">
                  <a:moveTo>
                    <a:pt x="3175" y="0"/>
                  </a:moveTo>
                  <a:lnTo>
                    <a:pt x="3311" y="136"/>
                  </a:lnTo>
                  <a:lnTo>
                    <a:pt x="3404" y="277"/>
                  </a:lnTo>
                  <a:lnTo>
                    <a:pt x="3541" y="366"/>
                  </a:lnTo>
                  <a:lnTo>
                    <a:pt x="3633" y="507"/>
                  </a:lnTo>
                  <a:lnTo>
                    <a:pt x="3726" y="643"/>
                  </a:lnTo>
                  <a:lnTo>
                    <a:pt x="3774" y="780"/>
                  </a:lnTo>
                  <a:lnTo>
                    <a:pt x="3818" y="921"/>
                  </a:lnTo>
                  <a:lnTo>
                    <a:pt x="3867" y="1058"/>
                  </a:lnTo>
                  <a:lnTo>
                    <a:pt x="3867" y="1195"/>
                  </a:lnTo>
                  <a:lnTo>
                    <a:pt x="3867" y="1336"/>
                  </a:lnTo>
                  <a:lnTo>
                    <a:pt x="3867" y="1472"/>
                  </a:lnTo>
                  <a:lnTo>
                    <a:pt x="3867" y="1609"/>
                  </a:lnTo>
                  <a:lnTo>
                    <a:pt x="3818" y="1750"/>
                  </a:lnTo>
                  <a:lnTo>
                    <a:pt x="3818" y="1887"/>
                  </a:lnTo>
                  <a:lnTo>
                    <a:pt x="3818" y="2024"/>
                  </a:lnTo>
                  <a:lnTo>
                    <a:pt x="3818" y="2160"/>
                  </a:lnTo>
                  <a:lnTo>
                    <a:pt x="3818" y="2301"/>
                  </a:lnTo>
                  <a:lnTo>
                    <a:pt x="3726" y="2438"/>
                  </a:lnTo>
                  <a:lnTo>
                    <a:pt x="3589" y="2531"/>
                  </a:lnTo>
                  <a:lnTo>
                    <a:pt x="3496" y="2667"/>
                  </a:lnTo>
                  <a:lnTo>
                    <a:pt x="3404" y="2808"/>
                  </a:lnTo>
                  <a:lnTo>
                    <a:pt x="3267" y="2898"/>
                  </a:lnTo>
                  <a:lnTo>
                    <a:pt x="3130" y="2808"/>
                  </a:lnTo>
                  <a:lnTo>
                    <a:pt x="2989" y="2716"/>
                  </a:lnTo>
                  <a:lnTo>
                    <a:pt x="2853" y="2623"/>
                  </a:lnTo>
                  <a:lnTo>
                    <a:pt x="2716" y="2531"/>
                  </a:lnTo>
                  <a:lnTo>
                    <a:pt x="2575" y="2482"/>
                  </a:lnTo>
                  <a:lnTo>
                    <a:pt x="2438" y="2482"/>
                  </a:lnTo>
                  <a:lnTo>
                    <a:pt x="2301" y="2438"/>
                  </a:lnTo>
                  <a:lnTo>
                    <a:pt x="1979" y="2438"/>
                  </a:lnTo>
                  <a:lnTo>
                    <a:pt x="1838" y="2394"/>
                  </a:lnTo>
                  <a:lnTo>
                    <a:pt x="1702" y="2394"/>
                  </a:lnTo>
                  <a:lnTo>
                    <a:pt x="1565" y="2394"/>
                  </a:lnTo>
                  <a:lnTo>
                    <a:pt x="1424" y="2345"/>
                  </a:lnTo>
                  <a:lnTo>
                    <a:pt x="1287" y="2301"/>
                  </a:lnTo>
                  <a:lnTo>
                    <a:pt x="1150" y="2253"/>
                  </a:lnTo>
                  <a:lnTo>
                    <a:pt x="1014" y="2209"/>
                  </a:lnTo>
                  <a:lnTo>
                    <a:pt x="873" y="2160"/>
                  </a:lnTo>
                  <a:lnTo>
                    <a:pt x="780" y="2301"/>
                  </a:lnTo>
                  <a:lnTo>
                    <a:pt x="780" y="2438"/>
                  </a:lnTo>
                  <a:lnTo>
                    <a:pt x="780" y="2575"/>
                  </a:lnTo>
                  <a:lnTo>
                    <a:pt x="780" y="2716"/>
                  </a:lnTo>
                  <a:lnTo>
                    <a:pt x="780" y="2854"/>
                  </a:lnTo>
                  <a:lnTo>
                    <a:pt x="780" y="2990"/>
                  </a:lnTo>
                  <a:lnTo>
                    <a:pt x="780" y="3131"/>
                  </a:lnTo>
                  <a:lnTo>
                    <a:pt x="780" y="3268"/>
                  </a:lnTo>
                  <a:lnTo>
                    <a:pt x="780" y="3405"/>
                  </a:lnTo>
                  <a:lnTo>
                    <a:pt x="780" y="3542"/>
                  </a:lnTo>
                  <a:lnTo>
                    <a:pt x="780" y="3683"/>
                  </a:lnTo>
                  <a:lnTo>
                    <a:pt x="643" y="3727"/>
                  </a:lnTo>
                  <a:lnTo>
                    <a:pt x="551" y="3868"/>
                  </a:lnTo>
                  <a:lnTo>
                    <a:pt x="414" y="4005"/>
                  </a:lnTo>
                  <a:lnTo>
                    <a:pt x="366" y="4141"/>
                  </a:lnTo>
                  <a:lnTo>
                    <a:pt x="321" y="4278"/>
                  </a:lnTo>
                  <a:lnTo>
                    <a:pt x="321" y="4419"/>
                  </a:lnTo>
                  <a:lnTo>
                    <a:pt x="321" y="4556"/>
                  </a:lnTo>
                  <a:lnTo>
                    <a:pt x="321" y="4692"/>
                  </a:lnTo>
                  <a:lnTo>
                    <a:pt x="321" y="4834"/>
                  </a:lnTo>
                  <a:lnTo>
                    <a:pt x="366" y="4970"/>
                  </a:lnTo>
                  <a:lnTo>
                    <a:pt x="366" y="5107"/>
                  </a:lnTo>
                  <a:lnTo>
                    <a:pt x="414" y="5248"/>
                  </a:lnTo>
                  <a:lnTo>
                    <a:pt x="414" y="5385"/>
                  </a:lnTo>
                  <a:lnTo>
                    <a:pt x="414" y="5521"/>
                  </a:lnTo>
                  <a:lnTo>
                    <a:pt x="414" y="5658"/>
                  </a:lnTo>
                  <a:lnTo>
                    <a:pt x="551" y="5707"/>
                  </a:lnTo>
                  <a:lnTo>
                    <a:pt x="692" y="5751"/>
                  </a:lnTo>
                  <a:lnTo>
                    <a:pt x="829" y="5751"/>
                  </a:lnTo>
                  <a:lnTo>
                    <a:pt x="921" y="5892"/>
                  </a:lnTo>
                  <a:lnTo>
                    <a:pt x="1058" y="6029"/>
                  </a:lnTo>
                  <a:lnTo>
                    <a:pt x="1150" y="6165"/>
                  </a:lnTo>
                  <a:lnTo>
                    <a:pt x="1287" y="6214"/>
                  </a:lnTo>
                  <a:lnTo>
                    <a:pt x="1424" y="6214"/>
                  </a:lnTo>
                  <a:lnTo>
                    <a:pt x="1565" y="6214"/>
                  </a:lnTo>
                  <a:lnTo>
                    <a:pt x="1702" y="6214"/>
                  </a:lnTo>
                  <a:lnTo>
                    <a:pt x="1838" y="6214"/>
                  </a:lnTo>
                  <a:lnTo>
                    <a:pt x="1979" y="6214"/>
                  </a:lnTo>
                  <a:lnTo>
                    <a:pt x="2116" y="6214"/>
                  </a:lnTo>
                  <a:lnTo>
                    <a:pt x="2253" y="6214"/>
                  </a:lnTo>
                  <a:lnTo>
                    <a:pt x="2394" y="6214"/>
                  </a:lnTo>
                  <a:lnTo>
                    <a:pt x="2531" y="6214"/>
                  </a:lnTo>
                  <a:lnTo>
                    <a:pt x="2667" y="6214"/>
                  </a:lnTo>
                  <a:lnTo>
                    <a:pt x="2808" y="6214"/>
                  </a:lnTo>
                  <a:lnTo>
                    <a:pt x="2945" y="6214"/>
                  </a:lnTo>
                  <a:lnTo>
                    <a:pt x="3038" y="6073"/>
                  </a:lnTo>
                  <a:lnTo>
                    <a:pt x="3175" y="6029"/>
                  </a:lnTo>
                  <a:lnTo>
                    <a:pt x="3267" y="5892"/>
                  </a:lnTo>
                  <a:lnTo>
                    <a:pt x="3404" y="5799"/>
                  </a:lnTo>
                  <a:lnTo>
                    <a:pt x="3541" y="5658"/>
                  </a:lnTo>
                  <a:lnTo>
                    <a:pt x="3682" y="5521"/>
                  </a:lnTo>
                  <a:lnTo>
                    <a:pt x="3818" y="5429"/>
                  </a:lnTo>
                  <a:lnTo>
                    <a:pt x="3818" y="5292"/>
                  </a:lnTo>
                  <a:lnTo>
                    <a:pt x="3818" y="5155"/>
                  </a:lnTo>
                  <a:lnTo>
                    <a:pt x="3818" y="4741"/>
                  </a:lnTo>
                  <a:lnTo>
                    <a:pt x="3911" y="4600"/>
                  </a:lnTo>
                  <a:lnTo>
                    <a:pt x="4048" y="4556"/>
                  </a:lnTo>
                  <a:lnTo>
                    <a:pt x="4189" y="4512"/>
                  </a:lnTo>
                  <a:lnTo>
                    <a:pt x="4325" y="4463"/>
                  </a:lnTo>
                  <a:lnTo>
                    <a:pt x="4462" y="4419"/>
                  </a:lnTo>
                  <a:lnTo>
                    <a:pt x="4599" y="4326"/>
                  </a:lnTo>
                  <a:lnTo>
                    <a:pt x="4691" y="4190"/>
                  </a:lnTo>
                  <a:lnTo>
                    <a:pt x="4784" y="4049"/>
                  </a:lnTo>
                  <a:lnTo>
                    <a:pt x="4833" y="3912"/>
                  </a:lnTo>
                  <a:lnTo>
                    <a:pt x="4877" y="3775"/>
                  </a:lnTo>
                  <a:lnTo>
                    <a:pt x="5013" y="3634"/>
                  </a:lnTo>
                  <a:lnTo>
                    <a:pt x="5106" y="3497"/>
                  </a:lnTo>
                  <a:lnTo>
                    <a:pt x="5247" y="3453"/>
                  </a:lnTo>
                  <a:lnTo>
                    <a:pt x="5384" y="3405"/>
                  </a:lnTo>
                  <a:lnTo>
                    <a:pt x="5520" y="3405"/>
                  </a:lnTo>
                  <a:lnTo>
                    <a:pt x="5657" y="3453"/>
                  </a:lnTo>
                  <a:lnTo>
                    <a:pt x="5798" y="3497"/>
                  </a:lnTo>
                  <a:lnTo>
                    <a:pt x="5935" y="3542"/>
                  </a:lnTo>
                  <a:lnTo>
                    <a:pt x="6072" y="3590"/>
                  </a:lnTo>
                  <a:lnTo>
                    <a:pt x="6213" y="3590"/>
                  </a:lnTo>
                  <a:lnTo>
                    <a:pt x="6350" y="3590"/>
                  </a:lnTo>
                  <a:lnTo>
                    <a:pt x="6486" y="3590"/>
                  </a:lnTo>
                  <a:lnTo>
                    <a:pt x="6627" y="3497"/>
                  </a:lnTo>
                  <a:lnTo>
                    <a:pt x="6764" y="3405"/>
                  </a:lnTo>
                  <a:lnTo>
                    <a:pt x="6901" y="3361"/>
                  </a:lnTo>
                  <a:lnTo>
                    <a:pt x="7042" y="3361"/>
                  </a:lnTo>
                  <a:lnTo>
                    <a:pt x="7179" y="3361"/>
                  </a:lnTo>
                  <a:lnTo>
                    <a:pt x="7315" y="3361"/>
                  </a:lnTo>
                  <a:lnTo>
                    <a:pt x="7452" y="3453"/>
                  </a:lnTo>
                  <a:lnTo>
                    <a:pt x="7593" y="3497"/>
                  </a:lnTo>
                  <a:lnTo>
                    <a:pt x="7637" y="3634"/>
                  </a:lnTo>
                  <a:lnTo>
                    <a:pt x="7637" y="3775"/>
                  </a:lnTo>
                  <a:lnTo>
                    <a:pt x="7637" y="3912"/>
                  </a:lnTo>
                  <a:lnTo>
                    <a:pt x="7637" y="4049"/>
                  </a:lnTo>
                  <a:lnTo>
                    <a:pt x="7637" y="4190"/>
                  </a:lnTo>
                  <a:lnTo>
                    <a:pt x="7686" y="4326"/>
                  </a:lnTo>
                  <a:lnTo>
                    <a:pt x="7774" y="4463"/>
                  </a:lnTo>
                  <a:lnTo>
                    <a:pt x="7866" y="4600"/>
                  </a:lnTo>
                  <a:lnTo>
                    <a:pt x="7959" y="4741"/>
                  </a:lnTo>
                  <a:lnTo>
                    <a:pt x="8100" y="4834"/>
                  </a:lnTo>
                  <a:lnTo>
                    <a:pt x="8188" y="4970"/>
                  </a:lnTo>
                  <a:lnTo>
                    <a:pt x="8329" y="5063"/>
                  </a:lnTo>
                  <a:lnTo>
                    <a:pt x="8466" y="5155"/>
                  </a:lnTo>
                  <a:lnTo>
                    <a:pt x="8559" y="5292"/>
                  </a:lnTo>
                  <a:lnTo>
                    <a:pt x="8651" y="5429"/>
                  </a:lnTo>
                  <a:lnTo>
                    <a:pt x="8744" y="5570"/>
                  </a:lnTo>
                  <a:lnTo>
                    <a:pt x="8881" y="5658"/>
                  </a:lnTo>
                  <a:lnTo>
                    <a:pt x="8973" y="5799"/>
                  </a:lnTo>
                  <a:lnTo>
                    <a:pt x="9017" y="5936"/>
                  </a:lnTo>
                  <a:lnTo>
                    <a:pt x="9111" y="6073"/>
                  </a:lnTo>
                  <a:lnTo>
                    <a:pt x="9159" y="6214"/>
                  </a:lnTo>
                  <a:lnTo>
                    <a:pt x="9204" y="6351"/>
                  </a:lnTo>
                  <a:lnTo>
                    <a:pt x="9248" y="6487"/>
                  </a:lnTo>
                  <a:lnTo>
                    <a:pt x="9248" y="6628"/>
                  </a:lnTo>
                  <a:lnTo>
                    <a:pt x="9248" y="6765"/>
                  </a:lnTo>
                  <a:lnTo>
                    <a:pt x="9248" y="6902"/>
                  </a:lnTo>
                  <a:lnTo>
                    <a:pt x="9248" y="7043"/>
                  </a:lnTo>
                  <a:lnTo>
                    <a:pt x="9389" y="7180"/>
                  </a:lnTo>
                  <a:lnTo>
                    <a:pt x="9526" y="7272"/>
                  </a:lnTo>
                  <a:lnTo>
                    <a:pt x="9662" y="7272"/>
                  </a:lnTo>
                  <a:lnTo>
                    <a:pt x="9755" y="7131"/>
                  </a:lnTo>
                  <a:lnTo>
                    <a:pt x="9803" y="6994"/>
                  </a:lnTo>
                  <a:lnTo>
                    <a:pt x="9847" y="6858"/>
                  </a:lnTo>
                  <a:lnTo>
                    <a:pt x="9847" y="6717"/>
                  </a:lnTo>
                  <a:lnTo>
                    <a:pt x="9803" y="6580"/>
                  </a:lnTo>
                  <a:lnTo>
                    <a:pt x="9803" y="6443"/>
                  </a:lnTo>
                  <a:lnTo>
                    <a:pt x="9803" y="6306"/>
                  </a:lnTo>
                  <a:lnTo>
                    <a:pt x="9803" y="6165"/>
                  </a:lnTo>
                  <a:lnTo>
                    <a:pt x="9940" y="6121"/>
                  </a:lnTo>
                  <a:lnTo>
                    <a:pt x="10077" y="6121"/>
                  </a:lnTo>
                  <a:lnTo>
                    <a:pt x="10218" y="6165"/>
                  </a:lnTo>
                  <a:lnTo>
                    <a:pt x="10355" y="6214"/>
                  </a:lnTo>
                  <a:lnTo>
                    <a:pt x="10399" y="6073"/>
                  </a:lnTo>
                  <a:lnTo>
                    <a:pt x="10399" y="5936"/>
                  </a:lnTo>
                  <a:lnTo>
                    <a:pt x="10355" y="5799"/>
                  </a:lnTo>
                  <a:lnTo>
                    <a:pt x="10306" y="5658"/>
                  </a:lnTo>
                  <a:lnTo>
                    <a:pt x="10169" y="5614"/>
                  </a:lnTo>
                  <a:lnTo>
                    <a:pt x="10033" y="5477"/>
                  </a:lnTo>
                  <a:lnTo>
                    <a:pt x="9940" y="5336"/>
                  </a:lnTo>
                  <a:lnTo>
                    <a:pt x="9803" y="5248"/>
                  </a:lnTo>
                  <a:lnTo>
                    <a:pt x="9711" y="5107"/>
                  </a:lnTo>
                  <a:lnTo>
                    <a:pt x="9570" y="5014"/>
                  </a:lnTo>
                  <a:lnTo>
                    <a:pt x="9433" y="4926"/>
                  </a:lnTo>
                  <a:lnTo>
                    <a:pt x="9340" y="4785"/>
                  </a:lnTo>
                  <a:lnTo>
                    <a:pt x="9296" y="4648"/>
                  </a:lnTo>
                  <a:lnTo>
                    <a:pt x="9248" y="4512"/>
                  </a:lnTo>
                  <a:lnTo>
                    <a:pt x="9204" y="4371"/>
                  </a:lnTo>
                  <a:lnTo>
                    <a:pt x="9111" y="4234"/>
                  </a:lnTo>
                  <a:lnTo>
                    <a:pt x="9017" y="4097"/>
                  </a:lnTo>
                  <a:lnTo>
                    <a:pt x="8881" y="3956"/>
                  </a:lnTo>
                  <a:lnTo>
                    <a:pt x="8832" y="3819"/>
                  </a:lnTo>
                  <a:lnTo>
                    <a:pt x="8744" y="3683"/>
                  </a:lnTo>
                  <a:lnTo>
                    <a:pt x="8651" y="3542"/>
                  </a:lnTo>
                  <a:lnTo>
                    <a:pt x="8559" y="3405"/>
                  </a:lnTo>
                  <a:lnTo>
                    <a:pt x="8466" y="3268"/>
                  </a:lnTo>
                  <a:lnTo>
                    <a:pt x="8374" y="3131"/>
                  </a:lnTo>
                  <a:lnTo>
                    <a:pt x="8422" y="2990"/>
                  </a:lnTo>
                  <a:lnTo>
                    <a:pt x="8559" y="2946"/>
                  </a:lnTo>
                  <a:lnTo>
                    <a:pt x="8695" y="2946"/>
                  </a:lnTo>
                  <a:lnTo>
                    <a:pt x="8832" y="2946"/>
                  </a:lnTo>
                  <a:lnTo>
                    <a:pt x="8973" y="3039"/>
                  </a:lnTo>
                  <a:lnTo>
                    <a:pt x="9067" y="3176"/>
                  </a:lnTo>
                  <a:lnTo>
                    <a:pt x="9204" y="3312"/>
                  </a:lnTo>
                  <a:lnTo>
                    <a:pt x="9296" y="3453"/>
                  </a:lnTo>
                  <a:lnTo>
                    <a:pt x="9389" y="3590"/>
                  </a:lnTo>
                  <a:lnTo>
                    <a:pt x="9433" y="3727"/>
                  </a:lnTo>
                  <a:lnTo>
                    <a:pt x="9526" y="3868"/>
                  </a:lnTo>
                  <a:lnTo>
                    <a:pt x="9662" y="4005"/>
                  </a:lnTo>
                  <a:lnTo>
                    <a:pt x="9711" y="4141"/>
                  </a:lnTo>
                  <a:lnTo>
                    <a:pt x="9847" y="4278"/>
                  </a:lnTo>
                  <a:lnTo>
                    <a:pt x="9940" y="4419"/>
                  </a:lnTo>
                  <a:lnTo>
                    <a:pt x="10077" y="4556"/>
                  </a:lnTo>
                  <a:lnTo>
                    <a:pt x="10125" y="4692"/>
                  </a:lnTo>
                  <a:lnTo>
                    <a:pt x="10218" y="4834"/>
                  </a:lnTo>
                  <a:lnTo>
                    <a:pt x="10355" y="4970"/>
                  </a:lnTo>
                  <a:lnTo>
                    <a:pt x="10491" y="5107"/>
                  </a:lnTo>
                  <a:lnTo>
                    <a:pt x="10628" y="5248"/>
                  </a:lnTo>
                  <a:lnTo>
                    <a:pt x="10721" y="5385"/>
                  </a:lnTo>
                  <a:lnTo>
                    <a:pt x="10813" y="5521"/>
                  </a:lnTo>
                  <a:lnTo>
                    <a:pt x="10862" y="5658"/>
                  </a:lnTo>
                  <a:lnTo>
                    <a:pt x="10906" y="5799"/>
                  </a:lnTo>
                  <a:lnTo>
                    <a:pt x="10906" y="5936"/>
                  </a:lnTo>
                  <a:lnTo>
                    <a:pt x="10906" y="6073"/>
                  </a:lnTo>
                  <a:lnTo>
                    <a:pt x="10906" y="6214"/>
                  </a:lnTo>
                  <a:lnTo>
                    <a:pt x="10906" y="6351"/>
                  </a:lnTo>
                  <a:lnTo>
                    <a:pt x="11042" y="6443"/>
                  </a:lnTo>
                  <a:lnTo>
                    <a:pt x="11184" y="6536"/>
                  </a:lnTo>
                  <a:lnTo>
                    <a:pt x="11276" y="6672"/>
                  </a:lnTo>
                  <a:lnTo>
                    <a:pt x="11276" y="6809"/>
                  </a:lnTo>
                  <a:lnTo>
                    <a:pt x="11276" y="6950"/>
                  </a:lnTo>
                  <a:lnTo>
                    <a:pt x="11276" y="7087"/>
                  </a:lnTo>
                  <a:lnTo>
                    <a:pt x="11413" y="7180"/>
                  </a:lnTo>
                  <a:lnTo>
                    <a:pt x="11550" y="7272"/>
                  </a:lnTo>
                  <a:lnTo>
                    <a:pt x="11686" y="7365"/>
                  </a:lnTo>
                  <a:lnTo>
                    <a:pt x="11827" y="7453"/>
                  </a:lnTo>
                  <a:lnTo>
                    <a:pt x="11964" y="7546"/>
                  </a:lnTo>
                  <a:lnTo>
                    <a:pt x="12101" y="7546"/>
                  </a:lnTo>
                  <a:lnTo>
                    <a:pt x="12242" y="7546"/>
                  </a:lnTo>
                  <a:lnTo>
                    <a:pt x="12379" y="7501"/>
                  </a:lnTo>
                  <a:lnTo>
                    <a:pt x="12471" y="7365"/>
                  </a:lnTo>
                  <a:lnTo>
                    <a:pt x="12564" y="7224"/>
                  </a:lnTo>
                  <a:lnTo>
                    <a:pt x="12608" y="7087"/>
                  </a:lnTo>
                  <a:lnTo>
                    <a:pt x="12656" y="6950"/>
                  </a:lnTo>
                  <a:lnTo>
                    <a:pt x="12608" y="6809"/>
                  </a:lnTo>
                  <a:lnTo>
                    <a:pt x="12515" y="6672"/>
                  </a:lnTo>
                  <a:lnTo>
                    <a:pt x="12423" y="6536"/>
                  </a:lnTo>
                  <a:lnTo>
                    <a:pt x="12334" y="6395"/>
                  </a:lnTo>
                  <a:lnTo>
                    <a:pt x="12286" y="6258"/>
                  </a:lnTo>
                  <a:lnTo>
                    <a:pt x="12286" y="6121"/>
                  </a:lnTo>
                  <a:lnTo>
                    <a:pt x="12423" y="5984"/>
                  </a:lnTo>
                  <a:lnTo>
                    <a:pt x="12564" y="5892"/>
                  </a:lnTo>
                  <a:lnTo>
                    <a:pt x="12701" y="5843"/>
                  </a:lnTo>
                  <a:lnTo>
                    <a:pt x="12837" y="5799"/>
                  </a:lnTo>
                  <a:lnTo>
                    <a:pt x="12978" y="5707"/>
                  </a:lnTo>
                  <a:lnTo>
                    <a:pt x="13115" y="5614"/>
                  </a:lnTo>
                  <a:lnTo>
                    <a:pt x="13159" y="5248"/>
                  </a:lnTo>
                  <a:lnTo>
                    <a:pt x="13208" y="4878"/>
                  </a:lnTo>
                  <a:lnTo>
                    <a:pt x="13344" y="4834"/>
                  </a:lnTo>
                  <a:lnTo>
                    <a:pt x="13481" y="4834"/>
                  </a:lnTo>
                  <a:lnTo>
                    <a:pt x="13622" y="4834"/>
                  </a:lnTo>
                  <a:lnTo>
                    <a:pt x="13759" y="4878"/>
                  </a:lnTo>
                  <a:lnTo>
                    <a:pt x="13896" y="4970"/>
                  </a:lnTo>
                  <a:lnTo>
                    <a:pt x="14037" y="5063"/>
                  </a:lnTo>
                  <a:lnTo>
                    <a:pt x="14173" y="5107"/>
                  </a:lnTo>
                  <a:lnTo>
                    <a:pt x="14266" y="4970"/>
                  </a:lnTo>
                  <a:lnTo>
                    <a:pt x="14266" y="4834"/>
                  </a:lnTo>
                  <a:lnTo>
                    <a:pt x="14266" y="4692"/>
                  </a:lnTo>
                  <a:lnTo>
                    <a:pt x="14173" y="4556"/>
                  </a:lnTo>
                  <a:lnTo>
                    <a:pt x="14081" y="4419"/>
                  </a:lnTo>
                  <a:lnTo>
                    <a:pt x="14037" y="4278"/>
                  </a:lnTo>
                  <a:lnTo>
                    <a:pt x="14037" y="4141"/>
                  </a:lnTo>
                  <a:lnTo>
                    <a:pt x="14037" y="4005"/>
                  </a:lnTo>
                  <a:lnTo>
                    <a:pt x="14037" y="3868"/>
                  </a:lnTo>
                  <a:lnTo>
                    <a:pt x="14037" y="3727"/>
                  </a:lnTo>
                  <a:lnTo>
                    <a:pt x="14037" y="3590"/>
                  </a:lnTo>
                  <a:lnTo>
                    <a:pt x="14037" y="3453"/>
                  </a:lnTo>
                  <a:lnTo>
                    <a:pt x="14037" y="3312"/>
                  </a:lnTo>
                  <a:lnTo>
                    <a:pt x="14081" y="2946"/>
                  </a:lnTo>
                  <a:lnTo>
                    <a:pt x="14081" y="2808"/>
                  </a:lnTo>
                  <a:lnTo>
                    <a:pt x="14125" y="2667"/>
                  </a:lnTo>
                  <a:lnTo>
                    <a:pt x="14266" y="2531"/>
                  </a:lnTo>
                  <a:lnTo>
                    <a:pt x="14403" y="2482"/>
                  </a:lnTo>
                  <a:lnTo>
                    <a:pt x="14539" y="2394"/>
                  </a:lnTo>
                  <a:lnTo>
                    <a:pt x="14680" y="2345"/>
                  </a:lnTo>
                  <a:lnTo>
                    <a:pt x="14817" y="2301"/>
                  </a:lnTo>
                  <a:lnTo>
                    <a:pt x="14954" y="2301"/>
                  </a:lnTo>
                  <a:lnTo>
                    <a:pt x="15095" y="2301"/>
                  </a:lnTo>
                  <a:lnTo>
                    <a:pt x="15232" y="2438"/>
                  </a:lnTo>
                  <a:lnTo>
                    <a:pt x="15324" y="2575"/>
                  </a:lnTo>
                  <a:lnTo>
                    <a:pt x="15324" y="2716"/>
                  </a:lnTo>
                  <a:lnTo>
                    <a:pt x="15417" y="2854"/>
                  </a:lnTo>
                  <a:lnTo>
                    <a:pt x="15554" y="2946"/>
                  </a:lnTo>
                  <a:lnTo>
                    <a:pt x="15690" y="3083"/>
                  </a:lnTo>
                  <a:lnTo>
                    <a:pt x="15831" y="3131"/>
                  </a:lnTo>
                  <a:lnTo>
                    <a:pt x="15968" y="3131"/>
                  </a:lnTo>
                  <a:lnTo>
                    <a:pt x="16105" y="3083"/>
                  </a:lnTo>
                  <a:lnTo>
                    <a:pt x="16197" y="2946"/>
                  </a:lnTo>
                  <a:lnTo>
                    <a:pt x="16290" y="2808"/>
                  </a:lnTo>
                  <a:lnTo>
                    <a:pt x="16334" y="2667"/>
                  </a:lnTo>
                  <a:lnTo>
                    <a:pt x="16290" y="2531"/>
                  </a:lnTo>
                  <a:lnTo>
                    <a:pt x="16197" y="2394"/>
                  </a:lnTo>
                  <a:lnTo>
                    <a:pt x="16105" y="2253"/>
                  </a:lnTo>
                  <a:lnTo>
                    <a:pt x="16105" y="2116"/>
                  </a:lnTo>
                  <a:lnTo>
                    <a:pt x="16105" y="1979"/>
                  </a:lnTo>
                  <a:lnTo>
                    <a:pt x="16197" y="1838"/>
                  </a:lnTo>
                  <a:lnTo>
                    <a:pt x="16334" y="1750"/>
                  </a:lnTo>
                  <a:lnTo>
                    <a:pt x="16475" y="1702"/>
                  </a:lnTo>
                  <a:lnTo>
                    <a:pt x="16612" y="1609"/>
                  </a:lnTo>
                  <a:lnTo>
                    <a:pt x="16656" y="1750"/>
                  </a:lnTo>
                  <a:lnTo>
                    <a:pt x="16749" y="1887"/>
                  </a:lnTo>
                  <a:lnTo>
                    <a:pt x="16841" y="2024"/>
                  </a:lnTo>
                  <a:lnTo>
                    <a:pt x="16797" y="2160"/>
                  </a:lnTo>
                  <a:lnTo>
                    <a:pt x="16705" y="2301"/>
                  </a:lnTo>
                  <a:lnTo>
                    <a:pt x="16612" y="2438"/>
                  </a:lnTo>
                  <a:lnTo>
                    <a:pt x="16612" y="2575"/>
                  </a:lnTo>
                  <a:lnTo>
                    <a:pt x="16612" y="2716"/>
                  </a:lnTo>
                  <a:lnTo>
                    <a:pt x="16749" y="2808"/>
                  </a:lnTo>
                  <a:lnTo>
                    <a:pt x="16890" y="2946"/>
                  </a:lnTo>
                  <a:lnTo>
                    <a:pt x="17026" y="2990"/>
                  </a:lnTo>
                  <a:lnTo>
                    <a:pt x="17163" y="3039"/>
                  </a:lnTo>
                  <a:lnTo>
                    <a:pt x="17300" y="3131"/>
                  </a:lnTo>
                  <a:lnTo>
                    <a:pt x="17441" y="3176"/>
                  </a:lnTo>
                  <a:lnTo>
                    <a:pt x="17578" y="3220"/>
                  </a:lnTo>
                  <a:lnTo>
                    <a:pt x="17714" y="3312"/>
                  </a:lnTo>
                  <a:lnTo>
                    <a:pt x="17855" y="3453"/>
                  </a:lnTo>
                  <a:lnTo>
                    <a:pt x="17948" y="3590"/>
                  </a:lnTo>
                  <a:lnTo>
                    <a:pt x="18036" y="3727"/>
                  </a:lnTo>
                  <a:lnTo>
                    <a:pt x="18085" y="3868"/>
                  </a:lnTo>
                  <a:lnTo>
                    <a:pt x="17992" y="4005"/>
                  </a:lnTo>
                  <a:lnTo>
                    <a:pt x="17948" y="4141"/>
                  </a:lnTo>
                  <a:lnTo>
                    <a:pt x="17807" y="4190"/>
                  </a:lnTo>
                  <a:lnTo>
                    <a:pt x="17670" y="4190"/>
                  </a:lnTo>
                  <a:lnTo>
                    <a:pt x="17534" y="4190"/>
                  </a:lnTo>
                  <a:lnTo>
                    <a:pt x="17392" y="4190"/>
                  </a:lnTo>
                  <a:lnTo>
                    <a:pt x="17256" y="4190"/>
                  </a:lnTo>
                  <a:lnTo>
                    <a:pt x="17119" y="4190"/>
                  </a:lnTo>
                  <a:lnTo>
                    <a:pt x="16978" y="4190"/>
                  </a:lnTo>
                  <a:lnTo>
                    <a:pt x="16841" y="4234"/>
                  </a:lnTo>
                  <a:lnTo>
                    <a:pt x="16705" y="4234"/>
                  </a:lnTo>
                  <a:lnTo>
                    <a:pt x="16568" y="4234"/>
                  </a:lnTo>
                  <a:lnTo>
                    <a:pt x="16427" y="4234"/>
                  </a:lnTo>
                  <a:lnTo>
                    <a:pt x="16290" y="4278"/>
                  </a:lnTo>
                  <a:lnTo>
                    <a:pt x="16153" y="4326"/>
                  </a:lnTo>
                  <a:lnTo>
                    <a:pt x="16012" y="4419"/>
                  </a:lnTo>
                  <a:lnTo>
                    <a:pt x="15876" y="4463"/>
                  </a:lnTo>
                  <a:lnTo>
                    <a:pt x="15739" y="4556"/>
                  </a:lnTo>
                  <a:lnTo>
                    <a:pt x="15598" y="4692"/>
                  </a:lnTo>
                  <a:lnTo>
                    <a:pt x="15461" y="4785"/>
                  </a:lnTo>
                  <a:lnTo>
                    <a:pt x="15324" y="4878"/>
                  </a:lnTo>
                  <a:lnTo>
                    <a:pt x="15232" y="5014"/>
                  </a:lnTo>
                  <a:lnTo>
                    <a:pt x="15095" y="5107"/>
                  </a:lnTo>
                  <a:lnTo>
                    <a:pt x="14954" y="5200"/>
                  </a:lnTo>
                  <a:lnTo>
                    <a:pt x="14817" y="5248"/>
                  </a:lnTo>
                  <a:lnTo>
                    <a:pt x="14680" y="5292"/>
                  </a:lnTo>
                  <a:lnTo>
                    <a:pt x="14539" y="5385"/>
                  </a:lnTo>
                  <a:lnTo>
                    <a:pt x="14403" y="5521"/>
                  </a:lnTo>
                  <a:lnTo>
                    <a:pt x="14266" y="5614"/>
                  </a:lnTo>
                  <a:lnTo>
                    <a:pt x="14125" y="5658"/>
                  </a:lnTo>
                  <a:lnTo>
                    <a:pt x="13988" y="5707"/>
                  </a:lnTo>
                  <a:lnTo>
                    <a:pt x="13851" y="5751"/>
                  </a:lnTo>
                  <a:lnTo>
                    <a:pt x="13759" y="5892"/>
                  </a:lnTo>
                  <a:lnTo>
                    <a:pt x="13622" y="5984"/>
                  </a:lnTo>
                  <a:lnTo>
                    <a:pt x="13574" y="6121"/>
                  </a:lnTo>
                  <a:lnTo>
                    <a:pt x="13481" y="6258"/>
                  </a:lnTo>
                  <a:lnTo>
                    <a:pt x="13481" y="6395"/>
                  </a:lnTo>
                  <a:lnTo>
                    <a:pt x="13530" y="6536"/>
                  </a:lnTo>
                  <a:lnTo>
                    <a:pt x="13574" y="6672"/>
                  </a:lnTo>
                  <a:lnTo>
                    <a:pt x="13622" y="6809"/>
                  </a:lnTo>
                  <a:lnTo>
                    <a:pt x="13759" y="6902"/>
                  </a:lnTo>
                  <a:lnTo>
                    <a:pt x="13803" y="7043"/>
                  </a:lnTo>
                  <a:lnTo>
                    <a:pt x="13896" y="7180"/>
                  </a:lnTo>
                  <a:lnTo>
                    <a:pt x="13988" y="7316"/>
                  </a:lnTo>
                  <a:lnTo>
                    <a:pt x="14125" y="7453"/>
                  </a:lnTo>
                  <a:lnTo>
                    <a:pt x="14266" y="7546"/>
                  </a:lnTo>
                  <a:lnTo>
                    <a:pt x="14310" y="7687"/>
                  </a:lnTo>
                  <a:lnTo>
                    <a:pt x="14451" y="7775"/>
                  </a:lnTo>
                  <a:lnTo>
                    <a:pt x="14588" y="7775"/>
                  </a:lnTo>
                  <a:lnTo>
                    <a:pt x="14725" y="7775"/>
                  </a:lnTo>
                  <a:lnTo>
                    <a:pt x="14861" y="7775"/>
                  </a:lnTo>
                  <a:lnTo>
                    <a:pt x="15002" y="7775"/>
                  </a:lnTo>
                  <a:lnTo>
                    <a:pt x="15139" y="7731"/>
                  </a:lnTo>
                  <a:lnTo>
                    <a:pt x="15276" y="7687"/>
                  </a:lnTo>
                  <a:lnTo>
                    <a:pt x="15417" y="7687"/>
                  </a:lnTo>
                  <a:lnTo>
                    <a:pt x="15554" y="7687"/>
                  </a:lnTo>
                  <a:lnTo>
                    <a:pt x="15690" y="7731"/>
                  </a:lnTo>
                  <a:lnTo>
                    <a:pt x="15831" y="7775"/>
                  </a:lnTo>
                  <a:lnTo>
                    <a:pt x="15968" y="7823"/>
                  </a:lnTo>
                  <a:lnTo>
                    <a:pt x="16105" y="7823"/>
                  </a:lnTo>
                  <a:lnTo>
                    <a:pt x="16242" y="7823"/>
                  </a:lnTo>
                  <a:lnTo>
                    <a:pt x="16334" y="7687"/>
                  </a:lnTo>
                  <a:lnTo>
                    <a:pt x="16427" y="7546"/>
                  </a:lnTo>
                  <a:lnTo>
                    <a:pt x="16475" y="7409"/>
                  </a:lnTo>
                  <a:lnTo>
                    <a:pt x="16568" y="7272"/>
                  </a:lnTo>
                  <a:lnTo>
                    <a:pt x="16705" y="7180"/>
                  </a:lnTo>
                  <a:lnTo>
                    <a:pt x="16841" y="7131"/>
                  </a:lnTo>
                  <a:lnTo>
                    <a:pt x="16890" y="7272"/>
                  </a:lnTo>
                  <a:lnTo>
                    <a:pt x="16890" y="7409"/>
                  </a:lnTo>
                  <a:lnTo>
                    <a:pt x="16841" y="7546"/>
                  </a:lnTo>
                  <a:lnTo>
                    <a:pt x="16797" y="7687"/>
                  </a:lnTo>
                  <a:lnTo>
                    <a:pt x="16890" y="7823"/>
                  </a:lnTo>
                  <a:lnTo>
                    <a:pt x="17026" y="7916"/>
                  </a:lnTo>
                  <a:lnTo>
                    <a:pt x="17119" y="8053"/>
                  </a:lnTo>
                  <a:lnTo>
                    <a:pt x="17163" y="8189"/>
                  </a:lnTo>
                  <a:lnTo>
                    <a:pt x="17256" y="8330"/>
                  </a:lnTo>
                  <a:lnTo>
                    <a:pt x="17256" y="8467"/>
                  </a:lnTo>
                  <a:lnTo>
                    <a:pt x="17256" y="8605"/>
                  </a:lnTo>
                  <a:lnTo>
                    <a:pt x="17212" y="8746"/>
                  </a:lnTo>
                  <a:lnTo>
                    <a:pt x="17212" y="8883"/>
                  </a:lnTo>
                  <a:lnTo>
                    <a:pt x="17212" y="9019"/>
                  </a:lnTo>
                  <a:lnTo>
                    <a:pt x="17119" y="9160"/>
                  </a:lnTo>
                  <a:lnTo>
                    <a:pt x="16978" y="9249"/>
                  </a:lnTo>
                  <a:lnTo>
                    <a:pt x="16841" y="9341"/>
                  </a:lnTo>
                  <a:lnTo>
                    <a:pt x="16705" y="9482"/>
                  </a:lnTo>
                  <a:lnTo>
                    <a:pt x="16568" y="9571"/>
                  </a:lnTo>
                  <a:lnTo>
                    <a:pt x="16427" y="9663"/>
                  </a:lnTo>
                  <a:lnTo>
                    <a:pt x="16290" y="9756"/>
                  </a:lnTo>
                  <a:lnTo>
                    <a:pt x="16153" y="9848"/>
                  </a:lnTo>
                  <a:lnTo>
                    <a:pt x="16012" y="9985"/>
                  </a:lnTo>
                  <a:lnTo>
                    <a:pt x="15876" y="10078"/>
                  </a:lnTo>
                  <a:lnTo>
                    <a:pt x="15831" y="10219"/>
                  </a:lnTo>
                  <a:lnTo>
                    <a:pt x="15739" y="10356"/>
                  </a:lnTo>
                  <a:lnTo>
                    <a:pt x="15646" y="10492"/>
                  </a:lnTo>
                  <a:lnTo>
                    <a:pt x="15554" y="10629"/>
                  </a:lnTo>
                  <a:lnTo>
                    <a:pt x="15461" y="10770"/>
                  </a:lnTo>
                  <a:lnTo>
                    <a:pt x="15368" y="10907"/>
                  </a:lnTo>
                  <a:lnTo>
                    <a:pt x="15324" y="11043"/>
                  </a:lnTo>
                  <a:lnTo>
                    <a:pt x="15183" y="11092"/>
                  </a:lnTo>
                  <a:lnTo>
                    <a:pt x="15046" y="11092"/>
                  </a:lnTo>
                  <a:lnTo>
                    <a:pt x="14910" y="11092"/>
                  </a:lnTo>
                  <a:lnTo>
                    <a:pt x="14773" y="11092"/>
                  </a:lnTo>
                  <a:lnTo>
                    <a:pt x="14632" y="11043"/>
                  </a:lnTo>
                  <a:lnTo>
                    <a:pt x="14495" y="11043"/>
                  </a:lnTo>
                  <a:lnTo>
                    <a:pt x="14359" y="10951"/>
                  </a:lnTo>
                  <a:lnTo>
                    <a:pt x="14217" y="10863"/>
                  </a:lnTo>
                  <a:lnTo>
                    <a:pt x="14081" y="10770"/>
                  </a:lnTo>
                  <a:lnTo>
                    <a:pt x="13944" y="10770"/>
                  </a:lnTo>
                  <a:lnTo>
                    <a:pt x="13803" y="10770"/>
                  </a:lnTo>
                  <a:lnTo>
                    <a:pt x="13666" y="10770"/>
                  </a:lnTo>
                  <a:lnTo>
                    <a:pt x="13530" y="10814"/>
                  </a:lnTo>
                  <a:lnTo>
                    <a:pt x="13437" y="10951"/>
                  </a:lnTo>
                  <a:lnTo>
                    <a:pt x="13300" y="11043"/>
                  </a:lnTo>
                  <a:lnTo>
                    <a:pt x="13159" y="11043"/>
                  </a:lnTo>
                  <a:lnTo>
                    <a:pt x="12793" y="11043"/>
                  </a:lnTo>
                  <a:lnTo>
                    <a:pt x="12656" y="11043"/>
                  </a:lnTo>
                  <a:lnTo>
                    <a:pt x="12515" y="11043"/>
                  </a:lnTo>
                  <a:lnTo>
                    <a:pt x="12379" y="11043"/>
                  </a:lnTo>
                  <a:lnTo>
                    <a:pt x="12242" y="11043"/>
                  </a:lnTo>
                  <a:lnTo>
                    <a:pt x="12101" y="10999"/>
                  </a:lnTo>
                  <a:lnTo>
                    <a:pt x="11964" y="10951"/>
                  </a:lnTo>
                  <a:lnTo>
                    <a:pt x="11827" y="10814"/>
                  </a:lnTo>
                  <a:lnTo>
                    <a:pt x="11686" y="10722"/>
                  </a:lnTo>
                  <a:lnTo>
                    <a:pt x="11550" y="10629"/>
                  </a:lnTo>
                  <a:lnTo>
                    <a:pt x="11413" y="10629"/>
                  </a:lnTo>
                  <a:lnTo>
                    <a:pt x="11276" y="10585"/>
                  </a:lnTo>
                  <a:lnTo>
                    <a:pt x="11135" y="10585"/>
                  </a:lnTo>
                  <a:lnTo>
                    <a:pt x="10998" y="10585"/>
                  </a:lnTo>
                  <a:lnTo>
                    <a:pt x="10862" y="10585"/>
                  </a:lnTo>
                  <a:lnTo>
                    <a:pt x="10491" y="10585"/>
                  </a:lnTo>
                  <a:lnTo>
                    <a:pt x="10355" y="10585"/>
                  </a:lnTo>
                  <a:lnTo>
                    <a:pt x="10218" y="10585"/>
                  </a:lnTo>
                  <a:lnTo>
                    <a:pt x="10077" y="10585"/>
                  </a:lnTo>
                  <a:lnTo>
                    <a:pt x="9940" y="10585"/>
                  </a:lnTo>
                  <a:lnTo>
                    <a:pt x="9803" y="10585"/>
                  </a:lnTo>
                  <a:lnTo>
                    <a:pt x="9662" y="10629"/>
                  </a:lnTo>
                  <a:lnTo>
                    <a:pt x="9526" y="10629"/>
                  </a:lnTo>
                  <a:lnTo>
                    <a:pt x="9389" y="10677"/>
                  </a:lnTo>
                  <a:lnTo>
                    <a:pt x="9248" y="10722"/>
                  </a:lnTo>
                  <a:lnTo>
                    <a:pt x="9204" y="10863"/>
                  </a:lnTo>
                  <a:lnTo>
                    <a:pt x="9204" y="10999"/>
                  </a:lnTo>
                  <a:lnTo>
                    <a:pt x="9204" y="11136"/>
                  </a:lnTo>
                  <a:lnTo>
                    <a:pt x="9204" y="11277"/>
                  </a:lnTo>
                  <a:lnTo>
                    <a:pt x="9067" y="11365"/>
                  </a:lnTo>
                  <a:lnTo>
                    <a:pt x="8925" y="11321"/>
                  </a:lnTo>
                  <a:lnTo>
                    <a:pt x="8788" y="11229"/>
                  </a:lnTo>
                  <a:lnTo>
                    <a:pt x="8695" y="11092"/>
                  </a:lnTo>
                  <a:lnTo>
                    <a:pt x="8603" y="10951"/>
                  </a:lnTo>
                  <a:lnTo>
                    <a:pt x="8466" y="10814"/>
                  </a:lnTo>
                  <a:lnTo>
                    <a:pt x="8329" y="10722"/>
                  </a:lnTo>
                  <a:lnTo>
                    <a:pt x="8188" y="10629"/>
                  </a:lnTo>
                  <a:lnTo>
                    <a:pt x="8052" y="10541"/>
                  </a:lnTo>
                  <a:lnTo>
                    <a:pt x="7959" y="10400"/>
                  </a:lnTo>
                  <a:lnTo>
                    <a:pt x="7822" y="10307"/>
                  </a:lnTo>
                  <a:lnTo>
                    <a:pt x="7686" y="10170"/>
                  </a:lnTo>
                  <a:lnTo>
                    <a:pt x="7593" y="10034"/>
                  </a:lnTo>
                  <a:lnTo>
                    <a:pt x="7452" y="9985"/>
                  </a:lnTo>
                  <a:lnTo>
                    <a:pt x="7315" y="9941"/>
                  </a:lnTo>
                  <a:lnTo>
                    <a:pt x="7179" y="9941"/>
                  </a:lnTo>
                  <a:lnTo>
                    <a:pt x="7042" y="9941"/>
                  </a:lnTo>
                  <a:lnTo>
                    <a:pt x="6671" y="9941"/>
                  </a:lnTo>
                  <a:lnTo>
                    <a:pt x="6535" y="9848"/>
                  </a:lnTo>
                  <a:lnTo>
                    <a:pt x="6486" y="9712"/>
                  </a:lnTo>
                  <a:lnTo>
                    <a:pt x="6486" y="9571"/>
                  </a:lnTo>
                  <a:lnTo>
                    <a:pt x="6442" y="9434"/>
                  </a:lnTo>
                  <a:lnTo>
                    <a:pt x="6442" y="9297"/>
                  </a:lnTo>
                  <a:lnTo>
                    <a:pt x="6442" y="9160"/>
                  </a:lnTo>
                  <a:lnTo>
                    <a:pt x="6442" y="9019"/>
                  </a:lnTo>
                  <a:lnTo>
                    <a:pt x="6442" y="8883"/>
                  </a:lnTo>
                  <a:lnTo>
                    <a:pt x="6442" y="8746"/>
                  </a:lnTo>
                  <a:lnTo>
                    <a:pt x="6442" y="8605"/>
                  </a:lnTo>
                  <a:lnTo>
                    <a:pt x="6394" y="8467"/>
                  </a:lnTo>
                  <a:lnTo>
                    <a:pt x="6350" y="8330"/>
                  </a:lnTo>
                  <a:lnTo>
                    <a:pt x="6350" y="8189"/>
                  </a:lnTo>
                  <a:lnTo>
                    <a:pt x="6257" y="8053"/>
                  </a:lnTo>
                  <a:lnTo>
                    <a:pt x="6120" y="7960"/>
                  </a:lnTo>
                  <a:lnTo>
                    <a:pt x="5983" y="7960"/>
                  </a:lnTo>
                  <a:lnTo>
                    <a:pt x="5842" y="7960"/>
                  </a:lnTo>
                  <a:lnTo>
                    <a:pt x="5706" y="7960"/>
                  </a:lnTo>
                  <a:lnTo>
                    <a:pt x="5335" y="7960"/>
                  </a:lnTo>
                  <a:lnTo>
                    <a:pt x="5199" y="8009"/>
                  </a:lnTo>
                  <a:lnTo>
                    <a:pt x="4833" y="8009"/>
                  </a:lnTo>
                  <a:lnTo>
                    <a:pt x="4691" y="8053"/>
                  </a:lnTo>
                  <a:lnTo>
                    <a:pt x="4555" y="8053"/>
                  </a:lnTo>
                  <a:lnTo>
                    <a:pt x="4418" y="8053"/>
                  </a:lnTo>
                  <a:lnTo>
                    <a:pt x="4277" y="8053"/>
                  </a:lnTo>
                  <a:lnTo>
                    <a:pt x="4140" y="8053"/>
                  </a:lnTo>
                  <a:lnTo>
                    <a:pt x="4004" y="7960"/>
                  </a:lnTo>
                  <a:lnTo>
                    <a:pt x="3867" y="7867"/>
                  </a:lnTo>
                  <a:lnTo>
                    <a:pt x="3726" y="7775"/>
                  </a:lnTo>
                  <a:lnTo>
                    <a:pt x="3589" y="7638"/>
                  </a:lnTo>
                  <a:lnTo>
                    <a:pt x="3452" y="7594"/>
                  </a:lnTo>
                  <a:lnTo>
                    <a:pt x="3311" y="7546"/>
                  </a:lnTo>
                  <a:lnTo>
                    <a:pt x="2989" y="7501"/>
                  </a:lnTo>
                  <a:lnTo>
                    <a:pt x="2667" y="7501"/>
                  </a:lnTo>
                  <a:lnTo>
                    <a:pt x="2301" y="7453"/>
                  </a:lnTo>
                  <a:lnTo>
                    <a:pt x="2160" y="7409"/>
                  </a:lnTo>
                  <a:lnTo>
                    <a:pt x="2024" y="7409"/>
                  </a:lnTo>
                  <a:lnTo>
                    <a:pt x="1887" y="7272"/>
                  </a:lnTo>
                  <a:lnTo>
                    <a:pt x="1794" y="7131"/>
                  </a:lnTo>
                  <a:lnTo>
                    <a:pt x="1658" y="7043"/>
                  </a:lnTo>
                  <a:lnTo>
                    <a:pt x="1516" y="6950"/>
                  </a:lnTo>
                  <a:lnTo>
                    <a:pt x="1380" y="6950"/>
                  </a:lnTo>
                  <a:lnTo>
                    <a:pt x="1243" y="6950"/>
                  </a:lnTo>
                  <a:lnTo>
                    <a:pt x="921" y="6950"/>
                  </a:lnTo>
                  <a:lnTo>
                    <a:pt x="780" y="6994"/>
                  </a:lnTo>
                  <a:lnTo>
                    <a:pt x="643" y="7043"/>
                  </a:lnTo>
                  <a:lnTo>
                    <a:pt x="551" y="7180"/>
                  </a:lnTo>
                  <a:lnTo>
                    <a:pt x="458" y="7316"/>
                  </a:lnTo>
                  <a:lnTo>
                    <a:pt x="321" y="7453"/>
                  </a:lnTo>
                  <a:lnTo>
                    <a:pt x="229" y="7594"/>
                  </a:lnTo>
                  <a:lnTo>
                    <a:pt x="92" y="7687"/>
                  </a:lnTo>
                  <a:lnTo>
                    <a:pt x="0" y="7823"/>
                  </a:lnTo>
                  <a:lnTo>
                    <a:pt x="0" y="7687"/>
                  </a:lnTo>
                  <a:lnTo>
                    <a:pt x="0" y="7546"/>
                  </a:lnTo>
                  <a:lnTo>
                    <a:pt x="0" y="7409"/>
                  </a:lnTo>
                  <a:lnTo>
                    <a:pt x="0" y="7272"/>
                  </a:lnTo>
                  <a:lnTo>
                    <a:pt x="0" y="7131"/>
                  </a:lnTo>
                  <a:lnTo>
                    <a:pt x="0" y="6765"/>
                  </a:lnTo>
                  <a:lnTo>
                    <a:pt x="0" y="6351"/>
                  </a:lnTo>
                  <a:lnTo>
                    <a:pt x="0" y="5984"/>
                  </a:lnTo>
                  <a:lnTo>
                    <a:pt x="0" y="5570"/>
                  </a:lnTo>
                  <a:lnTo>
                    <a:pt x="0" y="5155"/>
                  </a:lnTo>
                  <a:lnTo>
                    <a:pt x="0" y="4741"/>
                  </a:lnTo>
                  <a:lnTo>
                    <a:pt x="0" y="4600"/>
                  </a:lnTo>
                  <a:lnTo>
                    <a:pt x="0" y="4463"/>
                  </a:lnTo>
                  <a:lnTo>
                    <a:pt x="0" y="4326"/>
                  </a:lnTo>
                  <a:lnTo>
                    <a:pt x="0" y="4005"/>
                  </a:lnTo>
                  <a:lnTo>
                    <a:pt x="0" y="3590"/>
                  </a:lnTo>
                  <a:lnTo>
                    <a:pt x="0" y="3220"/>
                  </a:lnTo>
                  <a:lnTo>
                    <a:pt x="0" y="2898"/>
                  </a:lnTo>
                  <a:lnTo>
                    <a:pt x="0" y="2575"/>
                  </a:lnTo>
                  <a:lnTo>
                    <a:pt x="0" y="2209"/>
                  </a:lnTo>
                  <a:lnTo>
                    <a:pt x="0" y="1838"/>
                  </a:lnTo>
                  <a:lnTo>
                    <a:pt x="0" y="1424"/>
                  </a:lnTo>
                  <a:lnTo>
                    <a:pt x="0" y="1014"/>
                  </a:lnTo>
                  <a:lnTo>
                    <a:pt x="0" y="599"/>
                  </a:lnTo>
                  <a:lnTo>
                    <a:pt x="0" y="458"/>
                  </a:lnTo>
                  <a:lnTo>
                    <a:pt x="0" y="321"/>
                  </a:lnTo>
                  <a:lnTo>
                    <a:pt x="0" y="185"/>
                  </a:lnTo>
                  <a:lnTo>
                    <a:pt x="136" y="92"/>
                  </a:lnTo>
                  <a:lnTo>
                    <a:pt x="277" y="92"/>
                  </a:lnTo>
                  <a:lnTo>
                    <a:pt x="414" y="92"/>
                  </a:lnTo>
                  <a:lnTo>
                    <a:pt x="551" y="92"/>
                  </a:lnTo>
                  <a:lnTo>
                    <a:pt x="692" y="92"/>
                  </a:lnTo>
                  <a:lnTo>
                    <a:pt x="1058" y="92"/>
                  </a:lnTo>
                  <a:lnTo>
                    <a:pt x="1380" y="92"/>
                  </a:lnTo>
                  <a:lnTo>
                    <a:pt x="1750" y="92"/>
                  </a:lnTo>
                  <a:lnTo>
                    <a:pt x="2160" y="92"/>
                  </a:lnTo>
                  <a:lnTo>
                    <a:pt x="2482" y="92"/>
                  </a:lnTo>
                  <a:lnTo>
                    <a:pt x="2853" y="92"/>
                  </a:lnTo>
                  <a:lnTo>
                    <a:pt x="3175" y="92"/>
                  </a:lnTo>
                  <a:lnTo>
                    <a:pt x="3311" y="92"/>
                  </a:lnTo>
                  <a:lnTo>
                    <a:pt x="3452" y="92"/>
                  </a:lnTo>
                  <a:lnTo>
                    <a:pt x="3175" y="0"/>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4952880" y="4648320"/>
              <a:ext cx="332280" cy="1548000"/>
            </a:xfrm>
            <a:custGeom>
              <a:avLst/>
              <a:gdLst/>
              <a:ahLst/>
              <a:rect l="0" t="0" r="r" b="b"/>
              <a:pathLst>
                <a:path w="923" h="4300">
                  <a:moveTo>
                    <a:pt x="0" y="0"/>
                  </a:moveTo>
                  <a:lnTo>
                    <a:pt x="92" y="154"/>
                  </a:lnTo>
                  <a:lnTo>
                    <a:pt x="185" y="295"/>
                  </a:lnTo>
                  <a:lnTo>
                    <a:pt x="185" y="432"/>
                  </a:lnTo>
                  <a:lnTo>
                    <a:pt x="185" y="568"/>
                  </a:lnTo>
                  <a:lnTo>
                    <a:pt x="185" y="709"/>
                  </a:lnTo>
                  <a:lnTo>
                    <a:pt x="136" y="846"/>
                  </a:lnTo>
                  <a:lnTo>
                    <a:pt x="136" y="983"/>
                  </a:lnTo>
                  <a:lnTo>
                    <a:pt x="136" y="1124"/>
                  </a:lnTo>
                  <a:lnTo>
                    <a:pt x="136" y="1261"/>
                  </a:lnTo>
                  <a:lnTo>
                    <a:pt x="136" y="1397"/>
                  </a:lnTo>
                  <a:lnTo>
                    <a:pt x="136" y="1538"/>
                  </a:lnTo>
                  <a:lnTo>
                    <a:pt x="136" y="1675"/>
                  </a:lnTo>
                  <a:lnTo>
                    <a:pt x="136" y="1812"/>
                  </a:lnTo>
                  <a:lnTo>
                    <a:pt x="185" y="1949"/>
                  </a:lnTo>
                  <a:lnTo>
                    <a:pt x="185" y="2090"/>
                  </a:lnTo>
                  <a:lnTo>
                    <a:pt x="185" y="2227"/>
                  </a:lnTo>
                  <a:lnTo>
                    <a:pt x="229" y="2364"/>
                  </a:lnTo>
                  <a:lnTo>
                    <a:pt x="278" y="2505"/>
                  </a:lnTo>
                  <a:lnTo>
                    <a:pt x="322" y="2642"/>
                  </a:lnTo>
                  <a:lnTo>
                    <a:pt x="415" y="2779"/>
                  </a:lnTo>
                  <a:lnTo>
                    <a:pt x="508" y="2920"/>
                  </a:lnTo>
                  <a:lnTo>
                    <a:pt x="600" y="3056"/>
                  </a:lnTo>
                  <a:lnTo>
                    <a:pt x="600" y="3193"/>
                  </a:lnTo>
                  <a:lnTo>
                    <a:pt x="644" y="3330"/>
                  </a:lnTo>
                  <a:lnTo>
                    <a:pt x="694" y="3471"/>
                  </a:lnTo>
                  <a:lnTo>
                    <a:pt x="782" y="3608"/>
                  </a:lnTo>
                  <a:lnTo>
                    <a:pt x="875" y="3744"/>
                  </a:lnTo>
                  <a:lnTo>
                    <a:pt x="923" y="3885"/>
                  </a:lnTo>
                  <a:lnTo>
                    <a:pt x="923" y="4022"/>
                  </a:lnTo>
                  <a:lnTo>
                    <a:pt x="923" y="4159"/>
                  </a:lnTo>
                  <a:lnTo>
                    <a:pt x="923" y="4300"/>
                  </a:lnTo>
                  <a:lnTo>
                    <a:pt x="848" y="3811"/>
                  </a:lnTo>
                  <a:lnTo>
                    <a:pt x="0" y="0"/>
                  </a:lnTo>
                  <a:close/>
                </a:path>
              </a:pathLst>
            </a:custGeom>
            <a:solidFill>
              <a:srgbClr val="114ffb"/>
            </a:solid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63" name=""/>
            <p:cNvSpPr/>
            <p:nvPr/>
          </p:nvSpPr>
          <p:spPr>
            <a:xfrm>
              <a:off x="5135400" y="4937040"/>
              <a:ext cx="1573560" cy="1908360"/>
            </a:xfrm>
            <a:custGeom>
              <a:avLst/>
              <a:gdLst/>
              <a:ahLst/>
              <a:rect l="0" t="0" r="r" b="b"/>
              <a:pathLst>
                <a:path w="4371" h="5301">
                  <a:moveTo>
                    <a:pt x="127" y="44"/>
                  </a:moveTo>
                  <a:lnTo>
                    <a:pt x="273" y="180"/>
                  </a:lnTo>
                  <a:lnTo>
                    <a:pt x="273" y="321"/>
                  </a:lnTo>
                  <a:lnTo>
                    <a:pt x="321" y="458"/>
                  </a:lnTo>
                  <a:lnTo>
                    <a:pt x="366" y="595"/>
                  </a:lnTo>
                  <a:lnTo>
                    <a:pt x="414" y="736"/>
                  </a:lnTo>
                  <a:lnTo>
                    <a:pt x="507" y="873"/>
                  </a:lnTo>
                  <a:lnTo>
                    <a:pt x="595" y="1009"/>
                  </a:lnTo>
                  <a:lnTo>
                    <a:pt x="643" y="1146"/>
                  </a:lnTo>
                  <a:lnTo>
                    <a:pt x="736" y="1287"/>
                  </a:lnTo>
                  <a:lnTo>
                    <a:pt x="780" y="1424"/>
                  </a:lnTo>
                  <a:lnTo>
                    <a:pt x="917" y="1516"/>
                  </a:lnTo>
                  <a:lnTo>
                    <a:pt x="965" y="1653"/>
                  </a:lnTo>
                  <a:lnTo>
                    <a:pt x="1058" y="1794"/>
                  </a:lnTo>
                  <a:lnTo>
                    <a:pt x="1150" y="1931"/>
                  </a:lnTo>
                  <a:lnTo>
                    <a:pt x="1195" y="2068"/>
                  </a:lnTo>
                  <a:lnTo>
                    <a:pt x="1243" y="2204"/>
                  </a:lnTo>
                  <a:lnTo>
                    <a:pt x="1331" y="2345"/>
                  </a:lnTo>
                  <a:lnTo>
                    <a:pt x="1424" y="2482"/>
                  </a:lnTo>
                  <a:lnTo>
                    <a:pt x="1516" y="2619"/>
                  </a:lnTo>
                  <a:lnTo>
                    <a:pt x="1653" y="2761"/>
                  </a:lnTo>
                  <a:lnTo>
                    <a:pt x="1746" y="2898"/>
                  </a:lnTo>
                  <a:lnTo>
                    <a:pt x="1794" y="3034"/>
                  </a:lnTo>
                  <a:lnTo>
                    <a:pt x="1887" y="3176"/>
                  </a:lnTo>
                  <a:lnTo>
                    <a:pt x="1975" y="3312"/>
                  </a:lnTo>
                  <a:lnTo>
                    <a:pt x="2068" y="3449"/>
                  </a:lnTo>
                  <a:lnTo>
                    <a:pt x="2160" y="3586"/>
                  </a:lnTo>
                  <a:lnTo>
                    <a:pt x="2302" y="3727"/>
                  </a:lnTo>
                  <a:lnTo>
                    <a:pt x="2391" y="3863"/>
                  </a:lnTo>
                  <a:lnTo>
                    <a:pt x="2439" y="4000"/>
                  </a:lnTo>
                  <a:lnTo>
                    <a:pt x="2439" y="4141"/>
                  </a:lnTo>
                  <a:lnTo>
                    <a:pt x="2439" y="4278"/>
                  </a:lnTo>
                  <a:lnTo>
                    <a:pt x="2439" y="4415"/>
                  </a:lnTo>
                  <a:lnTo>
                    <a:pt x="2483" y="4556"/>
                  </a:lnTo>
                  <a:lnTo>
                    <a:pt x="2483" y="4692"/>
                  </a:lnTo>
                  <a:lnTo>
                    <a:pt x="2576" y="4829"/>
                  </a:lnTo>
                  <a:lnTo>
                    <a:pt x="2712" y="4970"/>
                  </a:lnTo>
                  <a:lnTo>
                    <a:pt x="2805" y="5107"/>
                  </a:lnTo>
                  <a:lnTo>
                    <a:pt x="2946" y="5244"/>
                  </a:lnTo>
                  <a:lnTo>
                    <a:pt x="3083" y="5301"/>
                  </a:lnTo>
                  <a:lnTo>
                    <a:pt x="3220" y="5301"/>
                  </a:lnTo>
                  <a:lnTo>
                    <a:pt x="3361" y="5301"/>
                  </a:lnTo>
                  <a:lnTo>
                    <a:pt x="3497" y="5301"/>
                  </a:lnTo>
                  <a:lnTo>
                    <a:pt x="3634" y="5301"/>
                  </a:lnTo>
                  <a:lnTo>
                    <a:pt x="3771" y="5301"/>
                  </a:lnTo>
                  <a:lnTo>
                    <a:pt x="3912" y="5301"/>
                  </a:lnTo>
                  <a:lnTo>
                    <a:pt x="4049" y="5301"/>
                  </a:lnTo>
                  <a:lnTo>
                    <a:pt x="4185" y="5301"/>
                  </a:lnTo>
                  <a:lnTo>
                    <a:pt x="4326" y="5301"/>
                  </a:lnTo>
                  <a:lnTo>
                    <a:pt x="4371" y="5151"/>
                  </a:lnTo>
                  <a:lnTo>
                    <a:pt x="4278" y="5014"/>
                  </a:lnTo>
                  <a:lnTo>
                    <a:pt x="4234" y="4878"/>
                  </a:lnTo>
                  <a:lnTo>
                    <a:pt x="4185" y="4737"/>
                  </a:lnTo>
                  <a:lnTo>
                    <a:pt x="4093" y="4600"/>
                  </a:lnTo>
                  <a:lnTo>
                    <a:pt x="4005" y="4463"/>
                  </a:lnTo>
                  <a:lnTo>
                    <a:pt x="3912" y="4322"/>
                  </a:lnTo>
                  <a:lnTo>
                    <a:pt x="3863" y="4185"/>
                  </a:lnTo>
                  <a:lnTo>
                    <a:pt x="3771" y="4049"/>
                  </a:lnTo>
                  <a:lnTo>
                    <a:pt x="3634" y="3912"/>
                  </a:lnTo>
                  <a:lnTo>
                    <a:pt x="3542" y="3771"/>
                  </a:lnTo>
                  <a:lnTo>
                    <a:pt x="3405" y="3634"/>
                  </a:lnTo>
                  <a:lnTo>
                    <a:pt x="3268" y="3542"/>
                  </a:lnTo>
                  <a:lnTo>
                    <a:pt x="3176" y="3405"/>
                  </a:lnTo>
                  <a:lnTo>
                    <a:pt x="3034" y="3312"/>
                  </a:lnTo>
                  <a:lnTo>
                    <a:pt x="2946" y="3176"/>
                  </a:lnTo>
                  <a:lnTo>
                    <a:pt x="2898" y="3034"/>
                  </a:lnTo>
                  <a:lnTo>
                    <a:pt x="2854" y="2898"/>
                  </a:lnTo>
                  <a:lnTo>
                    <a:pt x="2805" y="2761"/>
                  </a:lnTo>
                  <a:lnTo>
                    <a:pt x="2712" y="2619"/>
                  </a:lnTo>
                  <a:lnTo>
                    <a:pt x="2624" y="2482"/>
                  </a:lnTo>
                  <a:lnTo>
                    <a:pt x="2532" y="2345"/>
                  </a:lnTo>
                  <a:lnTo>
                    <a:pt x="2439" y="2204"/>
                  </a:lnTo>
                  <a:lnTo>
                    <a:pt x="2346" y="2068"/>
                  </a:lnTo>
                  <a:lnTo>
                    <a:pt x="2254" y="1931"/>
                  </a:lnTo>
                  <a:lnTo>
                    <a:pt x="2210" y="1794"/>
                  </a:lnTo>
                  <a:lnTo>
                    <a:pt x="2068" y="1702"/>
                  </a:lnTo>
                  <a:lnTo>
                    <a:pt x="1931" y="1609"/>
                  </a:lnTo>
                  <a:lnTo>
                    <a:pt x="1838" y="1468"/>
                  </a:lnTo>
                  <a:lnTo>
                    <a:pt x="1702" y="1380"/>
                  </a:lnTo>
                  <a:lnTo>
                    <a:pt x="1565" y="1287"/>
                  </a:lnTo>
                  <a:lnTo>
                    <a:pt x="1424" y="1195"/>
                  </a:lnTo>
                  <a:lnTo>
                    <a:pt x="1287" y="1102"/>
                  </a:lnTo>
                  <a:lnTo>
                    <a:pt x="1150" y="965"/>
                  </a:lnTo>
                  <a:lnTo>
                    <a:pt x="1009" y="824"/>
                  </a:lnTo>
                  <a:lnTo>
                    <a:pt x="965" y="687"/>
                  </a:lnTo>
                  <a:lnTo>
                    <a:pt x="965" y="551"/>
                  </a:lnTo>
                  <a:lnTo>
                    <a:pt x="1009" y="410"/>
                  </a:lnTo>
                  <a:lnTo>
                    <a:pt x="1058" y="273"/>
                  </a:lnTo>
                  <a:lnTo>
                    <a:pt x="1102" y="136"/>
                  </a:lnTo>
                  <a:lnTo>
                    <a:pt x="1102" y="0"/>
                  </a:lnTo>
                  <a:lnTo>
                    <a:pt x="965" y="44"/>
                  </a:lnTo>
                  <a:lnTo>
                    <a:pt x="873" y="180"/>
                  </a:lnTo>
                  <a:lnTo>
                    <a:pt x="780" y="321"/>
                  </a:lnTo>
                  <a:lnTo>
                    <a:pt x="687" y="458"/>
                  </a:lnTo>
                  <a:lnTo>
                    <a:pt x="687" y="595"/>
                  </a:lnTo>
                  <a:lnTo>
                    <a:pt x="551" y="502"/>
                  </a:lnTo>
                  <a:lnTo>
                    <a:pt x="507" y="366"/>
                  </a:lnTo>
                  <a:lnTo>
                    <a:pt x="414" y="229"/>
                  </a:lnTo>
                  <a:lnTo>
                    <a:pt x="273" y="180"/>
                  </a:lnTo>
                  <a:lnTo>
                    <a:pt x="136" y="88"/>
                  </a:lnTo>
                  <a:lnTo>
                    <a:pt x="0" y="44"/>
                  </a:lnTo>
                  <a:lnTo>
                    <a:pt x="127" y="44"/>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a:off x="380880" y="6172200"/>
              <a:ext cx="1219320" cy="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5" name=""/>
            <p:cNvSpPr/>
            <p:nvPr/>
          </p:nvSpPr>
          <p:spPr>
            <a:xfrm>
              <a:off x="1736640" y="5180040"/>
              <a:ext cx="4351320" cy="64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6" name=""/>
            <p:cNvSpPr txBox="1"/>
            <p:nvPr/>
          </p:nvSpPr>
          <p:spPr>
            <a:xfrm>
              <a:off x="1660680" y="5865840"/>
              <a:ext cx="445464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Narrow"/>
                  <a:ea typeface="Arial Narrow"/>
                </a:rPr>
                <a:t>Paul’s Journey to Rome</a:t>
              </a:r>
              <a:endParaRPr b="0" lang="en-US" sz="3600" spc="-1" strike="noStrike">
                <a:solidFill>
                  <a:srgbClr val="000000"/>
                </a:solidFill>
                <a:latin typeface="Arial"/>
              </a:endParaRPr>
            </a:p>
          </p:txBody>
        </p:sp>
        <p:sp>
          <p:nvSpPr>
            <p:cNvPr id="767" name=""/>
            <p:cNvSpPr/>
            <p:nvPr/>
          </p:nvSpPr>
          <p:spPr>
            <a:xfrm>
              <a:off x="5797440" y="4419720"/>
              <a:ext cx="167040" cy="201960"/>
            </a:xfrm>
            <a:custGeom>
              <a:avLst/>
              <a:gdLst/>
              <a:ahLst/>
              <a:rect l="0" t="0" r="r" b="b"/>
              <a:pathLst>
                <a:path w="464" h="561">
                  <a:moveTo>
                    <a:pt x="406" y="0"/>
                  </a:moveTo>
                  <a:lnTo>
                    <a:pt x="229" y="101"/>
                  </a:lnTo>
                  <a:lnTo>
                    <a:pt x="92" y="145"/>
                  </a:lnTo>
                  <a:lnTo>
                    <a:pt x="0" y="287"/>
                  </a:lnTo>
                  <a:lnTo>
                    <a:pt x="48" y="424"/>
                  </a:lnTo>
                  <a:lnTo>
                    <a:pt x="92" y="561"/>
                  </a:lnTo>
                  <a:lnTo>
                    <a:pt x="229" y="561"/>
                  </a:lnTo>
                  <a:lnTo>
                    <a:pt x="322" y="424"/>
                  </a:lnTo>
                  <a:lnTo>
                    <a:pt x="415" y="287"/>
                  </a:lnTo>
                  <a:lnTo>
                    <a:pt x="415" y="145"/>
                  </a:lnTo>
                  <a:lnTo>
                    <a:pt x="464" y="8"/>
                  </a:lnTo>
                  <a:lnTo>
                    <a:pt x="406" y="0"/>
                  </a:lnTo>
                  <a:close/>
                </a:path>
              </a:pathLst>
            </a:custGeom>
            <a:solidFill>
              <a:srgbClr val="00ae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8" name=""/>
            <p:cNvSpPr txBox="1"/>
            <p:nvPr/>
          </p:nvSpPr>
          <p:spPr>
            <a:xfrm>
              <a:off x="5851440" y="4465800"/>
              <a:ext cx="205884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Jerusalem</a:t>
              </a:r>
              <a:endParaRPr b="0" lang="en-US" sz="3200" spc="-1" strike="noStrike">
                <a:solidFill>
                  <a:srgbClr val="000000"/>
                </a:solidFill>
                <a:latin typeface="Arial"/>
              </a:endParaRPr>
            </a:p>
          </p:txBody>
        </p:sp>
        <p:sp>
          <p:nvSpPr>
            <p:cNvPr id="769" name=""/>
            <p:cNvSpPr txBox="1"/>
            <p:nvPr/>
          </p:nvSpPr>
          <p:spPr>
            <a:xfrm>
              <a:off x="4784760" y="4937040"/>
              <a:ext cx="9637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gypt</a:t>
              </a:r>
              <a:endParaRPr b="0" lang="en-US" sz="2400" spc="-1" strike="noStrike">
                <a:solidFill>
                  <a:srgbClr val="000000"/>
                </a:solidFill>
                <a:latin typeface="Arial"/>
              </a:endParaRPr>
            </a:p>
          </p:txBody>
        </p:sp>
        <p:sp>
          <p:nvSpPr>
            <p:cNvPr id="770" name=""/>
            <p:cNvSpPr txBox="1"/>
            <p:nvPr/>
          </p:nvSpPr>
          <p:spPr>
            <a:xfrm>
              <a:off x="685800" y="608040"/>
              <a:ext cx="8381880" cy="1162080"/>
            </a:xfrm>
            <a:prstGeom prst="rect">
              <a:avLst/>
            </a:prstGeom>
            <a:noFill/>
            <a:ln w="0">
              <a:noFill/>
            </a:ln>
          </p:spPr>
          <p:txBody>
            <a:bodyPr lIns="0" rIns="0" tIns="0" bIns="0" anchor="t">
              <a:noAutofit/>
            </a:bodyPr>
            <a:p>
              <a:pPr algn="ctr">
                <a:lnSpc>
                  <a:spcPct val="100000"/>
                </a:lnSpc>
              </a:pPr>
              <a:r>
                <a:rPr b="1" lang="en-US" sz="6000" spc="-1" strike="noStrike" u="sng">
                  <a:solidFill>
                    <a:srgbClr val="f6bf69"/>
                  </a:solidFill>
                  <a:uFillTx/>
                  <a:latin typeface="Book Antiqua"/>
                  <a:ea typeface="Book Antiqua"/>
                </a:rPr>
                <a:t>Paul’s Journeys</a:t>
              </a:r>
              <a:endParaRPr b="0" lang="en-US" sz="6000" spc="-1" strike="noStrike">
                <a:solidFill>
                  <a:srgbClr val="000000"/>
                </a:solidFill>
                <a:latin typeface="Arial"/>
              </a:endParaRPr>
            </a:p>
          </p:txBody>
        </p:sp>
        <p:sp>
          <p:nvSpPr>
            <p:cNvPr id="771" name=""/>
            <p:cNvSpPr/>
            <p:nvPr/>
          </p:nvSpPr>
          <p:spPr>
            <a:xfrm>
              <a:off x="3048120" y="243828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2" name=""/>
            <p:cNvSpPr txBox="1"/>
            <p:nvPr/>
          </p:nvSpPr>
          <p:spPr>
            <a:xfrm>
              <a:off x="1584360" y="1979640"/>
              <a:ext cx="145404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Rome</a:t>
              </a:r>
              <a:endParaRPr b="0" lang="en-US" sz="3600" spc="-1" strike="noStrike">
                <a:solidFill>
                  <a:srgbClr val="000000"/>
                </a:solidFill>
                <a:latin typeface="Arial"/>
              </a:endParaRPr>
            </a:p>
          </p:txBody>
        </p:sp>
        <p:sp>
          <p:nvSpPr>
            <p:cNvPr id="773" name=""/>
            <p:cNvSpPr/>
            <p:nvPr/>
          </p:nvSpPr>
          <p:spPr>
            <a:xfrm>
              <a:off x="3216240" y="339876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txBox="1"/>
            <p:nvPr/>
          </p:nvSpPr>
          <p:spPr>
            <a:xfrm>
              <a:off x="4221000" y="2857680"/>
              <a:ext cx="151596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Corinth</a:t>
              </a:r>
              <a:endParaRPr b="0" lang="en-US" sz="3600" spc="-1" strike="noStrike">
                <a:solidFill>
                  <a:srgbClr val="000000"/>
                </a:solidFill>
                <a:latin typeface="Arial"/>
              </a:endParaRPr>
            </a:p>
          </p:txBody>
        </p:sp>
        <p:sp>
          <p:nvSpPr>
            <p:cNvPr id="775" name=""/>
            <p:cNvSpPr/>
            <p:nvPr/>
          </p:nvSpPr>
          <p:spPr>
            <a:xfrm>
              <a:off x="4191120" y="342900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txBox="1"/>
            <p:nvPr/>
          </p:nvSpPr>
          <p:spPr>
            <a:xfrm>
              <a:off x="6004080" y="3808440"/>
              <a:ext cx="1163520" cy="641520"/>
            </a:xfrm>
            <a:prstGeom prst="rect">
              <a:avLst/>
            </a:prstGeom>
            <a:noFill/>
            <a:ln w="0">
              <a:noFill/>
            </a:ln>
          </p:spPr>
          <p:txBody>
            <a:bodyPr lIns="0" rIns="0" tIns="0" bIns="0" anchor="t">
              <a:noAutofit/>
            </a:bodyPr>
            <a:p>
              <a:pPr>
                <a:lnSpc>
                  <a:spcPct val="100000"/>
                </a:lnSpc>
              </a:pPr>
              <a:r>
                <a:rPr b="1" lang="en-US" sz="3600" spc="-1" strike="noStrike">
                  <a:solidFill>
                    <a:srgbClr val="f6bf69"/>
                  </a:solidFill>
                  <a:latin typeface="Arial Narrow"/>
                  <a:ea typeface="Arial Narrow"/>
                </a:rPr>
                <a:t>Israel</a:t>
              </a:r>
              <a:endParaRPr b="0" lang="en-US" sz="3600" spc="-1" strike="noStrike">
                <a:solidFill>
                  <a:srgbClr val="000000"/>
                </a:solidFill>
                <a:latin typeface="Arial"/>
              </a:endParaRPr>
            </a:p>
          </p:txBody>
        </p:sp>
        <p:sp>
          <p:nvSpPr>
            <p:cNvPr id="777" name=""/>
            <p:cNvSpPr/>
            <p:nvPr/>
          </p:nvSpPr>
          <p:spPr>
            <a:xfrm flipH="1">
              <a:off x="5923080" y="3805200"/>
              <a:ext cx="75960" cy="15228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8" name=""/>
            <p:cNvSpPr/>
            <p:nvPr/>
          </p:nvSpPr>
          <p:spPr>
            <a:xfrm flipH="1" flipV="1">
              <a:off x="6004080" y="3800520"/>
              <a:ext cx="126720" cy="92160"/>
            </a:xfrm>
            <a:prstGeom prst="line">
              <a:avLst/>
            </a:prstGeom>
            <a:ln w="38160">
              <a:solidFill>
                <a:srgbClr val="fafd00"/>
              </a:solidFill>
              <a:round/>
            </a:ln>
          </p:spPr>
          <p:style>
            <a:lnRef idx="0"/>
            <a:fillRef idx="0"/>
            <a:effectRef idx="0"/>
            <a:fontRef idx="minor"/>
          </p:style>
          <p:txBody>
            <a:bodyPr lIns="109080" rIns="109080" tIns="28080" bIns="28080" anchor="t">
              <a:noAutofit/>
            </a:bodyPr>
            <a:p>
              <a:endParaRPr b="0" lang="en-US" sz="1800" spc="-1" strike="noStrike">
                <a:solidFill>
                  <a:srgbClr val="000000"/>
                </a:solidFill>
                <a:latin typeface="Arial"/>
              </a:endParaRPr>
            </a:p>
          </p:txBody>
        </p:sp>
        <p:sp>
          <p:nvSpPr>
            <p:cNvPr id="779" name=""/>
            <p:cNvSpPr/>
            <p:nvPr/>
          </p:nvSpPr>
          <p:spPr>
            <a:xfrm flipH="1">
              <a:off x="4600440" y="3733920"/>
              <a:ext cx="123840" cy="13176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0" name=""/>
            <p:cNvSpPr/>
            <p:nvPr/>
          </p:nvSpPr>
          <p:spPr>
            <a:xfrm>
              <a:off x="4629240" y="3855960"/>
              <a:ext cx="136440" cy="74520"/>
            </a:xfrm>
            <a:prstGeom prst="line">
              <a:avLst/>
            </a:prstGeom>
            <a:ln w="38160">
              <a:solidFill>
                <a:srgbClr val="fafd00"/>
              </a:solidFill>
              <a:round/>
            </a:ln>
          </p:spPr>
          <p:style>
            <a:lnRef idx="0"/>
            <a:fillRef idx="0"/>
            <a:effectRef idx="0"/>
            <a:fontRef idx="minor"/>
          </p:style>
          <p:txBody>
            <a:bodyPr lIns="109080" rIns="109080" tIns="10440" bIns="10440" anchor="t">
              <a:noAutofit/>
            </a:bodyPr>
            <a:p>
              <a:endParaRPr b="0" lang="en-US" sz="1800" spc="-1" strike="noStrike">
                <a:solidFill>
                  <a:srgbClr val="000000"/>
                </a:solidFill>
                <a:latin typeface="Arial"/>
              </a:endParaRPr>
            </a:p>
          </p:txBody>
        </p:sp>
        <p:sp>
          <p:nvSpPr>
            <p:cNvPr id="781" name=""/>
            <p:cNvSpPr txBox="1"/>
            <p:nvPr/>
          </p:nvSpPr>
          <p:spPr>
            <a:xfrm>
              <a:off x="3968640" y="4076640"/>
              <a:ext cx="185112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Caesarea</a:t>
              </a:r>
              <a:endParaRPr b="0" lang="en-US" sz="3600" spc="-1" strike="noStrike">
                <a:solidFill>
                  <a:srgbClr val="000000"/>
                </a:solidFill>
                <a:latin typeface="Arial"/>
              </a:endParaRPr>
            </a:p>
          </p:txBody>
        </p:sp>
        <p:sp>
          <p:nvSpPr>
            <p:cNvPr id="782" name=""/>
            <p:cNvSpPr/>
            <p:nvPr/>
          </p:nvSpPr>
          <p:spPr>
            <a:xfrm>
              <a:off x="5734080" y="426240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3130560" y="2584440"/>
              <a:ext cx="2932560" cy="1756080"/>
            </a:xfrm>
            <a:custGeom>
              <a:avLst/>
              <a:gdLst/>
              <a:ahLst/>
              <a:rect l="0" t="0" r="r" b="b"/>
              <a:pathLst>
                <a:path fill="none" w="8146" h="4878">
                  <a:moveTo>
                    <a:pt x="7502" y="4878"/>
                  </a:moveTo>
                  <a:lnTo>
                    <a:pt x="7502" y="4507"/>
                  </a:lnTo>
                  <a:lnTo>
                    <a:pt x="7547" y="4371"/>
                  </a:lnTo>
                  <a:lnTo>
                    <a:pt x="7595" y="4234"/>
                  </a:lnTo>
                  <a:lnTo>
                    <a:pt x="7732" y="4185"/>
                  </a:lnTo>
                  <a:lnTo>
                    <a:pt x="7873" y="4141"/>
                  </a:lnTo>
                  <a:lnTo>
                    <a:pt x="8010" y="4141"/>
                  </a:lnTo>
                  <a:lnTo>
                    <a:pt x="8146" y="4185"/>
                  </a:lnTo>
                  <a:lnTo>
                    <a:pt x="8102" y="4049"/>
                  </a:lnTo>
                  <a:lnTo>
                    <a:pt x="8102" y="3912"/>
                  </a:lnTo>
                  <a:lnTo>
                    <a:pt x="8054" y="3771"/>
                  </a:lnTo>
                  <a:lnTo>
                    <a:pt x="8054" y="3634"/>
                  </a:lnTo>
                  <a:lnTo>
                    <a:pt x="8010" y="3497"/>
                  </a:lnTo>
                  <a:lnTo>
                    <a:pt x="8010" y="3361"/>
                  </a:lnTo>
                  <a:lnTo>
                    <a:pt x="7917" y="3220"/>
                  </a:lnTo>
                  <a:lnTo>
                    <a:pt x="7780" y="3083"/>
                  </a:lnTo>
                  <a:lnTo>
                    <a:pt x="7639" y="3083"/>
                  </a:lnTo>
                  <a:lnTo>
                    <a:pt x="7502" y="3083"/>
                  </a:lnTo>
                  <a:lnTo>
                    <a:pt x="7366" y="3083"/>
                  </a:lnTo>
                  <a:lnTo>
                    <a:pt x="7225" y="3083"/>
                  </a:lnTo>
                  <a:lnTo>
                    <a:pt x="7088" y="3083"/>
                  </a:lnTo>
                  <a:lnTo>
                    <a:pt x="6951" y="3083"/>
                  </a:lnTo>
                  <a:lnTo>
                    <a:pt x="6815" y="3083"/>
                  </a:lnTo>
                  <a:lnTo>
                    <a:pt x="6673" y="3039"/>
                  </a:lnTo>
                  <a:lnTo>
                    <a:pt x="6537" y="2990"/>
                  </a:lnTo>
                  <a:lnTo>
                    <a:pt x="6400" y="2990"/>
                  </a:lnTo>
                  <a:lnTo>
                    <a:pt x="6259" y="2946"/>
                  </a:lnTo>
                  <a:lnTo>
                    <a:pt x="6122" y="2854"/>
                  </a:lnTo>
                  <a:lnTo>
                    <a:pt x="5984" y="2805"/>
                  </a:lnTo>
                  <a:lnTo>
                    <a:pt x="5843" y="2761"/>
                  </a:lnTo>
                  <a:lnTo>
                    <a:pt x="5707" y="2712"/>
                  </a:lnTo>
                  <a:lnTo>
                    <a:pt x="5570" y="2712"/>
                  </a:lnTo>
                  <a:lnTo>
                    <a:pt x="5429" y="2805"/>
                  </a:lnTo>
                  <a:lnTo>
                    <a:pt x="5341" y="2946"/>
                  </a:lnTo>
                  <a:lnTo>
                    <a:pt x="5200" y="3039"/>
                  </a:lnTo>
                  <a:lnTo>
                    <a:pt x="5063" y="3127"/>
                  </a:lnTo>
                  <a:lnTo>
                    <a:pt x="4926" y="3220"/>
                  </a:lnTo>
                  <a:lnTo>
                    <a:pt x="4785" y="3312"/>
                  </a:lnTo>
                  <a:lnTo>
                    <a:pt x="4648" y="3405"/>
                  </a:lnTo>
                  <a:lnTo>
                    <a:pt x="4512" y="3449"/>
                  </a:lnTo>
                  <a:lnTo>
                    <a:pt x="4371" y="3449"/>
                  </a:lnTo>
                  <a:lnTo>
                    <a:pt x="4234" y="3497"/>
                  </a:lnTo>
                  <a:lnTo>
                    <a:pt x="4097" y="3542"/>
                  </a:lnTo>
                  <a:lnTo>
                    <a:pt x="3960" y="3542"/>
                  </a:lnTo>
                  <a:lnTo>
                    <a:pt x="3819" y="3542"/>
                  </a:lnTo>
                  <a:lnTo>
                    <a:pt x="3683" y="3497"/>
                  </a:lnTo>
                  <a:lnTo>
                    <a:pt x="3546" y="3449"/>
                  </a:lnTo>
                  <a:lnTo>
                    <a:pt x="3405" y="3405"/>
                  </a:lnTo>
                  <a:lnTo>
                    <a:pt x="3268" y="3361"/>
                  </a:lnTo>
                  <a:lnTo>
                    <a:pt x="3131" y="3268"/>
                  </a:lnTo>
                  <a:lnTo>
                    <a:pt x="2990" y="3220"/>
                  </a:lnTo>
                  <a:lnTo>
                    <a:pt x="2624" y="3176"/>
                  </a:lnTo>
                  <a:lnTo>
                    <a:pt x="2302" y="3176"/>
                  </a:lnTo>
                  <a:lnTo>
                    <a:pt x="1887" y="3127"/>
                  </a:lnTo>
                  <a:lnTo>
                    <a:pt x="1521" y="3083"/>
                  </a:lnTo>
                  <a:lnTo>
                    <a:pt x="1150" y="3039"/>
                  </a:lnTo>
                  <a:lnTo>
                    <a:pt x="829" y="2990"/>
                  </a:lnTo>
                  <a:lnTo>
                    <a:pt x="692" y="2990"/>
                  </a:lnTo>
                  <a:lnTo>
                    <a:pt x="551" y="2946"/>
                  </a:lnTo>
                  <a:lnTo>
                    <a:pt x="507" y="2805"/>
                  </a:lnTo>
                  <a:lnTo>
                    <a:pt x="551" y="2668"/>
                  </a:lnTo>
                  <a:lnTo>
                    <a:pt x="599" y="2532"/>
                  </a:lnTo>
                  <a:lnTo>
                    <a:pt x="599" y="2390"/>
                  </a:lnTo>
                  <a:lnTo>
                    <a:pt x="599" y="2253"/>
                  </a:lnTo>
                  <a:lnTo>
                    <a:pt x="599" y="2116"/>
                  </a:lnTo>
                  <a:lnTo>
                    <a:pt x="463" y="2024"/>
                  </a:lnTo>
                  <a:lnTo>
                    <a:pt x="414" y="1887"/>
                  </a:lnTo>
                  <a:lnTo>
                    <a:pt x="414" y="1746"/>
                  </a:lnTo>
                  <a:lnTo>
                    <a:pt x="414" y="1609"/>
                  </a:lnTo>
                  <a:lnTo>
                    <a:pt x="370" y="1472"/>
                  </a:lnTo>
                  <a:lnTo>
                    <a:pt x="277" y="1331"/>
                  </a:lnTo>
                  <a:lnTo>
                    <a:pt x="136" y="1243"/>
                  </a:lnTo>
                  <a:lnTo>
                    <a:pt x="48" y="1102"/>
                  </a:lnTo>
                  <a:lnTo>
                    <a:pt x="0" y="965"/>
                  </a:lnTo>
                  <a:lnTo>
                    <a:pt x="0" y="829"/>
                  </a:lnTo>
                  <a:lnTo>
                    <a:pt x="48" y="687"/>
                  </a:lnTo>
                  <a:lnTo>
                    <a:pt x="136" y="551"/>
                  </a:lnTo>
                  <a:lnTo>
                    <a:pt x="185" y="414"/>
                  </a:lnTo>
                  <a:lnTo>
                    <a:pt x="185" y="273"/>
                  </a:lnTo>
                  <a:lnTo>
                    <a:pt x="92" y="136"/>
                  </a:lnTo>
                  <a:lnTo>
                    <a:pt x="0" y="0"/>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84" name=""/>
            <p:cNvSpPr txBox="1"/>
            <p:nvPr/>
          </p:nvSpPr>
          <p:spPr>
            <a:xfrm>
              <a:off x="2068560" y="3060720"/>
              <a:ext cx="2309760" cy="1190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Malta</a:t>
              </a:r>
              <a:endParaRPr b="0" lang="en-US" sz="3600" spc="-1" strike="noStrike">
                <a:solidFill>
                  <a:srgbClr val="000000"/>
                </a:solidFill>
                <a:latin typeface="Arial"/>
              </a:endParaRPr>
            </a:p>
            <a:p>
              <a:pPr>
                <a:lnSpc>
                  <a:spcPct val="100000"/>
                </a:lnSpc>
              </a:pPr>
              <a:r>
                <a:rPr b="1" lang="en-US" sz="3600" spc="-1" strike="noStrike">
                  <a:solidFill>
                    <a:srgbClr val="fafd00"/>
                  </a:solidFill>
                  <a:latin typeface="Arial Narrow"/>
                  <a:ea typeface="Arial Narrow"/>
                </a:rPr>
                <a:t>(Shipwreck)</a:t>
              </a:r>
              <a:endParaRPr b="0" lang="en-US" sz="3600" spc="-1" strike="noStrike">
                <a:solidFill>
                  <a:srgbClr val="000000"/>
                </a:solidFill>
                <a:latin typeface="Arial"/>
              </a:endParaRPr>
            </a:p>
          </p:txBody>
        </p:sp>
        <p:sp>
          <p:nvSpPr>
            <p:cNvPr id="785" name=""/>
            <p:cNvSpPr txBox="1"/>
            <p:nvPr/>
          </p:nvSpPr>
          <p:spPr>
            <a:xfrm>
              <a:off x="60480" y="647712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786" name=""/>
          <p:cNvGrpSpPr/>
          <p:nvPr/>
        </p:nvGrpSpPr>
        <p:grpSpPr>
          <a:xfrm>
            <a:off x="0" y="0"/>
            <a:ext cx="9068040" cy="6843600"/>
            <a:chOff x="0" y="0"/>
            <a:chExt cx="9068040" cy="6843600"/>
          </a:xfrm>
        </p:grpSpPr>
        <p:sp>
          <p:nvSpPr>
            <p:cNvPr id="787" name=""/>
            <p:cNvSpPr txBox="1"/>
            <p:nvPr/>
          </p:nvSpPr>
          <p:spPr>
            <a:xfrm>
              <a:off x="685800" y="590400"/>
              <a:ext cx="8381880" cy="1162080"/>
            </a:xfrm>
            <a:prstGeom prst="rect">
              <a:avLst/>
            </a:prstGeom>
            <a:noFill/>
            <a:ln w="0">
              <a:noFill/>
            </a:ln>
          </p:spPr>
          <p:txBody>
            <a:bodyPr lIns="0" rIns="0" tIns="0" bIns="0" anchor="t">
              <a:noAutofit/>
            </a:bodyPr>
            <a:p>
              <a:pPr algn="ctr">
                <a:lnSpc>
                  <a:spcPct val="100000"/>
                </a:lnSpc>
              </a:pPr>
              <a:r>
                <a:rPr b="1" lang="en-US" sz="5400" spc="-1" strike="noStrike" u="sng">
                  <a:solidFill>
                    <a:srgbClr val="c0fef9"/>
                  </a:solidFill>
                  <a:uFillTx/>
                  <a:latin typeface="Book Antiqua"/>
                  <a:ea typeface="Book Antiqua"/>
                </a:rPr>
                <a:t>Click to add title</a:t>
              </a:r>
              <a:endParaRPr b="0" lang="en-US" sz="5400" spc="-1" strike="noStrike">
                <a:solidFill>
                  <a:srgbClr val="000000"/>
                </a:solidFill>
                <a:latin typeface="Arial"/>
              </a:endParaRPr>
            </a:p>
          </p:txBody>
        </p:sp>
        <p:sp>
          <p:nvSpPr>
            <p:cNvPr id="788" name=""/>
            <p:cNvSpPr txBox="1"/>
            <p:nvPr/>
          </p:nvSpPr>
          <p:spPr>
            <a:xfrm>
              <a:off x="762120" y="1981080"/>
              <a:ext cx="8305920" cy="4133880"/>
            </a:xfrm>
            <a:prstGeom prst="rect">
              <a:avLst/>
            </a:prstGeom>
            <a:noFill/>
            <a:ln w="0">
              <a:noFill/>
            </a:ln>
          </p:spPr>
          <p:txBody>
            <a:bodyPr lIns="0" rIns="0" tIns="0" bIns="0" anchor="t">
              <a:noAutofit/>
            </a:bodyPr>
            <a:p>
              <a:pPr marL="343080" indent="-343080">
                <a:lnSpc>
                  <a:spcPct val="100000"/>
                </a:lnSpc>
                <a:spcBef>
                  <a:spcPts val="479"/>
                </a:spcBef>
                <a:buClr>
                  <a:srgbClr val="c0fef9"/>
                </a:buClr>
                <a:buFont typeface="Monotype Sorts"/>
                <a:buChar char=""/>
              </a:pPr>
              <a:r>
                <a:rPr b="1" lang="en-US" sz="3600" spc="-1" strike="noStrike">
                  <a:solidFill>
                    <a:srgbClr val="ffffff"/>
                  </a:solidFill>
                  <a:latin typeface="Arial"/>
                  <a:ea typeface="Arial"/>
                </a:rPr>
                <a:t>Click to add text</a:t>
              </a:r>
              <a:endParaRPr b="0" lang="en-US" sz="3600" spc="-1" strike="noStrike">
                <a:solidFill>
                  <a:srgbClr val="000000"/>
                </a:solidFill>
                <a:latin typeface="Arial"/>
              </a:endParaRPr>
            </a:p>
          </p:txBody>
        </p:sp>
        <p:sp>
          <p:nvSpPr>
            <p:cNvPr id="789" name=""/>
            <p:cNvSpPr txBox="1"/>
            <p:nvPr/>
          </p:nvSpPr>
          <p:spPr>
            <a:xfrm>
              <a:off x="8153280" y="762120"/>
              <a:ext cx="762120" cy="548640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C</a:t>
              </a:r>
              <a:br>
                <a:rPr sz="3600"/>
              </a:br>
              <a:r>
                <a:rPr b="1" lang="en-US" sz="3600" spc="-1" strike="noStrike">
                  <a:solidFill>
                    <a:srgbClr val="fafd00"/>
                  </a:solidFill>
                  <a:latin typeface="Arial"/>
                  <a:ea typeface="Arial"/>
                </a:rPr>
                <a:t>O</a:t>
              </a:r>
              <a:br>
                <a:rPr sz="3600"/>
              </a:br>
              <a:r>
                <a:rPr b="1" lang="en-US" sz="3600" spc="-1" strike="noStrike">
                  <a:solidFill>
                    <a:srgbClr val="fafd00"/>
                  </a:solidFill>
                  <a:latin typeface="Arial"/>
                  <a:ea typeface="Arial"/>
                </a:rPr>
                <a:t>R</a:t>
              </a:r>
              <a:br>
                <a:rPr sz="3600"/>
              </a:br>
              <a:r>
                <a:rPr b="1" lang="en-US" sz="3600" spc="-1" strike="noStrike">
                  <a:solidFill>
                    <a:srgbClr val="fafd00"/>
                  </a:solidFill>
                  <a:latin typeface="Arial"/>
                  <a:ea typeface="Arial"/>
                </a:rPr>
                <a:t>I</a:t>
              </a:r>
              <a:br>
                <a:rPr sz="3600"/>
              </a:br>
              <a:r>
                <a:rPr b="1" lang="en-US" sz="3600" spc="-1" strike="noStrike">
                  <a:solidFill>
                    <a:srgbClr val="fafd00"/>
                  </a:solidFill>
                  <a:latin typeface="Arial"/>
                  <a:ea typeface="Arial"/>
                </a:rPr>
                <a:t>N</a:t>
              </a:r>
              <a:br>
                <a:rPr sz="3600"/>
              </a:br>
              <a:r>
                <a:rPr b="1" lang="en-US" sz="3600" spc="-1" strike="noStrike">
                  <a:solidFill>
                    <a:srgbClr val="fafd00"/>
                  </a:solidFill>
                  <a:latin typeface="Arial"/>
                  <a:ea typeface="Arial"/>
                </a:rPr>
                <a:t>T</a:t>
              </a:r>
              <a:br>
                <a:rPr sz="3600"/>
              </a:br>
              <a:r>
                <a:rPr b="1" lang="en-US" sz="3600" spc="-1" strike="noStrike">
                  <a:solidFill>
                    <a:srgbClr val="fafd00"/>
                  </a:solidFill>
                  <a:latin typeface="Arial"/>
                  <a:ea typeface="Arial"/>
                </a:rPr>
                <a:t>H --- A T H E NS</a:t>
              </a:r>
              <a:endParaRPr b="0" lang="en-US" sz="3600" spc="-1" strike="noStrike">
                <a:solidFill>
                  <a:srgbClr val="000000"/>
                </a:solidFill>
                <a:latin typeface="Arial"/>
              </a:endParaRPr>
            </a:p>
          </p:txBody>
        </p:sp>
        <p:sp>
          <p:nvSpPr>
            <p:cNvPr id="790" name=""/>
            <p:cNvSpPr/>
            <p:nvPr/>
          </p:nvSpPr>
          <p:spPr>
            <a:xfrm>
              <a:off x="8153280" y="231840"/>
              <a:ext cx="838080" cy="6410160"/>
            </a:xfrm>
            <a:prstGeom prst="rect">
              <a:avLst/>
            </a:prstGeom>
            <a:noFill/>
            <a:ln w="76320">
              <a:solidFill>
                <a:srgbClr val="fafd00"/>
              </a:solidFill>
              <a:round/>
            </a:ln>
          </p:spPr>
          <p:txBody>
            <a:bodyPr lIns="128160" rIns="128160" tIns="83160" bIns="83160" anchor="t">
              <a:noAutofit/>
            </a:bodyPr>
            <a:p>
              <a:endParaRPr b="0" lang="en-US" sz="1800" spc="-1" strike="noStrike">
                <a:solidFill>
                  <a:srgbClr val="000000"/>
                </a:solidFill>
                <a:latin typeface="Arial"/>
              </a:endParaRPr>
            </a:p>
          </p:txBody>
        </p:sp>
        <p:pic>
          <p:nvPicPr>
            <p:cNvPr id="791" name="" descr=""/>
            <p:cNvPicPr/>
            <p:nvPr/>
          </p:nvPicPr>
          <p:blipFill>
            <a:blip r:embed="rId1"/>
            <a:stretch/>
          </p:blipFill>
          <p:spPr>
            <a:xfrm>
              <a:off x="0" y="0"/>
              <a:ext cx="7985160" cy="6843600"/>
            </a:xfrm>
            <a:prstGeom prst="rect">
              <a:avLst/>
            </a:prstGeom>
            <a:ln w="0">
              <a:noFill/>
            </a:ln>
          </p:spPr>
        </p:pic>
        <p:sp>
          <p:nvSpPr>
            <p:cNvPr id="792" name=""/>
            <p:cNvSpPr txBox="1"/>
            <p:nvPr/>
          </p:nvSpPr>
          <p:spPr>
            <a:xfrm>
              <a:off x="2117880" y="3732120"/>
              <a:ext cx="1582560" cy="64152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a:ea typeface="Arial"/>
                </a:rPr>
                <a:t>Achaia</a:t>
              </a:r>
              <a:endParaRPr b="0" lang="en-US" sz="3600" spc="-1" strike="noStrike">
                <a:solidFill>
                  <a:srgbClr val="000000"/>
                </a:solidFill>
                <a:latin typeface="Arial"/>
              </a:endParaRPr>
            </a:p>
          </p:txBody>
        </p:sp>
        <p:sp>
          <p:nvSpPr>
            <p:cNvPr id="793" name=""/>
            <p:cNvSpPr/>
            <p:nvPr/>
          </p:nvSpPr>
          <p:spPr>
            <a:xfrm>
              <a:off x="4641840" y="281304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4" name=""/>
            <p:cNvSpPr txBox="1"/>
            <p:nvPr/>
          </p:nvSpPr>
          <p:spPr>
            <a:xfrm>
              <a:off x="2529000" y="2714760"/>
              <a:ext cx="2249640" cy="824040"/>
            </a:xfrm>
            <a:prstGeom prst="rect">
              <a:avLst/>
            </a:prstGeom>
            <a:noFill/>
            <a:ln w="0">
              <a:noFill/>
            </a:ln>
          </p:spPr>
          <p:txBody>
            <a:bodyPr lIns="0" rIns="0" tIns="0" bIns="0" anchor="t">
              <a:noAutofit/>
            </a:bodyPr>
            <a:p>
              <a:pPr>
                <a:lnSpc>
                  <a:spcPct val="100000"/>
                </a:lnSpc>
              </a:pPr>
              <a:r>
                <a:rPr b="1" lang="en-US" sz="4800" spc="-1" strike="noStrike">
                  <a:solidFill>
                    <a:srgbClr val="fafd00"/>
                  </a:solidFill>
                  <a:latin typeface="Times New Roman"/>
                  <a:ea typeface="Times New Roman"/>
                </a:rPr>
                <a:t>Corinth</a:t>
              </a:r>
              <a:endParaRPr b="0" lang="en-US" sz="4800" spc="-1" strike="noStrike">
                <a:solidFill>
                  <a:srgbClr val="000000"/>
                </a:solidFill>
                <a:latin typeface="Arial"/>
              </a:endParaRPr>
            </a:p>
          </p:txBody>
        </p:sp>
        <p:sp>
          <p:nvSpPr>
            <p:cNvPr id="795" name=""/>
            <p:cNvSpPr txBox="1"/>
            <p:nvPr/>
          </p:nvSpPr>
          <p:spPr>
            <a:xfrm>
              <a:off x="2879640" y="639720"/>
              <a:ext cx="2328840" cy="701640"/>
            </a:xfrm>
            <a:prstGeom prst="rect">
              <a:avLst/>
            </a:prstGeom>
            <a:noFill/>
            <a:ln w="0">
              <a:noFill/>
            </a:ln>
          </p:spPr>
          <p:txBody>
            <a:bodyPr lIns="0" rIns="0" tIns="0" bIns="0" anchor="t">
              <a:noAutofit/>
            </a:bodyPr>
            <a:p>
              <a:pPr>
                <a:lnSpc>
                  <a:spcPct val="100000"/>
                </a:lnSpc>
              </a:pPr>
              <a:r>
                <a:rPr b="0" lang="en-US" sz="4000" spc="-1" strike="noStrike">
                  <a:solidFill>
                    <a:srgbClr val="ffffff"/>
                  </a:solidFill>
                  <a:latin typeface="Arial"/>
                  <a:ea typeface="Arial"/>
                </a:rPr>
                <a:t>GREECE</a:t>
              </a:r>
              <a:endParaRPr b="0" lang="en-US" sz="4000" spc="-1" strike="noStrike">
                <a:solidFill>
                  <a:srgbClr val="000000"/>
                </a:solidFill>
                <a:latin typeface="Arial"/>
              </a:endParaRPr>
            </a:p>
          </p:txBody>
        </p:sp>
        <p:sp>
          <p:nvSpPr>
            <p:cNvPr id="796" name=""/>
            <p:cNvSpPr txBox="1"/>
            <p:nvPr/>
          </p:nvSpPr>
          <p:spPr>
            <a:xfrm>
              <a:off x="5699160" y="3246480"/>
              <a:ext cx="242100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Aegean Sea</a:t>
              </a:r>
              <a:endParaRPr b="0" lang="en-US" sz="3200" spc="-1" strike="noStrike">
                <a:solidFill>
                  <a:srgbClr val="000000"/>
                </a:solidFill>
                <a:latin typeface="Arial"/>
              </a:endParaRPr>
            </a:p>
          </p:txBody>
        </p:sp>
        <p:sp>
          <p:nvSpPr>
            <p:cNvPr id="797" name=""/>
            <p:cNvSpPr/>
            <p:nvPr/>
          </p:nvSpPr>
          <p:spPr>
            <a:xfrm>
              <a:off x="6380280" y="2556000"/>
              <a:ext cx="228960" cy="152640"/>
            </a:xfrm>
            <a:custGeom>
              <a:avLst/>
              <a:gdLst/>
              <a:ahLst/>
              <a:rect l="0" t="0" r="r" b="b"/>
              <a:pathLst>
                <a:path w="636" h="424">
                  <a:moveTo>
                    <a:pt x="317" y="0"/>
                  </a:moveTo>
                  <a:lnTo>
                    <a:pt x="243" y="162"/>
                  </a:lnTo>
                  <a:lnTo>
                    <a:pt x="0" y="162"/>
                  </a:lnTo>
                  <a:lnTo>
                    <a:pt x="197" y="263"/>
                  </a:lnTo>
                  <a:lnTo>
                    <a:pt x="123" y="424"/>
                  </a:lnTo>
                  <a:lnTo>
                    <a:pt x="317" y="331"/>
                  </a:lnTo>
                  <a:lnTo>
                    <a:pt x="512" y="424"/>
                  </a:lnTo>
                  <a:lnTo>
                    <a:pt x="437" y="263"/>
                  </a:lnTo>
                  <a:lnTo>
                    <a:pt x="636" y="161"/>
                  </a:lnTo>
                  <a:lnTo>
                    <a:pt x="392" y="161"/>
                  </a:lnTo>
                  <a:lnTo>
                    <a:pt x="317" y="0"/>
                  </a:lnTo>
                  <a:close/>
                </a:path>
              </a:pathLst>
            </a:cu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txBox="1"/>
            <p:nvPr/>
          </p:nvSpPr>
          <p:spPr>
            <a:xfrm>
              <a:off x="6110280" y="1736640"/>
              <a:ext cx="1860480" cy="762120"/>
            </a:xfrm>
            <a:prstGeom prst="rect">
              <a:avLst/>
            </a:prstGeom>
            <a:noFill/>
            <a:ln w="0">
              <a:noFill/>
            </a:ln>
          </p:spPr>
          <p:txBody>
            <a:bodyPr lIns="0" rIns="0" tIns="0" bIns="0" anchor="t">
              <a:noAutofit/>
            </a:bodyPr>
            <a:p>
              <a:pPr>
                <a:lnSpc>
                  <a:spcPct val="100000"/>
                </a:lnSpc>
              </a:pPr>
              <a:r>
                <a:rPr b="1" lang="en-US" sz="4400" spc="-1" strike="noStrike">
                  <a:solidFill>
                    <a:srgbClr val="fafd00"/>
                  </a:solidFill>
                  <a:latin typeface="Times New Roman"/>
                  <a:ea typeface="Times New Roman"/>
                </a:rPr>
                <a:t>Athens</a:t>
              </a:r>
              <a:endParaRPr b="0" lang="en-US" sz="4400" spc="-1" strike="noStrike">
                <a:solidFill>
                  <a:srgbClr val="000000"/>
                </a:solidFill>
                <a:latin typeface="Arial"/>
              </a:endParaRPr>
            </a:p>
          </p:txBody>
        </p:sp>
        <p:sp>
          <p:nvSpPr>
            <p:cNvPr id="799" name=""/>
            <p:cNvSpPr txBox="1"/>
            <p:nvPr/>
          </p:nvSpPr>
          <p:spPr>
            <a:xfrm>
              <a:off x="3794040" y="6018120"/>
              <a:ext cx="4073400" cy="64152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a:ea typeface="Arial"/>
                </a:rPr>
                <a:t>Mediterranean Sea</a:t>
              </a:r>
              <a:endParaRPr b="0" lang="en-US" sz="3600" spc="-1" strike="noStrike">
                <a:solidFill>
                  <a:srgbClr val="000000"/>
                </a:solidFill>
                <a:latin typeface="Arial"/>
              </a:endParaRPr>
            </a:p>
          </p:txBody>
        </p:sp>
        <p:sp>
          <p:nvSpPr>
            <p:cNvPr id="800" name=""/>
            <p:cNvSpPr txBox="1"/>
            <p:nvPr/>
          </p:nvSpPr>
          <p:spPr>
            <a:xfrm>
              <a:off x="5900760" y="6502320"/>
              <a:ext cx="186228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Photo Courtesy of NASA</a:t>
              </a:r>
              <a:endParaRPr b="0" lang="en-US" sz="1200" spc="-1" strike="noStrike">
                <a:solidFill>
                  <a:srgbClr val="000000"/>
                </a:solidFill>
                <a:latin typeface="Arial"/>
              </a:endParaRPr>
            </a:p>
          </p:txBody>
        </p:sp>
        <p:sp>
          <p:nvSpPr>
            <p:cNvPr id="801" name=""/>
            <p:cNvSpPr txBox="1"/>
            <p:nvPr/>
          </p:nvSpPr>
          <p:spPr>
            <a:xfrm>
              <a:off x="87480" y="6407280"/>
              <a:ext cx="15145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EBibleTeacher.co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802" name=""/>
          <p:cNvGrpSpPr/>
          <p:nvPr/>
        </p:nvGrpSpPr>
        <p:grpSpPr>
          <a:xfrm>
            <a:off x="0" y="498600"/>
            <a:ext cx="9067680" cy="6346800"/>
            <a:chOff x="0" y="498600"/>
            <a:chExt cx="9067680" cy="6346800"/>
          </a:xfrm>
        </p:grpSpPr>
        <p:pic>
          <p:nvPicPr>
            <p:cNvPr id="803" name="" descr=""/>
            <p:cNvPicPr/>
            <p:nvPr/>
          </p:nvPicPr>
          <p:blipFill>
            <a:blip r:embed="rId1"/>
            <a:stretch/>
          </p:blipFill>
          <p:spPr>
            <a:xfrm>
              <a:off x="0" y="498600"/>
              <a:ext cx="8786880" cy="6346800"/>
            </a:xfrm>
            <a:prstGeom prst="rect">
              <a:avLst/>
            </a:prstGeom>
            <a:ln w="0">
              <a:noFill/>
            </a:ln>
          </p:spPr>
        </p:pic>
        <p:sp>
          <p:nvSpPr>
            <p:cNvPr id="804" name=""/>
            <p:cNvSpPr txBox="1"/>
            <p:nvPr/>
          </p:nvSpPr>
          <p:spPr>
            <a:xfrm>
              <a:off x="685800" y="590400"/>
              <a:ext cx="8381880" cy="1162080"/>
            </a:xfrm>
            <a:prstGeom prst="rect">
              <a:avLst/>
            </a:prstGeom>
            <a:noFill/>
            <a:ln w="0">
              <a:noFill/>
            </a:ln>
          </p:spPr>
          <p:txBody>
            <a:bodyPr lIns="0" rIns="0" tIns="0" bIns="0" anchor="t">
              <a:noAutofit/>
            </a:bodyPr>
            <a:p>
              <a:pPr algn="ctr">
                <a:lnSpc>
                  <a:spcPct val="100000"/>
                </a:lnSpc>
              </a:pPr>
              <a:r>
                <a:rPr b="1" lang="en-US" sz="5400" spc="-1" strike="noStrike" u="sng">
                  <a:solidFill>
                    <a:srgbClr val="ffffff"/>
                  </a:solidFill>
                  <a:uFillTx/>
                  <a:latin typeface="Book Antiqua"/>
                  <a:ea typeface="Book Antiqua"/>
                </a:rPr>
                <a:t>7 Churches of Asia</a:t>
              </a:r>
              <a:endParaRPr b="0" lang="en-US" sz="5400" spc="-1" strike="noStrike">
                <a:solidFill>
                  <a:srgbClr val="000000"/>
                </a:solidFill>
                <a:latin typeface="Arial"/>
              </a:endParaRPr>
            </a:p>
          </p:txBody>
        </p:sp>
        <p:sp>
          <p:nvSpPr>
            <p:cNvPr id="805" name=""/>
            <p:cNvSpPr/>
            <p:nvPr/>
          </p:nvSpPr>
          <p:spPr>
            <a:xfrm>
              <a:off x="106200" y="2514600"/>
              <a:ext cx="232200" cy="216360"/>
            </a:xfrm>
            <a:custGeom>
              <a:avLst/>
              <a:gdLst/>
              <a:ahLst/>
              <a:rect l="0" t="0" r="r" b="b"/>
              <a:pathLst>
                <a:path w="645" h="601">
                  <a:moveTo>
                    <a:pt x="322" y="0"/>
                  </a:moveTo>
                  <a:lnTo>
                    <a:pt x="247" y="230"/>
                  </a:lnTo>
                  <a:lnTo>
                    <a:pt x="0" y="230"/>
                  </a:lnTo>
                  <a:lnTo>
                    <a:pt x="201" y="372"/>
                  </a:lnTo>
                  <a:lnTo>
                    <a:pt x="125" y="601"/>
                  </a:lnTo>
                  <a:lnTo>
                    <a:pt x="322" y="469"/>
                  </a:lnTo>
                  <a:lnTo>
                    <a:pt x="520" y="601"/>
                  </a:lnTo>
                  <a:lnTo>
                    <a:pt x="443" y="372"/>
                  </a:lnTo>
                  <a:lnTo>
                    <a:pt x="645" y="230"/>
                  </a:lnTo>
                  <a:lnTo>
                    <a:pt x="398" y="230"/>
                  </a:lnTo>
                  <a:lnTo>
                    <a:pt x="322" y="0"/>
                  </a:lnTo>
                  <a:close/>
                </a:path>
              </a:pathLst>
            </a:custGeom>
            <a:solidFill>
              <a:srgbClr val="ff500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514440" y="2136600"/>
              <a:ext cx="232200" cy="216360"/>
            </a:xfrm>
            <a:custGeom>
              <a:avLst/>
              <a:gdLst/>
              <a:ahLst/>
              <a:rect l="0" t="0" r="r" b="b"/>
              <a:pathLst>
                <a:path w="645" h="601">
                  <a:moveTo>
                    <a:pt x="322" y="0"/>
                  </a:moveTo>
                  <a:lnTo>
                    <a:pt x="247" y="230"/>
                  </a:lnTo>
                  <a:lnTo>
                    <a:pt x="0" y="230"/>
                  </a:lnTo>
                  <a:lnTo>
                    <a:pt x="201" y="372"/>
                  </a:lnTo>
                  <a:lnTo>
                    <a:pt x="125" y="601"/>
                  </a:lnTo>
                  <a:lnTo>
                    <a:pt x="322" y="469"/>
                  </a:lnTo>
                  <a:lnTo>
                    <a:pt x="520" y="601"/>
                  </a:lnTo>
                  <a:lnTo>
                    <a:pt x="443" y="372"/>
                  </a:lnTo>
                  <a:lnTo>
                    <a:pt x="645" y="230"/>
                  </a:lnTo>
                  <a:lnTo>
                    <a:pt x="398" y="230"/>
                  </a:lnTo>
                  <a:lnTo>
                    <a:pt x="322" y="0"/>
                  </a:lnTo>
                  <a:close/>
                </a:path>
              </a:pathLst>
            </a:custGeom>
            <a:solidFill>
              <a:srgbClr val="ff500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487440" y="2819520"/>
              <a:ext cx="232200" cy="216360"/>
            </a:xfrm>
            <a:custGeom>
              <a:avLst/>
              <a:gdLst/>
              <a:ahLst/>
              <a:rect l="0" t="0" r="r" b="b"/>
              <a:pathLst>
                <a:path w="645" h="601">
                  <a:moveTo>
                    <a:pt x="322" y="0"/>
                  </a:moveTo>
                  <a:lnTo>
                    <a:pt x="247" y="230"/>
                  </a:lnTo>
                  <a:lnTo>
                    <a:pt x="0" y="230"/>
                  </a:lnTo>
                  <a:lnTo>
                    <a:pt x="201" y="372"/>
                  </a:lnTo>
                  <a:lnTo>
                    <a:pt x="125" y="601"/>
                  </a:lnTo>
                  <a:lnTo>
                    <a:pt x="322" y="469"/>
                  </a:lnTo>
                  <a:lnTo>
                    <a:pt x="520" y="601"/>
                  </a:lnTo>
                  <a:lnTo>
                    <a:pt x="443" y="372"/>
                  </a:lnTo>
                  <a:lnTo>
                    <a:pt x="645" y="230"/>
                  </a:lnTo>
                  <a:lnTo>
                    <a:pt x="398" y="230"/>
                  </a:lnTo>
                  <a:lnTo>
                    <a:pt x="322" y="0"/>
                  </a:lnTo>
                  <a:close/>
                </a:path>
              </a:pathLst>
            </a:custGeom>
            <a:solidFill>
              <a:srgbClr val="ff500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487440" y="3124080"/>
              <a:ext cx="232200" cy="216360"/>
            </a:xfrm>
            <a:custGeom>
              <a:avLst/>
              <a:gdLst/>
              <a:ahLst/>
              <a:rect l="0" t="0" r="r" b="b"/>
              <a:pathLst>
                <a:path w="645" h="601">
                  <a:moveTo>
                    <a:pt x="322" y="0"/>
                  </a:moveTo>
                  <a:lnTo>
                    <a:pt x="247" y="230"/>
                  </a:lnTo>
                  <a:lnTo>
                    <a:pt x="0" y="230"/>
                  </a:lnTo>
                  <a:lnTo>
                    <a:pt x="201" y="372"/>
                  </a:lnTo>
                  <a:lnTo>
                    <a:pt x="125" y="601"/>
                  </a:lnTo>
                  <a:lnTo>
                    <a:pt x="322" y="469"/>
                  </a:lnTo>
                  <a:lnTo>
                    <a:pt x="520" y="601"/>
                  </a:lnTo>
                  <a:lnTo>
                    <a:pt x="443" y="372"/>
                  </a:lnTo>
                  <a:lnTo>
                    <a:pt x="645" y="230"/>
                  </a:lnTo>
                  <a:lnTo>
                    <a:pt x="398" y="230"/>
                  </a:lnTo>
                  <a:lnTo>
                    <a:pt x="322" y="0"/>
                  </a:lnTo>
                  <a:close/>
                </a:path>
              </a:pathLst>
            </a:custGeom>
            <a:solidFill>
              <a:srgbClr val="ff500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861840" y="2514600"/>
              <a:ext cx="232200" cy="216360"/>
            </a:xfrm>
            <a:custGeom>
              <a:avLst/>
              <a:gdLst/>
              <a:ahLst/>
              <a:rect l="0" t="0" r="r" b="b"/>
              <a:pathLst>
                <a:path w="645" h="601">
                  <a:moveTo>
                    <a:pt x="322" y="0"/>
                  </a:moveTo>
                  <a:lnTo>
                    <a:pt x="247" y="230"/>
                  </a:lnTo>
                  <a:lnTo>
                    <a:pt x="0" y="230"/>
                  </a:lnTo>
                  <a:lnTo>
                    <a:pt x="201" y="372"/>
                  </a:lnTo>
                  <a:lnTo>
                    <a:pt x="125" y="601"/>
                  </a:lnTo>
                  <a:lnTo>
                    <a:pt x="322" y="469"/>
                  </a:lnTo>
                  <a:lnTo>
                    <a:pt x="520" y="601"/>
                  </a:lnTo>
                  <a:lnTo>
                    <a:pt x="443" y="372"/>
                  </a:lnTo>
                  <a:lnTo>
                    <a:pt x="645" y="230"/>
                  </a:lnTo>
                  <a:lnTo>
                    <a:pt x="398" y="230"/>
                  </a:lnTo>
                  <a:lnTo>
                    <a:pt x="322" y="0"/>
                  </a:lnTo>
                  <a:close/>
                </a:path>
              </a:pathLst>
            </a:custGeom>
            <a:solidFill>
              <a:srgbClr val="ff500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a:off x="885960" y="2903400"/>
              <a:ext cx="228960" cy="216360"/>
            </a:xfrm>
            <a:custGeom>
              <a:avLst/>
              <a:gdLst/>
              <a:ahLst/>
              <a:rect l="0" t="0" r="r" b="b"/>
              <a:pathLst>
                <a:path w="636" h="601">
                  <a:moveTo>
                    <a:pt x="317" y="0"/>
                  </a:moveTo>
                  <a:lnTo>
                    <a:pt x="243" y="230"/>
                  </a:lnTo>
                  <a:lnTo>
                    <a:pt x="0" y="230"/>
                  </a:lnTo>
                  <a:lnTo>
                    <a:pt x="197" y="372"/>
                  </a:lnTo>
                  <a:lnTo>
                    <a:pt x="123" y="601"/>
                  </a:lnTo>
                  <a:lnTo>
                    <a:pt x="317" y="469"/>
                  </a:lnTo>
                  <a:lnTo>
                    <a:pt x="512" y="601"/>
                  </a:lnTo>
                  <a:lnTo>
                    <a:pt x="437" y="372"/>
                  </a:lnTo>
                  <a:lnTo>
                    <a:pt x="636" y="230"/>
                  </a:lnTo>
                  <a:lnTo>
                    <a:pt x="392" y="230"/>
                  </a:lnTo>
                  <a:lnTo>
                    <a:pt x="317" y="0"/>
                  </a:lnTo>
                  <a:close/>
                </a:path>
              </a:pathLst>
            </a:custGeom>
            <a:solidFill>
              <a:srgbClr val="ff500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182520" y="2000160"/>
              <a:ext cx="232200" cy="216360"/>
            </a:xfrm>
            <a:custGeom>
              <a:avLst/>
              <a:gdLst/>
              <a:ahLst/>
              <a:rect l="0" t="0" r="r" b="b"/>
              <a:pathLst>
                <a:path w="645" h="601">
                  <a:moveTo>
                    <a:pt x="322" y="0"/>
                  </a:moveTo>
                  <a:lnTo>
                    <a:pt x="247" y="230"/>
                  </a:lnTo>
                  <a:lnTo>
                    <a:pt x="0" y="230"/>
                  </a:lnTo>
                  <a:lnTo>
                    <a:pt x="201" y="372"/>
                  </a:lnTo>
                  <a:lnTo>
                    <a:pt x="125" y="601"/>
                  </a:lnTo>
                  <a:lnTo>
                    <a:pt x="322" y="469"/>
                  </a:lnTo>
                  <a:lnTo>
                    <a:pt x="520" y="601"/>
                  </a:lnTo>
                  <a:lnTo>
                    <a:pt x="443" y="372"/>
                  </a:lnTo>
                  <a:lnTo>
                    <a:pt x="645" y="230"/>
                  </a:lnTo>
                  <a:lnTo>
                    <a:pt x="398" y="230"/>
                  </a:lnTo>
                  <a:lnTo>
                    <a:pt x="322" y="0"/>
                  </a:lnTo>
                  <a:close/>
                </a:path>
              </a:pathLst>
            </a:custGeom>
            <a:solidFill>
              <a:srgbClr val="ff500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2" name=""/>
            <p:cNvSpPr txBox="1"/>
            <p:nvPr/>
          </p:nvSpPr>
          <p:spPr>
            <a:xfrm>
              <a:off x="4041720" y="2171520"/>
              <a:ext cx="4024440" cy="4359240"/>
            </a:xfrm>
            <a:prstGeom prst="rect">
              <a:avLst/>
            </a:prstGeom>
            <a:noFill/>
            <a:ln w="0">
              <a:noFill/>
            </a:ln>
          </p:spPr>
          <p:txBody>
            <a:bodyPr lIns="0" rIns="0" tIns="0" bIns="0" anchor="t">
              <a:noAutofit/>
            </a:bodyPr>
            <a:p>
              <a:pPr>
                <a:lnSpc>
                  <a:spcPct val="100000"/>
                </a:lnSpc>
              </a:pPr>
              <a:r>
                <a:rPr b="1" lang="en-US" sz="4000" spc="-1" strike="noStrike">
                  <a:solidFill>
                    <a:srgbClr val="ffffff"/>
                  </a:solidFill>
                  <a:latin typeface="Arial"/>
                  <a:ea typeface="Arial"/>
                </a:rPr>
                <a:t>1  Pergamos</a:t>
              </a:r>
              <a:endParaRPr b="0" lang="en-US" sz="4000" spc="-1" strike="noStrike">
                <a:solidFill>
                  <a:srgbClr val="000000"/>
                </a:solidFill>
                <a:latin typeface="Arial"/>
              </a:endParaRPr>
            </a:p>
            <a:p>
              <a:pPr>
                <a:lnSpc>
                  <a:spcPct val="100000"/>
                </a:lnSpc>
              </a:pPr>
              <a:r>
                <a:rPr b="1" lang="en-US" sz="4000" spc="-1" strike="noStrike">
                  <a:solidFill>
                    <a:srgbClr val="ffffff"/>
                  </a:solidFill>
                  <a:latin typeface="Arial"/>
                  <a:ea typeface="Arial"/>
                </a:rPr>
                <a:t>2  Thyatira</a:t>
              </a:r>
              <a:endParaRPr b="0" lang="en-US" sz="4000" spc="-1" strike="noStrike">
                <a:solidFill>
                  <a:srgbClr val="000000"/>
                </a:solidFill>
                <a:latin typeface="Arial"/>
              </a:endParaRPr>
            </a:p>
            <a:p>
              <a:pPr>
                <a:lnSpc>
                  <a:spcPct val="100000"/>
                </a:lnSpc>
              </a:pPr>
              <a:r>
                <a:rPr b="1" lang="en-US" sz="4000" spc="-1" strike="noStrike">
                  <a:solidFill>
                    <a:srgbClr val="ffffff"/>
                  </a:solidFill>
                  <a:latin typeface="Arial"/>
                  <a:ea typeface="Arial"/>
                </a:rPr>
                <a:t>3  Sardis</a:t>
              </a:r>
              <a:endParaRPr b="0" lang="en-US" sz="4000" spc="-1" strike="noStrike">
                <a:solidFill>
                  <a:srgbClr val="000000"/>
                </a:solidFill>
                <a:latin typeface="Arial"/>
              </a:endParaRPr>
            </a:p>
            <a:p>
              <a:pPr>
                <a:lnSpc>
                  <a:spcPct val="100000"/>
                </a:lnSpc>
              </a:pPr>
              <a:r>
                <a:rPr b="1" lang="en-US" sz="4000" spc="-1" strike="noStrike">
                  <a:solidFill>
                    <a:srgbClr val="ffffff"/>
                  </a:solidFill>
                  <a:latin typeface="Arial"/>
                  <a:ea typeface="Arial"/>
                </a:rPr>
                <a:t>4  Smyrna</a:t>
              </a:r>
              <a:endParaRPr b="0" lang="en-US" sz="4000" spc="-1" strike="noStrike">
                <a:solidFill>
                  <a:srgbClr val="000000"/>
                </a:solidFill>
                <a:latin typeface="Arial"/>
              </a:endParaRPr>
            </a:p>
            <a:p>
              <a:pPr>
                <a:lnSpc>
                  <a:spcPct val="100000"/>
                </a:lnSpc>
              </a:pPr>
              <a:r>
                <a:rPr b="1" lang="en-US" sz="4000" spc="-1" strike="noStrike">
                  <a:solidFill>
                    <a:srgbClr val="ffffff"/>
                  </a:solidFill>
                  <a:latin typeface="Arial"/>
                  <a:ea typeface="Arial"/>
                </a:rPr>
                <a:t>5  Philadelphia</a:t>
              </a:r>
              <a:endParaRPr b="0" lang="en-US" sz="4000" spc="-1" strike="noStrike">
                <a:solidFill>
                  <a:srgbClr val="000000"/>
                </a:solidFill>
                <a:latin typeface="Arial"/>
              </a:endParaRPr>
            </a:p>
            <a:p>
              <a:pPr>
                <a:lnSpc>
                  <a:spcPct val="100000"/>
                </a:lnSpc>
              </a:pPr>
              <a:r>
                <a:rPr b="1" lang="en-US" sz="4000" spc="-1" strike="noStrike">
                  <a:solidFill>
                    <a:srgbClr val="ffffff"/>
                  </a:solidFill>
                  <a:latin typeface="Arial"/>
                  <a:ea typeface="Arial"/>
                </a:rPr>
                <a:t>6  Ephesus</a:t>
              </a:r>
              <a:endParaRPr b="0" lang="en-US" sz="4000" spc="-1" strike="noStrike">
                <a:solidFill>
                  <a:srgbClr val="000000"/>
                </a:solidFill>
                <a:latin typeface="Arial"/>
              </a:endParaRPr>
            </a:p>
            <a:p>
              <a:pPr>
                <a:lnSpc>
                  <a:spcPct val="100000"/>
                </a:lnSpc>
              </a:pPr>
              <a:r>
                <a:rPr b="1" lang="en-US" sz="4000" spc="-1" strike="noStrike">
                  <a:solidFill>
                    <a:srgbClr val="ffffff"/>
                  </a:solidFill>
                  <a:latin typeface="Arial"/>
                  <a:ea typeface="Arial"/>
                </a:rPr>
                <a:t>7  Laodicea</a:t>
              </a:r>
              <a:endParaRPr b="0" lang="en-US" sz="4000" spc="-1" strike="noStrike">
                <a:solidFill>
                  <a:srgbClr val="000000"/>
                </a:solidFill>
                <a:latin typeface="Arial"/>
              </a:endParaRPr>
            </a:p>
          </p:txBody>
        </p:sp>
        <p:sp>
          <p:nvSpPr>
            <p:cNvPr id="813" name=""/>
            <p:cNvSpPr txBox="1"/>
            <p:nvPr/>
          </p:nvSpPr>
          <p:spPr>
            <a:xfrm>
              <a:off x="3502080" y="1600200"/>
              <a:ext cx="21826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Top to Bottom </a:t>
              </a:r>
              <a:endParaRPr b="0" lang="en-US" sz="2400" spc="-1" strike="noStrike">
                <a:solidFill>
                  <a:srgbClr val="000000"/>
                </a:solidFill>
                <a:latin typeface="Arial"/>
              </a:endParaRPr>
            </a:p>
          </p:txBody>
        </p:sp>
        <p:sp>
          <p:nvSpPr>
            <p:cNvPr id="814" name=""/>
            <p:cNvSpPr txBox="1"/>
            <p:nvPr/>
          </p:nvSpPr>
          <p:spPr>
            <a:xfrm>
              <a:off x="289080" y="1736640"/>
              <a:ext cx="387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Black"/>
                  <a:ea typeface="Arial Black"/>
                </a:rPr>
                <a:t>1</a:t>
              </a:r>
              <a:endParaRPr b="0" lang="en-US" sz="2400" spc="-1" strike="noStrike">
                <a:solidFill>
                  <a:srgbClr val="000000"/>
                </a:solidFill>
                <a:latin typeface="Arial"/>
              </a:endParaRPr>
            </a:p>
          </p:txBody>
        </p:sp>
        <p:sp>
          <p:nvSpPr>
            <p:cNvPr id="815" name=""/>
            <p:cNvSpPr txBox="1"/>
            <p:nvPr/>
          </p:nvSpPr>
          <p:spPr>
            <a:xfrm>
              <a:off x="669960" y="1965240"/>
              <a:ext cx="387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Black"/>
                  <a:ea typeface="Arial Black"/>
                </a:rPr>
                <a:t>2</a:t>
              </a:r>
              <a:endParaRPr b="0" lang="en-US" sz="2400" spc="-1" strike="noStrike">
                <a:solidFill>
                  <a:srgbClr val="000000"/>
                </a:solidFill>
                <a:latin typeface="Arial"/>
              </a:endParaRPr>
            </a:p>
          </p:txBody>
        </p:sp>
        <p:sp>
          <p:nvSpPr>
            <p:cNvPr id="816" name=""/>
            <p:cNvSpPr txBox="1"/>
            <p:nvPr/>
          </p:nvSpPr>
          <p:spPr>
            <a:xfrm>
              <a:off x="1050840" y="2575080"/>
              <a:ext cx="387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Black"/>
                  <a:ea typeface="Arial Black"/>
                </a:rPr>
                <a:t>3</a:t>
              </a:r>
              <a:endParaRPr b="0" lang="en-US" sz="2400" spc="-1" strike="noStrike">
                <a:solidFill>
                  <a:srgbClr val="000000"/>
                </a:solidFill>
                <a:latin typeface="Arial"/>
              </a:endParaRPr>
            </a:p>
          </p:txBody>
        </p:sp>
        <p:sp>
          <p:nvSpPr>
            <p:cNvPr id="817" name=""/>
            <p:cNvSpPr txBox="1"/>
            <p:nvPr/>
          </p:nvSpPr>
          <p:spPr>
            <a:xfrm>
              <a:off x="136440" y="2193840"/>
              <a:ext cx="387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Black"/>
                  <a:ea typeface="Arial Black"/>
                </a:rPr>
                <a:t>4</a:t>
              </a:r>
              <a:endParaRPr b="0" lang="en-US" sz="2400" spc="-1" strike="noStrike">
                <a:solidFill>
                  <a:srgbClr val="000000"/>
                </a:solidFill>
                <a:latin typeface="Arial"/>
              </a:endParaRPr>
            </a:p>
          </p:txBody>
        </p:sp>
        <p:sp>
          <p:nvSpPr>
            <p:cNvPr id="818" name=""/>
            <p:cNvSpPr txBox="1"/>
            <p:nvPr/>
          </p:nvSpPr>
          <p:spPr>
            <a:xfrm>
              <a:off x="136440" y="2879640"/>
              <a:ext cx="387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Black"/>
                  <a:ea typeface="Arial Black"/>
                </a:rPr>
                <a:t>6</a:t>
              </a:r>
              <a:endParaRPr b="0" lang="en-US" sz="2400" spc="-1" strike="noStrike">
                <a:solidFill>
                  <a:srgbClr val="000000"/>
                </a:solidFill>
                <a:latin typeface="Arial"/>
              </a:endParaRPr>
            </a:p>
          </p:txBody>
        </p:sp>
        <p:sp>
          <p:nvSpPr>
            <p:cNvPr id="819" name=""/>
            <p:cNvSpPr txBox="1"/>
            <p:nvPr/>
          </p:nvSpPr>
          <p:spPr>
            <a:xfrm>
              <a:off x="1050840" y="2955960"/>
              <a:ext cx="387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Black"/>
                  <a:ea typeface="Arial Black"/>
                </a:rPr>
                <a:t>5</a:t>
              </a:r>
              <a:endParaRPr b="0" lang="en-US" sz="2400" spc="-1" strike="noStrike">
                <a:solidFill>
                  <a:srgbClr val="000000"/>
                </a:solidFill>
                <a:latin typeface="Arial"/>
              </a:endParaRPr>
            </a:p>
          </p:txBody>
        </p:sp>
        <p:sp>
          <p:nvSpPr>
            <p:cNvPr id="820" name=""/>
            <p:cNvSpPr txBox="1"/>
            <p:nvPr/>
          </p:nvSpPr>
          <p:spPr>
            <a:xfrm>
              <a:off x="746280" y="3184560"/>
              <a:ext cx="387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Black"/>
                  <a:ea typeface="Arial Black"/>
                </a:rPr>
                <a:t>7</a:t>
              </a:r>
              <a:endParaRPr b="0" lang="en-US" sz="2400" spc="-1" strike="noStrike">
                <a:solidFill>
                  <a:srgbClr val="000000"/>
                </a:solidFill>
                <a:latin typeface="Arial"/>
              </a:endParaRPr>
            </a:p>
          </p:txBody>
        </p:sp>
        <p:sp>
          <p:nvSpPr>
            <p:cNvPr id="821" name=""/>
            <p:cNvSpPr txBox="1"/>
            <p:nvPr/>
          </p:nvSpPr>
          <p:spPr>
            <a:xfrm>
              <a:off x="60480" y="647712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7" name=""/>
          <p:cNvSpPr txBox="1"/>
          <p:nvPr/>
        </p:nvSpPr>
        <p:spPr>
          <a:xfrm>
            <a:off x="895320" y="264960"/>
            <a:ext cx="7448400" cy="1098720"/>
          </a:xfrm>
          <a:prstGeom prst="rect">
            <a:avLst/>
          </a:prstGeom>
          <a:noFill/>
          <a:ln w="0">
            <a:noFill/>
          </a:ln>
        </p:spPr>
        <p:txBody>
          <a:bodyPr lIns="0" rIns="0" tIns="0" bIns="0" anchor="t">
            <a:noAutofit/>
          </a:bodyPr>
          <a:p>
            <a:pPr>
              <a:lnSpc>
                <a:spcPct val="100000"/>
              </a:lnSpc>
            </a:pPr>
            <a:r>
              <a:rPr b="1" lang="en-US" sz="6600" spc="-1" strike="noStrike" u="sng">
                <a:solidFill>
                  <a:srgbClr val="ffffff"/>
                </a:solidFill>
                <a:uFillTx/>
                <a:latin typeface="Arial"/>
                <a:ea typeface="Arial"/>
              </a:rPr>
              <a:t>Lands of the Bible</a:t>
            </a:r>
            <a:endParaRPr b="0" lang="en-US" sz="6600" spc="-1" strike="noStrike">
              <a:solidFill>
                <a:srgbClr val="000000"/>
              </a:solidFill>
              <a:latin typeface="Arial"/>
            </a:endParaRPr>
          </a:p>
        </p:txBody>
      </p:sp>
      <p:grpSp>
        <p:nvGrpSpPr>
          <p:cNvPr id="88" name=""/>
          <p:cNvGrpSpPr/>
          <p:nvPr/>
        </p:nvGrpSpPr>
        <p:grpSpPr>
          <a:xfrm>
            <a:off x="60480" y="1384200"/>
            <a:ext cx="9080280" cy="5435640"/>
            <a:chOff x="60480" y="1384200"/>
            <a:chExt cx="9080280" cy="5435640"/>
          </a:xfrm>
        </p:grpSpPr>
        <p:pic>
          <p:nvPicPr>
            <p:cNvPr id="89" name="" descr=""/>
            <p:cNvPicPr/>
            <p:nvPr/>
          </p:nvPicPr>
          <p:blipFill>
            <a:blip r:embed="rId1"/>
            <a:stretch/>
          </p:blipFill>
          <p:spPr>
            <a:xfrm>
              <a:off x="73080" y="1384200"/>
              <a:ext cx="9048600" cy="5435640"/>
            </a:xfrm>
            <a:prstGeom prst="rect">
              <a:avLst/>
            </a:prstGeom>
            <a:ln w="0">
              <a:noFill/>
            </a:ln>
          </p:spPr>
        </p:pic>
        <p:sp>
          <p:nvSpPr>
            <p:cNvPr id="90" name=""/>
            <p:cNvSpPr txBox="1"/>
            <p:nvPr/>
          </p:nvSpPr>
          <p:spPr>
            <a:xfrm>
              <a:off x="1581120" y="3274920"/>
              <a:ext cx="2682720" cy="641520"/>
            </a:xfrm>
            <a:prstGeom prst="rect">
              <a:avLst/>
            </a:prstGeom>
            <a:noFill/>
            <a:ln w="0">
              <a:noFill/>
            </a:ln>
          </p:spPr>
          <p:txBody>
            <a:bodyPr lIns="0" rIns="0" tIns="0" bIns="0" anchor="t">
              <a:noAutofit/>
            </a:bodyPr>
            <a:p>
              <a:pPr algn="ctr">
                <a:lnSpc>
                  <a:spcPct val="100000"/>
                </a:lnSpc>
              </a:pPr>
              <a:r>
                <a:rPr b="1" lang="en-US" sz="3600" spc="-1" strike="noStrike">
                  <a:solidFill>
                    <a:srgbClr val="ffffff"/>
                  </a:solidFill>
                  <a:latin typeface="Arial"/>
                  <a:ea typeface="Arial"/>
                </a:rPr>
                <a:t>Rome</a:t>
              </a:r>
              <a:endParaRPr b="0" lang="en-US" sz="3600" spc="-1" strike="noStrike">
                <a:solidFill>
                  <a:srgbClr val="000000"/>
                </a:solidFill>
                <a:latin typeface="Arial"/>
              </a:endParaRPr>
            </a:p>
          </p:txBody>
        </p:sp>
        <p:sp>
          <p:nvSpPr>
            <p:cNvPr id="91" name=""/>
            <p:cNvSpPr txBox="1"/>
            <p:nvPr/>
          </p:nvSpPr>
          <p:spPr>
            <a:xfrm>
              <a:off x="2724120" y="2817720"/>
              <a:ext cx="2682720" cy="57960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Arial"/>
                  <a:ea typeface="Arial"/>
                </a:rPr>
                <a:t>Macedonia</a:t>
              </a:r>
              <a:endParaRPr b="0" lang="en-US" sz="3200" spc="-1" strike="noStrike">
                <a:solidFill>
                  <a:srgbClr val="000000"/>
                </a:solidFill>
                <a:latin typeface="Arial"/>
              </a:endParaRPr>
            </a:p>
          </p:txBody>
        </p:sp>
        <p:sp>
          <p:nvSpPr>
            <p:cNvPr id="92" name=""/>
            <p:cNvSpPr txBox="1"/>
            <p:nvPr/>
          </p:nvSpPr>
          <p:spPr>
            <a:xfrm>
              <a:off x="6381720" y="4799160"/>
              <a:ext cx="2682720" cy="106668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Arial"/>
                  <a:ea typeface="Arial"/>
                </a:rPr>
                <a:t>Babylonian Empire</a:t>
              </a:r>
              <a:endParaRPr b="0" lang="en-US" sz="3200" spc="-1" strike="noStrike">
                <a:solidFill>
                  <a:srgbClr val="000000"/>
                </a:solidFill>
                <a:latin typeface="Arial"/>
              </a:endParaRPr>
            </a:p>
          </p:txBody>
        </p:sp>
        <p:sp>
          <p:nvSpPr>
            <p:cNvPr id="93" name=""/>
            <p:cNvSpPr txBox="1"/>
            <p:nvPr/>
          </p:nvSpPr>
          <p:spPr>
            <a:xfrm>
              <a:off x="4172040" y="4570560"/>
              <a:ext cx="2682720" cy="97164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Canaan     &amp; Israel</a:t>
              </a:r>
              <a:endParaRPr b="0" lang="en-US" sz="3600" spc="-1" strike="noStrike">
                <a:solidFill>
                  <a:srgbClr val="000000"/>
                </a:solidFill>
                <a:latin typeface="Arial"/>
              </a:endParaRPr>
            </a:p>
          </p:txBody>
        </p:sp>
        <p:sp>
          <p:nvSpPr>
            <p:cNvPr id="94" name=""/>
            <p:cNvSpPr txBox="1"/>
            <p:nvPr/>
          </p:nvSpPr>
          <p:spPr>
            <a:xfrm>
              <a:off x="4629240" y="3503520"/>
              <a:ext cx="2682720" cy="920880"/>
            </a:xfrm>
            <a:prstGeom prst="rect">
              <a:avLst/>
            </a:prstGeom>
            <a:noFill/>
            <a:ln w="0">
              <a:noFill/>
            </a:ln>
          </p:spPr>
          <p:txBody>
            <a:bodyPr lIns="0" rIns="0" tIns="0" bIns="0" anchor="t">
              <a:noAutofit/>
            </a:bodyPr>
            <a:p>
              <a:pPr algn="ctr">
                <a:lnSpc>
                  <a:spcPct val="85000"/>
                </a:lnSpc>
              </a:pPr>
              <a:r>
                <a:rPr b="0" lang="en-US" sz="3200" spc="-1" strike="noStrike">
                  <a:solidFill>
                    <a:srgbClr val="ffffff"/>
                  </a:solidFill>
                  <a:latin typeface="Arial"/>
                  <a:ea typeface="Arial"/>
                </a:rPr>
                <a:t>7 Churches of Asia</a:t>
              </a:r>
              <a:endParaRPr b="0" lang="en-US" sz="3200" spc="-1" strike="noStrike">
                <a:solidFill>
                  <a:srgbClr val="000000"/>
                </a:solidFill>
                <a:latin typeface="Arial"/>
              </a:endParaRPr>
            </a:p>
          </p:txBody>
        </p:sp>
        <p:sp>
          <p:nvSpPr>
            <p:cNvPr id="95" name=""/>
            <p:cNvSpPr txBox="1"/>
            <p:nvPr/>
          </p:nvSpPr>
          <p:spPr>
            <a:xfrm>
              <a:off x="1886040" y="5713560"/>
              <a:ext cx="2682720" cy="641520"/>
            </a:xfrm>
            <a:prstGeom prst="rect">
              <a:avLst/>
            </a:prstGeom>
            <a:noFill/>
            <a:ln w="0">
              <a:noFill/>
            </a:ln>
          </p:spPr>
          <p:txBody>
            <a:bodyPr lIns="0" rIns="0" tIns="0" bIns="0" anchor="t">
              <a:noAutofit/>
            </a:bodyPr>
            <a:p>
              <a:pPr algn="ctr">
                <a:lnSpc>
                  <a:spcPct val="100000"/>
                </a:lnSpc>
              </a:pPr>
              <a:r>
                <a:rPr b="1" lang="en-US" sz="3600" spc="-1" strike="noStrike">
                  <a:solidFill>
                    <a:srgbClr val="ffffff"/>
                  </a:solidFill>
                  <a:latin typeface="Arial"/>
                  <a:ea typeface="Arial"/>
                </a:rPr>
                <a:t>Egypt</a:t>
              </a:r>
              <a:endParaRPr b="0" lang="en-US" sz="3600" spc="-1" strike="noStrike">
                <a:solidFill>
                  <a:srgbClr val="000000"/>
                </a:solidFill>
                <a:latin typeface="Arial"/>
              </a:endParaRPr>
            </a:p>
          </p:txBody>
        </p:sp>
        <p:sp>
          <p:nvSpPr>
            <p:cNvPr id="96" name=""/>
            <p:cNvSpPr txBox="1"/>
            <p:nvPr/>
          </p:nvSpPr>
          <p:spPr>
            <a:xfrm>
              <a:off x="6458040" y="3579840"/>
              <a:ext cx="2682720" cy="106668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Arial"/>
                  <a:ea typeface="Arial"/>
                </a:rPr>
                <a:t>Medo Persian</a:t>
              </a:r>
              <a:endParaRPr b="0" lang="en-US" sz="3200" spc="-1" strike="noStrike">
                <a:solidFill>
                  <a:srgbClr val="000000"/>
                </a:solidFill>
                <a:latin typeface="Arial"/>
              </a:endParaRPr>
            </a:p>
          </p:txBody>
        </p:sp>
        <p:sp>
          <p:nvSpPr>
            <p:cNvPr id="97" name=""/>
            <p:cNvSpPr txBox="1"/>
            <p:nvPr/>
          </p:nvSpPr>
          <p:spPr>
            <a:xfrm>
              <a:off x="2343240" y="4281480"/>
              <a:ext cx="2475000" cy="519120"/>
            </a:xfrm>
            <a:prstGeom prst="rect">
              <a:avLst/>
            </a:prstGeom>
            <a:noFill/>
            <a:ln w="0">
              <a:noFill/>
            </a:ln>
          </p:spPr>
          <p:txBody>
            <a:bodyPr lIns="0" rIns="0" tIns="0" bIns="0" anchor="t">
              <a:noAutofit/>
            </a:bodyPr>
            <a:p>
              <a:pPr>
                <a:lnSpc>
                  <a:spcPct val="100000"/>
                </a:lnSpc>
              </a:pPr>
              <a:r>
                <a:rPr b="1" lang="en-US" sz="2800" spc="-1" strike="noStrike">
                  <a:solidFill>
                    <a:srgbClr val="dadada"/>
                  </a:solidFill>
                  <a:latin typeface="Times New Roman"/>
                  <a:ea typeface="Times New Roman"/>
                </a:rPr>
                <a:t>Mediterranean</a:t>
              </a:r>
              <a:endParaRPr b="0" lang="en-US" sz="2800" spc="-1" strike="noStrike">
                <a:solidFill>
                  <a:srgbClr val="000000"/>
                </a:solidFill>
                <a:latin typeface="Arial"/>
              </a:endParaRPr>
            </a:p>
          </p:txBody>
        </p:sp>
        <p:sp>
          <p:nvSpPr>
            <p:cNvPr id="98" name=""/>
            <p:cNvSpPr txBox="1"/>
            <p:nvPr/>
          </p:nvSpPr>
          <p:spPr>
            <a:xfrm>
              <a:off x="1965240" y="1706400"/>
              <a:ext cx="6167520" cy="701640"/>
            </a:xfrm>
            <a:prstGeom prst="rect">
              <a:avLst/>
            </a:prstGeom>
            <a:noFill/>
            <a:ln w="0">
              <a:noFill/>
            </a:ln>
          </p:spPr>
          <p:txBody>
            <a:bodyPr lIns="0" rIns="0" tIns="0" bIns="0" anchor="t">
              <a:noAutofit/>
            </a:bodyPr>
            <a:p>
              <a:pPr>
                <a:lnSpc>
                  <a:spcPct val="100000"/>
                </a:lnSpc>
              </a:pPr>
              <a:r>
                <a:rPr b="1" lang="en-US" sz="4000" spc="-1" strike="noStrike" u="sng">
                  <a:solidFill>
                    <a:srgbClr val="fafd00"/>
                  </a:solidFill>
                  <a:uFillTx/>
                  <a:latin typeface="Arial"/>
                  <a:ea typeface="Arial"/>
                </a:rPr>
                <a:t>Important Ancient Lands</a:t>
              </a:r>
              <a:endParaRPr b="0" lang="en-US" sz="4000" spc="-1" strike="noStrike">
                <a:solidFill>
                  <a:srgbClr val="000000"/>
                </a:solidFill>
                <a:latin typeface="Arial"/>
              </a:endParaRPr>
            </a:p>
          </p:txBody>
        </p:sp>
        <p:sp>
          <p:nvSpPr>
            <p:cNvPr id="99" name=""/>
            <p:cNvSpPr txBox="1"/>
            <p:nvPr/>
          </p:nvSpPr>
          <p:spPr>
            <a:xfrm>
              <a:off x="2952720" y="3198960"/>
              <a:ext cx="2682720" cy="57960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Narrow"/>
                  <a:ea typeface="Arial Narrow"/>
                </a:rPr>
                <a:t>Greece</a:t>
              </a:r>
              <a:endParaRPr b="0" lang="en-US" sz="3200" spc="-1" strike="noStrike">
                <a:solidFill>
                  <a:srgbClr val="000000"/>
                </a:solidFill>
                <a:latin typeface="Arial"/>
              </a:endParaRPr>
            </a:p>
          </p:txBody>
        </p:sp>
        <p:sp>
          <p:nvSpPr>
            <p:cNvPr id="100" name=""/>
            <p:cNvSpPr txBox="1"/>
            <p:nvPr/>
          </p:nvSpPr>
          <p:spPr>
            <a:xfrm>
              <a:off x="60480" y="6499080"/>
              <a:ext cx="14558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22" name=""/>
          <p:cNvSpPr txBox="1"/>
          <p:nvPr/>
        </p:nvSpPr>
        <p:spPr>
          <a:xfrm>
            <a:off x="4724280" y="2438280"/>
            <a:ext cx="4343400" cy="2104920"/>
          </a:xfrm>
          <a:prstGeom prst="rect">
            <a:avLst/>
          </a:prstGeom>
          <a:noFill/>
          <a:ln w="0">
            <a:noFill/>
          </a:ln>
        </p:spPr>
        <p:txBody>
          <a:bodyPr lIns="0" rIns="0" tIns="0" bIns="0" anchor="t">
            <a:noAutofit/>
          </a:bodyPr>
          <a:p>
            <a:pPr algn="ctr">
              <a:lnSpc>
                <a:spcPct val="100000"/>
              </a:lnSpc>
              <a:spcBef>
                <a:spcPts val="1199"/>
              </a:spcBef>
            </a:pPr>
            <a:r>
              <a:rPr b="1" lang="en-US" sz="6600" spc="-1" strike="noStrike" u="sng">
                <a:solidFill>
                  <a:srgbClr val="fafd00"/>
                </a:solidFill>
                <a:uFillTx/>
                <a:latin typeface="Arial"/>
                <a:ea typeface="Arial"/>
              </a:rPr>
              <a:t>Modern Israel</a:t>
            </a:r>
            <a:endParaRPr b="0" lang="en-US" sz="6600" spc="-1" strike="noStrike">
              <a:solidFill>
                <a:srgbClr val="000000"/>
              </a:solidFill>
              <a:latin typeface="Arial"/>
            </a:endParaRPr>
          </a:p>
        </p:txBody>
      </p:sp>
      <p:grpSp>
        <p:nvGrpSpPr>
          <p:cNvPr id="823" name=""/>
          <p:cNvGrpSpPr/>
          <p:nvPr/>
        </p:nvGrpSpPr>
        <p:grpSpPr>
          <a:xfrm>
            <a:off x="-228600" y="108000"/>
            <a:ext cx="5083560" cy="6627960"/>
            <a:chOff x="-228600" y="108000"/>
            <a:chExt cx="5083560" cy="6627960"/>
          </a:xfrm>
        </p:grpSpPr>
        <p:pic>
          <p:nvPicPr>
            <p:cNvPr id="824" name="" descr=""/>
            <p:cNvPicPr/>
            <p:nvPr/>
          </p:nvPicPr>
          <p:blipFill>
            <a:blip r:embed="rId1"/>
            <a:stretch/>
          </p:blipFill>
          <p:spPr>
            <a:xfrm>
              <a:off x="371520" y="108000"/>
              <a:ext cx="4476600" cy="6618240"/>
            </a:xfrm>
            <a:prstGeom prst="rect">
              <a:avLst/>
            </a:prstGeom>
            <a:ln w="0">
              <a:noFill/>
            </a:ln>
          </p:spPr>
        </p:pic>
        <p:sp>
          <p:nvSpPr>
            <p:cNvPr id="825" name=""/>
            <p:cNvSpPr/>
            <p:nvPr/>
          </p:nvSpPr>
          <p:spPr>
            <a:xfrm>
              <a:off x="3013200" y="2590920"/>
              <a:ext cx="173520" cy="2189520"/>
            </a:xfrm>
            <a:custGeom>
              <a:avLst/>
              <a:gdLst/>
              <a:ahLst/>
              <a:rect l="0" t="0" r="r" b="b"/>
              <a:pathLst>
                <a:path fill="none" w="482" h="6082">
                  <a:moveTo>
                    <a:pt x="0" y="0"/>
                  </a:moveTo>
                  <a:lnTo>
                    <a:pt x="0" y="44"/>
                  </a:lnTo>
                  <a:lnTo>
                    <a:pt x="13" y="101"/>
                  </a:lnTo>
                  <a:lnTo>
                    <a:pt x="26" y="154"/>
                  </a:lnTo>
                  <a:lnTo>
                    <a:pt x="26" y="198"/>
                  </a:lnTo>
                  <a:lnTo>
                    <a:pt x="26" y="242"/>
                  </a:lnTo>
                  <a:lnTo>
                    <a:pt x="26" y="295"/>
                  </a:lnTo>
                  <a:lnTo>
                    <a:pt x="26" y="339"/>
                  </a:lnTo>
                  <a:lnTo>
                    <a:pt x="26" y="383"/>
                  </a:lnTo>
                  <a:lnTo>
                    <a:pt x="26" y="436"/>
                  </a:lnTo>
                  <a:lnTo>
                    <a:pt x="26" y="480"/>
                  </a:lnTo>
                  <a:lnTo>
                    <a:pt x="26" y="524"/>
                  </a:lnTo>
                  <a:lnTo>
                    <a:pt x="26" y="577"/>
                  </a:lnTo>
                  <a:lnTo>
                    <a:pt x="26" y="621"/>
                  </a:lnTo>
                  <a:lnTo>
                    <a:pt x="26" y="665"/>
                  </a:lnTo>
                  <a:lnTo>
                    <a:pt x="26" y="718"/>
                  </a:lnTo>
                  <a:lnTo>
                    <a:pt x="26" y="762"/>
                  </a:lnTo>
                  <a:lnTo>
                    <a:pt x="26" y="806"/>
                  </a:lnTo>
                  <a:lnTo>
                    <a:pt x="26" y="859"/>
                  </a:lnTo>
                  <a:lnTo>
                    <a:pt x="26" y="903"/>
                  </a:lnTo>
                  <a:lnTo>
                    <a:pt x="26" y="948"/>
                  </a:lnTo>
                  <a:lnTo>
                    <a:pt x="44" y="1001"/>
                  </a:lnTo>
                  <a:lnTo>
                    <a:pt x="57" y="1045"/>
                  </a:lnTo>
                  <a:lnTo>
                    <a:pt x="70" y="1089"/>
                  </a:lnTo>
                  <a:lnTo>
                    <a:pt x="70" y="1142"/>
                  </a:lnTo>
                  <a:lnTo>
                    <a:pt x="70" y="1186"/>
                  </a:lnTo>
                  <a:lnTo>
                    <a:pt x="70" y="1230"/>
                  </a:lnTo>
                  <a:lnTo>
                    <a:pt x="70" y="1340"/>
                  </a:lnTo>
                  <a:lnTo>
                    <a:pt x="57" y="1384"/>
                  </a:lnTo>
                  <a:lnTo>
                    <a:pt x="57" y="1441"/>
                  </a:lnTo>
                  <a:lnTo>
                    <a:pt x="70" y="1494"/>
                  </a:lnTo>
                  <a:lnTo>
                    <a:pt x="83" y="1538"/>
                  </a:lnTo>
                  <a:lnTo>
                    <a:pt x="83" y="1583"/>
                  </a:lnTo>
                  <a:lnTo>
                    <a:pt x="97" y="1636"/>
                  </a:lnTo>
                  <a:lnTo>
                    <a:pt x="114" y="1680"/>
                  </a:lnTo>
                  <a:lnTo>
                    <a:pt x="142" y="1724"/>
                  </a:lnTo>
                  <a:lnTo>
                    <a:pt x="142" y="1777"/>
                  </a:lnTo>
                  <a:lnTo>
                    <a:pt x="142" y="1821"/>
                  </a:lnTo>
                  <a:lnTo>
                    <a:pt x="142" y="1918"/>
                  </a:lnTo>
                  <a:lnTo>
                    <a:pt x="142" y="2046"/>
                  </a:lnTo>
                  <a:lnTo>
                    <a:pt x="142" y="2090"/>
                  </a:lnTo>
                  <a:lnTo>
                    <a:pt x="142" y="2200"/>
                  </a:lnTo>
                  <a:lnTo>
                    <a:pt x="142" y="2244"/>
                  </a:lnTo>
                  <a:lnTo>
                    <a:pt x="142" y="2288"/>
                  </a:lnTo>
                  <a:lnTo>
                    <a:pt x="155" y="2341"/>
                  </a:lnTo>
                  <a:lnTo>
                    <a:pt x="168" y="2385"/>
                  </a:lnTo>
                  <a:lnTo>
                    <a:pt x="168" y="2429"/>
                  </a:lnTo>
                  <a:lnTo>
                    <a:pt x="168" y="2482"/>
                  </a:lnTo>
                  <a:lnTo>
                    <a:pt x="168" y="2526"/>
                  </a:lnTo>
                  <a:lnTo>
                    <a:pt x="168" y="2570"/>
                  </a:lnTo>
                  <a:lnTo>
                    <a:pt x="168" y="2623"/>
                  </a:lnTo>
                  <a:lnTo>
                    <a:pt x="186" y="2667"/>
                  </a:lnTo>
                  <a:lnTo>
                    <a:pt x="186" y="2764"/>
                  </a:lnTo>
                  <a:lnTo>
                    <a:pt x="199" y="2808"/>
                  </a:lnTo>
                  <a:lnTo>
                    <a:pt x="212" y="2936"/>
                  </a:lnTo>
                  <a:lnTo>
                    <a:pt x="212" y="2994"/>
                  </a:lnTo>
                  <a:lnTo>
                    <a:pt x="225" y="3048"/>
                  </a:lnTo>
                  <a:lnTo>
                    <a:pt x="225" y="3092"/>
                  </a:lnTo>
                  <a:lnTo>
                    <a:pt x="239" y="3136"/>
                  </a:lnTo>
                  <a:lnTo>
                    <a:pt x="256" y="3189"/>
                  </a:lnTo>
                  <a:lnTo>
                    <a:pt x="256" y="3233"/>
                  </a:lnTo>
                  <a:lnTo>
                    <a:pt x="269" y="3330"/>
                  </a:lnTo>
                  <a:lnTo>
                    <a:pt x="269" y="3374"/>
                  </a:lnTo>
                  <a:lnTo>
                    <a:pt x="269" y="3418"/>
                  </a:lnTo>
                  <a:lnTo>
                    <a:pt x="269" y="3471"/>
                  </a:lnTo>
                  <a:lnTo>
                    <a:pt x="269" y="3515"/>
                  </a:lnTo>
                  <a:lnTo>
                    <a:pt x="256" y="3559"/>
                  </a:lnTo>
                  <a:lnTo>
                    <a:pt x="256" y="3683"/>
                  </a:lnTo>
                  <a:lnTo>
                    <a:pt x="239" y="3727"/>
                  </a:lnTo>
                  <a:lnTo>
                    <a:pt x="225" y="3771"/>
                  </a:lnTo>
                  <a:lnTo>
                    <a:pt x="225" y="3824"/>
                  </a:lnTo>
                  <a:lnTo>
                    <a:pt x="225" y="3868"/>
                  </a:lnTo>
                  <a:lnTo>
                    <a:pt x="225" y="3912"/>
                  </a:lnTo>
                  <a:lnTo>
                    <a:pt x="225" y="3965"/>
                  </a:lnTo>
                  <a:lnTo>
                    <a:pt x="225" y="4009"/>
                  </a:lnTo>
                  <a:lnTo>
                    <a:pt x="212" y="4053"/>
                  </a:lnTo>
                  <a:lnTo>
                    <a:pt x="199" y="4106"/>
                  </a:lnTo>
                  <a:lnTo>
                    <a:pt x="199" y="4150"/>
                  </a:lnTo>
                  <a:lnTo>
                    <a:pt x="199" y="4194"/>
                  </a:lnTo>
                  <a:lnTo>
                    <a:pt x="199" y="4247"/>
                  </a:lnTo>
                  <a:lnTo>
                    <a:pt x="199" y="4291"/>
                  </a:lnTo>
                  <a:lnTo>
                    <a:pt x="186" y="4335"/>
                  </a:lnTo>
                  <a:lnTo>
                    <a:pt x="186" y="4388"/>
                  </a:lnTo>
                  <a:lnTo>
                    <a:pt x="186" y="4432"/>
                  </a:lnTo>
                  <a:lnTo>
                    <a:pt x="186" y="4476"/>
                  </a:lnTo>
                  <a:lnTo>
                    <a:pt x="186" y="4529"/>
                  </a:lnTo>
                  <a:lnTo>
                    <a:pt x="199" y="4573"/>
                  </a:lnTo>
                  <a:lnTo>
                    <a:pt x="225" y="4617"/>
                  </a:lnTo>
                  <a:lnTo>
                    <a:pt x="256" y="4670"/>
                  </a:lnTo>
                  <a:lnTo>
                    <a:pt x="269" y="4714"/>
                  </a:lnTo>
                  <a:lnTo>
                    <a:pt x="283" y="4759"/>
                  </a:lnTo>
                  <a:lnTo>
                    <a:pt x="296" y="4812"/>
                  </a:lnTo>
                  <a:lnTo>
                    <a:pt x="327" y="4856"/>
                  </a:lnTo>
                  <a:lnTo>
                    <a:pt x="353" y="4900"/>
                  </a:lnTo>
                  <a:lnTo>
                    <a:pt x="368" y="4953"/>
                  </a:lnTo>
                  <a:lnTo>
                    <a:pt x="381" y="4997"/>
                  </a:lnTo>
                  <a:lnTo>
                    <a:pt x="381" y="5041"/>
                  </a:lnTo>
                  <a:lnTo>
                    <a:pt x="381" y="5094"/>
                  </a:lnTo>
                  <a:lnTo>
                    <a:pt x="381" y="5138"/>
                  </a:lnTo>
                  <a:lnTo>
                    <a:pt x="381" y="5182"/>
                  </a:lnTo>
                  <a:lnTo>
                    <a:pt x="381" y="5235"/>
                  </a:lnTo>
                  <a:lnTo>
                    <a:pt x="381" y="5279"/>
                  </a:lnTo>
                  <a:lnTo>
                    <a:pt x="398" y="5323"/>
                  </a:lnTo>
                  <a:lnTo>
                    <a:pt x="412" y="5376"/>
                  </a:lnTo>
                  <a:lnTo>
                    <a:pt x="412" y="5420"/>
                  </a:lnTo>
                  <a:lnTo>
                    <a:pt x="425" y="5464"/>
                  </a:lnTo>
                  <a:lnTo>
                    <a:pt x="425" y="5517"/>
                  </a:lnTo>
                  <a:lnTo>
                    <a:pt x="425" y="5561"/>
                  </a:lnTo>
                  <a:lnTo>
                    <a:pt x="438" y="5605"/>
                  </a:lnTo>
                  <a:lnTo>
                    <a:pt x="451" y="5658"/>
                  </a:lnTo>
                  <a:lnTo>
                    <a:pt x="469" y="5702"/>
                  </a:lnTo>
                  <a:lnTo>
                    <a:pt x="469" y="5746"/>
                  </a:lnTo>
                  <a:lnTo>
                    <a:pt x="469" y="5799"/>
                  </a:lnTo>
                  <a:lnTo>
                    <a:pt x="469" y="5843"/>
                  </a:lnTo>
                  <a:lnTo>
                    <a:pt x="469" y="5887"/>
                  </a:lnTo>
                  <a:lnTo>
                    <a:pt x="469" y="5940"/>
                  </a:lnTo>
                  <a:lnTo>
                    <a:pt x="469" y="5984"/>
                  </a:lnTo>
                  <a:lnTo>
                    <a:pt x="469" y="6029"/>
                  </a:lnTo>
                  <a:lnTo>
                    <a:pt x="482" y="6082"/>
                  </a:lnTo>
                </a:path>
              </a:pathLst>
            </a:custGeom>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826" name=""/>
            <p:cNvSpPr txBox="1"/>
            <p:nvPr/>
          </p:nvSpPr>
          <p:spPr>
            <a:xfrm>
              <a:off x="550800" y="536580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Black"/>
                  <a:ea typeface="Arial Black"/>
                </a:rPr>
                <a:t>Gaza</a:t>
              </a:r>
              <a:endParaRPr b="0" lang="en-US" sz="2000" spc="-1" strike="noStrike">
                <a:solidFill>
                  <a:srgbClr val="000000"/>
                </a:solidFill>
                <a:latin typeface="Arial"/>
              </a:endParaRPr>
            </a:p>
          </p:txBody>
        </p:sp>
        <p:sp>
          <p:nvSpPr>
            <p:cNvPr id="827" name=""/>
            <p:cNvSpPr txBox="1"/>
            <p:nvPr/>
          </p:nvSpPr>
          <p:spPr>
            <a:xfrm>
              <a:off x="682560" y="4289400"/>
              <a:ext cx="1447920" cy="579600"/>
            </a:xfrm>
            <a:prstGeom prst="rect">
              <a:avLst/>
            </a:prstGeom>
            <a:noFill/>
            <a:ln w="0">
              <a:noFill/>
            </a:ln>
          </p:spPr>
          <p:txBody>
            <a:bodyPr lIns="0" rIns="0" tIns="0" bIns="0" anchor="t">
              <a:noAutofit/>
            </a:bodyPr>
            <a:p>
              <a:pPr>
                <a:lnSpc>
                  <a:spcPct val="100000"/>
                </a:lnSpc>
              </a:pPr>
              <a:r>
                <a:rPr b="0" lang="en-US" sz="3200" spc="-1" strike="noStrike">
                  <a:solidFill>
                    <a:srgbClr val="fafd00"/>
                  </a:solidFill>
                  <a:latin typeface="Arial Black"/>
                  <a:ea typeface="Arial Black"/>
                </a:rPr>
                <a:t>Israel</a:t>
              </a:r>
              <a:endParaRPr b="0" lang="en-US" sz="3200" spc="-1" strike="noStrike">
                <a:solidFill>
                  <a:srgbClr val="000000"/>
                </a:solidFill>
                <a:latin typeface="Arial"/>
              </a:endParaRPr>
            </a:p>
          </p:txBody>
        </p:sp>
        <p:sp>
          <p:nvSpPr>
            <p:cNvPr id="828" name=""/>
            <p:cNvSpPr txBox="1"/>
            <p:nvPr/>
          </p:nvSpPr>
          <p:spPr>
            <a:xfrm>
              <a:off x="3519360" y="6456240"/>
              <a:ext cx="12924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NASA PHOTO</a:t>
              </a:r>
              <a:endParaRPr b="0" lang="en-US" sz="1200" spc="-1" strike="noStrike">
                <a:solidFill>
                  <a:srgbClr val="000000"/>
                </a:solidFill>
                <a:latin typeface="Arial"/>
              </a:endParaRPr>
            </a:p>
          </p:txBody>
        </p:sp>
        <p:sp>
          <p:nvSpPr>
            <p:cNvPr id="829" name=""/>
            <p:cNvSpPr txBox="1"/>
            <p:nvPr/>
          </p:nvSpPr>
          <p:spPr>
            <a:xfrm>
              <a:off x="3454560" y="6303960"/>
              <a:ext cx="1376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EBibleTeacher.com</a:t>
              </a:r>
              <a:endParaRPr b="0" lang="en-US" sz="1000" spc="-1" strike="noStrike">
                <a:solidFill>
                  <a:srgbClr val="000000"/>
                </a:solidFill>
                <a:latin typeface="Arial"/>
              </a:endParaRPr>
            </a:p>
          </p:txBody>
        </p:sp>
        <p:sp>
          <p:nvSpPr>
            <p:cNvPr id="830" name=""/>
            <p:cNvSpPr txBox="1"/>
            <p:nvPr/>
          </p:nvSpPr>
          <p:spPr>
            <a:xfrm>
              <a:off x="2976480" y="271440"/>
              <a:ext cx="1866960" cy="822240"/>
            </a:xfrm>
            <a:prstGeom prst="rect">
              <a:avLst/>
            </a:prstGeom>
            <a:noFill/>
            <a:ln w="0">
              <a:noFill/>
            </a:ln>
          </p:spPr>
          <p:txBody>
            <a:bodyPr lIns="0" rIns="0" tIns="0" bIns="0" anchor="t">
              <a:noAutofit/>
            </a:bodyPr>
            <a:p>
              <a:pPr algn="ctr">
                <a:lnSpc>
                  <a:spcPct val="100000"/>
                </a:lnSpc>
              </a:pPr>
              <a:r>
                <a:rPr b="1" lang="en-US" sz="2400" spc="-1" strike="noStrike" u="sng">
                  <a:solidFill>
                    <a:srgbClr val="fafd00"/>
                  </a:solidFill>
                  <a:uFillTx/>
                  <a:latin typeface="Arial"/>
                  <a:ea typeface="Arial"/>
                </a:rPr>
                <a:t>Modern Israel</a:t>
              </a:r>
              <a:endParaRPr b="0" lang="en-US" sz="2400" spc="-1" strike="noStrike">
                <a:solidFill>
                  <a:srgbClr val="000000"/>
                </a:solidFill>
                <a:latin typeface="Arial"/>
              </a:endParaRPr>
            </a:p>
          </p:txBody>
        </p:sp>
        <p:sp>
          <p:nvSpPr>
            <p:cNvPr id="831" name=""/>
            <p:cNvSpPr txBox="1"/>
            <p:nvPr/>
          </p:nvSpPr>
          <p:spPr>
            <a:xfrm>
              <a:off x="709560" y="3643200"/>
              <a:ext cx="9637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Tel Aviv</a:t>
              </a:r>
              <a:endParaRPr b="0" lang="en-US" sz="1600" spc="-1" strike="noStrike">
                <a:solidFill>
                  <a:srgbClr val="000000"/>
                </a:solidFill>
                <a:latin typeface="Arial"/>
              </a:endParaRPr>
            </a:p>
          </p:txBody>
        </p:sp>
        <p:sp>
          <p:nvSpPr>
            <p:cNvPr id="832" name=""/>
            <p:cNvSpPr/>
            <p:nvPr/>
          </p:nvSpPr>
          <p:spPr>
            <a:xfrm>
              <a:off x="1568520" y="3860640"/>
              <a:ext cx="90720" cy="98640"/>
            </a:xfrm>
            <a:custGeom>
              <a:avLst/>
              <a:gdLst/>
              <a:ahLst/>
              <a:rect l="0" t="0" r="r" b="b"/>
              <a:pathLst>
                <a:path w="252" h="274">
                  <a:moveTo>
                    <a:pt x="125" y="0"/>
                  </a:moveTo>
                  <a:lnTo>
                    <a:pt x="96" y="104"/>
                  </a:lnTo>
                  <a:lnTo>
                    <a:pt x="0" y="104"/>
                  </a:lnTo>
                  <a:lnTo>
                    <a:pt x="78" y="170"/>
                  </a:lnTo>
                  <a:lnTo>
                    <a:pt x="48" y="274"/>
                  </a:lnTo>
                  <a:lnTo>
                    <a:pt x="125" y="214"/>
                  </a:lnTo>
                  <a:lnTo>
                    <a:pt x="203" y="274"/>
                  </a:lnTo>
                  <a:lnTo>
                    <a:pt x="173" y="170"/>
                  </a:lnTo>
                  <a:lnTo>
                    <a:pt x="252" y="104"/>
                  </a:lnTo>
                  <a:lnTo>
                    <a:pt x="156" y="104"/>
                  </a:lnTo>
                  <a:lnTo>
                    <a:pt x="125" y="0"/>
                  </a:lnTo>
                  <a:close/>
                </a:path>
              </a:pathLst>
            </a:custGeom>
            <a:solidFill>
              <a:srgbClr val="7b00e4"/>
            </a:solidFill>
            <a:ln w="12600">
              <a:solidFill>
                <a:srgbClr val="7b00e4"/>
              </a:solidFill>
              <a:round/>
            </a:ln>
          </p:spPr>
          <p:txBody>
            <a:bodyPr lIns="96120" rIns="96120" tIns="47520" bIns="47520" anchor="t">
              <a:noAutofit/>
            </a:bodyPr>
            <a:p>
              <a:endParaRPr b="0" lang="en-US" sz="1800" spc="-1" strike="noStrike">
                <a:solidFill>
                  <a:srgbClr val="ffffff"/>
                </a:solidFill>
                <a:latin typeface="Arial"/>
              </a:endParaRPr>
            </a:p>
          </p:txBody>
        </p:sp>
        <p:sp>
          <p:nvSpPr>
            <p:cNvPr id="833" name=""/>
            <p:cNvSpPr/>
            <p:nvPr/>
          </p:nvSpPr>
          <p:spPr>
            <a:xfrm>
              <a:off x="1014480" y="5354640"/>
              <a:ext cx="324360" cy="547920"/>
            </a:xfrm>
            <a:custGeom>
              <a:avLst/>
              <a:gdLst/>
              <a:ahLst/>
              <a:rect l="0" t="0" r="r" b="b"/>
              <a:pathLst>
                <a:path fill="none" w="901" h="1522">
                  <a:moveTo>
                    <a:pt x="534" y="0"/>
                  </a:moveTo>
                  <a:lnTo>
                    <a:pt x="618" y="83"/>
                  </a:lnTo>
                  <a:lnTo>
                    <a:pt x="707" y="110"/>
                  </a:lnTo>
                  <a:lnTo>
                    <a:pt x="791" y="141"/>
                  </a:lnTo>
                  <a:lnTo>
                    <a:pt x="875" y="198"/>
                  </a:lnTo>
                  <a:lnTo>
                    <a:pt x="901" y="282"/>
                  </a:lnTo>
                  <a:lnTo>
                    <a:pt x="901" y="366"/>
                  </a:lnTo>
                  <a:lnTo>
                    <a:pt x="817" y="423"/>
                  </a:lnTo>
                  <a:lnTo>
                    <a:pt x="734" y="480"/>
                  </a:lnTo>
                  <a:lnTo>
                    <a:pt x="649" y="533"/>
                  </a:lnTo>
                  <a:lnTo>
                    <a:pt x="565" y="590"/>
                  </a:lnTo>
                  <a:lnTo>
                    <a:pt x="534" y="674"/>
                  </a:lnTo>
                  <a:lnTo>
                    <a:pt x="477" y="763"/>
                  </a:lnTo>
                  <a:lnTo>
                    <a:pt x="450" y="847"/>
                  </a:lnTo>
                  <a:lnTo>
                    <a:pt x="450" y="931"/>
                  </a:lnTo>
                  <a:lnTo>
                    <a:pt x="450" y="1015"/>
                  </a:lnTo>
                  <a:lnTo>
                    <a:pt x="450" y="1099"/>
                  </a:lnTo>
                  <a:lnTo>
                    <a:pt x="450" y="1187"/>
                  </a:lnTo>
                  <a:lnTo>
                    <a:pt x="424" y="1271"/>
                  </a:lnTo>
                  <a:lnTo>
                    <a:pt x="393" y="1354"/>
                  </a:lnTo>
                  <a:lnTo>
                    <a:pt x="336" y="1438"/>
                  </a:lnTo>
                  <a:lnTo>
                    <a:pt x="283" y="1522"/>
                  </a:lnTo>
                  <a:lnTo>
                    <a:pt x="194" y="1495"/>
                  </a:lnTo>
                  <a:lnTo>
                    <a:pt x="110" y="1469"/>
                  </a:lnTo>
                  <a:lnTo>
                    <a:pt x="26" y="1412"/>
                  </a:lnTo>
                  <a:lnTo>
                    <a:pt x="0" y="1328"/>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4" name=""/>
            <p:cNvSpPr/>
            <p:nvPr/>
          </p:nvSpPr>
          <p:spPr>
            <a:xfrm>
              <a:off x="1074600" y="5902200"/>
              <a:ext cx="670320" cy="833760"/>
            </a:xfrm>
            <a:custGeom>
              <a:avLst/>
              <a:gdLst/>
              <a:ahLst/>
              <a:rect l="0" t="0" r="r" b="b"/>
              <a:pathLst>
                <a:path fill="none" w="1862" h="2316">
                  <a:moveTo>
                    <a:pt x="0" y="0"/>
                  </a:moveTo>
                  <a:lnTo>
                    <a:pt x="83" y="57"/>
                  </a:lnTo>
                  <a:lnTo>
                    <a:pt x="167" y="114"/>
                  </a:lnTo>
                  <a:lnTo>
                    <a:pt x="255" y="198"/>
                  </a:lnTo>
                  <a:lnTo>
                    <a:pt x="339" y="282"/>
                  </a:lnTo>
                  <a:lnTo>
                    <a:pt x="396" y="370"/>
                  </a:lnTo>
                  <a:lnTo>
                    <a:pt x="481" y="423"/>
                  </a:lnTo>
                  <a:lnTo>
                    <a:pt x="565" y="511"/>
                  </a:lnTo>
                  <a:lnTo>
                    <a:pt x="649" y="595"/>
                  </a:lnTo>
                  <a:lnTo>
                    <a:pt x="733" y="820"/>
                  </a:lnTo>
                  <a:lnTo>
                    <a:pt x="821" y="903"/>
                  </a:lnTo>
                  <a:lnTo>
                    <a:pt x="874" y="1128"/>
                  </a:lnTo>
                  <a:lnTo>
                    <a:pt x="931" y="1328"/>
                  </a:lnTo>
                  <a:lnTo>
                    <a:pt x="1015" y="1412"/>
                  </a:lnTo>
                  <a:lnTo>
                    <a:pt x="1103" y="1500"/>
                  </a:lnTo>
                  <a:lnTo>
                    <a:pt x="1187" y="1553"/>
                  </a:lnTo>
                  <a:lnTo>
                    <a:pt x="1244" y="1641"/>
                  </a:lnTo>
                  <a:lnTo>
                    <a:pt x="1328" y="1694"/>
                  </a:lnTo>
                  <a:lnTo>
                    <a:pt x="1385" y="1782"/>
                  </a:lnTo>
                  <a:lnTo>
                    <a:pt x="1470" y="1835"/>
                  </a:lnTo>
                  <a:lnTo>
                    <a:pt x="1527" y="1923"/>
                  </a:lnTo>
                  <a:lnTo>
                    <a:pt x="1611" y="2007"/>
                  </a:lnTo>
                  <a:lnTo>
                    <a:pt x="1668" y="2091"/>
                  </a:lnTo>
                  <a:lnTo>
                    <a:pt x="1752" y="2148"/>
                  </a:lnTo>
                  <a:lnTo>
                    <a:pt x="1779" y="2232"/>
                  </a:lnTo>
                  <a:lnTo>
                    <a:pt x="1862" y="2316"/>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5" name=""/>
            <p:cNvSpPr/>
            <p:nvPr/>
          </p:nvSpPr>
          <p:spPr>
            <a:xfrm>
              <a:off x="3025800" y="2468520"/>
              <a:ext cx="162360" cy="4246920"/>
            </a:xfrm>
            <a:custGeom>
              <a:avLst/>
              <a:gdLst/>
              <a:ahLst/>
              <a:rect l="0" t="0" r="r" b="b"/>
              <a:pathLst>
                <a:path fill="none" w="451" h="11797">
                  <a:moveTo>
                    <a:pt x="0" y="11797"/>
                  </a:moveTo>
                  <a:lnTo>
                    <a:pt x="0" y="11713"/>
                  </a:lnTo>
                  <a:lnTo>
                    <a:pt x="26" y="11629"/>
                  </a:lnTo>
                  <a:lnTo>
                    <a:pt x="57" y="11545"/>
                  </a:lnTo>
                  <a:lnTo>
                    <a:pt x="83" y="11461"/>
                  </a:lnTo>
                  <a:lnTo>
                    <a:pt x="110" y="11373"/>
                  </a:lnTo>
                  <a:lnTo>
                    <a:pt x="142" y="11289"/>
                  </a:lnTo>
                  <a:lnTo>
                    <a:pt x="168" y="11206"/>
                  </a:lnTo>
                  <a:lnTo>
                    <a:pt x="199" y="11122"/>
                  </a:lnTo>
                  <a:lnTo>
                    <a:pt x="225" y="11038"/>
                  </a:lnTo>
                  <a:lnTo>
                    <a:pt x="252" y="10950"/>
                  </a:lnTo>
                  <a:lnTo>
                    <a:pt x="252" y="10866"/>
                  </a:lnTo>
                  <a:lnTo>
                    <a:pt x="283" y="10782"/>
                  </a:lnTo>
                  <a:lnTo>
                    <a:pt x="309" y="10698"/>
                  </a:lnTo>
                  <a:lnTo>
                    <a:pt x="309" y="10615"/>
                  </a:lnTo>
                  <a:lnTo>
                    <a:pt x="309" y="10527"/>
                  </a:lnTo>
                  <a:lnTo>
                    <a:pt x="309" y="10443"/>
                  </a:lnTo>
                  <a:lnTo>
                    <a:pt x="309" y="10359"/>
                  </a:lnTo>
                  <a:lnTo>
                    <a:pt x="309" y="10275"/>
                  </a:lnTo>
                  <a:lnTo>
                    <a:pt x="309" y="10191"/>
                  </a:lnTo>
                  <a:lnTo>
                    <a:pt x="309" y="10103"/>
                  </a:lnTo>
                  <a:lnTo>
                    <a:pt x="283" y="10019"/>
                  </a:lnTo>
                  <a:lnTo>
                    <a:pt x="283" y="9936"/>
                  </a:lnTo>
                  <a:lnTo>
                    <a:pt x="283" y="9852"/>
                  </a:lnTo>
                  <a:lnTo>
                    <a:pt x="283" y="9768"/>
                  </a:lnTo>
                  <a:lnTo>
                    <a:pt x="283" y="9680"/>
                  </a:lnTo>
                  <a:lnTo>
                    <a:pt x="283" y="9596"/>
                  </a:lnTo>
                  <a:lnTo>
                    <a:pt x="309" y="9512"/>
                  </a:lnTo>
                  <a:lnTo>
                    <a:pt x="309" y="9428"/>
                  </a:lnTo>
                  <a:lnTo>
                    <a:pt x="309" y="9345"/>
                  </a:lnTo>
                  <a:lnTo>
                    <a:pt x="309" y="9257"/>
                  </a:lnTo>
                  <a:lnTo>
                    <a:pt x="341" y="9173"/>
                  </a:lnTo>
                  <a:lnTo>
                    <a:pt x="341" y="9089"/>
                  </a:lnTo>
                  <a:lnTo>
                    <a:pt x="368" y="9005"/>
                  </a:lnTo>
                  <a:lnTo>
                    <a:pt x="394" y="8921"/>
                  </a:lnTo>
                  <a:lnTo>
                    <a:pt x="394" y="8833"/>
                  </a:lnTo>
                  <a:lnTo>
                    <a:pt x="394" y="8749"/>
                  </a:lnTo>
                  <a:lnTo>
                    <a:pt x="394" y="8666"/>
                  </a:lnTo>
                  <a:lnTo>
                    <a:pt x="394" y="8582"/>
                  </a:lnTo>
                  <a:lnTo>
                    <a:pt x="394" y="8498"/>
                  </a:lnTo>
                  <a:lnTo>
                    <a:pt x="394" y="8410"/>
                  </a:lnTo>
                  <a:lnTo>
                    <a:pt x="394" y="8326"/>
                  </a:lnTo>
                  <a:lnTo>
                    <a:pt x="394" y="8242"/>
                  </a:lnTo>
                  <a:lnTo>
                    <a:pt x="394" y="8158"/>
                  </a:lnTo>
                  <a:lnTo>
                    <a:pt x="394" y="8075"/>
                  </a:lnTo>
                  <a:lnTo>
                    <a:pt x="394" y="7987"/>
                  </a:lnTo>
                  <a:lnTo>
                    <a:pt x="394" y="7903"/>
                  </a:lnTo>
                  <a:lnTo>
                    <a:pt x="394" y="7819"/>
                  </a:lnTo>
                  <a:lnTo>
                    <a:pt x="394" y="7735"/>
                  </a:lnTo>
                  <a:lnTo>
                    <a:pt x="394" y="7651"/>
                  </a:lnTo>
                  <a:lnTo>
                    <a:pt x="394" y="7563"/>
                  </a:lnTo>
                  <a:lnTo>
                    <a:pt x="394" y="7479"/>
                  </a:lnTo>
                  <a:lnTo>
                    <a:pt x="394" y="7396"/>
                  </a:lnTo>
                  <a:lnTo>
                    <a:pt x="394" y="7312"/>
                  </a:lnTo>
                  <a:lnTo>
                    <a:pt x="425" y="7056"/>
                  </a:lnTo>
                  <a:lnTo>
                    <a:pt x="425" y="6831"/>
                  </a:lnTo>
                  <a:lnTo>
                    <a:pt x="451" y="6747"/>
                  </a:lnTo>
                  <a:lnTo>
                    <a:pt x="451" y="6664"/>
                  </a:lnTo>
                  <a:lnTo>
                    <a:pt x="451" y="6575"/>
                  </a:lnTo>
                  <a:lnTo>
                    <a:pt x="451" y="6492"/>
                  </a:lnTo>
                  <a:lnTo>
                    <a:pt x="451" y="6408"/>
                  </a:lnTo>
                  <a:lnTo>
                    <a:pt x="425" y="6324"/>
                  </a:lnTo>
                  <a:lnTo>
                    <a:pt x="425" y="6126"/>
                  </a:lnTo>
                  <a:lnTo>
                    <a:pt x="394" y="6042"/>
                  </a:lnTo>
                  <a:lnTo>
                    <a:pt x="394" y="5958"/>
                  </a:lnTo>
                  <a:lnTo>
                    <a:pt x="368" y="5869"/>
                  </a:lnTo>
                  <a:lnTo>
                    <a:pt x="341" y="5785"/>
                  </a:lnTo>
                  <a:lnTo>
                    <a:pt x="341" y="5701"/>
                  </a:lnTo>
                  <a:lnTo>
                    <a:pt x="309" y="5617"/>
                  </a:lnTo>
                  <a:lnTo>
                    <a:pt x="283" y="5534"/>
                  </a:lnTo>
                  <a:lnTo>
                    <a:pt x="283" y="5446"/>
                  </a:lnTo>
                  <a:lnTo>
                    <a:pt x="252" y="5362"/>
                  </a:lnTo>
                  <a:lnTo>
                    <a:pt x="225" y="5278"/>
                  </a:lnTo>
                  <a:lnTo>
                    <a:pt x="225" y="5194"/>
                  </a:lnTo>
                  <a:lnTo>
                    <a:pt x="225" y="5110"/>
                  </a:lnTo>
                  <a:lnTo>
                    <a:pt x="225" y="5022"/>
                  </a:lnTo>
                  <a:lnTo>
                    <a:pt x="225" y="4938"/>
                  </a:lnTo>
                  <a:lnTo>
                    <a:pt x="225" y="4855"/>
                  </a:lnTo>
                  <a:lnTo>
                    <a:pt x="225" y="4771"/>
                  </a:lnTo>
                  <a:lnTo>
                    <a:pt x="225" y="4687"/>
                  </a:lnTo>
                  <a:lnTo>
                    <a:pt x="225" y="4599"/>
                  </a:lnTo>
                  <a:lnTo>
                    <a:pt x="225" y="4515"/>
                  </a:lnTo>
                  <a:lnTo>
                    <a:pt x="225" y="4431"/>
                  </a:lnTo>
                  <a:lnTo>
                    <a:pt x="225" y="4347"/>
                  </a:lnTo>
                  <a:lnTo>
                    <a:pt x="225" y="4264"/>
                  </a:lnTo>
                  <a:lnTo>
                    <a:pt x="225" y="4176"/>
                  </a:lnTo>
                  <a:lnTo>
                    <a:pt x="225" y="4092"/>
                  </a:lnTo>
                  <a:lnTo>
                    <a:pt x="225" y="4008"/>
                  </a:lnTo>
                  <a:lnTo>
                    <a:pt x="225" y="3924"/>
                  </a:lnTo>
                  <a:lnTo>
                    <a:pt x="225" y="3840"/>
                  </a:lnTo>
                  <a:lnTo>
                    <a:pt x="225" y="3752"/>
                  </a:lnTo>
                  <a:lnTo>
                    <a:pt x="225" y="3668"/>
                  </a:lnTo>
                  <a:lnTo>
                    <a:pt x="199" y="3585"/>
                  </a:lnTo>
                  <a:lnTo>
                    <a:pt x="199" y="3501"/>
                  </a:lnTo>
                  <a:lnTo>
                    <a:pt x="168" y="3417"/>
                  </a:lnTo>
                  <a:lnTo>
                    <a:pt x="168" y="3219"/>
                  </a:lnTo>
                  <a:lnTo>
                    <a:pt x="142" y="3020"/>
                  </a:lnTo>
                  <a:lnTo>
                    <a:pt x="142" y="2936"/>
                  </a:lnTo>
                  <a:lnTo>
                    <a:pt x="110" y="2738"/>
                  </a:lnTo>
                  <a:lnTo>
                    <a:pt x="110" y="2540"/>
                  </a:lnTo>
                  <a:lnTo>
                    <a:pt x="110" y="2456"/>
                  </a:lnTo>
                  <a:lnTo>
                    <a:pt x="110" y="2372"/>
                  </a:lnTo>
                  <a:lnTo>
                    <a:pt x="110" y="2288"/>
                  </a:lnTo>
                  <a:lnTo>
                    <a:pt x="110" y="2200"/>
                  </a:lnTo>
                  <a:lnTo>
                    <a:pt x="110" y="2116"/>
                  </a:lnTo>
                  <a:lnTo>
                    <a:pt x="110" y="2032"/>
                  </a:lnTo>
                  <a:lnTo>
                    <a:pt x="142" y="1949"/>
                  </a:lnTo>
                  <a:lnTo>
                    <a:pt x="142" y="1865"/>
                  </a:lnTo>
                  <a:lnTo>
                    <a:pt x="142" y="1777"/>
                  </a:lnTo>
                  <a:lnTo>
                    <a:pt x="142" y="1552"/>
                  </a:lnTo>
                  <a:lnTo>
                    <a:pt x="142" y="1468"/>
                  </a:lnTo>
                  <a:lnTo>
                    <a:pt x="142" y="1384"/>
                  </a:lnTo>
                  <a:lnTo>
                    <a:pt x="142" y="1300"/>
                  </a:lnTo>
                  <a:lnTo>
                    <a:pt x="142" y="1102"/>
                  </a:lnTo>
                  <a:lnTo>
                    <a:pt x="142" y="1018"/>
                  </a:lnTo>
                  <a:lnTo>
                    <a:pt x="142" y="930"/>
                  </a:lnTo>
                  <a:lnTo>
                    <a:pt x="142" y="846"/>
                  </a:lnTo>
                  <a:lnTo>
                    <a:pt x="142" y="762"/>
                  </a:lnTo>
                  <a:lnTo>
                    <a:pt x="142" y="679"/>
                  </a:lnTo>
                  <a:lnTo>
                    <a:pt x="142" y="595"/>
                  </a:lnTo>
                  <a:lnTo>
                    <a:pt x="142" y="507"/>
                  </a:lnTo>
                  <a:lnTo>
                    <a:pt x="142" y="423"/>
                  </a:lnTo>
                  <a:lnTo>
                    <a:pt x="110" y="339"/>
                  </a:lnTo>
                  <a:lnTo>
                    <a:pt x="110" y="255"/>
                  </a:lnTo>
                  <a:lnTo>
                    <a:pt x="110" y="171"/>
                  </a:lnTo>
                  <a:lnTo>
                    <a:pt x="110" y="83"/>
                  </a:lnTo>
                  <a:lnTo>
                    <a:pt x="199"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6" name=""/>
            <p:cNvSpPr/>
            <p:nvPr/>
          </p:nvSpPr>
          <p:spPr>
            <a:xfrm>
              <a:off x="1979640" y="2955960"/>
              <a:ext cx="1178280" cy="2907000"/>
            </a:xfrm>
            <a:custGeom>
              <a:avLst/>
              <a:gdLst/>
              <a:ahLst/>
              <a:rect l="0" t="0" r="r" b="b"/>
              <a:pathLst>
                <a:path fill="none" w="3273" h="8075">
                  <a:moveTo>
                    <a:pt x="3048" y="454"/>
                  </a:moveTo>
                  <a:lnTo>
                    <a:pt x="2964" y="423"/>
                  </a:lnTo>
                  <a:lnTo>
                    <a:pt x="2876" y="396"/>
                  </a:lnTo>
                  <a:lnTo>
                    <a:pt x="2792" y="339"/>
                  </a:lnTo>
                  <a:lnTo>
                    <a:pt x="2708" y="339"/>
                  </a:lnTo>
                  <a:lnTo>
                    <a:pt x="2624" y="339"/>
                  </a:lnTo>
                  <a:lnTo>
                    <a:pt x="2541" y="339"/>
                  </a:lnTo>
                  <a:lnTo>
                    <a:pt x="2452" y="339"/>
                  </a:lnTo>
                  <a:lnTo>
                    <a:pt x="2399" y="423"/>
                  </a:lnTo>
                  <a:lnTo>
                    <a:pt x="2311" y="454"/>
                  </a:lnTo>
                  <a:lnTo>
                    <a:pt x="2227" y="480"/>
                  </a:lnTo>
                  <a:lnTo>
                    <a:pt x="2144" y="480"/>
                  </a:lnTo>
                  <a:lnTo>
                    <a:pt x="2060" y="454"/>
                  </a:lnTo>
                  <a:lnTo>
                    <a:pt x="2003" y="370"/>
                  </a:lnTo>
                  <a:lnTo>
                    <a:pt x="1945" y="282"/>
                  </a:lnTo>
                  <a:lnTo>
                    <a:pt x="1861" y="198"/>
                  </a:lnTo>
                  <a:lnTo>
                    <a:pt x="1778" y="141"/>
                  </a:lnTo>
                  <a:lnTo>
                    <a:pt x="1694" y="114"/>
                  </a:lnTo>
                  <a:lnTo>
                    <a:pt x="1605" y="88"/>
                  </a:lnTo>
                  <a:lnTo>
                    <a:pt x="1521" y="114"/>
                  </a:lnTo>
                  <a:lnTo>
                    <a:pt x="1437" y="171"/>
                  </a:lnTo>
                  <a:lnTo>
                    <a:pt x="1353" y="198"/>
                  </a:lnTo>
                  <a:lnTo>
                    <a:pt x="1270" y="229"/>
                  </a:lnTo>
                  <a:lnTo>
                    <a:pt x="1181" y="255"/>
                  </a:lnTo>
                  <a:lnTo>
                    <a:pt x="1098" y="255"/>
                  </a:lnTo>
                  <a:lnTo>
                    <a:pt x="1014" y="229"/>
                  </a:lnTo>
                  <a:lnTo>
                    <a:pt x="930" y="141"/>
                  </a:lnTo>
                  <a:lnTo>
                    <a:pt x="846" y="88"/>
                  </a:lnTo>
                  <a:lnTo>
                    <a:pt x="590" y="57"/>
                  </a:lnTo>
                  <a:lnTo>
                    <a:pt x="392" y="30"/>
                  </a:lnTo>
                  <a:lnTo>
                    <a:pt x="308" y="0"/>
                  </a:lnTo>
                  <a:lnTo>
                    <a:pt x="224" y="57"/>
                  </a:lnTo>
                  <a:lnTo>
                    <a:pt x="194" y="141"/>
                  </a:lnTo>
                  <a:lnTo>
                    <a:pt x="167" y="229"/>
                  </a:lnTo>
                  <a:lnTo>
                    <a:pt x="167" y="313"/>
                  </a:lnTo>
                  <a:lnTo>
                    <a:pt x="141" y="396"/>
                  </a:lnTo>
                  <a:lnTo>
                    <a:pt x="141" y="480"/>
                  </a:lnTo>
                  <a:lnTo>
                    <a:pt x="141" y="564"/>
                  </a:lnTo>
                  <a:lnTo>
                    <a:pt x="141" y="652"/>
                  </a:lnTo>
                  <a:lnTo>
                    <a:pt x="141" y="736"/>
                  </a:lnTo>
                  <a:lnTo>
                    <a:pt x="141" y="820"/>
                  </a:lnTo>
                  <a:lnTo>
                    <a:pt x="141" y="903"/>
                  </a:lnTo>
                  <a:lnTo>
                    <a:pt x="141" y="987"/>
                  </a:lnTo>
                  <a:lnTo>
                    <a:pt x="141" y="1075"/>
                  </a:lnTo>
                  <a:lnTo>
                    <a:pt x="141" y="1159"/>
                  </a:lnTo>
                  <a:lnTo>
                    <a:pt x="141" y="1243"/>
                  </a:lnTo>
                  <a:lnTo>
                    <a:pt x="141" y="1327"/>
                  </a:lnTo>
                  <a:lnTo>
                    <a:pt x="141" y="1411"/>
                  </a:lnTo>
                  <a:lnTo>
                    <a:pt x="167" y="1499"/>
                  </a:lnTo>
                  <a:lnTo>
                    <a:pt x="167" y="1583"/>
                  </a:lnTo>
                  <a:lnTo>
                    <a:pt x="167" y="1666"/>
                  </a:lnTo>
                  <a:lnTo>
                    <a:pt x="167" y="1750"/>
                  </a:lnTo>
                  <a:lnTo>
                    <a:pt x="167" y="1834"/>
                  </a:lnTo>
                  <a:lnTo>
                    <a:pt x="110" y="1922"/>
                  </a:lnTo>
                  <a:lnTo>
                    <a:pt x="52" y="2006"/>
                  </a:lnTo>
                  <a:lnTo>
                    <a:pt x="0" y="2090"/>
                  </a:lnTo>
                  <a:lnTo>
                    <a:pt x="26" y="2173"/>
                  </a:lnTo>
                  <a:lnTo>
                    <a:pt x="52" y="2257"/>
                  </a:lnTo>
                  <a:lnTo>
                    <a:pt x="110" y="2345"/>
                  </a:lnTo>
                  <a:lnTo>
                    <a:pt x="167" y="2429"/>
                  </a:lnTo>
                  <a:lnTo>
                    <a:pt x="194" y="2513"/>
                  </a:lnTo>
                  <a:lnTo>
                    <a:pt x="224" y="2597"/>
                  </a:lnTo>
                  <a:lnTo>
                    <a:pt x="251" y="2681"/>
                  </a:lnTo>
                  <a:lnTo>
                    <a:pt x="282" y="2769"/>
                  </a:lnTo>
                  <a:lnTo>
                    <a:pt x="308" y="2853"/>
                  </a:lnTo>
                  <a:lnTo>
                    <a:pt x="335" y="2936"/>
                  </a:lnTo>
                  <a:lnTo>
                    <a:pt x="335" y="3020"/>
                  </a:lnTo>
                  <a:lnTo>
                    <a:pt x="335" y="3104"/>
                  </a:lnTo>
                  <a:lnTo>
                    <a:pt x="366" y="3192"/>
                  </a:lnTo>
                  <a:lnTo>
                    <a:pt x="392" y="3276"/>
                  </a:lnTo>
                  <a:lnTo>
                    <a:pt x="392" y="3360"/>
                  </a:lnTo>
                  <a:lnTo>
                    <a:pt x="392" y="3443"/>
                  </a:lnTo>
                  <a:lnTo>
                    <a:pt x="423" y="3527"/>
                  </a:lnTo>
                  <a:lnTo>
                    <a:pt x="449" y="3757"/>
                  </a:lnTo>
                  <a:lnTo>
                    <a:pt x="449" y="3840"/>
                  </a:lnTo>
                  <a:lnTo>
                    <a:pt x="476" y="3924"/>
                  </a:lnTo>
                  <a:lnTo>
                    <a:pt x="507" y="4008"/>
                  </a:lnTo>
                  <a:lnTo>
                    <a:pt x="533" y="4093"/>
                  </a:lnTo>
                  <a:lnTo>
                    <a:pt x="564" y="4181"/>
                  </a:lnTo>
                  <a:lnTo>
                    <a:pt x="564" y="4265"/>
                  </a:lnTo>
                  <a:lnTo>
                    <a:pt x="507" y="4348"/>
                  </a:lnTo>
                  <a:lnTo>
                    <a:pt x="449" y="4432"/>
                  </a:lnTo>
                  <a:lnTo>
                    <a:pt x="392" y="4516"/>
                  </a:lnTo>
                  <a:lnTo>
                    <a:pt x="335" y="4604"/>
                  </a:lnTo>
                  <a:lnTo>
                    <a:pt x="308" y="4688"/>
                  </a:lnTo>
                  <a:lnTo>
                    <a:pt x="308" y="4772"/>
                  </a:lnTo>
                  <a:lnTo>
                    <a:pt x="335" y="4856"/>
                  </a:lnTo>
                  <a:lnTo>
                    <a:pt x="423" y="4886"/>
                  </a:lnTo>
                  <a:lnTo>
                    <a:pt x="507" y="4886"/>
                  </a:lnTo>
                  <a:lnTo>
                    <a:pt x="590" y="4856"/>
                  </a:lnTo>
                  <a:lnTo>
                    <a:pt x="648" y="4772"/>
                  </a:lnTo>
                  <a:lnTo>
                    <a:pt x="732" y="4714"/>
                  </a:lnTo>
                  <a:lnTo>
                    <a:pt x="789" y="4631"/>
                  </a:lnTo>
                  <a:lnTo>
                    <a:pt x="873" y="4573"/>
                  </a:lnTo>
                  <a:lnTo>
                    <a:pt x="956" y="4547"/>
                  </a:lnTo>
                  <a:lnTo>
                    <a:pt x="1040" y="4516"/>
                  </a:lnTo>
                  <a:lnTo>
                    <a:pt x="1128" y="4547"/>
                  </a:lnTo>
                  <a:lnTo>
                    <a:pt x="1212" y="4631"/>
                  </a:lnTo>
                  <a:lnTo>
                    <a:pt x="1270" y="4714"/>
                  </a:lnTo>
                  <a:lnTo>
                    <a:pt x="1353" y="4772"/>
                  </a:lnTo>
                  <a:lnTo>
                    <a:pt x="1437" y="4798"/>
                  </a:lnTo>
                  <a:lnTo>
                    <a:pt x="1521" y="4798"/>
                  </a:lnTo>
                  <a:lnTo>
                    <a:pt x="1605" y="4798"/>
                  </a:lnTo>
                  <a:lnTo>
                    <a:pt x="1694" y="4772"/>
                  </a:lnTo>
                  <a:lnTo>
                    <a:pt x="1778" y="4772"/>
                  </a:lnTo>
                  <a:lnTo>
                    <a:pt x="1861" y="4772"/>
                  </a:lnTo>
                  <a:lnTo>
                    <a:pt x="1945" y="4772"/>
                  </a:lnTo>
                  <a:lnTo>
                    <a:pt x="2029" y="4772"/>
                  </a:lnTo>
                  <a:lnTo>
                    <a:pt x="2086" y="4856"/>
                  </a:lnTo>
                  <a:lnTo>
                    <a:pt x="2144" y="4939"/>
                  </a:lnTo>
                  <a:lnTo>
                    <a:pt x="2170" y="5028"/>
                  </a:lnTo>
                  <a:lnTo>
                    <a:pt x="2201" y="5111"/>
                  </a:lnTo>
                  <a:lnTo>
                    <a:pt x="2117" y="5138"/>
                  </a:lnTo>
                  <a:lnTo>
                    <a:pt x="2029" y="5169"/>
                  </a:lnTo>
                  <a:lnTo>
                    <a:pt x="1945" y="5195"/>
                  </a:lnTo>
                  <a:lnTo>
                    <a:pt x="1861" y="5222"/>
                  </a:lnTo>
                  <a:lnTo>
                    <a:pt x="1778" y="5252"/>
                  </a:lnTo>
                  <a:lnTo>
                    <a:pt x="1694" y="5279"/>
                  </a:lnTo>
                  <a:lnTo>
                    <a:pt x="1605" y="5310"/>
                  </a:lnTo>
                  <a:lnTo>
                    <a:pt x="1521" y="5363"/>
                  </a:lnTo>
                  <a:lnTo>
                    <a:pt x="1437" y="5451"/>
                  </a:lnTo>
                  <a:lnTo>
                    <a:pt x="1380" y="5535"/>
                  </a:lnTo>
                  <a:lnTo>
                    <a:pt x="1296" y="5592"/>
                  </a:lnTo>
                  <a:lnTo>
                    <a:pt x="1212" y="5676"/>
                  </a:lnTo>
                  <a:lnTo>
                    <a:pt x="1128" y="5733"/>
                  </a:lnTo>
                  <a:lnTo>
                    <a:pt x="1040" y="5786"/>
                  </a:lnTo>
                  <a:lnTo>
                    <a:pt x="956" y="5786"/>
                  </a:lnTo>
                  <a:lnTo>
                    <a:pt x="873" y="5817"/>
                  </a:lnTo>
                  <a:lnTo>
                    <a:pt x="789" y="5843"/>
                  </a:lnTo>
                  <a:lnTo>
                    <a:pt x="705" y="5901"/>
                  </a:lnTo>
                  <a:lnTo>
                    <a:pt x="617" y="5958"/>
                  </a:lnTo>
                  <a:lnTo>
                    <a:pt x="564" y="6042"/>
                  </a:lnTo>
                  <a:lnTo>
                    <a:pt x="507" y="6126"/>
                  </a:lnTo>
                  <a:lnTo>
                    <a:pt x="449" y="6209"/>
                  </a:lnTo>
                  <a:lnTo>
                    <a:pt x="449" y="6298"/>
                  </a:lnTo>
                  <a:lnTo>
                    <a:pt x="423" y="6381"/>
                  </a:lnTo>
                  <a:lnTo>
                    <a:pt x="335" y="6439"/>
                  </a:lnTo>
                  <a:lnTo>
                    <a:pt x="282" y="6522"/>
                  </a:lnTo>
                  <a:lnTo>
                    <a:pt x="251" y="6606"/>
                  </a:lnTo>
                  <a:lnTo>
                    <a:pt x="251" y="6690"/>
                  </a:lnTo>
                  <a:lnTo>
                    <a:pt x="224" y="6774"/>
                  </a:lnTo>
                  <a:lnTo>
                    <a:pt x="194" y="6862"/>
                  </a:lnTo>
                  <a:lnTo>
                    <a:pt x="110" y="6946"/>
                  </a:lnTo>
                  <a:lnTo>
                    <a:pt x="52" y="7030"/>
                  </a:lnTo>
                  <a:lnTo>
                    <a:pt x="26" y="7113"/>
                  </a:lnTo>
                  <a:lnTo>
                    <a:pt x="0" y="7197"/>
                  </a:lnTo>
                  <a:lnTo>
                    <a:pt x="0" y="7285"/>
                  </a:lnTo>
                  <a:lnTo>
                    <a:pt x="0" y="7369"/>
                  </a:lnTo>
                  <a:lnTo>
                    <a:pt x="0" y="7453"/>
                  </a:lnTo>
                  <a:lnTo>
                    <a:pt x="0" y="7537"/>
                  </a:lnTo>
                  <a:lnTo>
                    <a:pt x="0" y="7621"/>
                  </a:lnTo>
                  <a:lnTo>
                    <a:pt x="0" y="7709"/>
                  </a:lnTo>
                  <a:lnTo>
                    <a:pt x="0" y="7792"/>
                  </a:lnTo>
                  <a:lnTo>
                    <a:pt x="0" y="7876"/>
                  </a:lnTo>
                  <a:lnTo>
                    <a:pt x="52" y="7960"/>
                  </a:lnTo>
                  <a:lnTo>
                    <a:pt x="141" y="7991"/>
                  </a:lnTo>
                  <a:lnTo>
                    <a:pt x="224" y="8017"/>
                  </a:lnTo>
                  <a:lnTo>
                    <a:pt x="308" y="8044"/>
                  </a:lnTo>
                  <a:lnTo>
                    <a:pt x="392" y="8075"/>
                  </a:lnTo>
                  <a:lnTo>
                    <a:pt x="476" y="8075"/>
                  </a:lnTo>
                  <a:lnTo>
                    <a:pt x="564" y="8075"/>
                  </a:lnTo>
                  <a:lnTo>
                    <a:pt x="648" y="8075"/>
                  </a:lnTo>
                  <a:lnTo>
                    <a:pt x="732" y="8044"/>
                  </a:lnTo>
                  <a:lnTo>
                    <a:pt x="815" y="8044"/>
                  </a:lnTo>
                  <a:lnTo>
                    <a:pt x="899" y="8044"/>
                  </a:lnTo>
                  <a:lnTo>
                    <a:pt x="987" y="8044"/>
                  </a:lnTo>
                  <a:lnTo>
                    <a:pt x="1239" y="8017"/>
                  </a:lnTo>
                  <a:lnTo>
                    <a:pt x="1322" y="7991"/>
                  </a:lnTo>
                  <a:lnTo>
                    <a:pt x="1411" y="7960"/>
                  </a:lnTo>
                  <a:lnTo>
                    <a:pt x="1494" y="7934"/>
                  </a:lnTo>
                  <a:lnTo>
                    <a:pt x="1578" y="7903"/>
                  </a:lnTo>
                  <a:lnTo>
                    <a:pt x="1663" y="7903"/>
                  </a:lnTo>
                  <a:lnTo>
                    <a:pt x="1747" y="7876"/>
                  </a:lnTo>
                  <a:lnTo>
                    <a:pt x="1835" y="7792"/>
                  </a:lnTo>
                  <a:lnTo>
                    <a:pt x="1919" y="7735"/>
                  </a:lnTo>
                  <a:lnTo>
                    <a:pt x="2003" y="7709"/>
                  </a:lnTo>
                  <a:lnTo>
                    <a:pt x="2086" y="7709"/>
                  </a:lnTo>
                  <a:lnTo>
                    <a:pt x="2170" y="7678"/>
                  </a:lnTo>
                  <a:lnTo>
                    <a:pt x="2227" y="7594"/>
                  </a:lnTo>
                  <a:lnTo>
                    <a:pt x="2311" y="7537"/>
                  </a:lnTo>
                  <a:lnTo>
                    <a:pt x="2399" y="7453"/>
                  </a:lnTo>
                  <a:lnTo>
                    <a:pt x="2483" y="7369"/>
                  </a:lnTo>
                  <a:lnTo>
                    <a:pt x="2541" y="7285"/>
                  </a:lnTo>
                  <a:lnTo>
                    <a:pt x="2593" y="7197"/>
                  </a:lnTo>
                  <a:lnTo>
                    <a:pt x="2624" y="7113"/>
                  </a:lnTo>
                  <a:lnTo>
                    <a:pt x="2682" y="7030"/>
                  </a:lnTo>
                  <a:lnTo>
                    <a:pt x="2765" y="6946"/>
                  </a:lnTo>
                  <a:lnTo>
                    <a:pt x="2792" y="6862"/>
                  </a:lnTo>
                  <a:lnTo>
                    <a:pt x="2849" y="6774"/>
                  </a:lnTo>
                  <a:lnTo>
                    <a:pt x="2907" y="6690"/>
                  </a:lnTo>
                  <a:lnTo>
                    <a:pt x="2964" y="6606"/>
                  </a:lnTo>
                  <a:lnTo>
                    <a:pt x="3048" y="6549"/>
                  </a:lnTo>
                  <a:lnTo>
                    <a:pt x="3131" y="6522"/>
                  </a:lnTo>
                  <a:lnTo>
                    <a:pt x="3215" y="6522"/>
                  </a:lnTo>
                  <a:lnTo>
                    <a:pt x="3273" y="6606"/>
                  </a:lnTo>
                  <a:lnTo>
                    <a:pt x="3273" y="669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7" name=""/>
            <p:cNvSpPr txBox="1"/>
            <p:nvPr/>
          </p:nvSpPr>
          <p:spPr>
            <a:xfrm>
              <a:off x="2043000" y="3267000"/>
              <a:ext cx="8906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Black"/>
                  <a:ea typeface="Arial Black"/>
                </a:rPr>
                <a:t>Wes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Black"/>
                  <a:ea typeface="Arial Black"/>
                </a:rPr>
                <a:t>Bank</a:t>
              </a:r>
              <a:endParaRPr b="0" lang="en-US" sz="2000" spc="-1" strike="noStrike">
                <a:solidFill>
                  <a:srgbClr val="000000"/>
                </a:solidFill>
                <a:latin typeface="Arial"/>
              </a:endParaRPr>
            </a:p>
          </p:txBody>
        </p:sp>
        <p:sp>
          <p:nvSpPr>
            <p:cNvPr id="838" name=""/>
            <p:cNvSpPr/>
            <p:nvPr/>
          </p:nvSpPr>
          <p:spPr>
            <a:xfrm>
              <a:off x="3097080" y="2417760"/>
              <a:ext cx="1757880" cy="864000"/>
            </a:xfrm>
            <a:custGeom>
              <a:avLst/>
              <a:gdLst/>
              <a:ahLst/>
              <a:rect l="0" t="0" r="r" b="b"/>
              <a:pathLst>
                <a:path fill="none" w="4883" h="2400">
                  <a:moveTo>
                    <a:pt x="0" y="171"/>
                  </a:moveTo>
                  <a:lnTo>
                    <a:pt x="83" y="141"/>
                  </a:lnTo>
                  <a:lnTo>
                    <a:pt x="167" y="83"/>
                  </a:lnTo>
                  <a:lnTo>
                    <a:pt x="251" y="57"/>
                  </a:lnTo>
                  <a:lnTo>
                    <a:pt x="335" y="30"/>
                  </a:lnTo>
                  <a:lnTo>
                    <a:pt x="423" y="0"/>
                  </a:lnTo>
                  <a:lnTo>
                    <a:pt x="507" y="0"/>
                  </a:lnTo>
                  <a:lnTo>
                    <a:pt x="590" y="83"/>
                  </a:lnTo>
                  <a:lnTo>
                    <a:pt x="674" y="114"/>
                  </a:lnTo>
                  <a:lnTo>
                    <a:pt x="758" y="114"/>
                  </a:lnTo>
                  <a:lnTo>
                    <a:pt x="846" y="114"/>
                  </a:lnTo>
                  <a:lnTo>
                    <a:pt x="930" y="114"/>
                  </a:lnTo>
                  <a:lnTo>
                    <a:pt x="1014" y="114"/>
                  </a:lnTo>
                  <a:lnTo>
                    <a:pt x="1071" y="198"/>
                  </a:lnTo>
                  <a:lnTo>
                    <a:pt x="1155" y="255"/>
                  </a:lnTo>
                  <a:lnTo>
                    <a:pt x="1181" y="339"/>
                  </a:lnTo>
                  <a:lnTo>
                    <a:pt x="1240" y="423"/>
                  </a:lnTo>
                  <a:lnTo>
                    <a:pt x="1271" y="507"/>
                  </a:lnTo>
                  <a:lnTo>
                    <a:pt x="1297" y="595"/>
                  </a:lnTo>
                  <a:lnTo>
                    <a:pt x="1323" y="680"/>
                  </a:lnTo>
                  <a:lnTo>
                    <a:pt x="1323" y="878"/>
                  </a:lnTo>
                  <a:lnTo>
                    <a:pt x="1381" y="962"/>
                  </a:lnTo>
                  <a:lnTo>
                    <a:pt x="1438" y="1046"/>
                  </a:lnTo>
                  <a:lnTo>
                    <a:pt x="1522" y="1103"/>
                  </a:lnTo>
                  <a:lnTo>
                    <a:pt x="1606" y="1129"/>
                  </a:lnTo>
                  <a:lnTo>
                    <a:pt x="1694" y="1160"/>
                  </a:lnTo>
                  <a:lnTo>
                    <a:pt x="1778" y="1160"/>
                  </a:lnTo>
                  <a:lnTo>
                    <a:pt x="1861" y="1160"/>
                  </a:lnTo>
                  <a:lnTo>
                    <a:pt x="1945" y="1103"/>
                  </a:lnTo>
                  <a:lnTo>
                    <a:pt x="2029" y="1103"/>
                  </a:lnTo>
                  <a:lnTo>
                    <a:pt x="2117" y="1129"/>
                  </a:lnTo>
                  <a:lnTo>
                    <a:pt x="2201" y="1187"/>
                  </a:lnTo>
                  <a:lnTo>
                    <a:pt x="2285" y="1271"/>
                  </a:lnTo>
                  <a:lnTo>
                    <a:pt x="2369" y="1354"/>
                  </a:lnTo>
                  <a:lnTo>
                    <a:pt x="2452" y="1442"/>
                  </a:lnTo>
                  <a:lnTo>
                    <a:pt x="2541" y="1495"/>
                  </a:lnTo>
                  <a:lnTo>
                    <a:pt x="2624" y="1553"/>
                  </a:lnTo>
                  <a:lnTo>
                    <a:pt x="2708" y="1610"/>
                  </a:lnTo>
                  <a:lnTo>
                    <a:pt x="2792" y="1667"/>
                  </a:lnTo>
                  <a:lnTo>
                    <a:pt x="2876" y="1694"/>
                  </a:lnTo>
                  <a:lnTo>
                    <a:pt x="2964" y="1725"/>
                  </a:lnTo>
                  <a:lnTo>
                    <a:pt x="3048" y="1778"/>
                  </a:lnTo>
                  <a:lnTo>
                    <a:pt x="3131" y="1809"/>
                  </a:lnTo>
                  <a:lnTo>
                    <a:pt x="3215" y="1836"/>
                  </a:lnTo>
                  <a:lnTo>
                    <a:pt x="3299" y="1867"/>
                  </a:lnTo>
                  <a:lnTo>
                    <a:pt x="3387" y="1893"/>
                  </a:lnTo>
                  <a:lnTo>
                    <a:pt x="3612" y="1893"/>
                  </a:lnTo>
                  <a:lnTo>
                    <a:pt x="3697" y="1920"/>
                  </a:lnTo>
                  <a:lnTo>
                    <a:pt x="3895" y="1920"/>
                  </a:lnTo>
                  <a:lnTo>
                    <a:pt x="3979" y="1951"/>
                  </a:lnTo>
                  <a:lnTo>
                    <a:pt x="4063" y="2008"/>
                  </a:lnTo>
                  <a:lnTo>
                    <a:pt x="4120" y="2092"/>
                  </a:lnTo>
                  <a:lnTo>
                    <a:pt x="4204" y="2118"/>
                  </a:lnTo>
                  <a:lnTo>
                    <a:pt x="4288" y="2149"/>
                  </a:lnTo>
                  <a:lnTo>
                    <a:pt x="4376" y="2202"/>
                  </a:lnTo>
                  <a:lnTo>
                    <a:pt x="4460" y="2233"/>
                  </a:lnTo>
                  <a:lnTo>
                    <a:pt x="4544" y="2290"/>
                  </a:lnTo>
                  <a:lnTo>
                    <a:pt x="4627" y="2317"/>
                  </a:lnTo>
                  <a:lnTo>
                    <a:pt x="4711" y="2343"/>
                  </a:lnTo>
                  <a:lnTo>
                    <a:pt x="4799" y="2343"/>
                  </a:lnTo>
                  <a:lnTo>
                    <a:pt x="4883" y="240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txBox="1"/>
            <p:nvPr/>
          </p:nvSpPr>
          <p:spPr>
            <a:xfrm>
              <a:off x="3102120" y="3970440"/>
              <a:ext cx="171936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Black"/>
                  <a:ea typeface="Arial Black"/>
                </a:rPr>
                <a:t>Jordan</a:t>
              </a:r>
              <a:endParaRPr b="0" lang="en-US" sz="3200" spc="-1" strike="noStrike">
                <a:solidFill>
                  <a:srgbClr val="000000"/>
                </a:solidFill>
                <a:latin typeface="Arial"/>
              </a:endParaRPr>
            </a:p>
          </p:txBody>
        </p:sp>
        <p:sp>
          <p:nvSpPr>
            <p:cNvPr id="840" name=""/>
            <p:cNvSpPr txBox="1"/>
            <p:nvPr/>
          </p:nvSpPr>
          <p:spPr>
            <a:xfrm>
              <a:off x="1811160" y="4726080"/>
              <a:ext cx="1189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Jerusalem</a:t>
              </a:r>
              <a:endParaRPr b="0" lang="en-US" sz="1600" spc="-1" strike="noStrike">
                <a:solidFill>
                  <a:srgbClr val="000000"/>
                </a:solidFill>
                <a:latin typeface="Arial"/>
              </a:endParaRPr>
            </a:p>
          </p:txBody>
        </p:sp>
        <p:sp>
          <p:nvSpPr>
            <p:cNvPr id="841" name=""/>
            <p:cNvSpPr/>
            <p:nvPr/>
          </p:nvSpPr>
          <p:spPr>
            <a:xfrm>
              <a:off x="2685960" y="4699080"/>
              <a:ext cx="90720" cy="98640"/>
            </a:xfrm>
            <a:custGeom>
              <a:avLst/>
              <a:gdLst/>
              <a:ahLst/>
              <a:rect l="0" t="0" r="r" b="b"/>
              <a:pathLst>
                <a:path w="252" h="274">
                  <a:moveTo>
                    <a:pt x="125" y="0"/>
                  </a:moveTo>
                  <a:lnTo>
                    <a:pt x="96" y="104"/>
                  </a:lnTo>
                  <a:lnTo>
                    <a:pt x="0" y="104"/>
                  </a:lnTo>
                  <a:lnTo>
                    <a:pt x="78" y="170"/>
                  </a:lnTo>
                  <a:lnTo>
                    <a:pt x="48" y="274"/>
                  </a:lnTo>
                  <a:lnTo>
                    <a:pt x="125" y="214"/>
                  </a:lnTo>
                  <a:lnTo>
                    <a:pt x="203" y="274"/>
                  </a:lnTo>
                  <a:lnTo>
                    <a:pt x="173" y="170"/>
                  </a:lnTo>
                  <a:lnTo>
                    <a:pt x="252" y="104"/>
                  </a:lnTo>
                  <a:lnTo>
                    <a:pt x="156" y="104"/>
                  </a:lnTo>
                  <a:lnTo>
                    <a:pt x="125" y="0"/>
                  </a:lnTo>
                  <a:close/>
                </a:path>
              </a:pathLst>
            </a:custGeom>
            <a:solidFill>
              <a:srgbClr val="7b00e4"/>
            </a:solidFill>
            <a:ln w="12600">
              <a:solidFill>
                <a:srgbClr val="7b00e4"/>
              </a:solidFill>
              <a:round/>
            </a:ln>
          </p:spPr>
          <p:txBody>
            <a:bodyPr lIns="96120" rIns="96120" tIns="47520" bIns="47520" anchor="t">
              <a:noAutofit/>
            </a:bodyPr>
            <a:p>
              <a:endParaRPr b="0" lang="en-US" sz="1800" spc="-1" strike="noStrike">
                <a:solidFill>
                  <a:srgbClr val="ffffff"/>
                </a:solidFill>
                <a:latin typeface="Arial"/>
              </a:endParaRPr>
            </a:p>
          </p:txBody>
        </p:sp>
        <p:sp>
          <p:nvSpPr>
            <p:cNvPr id="842" name=""/>
            <p:cNvSpPr/>
            <p:nvPr/>
          </p:nvSpPr>
          <p:spPr>
            <a:xfrm>
              <a:off x="1871640" y="1378080"/>
              <a:ext cx="1240200" cy="1136880"/>
            </a:xfrm>
            <a:custGeom>
              <a:avLst/>
              <a:gdLst/>
              <a:ahLst/>
              <a:rect l="0" t="0" r="r" b="b"/>
              <a:pathLst>
                <a:path fill="none" w="3445" h="3158">
                  <a:moveTo>
                    <a:pt x="3348" y="3158"/>
                  </a:moveTo>
                  <a:lnTo>
                    <a:pt x="3331" y="3101"/>
                  </a:lnTo>
                  <a:lnTo>
                    <a:pt x="3331" y="3043"/>
                  </a:lnTo>
                  <a:lnTo>
                    <a:pt x="3348" y="2986"/>
                  </a:lnTo>
                  <a:lnTo>
                    <a:pt x="3366" y="2929"/>
                  </a:lnTo>
                  <a:lnTo>
                    <a:pt x="3406" y="2871"/>
                  </a:lnTo>
                  <a:lnTo>
                    <a:pt x="3406" y="2809"/>
                  </a:lnTo>
                  <a:lnTo>
                    <a:pt x="3406" y="2752"/>
                  </a:lnTo>
                  <a:lnTo>
                    <a:pt x="3406" y="2695"/>
                  </a:lnTo>
                  <a:lnTo>
                    <a:pt x="3428" y="2541"/>
                  </a:lnTo>
                  <a:lnTo>
                    <a:pt x="3445" y="2483"/>
                  </a:lnTo>
                  <a:lnTo>
                    <a:pt x="3445" y="2426"/>
                  </a:lnTo>
                  <a:lnTo>
                    <a:pt x="3406" y="2254"/>
                  </a:lnTo>
                  <a:lnTo>
                    <a:pt x="3388" y="2197"/>
                  </a:lnTo>
                  <a:lnTo>
                    <a:pt x="3366" y="2139"/>
                  </a:lnTo>
                  <a:lnTo>
                    <a:pt x="3366" y="2082"/>
                  </a:lnTo>
                  <a:lnTo>
                    <a:pt x="3366" y="2025"/>
                  </a:lnTo>
                  <a:lnTo>
                    <a:pt x="3366" y="1963"/>
                  </a:lnTo>
                  <a:lnTo>
                    <a:pt x="3348" y="1906"/>
                  </a:lnTo>
                  <a:lnTo>
                    <a:pt x="3309" y="1848"/>
                  </a:lnTo>
                  <a:lnTo>
                    <a:pt x="3309" y="1791"/>
                  </a:lnTo>
                  <a:lnTo>
                    <a:pt x="3309" y="1734"/>
                  </a:lnTo>
                  <a:lnTo>
                    <a:pt x="3309" y="1676"/>
                  </a:lnTo>
                  <a:lnTo>
                    <a:pt x="3309" y="1619"/>
                  </a:lnTo>
                  <a:lnTo>
                    <a:pt x="3274" y="1561"/>
                  </a:lnTo>
                  <a:lnTo>
                    <a:pt x="3251" y="1503"/>
                  </a:lnTo>
                  <a:lnTo>
                    <a:pt x="3251" y="1446"/>
                  </a:lnTo>
                  <a:lnTo>
                    <a:pt x="3234" y="1389"/>
                  </a:lnTo>
                  <a:lnTo>
                    <a:pt x="3234" y="1327"/>
                  </a:lnTo>
                  <a:lnTo>
                    <a:pt x="3234" y="1195"/>
                  </a:lnTo>
                  <a:lnTo>
                    <a:pt x="3234" y="1040"/>
                  </a:lnTo>
                  <a:lnTo>
                    <a:pt x="3234" y="886"/>
                  </a:lnTo>
                  <a:lnTo>
                    <a:pt x="3234" y="754"/>
                  </a:lnTo>
                  <a:lnTo>
                    <a:pt x="3234" y="692"/>
                  </a:lnTo>
                  <a:lnTo>
                    <a:pt x="3234" y="635"/>
                  </a:lnTo>
                  <a:lnTo>
                    <a:pt x="3234" y="577"/>
                  </a:lnTo>
                  <a:lnTo>
                    <a:pt x="3216" y="520"/>
                  </a:lnTo>
                  <a:lnTo>
                    <a:pt x="3216" y="463"/>
                  </a:lnTo>
                  <a:lnTo>
                    <a:pt x="3216" y="405"/>
                  </a:lnTo>
                  <a:lnTo>
                    <a:pt x="3194" y="348"/>
                  </a:lnTo>
                  <a:lnTo>
                    <a:pt x="3194" y="291"/>
                  </a:lnTo>
                  <a:lnTo>
                    <a:pt x="3177" y="233"/>
                  </a:lnTo>
                  <a:lnTo>
                    <a:pt x="3177" y="176"/>
                  </a:lnTo>
                  <a:lnTo>
                    <a:pt x="3154" y="119"/>
                  </a:lnTo>
                  <a:lnTo>
                    <a:pt x="3137" y="57"/>
                  </a:lnTo>
                  <a:lnTo>
                    <a:pt x="3079" y="39"/>
                  </a:lnTo>
                  <a:lnTo>
                    <a:pt x="3022" y="22"/>
                  </a:lnTo>
                  <a:lnTo>
                    <a:pt x="2965" y="22"/>
                  </a:lnTo>
                  <a:lnTo>
                    <a:pt x="2908" y="0"/>
                  </a:lnTo>
                  <a:lnTo>
                    <a:pt x="2850" y="0"/>
                  </a:lnTo>
                  <a:lnTo>
                    <a:pt x="2793" y="0"/>
                  </a:lnTo>
                  <a:lnTo>
                    <a:pt x="2731" y="0"/>
                  </a:lnTo>
                  <a:lnTo>
                    <a:pt x="2674" y="0"/>
                  </a:lnTo>
                  <a:lnTo>
                    <a:pt x="2616" y="0"/>
                  </a:lnTo>
                  <a:lnTo>
                    <a:pt x="2558" y="0"/>
                  </a:lnTo>
                  <a:lnTo>
                    <a:pt x="2501" y="0"/>
                  </a:lnTo>
                  <a:lnTo>
                    <a:pt x="2443" y="0"/>
                  </a:lnTo>
                  <a:lnTo>
                    <a:pt x="2386" y="0"/>
                  </a:lnTo>
                  <a:lnTo>
                    <a:pt x="2329" y="0"/>
                  </a:lnTo>
                  <a:lnTo>
                    <a:pt x="2272" y="0"/>
                  </a:lnTo>
                  <a:lnTo>
                    <a:pt x="2232" y="57"/>
                  </a:lnTo>
                  <a:lnTo>
                    <a:pt x="2232" y="119"/>
                  </a:lnTo>
                  <a:lnTo>
                    <a:pt x="2232" y="176"/>
                  </a:lnTo>
                  <a:lnTo>
                    <a:pt x="2232" y="233"/>
                  </a:lnTo>
                  <a:lnTo>
                    <a:pt x="2232" y="291"/>
                  </a:lnTo>
                  <a:lnTo>
                    <a:pt x="2232" y="348"/>
                  </a:lnTo>
                  <a:lnTo>
                    <a:pt x="2232" y="405"/>
                  </a:lnTo>
                  <a:lnTo>
                    <a:pt x="2232" y="463"/>
                  </a:lnTo>
                  <a:lnTo>
                    <a:pt x="2214" y="520"/>
                  </a:lnTo>
                  <a:lnTo>
                    <a:pt x="2214" y="577"/>
                  </a:lnTo>
                  <a:lnTo>
                    <a:pt x="2192" y="635"/>
                  </a:lnTo>
                  <a:lnTo>
                    <a:pt x="2192" y="692"/>
                  </a:lnTo>
                  <a:lnTo>
                    <a:pt x="2174" y="754"/>
                  </a:lnTo>
                  <a:lnTo>
                    <a:pt x="2174" y="811"/>
                  </a:lnTo>
                  <a:lnTo>
                    <a:pt x="2174" y="868"/>
                  </a:lnTo>
                  <a:lnTo>
                    <a:pt x="2157" y="926"/>
                  </a:lnTo>
                  <a:lnTo>
                    <a:pt x="2157" y="983"/>
                  </a:lnTo>
                  <a:lnTo>
                    <a:pt x="2135" y="1040"/>
                  </a:lnTo>
                  <a:lnTo>
                    <a:pt x="2117" y="1098"/>
                  </a:lnTo>
                  <a:lnTo>
                    <a:pt x="2095" y="1155"/>
                  </a:lnTo>
                  <a:lnTo>
                    <a:pt x="2060" y="1212"/>
                  </a:lnTo>
                  <a:lnTo>
                    <a:pt x="2003" y="1252"/>
                  </a:lnTo>
                  <a:lnTo>
                    <a:pt x="1945" y="1292"/>
                  </a:lnTo>
                  <a:lnTo>
                    <a:pt x="1883" y="1327"/>
                  </a:lnTo>
                  <a:lnTo>
                    <a:pt x="1826" y="1327"/>
                  </a:lnTo>
                  <a:lnTo>
                    <a:pt x="1769" y="1367"/>
                  </a:lnTo>
                  <a:lnTo>
                    <a:pt x="1711" y="1389"/>
                  </a:lnTo>
                  <a:lnTo>
                    <a:pt x="1654" y="1406"/>
                  </a:lnTo>
                  <a:lnTo>
                    <a:pt x="1597" y="1464"/>
                  </a:lnTo>
                  <a:lnTo>
                    <a:pt x="1539" y="1503"/>
                  </a:lnTo>
                  <a:lnTo>
                    <a:pt x="1385" y="1538"/>
                  </a:lnTo>
                  <a:lnTo>
                    <a:pt x="1328" y="1578"/>
                  </a:lnTo>
                  <a:lnTo>
                    <a:pt x="1271" y="1619"/>
                  </a:lnTo>
                  <a:lnTo>
                    <a:pt x="1213" y="1619"/>
                  </a:lnTo>
                  <a:lnTo>
                    <a:pt x="1156" y="1619"/>
                  </a:lnTo>
                  <a:lnTo>
                    <a:pt x="1099" y="1619"/>
                  </a:lnTo>
                  <a:lnTo>
                    <a:pt x="1076" y="1561"/>
                  </a:lnTo>
                  <a:lnTo>
                    <a:pt x="1037" y="1503"/>
                  </a:lnTo>
                  <a:lnTo>
                    <a:pt x="979" y="1464"/>
                  </a:lnTo>
                  <a:lnTo>
                    <a:pt x="922" y="1424"/>
                  </a:lnTo>
                  <a:lnTo>
                    <a:pt x="865" y="1406"/>
                  </a:lnTo>
                  <a:lnTo>
                    <a:pt x="806" y="1406"/>
                  </a:lnTo>
                  <a:lnTo>
                    <a:pt x="749" y="1406"/>
                  </a:lnTo>
                  <a:lnTo>
                    <a:pt x="692" y="1406"/>
                  </a:lnTo>
                  <a:lnTo>
                    <a:pt x="635" y="1406"/>
                  </a:lnTo>
                  <a:lnTo>
                    <a:pt x="577" y="1406"/>
                  </a:lnTo>
                  <a:lnTo>
                    <a:pt x="520" y="1406"/>
                  </a:lnTo>
                  <a:lnTo>
                    <a:pt x="463" y="1406"/>
                  </a:lnTo>
                  <a:lnTo>
                    <a:pt x="401" y="1424"/>
                  </a:lnTo>
                  <a:lnTo>
                    <a:pt x="343" y="1446"/>
                  </a:lnTo>
                  <a:lnTo>
                    <a:pt x="286" y="1446"/>
                  </a:lnTo>
                  <a:lnTo>
                    <a:pt x="229" y="1446"/>
                  </a:lnTo>
                  <a:lnTo>
                    <a:pt x="171" y="1446"/>
                  </a:lnTo>
                  <a:lnTo>
                    <a:pt x="114" y="1424"/>
                  </a:lnTo>
                  <a:lnTo>
                    <a:pt x="57" y="1389"/>
                  </a:lnTo>
                  <a:lnTo>
                    <a:pt x="0" y="1389"/>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a:off x="3006720" y="111240"/>
              <a:ext cx="319320" cy="1295640"/>
            </a:xfrm>
            <a:custGeom>
              <a:avLst/>
              <a:gdLst/>
              <a:ahLst/>
              <a:rect l="0" t="0" r="r" b="b"/>
              <a:pathLst>
                <a:path fill="none" w="887" h="3599">
                  <a:moveTo>
                    <a:pt x="0" y="3599"/>
                  </a:moveTo>
                  <a:lnTo>
                    <a:pt x="0" y="3542"/>
                  </a:lnTo>
                  <a:lnTo>
                    <a:pt x="0" y="3484"/>
                  </a:lnTo>
                  <a:lnTo>
                    <a:pt x="0" y="3427"/>
                  </a:lnTo>
                  <a:lnTo>
                    <a:pt x="0" y="3365"/>
                  </a:lnTo>
                  <a:lnTo>
                    <a:pt x="0" y="3308"/>
                  </a:lnTo>
                  <a:lnTo>
                    <a:pt x="39" y="3250"/>
                  </a:lnTo>
                  <a:lnTo>
                    <a:pt x="97" y="3233"/>
                  </a:lnTo>
                  <a:lnTo>
                    <a:pt x="136" y="3176"/>
                  </a:lnTo>
                  <a:lnTo>
                    <a:pt x="154" y="3118"/>
                  </a:lnTo>
                  <a:lnTo>
                    <a:pt x="194" y="3061"/>
                  </a:lnTo>
                  <a:lnTo>
                    <a:pt x="251" y="3004"/>
                  </a:lnTo>
                  <a:lnTo>
                    <a:pt x="291" y="2942"/>
                  </a:lnTo>
                  <a:lnTo>
                    <a:pt x="348" y="2907"/>
                  </a:lnTo>
                  <a:lnTo>
                    <a:pt x="366" y="2849"/>
                  </a:lnTo>
                  <a:lnTo>
                    <a:pt x="366" y="2792"/>
                  </a:lnTo>
                  <a:lnTo>
                    <a:pt x="423" y="2730"/>
                  </a:lnTo>
                  <a:lnTo>
                    <a:pt x="561" y="2712"/>
                  </a:lnTo>
                  <a:lnTo>
                    <a:pt x="578" y="2655"/>
                  </a:lnTo>
                  <a:lnTo>
                    <a:pt x="578" y="2518"/>
                  </a:lnTo>
                  <a:lnTo>
                    <a:pt x="578" y="2461"/>
                  </a:lnTo>
                  <a:lnTo>
                    <a:pt x="578" y="2404"/>
                  </a:lnTo>
                  <a:lnTo>
                    <a:pt x="578" y="2346"/>
                  </a:lnTo>
                  <a:lnTo>
                    <a:pt x="600" y="2289"/>
                  </a:lnTo>
                  <a:lnTo>
                    <a:pt x="618" y="2232"/>
                  </a:lnTo>
                  <a:lnTo>
                    <a:pt x="636" y="2174"/>
                  </a:lnTo>
                  <a:lnTo>
                    <a:pt x="658" y="2117"/>
                  </a:lnTo>
                  <a:lnTo>
                    <a:pt x="675" y="1980"/>
                  </a:lnTo>
                  <a:lnTo>
                    <a:pt x="697" y="1923"/>
                  </a:lnTo>
                  <a:lnTo>
                    <a:pt x="715" y="1866"/>
                  </a:lnTo>
                  <a:lnTo>
                    <a:pt x="733" y="1808"/>
                  </a:lnTo>
                  <a:lnTo>
                    <a:pt x="675" y="1790"/>
                  </a:lnTo>
                  <a:lnTo>
                    <a:pt x="618" y="1768"/>
                  </a:lnTo>
                  <a:lnTo>
                    <a:pt x="561" y="1750"/>
                  </a:lnTo>
                  <a:lnTo>
                    <a:pt x="503" y="1733"/>
                  </a:lnTo>
                  <a:lnTo>
                    <a:pt x="446" y="1710"/>
                  </a:lnTo>
                  <a:lnTo>
                    <a:pt x="405" y="1653"/>
                  </a:lnTo>
                  <a:lnTo>
                    <a:pt x="405" y="1596"/>
                  </a:lnTo>
                  <a:lnTo>
                    <a:pt x="405" y="1538"/>
                  </a:lnTo>
                  <a:lnTo>
                    <a:pt x="405" y="1481"/>
                  </a:lnTo>
                  <a:lnTo>
                    <a:pt x="405" y="1424"/>
                  </a:lnTo>
                  <a:lnTo>
                    <a:pt x="405" y="1367"/>
                  </a:lnTo>
                  <a:lnTo>
                    <a:pt x="405" y="1309"/>
                  </a:lnTo>
                  <a:lnTo>
                    <a:pt x="405" y="1247"/>
                  </a:lnTo>
                  <a:lnTo>
                    <a:pt x="423" y="1190"/>
                  </a:lnTo>
                  <a:lnTo>
                    <a:pt x="423" y="1133"/>
                  </a:lnTo>
                  <a:lnTo>
                    <a:pt x="446" y="1075"/>
                  </a:lnTo>
                  <a:lnTo>
                    <a:pt x="486" y="1018"/>
                  </a:lnTo>
                  <a:lnTo>
                    <a:pt x="503" y="961"/>
                  </a:lnTo>
                  <a:lnTo>
                    <a:pt x="561" y="921"/>
                  </a:lnTo>
                  <a:lnTo>
                    <a:pt x="618" y="886"/>
                  </a:lnTo>
                  <a:lnTo>
                    <a:pt x="658" y="824"/>
                  </a:lnTo>
                  <a:lnTo>
                    <a:pt x="697" y="767"/>
                  </a:lnTo>
                  <a:lnTo>
                    <a:pt x="733" y="709"/>
                  </a:lnTo>
                  <a:lnTo>
                    <a:pt x="755" y="652"/>
                  </a:lnTo>
                  <a:lnTo>
                    <a:pt x="790" y="595"/>
                  </a:lnTo>
                  <a:lnTo>
                    <a:pt x="812" y="440"/>
                  </a:lnTo>
                  <a:lnTo>
                    <a:pt x="812" y="308"/>
                  </a:lnTo>
                  <a:lnTo>
                    <a:pt x="830" y="171"/>
                  </a:lnTo>
                  <a:lnTo>
                    <a:pt x="847" y="114"/>
                  </a:lnTo>
                  <a:lnTo>
                    <a:pt x="887" y="57"/>
                  </a:lnTo>
                  <a:lnTo>
                    <a:pt x="887"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4" name=""/>
            <p:cNvSpPr txBox="1"/>
            <p:nvPr/>
          </p:nvSpPr>
          <p:spPr>
            <a:xfrm>
              <a:off x="1547640" y="790560"/>
              <a:ext cx="184464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Arial Black"/>
                  <a:ea typeface="Arial Black"/>
                </a:rPr>
                <a:t>Lebanon</a:t>
              </a:r>
              <a:endParaRPr b="0" lang="en-US" sz="2800" spc="-1" strike="noStrike">
                <a:solidFill>
                  <a:srgbClr val="000000"/>
                </a:solidFill>
                <a:latin typeface="Arial"/>
              </a:endParaRPr>
            </a:p>
          </p:txBody>
        </p:sp>
        <p:sp>
          <p:nvSpPr>
            <p:cNvPr id="845" name=""/>
            <p:cNvSpPr txBox="1"/>
            <p:nvPr/>
          </p:nvSpPr>
          <p:spPr>
            <a:xfrm>
              <a:off x="3224160" y="1325520"/>
              <a:ext cx="131292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Black"/>
                  <a:ea typeface="Arial Black"/>
                </a:rPr>
                <a:t>Syria</a:t>
              </a:r>
              <a:endParaRPr b="0" lang="en-US" sz="3200" spc="-1" strike="noStrike">
                <a:solidFill>
                  <a:srgbClr val="000000"/>
                </a:solidFill>
                <a:latin typeface="Arial"/>
              </a:endParaRPr>
            </a:p>
          </p:txBody>
        </p:sp>
        <p:sp>
          <p:nvSpPr>
            <p:cNvPr id="846" name=""/>
            <p:cNvSpPr txBox="1"/>
            <p:nvPr/>
          </p:nvSpPr>
          <p:spPr>
            <a:xfrm>
              <a:off x="1273320" y="6054840"/>
              <a:ext cx="21463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Black"/>
                  <a:ea typeface="Arial Black"/>
                </a:rPr>
                <a:t>Negev(Negeb)</a:t>
              </a:r>
              <a:endParaRPr b="0" lang="en-US" sz="2000" spc="-1" strike="noStrike">
                <a:solidFill>
                  <a:srgbClr val="000000"/>
                </a:solidFill>
                <a:latin typeface="Arial"/>
              </a:endParaRPr>
            </a:p>
          </p:txBody>
        </p:sp>
        <p:sp>
          <p:nvSpPr>
            <p:cNvPr id="847" name=""/>
            <p:cNvSpPr txBox="1"/>
            <p:nvPr/>
          </p:nvSpPr>
          <p:spPr>
            <a:xfrm>
              <a:off x="-228600" y="1571760"/>
              <a:ext cx="2962440" cy="579600"/>
            </a:xfrm>
            <a:prstGeom prst="rect">
              <a:avLst/>
            </a:prstGeom>
            <a:noFill/>
            <a:ln w="0">
              <a:noFill/>
            </a:ln>
          </p:spPr>
          <p:txBody>
            <a:bodyPr lIns="0" rIns="0" tIns="0" bIns="0" anchor="t">
              <a:noAutofit/>
            </a:bodyPr>
            <a:p>
              <a:pPr>
                <a:lnSpc>
                  <a:spcPct val="100000"/>
                </a:lnSpc>
              </a:pPr>
              <a:r>
                <a:rPr b="1" i="1" lang="en-US" sz="3200" spc="-1" strike="noStrike">
                  <a:solidFill>
                    <a:srgbClr val="c1ceff"/>
                  </a:solidFill>
                  <a:latin typeface="Arial"/>
                  <a:ea typeface="Arial"/>
                </a:rPr>
                <a:t>Mediterranean</a:t>
              </a:r>
              <a:endParaRPr b="0" lang="en-US" sz="3200" spc="-1" strike="noStrike">
                <a:solidFill>
                  <a:srgbClr val="000000"/>
                </a:solidFill>
                <a:latin typeface="Arial"/>
              </a:endParaRPr>
            </a:p>
          </p:txBody>
        </p:sp>
        <p:sp>
          <p:nvSpPr>
            <p:cNvPr id="848" name=""/>
            <p:cNvSpPr txBox="1"/>
            <p:nvPr/>
          </p:nvSpPr>
          <p:spPr>
            <a:xfrm>
              <a:off x="2655720" y="5105520"/>
              <a:ext cx="98424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Dead Sea</a:t>
              </a:r>
              <a:endParaRPr b="0" lang="en-US" sz="1400" spc="-1" strike="noStrike">
                <a:solidFill>
                  <a:srgbClr val="000000"/>
                </a:solidFill>
                <a:latin typeface="Arial"/>
              </a:endParaRPr>
            </a:p>
          </p:txBody>
        </p:sp>
        <p:sp>
          <p:nvSpPr>
            <p:cNvPr id="849" name=""/>
            <p:cNvSpPr txBox="1"/>
            <p:nvPr/>
          </p:nvSpPr>
          <p:spPr>
            <a:xfrm>
              <a:off x="2724120" y="2195640"/>
              <a:ext cx="59364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Narrow"/>
                  <a:ea typeface="Arial Narrow"/>
                </a:rPr>
                <a:t>Galilee</a:t>
              </a:r>
              <a:endParaRPr b="0" lang="en-US" sz="1200" spc="-1" strike="noStrike">
                <a:solidFill>
                  <a:srgbClr val="000000"/>
                </a:solidFill>
                <a:latin typeface="Arial"/>
              </a:endParaRPr>
            </a:p>
          </p:txBody>
        </p:sp>
        <p:sp>
          <p:nvSpPr>
            <p:cNvPr id="850" name=""/>
            <p:cNvSpPr txBox="1"/>
            <p:nvPr/>
          </p:nvSpPr>
          <p:spPr>
            <a:xfrm>
              <a:off x="2668680" y="3619440"/>
              <a:ext cx="6922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Jordan</a:t>
              </a:r>
              <a:endParaRPr b="0" lang="en-US" sz="1200" spc="-1" strike="noStrike">
                <a:solidFill>
                  <a:srgbClr val="000000"/>
                </a:solidFill>
                <a:latin typeface="Arial"/>
              </a:endParaRPr>
            </a:p>
          </p:txBody>
        </p:sp>
        <p:sp>
          <p:nvSpPr>
            <p:cNvPr id="851" name=""/>
            <p:cNvSpPr txBox="1"/>
            <p:nvPr/>
          </p:nvSpPr>
          <p:spPr>
            <a:xfrm>
              <a:off x="2717640" y="3009960"/>
              <a:ext cx="5652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Rive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852" name=""/>
          <p:cNvGrpSpPr/>
          <p:nvPr/>
        </p:nvGrpSpPr>
        <p:grpSpPr>
          <a:xfrm>
            <a:off x="414360" y="87480"/>
            <a:ext cx="8716680" cy="6757920"/>
            <a:chOff x="414360" y="87480"/>
            <a:chExt cx="8716680" cy="6757920"/>
          </a:xfrm>
        </p:grpSpPr>
        <p:pic>
          <p:nvPicPr>
            <p:cNvPr id="853" name="" descr=""/>
            <p:cNvPicPr/>
            <p:nvPr/>
          </p:nvPicPr>
          <p:blipFill>
            <a:blip r:embed="rId1"/>
            <a:stretch/>
          </p:blipFill>
          <p:spPr>
            <a:xfrm>
              <a:off x="415800" y="87480"/>
              <a:ext cx="8715240" cy="6757920"/>
            </a:xfrm>
            <a:prstGeom prst="rect">
              <a:avLst/>
            </a:prstGeom>
            <a:ln w="0">
              <a:noFill/>
            </a:ln>
          </p:spPr>
        </p:pic>
        <p:sp>
          <p:nvSpPr>
            <p:cNvPr id="854" name=""/>
            <p:cNvSpPr txBox="1"/>
            <p:nvPr/>
          </p:nvSpPr>
          <p:spPr>
            <a:xfrm>
              <a:off x="414360" y="6184800"/>
              <a:ext cx="205416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NASA Photo</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EBibleTeacher.com</a:t>
              </a:r>
              <a:endParaRPr b="0" lang="en-US" sz="1400" spc="-1" strike="noStrike">
                <a:solidFill>
                  <a:srgbClr val="000000"/>
                </a:solidFill>
                <a:latin typeface="Arial"/>
              </a:endParaRPr>
            </a:p>
          </p:txBody>
        </p:sp>
      </p:grpSp>
      <p:sp>
        <p:nvSpPr>
          <p:cNvPr id="855" name=""/>
          <p:cNvSpPr txBox="1"/>
          <p:nvPr/>
        </p:nvSpPr>
        <p:spPr>
          <a:xfrm>
            <a:off x="669960" y="1189080"/>
            <a:ext cx="731844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Black"/>
                <a:ea typeface="Arial Black"/>
              </a:rPr>
              <a:t>Use this to Make your own m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856" name=""/>
          <p:cNvGrpSpPr/>
          <p:nvPr/>
        </p:nvGrpSpPr>
        <p:grpSpPr>
          <a:xfrm>
            <a:off x="765000" y="0"/>
            <a:ext cx="5362560" cy="6858000"/>
            <a:chOff x="765000" y="0"/>
            <a:chExt cx="5362560" cy="6858000"/>
          </a:xfrm>
        </p:grpSpPr>
        <p:pic>
          <p:nvPicPr>
            <p:cNvPr id="857" name="" descr=""/>
            <p:cNvPicPr/>
            <p:nvPr/>
          </p:nvPicPr>
          <p:blipFill>
            <a:blip r:embed="rId1"/>
            <a:stretch/>
          </p:blipFill>
          <p:spPr>
            <a:xfrm>
              <a:off x="765000" y="0"/>
              <a:ext cx="5362560" cy="6835680"/>
            </a:xfrm>
            <a:prstGeom prst="rect">
              <a:avLst/>
            </a:prstGeom>
            <a:ln w="0">
              <a:noFill/>
            </a:ln>
          </p:spPr>
        </p:pic>
        <p:sp>
          <p:nvSpPr>
            <p:cNvPr id="858" name=""/>
            <p:cNvSpPr txBox="1"/>
            <p:nvPr/>
          </p:nvSpPr>
          <p:spPr>
            <a:xfrm>
              <a:off x="4610160" y="6521400"/>
              <a:ext cx="15159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NASA PHOTO</a:t>
              </a:r>
              <a:endParaRPr b="0" lang="en-US" sz="1600" spc="-1" strike="noStrike">
                <a:solidFill>
                  <a:srgbClr val="000000"/>
                </a:solidFill>
                <a:latin typeface="Arial"/>
              </a:endParaRPr>
            </a:p>
          </p:txBody>
        </p:sp>
        <p:sp>
          <p:nvSpPr>
            <p:cNvPr id="859" name=""/>
            <p:cNvSpPr txBox="1"/>
            <p:nvPr/>
          </p:nvSpPr>
          <p:spPr>
            <a:xfrm>
              <a:off x="887400" y="6613560"/>
              <a:ext cx="239400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EBibleTeacher.com</a:t>
              </a:r>
              <a:endParaRPr b="0" lang="en-US" sz="1000" spc="-1" strike="noStrike">
                <a:solidFill>
                  <a:srgbClr val="000000"/>
                </a:solidFill>
                <a:latin typeface="Arial"/>
              </a:endParaRPr>
            </a:p>
          </p:txBody>
        </p:sp>
      </p:grpSp>
      <p:sp>
        <p:nvSpPr>
          <p:cNvPr id="860" name=""/>
          <p:cNvSpPr txBox="1"/>
          <p:nvPr/>
        </p:nvSpPr>
        <p:spPr>
          <a:xfrm>
            <a:off x="6384960" y="2255760"/>
            <a:ext cx="2682720" cy="166032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Black"/>
                <a:ea typeface="Arial Black"/>
              </a:rPr>
              <a:t>Use this to Make your own m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61" name=""/>
          <p:cNvSpPr txBox="1"/>
          <p:nvPr/>
        </p:nvSpPr>
        <p:spPr>
          <a:xfrm>
            <a:off x="898560" y="122400"/>
            <a:ext cx="731844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Black"/>
                <a:ea typeface="Arial Black"/>
              </a:rPr>
              <a:t>Use this to Make your own map.</a:t>
            </a:r>
            <a:endParaRPr b="0" lang="en-US" sz="3200" spc="-1" strike="noStrike">
              <a:solidFill>
                <a:srgbClr val="000000"/>
              </a:solidFill>
              <a:latin typeface="Arial"/>
            </a:endParaRPr>
          </a:p>
        </p:txBody>
      </p:sp>
      <p:grpSp>
        <p:nvGrpSpPr>
          <p:cNvPr id="862" name=""/>
          <p:cNvGrpSpPr/>
          <p:nvPr/>
        </p:nvGrpSpPr>
        <p:grpSpPr>
          <a:xfrm>
            <a:off x="0" y="590400"/>
            <a:ext cx="9131760" cy="6255360"/>
            <a:chOff x="0" y="590400"/>
            <a:chExt cx="9131760" cy="6255360"/>
          </a:xfrm>
        </p:grpSpPr>
        <p:grpSp>
          <p:nvGrpSpPr>
            <p:cNvPr id="863" name=""/>
            <p:cNvGrpSpPr/>
            <p:nvPr/>
          </p:nvGrpSpPr>
          <p:grpSpPr>
            <a:xfrm>
              <a:off x="0" y="590400"/>
              <a:ext cx="9131760" cy="6255360"/>
              <a:chOff x="0" y="590400"/>
              <a:chExt cx="9131760" cy="6255360"/>
            </a:xfrm>
          </p:grpSpPr>
          <p:sp>
            <p:nvSpPr>
              <p:cNvPr id="864" name=""/>
              <p:cNvSpPr txBox="1"/>
              <p:nvPr/>
            </p:nvSpPr>
            <p:spPr>
              <a:xfrm>
                <a:off x="685800" y="590400"/>
                <a:ext cx="8381880" cy="1162080"/>
              </a:xfrm>
              <a:prstGeom prst="rect">
                <a:avLst/>
              </a:prstGeom>
              <a:noFill/>
              <a:ln w="0">
                <a:noFill/>
              </a:ln>
            </p:spPr>
            <p:txBody>
              <a:bodyPr lIns="0" rIns="0" tIns="0" bIns="0" anchor="t">
                <a:noAutofit/>
              </a:bodyPr>
              <a:p>
                <a:pPr algn="ctr">
                  <a:lnSpc>
                    <a:spcPct val="100000"/>
                  </a:lnSpc>
                </a:pPr>
                <a:r>
                  <a:rPr b="1" lang="en-US" sz="5400" spc="-1" strike="noStrike" u="sng">
                    <a:solidFill>
                      <a:srgbClr val="c0fef9"/>
                    </a:solidFill>
                    <a:uFillTx/>
                    <a:latin typeface="Book Antiqua"/>
                    <a:ea typeface="Book Antiqua"/>
                  </a:rPr>
                  <a:t>Click to add title</a:t>
                </a:r>
                <a:endParaRPr b="0" lang="en-US" sz="5400" spc="-1" strike="noStrike">
                  <a:solidFill>
                    <a:srgbClr val="000000"/>
                  </a:solidFill>
                  <a:latin typeface="Arial"/>
                </a:endParaRPr>
              </a:p>
            </p:txBody>
          </p:sp>
          <p:sp>
            <p:nvSpPr>
              <p:cNvPr id="865" name=""/>
              <p:cNvSpPr txBox="1"/>
              <p:nvPr/>
            </p:nvSpPr>
            <p:spPr>
              <a:xfrm>
                <a:off x="762120" y="1981080"/>
                <a:ext cx="8305920" cy="4133880"/>
              </a:xfrm>
              <a:prstGeom prst="rect">
                <a:avLst/>
              </a:prstGeom>
              <a:noFill/>
              <a:ln w="0">
                <a:noFill/>
              </a:ln>
            </p:spPr>
            <p:txBody>
              <a:bodyPr lIns="0" rIns="0" tIns="0" bIns="0" anchor="t">
                <a:noAutofit/>
              </a:bodyPr>
              <a:p>
                <a:pPr marL="343080" indent="-343080">
                  <a:lnSpc>
                    <a:spcPct val="100000"/>
                  </a:lnSpc>
                  <a:spcBef>
                    <a:spcPts val="479"/>
                  </a:spcBef>
                  <a:buClr>
                    <a:srgbClr val="c0fef9"/>
                  </a:buClr>
                  <a:buFont typeface="Monotype Sorts"/>
                  <a:buChar char=""/>
                </a:pPr>
                <a:r>
                  <a:rPr b="1" lang="en-US" sz="3600" spc="-1" strike="noStrike">
                    <a:solidFill>
                      <a:srgbClr val="ffffff"/>
                    </a:solidFill>
                    <a:latin typeface="Arial"/>
                    <a:ea typeface="Arial"/>
                  </a:rPr>
                  <a:t>Click to add text</a:t>
                </a:r>
                <a:endParaRPr b="0" lang="en-US" sz="3600" spc="-1" strike="noStrike">
                  <a:solidFill>
                    <a:srgbClr val="000000"/>
                  </a:solidFill>
                  <a:latin typeface="Arial"/>
                </a:endParaRPr>
              </a:p>
            </p:txBody>
          </p:sp>
          <p:sp>
            <p:nvSpPr>
              <p:cNvPr id="866" name=""/>
              <p:cNvSpPr/>
              <p:nvPr/>
            </p:nvSpPr>
            <p:spPr>
              <a:xfrm>
                <a:off x="4816440" y="2900520"/>
                <a:ext cx="4680" cy="18252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7" name=""/>
              <p:cNvSpPr/>
              <p:nvPr/>
            </p:nvSpPr>
            <p:spPr>
              <a:xfrm flipH="1" flipV="1">
                <a:off x="4842000" y="2894040"/>
                <a:ext cx="145800" cy="1440"/>
              </a:xfrm>
              <a:prstGeom prst="line">
                <a:avLst/>
              </a:prstGeom>
              <a:ln w="38160">
                <a:solidFill>
                  <a:srgbClr val="fafd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868" name=""/>
              <p:cNvSpPr/>
              <p:nvPr/>
            </p:nvSpPr>
            <p:spPr>
              <a:xfrm>
                <a:off x="63360" y="709560"/>
                <a:ext cx="9067680" cy="6019920"/>
              </a:xfrm>
              <a:prstGeom prst="rect">
                <a:avLst/>
              </a:prstGeom>
              <a:solidFill>
                <a:srgbClr val="00ae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9" name=""/>
              <p:cNvSpPr txBox="1"/>
              <p:nvPr/>
            </p:nvSpPr>
            <p:spPr>
              <a:xfrm>
                <a:off x="2879640" y="3382920"/>
                <a:ext cx="116352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Arial Narrow"/>
                    <a:ea typeface="Arial Narrow"/>
                  </a:rPr>
                  <a:t>Israel</a:t>
                </a:r>
                <a:endParaRPr b="0" lang="en-US" sz="3600" spc="-1" strike="noStrike">
                  <a:solidFill>
                    <a:srgbClr val="000000"/>
                  </a:solidFill>
                  <a:latin typeface="Arial"/>
                </a:endParaRPr>
              </a:p>
            </p:txBody>
          </p:sp>
          <p:sp>
            <p:nvSpPr>
              <p:cNvPr id="870" name=""/>
              <p:cNvSpPr/>
              <p:nvPr/>
            </p:nvSpPr>
            <p:spPr>
              <a:xfrm>
                <a:off x="7620120" y="5168880"/>
                <a:ext cx="1511640" cy="1676880"/>
              </a:xfrm>
              <a:custGeom>
                <a:avLst/>
                <a:gdLst/>
                <a:ahLst/>
                <a:rect l="0" t="0" r="r" b="b"/>
                <a:pathLst>
                  <a:path w="4199" h="4658">
                    <a:moveTo>
                      <a:pt x="4022" y="2152"/>
                    </a:moveTo>
                    <a:lnTo>
                      <a:pt x="3868" y="2069"/>
                    </a:lnTo>
                    <a:lnTo>
                      <a:pt x="3727" y="2117"/>
                    </a:lnTo>
                    <a:lnTo>
                      <a:pt x="3590" y="2117"/>
                    </a:lnTo>
                    <a:lnTo>
                      <a:pt x="3453" y="2069"/>
                    </a:lnTo>
                    <a:lnTo>
                      <a:pt x="3312" y="1976"/>
                    </a:lnTo>
                    <a:lnTo>
                      <a:pt x="3176" y="1883"/>
                    </a:lnTo>
                    <a:lnTo>
                      <a:pt x="3039" y="1795"/>
                    </a:lnTo>
                    <a:lnTo>
                      <a:pt x="2898" y="1703"/>
                    </a:lnTo>
                    <a:lnTo>
                      <a:pt x="2809" y="1562"/>
                    </a:lnTo>
                    <a:lnTo>
                      <a:pt x="2668" y="1473"/>
                    </a:lnTo>
                    <a:lnTo>
                      <a:pt x="2576" y="1332"/>
                    </a:lnTo>
                    <a:lnTo>
                      <a:pt x="2439" y="1240"/>
                    </a:lnTo>
                    <a:lnTo>
                      <a:pt x="2302" y="1240"/>
                    </a:lnTo>
                    <a:lnTo>
                      <a:pt x="2161" y="1240"/>
                    </a:lnTo>
                    <a:lnTo>
                      <a:pt x="2024" y="1288"/>
                    </a:lnTo>
                    <a:lnTo>
                      <a:pt x="1887" y="1288"/>
                    </a:lnTo>
                    <a:lnTo>
                      <a:pt x="1750" y="1150"/>
                    </a:lnTo>
                    <a:lnTo>
                      <a:pt x="1609" y="1058"/>
                    </a:lnTo>
                    <a:lnTo>
                      <a:pt x="1516" y="917"/>
                    </a:lnTo>
                    <a:lnTo>
                      <a:pt x="1380" y="824"/>
                    </a:lnTo>
                    <a:lnTo>
                      <a:pt x="1243" y="736"/>
                    </a:lnTo>
                    <a:lnTo>
                      <a:pt x="1102" y="643"/>
                    </a:lnTo>
                    <a:lnTo>
                      <a:pt x="965" y="502"/>
                    </a:lnTo>
                    <a:lnTo>
                      <a:pt x="829" y="414"/>
                    </a:lnTo>
                    <a:lnTo>
                      <a:pt x="692" y="321"/>
                    </a:lnTo>
                    <a:lnTo>
                      <a:pt x="551" y="229"/>
                    </a:lnTo>
                    <a:lnTo>
                      <a:pt x="414" y="92"/>
                    </a:lnTo>
                    <a:lnTo>
                      <a:pt x="423" y="35"/>
                    </a:lnTo>
                    <a:lnTo>
                      <a:pt x="277" y="92"/>
                    </a:lnTo>
                    <a:lnTo>
                      <a:pt x="136" y="44"/>
                    </a:lnTo>
                    <a:lnTo>
                      <a:pt x="0" y="0"/>
                    </a:lnTo>
                    <a:lnTo>
                      <a:pt x="0" y="136"/>
                    </a:lnTo>
                    <a:lnTo>
                      <a:pt x="136" y="136"/>
                    </a:lnTo>
                    <a:lnTo>
                      <a:pt x="277" y="180"/>
                    </a:lnTo>
                    <a:lnTo>
                      <a:pt x="414" y="321"/>
                    </a:lnTo>
                    <a:lnTo>
                      <a:pt x="507" y="458"/>
                    </a:lnTo>
                    <a:lnTo>
                      <a:pt x="458" y="595"/>
                    </a:lnTo>
                    <a:lnTo>
                      <a:pt x="414" y="736"/>
                    </a:lnTo>
                    <a:lnTo>
                      <a:pt x="366" y="873"/>
                    </a:lnTo>
                    <a:lnTo>
                      <a:pt x="321" y="1009"/>
                    </a:lnTo>
                    <a:lnTo>
                      <a:pt x="321" y="1150"/>
                    </a:lnTo>
                    <a:lnTo>
                      <a:pt x="321" y="1288"/>
                    </a:lnTo>
                    <a:lnTo>
                      <a:pt x="366" y="1425"/>
                    </a:lnTo>
                    <a:lnTo>
                      <a:pt x="414" y="1562"/>
                    </a:lnTo>
                    <a:lnTo>
                      <a:pt x="507" y="1703"/>
                    </a:lnTo>
                    <a:lnTo>
                      <a:pt x="551" y="1839"/>
                    </a:lnTo>
                    <a:lnTo>
                      <a:pt x="643" y="1976"/>
                    </a:lnTo>
                    <a:lnTo>
                      <a:pt x="780" y="2069"/>
                    </a:lnTo>
                    <a:lnTo>
                      <a:pt x="873" y="2210"/>
                    </a:lnTo>
                    <a:lnTo>
                      <a:pt x="921" y="2346"/>
                    </a:lnTo>
                    <a:lnTo>
                      <a:pt x="1058" y="2439"/>
                    </a:lnTo>
                    <a:lnTo>
                      <a:pt x="1195" y="2532"/>
                    </a:lnTo>
                    <a:lnTo>
                      <a:pt x="1336" y="2620"/>
                    </a:lnTo>
                    <a:lnTo>
                      <a:pt x="1336" y="2761"/>
                    </a:lnTo>
                    <a:lnTo>
                      <a:pt x="1380" y="2898"/>
                    </a:lnTo>
                    <a:lnTo>
                      <a:pt x="1424" y="3034"/>
                    </a:lnTo>
                    <a:lnTo>
                      <a:pt x="1472" y="3176"/>
                    </a:lnTo>
                    <a:lnTo>
                      <a:pt x="1565" y="3312"/>
                    </a:lnTo>
                    <a:lnTo>
                      <a:pt x="1658" y="3449"/>
                    </a:lnTo>
                    <a:lnTo>
                      <a:pt x="1750" y="3591"/>
                    </a:lnTo>
                    <a:lnTo>
                      <a:pt x="1838" y="3728"/>
                    </a:lnTo>
                    <a:lnTo>
                      <a:pt x="1931" y="3864"/>
                    </a:lnTo>
                    <a:lnTo>
                      <a:pt x="2072" y="3864"/>
                    </a:lnTo>
                    <a:lnTo>
                      <a:pt x="2117" y="3728"/>
                    </a:lnTo>
                    <a:lnTo>
                      <a:pt x="2254" y="3635"/>
                    </a:lnTo>
                    <a:lnTo>
                      <a:pt x="2302" y="3498"/>
                    </a:lnTo>
                    <a:lnTo>
                      <a:pt x="2395" y="3356"/>
                    </a:lnTo>
                    <a:lnTo>
                      <a:pt x="2483" y="3220"/>
                    </a:lnTo>
                    <a:lnTo>
                      <a:pt x="2576" y="3356"/>
                    </a:lnTo>
                    <a:lnTo>
                      <a:pt x="2717" y="3449"/>
                    </a:lnTo>
                    <a:lnTo>
                      <a:pt x="2809" y="3591"/>
                    </a:lnTo>
                    <a:lnTo>
                      <a:pt x="2809" y="3728"/>
                    </a:lnTo>
                    <a:lnTo>
                      <a:pt x="2761" y="3864"/>
                    </a:lnTo>
                    <a:lnTo>
                      <a:pt x="2668" y="4001"/>
                    </a:lnTo>
                    <a:lnTo>
                      <a:pt x="2717" y="4142"/>
                    </a:lnTo>
                    <a:lnTo>
                      <a:pt x="2854" y="4235"/>
                    </a:lnTo>
                    <a:lnTo>
                      <a:pt x="2946" y="4372"/>
                    </a:lnTo>
                    <a:lnTo>
                      <a:pt x="3083" y="4464"/>
                    </a:lnTo>
                    <a:lnTo>
                      <a:pt x="3220" y="4464"/>
                    </a:lnTo>
                    <a:lnTo>
                      <a:pt x="3361" y="4557"/>
                    </a:lnTo>
                    <a:lnTo>
                      <a:pt x="3497" y="4649"/>
                    </a:lnTo>
                    <a:lnTo>
                      <a:pt x="3634" y="4658"/>
                    </a:lnTo>
                    <a:lnTo>
                      <a:pt x="3775" y="4658"/>
                    </a:lnTo>
                    <a:lnTo>
                      <a:pt x="3912" y="4658"/>
                    </a:lnTo>
                    <a:lnTo>
                      <a:pt x="4049" y="4658"/>
                    </a:lnTo>
                    <a:lnTo>
                      <a:pt x="4190" y="4658"/>
                    </a:lnTo>
                    <a:lnTo>
                      <a:pt x="4190" y="4508"/>
                    </a:lnTo>
                    <a:lnTo>
                      <a:pt x="4190" y="4372"/>
                    </a:lnTo>
                    <a:lnTo>
                      <a:pt x="4199" y="4235"/>
                    </a:lnTo>
                    <a:lnTo>
                      <a:pt x="4199" y="4094"/>
                    </a:lnTo>
                    <a:lnTo>
                      <a:pt x="4199" y="3957"/>
                    </a:lnTo>
                    <a:lnTo>
                      <a:pt x="4199" y="3820"/>
                    </a:lnTo>
                    <a:lnTo>
                      <a:pt x="4199" y="3679"/>
                    </a:lnTo>
                    <a:lnTo>
                      <a:pt x="4199" y="3543"/>
                    </a:lnTo>
                    <a:lnTo>
                      <a:pt x="4199" y="3405"/>
                    </a:lnTo>
                    <a:lnTo>
                      <a:pt x="4199" y="3268"/>
                    </a:lnTo>
                    <a:lnTo>
                      <a:pt x="4199" y="3127"/>
                    </a:lnTo>
                    <a:lnTo>
                      <a:pt x="4199" y="2990"/>
                    </a:lnTo>
                    <a:lnTo>
                      <a:pt x="4199" y="2854"/>
                    </a:lnTo>
                    <a:lnTo>
                      <a:pt x="4199" y="2712"/>
                    </a:lnTo>
                    <a:lnTo>
                      <a:pt x="4199" y="2576"/>
                    </a:lnTo>
                    <a:lnTo>
                      <a:pt x="4199" y="2439"/>
                    </a:lnTo>
                    <a:lnTo>
                      <a:pt x="4141" y="2298"/>
                    </a:lnTo>
                    <a:lnTo>
                      <a:pt x="4005" y="2254"/>
                    </a:lnTo>
                    <a:lnTo>
                      <a:pt x="4022" y="2152"/>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1" name=""/>
              <p:cNvSpPr/>
              <p:nvPr/>
            </p:nvSpPr>
            <p:spPr>
              <a:xfrm>
                <a:off x="0" y="762120"/>
                <a:ext cx="6510600" cy="4091400"/>
              </a:xfrm>
              <a:custGeom>
                <a:avLst/>
                <a:gdLst/>
                <a:ahLst/>
                <a:rect l="0" t="0" r="r" b="b"/>
                <a:pathLst>
                  <a:path w="18085" h="11365">
                    <a:moveTo>
                      <a:pt x="3175" y="0"/>
                    </a:moveTo>
                    <a:lnTo>
                      <a:pt x="3311" y="136"/>
                    </a:lnTo>
                    <a:lnTo>
                      <a:pt x="3404" y="277"/>
                    </a:lnTo>
                    <a:lnTo>
                      <a:pt x="3541" y="366"/>
                    </a:lnTo>
                    <a:lnTo>
                      <a:pt x="3633" y="507"/>
                    </a:lnTo>
                    <a:lnTo>
                      <a:pt x="3726" y="643"/>
                    </a:lnTo>
                    <a:lnTo>
                      <a:pt x="3774" y="780"/>
                    </a:lnTo>
                    <a:lnTo>
                      <a:pt x="3818" y="921"/>
                    </a:lnTo>
                    <a:lnTo>
                      <a:pt x="3867" y="1058"/>
                    </a:lnTo>
                    <a:lnTo>
                      <a:pt x="3867" y="1195"/>
                    </a:lnTo>
                    <a:lnTo>
                      <a:pt x="3867" y="1336"/>
                    </a:lnTo>
                    <a:lnTo>
                      <a:pt x="3867" y="1472"/>
                    </a:lnTo>
                    <a:lnTo>
                      <a:pt x="3867" y="1609"/>
                    </a:lnTo>
                    <a:lnTo>
                      <a:pt x="3818" y="1750"/>
                    </a:lnTo>
                    <a:lnTo>
                      <a:pt x="3818" y="1887"/>
                    </a:lnTo>
                    <a:lnTo>
                      <a:pt x="3818" y="2024"/>
                    </a:lnTo>
                    <a:lnTo>
                      <a:pt x="3818" y="2160"/>
                    </a:lnTo>
                    <a:lnTo>
                      <a:pt x="3818" y="2301"/>
                    </a:lnTo>
                    <a:lnTo>
                      <a:pt x="3726" y="2438"/>
                    </a:lnTo>
                    <a:lnTo>
                      <a:pt x="3589" y="2531"/>
                    </a:lnTo>
                    <a:lnTo>
                      <a:pt x="3496" y="2667"/>
                    </a:lnTo>
                    <a:lnTo>
                      <a:pt x="3404" y="2808"/>
                    </a:lnTo>
                    <a:lnTo>
                      <a:pt x="3267" y="2898"/>
                    </a:lnTo>
                    <a:lnTo>
                      <a:pt x="3130" y="2808"/>
                    </a:lnTo>
                    <a:lnTo>
                      <a:pt x="2989" y="2716"/>
                    </a:lnTo>
                    <a:lnTo>
                      <a:pt x="2853" y="2623"/>
                    </a:lnTo>
                    <a:lnTo>
                      <a:pt x="2716" y="2531"/>
                    </a:lnTo>
                    <a:lnTo>
                      <a:pt x="2575" y="2482"/>
                    </a:lnTo>
                    <a:lnTo>
                      <a:pt x="2438" y="2482"/>
                    </a:lnTo>
                    <a:lnTo>
                      <a:pt x="2301" y="2438"/>
                    </a:lnTo>
                    <a:lnTo>
                      <a:pt x="1979" y="2438"/>
                    </a:lnTo>
                    <a:lnTo>
                      <a:pt x="1838" y="2394"/>
                    </a:lnTo>
                    <a:lnTo>
                      <a:pt x="1702" y="2394"/>
                    </a:lnTo>
                    <a:lnTo>
                      <a:pt x="1565" y="2394"/>
                    </a:lnTo>
                    <a:lnTo>
                      <a:pt x="1424" y="2345"/>
                    </a:lnTo>
                    <a:lnTo>
                      <a:pt x="1287" y="2301"/>
                    </a:lnTo>
                    <a:lnTo>
                      <a:pt x="1150" y="2253"/>
                    </a:lnTo>
                    <a:lnTo>
                      <a:pt x="1014" y="2209"/>
                    </a:lnTo>
                    <a:lnTo>
                      <a:pt x="873" y="2160"/>
                    </a:lnTo>
                    <a:lnTo>
                      <a:pt x="780" y="2301"/>
                    </a:lnTo>
                    <a:lnTo>
                      <a:pt x="780" y="2438"/>
                    </a:lnTo>
                    <a:lnTo>
                      <a:pt x="780" y="2575"/>
                    </a:lnTo>
                    <a:lnTo>
                      <a:pt x="780" y="2716"/>
                    </a:lnTo>
                    <a:lnTo>
                      <a:pt x="780" y="2854"/>
                    </a:lnTo>
                    <a:lnTo>
                      <a:pt x="780" y="2990"/>
                    </a:lnTo>
                    <a:lnTo>
                      <a:pt x="780" y="3131"/>
                    </a:lnTo>
                    <a:lnTo>
                      <a:pt x="780" y="3268"/>
                    </a:lnTo>
                    <a:lnTo>
                      <a:pt x="780" y="3405"/>
                    </a:lnTo>
                    <a:lnTo>
                      <a:pt x="780" y="3542"/>
                    </a:lnTo>
                    <a:lnTo>
                      <a:pt x="780" y="3683"/>
                    </a:lnTo>
                    <a:lnTo>
                      <a:pt x="643" y="3727"/>
                    </a:lnTo>
                    <a:lnTo>
                      <a:pt x="551" y="3868"/>
                    </a:lnTo>
                    <a:lnTo>
                      <a:pt x="414" y="4005"/>
                    </a:lnTo>
                    <a:lnTo>
                      <a:pt x="366" y="4141"/>
                    </a:lnTo>
                    <a:lnTo>
                      <a:pt x="321" y="4278"/>
                    </a:lnTo>
                    <a:lnTo>
                      <a:pt x="321" y="4419"/>
                    </a:lnTo>
                    <a:lnTo>
                      <a:pt x="321" y="4556"/>
                    </a:lnTo>
                    <a:lnTo>
                      <a:pt x="321" y="4692"/>
                    </a:lnTo>
                    <a:lnTo>
                      <a:pt x="321" y="4834"/>
                    </a:lnTo>
                    <a:lnTo>
                      <a:pt x="366" y="4970"/>
                    </a:lnTo>
                    <a:lnTo>
                      <a:pt x="366" y="5107"/>
                    </a:lnTo>
                    <a:lnTo>
                      <a:pt x="414" y="5248"/>
                    </a:lnTo>
                    <a:lnTo>
                      <a:pt x="414" y="5385"/>
                    </a:lnTo>
                    <a:lnTo>
                      <a:pt x="414" y="5521"/>
                    </a:lnTo>
                    <a:lnTo>
                      <a:pt x="414" y="5658"/>
                    </a:lnTo>
                    <a:lnTo>
                      <a:pt x="551" y="5707"/>
                    </a:lnTo>
                    <a:lnTo>
                      <a:pt x="692" y="5751"/>
                    </a:lnTo>
                    <a:lnTo>
                      <a:pt x="829" y="5751"/>
                    </a:lnTo>
                    <a:lnTo>
                      <a:pt x="921" y="5892"/>
                    </a:lnTo>
                    <a:lnTo>
                      <a:pt x="1058" y="6029"/>
                    </a:lnTo>
                    <a:lnTo>
                      <a:pt x="1150" y="6165"/>
                    </a:lnTo>
                    <a:lnTo>
                      <a:pt x="1287" y="6214"/>
                    </a:lnTo>
                    <a:lnTo>
                      <a:pt x="1424" y="6214"/>
                    </a:lnTo>
                    <a:lnTo>
                      <a:pt x="1565" y="6214"/>
                    </a:lnTo>
                    <a:lnTo>
                      <a:pt x="1702" y="6214"/>
                    </a:lnTo>
                    <a:lnTo>
                      <a:pt x="1838" y="6214"/>
                    </a:lnTo>
                    <a:lnTo>
                      <a:pt x="1979" y="6214"/>
                    </a:lnTo>
                    <a:lnTo>
                      <a:pt x="2116" y="6214"/>
                    </a:lnTo>
                    <a:lnTo>
                      <a:pt x="2253" y="6214"/>
                    </a:lnTo>
                    <a:lnTo>
                      <a:pt x="2394" y="6214"/>
                    </a:lnTo>
                    <a:lnTo>
                      <a:pt x="2531" y="6214"/>
                    </a:lnTo>
                    <a:lnTo>
                      <a:pt x="2667" y="6214"/>
                    </a:lnTo>
                    <a:lnTo>
                      <a:pt x="2808" y="6214"/>
                    </a:lnTo>
                    <a:lnTo>
                      <a:pt x="2945" y="6214"/>
                    </a:lnTo>
                    <a:lnTo>
                      <a:pt x="3038" y="6073"/>
                    </a:lnTo>
                    <a:lnTo>
                      <a:pt x="3175" y="6029"/>
                    </a:lnTo>
                    <a:lnTo>
                      <a:pt x="3267" y="5892"/>
                    </a:lnTo>
                    <a:lnTo>
                      <a:pt x="3404" y="5799"/>
                    </a:lnTo>
                    <a:lnTo>
                      <a:pt x="3541" y="5658"/>
                    </a:lnTo>
                    <a:lnTo>
                      <a:pt x="3682" y="5521"/>
                    </a:lnTo>
                    <a:lnTo>
                      <a:pt x="3818" y="5429"/>
                    </a:lnTo>
                    <a:lnTo>
                      <a:pt x="3818" y="5292"/>
                    </a:lnTo>
                    <a:lnTo>
                      <a:pt x="3818" y="5155"/>
                    </a:lnTo>
                    <a:lnTo>
                      <a:pt x="3818" y="4741"/>
                    </a:lnTo>
                    <a:lnTo>
                      <a:pt x="3911" y="4600"/>
                    </a:lnTo>
                    <a:lnTo>
                      <a:pt x="4048" y="4556"/>
                    </a:lnTo>
                    <a:lnTo>
                      <a:pt x="4189" y="4512"/>
                    </a:lnTo>
                    <a:lnTo>
                      <a:pt x="4325" y="4463"/>
                    </a:lnTo>
                    <a:lnTo>
                      <a:pt x="4462" y="4419"/>
                    </a:lnTo>
                    <a:lnTo>
                      <a:pt x="4599" y="4326"/>
                    </a:lnTo>
                    <a:lnTo>
                      <a:pt x="4691" y="4190"/>
                    </a:lnTo>
                    <a:lnTo>
                      <a:pt x="4784" y="4049"/>
                    </a:lnTo>
                    <a:lnTo>
                      <a:pt x="4833" y="3912"/>
                    </a:lnTo>
                    <a:lnTo>
                      <a:pt x="4877" y="3775"/>
                    </a:lnTo>
                    <a:lnTo>
                      <a:pt x="5013" y="3634"/>
                    </a:lnTo>
                    <a:lnTo>
                      <a:pt x="5106" y="3497"/>
                    </a:lnTo>
                    <a:lnTo>
                      <a:pt x="5247" y="3453"/>
                    </a:lnTo>
                    <a:lnTo>
                      <a:pt x="5384" y="3405"/>
                    </a:lnTo>
                    <a:lnTo>
                      <a:pt x="5520" y="3405"/>
                    </a:lnTo>
                    <a:lnTo>
                      <a:pt x="5657" y="3453"/>
                    </a:lnTo>
                    <a:lnTo>
                      <a:pt x="5798" y="3497"/>
                    </a:lnTo>
                    <a:lnTo>
                      <a:pt x="5935" y="3542"/>
                    </a:lnTo>
                    <a:lnTo>
                      <a:pt x="6072" y="3590"/>
                    </a:lnTo>
                    <a:lnTo>
                      <a:pt x="6213" y="3590"/>
                    </a:lnTo>
                    <a:lnTo>
                      <a:pt x="6350" y="3590"/>
                    </a:lnTo>
                    <a:lnTo>
                      <a:pt x="6486" y="3590"/>
                    </a:lnTo>
                    <a:lnTo>
                      <a:pt x="6627" y="3497"/>
                    </a:lnTo>
                    <a:lnTo>
                      <a:pt x="6764" y="3405"/>
                    </a:lnTo>
                    <a:lnTo>
                      <a:pt x="6901" y="3361"/>
                    </a:lnTo>
                    <a:lnTo>
                      <a:pt x="7042" y="3361"/>
                    </a:lnTo>
                    <a:lnTo>
                      <a:pt x="7179" y="3361"/>
                    </a:lnTo>
                    <a:lnTo>
                      <a:pt x="7315" y="3361"/>
                    </a:lnTo>
                    <a:lnTo>
                      <a:pt x="7452" y="3453"/>
                    </a:lnTo>
                    <a:lnTo>
                      <a:pt x="7593" y="3497"/>
                    </a:lnTo>
                    <a:lnTo>
                      <a:pt x="7637" y="3634"/>
                    </a:lnTo>
                    <a:lnTo>
                      <a:pt x="7637" y="3775"/>
                    </a:lnTo>
                    <a:lnTo>
                      <a:pt x="7637" y="3912"/>
                    </a:lnTo>
                    <a:lnTo>
                      <a:pt x="7637" y="4049"/>
                    </a:lnTo>
                    <a:lnTo>
                      <a:pt x="7637" y="4190"/>
                    </a:lnTo>
                    <a:lnTo>
                      <a:pt x="7686" y="4326"/>
                    </a:lnTo>
                    <a:lnTo>
                      <a:pt x="7774" y="4463"/>
                    </a:lnTo>
                    <a:lnTo>
                      <a:pt x="7866" y="4600"/>
                    </a:lnTo>
                    <a:lnTo>
                      <a:pt x="7959" y="4741"/>
                    </a:lnTo>
                    <a:lnTo>
                      <a:pt x="8100" y="4834"/>
                    </a:lnTo>
                    <a:lnTo>
                      <a:pt x="8188" y="4970"/>
                    </a:lnTo>
                    <a:lnTo>
                      <a:pt x="8329" y="5063"/>
                    </a:lnTo>
                    <a:lnTo>
                      <a:pt x="8466" y="5155"/>
                    </a:lnTo>
                    <a:lnTo>
                      <a:pt x="8559" y="5292"/>
                    </a:lnTo>
                    <a:lnTo>
                      <a:pt x="8651" y="5429"/>
                    </a:lnTo>
                    <a:lnTo>
                      <a:pt x="8744" y="5570"/>
                    </a:lnTo>
                    <a:lnTo>
                      <a:pt x="8881" y="5658"/>
                    </a:lnTo>
                    <a:lnTo>
                      <a:pt x="8973" y="5799"/>
                    </a:lnTo>
                    <a:lnTo>
                      <a:pt x="9017" y="5936"/>
                    </a:lnTo>
                    <a:lnTo>
                      <a:pt x="9111" y="6073"/>
                    </a:lnTo>
                    <a:lnTo>
                      <a:pt x="9159" y="6214"/>
                    </a:lnTo>
                    <a:lnTo>
                      <a:pt x="9204" y="6351"/>
                    </a:lnTo>
                    <a:lnTo>
                      <a:pt x="9248" y="6487"/>
                    </a:lnTo>
                    <a:lnTo>
                      <a:pt x="9248" y="6628"/>
                    </a:lnTo>
                    <a:lnTo>
                      <a:pt x="9248" y="6765"/>
                    </a:lnTo>
                    <a:lnTo>
                      <a:pt x="9248" y="6902"/>
                    </a:lnTo>
                    <a:lnTo>
                      <a:pt x="9248" y="7043"/>
                    </a:lnTo>
                    <a:lnTo>
                      <a:pt x="9389" y="7180"/>
                    </a:lnTo>
                    <a:lnTo>
                      <a:pt x="9526" y="7272"/>
                    </a:lnTo>
                    <a:lnTo>
                      <a:pt x="9662" y="7272"/>
                    </a:lnTo>
                    <a:lnTo>
                      <a:pt x="9755" y="7131"/>
                    </a:lnTo>
                    <a:lnTo>
                      <a:pt x="9803" y="6994"/>
                    </a:lnTo>
                    <a:lnTo>
                      <a:pt x="9847" y="6858"/>
                    </a:lnTo>
                    <a:lnTo>
                      <a:pt x="9847" y="6717"/>
                    </a:lnTo>
                    <a:lnTo>
                      <a:pt x="9803" y="6580"/>
                    </a:lnTo>
                    <a:lnTo>
                      <a:pt x="9803" y="6443"/>
                    </a:lnTo>
                    <a:lnTo>
                      <a:pt x="9803" y="6306"/>
                    </a:lnTo>
                    <a:lnTo>
                      <a:pt x="9803" y="6165"/>
                    </a:lnTo>
                    <a:lnTo>
                      <a:pt x="9940" y="6121"/>
                    </a:lnTo>
                    <a:lnTo>
                      <a:pt x="10077" y="6121"/>
                    </a:lnTo>
                    <a:lnTo>
                      <a:pt x="10218" y="6165"/>
                    </a:lnTo>
                    <a:lnTo>
                      <a:pt x="10355" y="6214"/>
                    </a:lnTo>
                    <a:lnTo>
                      <a:pt x="10399" y="6073"/>
                    </a:lnTo>
                    <a:lnTo>
                      <a:pt x="10399" y="5936"/>
                    </a:lnTo>
                    <a:lnTo>
                      <a:pt x="10355" y="5799"/>
                    </a:lnTo>
                    <a:lnTo>
                      <a:pt x="10306" y="5658"/>
                    </a:lnTo>
                    <a:lnTo>
                      <a:pt x="10169" y="5614"/>
                    </a:lnTo>
                    <a:lnTo>
                      <a:pt x="10033" y="5477"/>
                    </a:lnTo>
                    <a:lnTo>
                      <a:pt x="9940" y="5336"/>
                    </a:lnTo>
                    <a:lnTo>
                      <a:pt x="9803" y="5248"/>
                    </a:lnTo>
                    <a:lnTo>
                      <a:pt x="9711" y="5107"/>
                    </a:lnTo>
                    <a:lnTo>
                      <a:pt x="9570" y="5014"/>
                    </a:lnTo>
                    <a:lnTo>
                      <a:pt x="9433" y="4926"/>
                    </a:lnTo>
                    <a:lnTo>
                      <a:pt x="9340" y="4785"/>
                    </a:lnTo>
                    <a:lnTo>
                      <a:pt x="9296" y="4648"/>
                    </a:lnTo>
                    <a:lnTo>
                      <a:pt x="9248" y="4512"/>
                    </a:lnTo>
                    <a:lnTo>
                      <a:pt x="9204" y="4371"/>
                    </a:lnTo>
                    <a:lnTo>
                      <a:pt x="9111" y="4234"/>
                    </a:lnTo>
                    <a:lnTo>
                      <a:pt x="9017" y="4097"/>
                    </a:lnTo>
                    <a:lnTo>
                      <a:pt x="8881" y="3956"/>
                    </a:lnTo>
                    <a:lnTo>
                      <a:pt x="8832" y="3819"/>
                    </a:lnTo>
                    <a:lnTo>
                      <a:pt x="8744" y="3683"/>
                    </a:lnTo>
                    <a:lnTo>
                      <a:pt x="8651" y="3542"/>
                    </a:lnTo>
                    <a:lnTo>
                      <a:pt x="8559" y="3405"/>
                    </a:lnTo>
                    <a:lnTo>
                      <a:pt x="8466" y="3268"/>
                    </a:lnTo>
                    <a:lnTo>
                      <a:pt x="8374" y="3131"/>
                    </a:lnTo>
                    <a:lnTo>
                      <a:pt x="8422" y="2990"/>
                    </a:lnTo>
                    <a:lnTo>
                      <a:pt x="8559" y="2946"/>
                    </a:lnTo>
                    <a:lnTo>
                      <a:pt x="8695" y="2946"/>
                    </a:lnTo>
                    <a:lnTo>
                      <a:pt x="8832" y="2946"/>
                    </a:lnTo>
                    <a:lnTo>
                      <a:pt x="8973" y="3039"/>
                    </a:lnTo>
                    <a:lnTo>
                      <a:pt x="9067" y="3176"/>
                    </a:lnTo>
                    <a:lnTo>
                      <a:pt x="9204" y="3312"/>
                    </a:lnTo>
                    <a:lnTo>
                      <a:pt x="9296" y="3453"/>
                    </a:lnTo>
                    <a:lnTo>
                      <a:pt x="9389" y="3590"/>
                    </a:lnTo>
                    <a:lnTo>
                      <a:pt x="9433" y="3727"/>
                    </a:lnTo>
                    <a:lnTo>
                      <a:pt x="9526" y="3868"/>
                    </a:lnTo>
                    <a:lnTo>
                      <a:pt x="9662" y="4005"/>
                    </a:lnTo>
                    <a:lnTo>
                      <a:pt x="9711" y="4141"/>
                    </a:lnTo>
                    <a:lnTo>
                      <a:pt x="9847" y="4278"/>
                    </a:lnTo>
                    <a:lnTo>
                      <a:pt x="9940" y="4419"/>
                    </a:lnTo>
                    <a:lnTo>
                      <a:pt x="10077" y="4556"/>
                    </a:lnTo>
                    <a:lnTo>
                      <a:pt x="10125" y="4692"/>
                    </a:lnTo>
                    <a:lnTo>
                      <a:pt x="10218" y="4834"/>
                    </a:lnTo>
                    <a:lnTo>
                      <a:pt x="10355" y="4970"/>
                    </a:lnTo>
                    <a:lnTo>
                      <a:pt x="10491" y="5107"/>
                    </a:lnTo>
                    <a:lnTo>
                      <a:pt x="10628" y="5248"/>
                    </a:lnTo>
                    <a:lnTo>
                      <a:pt x="10721" y="5385"/>
                    </a:lnTo>
                    <a:lnTo>
                      <a:pt x="10813" y="5521"/>
                    </a:lnTo>
                    <a:lnTo>
                      <a:pt x="10862" y="5658"/>
                    </a:lnTo>
                    <a:lnTo>
                      <a:pt x="10906" y="5799"/>
                    </a:lnTo>
                    <a:lnTo>
                      <a:pt x="10906" y="5936"/>
                    </a:lnTo>
                    <a:lnTo>
                      <a:pt x="10906" y="6073"/>
                    </a:lnTo>
                    <a:lnTo>
                      <a:pt x="10906" y="6214"/>
                    </a:lnTo>
                    <a:lnTo>
                      <a:pt x="10906" y="6351"/>
                    </a:lnTo>
                    <a:lnTo>
                      <a:pt x="11042" y="6443"/>
                    </a:lnTo>
                    <a:lnTo>
                      <a:pt x="11184" y="6536"/>
                    </a:lnTo>
                    <a:lnTo>
                      <a:pt x="11276" y="6672"/>
                    </a:lnTo>
                    <a:lnTo>
                      <a:pt x="11276" y="6809"/>
                    </a:lnTo>
                    <a:lnTo>
                      <a:pt x="11276" y="6950"/>
                    </a:lnTo>
                    <a:lnTo>
                      <a:pt x="11276" y="7087"/>
                    </a:lnTo>
                    <a:lnTo>
                      <a:pt x="11413" y="7180"/>
                    </a:lnTo>
                    <a:lnTo>
                      <a:pt x="11550" y="7272"/>
                    </a:lnTo>
                    <a:lnTo>
                      <a:pt x="11686" y="7365"/>
                    </a:lnTo>
                    <a:lnTo>
                      <a:pt x="11827" y="7453"/>
                    </a:lnTo>
                    <a:lnTo>
                      <a:pt x="11964" y="7546"/>
                    </a:lnTo>
                    <a:lnTo>
                      <a:pt x="12101" y="7546"/>
                    </a:lnTo>
                    <a:lnTo>
                      <a:pt x="12242" y="7546"/>
                    </a:lnTo>
                    <a:lnTo>
                      <a:pt x="12379" y="7501"/>
                    </a:lnTo>
                    <a:lnTo>
                      <a:pt x="12471" y="7365"/>
                    </a:lnTo>
                    <a:lnTo>
                      <a:pt x="12564" y="7224"/>
                    </a:lnTo>
                    <a:lnTo>
                      <a:pt x="12608" y="7087"/>
                    </a:lnTo>
                    <a:lnTo>
                      <a:pt x="12656" y="6950"/>
                    </a:lnTo>
                    <a:lnTo>
                      <a:pt x="12608" y="6809"/>
                    </a:lnTo>
                    <a:lnTo>
                      <a:pt x="12515" y="6672"/>
                    </a:lnTo>
                    <a:lnTo>
                      <a:pt x="12423" y="6536"/>
                    </a:lnTo>
                    <a:lnTo>
                      <a:pt x="12334" y="6395"/>
                    </a:lnTo>
                    <a:lnTo>
                      <a:pt x="12286" y="6258"/>
                    </a:lnTo>
                    <a:lnTo>
                      <a:pt x="12286" y="6121"/>
                    </a:lnTo>
                    <a:lnTo>
                      <a:pt x="12423" y="5984"/>
                    </a:lnTo>
                    <a:lnTo>
                      <a:pt x="12564" y="5892"/>
                    </a:lnTo>
                    <a:lnTo>
                      <a:pt x="12701" y="5843"/>
                    </a:lnTo>
                    <a:lnTo>
                      <a:pt x="12837" y="5799"/>
                    </a:lnTo>
                    <a:lnTo>
                      <a:pt x="12978" y="5707"/>
                    </a:lnTo>
                    <a:lnTo>
                      <a:pt x="13115" y="5614"/>
                    </a:lnTo>
                    <a:lnTo>
                      <a:pt x="13159" y="5248"/>
                    </a:lnTo>
                    <a:lnTo>
                      <a:pt x="13208" y="4878"/>
                    </a:lnTo>
                    <a:lnTo>
                      <a:pt x="13344" y="4834"/>
                    </a:lnTo>
                    <a:lnTo>
                      <a:pt x="13481" y="4834"/>
                    </a:lnTo>
                    <a:lnTo>
                      <a:pt x="13622" y="4834"/>
                    </a:lnTo>
                    <a:lnTo>
                      <a:pt x="13759" y="4878"/>
                    </a:lnTo>
                    <a:lnTo>
                      <a:pt x="13896" y="4970"/>
                    </a:lnTo>
                    <a:lnTo>
                      <a:pt x="14037" y="5063"/>
                    </a:lnTo>
                    <a:lnTo>
                      <a:pt x="14173" y="5107"/>
                    </a:lnTo>
                    <a:lnTo>
                      <a:pt x="14266" y="4970"/>
                    </a:lnTo>
                    <a:lnTo>
                      <a:pt x="14266" y="4834"/>
                    </a:lnTo>
                    <a:lnTo>
                      <a:pt x="14266" y="4692"/>
                    </a:lnTo>
                    <a:lnTo>
                      <a:pt x="14173" y="4556"/>
                    </a:lnTo>
                    <a:lnTo>
                      <a:pt x="14081" y="4419"/>
                    </a:lnTo>
                    <a:lnTo>
                      <a:pt x="14037" y="4278"/>
                    </a:lnTo>
                    <a:lnTo>
                      <a:pt x="14037" y="4141"/>
                    </a:lnTo>
                    <a:lnTo>
                      <a:pt x="14037" y="4005"/>
                    </a:lnTo>
                    <a:lnTo>
                      <a:pt x="14037" y="3868"/>
                    </a:lnTo>
                    <a:lnTo>
                      <a:pt x="14037" y="3727"/>
                    </a:lnTo>
                    <a:lnTo>
                      <a:pt x="14037" y="3590"/>
                    </a:lnTo>
                    <a:lnTo>
                      <a:pt x="14037" y="3453"/>
                    </a:lnTo>
                    <a:lnTo>
                      <a:pt x="14037" y="3312"/>
                    </a:lnTo>
                    <a:lnTo>
                      <a:pt x="14081" y="2946"/>
                    </a:lnTo>
                    <a:lnTo>
                      <a:pt x="14081" y="2808"/>
                    </a:lnTo>
                    <a:lnTo>
                      <a:pt x="14125" y="2667"/>
                    </a:lnTo>
                    <a:lnTo>
                      <a:pt x="14266" y="2531"/>
                    </a:lnTo>
                    <a:lnTo>
                      <a:pt x="14403" y="2482"/>
                    </a:lnTo>
                    <a:lnTo>
                      <a:pt x="14539" y="2394"/>
                    </a:lnTo>
                    <a:lnTo>
                      <a:pt x="14680" y="2345"/>
                    </a:lnTo>
                    <a:lnTo>
                      <a:pt x="14817" y="2301"/>
                    </a:lnTo>
                    <a:lnTo>
                      <a:pt x="14954" y="2301"/>
                    </a:lnTo>
                    <a:lnTo>
                      <a:pt x="15095" y="2301"/>
                    </a:lnTo>
                    <a:lnTo>
                      <a:pt x="15232" y="2438"/>
                    </a:lnTo>
                    <a:lnTo>
                      <a:pt x="15324" y="2575"/>
                    </a:lnTo>
                    <a:lnTo>
                      <a:pt x="15324" y="2716"/>
                    </a:lnTo>
                    <a:lnTo>
                      <a:pt x="15417" y="2854"/>
                    </a:lnTo>
                    <a:lnTo>
                      <a:pt x="15554" y="2946"/>
                    </a:lnTo>
                    <a:lnTo>
                      <a:pt x="15690" y="3083"/>
                    </a:lnTo>
                    <a:lnTo>
                      <a:pt x="15831" y="3131"/>
                    </a:lnTo>
                    <a:lnTo>
                      <a:pt x="15968" y="3131"/>
                    </a:lnTo>
                    <a:lnTo>
                      <a:pt x="16105" y="3083"/>
                    </a:lnTo>
                    <a:lnTo>
                      <a:pt x="16197" y="2946"/>
                    </a:lnTo>
                    <a:lnTo>
                      <a:pt x="16290" y="2808"/>
                    </a:lnTo>
                    <a:lnTo>
                      <a:pt x="16334" y="2667"/>
                    </a:lnTo>
                    <a:lnTo>
                      <a:pt x="16290" y="2531"/>
                    </a:lnTo>
                    <a:lnTo>
                      <a:pt x="16197" y="2394"/>
                    </a:lnTo>
                    <a:lnTo>
                      <a:pt x="16105" y="2253"/>
                    </a:lnTo>
                    <a:lnTo>
                      <a:pt x="16105" y="2116"/>
                    </a:lnTo>
                    <a:lnTo>
                      <a:pt x="16105" y="1979"/>
                    </a:lnTo>
                    <a:lnTo>
                      <a:pt x="16197" y="1838"/>
                    </a:lnTo>
                    <a:lnTo>
                      <a:pt x="16334" y="1750"/>
                    </a:lnTo>
                    <a:lnTo>
                      <a:pt x="16475" y="1702"/>
                    </a:lnTo>
                    <a:lnTo>
                      <a:pt x="16612" y="1609"/>
                    </a:lnTo>
                    <a:lnTo>
                      <a:pt x="16656" y="1750"/>
                    </a:lnTo>
                    <a:lnTo>
                      <a:pt x="16749" y="1887"/>
                    </a:lnTo>
                    <a:lnTo>
                      <a:pt x="16841" y="2024"/>
                    </a:lnTo>
                    <a:lnTo>
                      <a:pt x="16797" y="2160"/>
                    </a:lnTo>
                    <a:lnTo>
                      <a:pt x="16705" y="2301"/>
                    </a:lnTo>
                    <a:lnTo>
                      <a:pt x="16612" y="2438"/>
                    </a:lnTo>
                    <a:lnTo>
                      <a:pt x="16612" y="2575"/>
                    </a:lnTo>
                    <a:lnTo>
                      <a:pt x="16612" y="2716"/>
                    </a:lnTo>
                    <a:lnTo>
                      <a:pt x="16749" y="2808"/>
                    </a:lnTo>
                    <a:lnTo>
                      <a:pt x="16890" y="2946"/>
                    </a:lnTo>
                    <a:lnTo>
                      <a:pt x="17026" y="2990"/>
                    </a:lnTo>
                    <a:lnTo>
                      <a:pt x="17163" y="3039"/>
                    </a:lnTo>
                    <a:lnTo>
                      <a:pt x="17300" y="3131"/>
                    </a:lnTo>
                    <a:lnTo>
                      <a:pt x="17441" y="3176"/>
                    </a:lnTo>
                    <a:lnTo>
                      <a:pt x="17578" y="3220"/>
                    </a:lnTo>
                    <a:lnTo>
                      <a:pt x="17714" y="3312"/>
                    </a:lnTo>
                    <a:lnTo>
                      <a:pt x="17855" y="3453"/>
                    </a:lnTo>
                    <a:lnTo>
                      <a:pt x="17948" y="3590"/>
                    </a:lnTo>
                    <a:lnTo>
                      <a:pt x="18036" y="3727"/>
                    </a:lnTo>
                    <a:lnTo>
                      <a:pt x="18085" y="3868"/>
                    </a:lnTo>
                    <a:lnTo>
                      <a:pt x="17992" y="4005"/>
                    </a:lnTo>
                    <a:lnTo>
                      <a:pt x="17948" y="4141"/>
                    </a:lnTo>
                    <a:lnTo>
                      <a:pt x="17807" y="4190"/>
                    </a:lnTo>
                    <a:lnTo>
                      <a:pt x="17670" y="4190"/>
                    </a:lnTo>
                    <a:lnTo>
                      <a:pt x="17534" y="4190"/>
                    </a:lnTo>
                    <a:lnTo>
                      <a:pt x="17392" y="4190"/>
                    </a:lnTo>
                    <a:lnTo>
                      <a:pt x="17256" y="4190"/>
                    </a:lnTo>
                    <a:lnTo>
                      <a:pt x="17119" y="4190"/>
                    </a:lnTo>
                    <a:lnTo>
                      <a:pt x="16978" y="4190"/>
                    </a:lnTo>
                    <a:lnTo>
                      <a:pt x="16841" y="4234"/>
                    </a:lnTo>
                    <a:lnTo>
                      <a:pt x="16705" y="4234"/>
                    </a:lnTo>
                    <a:lnTo>
                      <a:pt x="16568" y="4234"/>
                    </a:lnTo>
                    <a:lnTo>
                      <a:pt x="16427" y="4234"/>
                    </a:lnTo>
                    <a:lnTo>
                      <a:pt x="16290" y="4278"/>
                    </a:lnTo>
                    <a:lnTo>
                      <a:pt x="16153" y="4326"/>
                    </a:lnTo>
                    <a:lnTo>
                      <a:pt x="16012" y="4419"/>
                    </a:lnTo>
                    <a:lnTo>
                      <a:pt x="15876" y="4463"/>
                    </a:lnTo>
                    <a:lnTo>
                      <a:pt x="15739" y="4556"/>
                    </a:lnTo>
                    <a:lnTo>
                      <a:pt x="15598" y="4692"/>
                    </a:lnTo>
                    <a:lnTo>
                      <a:pt x="15461" y="4785"/>
                    </a:lnTo>
                    <a:lnTo>
                      <a:pt x="15324" y="4878"/>
                    </a:lnTo>
                    <a:lnTo>
                      <a:pt x="15232" y="5014"/>
                    </a:lnTo>
                    <a:lnTo>
                      <a:pt x="15095" y="5107"/>
                    </a:lnTo>
                    <a:lnTo>
                      <a:pt x="14954" y="5200"/>
                    </a:lnTo>
                    <a:lnTo>
                      <a:pt x="14817" y="5248"/>
                    </a:lnTo>
                    <a:lnTo>
                      <a:pt x="14680" y="5292"/>
                    </a:lnTo>
                    <a:lnTo>
                      <a:pt x="14539" y="5385"/>
                    </a:lnTo>
                    <a:lnTo>
                      <a:pt x="14403" y="5521"/>
                    </a:lnTo>
                    <a:lnTo>
                      <a:pt x="14266" y="5614"/>
                    </a:lnTo>
                    <a:lnTo>
                      <a:pt x="14125" y="5658"/>
                    </a:lnTo>
                    <a:lnTo>
                      <a:pt x="13988" y="5707"/>
                    </a:lnTo>
                    <a:lnTo>
                      <a:pt x="13851" y="5751"/>
                    </a:lnTo>
                    <a:lnTo>
                      <a:pt x="13759" y="5892"/>
                    </a:lnTo>
                    <a:lnTo>
                      <a:pt x="13622" y="5984"/>
                    </a:lnTo>
                    <a:lnTo>
                      <a:pt x="13574" y="6121"/>
                    </a:lnTo>
                    <a:lnTo>
                      <a:pt x="13481" y="6258"/>
                    </a:lnTo>
                    <a:lnTo>
                      <a:pt x="13481" y="6395"/>
                    </a:lnTo>
                    <a:lnTo>
                      <a:pt x="13530" y="6536"/>
                    </a:lnTo>
                    <a:lnTo>
                      <a:pt x="13574" y="6672"/>
                    </a:lnTo>
                    <a:lnTo>
                      <a:pt x="13622" y="6809"/>
                    </a:lnTo>
                    <a:lnTo>
                      <a:pt x="13759" y="6902"/>
                    </a:lnTo>
                    <a:lnTo>
                      <a:pt x="13803" y="7043"/>
                    </a:lnTo>
                    <a:lnTo>
                      <a:pt x="13896" y="7180"/>
                    </a:lnTo>
                    <a:lnTo>
                      <a:pt x="13988" y="7316"/>
                    </a:lnTo>
                    <a:lnTo>
                      <a:pt x="14125" y="7453"/>
                    </a:lnTo>
                    <a:lnTo>
                      <a:pt x="14266" y="7546"/>
                    </a:lnTo>
                    <a:lnTo>
                      <a:pt x="14310" y="7687"/>
                    </a:lnTo>
                    <a:lnTo>
                      <a:pt x="14451" y="7775"/>
                    </a:lnTo>
                    <a:lnTo>
                      <a:pt x="14588" y="7775"/>
                    </a:lnTo>
                    <a:lnTo>
                      <a:pt x="14725" y="7775"/>
                    </a:lnTo>
                    <a:lnTo>
                      <a:pt x="14861" y="7775"/>
                    </a:lnTo>
                    <a:lnTo>
                      <a:pt x="15002" y="7775"/>
                    </a:lnTo>
                    <a:lnTo>
                      <a:pt x="15139" y="7731"/>
                    </a:lnTo>
                    <a:lnTo>
                      <a:pt x="15276" y="7687"/>
                    </a:lnTo>
                    <a:lnTo>
                      <a:pt x="15417" y="7687"/>
                    </a:lnTo>
                    <a:lnTo>
                      <a:pt x="15554" y="7687"/>
                    </a:lnTo>
                    <a:lnTo>
                      <a:pt x="15690" y="7731"/>
                    </a:lnTo>
                    <a:lnTo>
                      <a:pt x="15831" y="7775"/>
                    </a:lnTo>
                    <a:lnTo>
                      <a:pt x="15968" y="7823"/>
                    </a:lnTo>
                    <a:lnTo>
                      <a:pt x="16105" y="7823"/>
                    </a:lnTo>
                    <a:lnTo>
                      <a:pt x="16242" y="7823"/>
                    </a:lnTo>
                    <a:lnTo>
                      <a:pt x="16334" y="7687"/>
                    </a:lnTo>
                    <a:lnTo>
                      <a:pt x="16427" y="7546"/>
                    </a:lnTo>
                    <a:lnTo>
                      <a:pt x="16475" y="7409"/>
                    </a:lnTo>
                    <a:lnTo>
                      <a:pt x="16568" y="7272"/>
                    </a:lnTo>
                    <a:lnTo>
                      <a:pt x="16705" y="7180"/>
                    </a:lnTo>
                    <a:lnTo>
                      <a:pt x="16841" y="7131"/>
                    </a:lnTo>
                    <a:lnTo>
                      <a:pt x="16890" y="7272"/>
                    </a:lnTo>
                    <a:lnTo>
                      <a:pt x="16890" y="7409"/>
                    </a:lnTo>
                    <a:lnTo>
                      <a:pt x="16841" y="7546"/>
                    </a:lnTo>
                    <a:lnTo>
                      <a:pt x="16797" y="7687"/>
                    </a:lnTo>
                    <a:lnTo>
                      <a:pt x="16890" y="7823"/>
                    </a:lnTo>
                    <a:lnTo>
                      <a:pt x="17026" y="7916"/>
                    </a:lnTo>
                    <a:lnTo>
                      <a:pt x="17119" y="8053"/>
                    </a:lnTo>
                    <a:lnTo>
                      <a:pt x="17163" y="8189"/>
                    </a:lnTo>
                    <a:lnTo>
                      <a:pt x="17256" y="8330"/>
                    </a:lnTo>
                    <a:lnTo>
                      <a:pt x="17256" y="8467"/>
                    </a:lnTo>
                    <a:lnTo>
                      <a:pt x="17256" y="8605"/>
                    </a:lnTo>
                    <a:lnTo>
                      <a:pt x="17212" y="8746"/>
                    </a:lnTo>
                    <a:lnTo>
                      <a:pt x="17212" y="8883"/>
                    </a:lnTo>
                    <a:lnTo>
                      <a:pt x="17212" y="9019"/>
                    </a:lnTo>
                    <a:lnTo>
                      <a:pt x="17119" y="9160"/>
                    </a:lnTo>
                    <a:lnTo>
                      <a:pt x="16978" y="9249"/>
                    </a:lnTo>
                    <a:lnTo>
                      <a:pt x="16841" y="9341"/>
                    </a:lnTo>
                    <a:lnTo>
                      <a:pt x="16705" y="9482"/>
                    </a:lnTo>
                    <a:lnTo>
                      <a:pt x="16568" y="9571"/>
                    </a:lnTo>
                    <a:lnTo>
                      <a:pt x="16427" y="9663"/>
                    </a:lnTo>
                    <a:lnTo>
                      <a:pt x="16290" y="9756"/>
                    </a:lnTo>
                    <a:lnTo>
                      <a:pt x="16153" y="9848"/>
                    </a:lnTo>
                    <a:lnTo>
                      <a:pt x="16012" y="9985"/>
                    </a:lnTo>
                    <a:lnTo>
                      <a:pt x="15876" y="10078"/>
                    </a:lnTo>
                    <a:lnTo>
                      <a:pt x="15831" y="10219"/>
                    </a:lnTo>
                    <a:lnTo>
                      <a:pt x="15739" y="10356"/>
                    </a:lnTo>
                    <a:lnTo>
                      <a:pt x="15646" y="10492"/>
                    </a:lnTo>
                    <a:lnTo>
                      <a:pt x="15554" y="10629"/>
                    </a:lnTo>
                    <a:lnTo>
                      <a:pt x="15461" y="10770"/>
                    </a:lnTo>
                    <a:lnTo>
                      <a:pt x="15368" y="10907"/>
                    </a:lnTo>
                    <a:lnTo>
                      <a:pt x="15324" y="11043"/>
                    </a:lnTo>
                    <a:lnTo>
                      <a:pt x="15183" y="11092"/>
                    </a:lnTo>
                    <a:lnTo>
                      <a:pt x="15046" y="11092"/>
                    </a:lnTo>
                    <a:lnTo>
                      <a:pt x="14910" y="11092"/>
                    </a:lnTo>
                    <a:lnTo>
                      <a:pt x="14773" y="11092"/>
                    </a:lnTo>
                    <a:lnTo>
                      <a:pt x="14632" y="11043"/>
                    </a:lnTo>
                    <a:lnTo>
                      <a:pt x="14495" y="11043"/>
                    </a:lnTo>
                    <a:lnTo>
                      <a:pt x="14359" y="10951"/>
                    </a:lnTo>
                    <a:lnTo>
                      <a:pt x="14217" y="10863"/>
                    </a:lnTo>
                    <a:lnTo>
                      <a:pt x="14081" y="10770"/>
                    </a:lnTo>
                    <a:lnTo>
                      <a:pt x="13944" y="10770"/>
                    </a:lnTo>
                    <a:lnTo>
                      <a:pt x="13803" y="10770"/>
                    </a:lnTo>
                    <a:lnTo>
                      <a:pt x="13666" y="10770"/>
                    </a:lnTo>
                    <a:lnTo>
                      <a:pt x="13530" y="10814"/>
                    </a:lnTo>
                    <a:lnTo>
                      <a:pt x="13437" y="10951"/>
                    </a:lnTo>
                    <a:lnTo>
                      <a:pt x="13300" y="11043"/>
                    </a:lnTo>
                    <a:lnTo>
                      <a:pt x="13159" y="11043"/>
                    </a:lnTo>
                    <a:lnTo>
                      <a:pt x="12793" y="11043"/>
                    </a:lnTo>
                    <a:lnTo>
                      <a:pt x="12656" y="11043"/>
                    </a:lnTo>
                    <a:lnTo>
                      <a:pt x="12515" y="11043"/>
                    </a:lnTo>
                    <a:lnTo>
                      <a:pt x="12379" y="11043"/>
                    </a:lnTo>
                    <a:lnTo>
                      <a:pt x="12242" y="11043"/>
                    </a:lnTo>
                    <a:lnTo>
                      <a:pt x="12101" y="10999"/>
                    </a:lnTo>
                    <a:lnTo>
                      <a:pt x="11964" y="10951"/>
                    </a:lnTo>
                    <a:lnTo>
                      <a:pt x="11827" y="10814"/>
                    </a:lnTo>
                    <a:lnTo>
                      <a:pt x="11686" y="10722"/>
                    </a:lnTo>
                    <a:lnTo>
                      <a:pt x="11550" y="10629"/>
                    </a:lnTo>
                    <a:lnTo>
                      <a:pt x="11413" y="10629"/>
                    </a:lnTo>
                    <a:lnTo>
                      <a:pt x="11276" y="10585"/>
                    </a:lnTo>
                    <a:lnTo>
                      <a:pt x="11135" y="10585"/>
                    </a:lnTo>
                    <a:lnTo>
                      <a:pt x="10998" y="10585"/>
                    </a:lnTo>
                    <a:lnTo>
                      <a:pt x="10862" y="10585"/>
                    </a:lnTo>
                    <a:lnTo>
                      <a:pt x="10491" y="10585"/>
                    </a:lnTo>
                    <a:lnTo>
                      <a:pt x="10355" y="10585"/>
                    </a:lnTo>
                    <a:lnTo>
                      <a:pt x="10218" y="10585"/>
                    </a:lnTo>
                    <a:lnTo>
                      <a:pt x="10077" y="10585"/>
                    </a:lnTo>
                    <a:lnTo>
                      <a:pt x="9940" y="10585"/>
                    </a:lnTo>
                    <a:lnTo>
                      <a:pt x="9803" y="10585"/>
                    </a:lnTo>
                    <a:lnTo>
                      <a:pt x="9662" y="10629"/>
                    </a:lnTo>
                    <a:lnTo>
                      <a:pt x="9526" y="10629"/>
                    </a:lnTo>
                    <a:lnTo>
                      <a:pt x="9389" y="10677"/>
                    </a:lnTo>
                    <a:lnTo>
                      <a:pt x="9248" y="10722"/>
                    </a:lnTo>
                    <a:lnTo>
                      <a:pt x="9204" y="10863"/>
                    </a:lnTo>
                    <a:lnTo>
                      <a:pt x="9204" y="10999"/>
                    </a:lnTo>
                    <a:lnTo>
                      <a:pt x="9204" y="11136"/>
                    </a:lnTo>
                    <a:lnTo>
                      <a:pt x="9204" y="11277"/>
                    </a:lnTo>
                    <a:lnTo>
                      <a:pt x="9067" y="11365"/>
                    </a:lnTo>
                    <a:lnTo>
                      <a:pt x="8925" y="11321"/>
                    </a:lnTo>
                    <a:lnTo>
                      <a:pt x="8788" y="11229"/>
                    </a:lnTo>
                    <a:lnTo>
                      <a:pt x="8695" y="11092"/>
                    </a:lnTo>
                    <a:lnTo>
                      <a:pt x="8603" y="10951"/>
                    </a:lnTo>
                    <a:lnTo>
                      <a:pt x="8466" y="10814"/>
                    </a:lnTo>
                    <a:lnTo>
                      <a:pt x="8329" y="10722"/>
                    </a:lnTo>
                    <a:lnTo>
                      <a:pt x="8188" y="10629"/>
                    </a:lnTo>
                    <a:lnTo>
                      <a:pt x="8052" y="10541"/>
                    </a:lnTo>
                    <a:lnTo>
                      <a:pt x="7959" y="10400"/>
                    </a:lnTo>
                    <a:lnTo>
                      <a:pt x="7822" y="10307"/>
                    </a:lnTo>
                    <a:lnTo>
                      <a:pt x="7686" y="10170"/>
                    </a:lnTo>
                    <a:lnTo>
                      <a:pt x="7593" y="10034"/>
                    </a:lnTo>
                    <a:lnTo>
                      <a:pt x="7452" y="9985"/>
                    </a:lnTo>
                    <a:lnTo>
                      <a:pt x="7315" y="9941"/>
                    </a:lnTo>
                    <a:lnTo>
                      <a:pt x="7179" y="9941"/>
                    </a:lnTo>
                    <a:lnTo>
                      <a:pt x="7042" y="9941"/>
                    </a:lnTo>
                    <a:lnTo>
                      <a:pt x="6671" y="9941"/>
                    </a:lnTo>
                    <a:lnTo>
                      <a:pt x="6535" y="9848"/>
                    </a:lnTo>
                    <a:lnTo>
                      <a:pt x="6486" y="9712"/>
                    </a:lnTo>
                    <a:lnTo>
                      <a:pt x="6486" y="9571"/>
                    </a:lnTo>
                    <a:lnTo>
                      <a:pt x="6442" y="9434"/>
                    </a:lnTo>
                    <a:lnTo>
                      <a:pt x="6442" y="9297"/>
                    </a:lnTo>
                    <a:lnTo>
                      <a:pt x="6442" y="9160"/>
                    </a:lnTo>
                    <a:lnTo>
                      <a:pt x="6442" y="9019"/>
                    </a:lnTo>
                    <a:lnTo>
                      <a:pt x="6442" y="8883"/>
                    </a:lnTo>
                    <a:lnTo>
                      <a:pt x="6442" y="8746"/>
                    </a:lnTo>
                    <a:lnTo>
                      <a:pt x="6442" y="8605"/>
                    </a:lnTo>
                    <a:lnTo>
                      <a:pt x="6394" y="8467"/>
                    </a:lnTo>
                    <a:lnTo>
                      <a:pt x="6350" y="8330"/>
                    </a:lnTo>
                    <a:lnTo>
                      <a:pt x="6350" y="8189"/>
                    </a:lnTo>
                    <a:lnTo>
                      <a:pt x="6257" y="8053"/>
                    </a:lnTo>
                    <a:lnTo>
                      <a:pt x="6120" y="7960"/>
                    </a:lnTo>
                    <a:lnTo>
                      <a:pt x="5983" y="7960"/>
                    </a:lnTo>
                    <a:lnTo>
                      <a:pt x="5842" y="7960"/>
                    </a:lnTo>
                    <a:lnTo>
                      <a:pt x="5706" y="7960"/>
                    </a:lnTo>
                    <a:lnTo>
                      <a:pt x="5335" y="7960"/>
                    </a:lnTo>
                    <a:lnTo>
                      <a:pt x="5199" y="8009"/>
                    </a:lnTo>
                    <a:lnTo>
                      <a:pt x="4833" y="8009"/>
                    </a:lnTo>
                    <a:lnTo>
                      <a:pt x="4691" y="8053"/>
                    </a:lnTo>
                    <a:lnTo>
                      <a:pt x="4555" y="8053"/>
                    </a:lnTo>
                    <a:lnTo>
                      <a:pt x="4418" y="8053"/>
                    </a:lnTo>
                    <a:lnTo>
                      <a:pt x="4277" y="8053"/>
                    </a:lnTo>
                    <a:lnTo>
                      <a:pt x="4140" y="8053"/>
                    </a:lnTo>
                    <a:lnTo>
                      <a:pt x="4004" y="7960"/>
                    </a:lnTo>
                    <a:lnTo>
                      <a:pt x="3867" y="7867"/>
                    </a:lnTo>
                    <a:lnTo>
                      <a:pt x="3726" y="7775"/>
                    </a:lnTo>
                    <a:lnTo>
                      <a:pt x="3589" y="7638"/>
                    </a:lnTo>
                    <a:lnTo>
                      <a:pt x="3452" y="7594"/>
                    </a:lnTo>
                    <a:lnTo>
                      <a:pt x="3311" y="7546"/>
                    </a:lnTo>
                    <a:lnTo>
                      <a:pt x="2989" y="7501"/>
                    </a:lnTo>
                    <a:lnTo>
                      <a:pt x="2667" y="7501"/>
                    </a:lnTo>
                    <a:lnTo>
                      <a:pt x="2301" y="7453"/>
                    </a:lnTo>
                    <a:lnTo>
                      <a:pt x="2160" y="7409"/>
                    </a:lnTo>
                    <a:lnTo>
                      <a:pt x="2024" y="7409"/>
                    </a:lnTo>
                    <a:lnTo>
                      <a:pt x="1887" y="7272"/>
                    </a:lnTo>
                    <a:lnTo>
                      <a:pt x="1794" y="7131"/>
                    </a:lnTo>
                    <a:lnTo>
                      <a:pt x="1658" y="7043"/>
                    </a:lnTo>
                    <a:lnTo>
                      <a:pt x="1516" y="6950"/>
                    </a:lnTo>
                    <a:lnTo>
                      <a:pt x="1380" y="6950"/>
                    </a:lnTo>
                    <a:lnTo>
                      <a:pt x="1243" y="6950"/>
                    </a:lnTo>
                    <a:lnTo>
                      <a:pt x="921" y="6950"/>
                    </a:lnTo>
                    <a:lnTo>
                      <a:pt x="780" y="6994"/>
                    </a:lnTo>
                    <a:lnTo>
                      <a:pt x="643" y="7043"/>
                    </a:lnTo>
                    <a:lnTo>
                      <a:pt x="551" y="7180"/>
                    </a:lnTo>
                    <a:lnTo>
                      <a:pt x="458" y="7316"/>
                    </a:lnTo>
                    <a:lnTo>
                      <a:pt x="321" y="7453"/>
                    </a:lnTo>
                    <a:lnTo>
                      <a:pt x="229" y="7594"/>
                    </a:lnTo>
                    <a:lnTo>
                      <a:pt x="92" y="7687"/>
                    </a:lnTo>
                    <a:lnTo>
                      <a:pt x="0" y="7823"/>
                    </a:lnTo>
                    <a:lnTo>
                      <a:pt x="0" y="7687"/>
                    </a:lnTo>
                    <a:lnTo>
                      <a:pt x="0" y="7546"/>
                    </a:lnTo>
                    <a:lnTo>
                      <a:pt x="0" y="7409"/>
                    </a:lnTo>
                    <a:lnTo>
                      <a:pt x="0" y="7272"/>
                    </a:lnTo>
                    <a:lnTo>
                      <a:pt x="0" y="7131"/>
                    </a:lnTo>
                    <a:lnTo>
                      <a:pt x="0" y="6765"/>
                    </a:lnTo>
                    <a:lnTo>
                      <a:pt x="0" y="6351"/>
                    </a:lnTo>
                    <a:lnTo>
                      <a:pt x="0" y="5984"/>
                    </a:lnTo>
                    <a:lnTo>
                      <a:pt x="0" y="5570"/>
                    </a:lnTo>
                    <a:lnTo>
                      <a:pt x="0" y="5155"/>
                    </a:lnTo>
                    <a:lnTo>
                      <a:pt x="0" y="4741"/>
                    </a:lnTo>
                    <a:lnTo>
                      <a:pt x="0" y="4600"/>
                    </a:lnTo>
                    <a:lnTo>
                      <a:pt x="0" y="4463"/>
                    </a:lnTo>
                    <a:lnTo>
                      <a:pt x="0" y="4326"/>
                    </a:lnTo>
                    <a:lnTo>
                      <a:pt x="0" y="4005"/>
                    </a:lnTo>
                    <a:lnTo>
                      <a:pt x="0" y="3590"/>
                    </a:lnTo>
                    <a:lnTo>
                      <a:pt x="0" y="3220"/>
                    </a:lnTo>
                    <a:lnTo>
                      <a:pt x="0" y="2898"/>
                    </a:lnTo>
                    <a:lnTo>
                      <a:pt x="0" y="2575"/>
                    </a:lnTo>
                    <a:lnTo>
                      <a:pt x="0" y="2209"/>
                    </a:lnTo>
                    <a:lnTo>
                      <a:pt x="0" y="1838"/>
                    </a:lnTo>
                    <a:lnTo>
                      <a:pt x="0" y="1424"/>
                    </a:lnTo>
                    <a:lnTo>
                      <a:pt x="0" y="1014"/>
                    </a:lnTo>
                    <a:lnTo>
                      <a:pt x="0" y="599"/>
                    </a:lnTo>
                    <a:lnTo>
                      <a:pt x="0" y="458"/>
                    </a:lnTo>
                    <a:lnTo>
                      <a:pt x="0" y="321"/>
                    </a:lnTo>
                    <a:lnTo>
                      <a:pt x="0" y="185"/>
                    </a:lnTo>
                    <a:lnTo>
                      <a:pt x="136" y="92"/>
                    </a:lnTo>
                    <a:lnTo>
                      <a:pt x="277" y="92"/>
                    </a:lnTo>
                    <a:lnTo>
                      <a:pt x="414" y="92"/>
                    </a:lnTo>
                    <a:lnTo>
                      <a:pt x="551" y="92"/>
                    </a:lnTo>
                    <a:lnTo>
                      <a:pt x="692" y="92"/>
                    </a:lnTo>
                    <a:lnTo>
                      <a:pt x="1058" y="92"/>
                    </a:lnTo>
                    <a:lnTo>
                      <a:pt x="1380" y="92"/>
                    </a:lnTo>
                    <a:lnTo>
                      <a:pt x="1750" y="92"/>
                    </a:lnTo>
                    <a:lnTo>
                      <a:pt x="2160" y="92"/>
                    </a:lnTo>
                    <a:lnTo>
                      <a:pt x="2482" y="92"/>
                    </a:lnTo>
                    <a:lnTo>
                      <a:pt x="2853" y="92"/>
                    </a:lnTo>
                    <a:lnTo>
                      <a:pt x="3175" y="92"/>
                    </a:lnTo>
                    <a:lnTo>
                      <a:pt x="3311" y="92"/>
                    </a:lnTo>
                    <a:lnTo>
                      <a:pt x="3452" y="92"/>
                    </a:lnTo>
                    <a:lnTo>
                      <a:pt x="3175" y="0"/>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4952880" y="4648320"/>
                <a:ext cx="228960" cy="1548000"/>
              </a:xfrm>
              <a:custGeom>
                <a:avLst/>
                <a:gdLst/>
                <a:ahLst/>
                <a:rect l="0" t="0" r="r" b="b"/>
                <a:pathLst>
                  <a:path w="636" h="4300">
                    <a:moveTo>
                      <a:pt x="0" y="0"/>
                    </a:moveTo>
                    <a:lnTo>
                      <a:pt x="63" y="154"/>
                    </a:lnTo>
                    <a:lnTo>
                      <a:pt x="127" y="295"/>
                    </a:lnTo>
                    <a:lnTo>
                      <a:pt x="127" y="432"/>
                    </a:lnTo>
                    <a:lnTo>
                      <a:pt x="127" y="568"/>
                    </a:lnTo>
                    <a:lnTo>
                      <a:pt x="127" y="709"/>
                    </a:lnTo>
                    <a:lnTo>
                      <a:pt x="94" y="846"/>
                    </a:lnTo>
                    <a:lnTo>
                      <a:pt x="94" y="983"/>
                    </a:lnTo>
                    <a:lnTo>
                      <a:pt x="94" y="1124"/>
                    </a:lnTo>
                    <a:lnTo>
                      <a:pt x="94" y="1261"/>
                    </a:lnTo>
                    <a:lnTo>
                      <a:pt x="94" y="1397"/>
                    </a:lnTo>
                    <a:lnTo>
                      <a:pt x="94" y="1538"/>
                    </a:lnTo>
                    <a:lnTo>
                      <a:pt x="94" y="1675"/>
                    </a:lnTo>
                    <a:lnTo>
                      <a:pt x="94" y="1812"/>
                    </a:lnTo>
                    <a:lnTo>
                      <a:pt x="127" y="1949"/>
                    </a:lnTo>
                    <a:lnTo>
                      <a:pt x="127" y="2090"/>
                    </a:lnTo>
                    <a:lnTo>
                      <a:pt x="127" y="2227"/>
                    </a:lnTo>
                    <a:lnTo>
                      <a:pt x="157" y="2364"/>
                    </a:lnTo>
                    <a:lnTo>
                      <a:pt x="191" y="2505"/>
                    </a:lnTo>
                    <a:lnTo>
                      <a:pt x="221" y="2642"/>
                    </a:lnTo>
                    <a:lnTo>
                      <a:pt x="285" y="2779"/>
                    </a:lnTo>
                    <a:lnTo>
                      <a:pt x="350" y="2920"/>
                    </a:lnTo>
                    <a:lnTo>
                      <a:pt x="414" y="3056"/>
                    </a:lnTo>
                    <a:lnTo>
                      <a:pt x="414" y="3193"/>
                    </a:lnTo>
                    <a:lnTo>
                      <a:pt x="444" y="3330"/>
                    </a:lnTo>
                    <a:lnTo>
                      <a:pt x="478" y="3471"/>
                    </a:lnTo>
                    <a:lnTo>
                      <a:pt x="538" y="3608"/>
                    </a:lnTo>
                    <a:lnTo>
                      <a:pt x="602" y="3744"/>
                    </a:lnTo>
                    <a:lnTo>
                      <a:pt x="636" y="3885"/>
                    </a:lnTo>
                    <a:lnTo>
                      <a:pt x="636" y="4022"/>
                    </a:lnTo>
                    <a:lnTo>
                      <a:pt x="636" y="4159"/>
                    </a:lnTo>
                    <a:lnTo>
                      <a:pt x="636" y="4300"/>
                    </a:lnTo>
                    <a:lnTo>
                      <a:pt x="584" y="3811"/>
                    </a:lnTo>
                    <a:lnTo>
                      <a:pt x="0" y="0"/>
                    </a:lnTo>
                    <a:close/>
                  </a:path>
                </a:pathLst>
              </a:custGeom>
              <a:solidFill>
                <a:srgbClr val="114ffb"/>
              </a:solid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a:off x="5135400" y="4937040"/>
                <a:ext cx="1573560" cy="1908360"/>
              </a:xfrm>
              <a:custGeom>
                <a:avLst/>
                <a:gdLst/>
                <a:ahLst/>
                <a:rect l="0" t="0" r="r" b="b"/>
                <a:pathLst>
                  <a:path w="4371" h="5301">
                    <a:moveTo>
                      <a:pt x="127" y="44"/>
                    </a:moveTo>
                    <a:lnTo>
                      <a:pt x="273" y="180"/>
                    </a:lnTo>
                    <a:lnTo>
                      <a:pt x="273" y="321"/>
                    </a:lnTo>
                    <a:lnTo>
                      <a:pt x="321" y="458"/>
                    </a:lnTo>
                    <a:lnTo>
                      <a:pt x="366" y="595"/>
                    </a:lnTo>
                    <a:lnTo>
                      <a:pt x="414" y="736"/>
                    </a:lnTo>
                    <a:lnTo>
                      <a:pt x="507" y="873"/>
                    </a:lnTo>
                    <a:lnTo>
                      <a:pt x="595" y="1009"/>
                    </a:lnTo>
                    <a:lnTo>
                      <a:pt x="643" y="1146"/>
                    </a:lnTo>
                    <a:lnTo>
                      <a:pt x="736" y="1287"/>
                    </a:lnTo>
                    <a:lnTo>
                      <a:pt x="780" y="1424"/>
                    </a:lnTo>
                    <a:lnTo>
                      <a:pt x="917" y="1516"/>
                    </a:lnTo>
                    <a:lnTo>
                      <a:pt x="965" y="1653"/>
                    </a:lnTo>
                    <a:lnTo>
                      <a:pt x="1058" y="1794"/>
                    </a:lnTo>
                    <a:lnTo>
                      <a:pt x="1150" y="1931"/>
                    </a:lnTo>
                    <a:lnTo>
                      <a:pt x="1195" y="2068"/>
                    </a:lnTo>
                    <a:lnTo>
                      <a:pt x="1243" y="2204"/>
                    </a:lnTo>
                    <a:lnTo>
                      <a:pt x="1331" y="2345"/>
                    </a:lnTo>
                    <a:lnTo>
                      <a:pt x="1424" y="2482"/>
                    </a:lnTo>
                    <a:lnTo>
                      <a:pt x="1516" y="2619"/>
                    </a:lnTo>
                    <a:lnTo>
                      <a:pt x="1653" y="2761"/>
                    </a:lnTo>
                    <a:lnTo>
                      <a:pt x="1746" y="2898"/>
                    </a:lnTo>
                    <a:lnTo>
                      <a:pt x="1794" y="3034"/>
                    </a:lnTo>
                    <a:lnTo>
                      <a:pt x="1887" y="3176"/>
                    </a:lnTo>
                    <a:lnTo>
                      <a:pt x="1975" y="3312"/>
                    </a:lnTo>
                    <a:lnTo>
                      <a:pt x="2068" y="3449"/>
                    </a:lnTo>
                    <a:lnTo>
                      <a:pt x="2160" y="3586"/>
                    </a:lnTo>
                    <a:lnTo>
                      <a:pt x="2302" y="3727"/>
                    </a:lnTo>
                    <a:lnTo>
                      <a:pt x="2391" y="3863"/>
                    </a:lnTo>
                    <a:lnTo>
                      <a:pt x="2439" y="4000"/>
                    </a:lnTo>
                    <a:lnTo>
                      <a:pt x="2439" y="4141"/>
                    </a:lnTo>
                    <a:lnTo>
                      <a:pt x="2439" y="4278"/>
                    </a:lnTo>
                    <a:lnTo>
                      <a:pt x="2439" y="4415"/>
                    </a:lnTo>
                    <a:lnTo>
                      <a:pt x="2483" y="4556"/>
                    </a:lnTo>
                    <a:lnTo>
                      <a:pt x="2483" y="4692"/>
                    </a:lnTo>
                    <a:lnTo>
                      <a:pt x="2576" y="4829"/>
                    </a:lnTo>
                    <a:lnTo>
                      <a:pt x="2712" y="4970"/>
                    </a:lnTo>
                    <a:lnTo>
                      <a:pt x="2805" y="5107"/>
                    </a:lnTo>
                    <a:lnTo>
                      <a:pt x="2946" y="5244"/>
                    </a:lnTo>
                    <a:lnTo>
                      <a:pt x="3083" y="5301"/>
                    </a:lnTo>
                    <a:lnTo>
                      <a:pt x="3220" y="5301"/>
                    </a:lnTo>
                    <a:lnTo>
                      <a:pt x="3361" y="5301"/>
                    </a:lnTo>
                    <a:lnTo>
                      <a:pt x="3497" y="5301"/>
                    </a:lnTo>
                    <a:lnTo>
                      <a:pt x="3634" y="5301"/>
                    </a:lnTo>
                    <a:lnTo>
                      <a:pt x="3771" y="5301"/>
                    </a:lnTo>
                    <a:lnTo>
                      <a:pt x="3912" y="5301"/>
                    </a:lnTo>
                    <a:lnTo>
                      <a:pt x="4049" y="5301"/>
                    </a:lnTo>
                    <a:lnTo>
                      <a:pt x="4185" y="5301"/>
                    </a:lnTo>
                    <a:lnTo>
                      <a:pt x="4326" y="5301"/>
                    </a:lnTo>
                    <a:lnTo>
                      <a:pt x="4371" y="5151"/>
                    </a:lnTo>
                    <a:lnTo>
                      <a:pt x="4278" y="5014"/>
                    </a:lnTo>
                    <a:lnTo>
                      <a:pt x="4234" y="4878"/>
                    </a:lnTo>
                    <a:lnTo>
                      <a:pt x="4185" y="4737"/>
                    </a:lnTo>
                    <a:lnTo>
                      <a:pt x="4093" y="4600"/>
                    </a:lnTo>
                    <a:lnTo>
                      <a:pt x="4005" y="4463"/>
                    </a:lnTo>
                    <a:lnTo>
                      <a:pt x="3912" y="4322"/>
                    </a:lnTo>
                    <a:lnTo>
                      <a:pt x="3863" y="4185"/>
                    </a:lnTo>
                    <a:lnTo>
                      <a:pt x="3771" y="4049"/>
                    </a:lnTo>
                    <a:lnTo>
                      <a:pt x="3634" y="3912"/>
                    </a:lnTo>
                    <a:lnTo>
                      <a:pt x="3542" y="3771"/>
                    </a:lnTo>
                    <a:lnTo>
                      <a:pt x="3405" y="3634"/>
                    </a:lnTo>
                    <a:lnTo>
                      <a:pt x="3268" y="3542"/>
                    </a:lnTo>
                    <a:lnTo>
                      <a:pt x="3176" y="3405"/>
                    </a:lnTo>
                    <a:lnTo>
                      <a:pt x="3034" y="3312"/>
                    </a:lnTo>
                    <a:lnTo>
                      <a:pt x="2946" y="3176"/>
                    </a:lnTo>
                    <a:lnTo>
                      <a:pt x="2898" y="3034"/>
                    </a:lnTo>
                    <a:lnTo>
                      <a:pt x="2854" y="2898"/>
                    </a:lnTo>
                    <a:lnTo>
                      <a:pt x="2805" y="2761"/>
                    </a:lnTo>
                    <a:lnTo>
                      <a:pt x="2712" y="2619"/>
                    </a:lnTo>
                    <a:lnTo>
                      <a:pt x="2624" y="2482"/>
                    </a:lnTo>
                    <a:lnTo>
                      <a:pt x="2532" y="2345"/>
                    </a:lnTo>
                    <a:lnTo>
                      <a:pt x="2439" y="2204"/>
                    </a:lnTo>
                    <a:lnTo>
                      <a:pt x="2346" y="2068"/>
                    </a:lnTo>
                    <a:lnTo>
                      <a:pt x="2254" y="1931"/>
                    </a:lnTo>
                    <a:lnTo>
                      <a:pt x="2210" y="1794"/>
                    </a:lnTo>
                    <a:lnTo>
                      <a:pt x="2068" y="1702"/>
                    </a:lnTo>
                    <a:lnTo>
                      <a:pt x="1931" y="1609"/>
                    </a:lnTo>
                    <a:lnTo>
                      <a:pt x="1838" y="1468"/>
                    </a:lnTo>
                    <a:lnTo>
                      <a:pt x="1702" y="1380"/>
                    </a:lnTo>
                    <a:lnTo>
                      <a:pt x="1565" y="1287"/>
                    </a:lnTo>
                    <a:lnTo>
                      <a:pt x="1424" y="1195"/>
                    </a:lnTo>
                    <a:lnTo>
                      <a:pt x="1287" y="1102"/>
                    </a:lnTo>
                    <a:lnTo>
                      <a:pt x="1150" y="965"/>
                    </a:lnTo>
                    <a:lnTo>
                      <a:pt x="1009" y="824"/>
                    </a:lnTo>
                    <a:lnTo>
                      <a:pt x="965" y="687"/>
                    </a:lnTo>
                    <a:lnTo>
                      <a:pt x="965" y="551"/>
                    </a:lnTo>
                    <a:lnTo>
                      <a:pt x="1009" y="410"/>
                    </a:lnTo>
                    <a:lnTo>
                      <a:pt x="1058" y="273"/>
                    </a:lnTo>
                    <a:lnTo>
                      <a:pt x="1102" y="136"/>
                    </a:lnTo>
                    <a:lnTo>
                      <a:pt x="1102" y="0"/>
                    </a:lnTo>
                    <a:lnTo>
                      <a:pt x="965" y="44"/>
                    </a:lnTo>
                    <a:lnTo>
                      <a:pt x="873" y="180"/>
                    </a:lnTo>
                    <a:lnTo>
                      <a:pt x="780" y="321"/>
                    </a:lnTo>
                    <a:lnTo>
                      <a:pt x="687" y="458"/>
                    </a:lnTo>
                    <a:lnTo>
                      <a:pt x="687" y="595"/>
                    </a:lnTo>
                    <a:lnTo>
                      <a:pt x="551" y="502"/>
                    </a:lnTo>
                    <a:lnTo>
                      <a:pt x="507" y="366"/>
                    </a:lnTo>
                    <a:lnTo>
                      <a:pt x="414" y="229"/>
                    </a:lnTo>
                    <a:lnTo>
                      <a:pt x="273" y="180"/>
                    </a:lnTo>
                    <a:lnTo>
                      <a:pt x="136" y="88"/>
                    </a:lnTo>
                    <a:lnTo>
                      <a:pt x="0" y="44"/>
                    </a:lnTo>
                    <a:lnTo>
                      <a:pt x="127" y="44"/>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a:off x="1736640" y="5180040"/>
                <a:ext cx="4351320" cy="64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875" name=""/>
            <p:cNvSpPr txBox="1"/>
            <p:nvPr/>
          </p:nvSpPr>
          <p:spPr>
            <a:xfrm>
              <a:off x="60480" y="647712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76" name=""/>
          <p:cNvSpPr txBox="1"/>
          <p:nvPr/>
        </p:nvSpPr>
        <p:spPr>
          <a:xfrm>
            <a:off x="343080" y="0"/>
            <a:ext cx="7715160" cy="1143000"/>
          </a:xfrm>
          <a:prstGeom prst="rect">
            <a:avLst/>
          </a:prstGeom>
          <a:noFill/>
          <a:ln w="0">
            <a:noFill/>
          </a:ln>
        </p:spPr>
        <p:txBody>
          <a:bodyPr lIns="0" rIns="0" tIns="0" bIns="0" anchor="t">
            <a:noAutofit/>
          </a:bodyPr>
          <a:p>
            <a:pPr>
              <a:lnSpc>
                <a:spcPct val="100000"/>
              </a:lnSpc>
            </a:pPr>
            <a:r>
              <a:rPr b="1" lang="en-US" sz="5400" spc="-1" strike="noStrike" u="sng">
                <a:solidFill>
                  <a:srgbClr val="c0fef9"/>
                </a:solidFill>
                <a:uFillTx/>
                <a:latin typeface="Times New Roman"/>
                <a:ea typeface="Times New Roman"/>
              </a:rPr>
              <a:t>Tips and Tricks</a:t>
            </a:r>
            <a:endParaRPr b="0" lang="en-US" sz="5400" spc="-1" strike="noStrike">
              <a:solidFill>
                <a:srgbClr val="000000"/>
              </a:solidFill>
              <a:latin typeface="Arial"/>
            </a:endParaRPr>
          </a:p>
        </p:txBody>
      </p:sp>
      <p:sp>
        <p:nvSpPr>
          <p:cNvPr id="877" name=""/>
          <p:cNvSpPr txBox="1"/>
          <p:nvPr/>
        </p:nvSpPr>
        <p:spPr>
          <a:xfrm>
            <a:off x="533520" y="990720"/>
            <a:ext cx="8415360" cy="5715000"/>
          </a:xfrm>
          <a:prstGeom prst="rect">
            <a:avLst/>
          </a:prstGeom>
          <a:noFill/>
          <a:ln w="0">
            <a:noFill/>
          </a:ln>
        </p:spPr>
        <p:txBody>
          <a:bodyPr lIns="0" rIns="0" tIns="0" bIns="0" anchor="t">
            <a:noAutofit/>
          </a:bodyPr>
          <a:p>
            <a:pPr marL="343080" indent="-343080">
              <a:lnSpc>
                <a:spcPct val="100000"/>
              </a:lnSpc>
              <a:spcBef>
                <a:spcPts val="479"/>
              </a:spcBef>
              <a:buClr>
                <a:srgbClr val="c0fef9"/>
              </a:buClr>
              <a:buSzPct val="75000"/>
              <a:buFont typeface="Monotype Sorts"/>
              <a:buChar char=""/>
            </a:pPr>
            <a:r>
              <a:rPr b="1" lang="en-US" sz="2400" spc="-1" strike="noStrike">
                <a:solidFill>
                  <a:srgbClr val="ffffff"/>
                </a:solidFill>
                <a:latin typeface="Times New Roman"/>
                <a:ea typeface="Times New Roman"/>
              </a:rPr>
              <a:t>1.  </a:t>
            </a:r>
            <a:r>
              <a:rPr b="1" lang="en-US" sz="2400" spc="-1" strike="noStrike" u="sng">
                <a:solidFill>
                  <a:srgbClr val="ffffff"/>
                </a:solidFill>
                <a:uFillTx/>
                <a:latin typeface="Times New Roman"/>
                <a:ea typeface="Times New Roman"/>
              </a:rPr>
              <a:t>FONT SIZE</a:t>
            </a:r>
            <a:r>
              <a:rPr b="1" lang="en-US" sz="2400" spc="-1" strike="noStrike">
                <a:solidFill>
                  <a:srgbClr val="ffffff"/>
                </a:solidFill>
                <a:latin typeface="Times New Roman"/>
                <a:ea typeface="Times New Roman"/>
              </a:rPr>
              <a:t>:  This program is designed for video projection and uses large fonts for maximum visibility.  Prior to using in your class or sermon, try viewing the slides from the most distant seat in your room to make sure that the image is large enough to read the text.</a:t>
            </a:r>
            <a:endParaRPr b="0" lang="en-US" sz="2400" spc="-1" strike="noStrike">
              <a:solidFill>
                <a:srgbClr val="000000"/>
              </a:solidFill>
              <a:latin typeface="Arial"/>
            </a:endParaRPr>
          </a:p>
          <a:p>
            <a:pPr marL="343080" indent="-343080">
              <a:lnSpc>
                <a:spcPct val="100000"/>
              </a:lnSpc>
              <a:spcBef>
                <a:spcPts val="479"/>
              </a:spcBef>
              <a:buClr>
                <a:srgbClr val="c0fef9"/>
              </a:buClr>
              <a:buSzPct val="75000"/>
              <a:buFont typeface="Monotype Sorts"/>
              <a:buChar char=""/>
            </a:pPr>
            <a:r>
              <a:rPr b="1" lang="en-US" sz="2400" spc="-1" strike="noStrike">
                <a:solidFill>
                  <a:srgbClr val="ffffff"/>
                </a:solidFill>
                <a:latin typeface="Times New Roman"/>
                <a:ea typeface="Times New Roman"/>
              </a:rPr>
              <a:t>2.  </a:t>
            </a:r>
            <a:r>
              <a:rPr b="1" lang="en-US" sz="2400" spc="-1" strike="noStrike" u="sng">
                <a:solidFill>
                  <a:srgbClr val="ffffff"/>
                </a:solidFill>
                <a:uFillTx/>
                <a:latin typeface="Times New Roman"/>
                <a:ea typeface="Times New Roman"/>
              </a:rPr>
              <a:t>EDITING</a:t>
            </a:r>
            <a:r>
              <a:rPr b="1" lang="en-US" sz="2400" spc="-1" strike="noStrike">
                <a:solidFill>
                  <a:srgbClr val="ffffff"/>
                </a:solidFill>
                <a:latin typeface="Times New Roman"/>
                <a:ea typeface="Times New Roman"/>
              </a:rPr>
              <a:t>:  To make it easy for you to copy these maps into your own presentations the map graphics and text are “grouped”.  If you want to make significant changes to the map then click on “Draw” and chose the “ungroup” feature to allow full editing capability.</a:t>
            </a:r>
            <a:endParaRPr b="0" lang="en-US" sz="2400" spc="-1" strike="noStrike">
              <a:solidFill>
                <a:srgbClr val="000000"/>
              </a:solidFill>
              <a:latin typeface="Arial"/>
            </a:endParaRPr>
          </a:p>
          <a:p>
            <a:pPr marL="343080" indent="-343080">
              <a:lnSpc>
                <a:spcPct val="100000"/>
              </a:lnSpc>
              <a:spcBef>
                <a:spcPts val="479"/>
              </a:spcBef>
              <a:buClr>
                <a:srgbClr val="c0fef9"/>
              </a:buClr>
              <a:buSzPct val="75000"/>
              <a:buFont typeface="Monotype Sorts"/>
              <a:buChar char=""/>
            </a:pPr>
            <a:r>
              <a:rPr b="1" lang="en-US" sz="2400" spc="-1" strike="noStrike">
                <a:solidFill>
                  <a:srgbClr val="ffffff"/>
                </a:solidFill>
                <a:latin typeface="Times New Roman"/>
                <a:ea typeface="Times New Roman"/>
              </a:rPr>
              <a:t>3.  </a:t>
            </a:r>
            <a:r>
              <a:rPr b="1" lang="en-US" sz="2400" spc="-1" strike="noStrike" u="sng">
                <a:solidFill>
                  <a:srgbClr val="ffffff"/>
                </a:solidFill>
                <a:uFillTx/>
                <a:latin typeface="Times New Roman"/>
                <a:ea typeface="Times New Roman"/>
              </a:rPr>
              <a:t>IMPORTING</a:t>
            </a:r>
            <a:r>
              <a:rPr b="1" lang="en-US" sz="2400" spc="-1" strike="noStrike">
                <a:solidFill>
                  <a:srgbClr val="ffffff"/>
                </a:solidFill>
                <a:latin typeface="Times New Roman"/>
                <a:ea typeface="Times New Roman"/>
              </a:rPr>
              <a:t>:  These maps can be imported into some other software packages such as Corel Presentations.  Be aware that some formating will be lost and images will need to be edited and corrected after im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878" name=""/>
          <p:cNvGrpSpPr/>
          <p:nvPr/>
        </p:nvGrpSpPr>
        <p:grpSpPr>
          <a:xfrm>
            <a:off x="325440" y="216000"/>
            <a:ext cx="8805960" cy="6483240"/>
            <a:chOff x="325440" y="216000"/>
            <a:chExt cx="8805960" cy="6483240"/>
          </a:xfrm>
        </p:grpSpPr>
        <p:grpSp>
          <p:nvGrpSpPr>
            <p:cNvPr id="879" name=""/>
            <p:cNvGrpSpPr/>
            <p:nvPr/>
          </p:nvGrpSpPr>
          <p:grpSpPr>
            <a:xfrm>
              <a:off x="371520" y="216000"/>
              <a:ext cx="8759880" cy="6448320"/>
              <a:chOff x="371520" y="216000"/>
              <a:chExt cx="8759880" cy="6448320"/>
            </a:xfrm>
          </p:grpSpPr>
          <p:pic>
            <p:nvPicPr>
              <p:cNvPr id="880" name="" descr=""/>
              <p:cNvPicPr/>
              <p:nvPr/>
            </p:nvPicPr>
            <p:blipFill>
              <a:blip r:embed="rId1"/>
              <a:stretch/>
            </p:blipFill>
            <p:spPr>
              <a:xfrm>
                <a:off x="2573280" y="216000"/>
                <a:ext cx="6354720" cy="5270400"/>
              </a:xfrm>
              <a:prstGeom prst="rect">
                <a:avLst/>
              </a:prstGeom>
              <a:ln w="0">
                <a:noFill/>
              </a:ln>
            </p:spPr>
          </p:pic>
          <p:sp>
            <p:nvSpPr>
              <p:cNvPr id="881" name=""/>
              <p:cNvSpPr/>
              <p:nvPr/>
            </p:nvSpPr>
            <p:spPr>
              <a:xfrm>
                <a:off x="3236760" y="820800"/>
                <a:ext cx="4467240" cy="4497480"/>
              </a:xfrm>
              <a:prstGeom prst="line">
                <a:avLst/>
              </a:prstGeom>
              <a:ln w="203040">
                <a:solidFill>
                  <a:srgbClr val="000000"/>
                </a:solidFill>
                <a:round/>
                <a:headEnd len="med" type="triangle" w="me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882" name=""/>
              <p:cNvSpPr txBox="1"/>
              <p:nvPr/>
            </p:nvSpPr>
            <p:spPr>
              <a:xfrm>
                <a:off x="5072040" y="3220920"/>
                <a:ext cx="2352600" cy="1328040"/>
              </a:xfrm>
              <a:prstGeom prst="rect">
                <a:avLst/>
              </a:prstGeom>
              <a:noFill/>
              <a:ln w="0">
                <a:noFill/>
              </a:ln>
            </p:spPr>
            <p:txBody>
              <a:bodyPr lIns="0" rIns="0" tIns="0" bIns="0" anchor="t">
                <a:noAutofit/>
              </a:bodyPr>
              <a:p>
                <a:pPr algn="ctr">
                  <a:lnSpc>
                    <a:spcPct val="120000"/>
                  </a:lnSpc>
                </a:pPr>
                <a:r>
                  <a:rPr b="0" lang="en-US" sz="3200" spc="-1" strike="noStrike">
                    <a:solidFill>
                      <a:srgbClr val="ffffff"/>
                    </a:solidFill>
                    <a:latin typeface="Arial Black"/>
                    <a:ea typeface="Arial Black"/>
                  </a:rPr>
                  <a:t>18 Inches</a:t>
                </a:r>
                <a:endParaRPr b="0" lang="en-US" sz="3200" spc="-1" strike="noStrike">
                  <a:solidFill>
                    <a:srgbClr val="000000"/>
                  </a:solidFill>
                  <a:latin typeface="Arial"/>
                </a:endParaRPr>
              </a:p>
              <a:p>
                <a:pPr algn="ctr">
                  <a:lnSpc>
                    <a:spcPct val="120000"/>
                  </a:lnSpc>
                </a:pPr>
                <a:r>
                  <a:rPr b="0" lang="en-US" sz="3200" spc="-1" strike="noStrike">
                    <a:solidFill>
                      <a:srgbClr val="ffffff"/>
                    </a:solidFill>
                    <a:latin typeface="Arial Black"/>
                    <a:ea typeface="Arial Black"/>
                  </a:rPr>
                  <a:t>= 1 Cubit</a:t>
                </a:r>
                <a:endParaRPr b="0" lang="en-US" sz="3200" spc="-1" strike="noStrike">
                  <a:solidFill>
                    <a:srgbClr val="000000"/>
                  </a:solidFill>
                  <a:latin typeface="Arial"/>
                </a:endParaRPr>
              </a:p>
            </p:txBody>
          </p:sp>
          <p:sp>
            <p:nvSpPr>
              <p:cNvPr id="883" name=""/>
              <p:cNvSpPr/>
              <p:nvPr/>
            </p:nvSpPr>
            <p:spPr>
              <a:xfrm>
                <a:off x="3365640" y="942840"/>
                <a:ext cx="4200480" cy="4241880"/>
              </a:xfrm>
              <a:prstGeom prst="line">
                <a:avLst/>
              </a:prstGeom>
              <a:ln w="76320">
                <a:solidFill>
                  <a:srgbClr val="fafd00"/>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84" name=""/>
              <p:cNvSpPr txBox="1"/>
              <p:nvPr/>
            </p:nvSpPr>
            <p:spPr>
              <a:xfrm>
                <a:off x="3710160" y="5759280"/>
                <a:ext cx="5421240" cy="669960"/>
              </a:xfrm>
              <a:prstGeom prst="rect">
                <a:avLst/>
              </a:prstGeom>
              <a:noFill/>
              <a:ln w="0">
                <a:noFill/>
              </a:ln>
            </p:spPr>
            <p:txBody>
              <a:bodyPr lIns="0" rIns="0" tIns="0" bIns="0" anchor="t">
                <a:noAutofit/>
              </a:bodyPr>
              <a:p>
                <a:pPr marL="343080" indent="-343080">
                  <a:lnSpc>
                    <a:spcPct val="100000"/>
                  </a:lnSpc>
                  <a:spcBef>
                    <a:spcPts val="479"/>
                  </a:spcBef>
                  <a:buClr>
                    <a:srgbClr val="c0fef9"/>
                  </a:buClr>
                  <a:buSzPct val="75000"/>
                  <a:buFont typeface="Monotype Sorts"/>
                  <a:buChar char=""/>
                </a:pPr>
                <a:r>
                  <a:rPr b="1" lang="en-US" sz="3600" spc="-1" strike="noStrike">
                    <a:solidFill>
                      <a:srgbClr val="fafd00"/>
                    </a:solidFill>
                    <a:latin typeface="Arial"/>
                    <a:ea typeface="Arial"/>
                  </a:rPr>
                  <a:t> </a:t>
                </a:r>
                <a:r>
                  <a:rPr b="1" lang="en-US" sz="3600" spc="-1" strike="noStrike">
                    <a:solidFill>
                      <a:srgbClr val="fafd00"/>
                    </a:solidFill>
                    <a:latin typeface="Arial"/>
                    <a:ea typeface="Arial"/>
                  </a:rPr>
                  <a:t>Length Measurement</a:t>
                </a:r>
                <a:endParaRPr b="0" lang="en-US" sz="3600" spc="-1" strike="noStrike">
                  <a:solidFill>
                    <a:srgbClr val="000000"/>
                  </a:solidFill>
                  <a:latin typeface="Arial"/>
                </a:endParaRPr>
              </a:p>
            </p:txBody>
          </p:sp>
          <p:sp>
            <p:nvSpPr>
              <p:cNvPr id="885" name=""/>
              <p:cNvSpPr txBox="1"/>
              <p:nvPr/>
            </p:nvSpPr>
            <p:spPr>
              <a:xfrm>
                <a:off x="933480" y="988920"/>
                <a:ext cx="1270080" cy="227556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B</a:t>
                </a:r>
                <a:br>
                  <a:rPr sz="3600"/>
                </a:br>
                <a:r>
                  <a:rPr b="1" lang="en-US" sz="3600" spc="-1" strike="noStrike">
                    <a:solidFill>
                      <a:srgbClr val="fafd00"/>
                    </a:solidFill>
                    <a:latin typeface="Times New Roman"/>
                    <a:ea typeface="Times New Roman"/>
                  </a:rPr>
                  <a:t>I</a:t>
                </a:r>
                <a:br>
                  <a:rPr sz="3600"/>
                </a:br>
                <a:r>
                  <a:rPr b="1" lang="en-US" sz="3600" spc="-1" strike="noStrike">
                    <a:solidFill>
                      <a:srgbClr val="fafd00"/>
                    </a:solidFill>
                    <a:latin typeface="Times New Roman"/>
                    <a:ea typeface="Times New Roman"/>
                  </a:rPr>
                  <a:t>B</a:t>
                </a:r>
                <a:br>
                  <a:rPr sz="3600"/>
                </a:br>
                <a:r>
                  <a:rPr b="1" lang="en-US" sz="3600" spc="-1" strike="noStrike">
                    <a:solidFill>
                      <a:srgbClr val="fafd00"/>
                    </a:solidFill>
                    <a:latin typeface="Times New Roman"/>
                    <a:ea typeface="Times New Roman"/>
                  </a:rPr>
                  <a:t>L</a:t>
                </a:r>
                <a:br>
                  <a:rPr sz="3600"/>
                </a:br>
                <a:r>
                  <a:rPr b="1" lang="en-US" sz="3600" spc="-1" strike="noStrike">
                    <a:solidFill>
                      <a:srgbClr val="fafd00"/>
                    </a:solidFill>
                    <a:latin typeface="Times New Roman"/>
                    <a:ea typeface="Times New Roman"/>
                  </a:rPr>
                  <a:t>E</a:t>
                </a:r>
                <a:endParaRPr b="0" lang="en-US" sz="3600" spc="-1" strike="noStrike">
                  <a:solidFill>
                    <a:srgbClr val="000000"/>
                  </a:solidFill>
                  <a:latin typeface="Arial"/>
                </a:endParaRPr>
              </a:p>
            </p:txBody>
          </p:sp>
          <p:pic>
            <p:nvPicPr>
              <p:cNvPr id="886" name="" descr=""/>
              <p:cNvPicPr/>
              <p:nvPr/>
            </p:nvPicPr>
            <p:blipFill>
              <a:blip r:embed="rId2"/>
              <a:stretch/>
            </p:blipFill>
            <p:spPr>
              <a:xfrm>
                <a:off x="371520" y="2854440"/>
                <a:ext cx="3905280" cy="3809880"/>
              </a:xfrm>
              <a:prstGeom prst="rect">
                <a:avLst/>
              </a:prstGeom>
              <a:ln w="0">
                <a:noFill/>
              </a:ln>
            </p:spPr>
          </p:pic>
          <p:sp>
            <p:nvSpPr>
              <p:cNvPr id="887" name=""/>
              <p:cNvSpPr/>
              <p:nvPr/>
            </p:nvSpPr>
            <p:spPr>
              <a:xfrm flipV="1">
                <a:off x="655560" y="3570120"/>
                <a:ext cx="3355920" cy="1298880"/>
              </a:xfrm>
              <a:prstGeom prst="line">
                <a:avLst/>
              </a:prstGeom>
              <a:ln w="203040">
                <a:solidFill>
                  <a:srgbClr val="000000"/>
                </a:solidFill>
                <a:round/>
                <a:headEnd len="med" type="triangle" w="me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888" name=""/>
              <p:cNvSpPr/>
              <p:nvPr/>
            </p:nvSpPr>
            <p:spPr>
              <a:xfrm flipV="1">
                <a:off x="795240" y="3624120"/>
                <a:ext cx="3075120" cy="1187640"/>
              </a:xfrm>
              <a:prstGeom prst="line">
                <a:avLst/>
              </a:prstGeom>
              <a:ln w="76320">
                <a:solidFill>
                  <a:srgbClr val="fafd00"/>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89" name=""/>
              <p:cNvSpPr/>
              <p:nvPr/>
            </p:nvSpPr>
            <p:spPr>
              <a:xfrm flipV="1">
                <a:off x="1946160" y="4351320"/>
                <a:ext cx="1257480" cy="1733400"/>
              </a:xfrm>
              <a:prstGeom prst="line">
                <a:avLst/>
              </a:prstGeom>
              <a:ln w="203040">
                <a:solidFill>
                  <a:srgbClr val="000000"/>
                </a:solidFill>
                <a:round/>
                <a:headEnd len="med" type="triangle" w="me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890" name=""/>
              <p:cNvSpPr/>
              <p:nvPr/>
            </p:nvSpPr>
            <p:spPr>
              <a:xfrm>
                <a:off x="974880" y="3753000"/>
                <a:ext cx="547920" cy="363960"/>
              </a:xfrm>
              <a:custGeom>
                <a:avLst/>
                <a:gdLst/>
                <a:ahLst/>
                <a:rect l="0" t="0" r="r" b="b"/>
                <a:pathLst>
                  <a:path w="1522" h="1011">
                    <a:moveTo>
                      <a:pt x="0" y="337"/>
                    </a:moveTo>
                    <a:lnTo>
                      <a:pt x="0" y="673"/>
                    </a:lnTo>
                    <a:lnTo>
                      <a:pt x="1065" y="673"/>
                    </a:lnTo>
                    <a:lnTo>
                      <a:pt x="1065" y="1011"/>
                    </a:lnTo>
                    <a:lnTo>
                      <a:pt x="1522" y="505"/>
                    </a:lnTo>
                    <a:lnTo>
                      <a:pt x="1065" y="0"/>
                    </a:lnTo>
                    <a:lnTo>
                      <a:pt x="1065" y="337"/>
                    </a:lnTo>
                    <a:lnTo>
                      <a:pt x="0" y="337"/>
                    </a:lnTo>
                    <a:close/>
                  </a:path>
                </a:pathLst>
              </a:cu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1639800" y="3195720"/>
                <a:ext cx="547920" cy="363960"/>
              </a:xfrm>
              <a:custGeom>
                <a:avLst/>
                <a:gdLst/>
                <a:ahLst/>
                <a:rect l="0" t="0" r="r" b="b"/>
                <a:pathLst>
                  <a:path w="1522" h="1011">
                    <a:moveTo>
                      <a:pt x="0" y="337"/>
                    </a:moveTo>
                    <a:lnTo>
                      <a:pt x="0" y="673"/>
                    </a:lnTo>
                    <a:lnTo>
                      <a:pt x="1065" y="673"/>
                    </a:lnTo>
                    <a:lnTo>
                      <a:pt x="1065" y="1011"/>
                    </a:lnTo>
                    <a:lnTo>
                      <a:pt x="1522" y="505"/>
                    </a:lnTo>
                    <a:lnTo>
                      <a:pt x="1065" y="0"/>
                    </a:lnTo>
                    <a:lnTo>
                      <a:pt x="1065" y="337"/>
                    </a:lnTo>
                    <a:lnTo>
                      <a:pt x="0" y="337"/>
                    </a:lnTo>
                    <a:close/>
                  </a:path>
                </a:pathLst>
              </a:cu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flipV="1">
                <a:off x="2036880" y="4479840"/>
                <a:ext cx="1077840" cy="1474920"/>
              </a:xfrm>
              <a:prstGeom prst="line">
                <a:avLst/>
              </a:prstGeom>
              <a:ln w="76320">
                <a:solidFill>
                  <a:srgbClr val="edf801"/>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93" name=""/>
              <p:cNvSpPr txBox="1"/>
              <p:nvPr/>
            </p:nvSpPr>
            <p:spPr>
              <a:xfrm>
                <a:off x="1724040" y="3882960"/>
                <a:ext cx="11779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Span</a:t>
                </a:r>
                <a:endParaRPr b="0" lang="en-US" sz="3200" spc="-1" strike="noStrike">
                  <a:solidFill>
                    <a:srgbClr val="000000"/>
                  </a:solidFill>
                  <a:latin typeface="Arial"/>
                </a:endParaRPr>
              </a:p>
            </p:txBody>
          </p:sp>
          <p:sp>
            <p:nvSpPr>
              <p:cNvPr id="894" name=""/>
              <p:cNvSpPr txBox="1"/>
              <p:nvPr/>
            </p:nvSpPr>
            <p:spPr>
              <a:xfrm>
                <a:off x="1224000" y="4924440"/>
                <a:ext cx="269064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Handbreadth</a:t>
                </a:r>
                <a:endParaRPr b="0" lang="en-US" sz="3200" spc="-1" strike="noStrike">
                  <a:solidFill>
                    <a:srgbClr val="000000"/>
                  </a:solidFill>
                  <a:latin typeface="Arial"/>
                </a:endParaRPr>
              </a:p>
            </p:txBody>
          </p:sp>
          <p:sp>
            <p:nvSpPr>
              <p:cNvPr id="895" name=""/>
              <p:cNvSpPr txBox="1"/>
              <p:nvPr/>
            </p:nvSpPr>
            <p:spPr>
              <a:xfrm>
                <a:off x="1287360" y="2844720"/>
                <a:ext cx="142560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Finger</a:t>
                </a:r>
                <a:endParaRPr b="0" lang="en-US" sz="3200" spc="-1" strike="noStrike">
                  <a:solidFill>
                    <a:srgbClr val="000000"/>
                  </a:solidFill>
                  <a:latin typeface="Arial"/>
                </a:endParaRPr>
              </a:p>
            </p:txBody>
          </p:sp>
        </p:grpSp>
        <p:sp>
          <p:nvSpPr>
            <p:cNvPr id="896" name=""/>
            <p:cNvSpPr txBox="1"/>
            <p:nvPr/>
          </p:nvSpPr>
          <p:spPr>
            <a:xfrm>
              <a:off x="325440" y="6394320"/>
              <a:ext cx="169236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Narrow"/>
                  <a:ea typeface="Arial Narrow"/>
                </a:rPr>
                <a:t>EBibleTeacher.com</a:t>
              </a:r>
              <a:endParaRPr b="0" lang="en-US" sz="1400" spc="-1" strike="noStrike">
                <a:solidFill>
                  <a:srgbClr val="000000"/>
                </a:solidFill>
                <a:latin typeface="Arial"/>
              </a:endParaRPr>
            </a:p>
          </p:txBody>
        </p:sp>
      </p:grpSp>
      <p:sp>
        <p:nvSpPr>
          <p:cNvPr id="897" name=""/>
          <p:cNvSpPr txBox="1"/>
          <p:nvPr/>
        </p:nvSpPr>
        <p:spPr>
          <a:xfrm>
            <a:off x="5470560" y="441360"/>
            <a:ext cx="3308400" cy="1949400"/>
          </a:xfrm>
          <a:prstGeom prst="rect">
            <a:avLst/>
          </a:prstGeom>
          <a:solidFill>
            <a:srgbClr val="ff5008"/>
          </a:solidFill>
          <a:ln w="12600">
            <a:solidFill>
              <a:srgbClr val="ff5008"/>
            </a:solidFill>
            <a:round/>
          </a:ln>
        </p:spPr>
        <p:txBody>
          <a:bodyPr lIns="0" rIns="0" tIns="0" bIns="0" anchor="t">
            <a:noAutofit/>
          </a:bodyPr>
          <a:p>
            <a:pPr algn="ctr">
              <a:lnSpc>
                <a:spcPct val="100000"/>
              </a:lnSpc>
              <a:spcBef>
                <a:spcPts val="1199"/>
              </a:spcBef>
            </a:pPr>
            <a:r>
              <a:rPr b="0" lang="en-US" sz="2400" spc="-1" strike="noStrike">
                <a:solidFill>
                  <a:srgbClr val="ffffff"/>
                </a:solidFill>
                <a:latin typeface="Arial Narrow"/>
                <a:ea typeface="Arial Narrow"/>
              </a:rPr>
              <a:t>This is a sample page from </a:t>
            </a:r>
            <a:r>
              <a:rPr b="1" i="1" lang="en-US" sz="2400" spc="-1" strike="noStrike">
                <a:solidFill>
                  <a:srgbClr val="ffffff"/>
                </a:solidFill>
                <a:latin typeface="Arial Narrow"/>
                <a:ea typeface="Arial Narrow"/>
              </a:rPr>
              <a:t>“The World of the Bible” </a:t>
            </a:r>
            <a:r>
              <a:rPr b="0" lang="en-US" sz="2400" spc="-1" strike="noStrike">
                <a:solidFill>
                  <a:srgbClr val="ffffff"/>
                </a:solidFill>
                <a:latin typeface="Arial Narrow"/>
                <a:ea typeface="Arial Narrow"/>
              </a:rPr>
              <a:t>a PowerPoint Sunday School  series available in January 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98" name=""/>
          <p:cNvSpPr txBox="1"/>
          <p:nvPr/>
        </p:nvSpPr>
        <p:spPr>
          <a:xfrm>
            <a:off x="304920" y="380880"/>
            <a:ext cx="8763120" cy="1126800"/>
          </a:xfrm>
          <a:prstGeom prst="rect">
            <a:avLst/>
          </a:prstGeom>
          <a:noFill/>
          <a:ln w="0">
            <a:noFill/>
          </a:ln>
        </p:spPr>
        <p:txBody>
          <a:bodyPr lIns="0" rIns="0" tIns="0" bIns="0" anchor="t">
            <a:noAutofit/>
          </a:bodyPr>
          <a:p>
            <a:pPr algn="ctr">
              <a:lnSpc>
                <a:spcPct val="100000"/>
              </a:lnSpc>
            </a:pPr>
            <a:r>
              <a:rPr b="1" lang="en-US" sz="4800" spc="-1" strike="noStrike" u="sng">
                <a:solidFill>
                  <a:srgbClr val="fafd00"/>
                </a:solidFill>
                <a:uFillTx/>
                <a:latin typeface="Times New Roman"/>
                <a:ea typeface="Times New Roman"/>
              </a:rPr>
              <a:t>RESOURCES</a:t>
            </a:r>
            <a:br>
              <a:rPr sz="1800"/>
            </a:br>
            <a:r>
              <a:rPr b="1" lang="en-US" sz="3200" spc="-1" strike="noStrike" u="sng">
                <a:solidFill>
                  <a:srgbClr val="fafd00"/>
                </a:solidFill>
                <a:uFillTx/>
                <a:latin typeface="Times New Roman"/>
                <a:ea typeface="Times New Roman"/>
              </a:rPr>
              <a:t>For Sunday School Teachers using Computers</a:t>
            </a:r>
            <a:endParaRPr b="0" lang="en-US" sz="3200" spc="-1" strike="noStrike">
              <a:solidFill>
                <a:srgbClr val="000000"/>
              </a:solidFill>
              <a:latin typeface="Arial"/>
            </a:endParaRPr>
          </a:p>
        </p:txBody>
      </p:sp>
      <p:sp>
        <p:nvSpPr>
          <p:cNvPr id="899" name=""/>
          <p:cNvSpPr txBox="1"/>
          <p:nvPr/>
        </p:nvSpPr>
        <p:spPr>
          <a:xfrm>
            <a:off x="457200" y="1600200"/>
            <a:ext cx="8491680" cy="4267080"/>
          </a:xfrm>
          <a:prstGeom prst="rect">
            <a:avLst/>
          </a:prstGeom>
          <a:noFill/>
          <a:ln w="0">
            <a:noFill/>
          </a:ln>
        </p:spPr>
        <p:txBody>
          <a:bodyPr lIns="0" rIns="0" tIns="0" bIns="0" anchor="t">
            <a:noAutofit/>
          </a:bodyPr>
          <a:p>
            <a:pPr marL="343080" indent="-343080">
              <a:lnSpc>
                <a:spcPct val="90000"/>
              </a:lnSpc>
              <a:spcBef>
                <a:spcPts val="479"/>
              </a:spcBef>
              <a:buClr>
                <a:srgbClr val="fafd00"/>
              </a:buClr>
              <a:buSzPct val="75000"/>
              <a:buFont typeface="Monotype Sorts"/>
              <a:buChar char=""/>
            </a:pPr>
            <a:r>
              <a:rPr b="1" lang="en-US" sz="2400" spc="-1" strike="noStrike">
                <a:solidFill>
                  <a:srgbClr val="ffffff"/>
                </a:solidFill>
                <a:latin typeface="Times New Roman"/>
                <a:ea typeface="Times New Roman"/>
              </a:rPr>
              <a:t>Free graphics for Sunday School teachers.</a:t>
            </a:r>
            <a:endParaRPr b="0" lang="en-US" sz="2400" spc="-1" strike="noStrike">
              <a:solidFill>
                <a:srgbClr val="000000"/>
              </a:solidFill>
              <a:latin typeface="Arial"/>
            </a:endParaRPr>
          </a:p>
          <a:p>
            <a:pPr marL="343080" indent="-343080">
              <a:lnSpc>
                <a:spcPct val="90000"/>
              </a:lnSpc>
              <a:spcBef>
                <a:spcPts val="479"/>
              </a:spcBef>
              <a:buClr>
                <a:srgbClr val="fafd00"/>
              </a:buClr>
              <a:buSzPct val="75000"/>
              <a:buFont typeface="Monotype Sorts"/>
              <a:buChar char=""/>
            </a:pPr>
            <a:r>
              <a:rPr b="1" lang="en-US" sz="2400" spc="-1" strike="noStrike">
                <a:solidFill>
                  <a:srgbClr val="ffffff"/>
                </a:solidFill>
                <a:latin typeface="Times New Roman"/>
                <a:ea typeface="Times New Roman"/>
              </a:rPr>
              <a:t>How-to guides for using video projectors, PC/TV converters and other electronic equipment.</a:t>
            </a:r>
            <a:endParaRPr b="0" lang="en-US" sz="2400" spc="-1" strike="noStrike">
              <a:solidFill>
                <a:srgbClr val="000000"/>
              </a:solidFill>
              <a:latin typeface="Arial"/>
            </a:endParaRPr>
          </a:p>
          <a:p>
            <a:pPr marL="343080" indent="-343080">
              <a:lnSpc>
                <a:spcPct val="90000"/>
              </a:lnSpc>
              <a:spcBef>
                <a:spcPts val="479"/>
              </a:spcBef>
              <a:buClr>
                <a:srgbClr val="fafd00"/>
              </a:buClr>
              <a:buSzPct val="75000"/>
              <a:buFont typeface="Monotype Sorts"/>
              <a:buChar char=""/>
            </a:pPr>
            <a:r>
              <a:rPr b="1" lang="en-US" sz="2400" spc="-1" strike="noStrike">
                <a:solidFill>
                  <a:srgbClr val="ffffff"/>
                </a:solidFill>
                <a:latin typeface="Times New Roman"/>
                <a:ea typeface="Times New Roman"/>
              </a:rPr>
              <a:t>Reviews of software and hardware for use in the Sunday School.</a:t>
            </a:r>
            <a:endParaRPr b="0" lang="en-US" sz="2400" spc="-1" strike="noStrike">
              <a:solidFill>
                <a:srgbClr val="000000"/>
              </a:solidFill>
              <a:latin typeface="Arial"/>
            </a:endParaRPr>
          </a:p>
          <a:p>
            <a:pPr marL="343080" indent="-343080">
              <a:lnSpc>
                <a:spcPct val="90000"/>
              </a:lnSpc>
              <a:spcBef>
                <a:spcPts val="479"/>
              </a:spcBef>
              <a:buClr>
                <a:srgbClr val="fafd00"/>
              </a:buClr>
              <a:buSzPct val="75000"/>
              <a:buFont typeface="Monotype Sorts"/>
              <a:buChar char=""/>
            </a:pPr>
            <a:r>
              <a:rPr b="1" lang="en-US" sz="2400" spc="-1" strike="noStrike">
                <a:solidFill>
                  <a:srgbClr val="ffffff"/>
                </a:solidFill>
                <a:latin typeface="Times New Roman"/>
                <a:ea typeface="Times New Roman"/>
              </a:rPr>
              <a:t>PowerPoint based Sunday School literature.</a:t>
            </a:r>
            <a:endParaRPr b="0" lang="en-US" sz="2400" spc="-1" strike="noStrike">
              <a:solidFill>
                <a:srgbClr val="000000"/>
              </a:solidFill>
              <a:latin typeface="Arial"/>
            </a:endParaRPr>
          </a:p>
          <a:p>
            <a:pPr lvl="1" marL="743040" indent="-285840">
              <a:lnSpc>
                <a:spcPct val="90000"/>
              </a:lnSpc>
              <a:spcBef>
                <a:spcPts val="479"/>
              </a:spcBef>
              <a:buClr>
                <a:srgbClr val="fafd00"/>
              </a:buClr>
              <a:buSzPct val="75000"/>
              <a:buFont typeface="Monotype Sorts"/>
              <a:buChar char=""/>
            </a:pPr>
            <a:r>
              <a:rPr b="1" i="1" lang="en-US" sz="2000" spc="-1" strike="noStrike">
                <a:solidFill>
                  <a:srgbClr val="ffffff"/>
                </a:solidFill>
                <a:latin typeface="Times New Roman"/>
                <a:ea typeface="Times New Roman"/>
              </a:rPr>
              <a:t>“</a:t>
            </a:r>
            <a:r>
              <a:rPr b="1" i="1" lang="en-US" sz="2000" spc="-1" strike="noStrike" u="sng">
                <a:solidFill>
                  <a:srgbClr val="ffffff"/>
                </a:solidFill>
                <a:uFillTx/>
                <a:latin typeface="Times New Roman"/>
                <a:ea typeface="Times New Roman"/>
              </a:rPr>
              <a:t>The Christian’s Personal Growth Class</a:t>
            </a:r>
            <a:r>
              <a:rPr b="1" i="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300+ PowerPoint slides and a 30+ page teacher’s guide - $15 + $2 S/H.</a:t>
            </a:r>
            <a:endParaRPr b="0" lang="en-US" sz="2000" spc="-1" strike="noStrike">
              <a:solidFill>
                <a:srgbClr val="000000"/>
              </a:solidFill>
              <a:latin typeface="Arial"/>
            </a:endParaRPr>
          </a:p>
          <a:p>
            <a:pPr lvl="1" marL="743040" indent="-285840">
              <a:lnSpc>
                <a:spcPct val="90000"/>
              </a:lnSpc>
              <a:spcBef>
                <a:spcPts val="479"/>
              </a:spcBef>
              <a:buClr>
                <a:srgbClr val="fafd00"/>
              </a:buClr>
              <a:buSzPct val="75000"/>
              <a:buFont typeface="Monotype Sorts"/>
              <a:buChar char=""/>
            </a:pPr>
            <a:r>
              <a:rPr b="1" i="1" lang="en-US" sz="2000" spc="-1" strike="noStrike">
                <a:solidFill>
                  <a:srgbClr val="ffffff"/>
                </a:solidFill>
                <a:latin typeface="Times New Roman"/>
                <a:ea typeface="Times New Roman"/>
              </a:rPr>
              <a:t>“</a:t>
            </a:r>
            <a:r>
              <a:rPr b="1" i="1" lang="en-US" sz="2000" spc="-1" strike="noStrike" u="sng">
                <a:solidFill>
                  <a:srgbClr val="ffffff"/>
                </a:solidFill>
                <a:uFillTx/>
                <a:latin typeface="Times New Roman"/>
                <a:ea typeface="Times New Roman"/>
              </a:rPr>
              <a:t>Acts</a:t>
            </a:r>
            <a:r>
              <a:rPr b="1" i="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580+ PowerPoint slides &amp; a 60+ page teacher’s guide - $17</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i="1" lang="en-US" sz="2000" spc="-1" strike="noStrike">
                <a:solidFill>
                  <a:srgbClr val="ffffff"/>
                </a:solidFill>
                <a:latin typeface="Times New Roman"/>
                <a:ea typeface="Times New Roman"/>
              </a:rPr>
              <a:t>“</a:t>
            </a:r>
            <a:r>
              <a:rPr b="1" i="1" lang="en-US" sz="2000" spc="-1" strike="noStrike" u="sng">
                <a:solidFill>
                  <a:srgbClr val="ffffff"/>
                </a:solidFill>
                <a:uFillTx/>
                <a:latin typeface="Times New Roman"/>
                <a:ea typeface="Times New Roman"/>
              </a:rPr>
              <a:t>Romans</a:t>
            </a:r>
            <a:r>
              <a:rPr b="1" i="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300+ PowerPoint slides &amp; a 30+ page teacher’s guide-$12.</a:t>
            </a:r>
            <a:endParaRPr b="0" lang="en-US" sz="2000" spc="-1" strike="noStrike">
              <a:solidFill>
                <a:srgbClr val="000000"/>
              </a:solidFill>
              <a:latin typeface="Arial"/>
            </a:endParaRPr>
          </a:p>
          <a:p>
            <a:pPr lvl="1" marL="743040" indent="-285840">
              <a:lnSpc>
                <a:spcPct val="90000"/>
              </a:lnSpc>
              <a:buClr>
                <a:srgbClr val="fafd00"/>
              </a:buClr>
              <a:buSzPct val="75000"/>
              <a:buFont typeface="Monotype Sorts"/>
              <a:buChar char=""/>
            </a:pPr>
            <a:r>
              <a:rPr b="1" lang="en-US" sz="2000" spc="-1" strike="noStrike">
                <a:solidFill>
                  <a:srgbClr val="ffffff"/>
                </a:solidFill>
                <a:latin typeface="Times New Roman"/>
                <a:ea typeface="Times New Roman"/>
              </a:rPr>
              <a:t>“</a:t>
            </a:r>
            <a:r>
              <a:rPr b="1" i="1" lang="en-US" sz="2400" spc="-1" strike="noStrike" u="sng">
                <a:solidFill>
                  <a:srgbClr val="ffffff"/>
                </a:solidFill>
                <a:uFillTx/>
                <a:latin typeface="Times New Roman"/>
                <a:ea typeface="Times New Roman"/>
              </a:rPr>
              <a:t>World of the Bible</a:t>
            </a:r>
            <a:r>
              <a:rPr b="1" lang="en-US" sz="2000" spc="-1" strike="noStrike">
                <a:solidFill>
                  <a:srgbClr val="ffffff"/>
                </a:solidFill>
                <a:latin typeface="Times New Roman"/>
                <a:ea typeface="Times New Roman"/>
              </a:rPr>
              <a:t>” 400 + Slides available in January 2000</a:t>
            </a:r>
            <a:endParaRPr b="0" lang="en-US" sz="2000" spc="-1" strike="noStrike">
              <a:solidFill>
                <a:srgbClr val="000000"/>
              </a:solidFill>
              <a:latin typeface="Arial"/>
            </a:endParaRPr>
          </a:p>
          <a:p>
            <a:pPr marL="343080" indent="-343080">
              <a:lnSpc>
                <a:spcPct val="90000"/>
              </a:lnSpc>
              <a:spcBef>
                <a:spcPts val="479"/>
              </a:spcBef>
              <a:buClr>
                <a:srgbClr val="fafd00"/>
              </a:buClr>
              <a:buSzPct val="75000"/>
              <a:buFont typeface="Monotype Sorts"/>
              <a:buChar char=""/>
            </a:pPr>
            <a:r>
              <a:rPr b="1" lang="en-US" sz="2400" spc="-1" strike="noStrike">
                <a:solidFill>
                  <a:srgbClr val="ffffff"/>
                </a:solidFill>
                <a:latin typeface="Times New Roman"/>
                <a:ea typeface="Times New Roman"/>
              </a:rPr>
              <a:t>Visit EBibleTeacher.com at:</a:t>
            </a:r>
            <a:endParaRPr b="0" lang="en-US" sz="2400" spc="-1" strike="noStrike">
              <a:solidFill>
                <a:srgbClr val="000000"/>
              </a:solidFill>
              <a:latin typeface="Arial"/>
            </a:endParaRPr>
          </a:p>
        </p:txBody>
      </p:sp>
      <p:sp>
        <p:nvSpPr>
          <p:cNvPr id="900" name=""/>
          <p:cNvSpPr txBox="1"/>
          <p:nvPr/>
        </p:nvSpPr>
        <p:spPr>
          <a:xfrm>
            <a:off x="1050840" y="5867280"/>
            <a:ext cx="7026120" cy="920880"/>
          </a:xfrm>
          <a:prstGeom prst="rect">
            <a:avLst/>
          </a:prstGeom>
          <a:noFill/>
          <a:ln w="0">
            <a:noFill/>
          </a:ln>
        </p:spPr>
        <p:txBody>
          <a:bodyPr lIns="0" rIns="0" tIns="0" bIns="0" anchor="t">
            <a:noAutofit/>
          </a:bodyPr>
          <a:p>
            <a:pPr marL="457200" algn="ctr">
              <a:lnSpc>
                <a:spcPct val="85000"/>
              </a:lnSpc>
            </a:pPr>
            <a:r>
              <a:rPr b="1" lang="en-US" sz="3200" spc="-1" strike="noStrike">
                <a:solidFill>
                  <a:srgbClr val="000000"/>
                </a:solidFill>
                <a:latin typeface="Times New Roman"/>
                <a:ea typeface="Times New Roman"/>
              </a:rPr>
              <a:t>www.ebibleteacher.com     </a:t>
            </a:r>
            <a:endParaRPr b="0" lang="en-US" sz="3200" spc="-1" strike="noStrike">
              <a:solidFill>
                <a:srgbClr val="000000"/>
              </a:solidFill>
              <a:latin typeface="Arial"/>
            </a:endParaRPr>
          </a:p>
          <a:p>
            <a:pPr marL="457200" algn="ctr">
              <a:lnSpc>
                <a:spcPct val="85000"/>
              </a:lnSpc>
            </a:pPr>
            <a:r>
              <a:rPr b="1" lang="en-US" sz="3200" spc="-1" strike="noStrike">
                <a:solidFill>
                  <a:srgbClr val="fafd00"/>
                </a:solidFill>
                <a:latin typeface="Times New Roman"/>
                <a:ea typeface="Times New Roman"/>
              </a:rPr>
              <a:t>email: </a:t>
            </a:r>
            <a:r>
              <a:rPr b="1" lang="en-US" sz="3200" spc="-1" strike="noStrike">
                <a:solidFill>
                  <a:srgbClr val="000000"/>
                </a:solidFill>
                <a:latin typeface="Times New Roman"/>
                <a:ea typeface="Times New Roman"/>
              </a:rPr>
              <a:t>ttaylor@midwest.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01" name=""/>
          <p:cNvSpPr txBox="1"/>
          <p:nvPr/>
        </p:nvSpPr>
        <p:spPr>
          <a:xfrm>
            <a:off x="1181160" y="609480"/>
            <a:ext cx="7715160" cy="1143000"/>
          </a:xfrm>
          <a:prstGeom prst="rect">
            <a:avLst/>
          </a:prstGeom>
          <a:noFill/>
          <a:ln w="0">
            <a:noFill/>
          </a:ln>
        </p:spPr>
        <p:txBody>
          <a:bodyPr lIns="0" rIns="0" tIns="0" bIns="0" anchor="t">
            <a:noAutofit/>
          </a:bodyPr>
          <a:p>
            <a:pPr>
              <a:lnSpc>
                <a:spcPct val="100000"/>
              </a:lnSpc>
            </a:pPr>
            <a:r>
              <a:rPr b="1" lang="en-US" sz="5400" spc="-1" strike="noStrike" u="sng">
                <a:solidFill>
                  <a:srgbClr val="fafd00"/>
                </a:solidFill>
                <a:uFillTx/>
                <a:latin typeface="Times New Roman"/>
                <a:ea typeface="Times New Roman"/>
              </a:rPr>
              <a:t>About The Author</a:t>
            </a:r>
            <a:endParaRPr b="0" lang="en-US" sz="5400" spc="-1" strike="noStrike">
              <a:solidFill>
                <a:srgbClr val="000000"/>
              </a:solidFill>
              <a:latin typeface="Arial"/>
            </a:endParaRPr>
          </a:p>
        </p:txBody>
      </p:sp>
      <p:sp>
        <p:nvSpPr>
          <p:cNvPr id="902" name=""/>
          <p:cNvSpPr txBox="1"/>
          <p:nvPr/>
        </p:nvSpPr>
        <p:spPr>
          <a:xfrm>
            <a:off x="1157400" y="1828800"/>
            <a:ext cx="7148520" cy="4114800"/>
          </a:xfrm>
          <a:prstGeom prst="rect">
            <a:avLst/>
          </a:prstGeom>
          <a:noFill/>
          <a:ln w="0">
            <a:noFill/>
          </a:ln>
        </p:spPr>
        <p:txBody>
          <a:bodyPr lIns="0" rIns="0" tIns="0" bIns="0" anchor="t">
            <a:noAutofit/>
          </a:bodyPr>
          <a:p>
            <a:pPr marL="343080" indent="-343080">
              <a:lnSpc>
                <a:spcPct val="100000"/>
              </a:lnSpc>
              <a:spcBef>
                <a:spcPts val="479"/>
              </a:spcBef>
              <a:buClr>
                <a:srgbClr val="c0fef9"/>
              </a:buClr>
              <a:buSzPct val="75000"/>
              <a:buFont typeface="Monotype Sorts"/>
              <a:buChar char=""/>
            </a:pPr>
            <a:r>
              <a:rPr b="1" lang="en-US" sz="3600" spc="-1" strike="noStrike">
                <a:solidFill>
                  <a:srgbClr val="ffffff"/>
                </a:solidFill>
                <a:latin typeface="Times New Roman"/>
                <a:ea typeface="Times New Roman"/>
              </a:rPr>
              <a:t>Terry Taylor  </a:t>
            </a:r>
            <a:r>
              <a:rPr b="1" lang="en-US" sz="2800" spc="-1" strike="noStrike">
                <a:solidFill>
                  <a:srgbClr val="ffffff"/>
                </a:solidFill>
                <a:latin typeface="Times New Roman"/>
                <a:ea typeface="Times New Roman"/>
              </a:rPr>
              <a:t>is  the webmaster of   “EBibleTeacher” a website of resources for Bible Teachers who use the computer in the Sunday School.  He is available for teaching classes and seminars about using the computer in the Sunday School.</a:t>
            </a:r>
            <a:endParaRPr b="0" lang="en-US" sz="2800" spc="-1" strike="noStrike">
              <a:solidFill>
                <a:srgbClr val="000000"/>
              </a:solidFill>
              <a:latin typeface="Arial"/>
            </a:endParaRPr>
          </a:p>
          <a:p>
            <a:pPr marL="343080" indent="-343080">
              <a:lnSpc>
                <a:spcPct val="90000"/>
              </a:lnSpc>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Terry Taylor</a:t>
            </a:r>
            <a:endParaRPr b="0" lang="en-US" sz="2800" spc="-1" strike="noStrike">
              <a:solidFill>
                <a:srgbClr val="000000"/>
              </a:solidFill>
              <a:latin typeface="Arial"/>
            </a:endParaRPr>
          </a:p>
          <a:p>
            <a:pPr marL="343080" indent="-343080">
              <a:lnSpc>
                <a:spcPct val="90000"/>
              </a:lnSpc>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609 Country Club Ln</a:t>
            </a:r>
            <a:endParaRPr b="0" lang="en-US" sz="2800" spc="-1" strike="noStrike">
              <a:solidFill>
                <a:srgbClr val="000000"/>
              </a:solidFill>
              <a:latin typeface="Arial"/>
            </a:endParaRPr>
          </a:p>
          <a:p>
            <a:pPr marL="343080" indent="-343080">
              <a:lnSpc>
                <a:spcPct val="90000"/>
              </a:lnSpc>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arterville, IL  62918</a:t>
            </a:r>
            <a:endParaRPr b="0" lang="en-US" sz="2800" spc="-1" strike="noStrike">
              <a:solidFill>
                <a:srgbClr val="000000"/>
              </a:solidFill>
              <a:latin typeface="Arial"/>
            </a:endParaRPr>
          </a:p>
          <a:p>
            <a:pPr marL="343080" indent="-343080">
              <a:lnSpc>
                <a:spcPct val="100000"/>
              </a:lnSpc>
              <a:spcBef>
                <a:spcPts val="479"/>
              </a:spcBef>
            </a:pPr>
            <a:r>
              <a:rPr b="1" lang="en-US" sz="2800" spc="-1" strike="noStrike">
                <a:solidFill>
                  <a:srgbClr val="ffffff"/>
                </a:solidFill>
                <a:latin typeface="Times New Roman"/>
                <a:ea typeface="Times New Roman"/>
              </a:rPr>
              <a:t>(618)985-4527  email:  ttaylor@midwest.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03" name=""/>
          <p:cNvSpPr txBox="1"/>
          <p:nvPr/>
        </p:nvSpPr>
        <p:spPr>
          <a:xfrm>
            <a:off x="160200" y="115920"/>
            <a:ext cx="691524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Bible Class Electronic Slide Shows</a:t>
            </a:r>
            <a:endParaRPr b="0" lang="en-US" sz="3600" spc="-1" strike="noStrike">
              <a:solidFill>
                <a:srgbClr val="000000"/>
              </a:solidFill>
              <a:latin typeface="Arial"/>
            </a:endParaRPr>
          </a:p>
        </p:txBody>
      </p:sp>
      <p:sp>
        <p:nvSpPr>
          <p:cNvPr id="904" name=""/>
          <p:cNvSpPr txBox="1"/>
          <p:nvPr/>
        </p:nvSpPr>
        <p:spPr>
          <a:xfrm>
            <a:off x="200160" y="957240"/>
            <a:ext cx="8880480" cy="1797120"/>
          </a:xfrm>
          <a:prstGeom prst="rect">
            <a:avLst/>
          </a:prstGeom>
          <a:noFill/>
          <a:ln w="0">
            <a:noFill/>
          </a:ln>
        </p:spPr>
        <p:txBody>
          <a:bodyPr lIns="0" rIns="0" tIns="0" bIns="0" anchor="t">
            <a:noAutofit/>
          </a:bodyPr>
          <a:p>
            <a:pPr>
              <a:lnSpc>
                <a:spcPct val="100000"/>
              </a:lnSpc>
            </a:pPr>
            <a:r>
              <a:rPr b="0" lang="en-US" sz="2400" spc="-1" strike="noStrike" u="sng">
                <a:solidFill>
                  <a:srgbClr val="fafd00"/>
                </a:solidFill>
                <a:uFillTx/>
                <a:latin typeface="Times New Roman"/>
                <a:ea typeface="Times New Roman"/>
              </a:rPr>
              <a:t>SCRIPTURE/TOPIC</a:t>
            </a:r>
            <a:r>
              <a:rPr b="0" lang="en-US" sz="2400" spc="-1" strike="noStrike">
                <a:solidFill>
                  <a:srgbClr val="fafd00"/>
                </a:solidFill>
                <a:latin typeface="Times New Roman"/>
                <a:ea typeface="Times New Roman"/>
              </a:rPr>
              <a:t>:</a:t>
            </a:r>
            <a:r>
              <a:rPr b="0" lang="en-US" sz="2400" spc="-1" strike="noStrike">
                <a:solidFill>
                  <a:srgbClr val="c0fef9"/>
                </a:solidFill>
                <a:latin typeface="Times New Roman"/>
                <a:ea typeface="Times New Roman"/>
              </a:rPr>
              <a:t>   </a:t>
            </a:r>
            <a:r>
              <a:rPr b="0" lang="en-US" sz="2400" spc="-1" strike="noStrike">
                <a:solidFill>
                  <a:srgbClr val="c0fef9"/>
                </a:solidFill>
                <a:latin typeface="Times New Roman"/>
                <a:ea typeface="Times New Roman"/>
              </a:rPr>
              <a:t>	</a:t>
            </a:r>
            <a:r>
              <a:rPr b="0" lang="en-US" sz="2400" spc="-1" strike="noStrike">
                <a:solidFill>
                  <a:srgbClr val="c0fef9"/>
                </a:solidFill>
                <a:latin typeface="Times New Roman"/>
                <a:ea typeface="Times New Roman"/>
              </a:rPr>
              <a:t>Bible Class Atlas</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         </a:t>
            </a:r>
            <a:r>
              <a:rPr b="0" lang="en-US" sz="2400" spc="-1" strike="noStrike" u="sng">
                <a:solidFill>
                  <a:srgbClr val="fafd00"/>
                </a:solidFill>
                <a:uFillTx/>
                <a:latin typeface="Times New Roman"/>
                <a:ea typeface="Times New Roman"/>
              </a:rPr>
              <a:t>SERIES</a:t>
            </a:r>
            <a:r>
              <a:rPr b="0" lang="en-US" sz="2400" spc="-1" strike="noStrike">
                <a:solidFill>
                  <a:srgbClr val="fafd00"/>
                </a:solidFill>
                <a:latin typeface="Times New Roman"/>
                <a:ea typeface="Times New Roman"/>
              </a:rPr>
              <a:t>:</a:t>
            </a:r>
            <a:r>
              <a:rPr b="0" lang="en-US" sz="2400" spc="-1" strike="noStrike">
                <a:solidFill>
                  <a:srgbClr val="c0fef9"/>
                </a:solidFill>
                <a:latin typeface="Times New Roman"/>
                <a:ea typeface="Times New Roman"/>
              </a:rPr>
              <a:t>	</a:t>
            </a:r>
            <a:r>
              <a:rPr b="0" lang="en-US" sz="2400" spc="-1" strike="noStrike">
                <a:solidFill>
                  <a:srgbClr val="c0fef9"/>
                </a:solidFill>
                <a:latin typeface="Times New Roman"/>
                <a:ea typeface="Times New Roman"/>
              </a:rPr>
              <a:t>	</a:t>
            </a:r>
            <a:r>
              <a:rPr b="0" lang="en-US" sz="2400" spc="-1" strike="noStrike">
                <a:solidFill>
                  <a:srgbClr val="c0fef9"/>
                </a:solidFill>
                <a:latin typeface="Times New Roman"/>
                <a:ea typeface="Times New Roman"/>
              </a:rPr>
              <a:t>Maps for the Sunday School</a:t>
            </a:r>
            <a:endParaRPr b="0" lang="en-US" sz="2400" spc="-1" strike="noStrike">
              <a:solidFill>
                <a:srgbClr val="000000"/>
              </a:solidFill>
              <a:latin typeface="Arial"/>
            </a:endParaRPr>
          </a:p>
          <a:p>
            <a:pPr>
              <a:lnSpc>
                <a:spcPct val="100000"/>
              </a:lnSpc>
            </a:pPr>
            <a:r>
              <a:rPr b="0" lang="en-US" sz="2000" spc="-1" strike="noStrike" u="sng">
                <a:solidFill>
                  <a:srgbClr val="fafd00"/>
                </a:solidFill>
                <a:uFillTx/>
                <a:latin typeface="Times New Roman"/>
                <a:ea typeface="Times New Roman"/>
              </a:rPr>
              <a:t>NUMBER OF SLIDES</a:t>
            </a:r>
            <a:r>
              <a:rPr b="0" lang="en-US" sz="2000" spc="-1" strike="noStrike">
                <a:solidFill>
                  <a:srgbClr val="fafd00"/>
                </a:solidFill>
                <a:latin typeface="Times New Roman"/>
                <a:ea typeface="Times New Roman"/>
              </a:rPr>
              <a:t>:</a:t>
            </a:r>
            <a:r>
              <a:rPr b="0" lang="en-US" sz="2000" spc="-1" strike="noStrike">
                <a:solidFill>
                  <a:srgbClr val="c0fef9"/>
                </a:solidFill>
                <a:latin typeface="Times New Roman"/>
                <a:ea typeface="Times New Roman"/>
              </a:rPr>
              <a:t> </a:t>
            </a:r>
            <a:r>
              <a:rPr b="0" lang="en-US" sz="2000" spc="-1" strike="noStrike">
                <a:solidFill>
                  <a:srgbClr val="c0fef9"/>
                </a:solidFill>
                <a:latin typeface="Times New Roman"/>
                <a:ea typeface="Times New Roman"/>
              </a:rPr>
              <a:t>	</a:t>
            </a:r>
            <a:r>
              <a:rPr b="0" lang="en-US" sz="2000" spc="-1" strike="noStrike">
                <a:solidFill>
                  <a:srgbClr val="c0fef9"/>
                </a:solidFill>
                <a:latin typeface="Times New Roman"/>
                <a:ea typeface="Times New Roman"/>
              </a:rPr>
              <a:t>	</a:t>
            </a:r>
            <a:r>
              <a:rPr b="0" lang="en-US" sz="2000" spc="-1" strike="noStrike">
                <a:solidFill>
                  <a:srgbClr val="c0fef9"/>
                </a:solidFill>
                <a:latin typeface="Times New Roman"/>
                <a:ea typeface="Times New Roman"/>
              </a:rPr>
              <a:t>48</a:t>
            </a:r>
            <a:r>
              <a:rPr b="0" lang="en-US" sz="2000" spc="-1" strike="noStrike">
                <a:solidFill>
                  <a:srgbClr val="c0fef9"/>
                </a:solidFill>
                <a:latin typeface="Times New Roman"/>
                <a:ea typeface="Times New Roman"/>
              </a:rPr>
              <a:t>	</a:t>
            </a:r>
            <a:r>
              <a:rPr b="0" lang="en-US" sz="2000" spc="-1" strike="noStrike">
                <a:solidFill>
                  <a:srgbClr val="c0fef9"/>
                </a:solidFill>
                <a:latin typeface="Times New Roman"/>
                <a:ea typeface="Times New Roman"/>
              </a:rPr>
              <a:t>	</a:t>
            </a:r>
            <a:r>
              <a:rPr b="0" lang="en-US" sz="2000" spc="-1" strike="noStrike">
                <a:solidFill>
                  <a:srgbClr val="c0fef9"/>
                </a:solidFill>
                <a:latin typeface="Times New Roman"/>
                <a:ea typeface="Times New Roman"/>
              </a:rPr>
              <a:t>	</a:t>
            </a:r>
            <a:r>
              <a:rPr b="0" lang="en-US" sz="2000" spc="-1" strike="noStrike">
                <a:solidFill>
                  <a:srgbClr val="fafd00"/>
                </a:solidFill>
                <a:latin typeface="Times New Roman"/>
                <a:ea typeface="Times New Roman"/>
              </a:rPr>
              <a:t>Date:</a:t>
            </a:r>
            <a:r>
              <a:rPr b="0" lang="en-US" sz="2000" spc="-1" strike="noStrike">
                <a:solidFill>
                  <a:srgbClr val="c0fef9"/>
                </a:solidFill>
                <a:latin typeface="Times New Roman"/>
                <a:ea typeface="Times New Roman"/>
              </a:rPr>
              <a:t>	</a:t>
            </a:r>
            <a:r>
              <a:rPr b="0" lang="en-US" sz="2000" spc="-1" strike="noStrike">
                <a:solidFill>
                  <a:srgbClr val="c0fef9"/>
                </a:solidFill>
                <a:latin typeface="Times New Roman"/>
                <a:ea typeface="Times New Roman"/>
              </a:rPr>
              <a:t>10/25/99</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u="sng">
                <a:solidFill>
                  <a:srgbClr val="fafd00"/>
                </a:solidFill>
                <a:uFillTx/>
                <a:latin typeface="Times New Roman"/>
                <a:ea typeface="Times New Roman"/>
              </a:rPr>
              <a:t>FILE NAMES</a:t>
            </a:r>
            <a:r>
              <a:rPr b="0" lang="en-US" sz="2000" spc="-1" strike="noStrike">
                <a:solidFill>
                  <a:srgbClr val="fafd00"/>
                </a:solidFill>
                <a:latin typeface="Times New Roman"/>
                <a:ea typeface="Times New Roman"/>
              </a:rPr>
              <a:t>:</a:t>
            </a:r>
            <a:r>
              <a:rPr b="0" lang="en-US" sz="2000" spc="-1" strike="noStrike">
                <a:solidFill>
                  <a:srgbClr val="c0fef9"/>
                </a:solidFill>
                <a:latin typeface="Times New Roman"/>
                <a:ea typeface="Times New Roman"/>
              </a:rPr>
              <a:t>   </a:t>
            </a:r>
            <a:r>
              <a:rPr b="0" lang="en-US" sz="2000" spc="-1" strike="noStrike">
                <a:solidFill>
                  <a:srgbClr val="c0fef9"/>
                </a:solidFill>
                <a:latin typeface="Times New Roman"/>
                <a:ea typeface="Times New Roman"/>
              </a:rPr>
              <a:t>	</a:t>
            </a:r>
            <a:r>
              <a:rPr b="0" lang="en-US" sz="2000" spc="-1" strike="noStrike">
                <a:solidFill>
                  <a:srgbClr val="c0fef9"/>
                </a:solidFill>
                <a:latin typeface="Times New Roman"/>
                <a:ea typeface="Times New Roman"/>
              </a:rPr>
              <a:t>Readme.txt &amp; BATLAS15.ppt</a:t>
            </a:r>
            <a:endParaRPr b="0" lang="en-US" sz="2000" spc="-1" strike="noStrike">
              <a:solidFill>
                <a:srgbClr val="000000"/>
              </a:solidFill>
              <a:latin typeface="Arial"/>
            </a:endParaRPr>
          </a:p>
        </p:txBody>
      </p:sp>
      <p:sp>
        <p:nvSpPr>
          <p:cNvPr id="905" name=""/>
          <p:cNvSpPr/>
          <p:nvPr/>
        </p:nvSpPr>
        <p:spPr>
          <a:xfrm>
            <a:off x="403200" y="849240"/>
            <a:ext cx="7696080" cy="0"/>
          </a:xfrm>
          <a:prstGeom prst="line">
            <a:avLst/>
          </a:prstGeom>
          <a:ln w="203040">
            <a:solidFill>
              <a:srgbClr val="7fff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906" name=""/>
          <p:cNvSpPr txBox="1"/>
          <p:nvPr/>
        </p:nvSpPr>
        <p:spPr>
          <a:xfrm>
            <a:off x="266760" y="2406600"/>
            <a:ext cx="8002440" cy="76356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Times New Roman"/>
                <a:ea typeface="Times New Roman"/>
              </a:rPr>
              <a:t>CATEGORY:</a:t>
            </a:r>
            <a:r>
              <a:rPr b="1" lang="en-US" sz="2400" spc="-1" strike="noStrike">
                <a:solidFill>
                  <a:srgbClr val="fafd00"/>
                </a:solidFill>
                <a:latin typeface="Times New Roman"/>
                <a:ea typeface="Times New Roman"/>
              </a:rPr>
              <a:t>  </a:t>
            </a:r>
            <a:r>
              <a:rPr b="1" lang="en-US" sz="2400" spc="-1" strike="noStrike" u="sng">
                <a:solidFill>
                  <a:srgbClr val="d49fff"/>
                </a:solidFill>
                <a:uFillTx/>
                <a:latin typeface="Times New Roman"/>
                <a:ea typeface="Times New Roman"/>
              </a:rPr>
              <a:t>Copyrighted</a:t>
            </a:r>
            <a:r>
              <a:rPr b="1" lang="en-US" sz="2400" spc="-1" strike="noStrike" u="sng">
                <a:solidFill>
                  <a:srgbClr val="c0fef9"/>
                </a:solidFill>
                <a:uFillTx/>
                <a:latin typeface="Times New Roman"/>
                <a:ea typeface="Times New Roman"/>
              </a:rPr>
              <a:t> </a:t>
            </a:r>
            <a:r>
              <a:rPr b="1" i="1" lang="en-US" sz="2800" spc="-1" strike="noStrike" u="sng">
                <a:solidFill>
                  <a:srgbClr val="ffffff"/>
                </a:solidFill>
                <a:uFillTx/>
                <a:latin typeface="Times New Roman"/>
                <a:ea typeface="Times New Roman"/>
              </a:rPr>
              <a:t>Sunday School Literature</a:t>
            </a:r>
            <a:endParaRPr b="0" lang="en-US" sz="2800" spc="-1" strike="noStrike">
              <a:solidFill>
                <a:srgbClr val="000000"/>
              </a:solidFill>
              <a:latin typeface="Arial"/>
            </a:endParaRPr>
          </a:p>
        </p:txBody>
      </p:sp>
      <p:sp>
        <p:nvSpPr>
          <p:cNvPr id="907" name=""/>
          <p:cNvSpPr txBox="1"/>
          <p:nvPr/>
        </p:nvSpPr>
        <p:spPr>
          <a:xfrm>
            <a:off x="168120" y="2932200"/>
            <a:ext cx="8807400" cy="345132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These electronic slide shows provided by Terry Taylor.  Microsoft PowerPoint (R) was used  to create the show.  Typically, teacher's notes in text files are included in the packages.  You can download Microsoft’s free PowerPoint viewer from www.microsoft.com on the Internet if needed.</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Contact  me at  </a:t>
            </a:r>
            <a:r>
              <a:rPr b="0" lang="en-US" sz="1600" spc="-1" strike="noStrike">
                <a:solidFill>
                  <a:srgbClr val="fafd00"/>
                </a:solidFill>
                <a:latin typeface="Times New Roman"/>
                <a:ea typeface="Times New Roman"/>
              </a:rPr>
              <a:t>TTAYLOR@MIDWEST.NET   </a:t>
            </a:r>
            <a:r>
              <a:rPr b="0" lang="en-US" sz="1600" spc="-1" strike="noStrike">
                <a:solidFill>
                  <a:srgbClr val="ffffff"/>
                </a:solidFill>
                <a:latin typeface="Times New Roman"/>
                <a:ea typeface="Times New Roman"/>
              </a:rPr>
              <a:t>for more information or at 609 Country Club Ln Carterville, IL  62918.  Email with suggestions, comments or for more information. </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This slide show is a type of Sunday School literature and is copyrighted in regards to slide layout, text and arrangement.   “Microsoft” and “Powerpoint” are copyrighted by the Microsoft Corporation.</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YOU ARE ALLOWED TO COPY MAPS OUT OF THIS SET AND REUSE IN SUNDAY SCHOOL CLASSES PROVIDED THAT THE MAPS ARE INCIDENTAL TO THE COURSE MATERIAL.  YOU MAY NOT RESELL ANY OF THESE MAPS AS PART OF MAP SETS WITHOUT THE WRITTEN PERMISSION OF THE AUTHOR, TERRY TAYLOR.  See Title page for cost and other restrictions.</a:t>
            </a:r>
            <a:endParaRPr b="0" lang="en-US" sz="16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No warranty or guarantee is  implied.  This is freeware.  Some images based  on NASA satellite photos.  Use of these images does not imply NASA endorsement.</a:t>
            </a:r>
            <a:endParaRPr b="0" lang="en-US" sz="1400" spc="-1" strike="noStrike">
              <a:solidFill>
                <a:srgbClr val="000000"/>
              </a:solidFill>
              <a:latin typeface="Arial"/>
            </a:endParaRPr>
          </a:p>
        </p:txBody>
      </p:sp>
      <p:sp>
        <p:nvSpPr>
          <p:cNvPr id="908" name=""/>
          <p:cNvSpPr txBox="1"/>
          <p:nvPr/>
        </p:nvSpPr>
        <p:spPr>
          <a:xfrm>
            <a:off x="436680" y="6518160"/>
            <a:ext cx="819792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Times New Roman"/>
                <a:ea typeface="Times New Roman"/>
              </a:rPr>
              <a:t>A variety of other electronic slideshows and software is available.     ttaylor@midwest.net   C1999</a:t>
            </a:r>
            <a:endParaRPr b="0" lang="en-US" sz="1600" spc="-1" strike="noStrike">
              <a:solidFill>
                <a:srgbClr val="000000"/>
              </a:solidFill>
              <a:latin typeface="Arial"/>
            </a:endParaRPr>
          </a:p>
        </p:txBody>
      </p:sp>
      <p:sp>
        <p:nvSpPr>
          <p:cNvPr id="909" name=""/>
          <p:cNvSpPr txBox="1"/>
          <p:nvPr/>
        </p:nvSpPr>
        <p:spPr>
          <a:xfrm>
            <a:off x="3505320" y="6253200"/>
            <a:ext cx="5567400" cy="366840"/>
          </a:xfrm>
          <a:prstGeom prst="rect">
            <a:avLst/>
          </a:prstGeom>
          <a:noFill/>
          <a:ln w="0">
            <a:noFill/>
          </a:ln>
        </p:spPr>
        <p:txBody>
          <a:bodyPr lIns="0" rIns="0" tIns="0" bIns="0" anchor="t">
            <a:noAutofit/>
          </a:bodyPr>
          <a:p>
            <a:pPr>
              <a:lnSpc>
                <a:spcPct val="100000"/>
              </a:lnSpc>
            </a:pPr>
            <a:r>
              <a:rPr b="1" lang="en-US" sz="1800" spc="-1" strike="noStrike">
                <a:solidFill>
                  <a:srgbClr val="7fff00"/>
                </a:solidFill>
                <a:latin typeface="Arial"/>
                <a:ea typeface="Arial"/>
              </a:rPr>
              <a:t>Web Site:  www.ebibleteacher.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1" name=""/>
          <p:cNvSpPr txBox="1"/>
          <p:nvPr/>
        </p:nvSpPr>
        <p:spPr>
          <a:xfrm>
            <a:off x="898560" y="264960"/>
            <a:ext cx="7448400" cy="1098720"/>
          </a:xfrm>
          <a:prstGeom prst="rect">
            <a:avLst/>
          </a:prstGeom>
          <a:noFill/>
          <a:ln w="0">
            <a:noFill/>
          </a:ln>
        </p:spPr>
        <p:txBody>
          <a:bodyPr lIns="0" rIns="0" tIns="0" bIns="0" anchor="t">
            <a:noAutofit/>
          </a:bodyPr>
          <a:p>
            <a:pPr>
              <a:lnSpc>
                <a:spcPct val="100000"/>
              </a:lnSpc>
            </a:pPr>
            <a:r>
              <a:rPr b="1" lang="en-US" sz="6600" spc="-1" strike="noStrike" u="sng">
                <a:solidFill>
                  <a:srgbClr val="fafd00"/>
                </a:solidFill>
                <a:uFillTx/>
                <a:latin typeface="Arial"/>
                <a:ea typeface="Arial"/>
              </a:rPr>
              <a:t>Lands of the Bible</a:t>
            </a:r>
            <a:endParaRPr b="0" lang="en-US" sz="6600" spc="-1" strike="noStrike">
              <a:solidFill>
                <a:srgbClr val="000000"/>
              </a:solidFill>
              <a:latin typeface="Arial"/>
            </a:endParaRPr>
          </a:p>
        </p:txBody>
      </p:sp>
      <p:grpSp>
        <p:nvGrpSpPr>
          <p:cNvPr id="102" name=""/>
          <p:cNvGrpSpPr/>
          <p:nvPr/>
        </p:nvGrpSpPr>
        <p:grpSpPr>
          <a:xfrm>
            <a:off x="60480" y="1384200"/>
            <a:ext cx="9064440" cy="5473800"/>
            <a:chOff x="60480" y="1384200"/>
            <a:chExt cx="9064440" cy="5473800"/>
          </a:xfrm>
        </p:grpSpPr>
        <p:pic>
          <p:nvPicPr>
            <p:cNvPr id="103" name="" descr=""/>
            <p:cNvPicPr/>
            <p:nvPr/>
          </p:nvPicPr>
          <p:blipFill>
            <a:blip r:embed="rId1"/>
            <a:stretch/>
          </p:blipFill>
          <p:spPr>
            <a:xfrm>
              <a:off x="76320" y="1384200"/>
              <a:ext cx="9048600" cy="5435640"/>
            </a:xfrm>
            <a:prstGeom prst="rect">
              <a:avLst/>
            </a:prstGeom>
            <a:ln w="0">
              <a:noFill/>
            </a:ln>
          </p:spPr>
        </p:pic>
        <p:sp>
          <p:nvSpPr>
            <p:cNvPr id="104" name=""/>
            <p:cNvSpPr txBox="1"/>
            <p:nvPr/>
          </p:nvSpPr>
          <p:spPr>
            <a:xfrm>
              <a:off x="1355760" y="2513160"/>
              <a:ext cx="389268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Southern Europe</a:t>
              </a:r>
              <a:endParaRPr b="0" lang="en-US" sz="3600" spc="-1" strike="noStrike">
                <a:solidFill>
                  <a:srgbClr val="000000"/>
                </a:solidFill>
                <a:latin typeface="Arial"/>
              </a:endParaRPr>
            </a:p>
          </p:txBody>
        </p:sp>
        <p:sp>
          <p:nvSpPr>
            <p:cNvPr id="105" name=""/>
            <p:cNvSpPr txBox="1"/>
            <p:nvPr/>
          </p:nvSpPr>
          <p:spPr>
            <a:xfrm>
              <a:off x="5089680" y="4799160"/>
              <a:ext cx="272412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Middle East</a:t>
              </a:r>
              <a:endParaRPr b="0" lang="en-US" sz="3600" spc="-1" strike="noStrike">
                <a:solidFill>
                  <a:srgbClr val="000000"/>
                </a:solidFill>
                <a:latin typeface="Arial"/>
              </a:endParaRPr>
            </a:p>
          </p:txBody>
        </p:sp>
        <p:sp>
          <p:nvSpPr>
            <p:cNvPr id="106" name=""/>
            <p:cNvSpPr txBox="1"/>
            <p:nvPr/>
          </p:nvSpPr>
          <p:spPr>
            <a:xfrm>
              <a:off x="5089680" y="3579840"/>
              <a:ext cx="252108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Asia Minor</a:t>
              </a:r>
              <a:endParaRPr b="0" lang="en-US" sz="3600" spc="-1" strike="noStrike">
                <a:solidFill>
                  <a:srgbClr val="000000"/>
                </a:solidFill>
                <a:latin typeface="Arial"/>
              </a:endParaRPr>
            </a:p>
          </p:txBody>
        </p:sp>
        <p:sp>
          <p:nvSpPr>
            <p:cNvPr id="107" name=""/>
            <p:cNvSpPr txBox="1"/>
            <p:nvPr/>
          </p:nvSpPr>
          <p:spPr>
            <a:xfrm>
              <a:off x="1050840" y="5637240"/>
              <a:ext cx="353700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Northern Africa</a:t>
              </a:r>
              <a:endParaRPr b="0" lang="en-US" sz="3600" spc="-1" strike="noStrike">
                <a:solidFill>
                  <a:srgbClr val="000000"/>
                </a:solidFill>
                <a:latin typeface="Arial"/>
              </a:endParaRPr>
            </a:p>
          </p:txBody>
        </p:sp>
        <p:sp>
          <p:nvSpPr>
            <p:cNvPr id="108" name=""/>
            <p:cNvSpPr txBox="1"/>
            <p:nvPr/>
          </p:nvSpPr>
          <p:spPr>
            <a:xfrm>
              <a:off x="2498760" y="4313160"/>
              <a:ext cx="2911320" cy="968400"/>
            </a:xfrm>
            <a:prstGeom prst="rect">
              <a:avLst/>
            </a:prstGeom>
            <a:noFill/>
            <a:ln w="0">
              <a:noFill/>
            </a:ln>
          </p:spPr>
          <p:txBody>
            <a:bodyPr lIns="0" rIns="0" tIns="0" bIns="0" anchor="t">
              <a:noAutofit/>
            </a:bodyPr>
            <a:p>
              <a:pPr algn="ctr">
                <a:lnSpc>
                  <a:spcPct val="90000"/>
                </a:lnSpc>
              </a:pPr>
              <a:r>
                <a:rPr b="1" lang="en-US" sz="3200" spc="-1" strike="noStrike">
                  <a:solidFill>
                    <a:srgbClr val="dadada"/>
                  </a:solidFill>
                  <a:latin typeface="Times New Roman"/>
                  <a:ea typeface="Times New Roman"/>
                </a:rPr>
                <a:t>Mediterranean Sea</a:t>
              </a:r>
              <a:endParaRPr b="0" lang="en-US" sz="3200" spc="-1" strike="noStrike">
                <a:solidFill>
                  <a:srgbClr val="000000"/>
                </a:solidFill>
                <a:latin typeface="Arial"/>
              </a:endParaRPr>
            </a:p>
          </p:txBody>
        </p:sp>
        <p:sp>
          <p:nvSpPr>
            <p:cNvPr id="109" name=""/>
            <p:cNvSpPr txBox="1"/>
            <p:nvPr/>
          </p:nvSpPr>
          <p:spPr>
            <a:xfrm>
              <a:off x="1584360" y="1446120"/>
              <a:ext cx="6027840" cy="641520"/>
            </a:xfrm>
            <a:prstGeom prst="rect">
              <a:avLst/>
            </a:prstGeom>
            <a:noFill/>
            <a:ln w="0">
              <a:noFill/>
            </a:ln>
          </p:spPr>
          <p:txBody>
            <a:bodyPr lIns="0" rIns="0" tIns="0" bIns="0" anchor="t">
              <a:noAutofit/>
            </a:bodyPr>
            <a:p>
              <a:pPr>
                <a:lnSpc>
                  <a:spcPct val="100000"/>
                </a:lnSpc>
              </a:pPr>
              <a:r>
                <a:rPr b="1" lang="en-US" sz="3600" spc="-1" strike="noStrike" u="sng">
                  <a:solidFill>
                    <a:srgbClr val="fafd00"/>
                  </a:solidFill>
                  <a:uFillTx/>
                  <a:latin typeface="Arial"/>
                  <a:ea typeface="Arial"/>
                </a:rPr>
                <a:t>Continents &amp; Land Masses</a:t>
              </a:r>
              <a:endParaRPr b="0" lang="en-US" sz="3600" spc="-1" strike="noStrike">
                <a:solidFill>
                  <a:srgbClr val="000000"/>
                </a:solidFill>
                <a:latin typeface="Arial"/>
              </a:endParaRPr>
            </a:p>
          </p:txBody>
        </p:sp>
        <p:sp>
          <p:nvSpPr>
            <p:cNvPr id="110" name=""/>
            <p:cNvSpPr txBox="1"/>
            <p:nvPr/>
          </p:nvSpPr>
          <p:spPr>
            <a:xfrm>
              <a:off x="60480" y="6553080"/>
              <a:ext cx="14558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11" name=""/>
          <p:cNvGrpSpPr/>
          <p:nvPr/>
        </p:nvGrpSpPr>
        <p:grpSpPr>
          <a:xfrm>
            <a:off x="60480" y="1295280"/>
            <a:ext cx="9064440" cy="5524560"/>
            <a:chOff x="60480" y="1295280"/>
            <a:chExt cx="9064440" cy="5524560"/>
          </a:xfrm>
        </p:grpSpPr>
        <p:grpSp>
          <p:nvGrpSpPr>
            <p:cNvPr id="112" name=""/>
            <p:cNvGrpSpPr/>
            <p:nvPr/>
          </p:nvGrpSpPr>
          <p:grpSpPr>
            <a:xfrm>
              <a:off x="76320" y="1295280"/>
              <a:ext cx="9048600" cy="5524560"/>
              <a:chOff x="76320" y="1295280"/>
              <a:chExt cx="9048600" cy="5524560"/>
            </a:xfrm>
          </p:grpSpPr>
          <p:sp>
            <p:nvSpPr>
              <p:cNvPr id="113" name=""/>
              <p:cNvSpPr txBox="1"/>
              <p:nvPr/>
            </p:nvSpPr>
            <p:spPr>
              <a:xfrm>
                <a:off x="1157400" y="1981080"/>
                <a:ext cx="7791480" cy="4114800"/>
              </a:xfrm>
              <a:prstGeom prst="rect">
                <a:avLst/>
              </a:prstGeom>
              <a:noFill/>
              <a:ln w="0">
                <a:noFill/>
              </a:ln>
            </p:spPr>
            <p:txBody>
              <a:bodyPr lIns="0" rIns="0" tIns="0" bIns="0" anchor="t">
                <a:noAutofit/>
              </a:bodyPr>
              <a:p>
                <a:pPr marL="343080" indent="-343080">
                  <a:lnSpc>
                    <a:spcPct val="100000"/>
                  </a:lnSpc>
                  <a:spcBef>
                    <a:spcPts val="479"/>
                  </a:spcBef>
                  <a:buClr>
                    <a:srgbClr val="c0fef9"/>
                  </a:buClr>
                  <a:buSzPct val="75000"/>
                  <a:buFont typeface="Monotype Sorts"/>
                  <a:buChar char=""/>
                </a:pPr>
                <a:r>
                  <a:rPr b="0" lang="en-US" sz="3200" spc="-1" strike="noStrike">
                    <a:solidFill>
                      <a:srgbClr val="ffffff"/>
                    </a:solidFill>
                    <a:latin typeface="Times New Roman"/>
                    <a:ea typeface="Times New Roman"/>
                  </a:rPr>
                  <a:t>Click to add text</a:t>
                </a:r>
                <a:endParaRPr b="0" lang="en-US" sz="3200" spc="-1" strike="noStrike">
                  <a:solidFill>
                    <a:srgbClr val="000000"/>
                  </a:solidFill>
                  <a:latin typeface="Arial"/>
                </a:endParaRPr>
              </a:p>
            </p:txBody>
          </p:sp>
          <p:pic>
            <p:nvPicPr>
              <p:cNvPr id="114" name="" descr=""/>
              <p:cNvPicPr/>
              <p:nvPr/>
            </p:nvPicPr>
            <p:blipFill>
              <a:blip r:embed="rId1"/>
              <a:stretch/>
            </p:blipFill>
            <p:spPr>
              <a:xfrm>
                <a:off x="76320" y="1384200"/>
                <a:ext cx="9048600" cy="5435640"/>
              </a:xfrm>
              <a:prstGeom prst="rect">
                <a:avLst/>
              </a:prstGeom>
              <a:ln w="0">
                <a:noFill/>
              </a:ln>
            </p:spPr>
          </p:pic>
          <p:sp>
            <p:nvSpPr>
              <p:cNvPr id="115" name=""/>
              <p:cNvSpPr/>
              <p:nvPr/>
            </p:nvSpPr>
            <p:spPr>
              <a:xfrm>
                <a:off x="5421240" y="4419720"/>
                <a:ext cx="397080" cy="706680"/>
              </a:xfrm>
              <a:custGeom>
                <a:avLst/>
                <a:gdLst/>
                <a:ahLst/>
                <a:rect l="0" t="0" r="r" b="b"/>
                <a:pathLst>
                  <a:path w="1103" h="1963">
                    <a:moveTo>
                      <a:pt x="180" y="0"/>
                    </a:moveTo>
                    <a:lnTo>
                      <a:pt x="335" y="39"/>
                    </a:lnTo>
                    <a:lnTo>
                      <a:pt x="480" y="39"/>
                    </a:lnTo>
                    <a:lnTo>
                      <a:pt x="671" y="88"/>
                    </a:lnTo>
                    <a:lnTo>
                      <a:pt x="816" y="136"/>
                    </a:lnTo>
                    <a:lnTo>
                      <a:pt x="962" y="326"/>
                    </a:lnTo>
                    <a:lnTo>
                      <a:pt x="1010" y="471"/>
                    </a:lnTo>
                    <a:lnTo>
                      <a:pt x="1103" y="617"/>
                    </a:lnTo>
                    <a:lnTo>
                      <a:pt x="1103" y="806"/>
                    </a:lnTo>
                    <a:lnTo>
                      <a:pt x="1059" y="952"/>
                    </a:lnTo>
                    <a:lnTo>
                      <a:pt x="1010" y="1099"/>
                    </a:lnTo>
                    <a:lnTo>
                      <a:pt x="962" y="1288"/>
                    </a:lnTo>
                    <a:lnTo>
                      <a:pt x="913" y="1434"/>
                    </a:lnTo>
                    <a:lnTo>
                      <a:pt x="768" y="1579"/>
                    </a:lnTo>
                    <a:lnTo>
                      <a:pt x="622" y="1725"/>
                    </a:lnTo>
                    <a:lnTo>
                      <a:pt x="432" y="1817"/>
                    </a:lnTo>
                    <a:lnTo>
                      <a:pt x="286" y="1866"/>
                    </a:lnTo>
                    <a:lnTo>
                      <a:pt x="141" y="1963"/>
                    </a:lnTo>
                    <a:lnTo>
                      <a:pt x="0" y="1817"/>
                    </a:lnTo>
                    <a:lnTo>
                      <a:pt x="0" y="1628"/>
                    </a:lnTo>
                    <a:lnTo>
                      <a:pt x="0" y="1482"/>
                    </a:lnTo>
                    <a:lnTo>
                      <a:pt x="141" y="1337"/>
                    </a:lnTo>
                    <a:lnTo>
                      <a:pt x="286" y="1196"/>
                    </a:lnTo>
                    <a:lnTo>
                      <a:pt x="383" y="1050"/>
                    </a:lnTo>
                    <a:lnTo>
                      <a:pt x="180" y="0"/>
                    </a:lnTo>
                    <a:close/>
                  </a:path>
                </a:pathLst>
              </a:custGeom>
              <a:solidFill>
                <a:srgbClr val="00ae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2270160" y="4265640"/>
                <a:ext cx="312912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Mediterranean</a:t>
                </a:r>
                <a:endParaRPr b="0" lang="en-US" sz="3600" spc="-1" strike="noStrike">
                  <a:solidFill>
                    <a:srgbClr val="000000"/>
                  </a:solidFill>
                  <a:latin typeface="Arial"/>
                </a:endParaRPr>
              </a:p>
            </p:txBody>
          </p:sp>
          <p:sp>
            <p:nvSpPr>
              <p:cNvPr id="117" name=""/>
              <p:cNvSpPr txBox="1"/>
              <p:nvPr/>
            </p:nvSpPr>
            <p:spPr>
              <a:xfrm>
                <a:off x="5394240" y="3884760"/>
                <a:ext cx="130176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Israel</a:t>
                </a:r>
                <a:endParaRPr b="0" lang="en-US" sz="3600" spc="-1" strike="noStrike">
                  <a:solidFill>
                    <a:srgbClr val="000000"/>
                  </a:solidFill>
                  <a:latin typeface="Arial"/>
                </a:endParaRPr>
              </a:p>
            </p:txBody>
          </p:sp>
          <p:sp>
            <p:nvSpPr>
              <p:cNvPr id="118" name=""/>
              <p:cNvSpPr txBox="1"/>
              <p:nvPr/>
            </p:nvSpPr>
            <p:spPr>
              <a:xfrm>
                <a:off x="3413160" y="5484960"/>
                <a:ext cx="135252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Egypt</a:t>
                </a:r>
                <a:endParaRPr b="0" lang="en-US" sz="3600" spc="-1" strike="noStrike">
                  <a:solidFill>
                    <a:srgbClr val="000000"/>
                  </a:solidFill>
                  <a:latin typeface="Arial"/>
                </a:endParaRPr>
              </a:p>
            </p:txBody>
          </p:sp>
          <p:sp>
            <p:nvSpPr>
              <p:cNvPr id="119" name=""/>
              <p:cNvSpPr txBox="1"/>
              <p:nvPr/>
            </p:nvSpPr>
            <p:spPr>
              <a:xfrm>
                <a:off x="6770520" y="3960720"/>
                <a:ext cx="1682640" cy="1739880"/>
              </a:xfrm>
              <a:prstGeom prst="rect">
                <a:avLst/>
              </a:prstGeom>
              <a:noFill/>
              <a:ln w="0">
                <a:noFill/>
              </a:ln>
            </p:spPr>
            <p:txBody>
              <a:bodyPr lIns="0" rIns="0" tIns="0" bIns="0" anchor="t">
                <a:noAutofit/>
              </a:bodyPr>
              <a:p>
                <a:pPr algn="ctr">
                  <a:lnSpc>
                    <a:spcPct val="100000"/>
                  </a:lnSpc>
                </a:pPr>
                <a:r>
                  <a:rPr b="1" lang="en-US" sz="3600" spc="-1" strike="noStrike" u="sng">
                    <a:solidFill>
                      <a:srgbClr val="fafd00"/>
                    </a:solidFill>
                    <a:uFillTx/>
                    <a:latin typeface="Times New Roman"/>
                    <a:ea typeface="Times New Roman"/>
                  </a:rPr>
                  <a:t>Garden</a:t>
                </a:r>
                <a:endParaRPr b="0" lang="en-US" sz="3600" spc="-1" strike="noStrike">
                  <a:solidFill>
                    <a:srgbClr val="000000"/>
                  </a:solidFill>
                  <a:latin typeface="Arial"/>
                </a:endParaRPr>
              </a:p>
              <a:p>
                <a:pPr algn="ctr">
                  <a:lnSpc>
                    <a:spcPct val="100000"/>
                  </a:lnSpc>
                </a:pPr>
                <a:r>
                  <a:rPr b="1" lang="en-US" sz="3600" spc="-1" strike="noStrike" u="sng">
                    <a:solidFill>
                      <a:srgbClr val="fafd00"/>
                    </a:solidFill>
                    <a:uFillTx/>
                    <a:latin typeface="Times New Roman"/>
                    <a:ea typeface="Times New Roman"/>
                  </a:rPr>
                  <a:t>of</a:t>
                </a:r>
                <a:endParaRPr b="0" lang="en-US" sz="3600" spc="-1" strike="noStrike">
                  <a:solidFill>
                    <a:srgbClr val="000000"/>
                  </a:solidFill>
                  <a:latin typeface="Arial"/>
                </a:endParaRPr>
              </a:p>
              <a:p>
                <a:pPr algn="ctr">
                  <a:lnSpc>
                    <a:spcPct val="100000"/>
                  </a:lnSpc>
                </a:pPr>
                <a:r>
                  <a:rPr b="1" lang="en-US" sz="3600" spc="-1" strike="noStrike" u="sng">
                    <a:solidFill>
                      <a:srgbClr val="fafd00"/>
                    </a:solidFill>
                    <a:uFillTx/>
                    <a:latin typeface="Times New Roman"/>
                    <a:ea typeface="Times New Roman"/>
                  </a:rPr>
                  <a:t>Eden</a:t>
                </a:r>
                <a:endParaRPr b="0" lang="en-US" sz="3600" spc="-1" strike="noStrike">
                  <a:solidFill>
                    <a:srgbClr val="000000"/>
                  </a:solidFill>
                  <a:latin typeface="Arial"/>
                </a:endParaRPr>
              </a:p>
            </p:txBody>
          </p:sp>
          <p:sp>
            <p:nvSpPr>
              <p:cNvPr id="120" name=""/>
              <p:cNvSpPr/>
              <p:nvPr/>
            </p:nvSpPr>
            <p:spPr>
              <a:xfrm>
                <a:off x="6400800" y="4648320"/>
                <a:ext cx="533880" cy="533880"/>
              </a:xfrm>
              <a:custGeom>
                <a:avLst/>
                <a:gdLst/>
                <a:ahLst/>
                <a:rect l="0" t="0" r="r" b="b"/>
                <a:pathLst>
                  <a:path w="1483" h="1483">
                    <a:moveTo>
                      <a:pt x="741" y="0"/>
                    </a:moveTo>
                    <a:lnTo>
                      <a:pt x="568" y="568"/>
                    </a:lnTo>
                    <a:lnTo>
                      <a:pt x="0" y="568"/>
                    </a:lnTo>
                    <a:lnTo>
                      <a:pt x="462" y="919"/>
                    </a:lnTo>
                    <a:lnTo>
                      <a:pt x="287" y="1483"/>
                    </a:lnTo>
                    <a:lnTo>
                      <a:pt x="741" y="1157"/>
                    </a:lnTo>
                    <a:lnTo>
                      <a:pt x="1195" y="1483"/>
                    </a:lnTo>
                    <a:lnTo>
                      <a:pt x="1020" y="919"/>
                    </a:lnTo>
                    <a:lnTo>
                      <a:pt x="1483" y="567"/>
                    </a:lnTo>
                    <a:lnTo>
                      <a:pt x="914" y="567"/>
                    </a:lnTo>
                    <a:lnTo>
                      <a:pt x="741"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3581280" y="1295280"/>
                <a:ext cx="5543640" cy="1143000"/>
              </a:xfrm>
              <a:prstGeom prst="rect">
                <a:avLst/>
              </a:prstGeom>
              <a:noFill/>
              <a:ln w="0">
                <a:noFill/>
              </a:ln>
            </p:spPr>
            <p:txBody>
              <a:bodyPr lIns="0" rIns="0" tIns="0" bIns="0" anchor="t">
                <a:noAutofit/>
              </a:bodyPr>
              <a:p>
                <a:pPr>
                  <a:lnSpc>
                    <a:spcPct val="100000"/>
                  </a:lnSpc>
                </a:pPr>
                <a:r>
                  <a:rPr b="1" lang="en-US" sz="6000" spc="-1" strike="noStrike" u="sng">
                    <a:solidFill>
                      <a:srgbClr val="fafd00"/>
                    </a:solidFill>
                    <a:uFillTx/>
                    <a:latin typeface="Times New Roman"/>
                    <a:ea typeface="Times New Roman"/>
                  </a:rPr>
                  <a:t>Garden of Eden</a:t>
                </a:r>
                <a:endParaRPr b="0" lang="en-US" sz="6000" spc="-1" strike="noStrike">
                  <a:solidFill>
                    <a:srgbClr val="000000"/>
                  </a:solidFill>
                  <a:latin typeface="Arial"/>
                </a:endParaRPr>
              </a:p>
            </p:txBody>
          </p:sp>
        </p:grpSp>
        <p:sp>
          <p:nvSpPr>
            <p:cNvPr id="122" name=""/>
            <p:cNvSpPr txBox="1"/>
            <p:nvPr/>
          </p:nvSpPr>
          <p:spPr>
            <a:xfrm>
              <a:off x="60480" y="6499080"/>
              <a:ext cx="14558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23" name=""/>
          <p:cNvGrpSpPr/>
          <p:nvPr/>
        </p:nvGrpSpPr>
        <p:grpSpPr>
          <a:xfrm>
            <a:off x="60480" y="1295280"/>
            <a:ext cx="9064440" cy="5524560"/>
            <a:chOff x="60480" y="1295280"/>
            <a:chExt cx="9064440" cy="5524560"/>
          </a:xfrm>
        </p:grpSpPr>
        <p:sp>
          <p:nvSpPr>
            <p:cNvPr id="124" name=""/>
            <p:cNvSpPr txBox="1"/>
            <p:nvPr/>
          </p:nvSpPr>
          <p:spPr>
            <a:xfrm>
              <a:off x="1157400" y="1981080"/>
              <a:ext cx="7791480" cy="4114800"/>
            </a:xfrm>
            <a:prstGeom prst="rect">
              <a:avLst/>
            </a:prstGeom>
            <a:noFill/>
            <a:ln w="0">
              <a:noFill/>
            </a:ln>
          </p:spPr>
          <p:txBody>
            <a:bodyPr lIns="0" rIns="0" tIns="0" bIns="0" anchor="t">
              <a:noAutofit/>
            </a:bodyPr>
            <a:p>
              <a:pPr marL="343080" indent="-343080">
                <a:lnSpc>
                  <a:spcPct val="100000"/>
                </a:lnSpc>
                <a:spcBef>
                  <a:spcPts val="479"/>
                </a:spcBef>
                <a:buClr>
                  <a:srgbClr val="c0fef9"/>
                </a:buClr>
                <a:buSzPct val="75000"/>
                <a:buFont typeface="Monotype Sorts"/>
                <a:buChar char=""/>
              </a:pPr>
              <a:r>
                <a:rPr b="0" lang="en-US" sz="3200" spc="-1" strike="noStrike">
                  <a:solidFill>
                    <a:srgbClr val="ffffff"/>
                  </a:solidFill>
                  <a:latin typeface="Times New Roman"/>
                  <a:ea typeface="Times New Roman"/>
                </a:rPr>
                <a:t>Click to add text</a:t>
              </a:r>
              <a:endParaRPr b="0" lang="en-US" sz="3200" spc="-1" strike="noStrike">
                <a:solidFill>
                  <a:srgbClr val="000000"/>
                </a:solidFill>
                <a:latin typeface="Arial"/>
              </a:endParaRPr>
            </a:p>
          </p:txBody>
        </p:sp>
        <p:pic>
          <p:nvPicPr>
            <p:cNvPr id="125" name="" descr=""/>
            <p:cNvPicPr/>
            <p:nvPr/>
          </p:nvPicPr>
          <p:blipFill>
            <a:blip r:embed="rId1"/>
            <a:stretch/>
          </p:blipFill>
          <p:spPr>
            <a:xfrm>
              <a:off x="76320" y="1384200"/>
              <a:ext cx="9048600" cy="5435640"/>
            </a:xfrm>
            <a:prstGeom prst="rect">
              <a:avLst/>
            </a:prstGeom>
            <a:ln w="0">
              <a:noFill/>
            </a:ln>
          </p:spPr>
        </p:pic>
        <p:sp>
          <p:nvSpPr>
            <p:cNvPr id="126" name=""/>
            <p:cNvSpPr/>
            <p:nvPr/>
          </p:nvSpPr>
          <p:spPr>
            <a:xfrm>
              <a:off x="5421240" y="4419720"/>
              <a:ext cx="397080" cy="706680"/>
            </a:xfrm>
            <a:custGeom>
              <a:avLst/>
              <a:gdLst/>
              <a:ahLst/>
              <a:rect l="0" t="0" r="r" b="b"/>
              <a:pathLst>
                <a:path w="1103" h="1963">
                  <a:moveTo>
                    <a:pt x="180" y="0"/>
                  </a:moveTo>
                  <a:lnTo>
                    <a:pt x="335" y="39"/>
                  </a:lnTo>
                  <a:lnTo>
                    <a:pt x="480" y="39"/>
                  </a:lnTo>
                  <a:lnTo>
                    <a:pt x="671" y="88"/>
                  </a:lnTo>
                  <a:lnTo>
                    <a:pt x="816" y="136"/>
                  </a:lnTo>
                  <a:lnTo>
                    <a:pt x="962" y="326"/>
                  </a:lnTo>
                  <a:lnTo>
                    <a:pt x="1010" y="471"/>
                  </a:lnTo>
                  <a:lnTo>
                    <a:pt x="1103" y="617"/>
                  </a:lnTo>
                  <a:lnTo>
                    <a:pt x="1103" y="806"/>
                  </a:lnTo>
                  <a:lnTo>
                    <a:pt x="1059" y="952"/>
                  </a:lnTo>
                  <a:lnTo>
                    <a:pt x="1010" y="1099"/>
                  </a:lnTo>
                  <a:lnTo>
                    <a:pt x="962" y="1288"/>
                  </a:lnTo>
                  <a:lnTo>
                    <a:pt x="913" y="1434"/>
                  </a:lnTo>
                  <a:lnTo>
                    <a:pt x="768" y="1579"/>
                  </a:lnTo>
                  <a:lnTo>
                    <a:pt x="622" y="1725"/>
                  </a:lnTo>
                  <a:lnTo>
                    <a:pt x="432" y="1817"/>
                  </a:lnTo>
                  <a:lnTo>
                    <a:pt x="286" y="1866"/>
                  </a:lnTo>
                  <a:lnTo>
                    <a:pt x="141" y="1963"/>
                  </a:lnTo>
                  <a:lnTo>
                    <a:pt x="0" y="1817"/>
                  </a:lnTo>
                  <a:lnTo>
                    <a:pt x="0" y="1628"/>
                  </a:lnTo>
                  <a:lnTo>
                    <a:pt x="0" y="1482"/>
                  </a:lnTo>
                  <a:lnTo>
                    <a:pt x="141" y="1337"/>
                  </a:lnTo>
                  <a:lnTo>
                    <a:pt x="286" y="1196"/>
                  </a:lnTo>
                  <a:lnTo>
                    <a:pt x="383" y="1050"/>
                  </a:lnTo>
                  <a:lnTo>
                    <a:pt x="180" y="0"/>
                  </a:lnTo>
                  <a:close/>
                </a:path>
              </a:pathLst>
            </a:custGeom>
            <a:solidFill>
              <a:srgbClr val="00ae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txBox="1"/>
            <p:nvPr/>
          </p:nvSpPr>
          <p:spPr>
            <a:xfrm>
              <a:off x="2270160" y="4265640"/>
              <a:ext cx="312912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Mediterranean</a:t>
              </a:r>
              <a:endParaRPr b="0" lang="en-US" sz="3600" spc="-1" strike="noStrike">
                <a:solidFill>
                  <a:srgbClr val="000000"/>
                </a:solidFill>
                <a:latin typeface="Arial"/>
              </a:endParaRPr>
            </a:p>
          </p:txBody>
        </p:sp>
        <p:sp>
          <p:nvSpPr>
            <p:cNvPr id="128" name=""/>
            <p:cNvSpPr txBox="1"/>
            <p:nvPr/>
          </p:nvSpPr>
          <p:spPr>
            <a:xfrm>
              <a:off x="5775480" y="4799160"/>
              <a:ext cx="130176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Israel</a:t>
              </a:r>
              <a:endParaRPr b="0" lang="en-US" sz="3600" spc="-1" strike="noStrike">
                <a:solidFill>
                  <a:srgbClr val="000000"/>
                </a:solidFill>
                <a:latin typeface="Arial"/>
              </a:endParaRPr>
            </a:p>
          </p:txBody>
        </p:sp>
        <p:sp>
          <p:nvSpPr>
            <p:cNvPr id="129" name=""/>
            <p:cNvSpPr txBox="1"/>
            <p:nvPr/>
          </p:nvSpPr>
          <p:spPr>
            <a:xfrm>
              <a:off x="3413160" y="5484960"/>
              <a:ext cx="135252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Egypt</a:t>
              </a:r>
              <a:endParaRPr b="0" lang="en-US" sz="3600" spc="-1" strike="noStrike">
                <a:solidFill>
                  <a:srgbClr val="000000"/>
                </a:solidFill>
                <a:latin typeface="Arial"/>
              </a:endParaRPr>
            </a:p>
          </p:txBody>
        </p:sp>
        <p:sp>
          <p:nvSpPr>
            <p:cNvPr id="130" name=""/>
            <p:cNvSpPr txBox="1"/>
            <p:nvPr/>
          </p:nvSpPr>
          <p:spPr>
            <a:xfrm>
              <a:off x="6033960" y="2665440"/>
              <a:ext cx="1936800" cy="1739880"/>
            </a:xfrm>
            <a:prstGeom prst="rect">
              <a:avLst/>
            </a:prstGeom>
            <a:noFill/>
            <a:ln w="0">
              <a:noFill/>
            </a:ln>
          </p:spPr>
          <p:txBody>
            <a:bodyPr lIns="0" rIns="0" tIns="0" bIns="0" anchor="t">
              <a:noAutofit/>
            </a:bodyPr>
            <a:p>
              <a:pPr algn="ctr">
                <a:lnSpc>
                  <a:spcPct val="100000"/>
                </a:lnSpc>
              </a:pPr>
              <a:r>
                <a:rPr b="1" lang="en-US" sz="3600" spc="-1" strike="noStrike" u="sng">
                  <a:solidFill>
                    <a:srgbClr val="fafd00"/>
                  </a:solidFill>
                  <a:uFillTx/>
                  <a:latin typeface="Times New Roman"/>
                  <a:ea typeface="Times New Roman"/>
                </a:rPr>
                <a:t>Mount</a:t>
              </a:r>
              <a:endParaRPr b="0" lang="en-US" sz="3600" spc="-1" strike="noStrike">
                <a:solidFill>
                  <a:srgbClr val="000000"/>
                </a:solidFill>
                <a:latin typeface="Arial"/>
              </a:endParaRPr>
            </a:p>
            <a:p>
              <a:pPr algn="ctr">
                <a:lnSpc>
                  <a:spcPct val="100000"/>
                </a:lnSpc>
              </a:pPr>
              <a:r>
                <a:rPr b="1" lang="en-US" sz="3600" spc="-1" strike="noStrike" u="sng">
                  <a:solidFill>
                    <a:srgbClr val="fafd00"/>
                  </a:solidFill>
                  <a:uFillTx/>
                  <a:latin typeface="Times New Roman"/>
                  <a:ea typeface="Times New Roman"/>
                </a:rPr>
                <a:t>Ararat</a:t>
              </a:r>
              <a:endParaRPr b="0" lang="en-US" sz="3600" spc="-1" strike="noStrike">
                <a:solidFill>
                  <a:srgbClr val="000000"/>
                </a:solidFill>
                <a:latin typeface="Arial"/>
              </a:endParaRPr>
            </a:p>
            <a:p>
              <a:pPr algn="ctr">
                <a:lnSpc>
                  <a:spcPct val="100000"/>
                </a:lnSpc>
              </a:pPr>
              <a:r>
                <a:rPr b="1" lang="en-US" sz="3600" spc="-1" strike="noStrike">
                  <a:solidFill>
                    <a:srgbClr val="fafd00"/>
                  </a:solidFill>
                  <a:latin typeface="Times New Roman"/>
                  <a:ea typeface="Times New Roman"/>
                </a:rPr>
                <a:t>(Turkey)</a:t>
              </a:r>
              <a:endParaRPr b="0" lang="en-US" sz="3600" spc="-1" strike="noStrike">
                <a:solidFill>
                  <a:srgbClr val="000000"/>
                </a:solidFill>
                <a:latin typeface="Arial"/>
              </a:endParaRPr>
            </a:p>
          </p:txBody>
        </p:sp>
        <p:sp>
          <p:nvSpPr>
            <p:cNvPr id="131" name=""/>
            <p:cNvSpPr/>
            <p:nvPr/>
          </p:nvSpPr>
          <p:spPr>
            <a:xfrm>
              <a:off x="5638680" y="3200400"/>
              <a:ext cx="533880" cy="533880"/>
            </a:xfrm>
            <a:custGeom>
              <a:avLst/>
              <a:gdLst/>
              <a:ahLst/>
              <a:rect l="0" t="0" r="r" b="b"/>
              <a:pathLst>
                <a:path w="1483" h="1483">
                  <a:moveTo>
                    <a:pt x="741" y="0"/>
                  </a:moveTo>
                  <a:lnTo>
                    <a:pt x="568" y="568"/>
                  </a:lnTo>
                  <a:lnTo>
                    <a:pt x="0" y="568"/>
                  </a:lnTo>
                  <a:lnTo>
                    <a:pt x="462" y="919"/>
                  </a:lnTo>
                  <a:lnTo>
                    <a:pt x="287" y="1483"/>
                  </a:lnTo>
                  <a:lnTo>
                    <a:pt x="741" y="1157"/>
                  </a:lnTo>
                  <a:lnTo>
                    <a:pt x="1195" y="1483"/>
                  </a:lnTo>
                  <a:lnTo>
                    <a:pt x="1020" y="919"/>
                  </a:lnTo>
                  <a:lnTo>
                    <a:pt x="1483" y="567"/>
                  </a:lnTo>
                  <a:lnTo>
                    <a:pt x="914" y="567"/>
                  </a:lnTo>
                  <a:lnTo>
                    <a:pt x="741"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4419720" y="1295280"/>
              <a:ext cx="4648320" cy="1143000"/>
            </a:xfrm>
            <a:prstGeom prst="rect">
              <a:avLst/>
            </a:prstGeom>
            <a:noFill/>
            <a:ln w="0">
              <a:noFill/>
            </a:ln>
          </p:spPr>
          <p:txBody>
            <a:bodyPr lIns="0" rIns="0" tIns="0" bIns="0" anchor="t">
              <a:noAutofit/>
            </a:bodyPr>
            <a:p>
              <a:pPr>
                <a:lnSpc>
                  <a:spcPct val="100000"/>
                </a:lnSpc>
              </a:pPr>
              <a:r>
                <a:rPr b="1" lang="en-US" sz="6600" spc="-1" strike="noStrike" u="sng">
                  <a:solidFill>
                    <a:srgbClr val="fafd00"/>
                  </a:solidFill>
                  <a:uFillTx/>
                  <a:latin typeface="Times New Roman"/>
                  <a:ea typeface="Times New Roman"/>
                </a:rPr>
                <a:t>Noah’s Ark</a:t>
              </a:r>
              <a:endParaRPr b="0" lang="en-US" sz="6600" spc="-1" strike="noStrike">
                <a:solidFill>
                  <a:srgbClr val="000000"/>
                </a:solidFill>
                <a:latin typeface="Arial"/>
              </a:endParaRPr>
            </a:p>
          </p:txBody>
        </p:sp>
        <p:sp>
          <p:nvSpPr>
            <p:cNvPr id="133" name=""/>
            <p:cNvSpPr txBox="1"/>
            <p:nvPr/>
          </p:nvSpPr>
          <p:spPr>
            <a:xfrm>
              <a:off x="60480" y="6499080"/>
              <a:ext cx="14558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34" name=""/>
          <p:cNvGrpSpPr/>
          <p:nvPr/>
        </p:nvGrpSpPr>
        <p:grpSpPr>
          <a:xfrm>
            <a:off x="0" y="257040"/>
            <a:ext cx="9067680" cy="6364440"/>
            <a:chOff x="0" y="257040"/>
            <a:chExt cx="9067680" cy="6364440"/>
          </a:xfrm>
        </p:grpSpPr>
        <p:sp>
          <p:nvSpPr>
            <p:cNvPr id="135" name=""/>
            <p:cNvSpPr txBox="1"/>
            <p:nvPr/>
          </p:nvSpPr>
          <p:spPr>
            <a:xfrm>
              <a:off x="1181160" y="609480"/>
              <a:ext cx="7715160" cy="1143000"/>
            </a:xfrm>
            <a:prstGeom prst="rect">
              <a:avLst/>
            </a:prstGeom>
            <a:noFill/>
            <a:ln w="0">
              <a:noFill/>
            </a:ln>
          </p:spPr>
          <p:txBody>
            <a:bodyPr lIns="0" rIns="0" tIns="0" bIns="0" anchor="t">
              <a:noAutofit/>
            </a:bodyPr>
            <a:p>
              <a:pPr>
                <a:lnSpc>
                  <a:spcPct val="100000"/>
                </a:lnSpc>
              </a:pPr>
              <a:r>
                <a:rPr b="0" lang="en-US" sz="4400" spc="-1" strike="noStrike">
                  <a:solidFill>
                    <a:srgbClr val="c0fef9"/>
                  </a:solidFill>
                  <a:latin typeface="Times New Roman"/>
                  <a:ea typeface="Times New Roman"/>
                </a:rPr>
                <a:t>Click to add title</a:t>
              </a:r>
              <a:endParaRPr b="0" lang="en-US" sz="4400" spc="-1" strike="noStrike">
                <a:solidFill>
                  <a:srgbClr val="000000"/>
                </a:solidFill>
                <a:latin typeface="Arial"/>
              </a:endParaRPr>
            </a:p>
          </p:txBody>
        </p:sp>
        <p:sp>
          <p:nvSpPr>
            <p:cNvPr id="136" name=""/>
            <p:cNvSpPr txBox="1"/>
            <p:nvPr/>
          </p:nvSpPr>
          <p:spPr>
            <a:xfrm>
              <a:off x="1157400" y="1981080"/>
              <a:ext cx="7791480" cy="4114800"/>
            </a:xfrm>
            <a:prstGeom prst="rect">
              <a:avLst/>
            </a:prstGeom>
            <a:noFill/>
            <a:ln w="0">
              <a:noFill/>
            </a:ln>
          </p:spPr>
          <p:txBody>
            <a:bodyPr lIns="0" rIns="0" tIns="0" bIns="0" anchor="t">
              <a:noAutofit/>
            </a:bodyPr>
            <a:p>
              <a:pPr marL="343080" indent="-343080">
                <a:lnSpc>
                  <a:spcPct val="100000"/>
                </a:lnSpc>
                <a:spcBef>
                  <a:spcPts val="479"/>
                </a:spcBef>
                <a:buClr>
                  <a:srgbClr val="c0fef9"/>
                </a:buClr>
                <a:buSzPct val="75000"/>
                <a:buFont typeface="Monotype Sorts"/>
                <a:buChar char=""/>
              </a:pPr>
              <a:r>
                <a:rPr b="0" lang="en-US" sz="3200" spc="-1" strike="noStrike">
                  <a:solidFill>
                    <a:srgbClr val="ffffff"/>
                  </a:solidFill>
                  <a:latin typeface="Times New Roman"/>
                  <a:ea typeface="Times New Roman"/>
                </a:rPr>
                <a:t>Click to add text</a:t>
              </a:r>
              <a:endParaRPr b="0" lang="en-US" sz="3200" spc="-1" strike="noStrike">
                <a:solidFill>
                  <a:srgbClr val="000000"/>
                </a:solidFill>
                <a:latin typeface="Arial"/>
              </a:endParaRPr>
            </a:p>
          </p:txBody>
        </p:sp>
        <p:pic>
          <p:nvPicPr>
            <p:cNvPr id="137" name="" descr=""/>
            <p:cNvPicPr/>
            <p:nvPr/>
          </p:nvPicPr>
          <p:blipFill>
            <a:blip r:embed="rId1"/>
            <a:stretch/>
          </p:blipFill>
          <p:spPr>
            <a:xfrm>
              <a:off x="0" y="257040"/>
              <a:ext cx="9067680" cy="6364440"/>
            </a:xfrm>
            <a:prstGeom prst="rect">
              <a:avLst/>
            </a:prstGeom>
            <a:ln w="0">
              <a:noFill/>
            </a:ln>
          </p:spPr>
        </p:pic>
        <p:sp>
          <p:nvSpPr>
            <p:cNvPr id="138" name=""/>
            <p:cNvSpPr txBox="1"/>
            <p:nvPr/>
          </p:nvSpPr>
          <p:spPr>
            <a:xfrm>
              <a:off x="593640" y="4251240"/>
              <a:ext cx="5153040" cy="762120"/>
            </a:xfrm>
            <a:prstGeom prst="rect">
              <a:avLst/>
            </a:prstGeom>
            <a:noFill/>
            <a:ln w="0">
              <a:noFill/>
            </a:ln>
          </p:spPr>
          <p:txBody>
            <a:bodyPr lIns="0" rIns="0" tIns="0" bIns="0" anchor="t">
              <a:noAutofit/>
            </a:bodyPr>
            <a:p>
              <a:pPr>
                <a:lnSpc>
                  <a:spcPct val="100000"/>
                </a:lnSpc>
              </a:pPr>
              <a:r>
                <a:rPr b="1" lang="en-US" sz="4400" spc="-1" strike="noStrike">
                  <a:solidFill>
                    <a:srgbClr val="ffffff"/>
                  </a:solidFill>
                  <a:latin typeface="Arial"/>
                  <a:ea typeface="Arial"/>
                </a:rPr>
                <a:t>Mediterranean Sea</a:t>
              </a:r>
              <a:endParaRPr b="0" lang="en-US" sz="4400" spc="-1" strike="noStrike">
                <a:solidFill>
                  <a:srgbClr val="000000"/>
                </a:solidFill>
                <a:latin typeface="Arial"/>
              </a:endParaRPr>
            </a:p>
          </p:txBody>
        </p:sp>
        <p:sp>
          <p:nvSpPr>
            <p:cNvPr id="139" name=""/>
            <p:cNvSpPr txBox="1"/>
            <p:nvPr/>
          </p:nvSpPr>
          <p:spPr>
            <a:xfrm>
              <a:off x="212760" y="5637240"/>
              <a:ext cx="175896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Cyprus</a:t>
              </a:r>
              <a:endParaRPr b="0" lang="en-US" sz="3600" spc="-1" strike="noStrike">
                <a:solidFill>
                  <a:srgbClr val="000000"/>
                </a:solidFill>
                <a:latin typeface="Arial"/>
              </a:endParaRPr>
            </a:p>
          </p:txBody>
        </p:sp>
        <p:sp>
          <p:nvSpPr>
            <p:cNvPr id="140" name=""/>
            <p:cNvSpPr txBox="1"/>
            <p:nvPr/>
          </p:nvSpPr>
          <p:spPr>
            <a:xfrm>
              <a:off x="1812960" y="1630440"/>
              <a:ext cx="2682720" cy="1006560"/>
            </a:xfrm>
            <a:prstGeom prst="rect">
              <a:avLst/>
            </a:prstGeom>
            <a:noFill/>
            <a:ln w="0">
              <a:noFill/>
            </a:ln>
          </p:spPr>
          <p:txBody>
            <a:bodyPr lIns="0" rIns="0" tIns="0" bIns="0" anchor="t">
              <a:noAutofit/>
            </a:bodyPr>
            <a:p>
              <a:pPr>
                <a:lnSpc>
                  <a:spcPct val="100000"/>
                </a:lnSpc>
              </a:pPr>
              <a:r>
                <a:rPr b="1" lang="en-US" sz="6000" spc="-1" strike="noStrike">
                  <a:solidFill>
                    <a:srgbClr val="ffffff"/>
                  </a:solidFill>
                  <a:latin typeface="Arial"/>
                  <a:ea typeface="Arial"/>
                </a:rPr>
                <a:t>Turkey</a:t>
              </a:r>
              <a:endParaRPr b="0" lang="en-US" sz="6000" spc="-1" strike="noStrike">
                <a:solidFill>
                  <a:srgbClr val="000000"/>
                </a:solidFill>
                <a:latin typeface="Arial"/>
              </a:endParaRPr>
            </a:p>
          </p:txBody>
        </p:sp>
        <p:sp>
          <p:nvSpPr>
            <p:cNvPr id="141" name=""/>
            <p:cNvSpPr/>
            <p:nvPr/>
          </p:nvSpPr>
          <p:spPr>
            <a:xfrm>
              <a:off x="8534520" y="1295280"/>
              <a:ext cx="457560" cy="457560"/>
            </a:xfrm>
            <a:custGeom>
              <a:avLst/>
              <a:gdLst/>
              <a:ahLst/>
              <a:rect l="0" t="0" r="r" b="b"/>
              <a:pathLst>
                <a:path w="1271" h="1271">
                  <a:moveTo>
                    <a:pt x="635" y="0"/>
                  </a:moveTo>
                  <a:lnTo>
                    <a:pt x="486" y="486"/>
                  </a:lnTo>
                  <a:lnTo>
                    <a:pt x="0" y="486"/>
                  </a:lnTo>
                  <a:lnTo>
                    <a:pt x="395" y="788"/>
                  </a:lnTo>
                  <a:lnTo>
                    <a:pt x="246" y="1271"/>
                  </a:lnTo>
                  <a:lnTo>
                    <a:pt x="635" y="991"/>
                  </a:lnTo>
                  <a:lnTo>
                    <a:pt x="1024" y="1271"/>
                  </a:lnTo>
                  <a:lnTo>
                    <a:pt x="874" y="788"/>
                  </a:lnTo>
                  <a:lnTo>
                    <a:pt x="1271" y="485"/>
                  </a:lnTo>
                  <a:lnTo>
                    <a:pt x="784" y="485"/>
                  </a:lnTo>
                  <a:lnTo>
                    <a:pt x="635" y="0"/>
                  </a:lnTo>
                  <a:close/>
                </a:path>
              </a:pathLst>
            </a:cu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6842160" y="912960"/>
              <a:ext cx="1555920" cy="1190520"/>
            </a:xfrm>
            <a:prstGeom prst="rect">
              <a:avLst/>
            </a:prstGeom>
            <a:noFill/>
            <a:ln w="0">
              <a:noFill/>
            </a:ln>
          </p:spPr>
          <p:txBody>
            <a:bodyPr lIns="0" rIns="0" tIns="0" bIns="0" anchor="t">
              <a:noAutofit/>
            </a:bodyPr>
            <a:p>
              <a:pPr>
                <a:lnSpc>
                  <a:spcPct val="100000"/>
                </a:lnSpc>
              </a:pPr>
              <a:r>
                <a:rPr b="1" lang="en-US" sz="3600" spc="-1" strike="noStrike" u="sng">
                  <a:solidFill>
                    <a:srgbClr val="fafd00"/>
                  </a:solidFill>
                  <a:uFillTx/>
                  <a:latin typeface="Arial"/>
                  <a:ea typeface="Arial"/>
                </a:rPr>
                <a:t>Mount</a:t>
              </a:r>
              <a:endParaRPr b="0" lang="en-US" sz="3600" spc="-1" strike="noStrike">
                <a:solidFill>
                  <a:srgbClr val="000000"/>
                </a:solidFill>
                <a:latin typeface="Arial"/>
              </a:endParaRPr>
            </a:p>
            <a:p>
              <a:pPr>
                <a:lnSpc>
                  <a:spcPct val="100000"/>
                </a:lnSpc>
              </a:pPr>
              <a:r>
                <a:rPr b="1" lang="en-US" sz="3600" spc="-1" strike="noStrike" u="sng">
                  <a:solidFill>
                    <a:srgbClr val="fafd00"/>
                  </a:solidFill>
                  <a:uFillTx/>
                  <a:latin typeface="Arial"/>
                  <a:ea typeface="Arial"/>
                </a:rPr>
                <a:t>Ararat</a:t>
              </a:r>
              <a:endParaRPr b="0" lang="en-US" sz="3600" spc="-1" strike="noStrike">
                <a:solidFill>
                  <a:srgbClr val="000000"/>
                </a:solidFill>
                <a:latin typeface="Arial"/>
              </a:endParaRPr>
            </a:p>
          </p:txBody>
        </p:sp>
        <p:sp>
          <p:nvSpPr>
            <p:cNvPr id="143" name=""/>
            <p:cNvSpPr txBox="1"/>
            <p:nvPr/>
          </p:nvSpPr>
          <p:spPr>
            <a:xfrm>
              <a:off x="7147080" y="6156360"/>
              <a:ext cx="1801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ASA Photo</a:t>
              </a:r>
              <a:endParaRPr b="0" lang="en-US" sz="2400" spc="-1" strike="noStrike">
                <a:solidFill>
                  <a:srgbClr val="000000"/>
                </a:solidFill>
                <a:latin typeface="Arial"/>
              </a:endParaRPr>
            </a:p>
          </p:txBody>
        </p:sp>
        <p:sp>
          <p:nvSpPr>
            <p:cNvPr id="144" name=""/>
            <p:cNvSpPr txBox="1"/>
            <p:nvPr/>
          </p:nvSpPr>
          <p:spPr>
            <a:xfrm>
              <a:off x="60480" y="351000"/>
              <a:ext cx="15145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EBibleTeacher.com</a:t>
              </a:r>
              <a:endParaRPr b="0" lang="en-US" sz="1200" spc="-1" strike="noStrike">
                <a:solidFill>
                  <a:srgbClr val="000000"/>
                </a:solidFill>
                <a:latin typeface="Arial"/>
              </a:endParaRPr>
            </a:p>
          </p:txBody>
        </p:sp>
        <p:sp>
          <p:nvSpPr>
            <p:cNvPr id="145" name=""/>
            <p:cNvSpPr/>
            <p:nvPr/>
          </p:nvSpPr>
          <p:spPr>
            <a:xfrm>
              <a:off x="6019920" y="5638680"/>
              <a:ext cx="381240" cy="838440"/>
            </a:xfrm>
            <a:custGeom>
              <a:avLst/>
              <a:gdLst/>
              <a:ahLst/>
              <a:rect l="0" t="0" r="r" b="b"/>
              <a:pathLst>
                <a:path w="1059" h="2329">
                  <a:moveTo>
                    <a:pt x="352" y="0"/>
                  </a:moveTo>
                  <a:lnTo>
                    <a:pt x="705" y="0"/>
                  </a:lnTo>
                  <a:lnTo>
                    <a:pt x="705" y="1630"/>
                  </a:lnTo>
                  <a:lnTo>
                    <a:pt x="1059" y="1630"/>
                  </a:lnTo>
                  <a:lnTo>
                    <a:pt x="530" y="2329"/>
                  </a:lnTo>
                  <a:lnTo>
                    <a:pt x="0" y="1630"/>
                  </a:lnTo>
                  <a:lnTo>
                    <a:pt x="352" y="1630"/>
                  </a:lnTo>
                  <a:lnTo>
                    <a:pt x="352" y="0"/>
                  </a:lnTo>
                  <a:close/>
                </a:path>
              </a:pathLst>
            </a:cu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6384960" y="5484960"/>
              <a:ext cx="137952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Israel</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47" name=""/>
          <p:cNvGrpSpPr/>
          <p:nvPr/>
        </p:nvGrpSpPr>
        <p:grpSpPr>
          <a:xfrm>
            <a:off x="228600" y="304920"/>
            <a:ext cx="8839080" cy="6476760"/>
            <a:chOff x="228600" y="304920"/>
            <a:chExt cx="8839080" cy="6476760"/>
          </a:xfrm>
        </p:grpSpPr>
        <p:sp>
          <p:nvSpPr>
            <p:cNvPr id="148" name=""/>
            <p:cNvSpPr txBox="1"/>
            <p:nvPr/>
          </p:nvSpPr>
          <p:spPr>
            <a:xfrm>
              <a:off x="1181160" y="609480"/>
              <a:ext cx="7715160" cy="1143000"/>
            </a:xfrm>
            <a:prstGeom prst="rect">
              <a:avLst/>
            </a:prstGeom>
            <a:noFill/>
            <a:ln w="0">
              <a:noFill/>
            </a:ln>
          </p:spPr>
          <p:txBody>
            <a:bodyPr lIns="0" rIns="0" tIns="0" bIns="0" anchor="t">
              <a:noAutofit/>
            </a:bodyPr>
            <a:p>
              <a:pPr>
                <a:lnSpc>
                  <a:spcPct val="100000"/>
                </a:lnSpc>
              </a:pPr>
              <a:r>
                <a:rPr b="0" lang="en-US" sz="4400" spc="-1" strike="noStrike">
                  <a:solidFill>
                    <a:srgbClr val="c0fef9"/>
                  </a:solidFill>
                  <a:latin typeface="Times New Roman"/>
                  <a:ea typeface="Times New Roman"/>
                </a:rPr>
                <a:t>Click to add title</a:t>
              </a:r>
              <a:endParaRPr b="0" lang="en-US" sz="4400" spc="-1" strike="noStrike">
                <a:solidFill>
                  <a:srgbClr val="000000"/>
                </a:solidFill>
                <a:latin typeface="Arial"/>
              </a:endParaRPr>
            </a:p>
          </p:txBody>
        </p:sp>
        <p:pic>
          <p:nvPicPr>
            <p:cNvPr id="149" name="" descr=""/>
            <p:cNvPicPr/>
            <p:nvPr/>
          </p:nvPicPr>
          <p:blipFill>
            <a:blip r:embed="rId1"/>
            <a:stretch/>
          </p:blipFill>
          <p:spPr>
            <a:xfrm>
              <a:off x="228600" y="304920"/>
              <a:ext cx="6400800" cy="6400800"/>
            </a:xfrm>
            <a:prstGeom prst="rect">
              <a:avLst/>
            </a:prstGeom>
            <a:ln w="0">
              <a:noFill/>
            </a:ln>
          </p:spPr>
        </p:pic>
        <p:sp>
          <p:nvSpPr>
            <p:cNvPr id="150" name=""/>
            <p:cNvSpPr txBox="1"/>
            <p:nvPr/>
          </p:nvSpPr>
          <p:spPr>
            <a:xfrm>
              <a:off x="4800600" y="685800"/>
              <a:ext cx="4267080" cy="6019920"/>
            </a:xfrm>
            <a:prstGeom prst="rect">
              <a:avLst/>
            </a:prstGeom>
            <a:noFill/>
            <a:ln w="0">
              <a:noFill/>
            </a:ln>
          </p:spPr>
          <p:txBody>
            <a:bodyPr lIns="0" rIns="0" tIns="0" bIns="0" anchor="t">
              <a:noAutofit/>
            </a:bodyPr>
            <a:p>
              <a:pPr marL="343080" indent="-343080">
                <a:lnSpc>
                  <a:spcPct val="85000"/>
                </a:lnSpc>
                <a:spcBef>
                  <a:spcPts val="479"/>
                </a:spcBef>
                <a:buClr>
                  <a:srgbClr val="c0fef9"/>
                </a:buClr>
                <a:buSzPct val="75000"/>
                <a:buFont typeface="Monotype Sorts"/>
                <a:buChar char=""/>
              </a:pPr>
              <a:r>
                <a:rPr b="1" lang="en-US" sz="3600" spc="-1" strike="noStrike">
                  <a:solidFill>
                    <a:srgbClr val="ffffff"/>
                  </a:solidFill>
                  <a:latin typeface="Times New Roman"/>
                  <a:ea typeface="Times New Roman"/>
                </a:rPr>
                <a:t>Snow covered Mt. Ararat and Little Ararat are inactive volcanoes located in eastern Turkey.  Mt. Ararat rises over 3 miles above sea level.   This mountain is the traditional resting place of the Ark.</a:t>
              </a:r>
              <a:endParaRPr b="0" lang="en-US" sz="3600" spc="-1" strike="noStrike">
                <a:solidFill>
                  <a:srgbClr val="000000"/>
                </a:solidFill>
                <a:latin typeface="Arial"/>
              </a:endParaRPr>
            </a:p>
          </p:txBody>
        </p:sp>
        <p:sp>
          <p:nvSpPr>
            <p:cNvPr id="151" name=""/>
            <p:cNvSpPr txBox="1"/>
            <p:nvPr/>
          </p:nvSpPr>
          <p:spPr>
            <a:xfrm>
              <a:off x="441360" y="6324480"/>
              <a:ext cx="25304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ASA Photo</a:t>
              </a:r>
              <a:endParaRPr b="0" lang="en-US" sz="2400" spc="-1" strike="noStrike">
                <a:solidFill>
                  <a:srgbClr val="000000"/>
                </a:solidFill>
                <a:latin typeface="Arial"/>
              </a:endParaRPr>
            </a:p>
          </p:txBody>
        </p:sp>
        <p:sp>
          <p:nvSpPr>
            <p:cNvPr id="152" name=""/>
            <p:cNvSpPr txBox="1"/>
            <p:nvPr/>
          </p:nvSpPr>
          <p:spPr>
            <a:xfrm>
              <a:off x="808200" y="987480"/>
              <a:ext cx="231768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Mt. Ararat</a:t>
              </a:r>
              <a:endParaRPr b="0" lang="en-US" sz="3600" spc="-1" strike="noStrike">
                <a:solidFill>
                  <a:srgbClr val="000000"/>
                </a:solidFill>
                <a:latin typeface="Arial"/>
              </a:endParaRPr>
            </a:p>
          </p:txBody>
        </p:sp>
        <p:sp>
          <p:nvSpPr>
            <p:cNvPr id="153" name=""/>
            <p:cNvSpPr/>
            <p:nvPr/>
          </p:nvSpPr>
          <p:spPr>
            <a:xfrm flipH="1" flipV="1">
              <a:off x="2117880" y="1539720"/>
              <a:ext cx="1096920" cy="731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5165640" y="6423120"/>
              <a:ext cx="14558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Narrow"/>
                  <a:ea typeface="Arial Narrow"/>
                </a:rPr>
                <a:t>EBibleTeacher.com</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erry Taylor   ttaylor@midwest.net</dc:creator>
  <dc:description>SOURCE:  www.members.tripod.com/bibleclass</dc:description>
  <dc:language>en-US</dc:language>
  <cp:lastModifiedBy>Terry Taylor</cp:lastModifiedBy>
  <cp:revision>0</cp:revision>
  <dc:subject/>
  <dc:title>Bible Atlas</dc:title>
</cp:coreProperties>
</file>